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E73-4B34-4928-ADB9-F718E7BC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2EA-947E-4234-B80F-A9DC725D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5E3-A937-4114-B76D-A60E9DBC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EE9-1C5D-4613-886A-F01B2703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241-236B-4CB1-BB60-6B0EC3C7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95FE-CD54-4F3B-9377-C044E6BB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B89-84E6-4CC1-B773-92A8F66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2EF-F200-4171-8FD2-036A880E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4AEB-7EB4-4354-B298-271AB80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B4C2-1C4B-4B25-B892-71194BF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E02A-245B-40DD-8749-69BAD3E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6B3-6184-49DF-9FB5-1DFC2A92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FCD4-6B5F-4AC9-A89B-94112874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560-9D7F-4102-8E0D-F0FC8EE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B57-0FE8-4C2C-BE94-3AF56CA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C8B-AEAE-44AF-A50F-E55014A6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ED1B-38C4-404B-80EC-E3EE2A35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BE1-06F1-4A9F-BDE9-93637D1F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D93-3F2C-4526-AF4A-42269C0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64A-01CF-4A1A-932B-68A77C0E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512-CE70-4A4B-AF93-7552D8A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A86-87AF-4FDC-8BB3-8E41C64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B46-D86B-4636-BDA0-435A0F1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7AB-669D-4553-BE0C-04FF5B2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EB1-5BC1-46AE-8BC1-EA2BFDC0B4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F656-5166-4FCD-989C-88E3C30340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132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МИНИСТЕРСТВО НА РЕГИОНАЛНОТО РАЗВИТИЕ И БЛАГОУСТРОЙСТВОТО</a:t>
            </a:r>
            <a:br>
              <a:rPr sz="1600"/>
            </a:b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ГЛАВНА ДИРЕКЦИЯ “ПРОГРАМИРАНЕ НА РЕГИОНАЛНОТО РАЗВИТИЕ”</a:t>
            </a: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„РЕГИОНАЛНО РАЗВИТИЕ” 2007-2013г.</a:t>
            </a: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ЛАН ЗА ОЦЕНКА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иемане, преглед и актуализация на плана за оценк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2818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ланът за текуща оценка на ОПРР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одобрява от Ръководителя на Управляващия орга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 предложение на ръководителя на сектор „Оценка” след отчитане на мнението на заинтересованите звена в У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След неговото одобряване планът за текуща оценка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представя на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Комитета за наблюдение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за бележки и коментар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Редовен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план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оценка се осъществява от Насочващата група за оценка на ОПРР веднъж годишно преди пролетното заседание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мененията в плана за оценк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се одобряват от Ръководителя на Управляващия орган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се представят на заседанието на Комитета за наблюдени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гледът на плана за оценка включва и изготвянето н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одишен отчет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изпълнението на плана за оценка, който се представя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езависимост на оценяванет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64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съответствие с </a:t>
            </a:r>
            <a:r>
              <a:rPr b="0" i="1" lang="bg-BG" sz="1600" spc="-1" strike="noStrike">
                <a:solidFill>
                  <a:srgbClr val="ffff00"/>
                </a:solidFill>
                <a:latin typeface="Verdana"/>
              </a:rPr>
              <a:t>принципа за независимост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 заложе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в чл. 47 [3] на Регламент на Съвета (EО) No 1083/2006, планираните оценки ще се осъществяват от експерти или органи, които са функционално независими от сертифициращите и одитиращите орган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по-голямата част от случаите в съответствие с международно приетите стандарти оценителите ще бъдат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независими и от Управляващия орган на ОПР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редвижда се преобладаващата част от оценките на ОПРР да бъдат извършвани от </a:t>
            </a:r>
            <a:r>
              <a:rPr b="1" i="1" lang="bg-BG" sz="1600" spc="-1" strike="noStrike">
                <a:solidFill>
                  <a:srgbClr val="ffff00"/>
                </a:solidFill>
                <a:latin typeface="Verdana"/>
              </a:rPr>
              <a:t>външни оценители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дбрани чрез процедури по Закона за обществените поръчки на основата на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ясно дефинирани критерии, гарантиращи качество и професионализъ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Използване и разпространение на резултатите от оценките</a:t>
            </a:r>
            <a:br>
              <a:rPr sz="4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1583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ите (потенциални) потребители на информация за текущите оценки на ОПРР включва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Управляващият орган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Комитетът за наблюдение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Централното координационно звено и управляващите органи на други оперативни прогр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тенциалните оцените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Бенефициентите на ОПРР (по-специално от гледна точка на разпространението и използването на резултатите от оценкит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Разпространение на окончателни резултати, изводи и препоръки от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087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Цялостните доклад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 оценките се предоставят на ключови заинтересовани, например отдели в УО и членове на КН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езюме от докладит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а български и английски език се публикува в официалния сайт на Оперативната програ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аботни срещи, дискусии, семинар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ще се провеждат по преценка за по-широко обсъждане на резултатите и препоръките от оценкит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Други информационни материали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(брошури, бюлетини, публикации, прес-съобщения и др.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ще се изготвят по преценка за по-широко разпростран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Годишният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осъществените оценки, техните основни резултати и препоръки се публикува (изцяло или в резюме) на официалния сайт на ОПРР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ите резултати от оценките се включват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 годишния доклад за изпълнението на ОПР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по чл. 67 от Регламент 1083/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8158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Благодаря за вниманието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00"/>
                </a:solidFill>
                <a:uFillTx/>
                <a:latin typeface="Verdana"/>
              </a:rPr>
              <a:t>ГЛАВНА ДИРЕКЦИЯ “ПРОГРАМИРАНЕ НА РЕГИОНАЛНОТО РАЗВИТИЕ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WW.BGREGIO.E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41300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Необходимост и значение на плана за оценка на ОПРР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ценяването е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ключов компонент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в процесите на програмиране и управление на Структурните и Кохезионния фондов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Общата цел на оценяването в контекста на Структурните фондов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е „да се подобри качеството, ефективността и съгласуваността на подкрепата от фондовете и стратегията и изпълнението на оперативните програми по отношение на специфичните структурни проблеми, засягащи държавата-членка…...” (Регламент на Съвета 1083/ 2006, чл. 47 (1)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лзите от оценяването се изразяват в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насочването на ресурсит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управлението на програмите чрез идентифициране на това какво работи и какво не, 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сигуряване на необходимата отчетност пред данъкоплатците, в т.ч. чрез демонстриране на въздействията на интервенциит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37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ъщност</a:t>
            </a:r>
            <a:r>
              <a:rPr b="1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 и цел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а Плана за оценка на ОПРР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е начин за структуриране на дейностите по осъществяване на текуща оценка. Той създава подходящ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механизъм за своевременно идентифициране и иницииран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на необходимите и достатъчни оценки и за осигуряване на тяхното осъществяване и използван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на ОПРР е изготвен въз основа на анализ и прилагане на изискванията и препоръките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Регламент 1083/2006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етодически документ № 5 на 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сновната це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на плана за оценка е да се създаде обща рамка за текущото оценяване и да се осигури нейното ефективно използване и интегриране като инструмент за управление през фазата на изпълнение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на Оперативната програма.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анът за оценка предвижда няколко типа действия, които са пряк обект на планиран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Задължител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зисквани при установяване на съществени отклонения от първоначално набелязаните цели и при предложения за съществени промени в оперативната програма (Чл.48 (3) от Регламент 1083/200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Конкрет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пределени въз основа на оценените към момента на изготвяне на плана нужди, свързани с управлението на оперативната програ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Подкрепящи дейност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сигуряващи предпоставки за ефективно провеждане на оценките – разработване на методики, стандарти, проучвания за набиране на информация и д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Осигуряване на връзка със системата за наблю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то важен механизъм за иницииране на оценки и основен източник за тяхното информационно осигурява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) Действия по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разпространение и използване на резултатите от осъществените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кто и по периодичния преглед 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актуализация на плана за оцен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Индикативен списък, график и финансови ресурс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4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ланираните дейности за текущо оценяване представлява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0,2 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общите финансови ресурси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6,1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финансовите ресурси на Приоритетна ос 5 „Техническа помощ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3281400"/>
          <a:ext cx="8783640" cy="30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1400"/>
                    <a:ext cx="87836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31920" y="349200"/>
          <a:ext cx="8246880" cy="692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349200"/>
                    <a:ext cx="8246880" cy="69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5440" y="592200"/>
          <a:ext cx="8205840" cy="54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592200"/>
                    <a:ext cx="820584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Задължения и отговорности за провеждане на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пълнението на Плана за оценка на ОПРР се осъществява посредством тристепенна система за управление, включващ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Управляващия орган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тговорен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за осигуряване на цялостната организация, координация и изпълнение на Плана за оценка в съответствие с принципите и разпоредбите на Структурните фондове на ЕС и на българското законодател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Насочваща група за оценка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чиято основна функция е да подпомага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осъществяването на координация и обмен на информация по въпросите, свързани с оценката на ОПР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Комитета за наблюдение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йто прави периодичен преглед на резултатите от оценките и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нето на направените препоръ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8:18Z</dcterms:created>
  <dc:creator>boshikyovd</dc:creator>
  <dc:description/>
  <dc:language>en-US</dc:language>
  <cp:lastModifiedBy>tozeval</cp:lastModifiedBy>
  <dcterms:modified xsi:type="dcterms:W3CDTF">2009-08-31T14:39:53Z</dcterms:modified>
  <cp:revision>109</cp:revision>
  <dc:subject/>
  <dc:title>ПЛАН ЗА ОЦЕНКА НА ОПЕРАТИВНА ПРОГРАМА „РЕГИОНАЛНО РАЗВИТИЕ” 2007-2013</dc:title>
</cp:coreProperties>
</file>