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941400" y="744120"/>
            <a:ext cx="49752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0D79-1095-44DB-A738-53F8D8DEAC60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75200" cy="37321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ият бюджет на Оперативна програма „Региони в растеж“ 2014-2020 (ОПРР) е в размер на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3,018 млрд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бликувани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2 процедури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редоставяне на безвъзмездна финансова помощ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,344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лрд. лв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8 %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т бюджета на ОПРР 2014-20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грамата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адени общо 463 проектни предложен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са сключен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02 договора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общ размер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ената безвъзмездна финансова помощ –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,742 млрд. лв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57,71 %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т бюджета на програмата (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,018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лрд. лв.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ючените договори за развитие на градовете в Северна България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45 бр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на безвъзмездна финансова помощ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96 млн. лв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43% от размера на сключените договори по ОПРР 2014-2020 без сключените финансови споразумения с Фонд на фонд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ючените договори за развитие на градовете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еверна България са разпределени по приоритетни оси, както след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ритетна ос 1 „Устойчиво и интегрирано градско развитие“: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8 договора за БФП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76,7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ритетна ос 2 „Подкрепа за енергийна ефективност в опорни центрове в периферните райони“: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4 договора за БФП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3 млн. лв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тях 48 договора за финансиране на енергийна ефективност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министративни сград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1,2 млн. лв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26 договора за финансиране на енергийна ефективност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1,8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ритетна ос 3 „Регионална образователна инфраструктура“: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0 договора за БФП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2,3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ритетна ос 7 „Регионална пътна инфраструктура“: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3 договора за БФП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53,6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762-5E18-4EA1-98BC-46077D1E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2E2-0EBA-41D6-A914-B324F5E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38A-B998-4DBA-AC05-53135DB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252-45AC-4AA0-A74F-60B88621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A16-5235-4981-AF97-9C49BE31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285-2226-4AFD-8DF2-BCC1418B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EB1-7EE8-4903-B6BC-18BF6F62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88B-451F-4887-BC61-E47D6D76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0C6-107B-4A7A-A04E-2DF03B45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A10-89C6-481A-8B21-C0200AB7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3CF-82E0-4385-B0B3-22606E6C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7B4-28FF-4381-AFBB-7EF91BD8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7-00029_BAK_v03TOP"/>
          <p:cNvPicPr/>
          <p:nvPr/>
        </p:nvPicPr>
        <p:blipFill>
          <a:blip r:embed="rId3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E9D6-807F-4CF9-9B76-A574F605FE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5" descr="7-00029_BAK_v03TOP"/>
          <p:cNvPicPr/>
          <p:nvPr/>
        </p:nvPicPr>
        <p:blipFill>
          <a:blip r:embed="rId3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5" descr="7-00029_BAK_v03TOP"/>
          <p:cNvPicPr/>
          <p:nvPr/>
        </p:nvPicPr>
        <p:blipFill>
          <a:blip r:embed="rId3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17520" y="3213000"/>
            <a:ext cx="845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БРЯВАНЕ НА  ОБРАЗОВАТЕЛНАТА ИНФРАСТРУКТУРА ЧРЕЗ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РКИ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ИВНА ПРОГРАМА "РЕГИОНИ В РАСТЕЖ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252360" y="1447920"/>
            <a:ext cx="882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Процедура „Култура и спорт в училище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5 договор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4 млн. лв. – 5 обекта с капацитет 2 495 уче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Процедура „Подкрепа за професионалните училища в Републик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40 договора за 162,5 млн. лв. – 144 обекта с капацитет 74 797 уче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8 договор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МОН 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11,8 млн. л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2 договор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общини 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50,7 млн. л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Процедура „Подкрепа за висшите училища в Републик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 договор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42,5 млн. лв. – 13 обекта с капацитет 55 694 студе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онална образователна инфраструкт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онална образователна инфраструкт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3" descr=""/>
          <p:cNvPicPr/>
          <p:nvPr/>
        </p:nvPicPr>
        <p:blipFill>
          <a:blip r:embed="rId4"/>
          <a:stretch/>
        </p:blipFill>
        <p:spPr>
          <a:xfrm>
            <a:off x="766800" y="1484280"/>
            <a:ext cx="76089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52360" y="144792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 програм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и в расте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-2020 г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очена към балансирано и устойчиво развитие на българските град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н приоритет на програма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ането на проекти в  областта на образованието, насочени  къ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рнизация на инфраструктурата чрез изграждане, реконструкция и обновяване, обзавеждане, внедряване на мерки за енергийна ефективност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аквани резултати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новя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 материалната база, което ще доведе до подобряване на учебния процес, повишаване на интереса, по-добра активност при усвояване на знанията и реализацията на пазара на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1258920" y="282600"/>
            <a:ext cx="64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 програм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и в расте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-2020 г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252360" y="1447920"/>
            <a:ext cx="856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размер на 623,9 млн. лв.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бъдат реализирани по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договора за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яване на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ната инфраструктура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 тя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лв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а предвидени за инвестиции в спортна инфраструктура и закупуване на оборудване за тези обект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6 обе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разователната инфраструктура ще бъдат подкрепени и ще бъдат облагодетелстван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 269 ученици и де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1347840" y="282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на инфра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4"/>
          <a:stretch/>
        </p:blipFill>
        <p:spPr>
          <a:xfrm>
            <a:off x="3059280" y="3357720"/>
            <a:ext cx="5651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252360" y="1447920"/>
            <a:ext cx="856944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Бенефициенти 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39 общини на големи градове от 1-во до 3-то нив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Видове проекти/дейност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изграждане, реконструкция и обновяване на общински учебни заведения (детски ясли и градини)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илища (класни стаи, библиотеки, учебни лаборатории, спортни съоръжения, училищни корпуси, общежития), вкл. доставка на оборудване и обзавежда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7 общин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т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ключени договор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30,7 млн. лв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6 общин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 процес на сключване на договор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обща стойност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167,9 млн. лв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 общин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подала проект, на стойност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58 млн. лв.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йто е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 оц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5 общин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стои да подадат проекти 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22 млн. л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1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о и интегрирано градско развит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1347840" y="982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1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ойчиво и интегрирано градск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Очаквани резулт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70000" y="1484280"/>
            <a:ext cx="847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бщо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207 обекта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образователната инфраструктура ще бъдат подкрепени и ще бъдат облагодетелствани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111 490 ученици и д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договора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обща стойност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над 22 млн. лв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 предвидени инвестиции в подобряването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портна инфраструктура в училища и детски градин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вкл. и закупуване на оборудване – изграждане и ремонт на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изкултурни салони, спортни зали, басейни, фитнес зали, спортни площа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1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о и интегрирано градско развит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4"/>
          <a:stretch/>
        </p:blipFill>
        <p:spPr>
          <a:xfrm>
            <a:off x="755640" y="1365120"/>
            <a:ext cx="727236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270000" y="44280"/>
            <a:ext cx="1033200" cy="11415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"/>
          <p:cNvPicPr/>
          <p:nvPr/>
        </p:nvPicPr>
        <p:blipFill>
          <a:blip r:embed="rId3"/>
          <a:stretch/>
        </p:blipFill>
        <p:spPr>
          <a:xfrm>
            <a:off x="7596360" y="44280"/>
            <a:ext cx="1226880" cy="11224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324000" y="1549440"/>
            <a:ext cx="8477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Конкретни бенефициенти -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28 общини на малки градо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Финансират се проекти за енергийна ефективност в публични сгради, в т.ч.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общински обекти на образователната инфраструкту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ключени са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22 договора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на обща стойност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26,1 млн. лв.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сочени към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образователна инфраструкту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Ще бъдат подкрепени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47 обекта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 капацитет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10 793 бр. ученици и дец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9"/>
          <p:cNvSpPr/>
          <p:nvPr/>
        </p:nvSpPr>
        <p:spPr>
          <a:xfrm>
            <a:off x="1303200" y="73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2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1303200" y="73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2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4"/>
          <a:stretch/>
        </p:blipFill>
        <p:spPr>
          <a:xfrm>
            <a:off x="1038240" y="1413000"/>
            <a:ext cx="6629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395280" y="1844640"/>
            <a:ext cx="84265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Конкретни бенефициенти  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ниверситети, общини и министерства за училища в тяхна управ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Проектите са насочени към държавни и общински училища от национално и регионално значение, висши училища, професионални, спортни и училища по изкуство и кул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19 млн. лв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е бъдат инвестирани п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8 договор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одернизация на образователна инфраструктура;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,7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лн. лв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тях ще бъдат насочени къ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портната инфраструктура и закупуване на оборуд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е бъдат подкрепен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2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 обекта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капацитет 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86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 бр. ученици и дец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3 "Регионална образователна инфра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uthor</cp:lastModifiedBy>
  <cp:lastPrinted>2017-09-19T14:12:22Z</cp:lastPrinted>
  <dcterms:modified xsi:type="dcterms:W3CDTF">2017-09-21T12:53:00Z</dcterms:modified>
  <cp:revision>1585</cp:revision>
  <dc:subject/>
  <dc:title>Diapositiva 1</dc:title>
</cp:coreProperties>
</file>