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Img"/>
          </p:nvPr>
        </p:nvSpPr>
        <p:spPr>
          <a:xfrm>
            <a:off x="941400" y="744120"/>
            <a:ext cx="49752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2B05-5842-4217-B4E5-C1141A449271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41400" y="744480"/>
            <a:ext cx="4975200" cy="37321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ият бюджет на Оперативна програма „Региони в растеж“ 2014-2020 (ОПРР) е в размер 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3,018 млрд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бликувани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процедури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 предоставяне на безвъзмездна финансова помощ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,344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рд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8 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бюджета на ОПРР 2014-20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грамата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адени общо 463 проектни предложения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са сключени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02 договора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общ размер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ената безвъзмездна финансова помощ –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,742 млрд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л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57,71 %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от бюджета на програмата (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,018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рд. лв.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ючените договори за развитие на градовете в Северна България с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5 бр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на безвъзмездна финансова помощ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96 млн. лв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ли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43% от размера на сключените договори по ОПРР 2014-2020 без сключените финансови споразумения с Фонд на фондов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-34452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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лючените договори за развитие на градовете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еверна България са разпределени по приоритетни оси, както след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1 „Устойчиво и интегрирано градско развитие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8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76,7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2 „Подкрепа за енергийна ефективност в опорни центрове в периферните райони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4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3 млн. лв. 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тях 48 договора за финансиране на енергийна ефективност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министративни сград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1,2 млн. лв.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26 договора за финансиране на енергийна ефективност на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лищни сгради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1,8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3 „Регионална образователна инфраструктура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0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2,3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7720" indent="-287280" algn="just">
              <a:lnSpc>
                <a:spcPct val="115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оритетна ос 7 „Регионална пътна инфраструктура“: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3 договора за БФП</a:t>
            </a:r>
            <a:r>
              <a:rPr b="0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бща стойност </a:t>
            </a:r>
            <a:r>
              <a:rPr b="1" lang="bg-BG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53,6 млн. л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4C2-33BC-48F7-AB94-F96B47F3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D2E-E659-4EBC-93B2-FA9B0E0D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9D0-EF2F-4386-B21C-BB82DE3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433-31ED-4D77-BF8B-0B619DE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3FE-46BB-43A1-B99E-3ABCE17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E461-8FCB-4D88-83B5-31F65B1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62C9-8AE1-4C05-B05A-653215E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D327-1294-4AA0-B385-6831098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31D-A69B-4FA2-9999-6EF184D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02F-C774-4B21-B89C-E4920BDC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E36-FC12-4C76-AD71-320E4F70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BB0-12EB-4A36-A70E-C7D83BD6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9ECC-6C3E-468D-B4D6-2C7436BABDE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5" descr="7-00029_BAK_v03TOP"/>
          <p:cNvPicPr/>
          <p:nvPr/>
        </p:nvPicPr>
        <p:blipFill>
          <a:blip r:embed="rId3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5" descr="7-00029_BAK_v03TOP"/>
          <p:cNvPicPr/>
          <p:nvPr/>
        </p:nvPicPr>
        <p:blipFill>
          <a:blip r:embed="rId2"/>
          <a:stretch/>
        </p:blipFill>
        <p:spPr>
          <a:xfrm>
            <a:off x="-15840" y="6006960"/>
            <a:ext cx="9159840" cy="849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4140360" y="6129360"/>
            <a:ext cx="758520" cy="684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17520" y="3213000"/>
            <a:ext cx="845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БРЯВАНЕ НА  ОБРАЗОВАТЕЛНАТА ИНФРАСТРУКТУРА ЧРЕЗ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РКИ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ИВНА ПРОГРАМА "РЕГИОНИ В РАСТЕЖ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4-202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252360" y="1447920"/>
            <a:ext cx="882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Култура и спорт в училище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</a:t>
            </a: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4 млн. лв. – 5 обекта с капацитет 2 495 уче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Подкрепа за професионалните училища в Републик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40 договора за 162,5 млн. лв. – 144 обекта с капацитет 74 797 учен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8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МОН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11,8 млн. л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2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общини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0,7 млн.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c00000"/>
                </a:solidFill>
                <a:latin typeface="Arial"/>
              </a:rPr>
              <a:t>Процедура „Подкрепа за висшите училища в Република България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ключе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3 договор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42,5 млн. лв. – 13 обекта с капацитет 55 694 студен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на образователна инфраструк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онална образователна инфраструк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13" descr=""/>
          <p:cNvPicPr/>
          <p:nvPr/>
        </p:nvPicPr>
        <p:blipFill>
          <a:blip r:embed="rId4"/>
          <a:stretch/>
        </p:blipFill>
        <p:spPr>
          <a:xfrm>
            <a:off x="766800" y="1484280"/>
            <a:ext cx="76089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52360" y="1447920"/>
            <a:ext cx="856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и в расте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-2020 г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очена към балансирано и устойчиво развитие на българските град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н приоритет на програмат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ането на проекти в  областта на образованието, насочени  къ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дернизация на инфраструктурата чрез изграждане, реконструкция и обновяване, обзавеждане, внедряване на мерки за енергийна ефективност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аквани резултати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новя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 материалната база, което ще доведе до подобряване на учебния процес, повишаване на интереса, по-добра активност при усвояване на знанията и реализацията на пазара на тр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9"/>
          <p:cNvSpPr/>
          <p:nvPr/>
        </p:nvSpPr>
        <p:spPr>
          <a:xfrm>
            <a:off x="1258920" y="282600"/>
            <a:ext cx="640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 програм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и в растеж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-2020 г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252360" y="1447920"/>
            <a:ext cx="856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 в размер на 623,9 млн. лв.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 бъдат реализирани по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9 договора за 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ряване на 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та инфраструктура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 тя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н. лв</a:t>
            </a:r>
            <a:r>
              <a:rPr b="0" lang="bg-BG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а предвидени за инвестиции в спортна инфраструктура и закупуване на оборудване за тези обекти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о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6 об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бразователната инфраструктура ще бъдат подкрепени и ще бъдат облагодетелстван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5 269 ученици и де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1347840" y="282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на и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4"/>
          <a:stretch/>
        </p:blipFill>
        <p:spPr>
          <a:xfrm>
            <a:off x="3059280" y="3357720"/>
            <a:ext cx="56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252360" y="1447920"/>
            <a:ext cx="856944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Бенефициенти 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39 общини на големи градове от 1-во до 3-то нив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Видове проекти/дейности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изграждане, реконструкция и обновяване на общински учебни заведения (детски ясли и градини)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чилища (класни стаи, библиотеки, учебни лаборатории, спортни съоръжения, училищни корпуси, общежития), вкл. доставка на оборудване и обзавежда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7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т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договор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30,7 млн. л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6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процес на сключване на договор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 обща стойност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167,9 млн. л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1 общи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 подала проект, на стойност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8 млн. лв.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йто е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 оц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5 общини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дстои да подадат проекти з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22 млн. л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1347840" y="98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0000"/>
                </a:solidFill>
                <a:latin typeface="Arial"/>
              </a:rPr>
              <a:t>Очаквани резулт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270000" y="1484280"/>
            <a:ext cx="847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Общо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207 обекта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образователната инфраструктура ще бъдат подкрепени и ще бъдат облагодетелствани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111 490 ученици и де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договора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на обща стойност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над 22 млн. лв.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а предвидени инвестиции в подобряването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портна инфраструктура в училища и детски градини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, вкл. и закупуване на оборудване – изграждане и ремонт на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физкултурни салони, спортни зали, басейни, фитнес зали, спортни площад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1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тойчиво и интегрирано градско развит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4"/>
          <a:stretch/>
        </p:blipFill>
        <p:spPr>
          <a:xfrm>
            <a:off x="755640" y="1365120"/>
            <a:ext cx="7272360" cy="45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1" descr=""/>
          <p:cNvPicPr/>
          <p:nvPr/>
        </p:nvPicPr>
        <p:blipFill>
          <a:blip r:embed="rId1"/>
          <a:stretch/>
        </p:blipFill>
        <p:spPr>
          <a:xfrm>
            <a:off x="270000" y="44280"/>
            <a:ext cx="1033200" cy="11415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3"/>
          <a:stretch/>
        </p:blipFill>
        <p:spPr>
          <a:xfrm>
            <a:off x="7596360" y="44280"/>
            <a:ext cx="1226880" cy="11224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24000" y="1549440"/>
            <a:ext cx="8477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Конкретни бенефициенти -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28 общини на малки град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Финансират се проекти за енергийна ефективност в публични сгради, в т.ч.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общински обекти на образователната инфраструкту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ключени са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22 договора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на обща стойност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26,1 млн. лв.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сочени към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образователна инфраструкту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Ще бъдат подкрепени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47 обекта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 капацитет </a:t>
            </a:r>
            <a:r>
              <a:rPr b="1" lang="bg-BG" sz="2100" spc="-1" strike="noStrike">
                <a:solidFill>
                  <a:srgbClr val="000000"/>
                </a:solidFill>
                <a:latin typeface="Arial"/>
              </a:rPr>
              <a:t>10 793 бр. ученици и дец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1303200" y="73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1303200" y="730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2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крепа за енергийна ефективност в опорни центрове в периферните райо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4"/>
          <a:stretch/>
        </p:blipFill>
        <p:spPr>
          <a:xfrm>
            <a:off x="1038240" y="1413000"/>
            <a:ext cx="66294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1079640" cy="12463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"/>
          <p:cNvSpPr/>
          <p:nvPr/>
        </p:nvSpPr>
        <p:spPr>
          <a:xfrm>
            <a:off x="0" y="6669000"/>
            <a:ext cx="539640" cy="18900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4500720" y="6257880"/>
            <a:ext cx="4572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mrrb.government.b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Sylfaen"/>
              </a:rPr>
              <a:t>www.bgregio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-249120" y="6534000"/>
            <a:ext cx="3333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lfaen"/>
              </a:rPr>
              <a:t>oprd@mrrb.government.b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4537080" y="1166760"/>
            <a:ext cx="4572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200" spc="-1" strike="noStrike">
                <a:solidFill>
                  <a:srgbClr val="ffffff"/>
                </a:solidFill>
                <a:latin typeface="Sylfaen"/>
              </a:rPr>
              <a:t>За едно по-добро място за живеен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2"/>
          <a:stretch/>
        </p:blipFill>
        <p:spPr>
          <a:xfrm>
            <a:off x="4010040" y="6162840"/>
            <a:ext cx="758880" cy="684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0" descr=""/>
          <p:cNvPicPr/>
          <p:nvPr/>
        </p:nvPicPr>
        <p:blipFill>
          <a:blip r:embed="rId3"/>
          <a:stretch/>
        </p:blipFill>
        <p:spPr>
          <a:xfrm>
            <a:off x="7520040" y="44280"/>
            <a:ext cx="1444680" cy="11638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6480" y="1413000"/>
            <a:ext cx="9072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395280" y="1844640"/>
            <a:ext cx="84265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Конкретни бенефициенти  -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университети, общини и министерства за училища в тяхна управле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роектите са насочени към държавни и общински училища от национално и регионално значение, висши училища, професионални, спортни и училища по изкуство и култ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щ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19 млн. л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ще бъдат инвестирани п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8 договор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модернизация на образователна инфраструктура;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,7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лн. лв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тях ще бъдат насочени къ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ортната инфраструктура и закупуване на оборудв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Ще бъдат подкрепен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2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обекта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 капацитет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86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 бр. ученици и дец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9"/>
          <p:cNvSpPr/>
          <p:nvPr/>
        </p:nvSpPr>
        <p:spPr>
          <a:xfrm>
            <a:off x="1347840" y="2826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3 "Регионална образователна инфра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uthor</cp:lastModifiedBy>
  <cp:lastPrinted>2017-09-19T14:12:22Z</cp:lastPrinted>
  <dcterms:modified xsi:type="dcterms:W3CDTF">2017-09-21T12:53:00Z</dcterms:modified>
  <cp:revision>1585</cp:revision>
  <dc:subject/>
  <dc:title>Diapositiva 1</dc:title>
</cp:coreProperties>
</file>