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40.png" ContentType="image/png"/>
  <Override PartName="/ppt/media/image19.jpeg" ContentType="image/jpeg"/>
  <Override PartName="/ppt/media/image25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10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54.png" ContentType="image/png"/>
  <Override PartName="/ppt/media/image14.jpeg" ContentType="image/jpeg"/>
  <Override PartName="/ppt/media/image29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63.png" ContentType="image/png"/>
  <Override PartName="/ppt/media/image62.wmf" ContentType="image/x-wmf"/>
  <Override PartName="/ppt/media/image57.png" ContentType="image/png"/>
  <Override PartName="/ppt/media/image16.jpeg" ContentType="image/jpeg"/>
  <Override PartName="/ppt/media/image60.png" ContentType="image/png"/>
  <Override PartName="/ppt/media/image64.png" ContentType="image/png"/>
  <Override PartName="/ppt/media/image15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65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E055-202C-4C33-892D-893B7809BE6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533-0796-44D4-AF77-4129AEADF33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930-31C4-42EF-B747-FB65B6249B7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5FA-0220-4F5D-81B2-9ADBAA91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4B4-6374-42E1-AB44-01B908BE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C80-E54C-4F4D-BB55-03F9039A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F35-61AC-42CA-BB7A-F20F4B9D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EA65-69EE-4CFD-9D60-C75322E1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E3C0-C3C4-4831-9472-1B0F644D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57FD-06D0-49FA-BE09-0DCCEB8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120-245E-421C-BEB0-2ED267B3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A6C-D42D-478C-9DCE-55B117BF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A26A-9600-4288-9323-661843B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B3F-C2CC-4421-BDC4-7AB605B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5A9-7C4C-4D58-9C9A-D1E0902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9FA-68D1-46EC-B5AA-78AD428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7C1-AE64-44F5-962C-39507A1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998F-3C3C-4DB8-BD28-A52C161E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3D8E-A74B-4867-A385-636168F9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282-909D-49FC-8B9C-D3CAA9A7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7B94-20A1-41AE-8BD5-6622B5C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CC69-AABB-4DBB-BF48-CB2D8F2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A0BA-BA27-4A15-B86B-CF8F175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2604-ECB5-499A-8731-430A369B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1B23-15FD-4A94-A96D-7F5768A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105-DF23-4F88-95C0-083ADA3C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35BA-FF88-4611-9EFD-900BFD0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7271-C424-4820-941C-B7B2226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54DB-22ED-43F1-A4BD-6305015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F824-FF9A-4495-B6DD-92F0CAF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9368-7CB5-436E-9A2C-B327182C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9C32-CDEE-468E-9B39-AE5628D3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8D57-B69F-4CF2-BE51-029A9992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0F7-FCD5-483E-9D85-32B8A54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D9F0-9C6C-4BAA-B310-FB3D0D7B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D0D-F103-402D-B726-F8D7B1A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36BB-AE51-4680-8431-CF1EFCEF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0792-8FFE-40C5-9A91-3A65B20A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F9A0-B336-436E-9C6B-D35F2AB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8E85-4D00-4A11-9F88-1B3D3124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B605-A38A-4DB8-9BF6-5E7439C5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601D-439A-4820-8830-34E4A21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0636-EF2A-4331-BEB7-20AE00B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71B5-DE7C-4BCF-811A-03B25EE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6875-4865-480E-83A0-88DA7311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FFE3-6508-4BAE-AB8E-FCACF62C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DCE-1977-41AF-BB9D-40C5387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0840-FCE7-4765-B2E0-D7A138BD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9CBF-0E9F-4EC6-AB5E-3A0EC2D7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502B-5A61-4F13-A5F9-5EE6D6F3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1855-C08C-4185-B132-20CF489E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A149-0477-4F8D-8D21-CDCE4DFF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CD17-AE2B-4B7A-B384-34CDCA8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52E7-0A76-47E9-95FD-B0D3712B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6590-B03F-480A-9DE6-73E22D1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22E1-A6DD-41A0-A1CD-C588BDC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FB6B-ECB1-4C03-8D60-08C9888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991-F8F5-4125-9F48-B1861ECE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9201-5CDB-4DED-8ABE-E5D9EEA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136A-538F-430C-8603-5E881768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4A54-6837-4863-8ADD-77711938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241-ACF2-49E9-BCD3-EF3D7BC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0BD-5673-4FBA-A13A-C7F07E4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D9AC-3F97-4DAB-A824-7A66DBFD66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0799-F816-46CC-A3CA-C61AE7D5EB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6F5-BCEC-4823-BE86-762E3DF0DA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-1440" y="104760"/>
            <a:ext cx="91440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BE0-0EEB-4748-885B-19B48B536B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0753-A9C5-4097-B6D5-880AECA25F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-1440" y="10476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Picture2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Picture4"/>
          <p:cNvPicPr/>
          <p:nvPr/>
        </p:nvPicPr>
        <p:blipFill>
          <a:blip r:embed="rId5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6"/>
          <a:stretch/>
        </p:blipFill>
        <p:spPr>
          <a:xfrm>
            <a:off x="15840" y="260280"/>
            <a:ext cx="9144000" cy="77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7"/>
          <a:stretch/>
        </p:blipFill>
        <p:spPr>
          <a:xfrm>
            <a:off x="-1440" y="189000"/>
            <a:ext cx="91440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76680" y="63183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64960" y="765000"/>
            <a:ext cx="862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94920" y="443664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ВЪЗМОЖНОСТИ ЗА ИНВЕСТИЦИИ В РАЗВИТИЕТО НА РЕГИОНИТЕ ПРЕЗ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енасочена подкрепа за градовете – Приоритетна ос 2 – 28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бюджети в млн. лева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I:\28 бюджет.png"/>
          <p:cNvPicPr/>
          <p:nvPr/>
        </p:nvPicPr>
        <p:blipFill>
          <a:blip r:embed="rId4"/>
          <a:stretch/>
        </p:blipFill>
        <p:spPr>
          <a:xfrm>
            <a:off x="752400" y="1413000"/>
            <a:ext cx="6843960" cy="43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"/>
          <p:cNvPicPr/>
          <p:nvPr/>
        </p:nvPicPr>
        <p:blipFill>
          <a:blip r:embed="rId5"/>
          <a:stretch/>
        </p:blipFill>
        <p:spPr>
          <a:xfrm>
            <a:off x="6300720" y="4862520"/>
            <a:ext cx="1886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ой, кога, какво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0" y="1317600"/>
            <a:ext cx="558000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7840" indent="-177840" algn="just"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4"/>
          <a:stretch/>
        </p:blipFill>
        <p:spPr>
          <a:xfrm>
            <a:off x="5756400" y="1628640"/>
            <a:ext cx="3270240" cy="4124520"/>
          </a:xfrm>
          <a:prstGeom prst="rect">
            <a:avLst/>
          </a:prstGeom>
          <a:ln w="0">
            <a:noFill/>
          </a:ln>
        </p:spPr>
      </p:pic>
      <p:pic>
        <p:nvPicPr>
          <p:cNvPr id="415" name="Diagram 6" descr=""/>
          <p:cNvPicPr/>
          <p:nvPr/>
        </p:nvPicPr>
        <p:blipFill>
          <a:blip r:embed="rId5"/>
          <a:stretch/>
        </p:blipFill>
        <p:spPr>
          <a:xfrm>
            <a:off x="-6480" y="1335240"/>
            <a:ext cx="57675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й, кога, какво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ontent Placeholder 2"/>
          <p:cNvSpPr/>
          <p:nvPr/>
        </p:nvSpPr>
        <p:spPr>
          <a:xfrm>
            <a:off x="66600" y="1413000"/>
            <a:ext cx="90061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25" name="Diagram 2" descr=""/>
          <p:cNvPicPr/>
          <p:nvPr/>
        </p:nvPicPr>
        <p:blipFill>
          <a:blip r:embed="rId4"/>
          <a:stretch/>
        </p:blipFill>
        <p:spPr>
          <a:xfrm>
            <a:off x="60480" y="1463760"/>
            <a:ext cx="9113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за обявяване процедури до  края н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015 г. и през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"/>
          <p:cNvSpPr/>
          <p:nvPr/>
        </p:nvSpPr>
        <p:spPr>
          <a:xfrm>
            <a:off x="-12600" y="1290600"/>
            <a:ext cx="908532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До края на 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Култура и спорт в училище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8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ни бенефициенти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К, ММС и общини, на чиято територия са разположени спортн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и пътищ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380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 – Агенция „Пътна инфраструктура“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а образователна инфраструктур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ни бенефициенти – МОН, МЗХ, висши училищ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щини, на чиято територия са разположени професионалн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През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а здравна инфраструктур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63,5 млн.л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на здравеопазван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егионална социална инфраструктура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млн.л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ретен бенефициент – общини съгласно Национална карта на резидентните услуги за деца и Плана за действие към Стратегията за дългосрочна грижа за възраст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дкрепа на националната политика за енергийна ефе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43" name="Diagram 2" descr=""/>
          <p:cNvPicPr/>
          <p:nvPr/>
        </p:nvPicPr>
        <p:blipFill>
          <a:blip r:embed="rId4"/>
          <a:stretch/>
        </p:blipFill>
        <p:spPr>
          <a:xfrm>
            <a:off x="171360" y="1609560"/>
            <a:ext cx="87346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Финансови инструменти –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новни направления за подкре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6012000" y="225108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Инвестиции за устойчиво и интегрирано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5"/>
          <p:cNvSpPr/>
          <p:nvPr/>
        </p:nvSpPr>
        <p:spPr>
          <a:xfrm>
            <a:off x="6227640" y="458136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Инвестиции за развитие на ту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6877080" y="3481560"/>
            <a:ext cx="15825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71,2 млн. 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37"/>
          <p:cNvCxnSpPr/>
          <p:nvPr/>
        </p:nvCxnSpPr>
        <p:spPr>
          <a:xfrm flipH="1">
            <a:off x="5289120" y="1950840"/>
            <a:ext cx="3564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Straight Arrow Connector 38"/>
          <p:cNvCxnSpPr/>
          <p:nvPr/>
        </p:nvCxnSpPr>
        <p:spPr>
          <a:xfrm flipH="1">
            <a:off x="5247720" y="2598480"/>
            <a:ext cx="4086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9"/>
          <p:cNvCxnSpPr/>
          <p:nvPr/>
        </p:nvCxnSpPr>
        <p:spPr>
          <a:xfrm flipH="1">
            <a:off x="5289120" y="3246120"/>
            <a:ext cx="3564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40"/>
          <p:cNvCxnSpPr/>
          <p:nvPr/>
        </p:nvCxnSpPr>
        <p:spPr>
          <a:xfrm flipH="1">
            <a:off x="5247720" y="3822480"/>
            <a:ext cx="4086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Straight Arrow Connector 41"/>
          <p:cNvCxnSpPr/>
          <p:nvPr/>
        </p:nvCxnSpPr>
        <p:spPr>
          <a:xfrm flipH="1">
            <a:off x="5288760" y="4398480"/>
            <a:ext cx="3675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0" name="Group 42" descr=""/>
          <p:cNvPicPr/>
          <p:nvPr/>
        </p:nvPicPr>
        <p:blipFill>
          <a:blip r:embed="rId4"/>
          <a:stretch/>
        </p:blipFill>
        <p:spPr>
          <a:xfrm>
            <a:off x="152280" y="1603440"/>
            <a:ext cx="5089680" cy="63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243000" y="1693800"/>
            <a:ext cx="1033200" cy="511200"/>
          </a:xfrm>
          <a:prstGeom prst="rect">
            <a:avLst/>
          </a:prstGeom>
          <a:ln w="0">
            <a:noFill/>
          </a:ln>
        </p:spPr>
      </p:pic>
      <p:pic>
        <p:nvPicPr>
          <p:cNvPr id="462" name="Group 46" descr=""/>
          <p:cNvPicPr/>
          <p:nvPr/>
        </p:nvPicPr>
        <p:blipFill>
          <a:blip r:embed="rId6"/>
          <a:stretch/>
        </p:blipFill>
        <p:spPr>
          <a:xfrm>
            <a:off x="152280" y="2262240"/>
            <a:ext cx="5089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63" name="Rounded Rectangle 49"/>
          <p:cNvGrpSpPr/>
          <p:nvPr/>
        </p:nvGrpSpPr>
        <p:grpSpPr>
          <a:xfrm>
            <a:off x="225360" y="2359080"/>
            <a:ext cx="1036800" cy="506520"/>
            <a:chOff x="225360" y="2359080"/>
            <a:chExt cx="1036800" cy="506520"/>
          </a:xfrm>
        </p:grpSpPr>
        <p:pic>
          <p:nvPicPr>
            <p:cNvPr id="464" name="Rounded Rectangle 49" descr=""/>
            <p:cNvPicPr/>
            <p:nvPr/>
          </p:nvPicPr>
          <p:blipFill>
            <a:blip r:embed="rId7"/>
            <a:stretch/>
          </p:blipFill>
          <p:spPr>
            <a:xfrm>
              <a:off x="225360" y="2359080"/>
              <a:ext cx="10368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64960" y="2397240"/>
              <a:ext cx="9572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Group 50" descr=""/>
          <p:cNvPicPr/>
          <p:nvPr/>
        </p:nvPicPr>
        <p:blipFill>
          <a:blip r:embed="rId8"/>
          <a:stretch/>
        </p:blipFill>
        <p:spPr>
          <a:xfrm>
            <a:off x="152280" y="2955960"/>
            <a:ext cx="5089680" cy="604800"/>
          </a:xfrm>
          <a:prstGeom prst="rect">
            <a:avLst/>
          </a:prstGeom>
          <a:ln w="0">
            <a:noFill/>
          </a:ln>
        </p:spPr>
      </p:pic>
      <p:grpSp>
        <p:nvGrpSpPr>
          <p:cNvPr id="467" name="Rounded Rectangle 53"/>
          <p:cNvGrpSpPr/>
          <p:nvPr/>
        </p:nvGrpSpPr>
        <p:grpSpPr>
          <a:xfrm>
            <a:off x="244440" y="3005280"/>
            <a:ext cx="1035000" cy="476280"/>
            <a:chOff x="244440" y="3005280"/>
            <a:chExt cx="1035000" cy="476280"/>
          </a:xfrm>
        </p:grpSpPr>
        <p:pic>
          <p:nvPicPr>
            <p:cNvPr id="468" name="Rounded Rectangle 53" descr=""/>
            <p:cNvPicPr/>
            <p:nvPr/>
          </p:nvPicPr>
          <p:blipFill>
            <a:blip r:embed="rId9"/>
            <a:stretch/>
          </p:blipFill>
          <p:spPr>
            <a:xfrm>
              <a:off x="244440" y="3005280"/>
              <a:ext cx="10350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82600" y="3043080"/>
              <a:ext cx="9637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Group 54" descr=""/>
          <p:cNvPicPr/>
          <p:nvPr/>
        </p:nvPicPr>
        <p:blipFill>
          <a:blip r:embed="rId10"/>
          <a:stretch/>
        </p:blipFill>
        <p:spPr>
          <a:xfrm>
            <a:off x="152280" y="3584520"/>
            <a:ext cx="5072040" cy="549360"/>
          </a:xfrm>
          <a:prstGeom prst="rect">
            <a:avLst/>
          </a:prstGeom>
          <a:ln w="0">
            <a:noFill/>
          </a:ln>
        </p:spPr>
      </p:pic>
      <p:grpSp>
        <p:nvGrpSpPr>
          <p:cNvPr id="471" name="Rounded Rectangle 57"/>
          <p:cNvGrpSpPr/>
          <p:nvPr/>
        </p:nvGrpSpPr>
        <p:grpSpPr>
          <a:xfrm>
            <a:off x="225360" y="3651120"/>
            <a:ext cx="1036800" cy="414360"/>
            <a:chOff x="225360" y="3651120"/>
            <a:chExt cx="1036800" cy="414360"/>
          </a:xfrm>
        </p:grpSpPr>
        <p:pic>
          <p:nvPicPr>
            <p:cNvPr id="472" name="Rounded Rectangle 57" descr=""/>
            <p:cNvPicPr/>
            <p:nvPr/>
          </p:nvPicPr>
          <p:blipFill>
            <a:blip r:embed="rId11"/>
            <a:stretch/>
          </p:blipFill>
          <p:spPr>
            <a:xfrm>
              <a:off x="225360" y="3651120"/>
              <a:ext cx="10368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63520" y="368928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Group 58" descr=""/>
          <p:cNvPicPr/>
          <p:nvPr/>
        </p:nvPicPr>
        <p:blipFill>
          <a:blip r:embed="rId12"/>
          <a:stretch/>
        </p:blipFill>
        <p:spPr>
          <a:xfrm>
            <a:off x="152280" y="4157640"/>
            <a:ext cx="5072040" cy="585720"/>
          </a:xfrm>
          <a:prstGeom prst="rect">
            <a:avLst/>
          </a:prstGeom>
          <a:ln w="0">
            <a:noFill/>
          </a:ln>
        </p:spPr>
      </p:pic>
      <p:grpSp>
        <p:nvGrpSpPr>
          <p:cNvPr id="475" name="Rounded Rectangle 61"/>
          <p:cNvGrpSpPr/>
          <p:nvPr/>
        </p:nvGrpSpPr>
        <p:grpSpPr>
          <a:xfrm>
            <a:off x="212760" y="4230720"/>
            <a:ext cx="1085760" cy="444600"/>
            <a:chOff x="212760" y="4230720"/>
            <a:chExt cx="1085760" cy="444600"/>
          </a:xfrm>
        </p:grpSpPr>
        <p:pic>
          <p:nvPicPr>
            <p:cNvPr id="476" name="Rounded Rectangle 61" descr=""/>
            <p:cNvPicPr/>
            <p:nvPr/>
          </p:nvPicPr>
          <p:blipFill>
            <a:blip r:embed="rId13"/>
            <a:stretch/>
          </p:blipFill>
          <p:spPr>
            <a:xfrm>
              <a:off x="212760" y="4230720"/>
              <a:ext cx="1085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49120" y="4267080"/>
              <a:ext cx="10162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Group 62" descr=""/>
          <p:cNvPicPr/>
          <p:nvPr/>
        </p:nvPicPr>
        <p:blipFill>
          <a:blip r:embed="rId14"/>
          <a:stretch/>
        </p:blipFill>
        <p:spPr>
          <a:xfrm>
            <a:off x="152280" y="4956120"/>
            <a:ext cx="5065920" cy="676440"/>
          </a:xfrm>
          <a:prstGeom prst="rect">
            <a:avLst/>
          </a:prstGeom>
          <a:ln w="0">
            <a:noFill/>
          </a:ln>
        </p:spPr>
      </p:pic>
      <p:grpSp>
        <p:nvGrpSpPr>
          <p:cNvPr id="479" name="Rounded Rectangle 65"/>
          <p:cNvGrpSpPr/>
          <p:nvPr/>
        </p:nvGrpSpPr>
        <p:grpSpPr>
          <a:xfrm>
            <a:off x="225360" y="4986360"/>
            <a:ext cx="1054080" cy="573120"/>
            <a:chOff x="225360" y="4986360"/>
            <a:chExt cx="1054080" cy="573120"/>
          </a:xfrm>
        </p:grpSpPr>
        <p:pic>
          <p:nvPicPr>
            <p:cNvPr id="480" name="Rounded Rectangle 65" descr=""/>
            <p:cNvPicPr/>
            <p:nvPr/>
          </p:nvPicPr>
          <p:blipFill>
            <a:blip r:embed="rId15"/>
            <a:stretch/>
          </p:blipFill>
          <p:spPr>
            <a:xfrm>
              <a:off x="225360" y="4986360"/>
              <a:ext cx="10540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266760" y="5029200"/>
              <a:ext cx="9763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5"/>
          <p:cNvSpPr/>
          <p:nvPr/>
        </p:nvSpPr>
        <p:spPr>
          <a:xfrm>
            <a:off x="6804000" y="5300640"/>
            <a:ext cx="15843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98,5 млн. 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ight Arrow 67"/>
          <p:cNvSpPr/>
          <p:nvPr/>
        </p:nvSpPr>
        <p:spPr>
          <a:xfrm rot="10800000">
            <a:off x="5621040" y="5013000"/>
            <a:ext cx="515880" cy="360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ight Arrow 68"/>
          <p:cNvSpPr/>
          <p:nvPr/>
        </p:nvSpPr>
        <p:spPr>
          <a:xfrm rot="5400000">
            <a:off x="4308840" y="3044160"/>
            <a:ext cx="2901960" cy="3603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Финансови инструменти от 2016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93" name="Group 11" descr=""/>
          <p:cNvPicPr/>
          <p:nvPr/>
        </p:nvPicPr>
        <p:blipFill>
          <a:blip r:embed="rId4"/>
          <a:stretch/>
        </p:blipFill>
        <p:spPr>
          <a:xfrm>
            <a:off x="2627280" y="1749600"/>
            <a:ext cx="1243080" cy="1341360"/>
          </a:xfrm>
          <a:prstGeom prst="rect">
            <a:avLst/>
          </a:prstGeom>
          <a:ln w="0">
            <a:noFill/>
          </a:ln>
        </p:spPr>
      </p:pic>
      <p:cxnSp>
        <p:nvCxnSpPr>
          <p:cNvPr id="494" name="Straight Arrow Connector 14"/>
          <p:cNvCxnSpPr/>
          <p:nvPr/>
        </p:nvCxnSpPr>
        <p:spPr>
          <a:xfrm flipH="1">
            <a:off x="1971000" y="2347560"/>
            <a:ext cx="640440" cy="10818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5" name="Straight Arrow Connector 15"/>
          <p:cNvCxnSpPr/>
          <p:nvPr/>
        </p:nvCxnSpPr>
        <p:spPr>
          <a:xfrm flipH="1">
            <a:off x="1971000" y="2347920"/>
            <a:ext cx="640440" cy="17452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6" name="Straight Arrow Connector 16"/>
          <p:cNvCxnSpPr/>
          <p:nvPr/>
        </p:nvCxnSpPr>
        <p:spPr>
          <a:xfrm flipH="1">
            <a:off x="1971000" y="2347560"/>
            <a:ext cx="640440" cy="4323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7" name="Straight Arrow Connector 17"/>
          <p:cNvCxnSpPr/>
          <p:nvPr/>
        </p:nvCxnSpPr>
        <p:spPr>
          <a:xfrm>
            <a:off x="3277800" y="3068280"/>
            <a:ext cx="1080" cy="361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8" name="Straight Arrow Connector 18"/>
          <p:cNvCxnSpPr/>
          <p:nvPr/>
        </p:nvCxnSpPr>
        <p:spPr>
          <a:xfrm flipH="1" flipV="1">
            <a:off x="1971000" y="2023560"/>
            <a:ext cx="640440" cy="324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499" name="Group 19" descr=""/>
          <p:cNvPicPr/>
          <p:nvPr/>
        </p:nvPicPr>
        <p:blipFill>
          <a:blip r:embed="rId5"/>
          <a:stretch/>
        </p:blipFill>
        <p:spPr>
          <a:xfrm>
            <a:off x="785880" y="2401920"/>
            <a:ext cx="1208160" cy="652320"/>
          </a:xfrm>
          <a:prstGeom prst="rect">
            <a:avLst/>
          </a:prstGeom>
          <a:ln w="0">
            <a:noFill/>
          </a:ln>
        </p:spPr>
      </p:pic>
      <p:pic>
        <p:nvPicPr>
          <p:cNvPr id="500" name="Group 22" descr=""/>
          <p:cNvPicPr/>
          <p:nvPr/>
        </p:nvPicPr>
        <p:blipFill>
          <a:blip r:embed="rId6"/>
          <a:stretch/>
        </p:blipFill>
        <p:spPr>
          <a:xfrm>
            <a:off x="792000" y="3114720"/>
            <a:ext cx="1202040" cy="658800"/>
          </a:xfrm>
          <a:prstGeom prst="rect">
            <a:avLst/>
          </a:prstGeom>
          <a:ln w="0">
            <a:noFill/>
          </a:ln>
        </p:spPr>
      </p:pic>
      <p:pic>
        <p:nvPicPr>
          <p:cNvPr id="501" name="Group 25" descr=""/>
          <p:cNvPicPr/>
          <p:nvPr/>
        </p:nvPicPr>
        <p:blipFill>
          <a:blip r:embed="rId7"/>
          <a:stretch/>
        </p:blipFill>
        <p:spPr>
          <a:xfrm>
            <a:off x="792000" y="3833640"/>
            <a:ext cx="1202040" cy="513000"/>
          </a:xfrm>
          <a:prstGeom prst="rect">
            <a:avLst/>
          </a:prstGeom>
          <a:ln w="0">
            <a:noFill/>
          </a:ln>
        </p:spPr>
      </p:pic>
      <p:pic>
        <p:nvPicPr>
          <p:cNvPr id="502" name="Group 28" descr=""/>
          <p:cNvPicPr/>
          <p:nvPr/>
        </p:nvPicPr>
        <p:blipFill>
          <a:blip r:embed="rId8"/>
          <a:stretch/>
        </p:blipFill>
        <p:spPr>
          <a:xfrm>
            <a:off x="2627280" y="3365640"/>
            <a:ext cx="1243080" cy="652320"/>
          </a:xfrm>
          <a:prstGeom prst="rect">
            <a:avLst/>
          </a:prstGeom>
          <a:ln w="0">
            <a:noFill/>
          </a:ln>
        </p:spPr>
      </p:pic>
      <p:pic>
        <p:nvPicPr>
          <p:cNvPr id="503" name="Group 31" descr=""/>
          <p:cNvPicPr/>
          <p:nvPr/>
        </p:nvPicPr>
        <p:blipFill>
          <a:blip r:embed="rId9"/>
          <a:stretch/>
        </p:blipFill>
        <p:spPr>
          <a:xfrm>
            <a:off x="785880" y="1749600"/>
            <a:ext cx="1208160" cy="549000"/>
          </a:xfrm>
          <a:prstGeom prst="rect">
            <a:avLst/>
          </a:prstGeom>
          <a:ln w="0">
            <a:noFill/>
          </a:ln>
        </p:spPr>
      </p:pic>
      <p:cxnSp>
        <p:nvCxnSpPr>
          <p:cNvPr id="504" name="Straight Arrow Connector 46"/>
          <p:cNvCxnSpPr/>
          <p:nvPr/>
        </p:nvCxnSpPr>
        <p:spPr>
          <a:xfrm flipH="1">
            <a:off x="1912680" y="3932280"/>
            <a:ext cx="1335600" cy="792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05" name="Group 48" descr=""/>
          <p:cNvPicPr/>
          <p:nvPr/>
        </p:nvPicPr>
        <p:blipFill>
          <a:blip r:embed="rId10"/>
          <a:stretch/>
        </p:blipFill>
        <p:spPr>
          <a:xfrm>
            <a:off x="1152360" y="4730760"/>
            <a:ext cx="1273320" cy="517680"/>
          </a:xfrm>
          <a:prstGeom prst="rect">
            <a:avLst/>
          </a:prstGeom>
          <a:ln w="0">
            <a:noFill/>
          </a:ln>
        </p:spPr>
      </p:pic>
      <p:pic>
        <p:nvPicPr>
          <p:cNvPr id="506" name="Group 51" descr=""/>
          <p:cNvPicPr/>
          <p:nvPr/>
        </p:nvPicPr>
        <p:blipFill>
          <a:blip r:embed="rId11"/>
          <a:stretch/>
        </p:blipFill>
        <p:spPr>
          <a:xfrm>
            <a:off x="2517840" y="4730760"/>
            <a:ext cx="1200240" cy="517680"/>
          </a:xfrm>
          <a:prstGeom prst="rect">
            <a:avLst/>
          </a:prstGeom>
          <a:ln w="0">
            <a:noFill/>
          </a:ln>
        </p:spPr>
      </p:pic>
      <p:pic>
        <p:nvPicPr>
          <p:cNvPr id="507" name="Group 54" descr=""/>
          <p:cNvPicPr/>
          <p:nvPr/>
        </p:nvPicPr>
        <p:blipFill>
          <a:blip r:embed="rId12"/>
          <a:stretch/>
        </p:blipFill>
        <p:spPr>
          <a:xfrm>
            <a:off x="6443640" y="1755720"/>
            <a:ext cx="1243080" cy="134784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57"/>
          <p:cNvCxnSpPr/>
          <p:nvPr/>
        </p:nvCxnSpPr>
        <p:spPr>
          <a:xfrm flipH="1" flipV="1">
            <a:off x="3861720" y="2420640"/>
            <a:ext cx="2607480" cy="864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09" name="Group 61" descr=""/>
          <p:cNvPicPr/>
          <p:nvPr/>
        </p:nvPicPr>
        <p:blipFill>
          <a:blip r:embed="rId13"/>
          <a:stretch/>
        </p:blipFill>
        <p:spPr>
          <a:xfrm>
            <a:off x="5315040" y="4700520"/>
            <a:ext cx="1201680" cy="603360"/>
          </a:xfrm>
          <a:prstGeom prst="rect">
            <a:avLst/>
          </a:prstGeom>
          <a:ln w="0">
            <a:noFill/>
          </a:ln>
        </p:spPr>
      </p:pic>
      <p:sp>
        <p:nvSpPr>
          <p:cNvPr id="510" name="Oval 28938"/>
          <p:cNvSpPr/>
          <p:nvPr/>
        </p:nvSpPr>
        <p:spPr>
          <a:xfrm>
            <a:off x="1035000" y="4437000"/>
            <a:ext cx="4211640" cy="1150920"/>
          </a:xfrm>
          <a:prstGeom prst="ellipse">
            <a:avLst/>
          </a:prstGeom>
          <a:noFill/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65"/>
          <p:cNvCxnSpPr/>
          <p:nvPr/>
        </p:nvCxnSpPr>
        <p:spPr>
          <a:xfrm flipH="1">
            <a:off x="3148920" y="3932280"/>
            <a:ext cx="99000" cy="792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12" name="Group 71" descr=""/>
          <p:cNvPicPr/>
          <p:nvPr/>
        </p:nvPicPr>
        <p:blipFill>
          <a:blip r:embed="rId14"/>
          <a:stretch/>
        </p:blipFill>
        <p:spPr>
          <a:xfrm>
            <a:off x="6566040" y="465768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513" name="Group 74" descr=""/>
          <p:cNvPicPr/>
          <p:nvPr/>
        </p:nvPicPr>
        <p:blipFill>
          <a:blip r:embed="rId15"/>
          <a:stretch/>
        </p:blipFill>
        <p:spPr>
          <a:xfrm>
            <a:off x="3902040" y="4743360"/>
            <a:ext cx="1200240" cy="511200"/>
          </a:xfrm>
          <a:prstGeom prst="rect">
            <a:avLst/>
          </a:prstGeom>
          <a:ln w="0">
            <a:noFill/>
          </a:ln>
        </p:spPr>
      </p:pic>
      <p:cxnSp>
        <p:nvCxnSpPr>
          <p:cNvPr id="514" name="Straight Arrow Connector 77"/>
          <p:cNvCxnSpPr/>
          <p:nvPr/>
        </p:nvCxnSpPr>
        <p:spPr>
          <a:xfrm>
            <a:off x="3270240" y="3931920"/>
            <a:ext cx="2680560" cy="8262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5" name="Straight Arrow Connector 81"/>
          <p:cNvCxnSpPr/>
          <p:nvPr/>
        </p:nvCxnSpPr>
        <p:spPr>
          <a:xfrm>
            <a:off x="3311280" y="3900240"/>
            <a:ext cx="3848760" cy="8658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Straight Arrow Connector 84"/>
          <p:cNvCxnSpPr/>
          <p:nvPr/>
        </p:nvCxnSpPr>
        <p:spPr>
          <a:xfrm>
            <a:off x="3277800" y="3931920"/>
            <a:ext cx="1251720" cy="8341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17" name="TextBox 28956"/>
          <p:cNvSpPr/>
          <p:nvPr/>
        </p:nvSpPr>
        <p:spPr>
          <a:xfrm>
            <a:off x="1963800" y="5270400"/>
            <a:ext cx="94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100% кред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5"/>
          <p:cNvSpPr/>
          <p:nvPr/>
        </p:nvSpPr>
        <p:spPr>
          <a:xfrm>
            <a:off x="4203720" y="25178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98 млн. лв. за инвестиции в тур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97"/>
          <p:cNvSpPr/>
          <p:nvPr/>
        </p:nvSpPr>
        <p:spPr>
          <a:xfrm>
            <a:off x="4275000" y="194796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272 млн. лв. за инвестиции в градско разви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98"/>
          <p:cNvCxnSpPr/>
          <p:nvPr/>
        </p:nvCxnSpPr>
        <p:spPr>
          <a:xfrm flipV="1">
            <a:off x="7064280" y="3075840"/>
            <a:ext cx="23040" cy="164844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21" name="TextBox 102"/>
          <p:cNvSpPr/>
          <p:nvPr/>
        </p:nvSpPr>
        <p:spPr>
          <a:xfrm>
            <a:off x="7215120" y="3732120"/>
            <a:ext cx="109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езвъзмездна финансова помо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Straight Arrow Connector 103"/>
          <p:cNvCxnSpPr/>
          <p:nvPr/>
        </p:nvCxnSpPr>
        <p:spPr>
          <a:xfrm flipV="1">
            <a:off x="3843000" y="2886840"/>
            <a:ext cx="2592720" cy="793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23" name="TextBox 102"/>
          <p:cNvSpPr/>
          <p:nvPr/>
        </p:nvSpPr>
        <p:spPr>
          <a:xfrm>
            <a:off x="4024440" y="393228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ред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6"/>
          <p:cNvSpPr/>
          <p:nvPr/>
        </p:nvSpPr>
        <p:spPr>
          <a:xfrm>
            <a:off x="3763800" y="4327560"/>
            <a:ext cx="4192920" cy="1388880"/>
          </a:xfrm>
          <a:prstGeom prst="ellipse">
            <a:avLst/>
          </a:prstGeom>
          <a:noFill/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8956"/>
          <p:cNvSpPr/>
          <p:nvPr/>
        </p:nvSpPr>
        <p:spPr>
          <a:xfrm>
            <a:off x="4500720" y="5367240"/>
            <a:ext cx="24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редит + безвъзмездна помо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Elbow Connector 28929"/>
          <p:cNvCxnSpPr/>
          <p:nvPr/>
        </p:nvCxnSpPr>
        <p:spPr>
          <a:xfrm flipH="1" flipV="1" rot="10800000">
            <a:off x="818640" y="4092120"/>
            <a:ext cx="3710880" cy="1137600"/>
          </a:xfrm>
          <a:prstGeom prst="bentConnector4">
            <a:avLst>
              <a:gd name="adj1" fmla="val -6325"/>
              <a:gd name="adj2" fmla="val 14944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Elbow Connector 28934"/>
          <p:cNvCxnSpPr/>
          <p:nvPr/>
        </p:nvCxnSpPr>
        <p:spPr>
          <a:xfrm flipH="1" flipV="1" rot="10800000">
            <a:off x="818640" y="3435840"/>
            <a:ext cx="2331360" cy="1785240"/>
          </a:xfrm>
          <a:prstGeom prst="bentConnector4">
            <a:avLst>
              <a:gd name="adj1" fmla="val -10007"/>
              <a:gd name="adj2" fmla="val 13164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Elbow Connector 28942"/>
          <p:cNvCxnSpPr/>
          <p:nvPr/>
        </p:nvCxnSpPr>
        <p:spPr>
          <a:xfrm flipH="1" flipV="1" rot="10800000">
            <a:off x="807120" y="2716200"/>
            <a:ext cx="991080" cy="2504160"/>
          </a:xfrm>
          <a:prstGeom prst="bentConnector4">
            <a:avLst>
              <a:gd name="adj1" fmla="val -23074"/>
              <a:gd name="adj2" fmla="val 12299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Elbow Connector 28945"/>
          <p:cNvCxnSpPr/>
          <p:nvPr/>
        </p:nvCxnSpPr>
        <p:spPr>
          <a:xfrm flipH="1" flipV="1" rot="10800000">
            <a:off x="807840" y="2023560"/>
            <a:ext cx="2342160" cy="3198240"/>
          </a:xfrm>
          <a:prstGeom prst="bentConnector4">
            <a:avLst>
              <a:gd name="adj1" fmla="val -9761"/>
              <a:gd name="adj2" fmla="val 11766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5"/>
          <p:cNvGraphicFramePr/>
          <p:nvPr/>
        </p:nvGraphicFramePr>
        <p:xfrm>
          <a:off x="5908680" y="115920"/>
          <a:ext cx="291132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8680" y="115920"/>
                    <a:ext cx="29113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Box 7"/>
          <p:cNvSpPr/>
          <p:nvPr/>
        </p:nvSpPr>
        <p:spPr>
          <a:xfrm>
            <a:off x="395280" y="404640"/>
            <a:ext cx="51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2060"/>
                </a:solidFill>
                <a:latin typeface="Tahoma"/>
                <a:ea typeface="Tahoma"/>
              </a:rPr>
              <a:t>Програмен период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bg-BG" sz="2200" spc="-1" strike="noStrike">
                <a:solidFill>
                  <a:srgbClr val="002060"/>
                </a:solidFill>
                <a:latin typeface="Tahoma"/>
                <a:ea typeface="Tahoma"/>
              </a:rPr>
              <a:t>2014-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ight Arrow 12"/>
          <p:cNvSpPr/>
          <p:nvPr/>
        </p:nvSpPr>
        <p:spPr>
          <a:xfrm>
            <a:off x="179280" y="1341360"/>
            <a:ext cx="1440000" cy="1224000"/>
          </a:xfrm>
          <a:prstGeom prst="rightArrow">
            <a:avLst>
              <a:gd name="adj1" fmla="val 53731"/>
              <a:gd name="adj2" fmla="val 23856"/>
            </a:avLst>
          </a:prstGeom>
          <a:gradFill rotWithShape="0">
            <a:gsLst>
              <a:gs pos="0">
                <a:srgbClr val="00007d"/>
              </a:gs>
              <a:gs pos="100000">
                <a:srgbClr val="0000a9"/>
              </a:gs>
            </a:gsLst>
            <a:lin ang="16200000"/>
          </a:gradFill>
          <a:ln w="25560">
            <a:solidFill>
              <a:srgbClr val="040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alibri"/>
              </a:rPr>
              <a:t>Управляващ ор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ight Arrow 13"/>
          <p:cNvSpPr/>
          <p:nvPr/>
        </p:nvSpPr>
        <p:spPr>
          <a:xfrm>
            <a:off x="179280" y="3357720"/>
            <a:ext cx="1513080" cy="1726920"/>
          </a:xfrm>
          <a:prstGeom prst="rightArrow">
            <a:avLst>
              <a:gd name="adj1" fmla="val 66963"/>
              <a:gd name="adj2" fmla="val 17236"/>
            </a:avLst>
          </a:prstGeom>
          <a:gradFill rotWithShape="0">
            <a:gsLst>
              <a:gs pos="0">
                <a:srgbClr val="2e889d"/>
              </a:gs>
              <a:gs pos="100000">
                <a:srgbClr val="0000a9"/>
              </a:gs>
            </a:gsLst>
            <a:lin ang="16200000"/>
          </a:gradFill>
          <a:ln w="25560">
            <a:solidFill>
              <a:srgbClr val="236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alibri"/>
              </a:rPr>
              <a:t>Национален орган / Звено за кон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Rounded Rectangle 14"/>
          <p:cNvGrpSpPr/>
          <p:nvPr/>
        </p:nvGrpSpPr>
        <p:grpSpPr>
          <a:xfrm>
            <a:off x="1700280" y="1378080"/>
            <a:ext cx="4371840" cy="1304640"/>
            <a:chOff x="1700280" y="1378080"/>
            <a:chExt cx="4371840" cy="1304640"/>
          </a:xfrm>
        </p:grpSpPr>
        <p:pic>
          <p:nvPicPr>
            <p:cNvPr id="536" name="Rounded Rectangle 14" descr=""/>
            <p:cNvPicPr/>
            <p:nvPr/>
          </p:nvPicPr>
          <p:blipFill>
            <a:blip r:embed="rId3"/>
            <a:stretch/>
          </p:blipFill>
          <p:spPr>
            <a:xfrm>
              <a:off x="1700280" y="1378080"/>
              <a:ext cx="437184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817640" y="1467000"/>
              <a:ext cx="414036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и  /ИПП/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Сърб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34 102 2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Македон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19 461 6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Турц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29 642 8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Rounded Rectangle 15"/>
          <p:cNvGrpSpPr/>
          <p:nvPr/>
        </p:nvGrpSpPr>
        <p:grpSpPr>
          <a:xfrm>
            <a:off x="1706400" y="2577960"/>
            <a:ext cx="4359600" cy="3462480"/>
            <a:chOff x="1706400" y="2577960"/>
            <a:chExt cx="4359600" cy="3462480"/>
          </a:xfrm>
        </p:grpSpPr>
        <p:pic>
          <p:nvPicPr>
            <p:cNvPr id="539" name="Rounded Rectangle 15" descr=""/>
            <p:cNvPicPr/>
            <p:nvPr/>
          </p:nvPicPr>
          <p:blipFill>
            <a:blip r:embed="rId4"/>
            <a:stretch/>
          </p:blipFill>
          <p:spPr>
            <a:xfrm>
              <a:off x="1706400" y="2577960"/>
              <a:ext cx="435960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863720" y="2736720"/>
              <a:ext cx="404820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и   /ЕФРР</a:t>
              </a:r>
              <a:r>
                <a:rPr b="1" lang="it-IT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/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Румъния-Българ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258 504 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Гърция</a:t>
              </a: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</a:t>
              </a: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129 695 569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а /ЕИС/:</a:t>
              </a:r>
              <a:br>
                <a:rPr sz="1600"/>
              </a:b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Черноморски басейн“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53 942 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ранснационални програми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Дунав“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268 907 429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алкани – Средиземно море“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39 727 6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Междурегионални програми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ИНТЕРРЕГ ЕВРОПА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359 326 0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ЕСПОН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2020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96 324 550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УРБАКТ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III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96 324 5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ИНТЕРАКТ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III €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 46 344 2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Rounded Rectangle 16"/>
          <p:cNvGrpSpPr/>
          <p:nvPr/>
        </p:nvGrpSpPr>
        <p:grpSpPr>
          <a:xfrm>
            <a:off x="6102360" y="1384200"/>
            <a:ext cx="2986200" cy="4572000"/>
            <a:chOff x="6102360" y="1384200"/>
            <a:chExt cx="2986200" cy="4572000"/>
          </a:xfrm>
        </p:grpSpPr>
        <p:pic>
          <p:nvPicPr>
            <p:cNvPr id="542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6102360" y="1384200"/>
              <a:ext cx="29862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226200" y="1482840"/>
              <a:ext cx="273996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 u="sng">
                  <a:solidFill>
                    <a:srgbClr val="ffffff"/>
                  </a:solidFill>
                  <a:uFillTx/>
                  <a:latin typeface="Calibri"/>
                </a:rPr>
                <a:t>БЕНЕФИЦИЕН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ffffff"/>
                  </a:solidFill>
                  <a:latin typeface="Calibri"/>
                </a:rPr>
                <a:t>Юридически лица, регистрирани  в допустимия по дадена програма регион, които не генерират печалба (в т.ч. местни  / регионални / национални власти или подчинени структури; агенции; администрации на природни паркове; горски дирекции; здравни заведения; културни институции; обществени центрове / читалища; агенции по заетост; неправителствени (НПО) или нестопански организации; образователни институции ; еврорегиони и др. или сдружение от две или повече от изброенит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4500720" y="6257880"/>
            <a:ext cx="457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Ключови посл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0" y="1413000"/>
            <a:ext cx="3672000" cy="403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Научени уроц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Забава при възлагането на обществени поръчки: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подготовката на тръжните документи; обжалване на процедурите по З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Забава при изпълн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ефективно планиране на дейностите и работа на екип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качествено проектир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Формализиране на процеса на одобряване на инвестиционните прое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добър контрол на процесите в строителството - инвеститорски контрол и строителен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точно бюджетиране и планиране на разход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4621320" y="1424160"/>
            <a:ext cx="4473360" cy="4179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Оптимизация на работа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Висока обществена подкре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зграждане на капацитет –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административен, технически, развитие на човешките ресурси - Обучения на бенефициенти и У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Създаване на екипи за управление на инвестиционни програми и прое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зграждане на междинни звена за оценки на проектни 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Преглед и оценка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а технически проекти преди стартиране на СМР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Своевременен  старт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а тръжни процедури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Намаляване на административната тежес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Въвеждане на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електронно управление, отчитане и документооборо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Постигане на финансова стаби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ight Arrow 19"/>
          <p:cNvSpPr/>
          <p:nvPr/>
        </p:nvSpPr>
        <p:spPr>
          <a:xfrm>
            <a:off x="3701880" y="3370320"/>
            <a:ext cx="817560" cy="3776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Object 4"/>
          <p:cNvGraphicFramePr/>
          <p:nvPr/>
        </p:nvGraphicFramePr>
        <p:xfrm>
          <a:off x="6156360" y="5973840"/>
          <a:ext cx="293832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5973840"/>
                    <a:ext cx="29383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7" name="Picture 17" descr="C:\Users\ShamoninaD\Desktop\4285.jpg"/>
          <p:cNvPicPr/>
          <p:nvPr/>
        </p:nvPicPr>
        <p:blipFill>
          <a:blip r:embed="rId5"/>
          <a:stretch/>
        </p:blipFill>
        <p:spPr>
          <a:xfrm>
            <a:off x="7308720" y="23760"/>
            <a:ext cx="1785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55640" y="6318360"/>
            <a:ext cx="360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78920" y="3645000"/>
            <a:ext cx="57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2d2d8a"/>
                </a:solidFill>
                <a:latin typeface="Sylfaen"/>
              </a:rPr>
              <a:t>ДЕНИЦА НИК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2d2d8a"/>
                </a:solidFill>
                <a:latin typeface="Sylfaen"/>
              </a:rPr>
              <a:t>ЗАМЕСТНИК МИНИСТЪР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042920" y="54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Какво изпълнихме до 201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70000" y="1967040"/>
            <a:ext cx="1890720" cy="463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1 108 сключени договори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по ОПР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Общия размер на предоставената </a:t>
            </a: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БФП – 3,214 млрд. лв.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или 103% от бюджета на ОПРР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Общ размер на </a:t>
            </a: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плащанията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 - </a:t>
            </a:r>
            <a:r>
              <a:rPr b="1" lang="ru-RU" sz="1300" spc="-1" strike="noStrike">
                <a:solidFill>
                  <a:srgbClr val="000066"/>
                </a:solidFill>
                <a:latin typeface="Sylfaen"/>
              </a:rPr>
              <a:t>2,666  млрд. лв.</a:t>
            </a:r>
            <a:r>
              <a:rPr b="0" lang="ru-RU" sz="1300" spc="-1" strike="noStrike">
                <a:solidFill>
                  <a:srgbClr val="000066"/>
                </a:solidFill>
                <a:latin typeface="Sylfaen"/>
              </a:rPr>
              <a:t> или 85% от размера на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бюджет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Основни постигнати резулта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\\oprd-nfs\DG_PRD\-=Public=-\-= Photos =-\за календар 2015\Допълнителни\остров Света Анастасия - Бургас\вариант 1\1-2aerial_15764d.jpg"/>
          <p:cNvPicPr/>
          <p:nvPr/>
        </p:nvPicPr>
        <p:blipFill>
          <a:blip r:embed="rId3"/>
          <a:stretch/>
        </p:blipFill>
        <p:spPr>
          <a:xfrm>
            <a:off x="6784920" y="1341360"/>
            <a:ext cx="2303640" cy="1670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C:\Users\DimitrovaTs\Pictures\за презентация\НМБИИ София.jpg"/>
          <p:cNvPicPr/>
          <p:nvPr/>
        </p:nvPicPr>
        <p:blipFill>
          <a:blip r:embed="rId4"/>
          <a:stretch/>
        </p:blipFill>
        <p:spPr>
          <a:xfrm>
            <a:off x="6784920" y="2932200"/>
            <a:ext cx="2286000" cy="17319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6786720" y="1474920"/>
            <a:ext cx="256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остров „Св. Анастасия“, гр. Бурга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908760" y="305100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НМБИИ гр. Соф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5"/>
          <a:stretch/>
        </p:blipFill>
        <p:spPr>
          <a:xfrm>
            <a:off x="6794640" y="4581360"/>
            <a:ext cx="2193840" cy="13780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4"/>
          <p:cNvSpPr/>
          <p:nvPr/>
        </p:nvSpPr>
        <p:spPr>
          <a:xfrm>
            <a:off x="6786720" y="5508720"/>
            <a:ext cx="22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Икономически университет - Вар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6" descr="\\oprd-nfs\DG_PRD\-=Public=-\-= Photos =-\1_snimki+info_proekti_shemi_PRR\2.1-01 АПИ пътища\ЮЦР\2.1-01 лот 38 апи\DSC_1578.JPG"/>
          <p:cNvPicPr/>
          <p:nvPr/>
        </p:nvPicPr>
        <p:blipFill>
          <a:blip r:embed="rId6"/>
          <a:stretch/>
        </p:blipFill>
        <p:spPr>
          <a:xfrm>
            <a:off x="2449440" y="3065400"/>
            <a:ext cx="2051280" cy="13892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5"/>
          <p:cNvSpPr/>
          <p:nvPr/>
        </p:nvSpPr>
        <p:spPr>
          <a:xfrm>
            <a:off x="2050920" y="416880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           </a:t>
            </a: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Лот 38 – област Пловди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944960" y="503388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МБАЛ Благоевгра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4" descr="\\oprd-nfs\DG_PRD\-=Public=-\-= Photos =-\1_snimki+info_proekti_shemi_PRR\1.5-01 Бургас\111 138.jpg"/>
          <p:cNvPicPr/>
          <p:nvPr/>
        </p:nvPicPr>
        <p:blipFill>
          <a:blip r:embed="rId7"/>
          <a:stretch/>
        </p:blipFill>
        <p:spPr>
          <a:xfrm>
            <a:off x="4635360" y="4599000"/>
            <a:ext cx="2057400" cy="1454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4"/>
          <p:cNvSpPr/>
          <p:nvPr/>
        </p:nvSpPr>
        <p:spPr>
          <a:xfrm>
            <a:off x="5148360" y="5275440"/>
            <a:ext cx="1531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Градски транспорт – Бурга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6" descr="\\oprd-nfs\DG_PRD\-=Public=-\-= Photos =-\1_snimki+info_proekti_shemi_PRR\1.1-08-Министерство на здравеопазването\Montana\DSC02235.jpg"/>
          <p:cNvPicPr/>
          <p:nvPr/>
        </p:nvPicPr>
        <p:blipFill>
          <a:blip r:embed="rId8"/>
          <a:stretch/>
        </p:blipFill>
        <p:spPr>
          <a:xfrm>
            <a:off x="2448000" y="4581360"/>
            <a:ext cx="2047680" cy="13780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4"/>
          <p:cNvSpPr/>
          <p:nvPr/>
        </p:nvSpPr>
        <p:spPr>
          <a:xfrm>
            <a:off x="2627280" y="455940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МБАЛ Монта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7" descr="\\oprd-nfs\DG_PRD\-=Public=-\-= Photos =-\за календар 2015\Допълнителни\SNV32989 ловеч.JPG"/>
          <p:cNvPicPr/>
          <p:nvPr/>
        </p:nvPicPr>
        <p:blipFill>
          <a:blip r:embed="rId9"/>
          <a:stretch/>
        </p:blipFill>
        <p:spPr>
          <a:xfrm>
            <a:off x="4589640" y="1461960"/>
            <a:ext cx="2205000" cy="1471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4"/>
          <p:cNvSpPr/>
          <p:nvPr/>
        </p:nvSpPr>
        <p:spPr>
          <a:xfrm>
            <a:off x="4622760" y="146196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Градска среда Лове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" descr="\\oprd-nfs\DG_PRD\-=Public=-\-= Photos =-\1_snimki+info_proekti_shemi_PRR\1.1-09\СЦР+\Русе Училища\Любен Каравелов 1.JPG"/>
          <p:cNvPicPr/>
          <p:nvPr/>
        </p:nvPicPr>
        <p:blipFill>
          <a:blip r:embed="rId10"/>
          <a:stretch/>
        </p:blipFill>
        <p:spPr>
          <a:xfrm>
            <a:off x="2449440" y="1355760"/>
            <a:ext cx="2051280" cy="1619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4"/>
          <p:cNvSpPr/>
          <p:nvPr/>
        </p:nvSpPr>
        <p:spPr>
          <a:xfrm>
            <a:off x="2554200" y="2576520"/>
            <a:ext cx="1841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Училище - град Ру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1" descr="C:\Users\StefanovZ\Desktop\ЦНСТ кв. Трендафил 1 (4).JPG"/>
          <p:cNvPicPr/>
          <p:nvPr/>
        </p:nvPicPr>
        <p:blipFill>
          <a:blip r:embed="rId11"/>
          <a:stretch/>
        </p:blipFill>
        <p:spPr>
          <a:xfrm>
            <a:off x="4589640" y="3032280"/>
            <a:ext cx="2141280" cy="1520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4"/>
          <p:cNvSpPr/>
          <p:nvPr/>
        </p:nvSpPr>
        <p:spPr>
          <a:xfrm>
            <a:off x="4764240" y="4162320"/>
            <a:ext cx="184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ЦНСТ- град Габро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Как ще приключим успеш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ОПРР 2007-2013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0" y="1550880"/>
            <a:ext cx="3419640" cy="503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Брой проекти, които трябва да приключат  - 123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Крайният срок за допустимост на разходите,</a:t>
            </a:r>
            <a:r>
              <a:rPr b="0" lang="bg-BG" sz="1600" spc="-1" strike="noStrike">
                <a:solidFill>
                  <a:srgbClr val="000066"/>
                </a:solidFill>
                <a:latin typeface="Sylfaen"/>
              </a:rPr>
              <a:t> извършени от бенефициентите, </a:t>
            </a: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е 31 декември 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Sylfaen"/>
              </a:rPr>
              <a:t>! Успешното приключване на проектите зависи в огромна степен от пълната мобилизация на бенефициентите и изпълнителите на проектните дей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6"/>
          <p:cNvSpPr/>
          <p:nvPr/>
        </p:nvSpPr>
        <p:spPr>
          <a:xfrm>
            <a:off x="7089840" y="3833640"/>
            <a:ext cx="172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община Пазардж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" descr="C:\Users\StefanovZ\Desktop\Tangenta 1.jpg"/>
          <p:cNvPicPr/>
          <p:nvPr/>
        </p:nvPicPr>
        <p:blipFill>
          <a:blip r:embed="rId3"/>
          <a:stretch/>
        </p:blipFill>
        <p:spPr>
          <a:xfrm>
            <a:off x="3635280" y="1660680"/>
            <a:ext cx="2465640" cy="2063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C:\Users\StefanovZ\Desktop\tangenta 2.jpg"/>
          <p:cNvPicPr/>
          <p:nvPr/>
        </p:nvPicPr>
        <p:blipFill>
          <a:blip r:embed="rId4"/>
          <a:stretch/>
        </p:blipFill>
        <p:spPr>
          <a:xfrm>
            <a:off x="6100920" y="1660680"/>
            <a:ext cx="3043080" cy="20635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2"/>
          <p:cNvSpPr/>
          <p:nvPr/>
        </p:nvSpPr>
        <p:spPr>
          <a:xfrm>
            <a:off x="5837400" y="3421080"/>
            <a:ext cx="32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Sylfaen"/>
              </a:rPr>
              <a:t>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9" descr="C:\Users\StefanovZ\Desktop\Презентации\KRIB\11887943_10204904141109348_3219348515072407450_n[1].jpg"/>
          <p:cNvPicPr/>
          <p:nvPr/>
        </p:nvPicPr>
        <p:blipFill>
          <a:blip r:embed="rId5"/>
          <a:stretch/>
        </p:blipFill>
        <p:spPr>
          <a:xfrm>
            <a:off x="3635280" y="3724200"/>
            <a:ext cx="2465640" cy="2121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2"/>
          <p:cNvSpPr/>
          <p:nvPr/>
        </p:nvSpPr>
        <p:spPr>
          <a:xfrm>
            <a:off x="3635280" y="54752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Sylfaen"/>
              </a:rPr>
              <a:t>Ларгото -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1" descr="C:\Users\StefanovZ\Desktop\Презентации\KRIB\Largoto_avgust1-.JPG"/>
          <p:cNvPicPr/>
          <p:nvPr/>
        </p:nvPicPr>
        <p:blipFill>
          <a:blip r:embed="rId6"/>
          <a:stretch/>
        </p:blipFill>
        <p:spPr>
          <a:xfrm>
            <a:off x="6100920" y="3724200"/>
            <a:ext cx="30430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0"/>
          <p:cNvSpPr/>
          <p:nvPr/>
        </p:nvSpPr>
        <p:spPr>
          <a:xfrm>
            <a:off x="34920" y="3860640"/>
            <a:ext cx="62262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„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Региони в растеж“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2014-2020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70"/>
          <p:cNvSpPr/>
          <p:nvPr/>
        </p:nvSpPr>
        <p:spPr>
          <a:xfrm>
            <a:off x="666720" y="517680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абавени преговори и оптимален старт на програмата – бюджет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04640" y="1628640"/>
          <a:ext cx="8229600" cy="4264200"/>
        </p:xfrm>
        <a:graphic>
          <a:graphicData uri="http://schemas.openxmlformats.org/drawingml/2006/table">
            <a:tbl>
              <a:tblPr/>
              <a:tblGrid>
                <a:gridCol w="3778560"/>
                <a:gridCol w="901440"/>
                <a:gridCol w="731880"/>
                <a:gridCol w="879480"/>
                <a:gridCol w="581040"/>
                <a:gridCol w="824040"/>
                <a:gridCol w="533160"/>
              </a:tblGrid>
              <a:tr h="630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оритетни оси и инвестиционни приоритет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юджет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звъзмездна финансова помо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инансови инструм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с национално съфинансиране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100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1 "Устойчиво и интегрирано градско развитие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43 77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4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72 559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83,5</a:t>
                      </a: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 216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6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2 „Подкрепа за енергийна ефективност в опорни центрове в периферните райони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 740 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6,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 740 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3 "Регионална образовате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 717 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 717 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4 "Регионална здрав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502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,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502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5 "Регионална социа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468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468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6 "Регионален туризъм"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 061 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6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530 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530 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7 "Регионална път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2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8 "Техническа помощ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 473 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 473 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018 201 8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648 455 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87,7</a:t>
                      </a: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9 746 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2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Нов подход в инвестиран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"/>
          <p:cNvSpPr/>
          <p:nvPr/>
        </p:nvSpPr>
        <p:spPr>
          <a:xfrm>
            <a:off x="395280" y="1623960"/>
            <a:ext cx="8353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финирани проекти и бенефици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ирани планове за градско възстановяване и развитие на големите и средните градове – Приоритетна ос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ация на ресур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 на инвестициите в определени зони за въз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ергичен ефект за цялостно обновяване на зон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и източници за финансиране на проек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публично участ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секи етап от подготовката и изпълнението на Интегрираните плано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 групи с широко представителство за изготвяне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вестиционни програ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щините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лючов елемент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ординация и допълняемост на проек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ое е различното в кандидатстването на големите 39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0" y="1341360"/>
            <a:ext cx="9072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Diagram 6" descr=""/>
          <p:cNvPicPr/>
          <p:nvPr/>
        </p:nvPicPr>
        <p:blipFill>
          <a:blip r:embed="rId4"/>
          <a:stretch/>
        </p:blipFill>
        <p:spPr>
          <a:xfrm>
            <a:off x="0" y="1395360"/>
            <a:ext cx="90774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9 града – разпределение на инвестиции по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езвъзмездна финансова помощ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енасочена подкрепа за градовете – Приоритетна ос 1 – 39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бюджети в млн. лева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I:\39 бюджет.png"/>
          <p:cNvPicPr/>
          <p:nvPr/>
        </p:nvPicPr>
        <p:blipFill>
          <a:blip r:embed="rId4"/>
          <a:stretch/>
        </p:blipFill>
        <p:spPr>
          <a:xfrm>
            <a:off x="755640" y="1413000"/>
            <a:ext cx="69753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"/>
          <p:cNvPicPr/>
          <p:nvPr/>
        </p:nvPicPr>
        <p:blipFill>
          <a:blip r:embed="rId5"/>
          <a:stretch/>
        </p:blipFill>
        <p:spPr>
          <a:xfrm>
            <a:off x="6300720" y="4862520"/>
            <a:ext cx="1886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5-09-08T10:19:32Z</dcterms:modified>
  <cp:revision>909</cp:revision>
  <dc:subject/>
  <dc:title>Diapositiva 1</dc:title>
</cp:coreProperties>
</file>