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CDC-EADF-4ADF-8112-2E7D07B44C43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C617-5A24-4C81-9FF4-1B0F0D301CA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922-651E-4807-999B-4FCF5EDE1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44C-305B-436B-B588-F72970D8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221-D097-47FA-94A2-8E64E201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E2D5-83D1-4E12-AB47-F8AC1055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8BE6-BC3A-4891-8F62-6091DD31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EC51-D809-4ABF-AC2A-7654B10C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43A4-56A7-475D-A085-DFCF6B0C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5FA3-BB8E-4870-A7A0-4ED6F1AF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1AEA-A159-442E-9ADC-31B734C1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75B2-437A-4345-8FFD-D6F15903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F371-997E-4C0B-8AA2-1D56C05A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D6B0-4EC9-466E-9711-470CAF56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E195-1D14-4EF1-8C78-4F8360F2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0C0D8-D250-4022-B4CA-063555A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861-DA29-4D28-AFEE-B3BE5689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2EB6-6026-4E69-B67B-DCBC31A4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142B-294C-4B6A-AE61-A4D39089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D4F4-989B-412A-B5C0-7298301C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9F6A-13E5-4C9D-A3C9-31F24FEB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C1C4-80F4-462C-BCD3-FBFF10F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3750-EA19-4332-B304-A9E102E4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3C37E-58FB-480A-B1EB-56022895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494-FA0B-4DB7-BA51-703C22D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E3A9-79F9-460C-9534-7F9DABDA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3588-567E-4F70-9881-9CF699D1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58F2-2263-438D-9AB8-4F1E376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E869-50BC-47D7-80E6-2C58C8C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02967-4B38-4F95-9F2B-CF75C07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21756-5A3D-4B69-BC9F-564CC730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0702-951C-4C3F-B88E-2E941A1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CA7B-BAEE-4231-811F-73AA09E7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53772-D973-40A6-9424-937F2223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061A6-4E6A-417C-84C7-9570997F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47C-2928-4EFC-9B1E-80EF2FD6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9E58-2D44-4CBF-982A-6990623E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FCBC-0F30-41EA-9C7B-3B9AFEF2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33801-E22C-43E0-84C5-DB6EA88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64B6-38D8-484C-9183-D00184A6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538E-EEE4-4E32-84B2-EC539C31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DDC2-4104-4154-AC53-214124A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9C52-3D20-4408-99E6-DE4261B5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EDEB-A48C-4287-811F-95EE19BF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95B5-BDF1-4EAE-B975-1444C47E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F628D-BAF6-4107-B219-26540994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D92-86D5-4676-8828-5BE99F13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FABEF-6A79-4C0D-8815-96E2A9B4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4D03-FEBB-4D60-B616-07E5BF2A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0FDE3-C8E9-4650-825D-4F2EC5A7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4EE1-CCD1-41B9-9E2C-17F5E406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F6F6-C386-4FB6-AB4A-9F46497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CF1D7-E2E4-4CCE-B3B8-145C43F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557E3-492D-4351-B58E-A0CBFBF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821D-0BC6-4AB7-BB41-B1487F2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6FBE1-297D-42CE-86FD-A9FCC9BB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FD78-2102-4130-A1C5-5E42D52A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957-E4C9-4D10-AF63-A418BF66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39AD4-293D-41EB-9D95-8837CBD9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9F7-B78C-4F6C-95EC-DEA7F783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E7B-5E42-485D-8D3E-443E0C0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7D8-E12E-4954-AB3C-E744619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68B3-C5BD-4F2C-8396-1DCEA07F947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BB1A-0F84-4FAE-BCC8-B935792E1F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DE2E-789E-4447-9C94-7603DBB8B29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3E81-C94C-4B65-A014-3993C58B7A5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6D84-4AD7-4894-8800-C2B86A70933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5.png"/><Relationship Id="rId7" Type="http://schemas.openxmlformats.org/officeDocument/2006/relationships/image" Target="../media/image3.jpe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eumis2020.government.bg/" TargetMode="External"/><Relationship Id="rId3" Type="http://schemas.openxmlformats.org/officeDocument/2006/relationships/hyperlink" Target="https://eumis2020.government.bg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79280" y="3905280"/>
            <a:ext cx="5545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оцедура BG16RFOP001-2.001  „ЕНЕРГИЙНА ЕФЕКТИВНОСТ В ПЕРИФЕРНИТЕ РАЙОНИ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Информационен ден – гр.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17.09.201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79280" y="1413000"/>
            <a:ext cx="8785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опустимост на еднофамилни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обствениците са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оциално слаб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получават социални помощи за отоплени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текущия/последния отоплителен се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градите се използват единствено за жилищн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ди и в тях не се извършва стопанска дей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опустимост на общински публич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градите се използват по предназначение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осъществяване на функциите на действащи към момент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ултурни/социални/ образователни институции, държавна или общинска админис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пълнение н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енергоспестяващи мерки в целите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екти на интервенция (2)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79280" y="1413000"/>
            <a:ext cx="878544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При интервенции в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наличи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амостоятелни обекти в сградата, които се ползват за извършване на стопанска дейнос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акто и в случаите на отдаване под наем или извършване на дейност от търговци и/или лица със свободни професии,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собствениц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тези обекти/ жилища ще се третират като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получатели на минимална помощ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 minimis)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гласно Закона за държавните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мерът на минималната помощ е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до 200 000 ев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иците на стопански обек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ито 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вън обхвата на реж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minimis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следва да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заплатят съответната част от разходите за обновяване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припадащите им се общи части и разходите за дейностите в съответния самостоятелен об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държавни помощи (1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44000" y="1368000"/>
            <a:ext cx="871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При интервенции в публични сгради на държавната или общинската администр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яма държавна помощ, ако са изпълнени следните 2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градите са публична собственост и се ползват от съответните органи по предназначение за обичайната им управленска/регулаторна дейнос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помещения или части от сградат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 отдават под наем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о приходите от наем не следва да надвишават разходите за издръжка на сград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ФП се предоставя под форма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минимална помощ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inimis)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размерът на разходите за помещението/сград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ползвано за стопанска дейност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е на стойност до 200 000 евр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олучателят на финансирането не е получавал други минимални помощи за последните три бюджетни год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помощт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 попада в режим de minimi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бенефициентът следва да покрие разликата над допустимия праг на помощ със собствени сре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държавни помощи (2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79280" y="131724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При интервенции в публични общински сгради от културната инфраструк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яма държавна помощ, ако са изпълнени следните 2 усло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ините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 реализират приходи от сград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ултурните организации с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 местен характе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извършват дейност на местно ниво и не засягат конкуренцията между държавите-членки (ограничен капацитет на сградата, прояви с местен характер, насочени към местни ползвате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ФП се предоставя под форма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минимална помощ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 minim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размерът на разходите за помещението/сград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ползвано за стопанска дейност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е на стойност до 200 000 евро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получателят на финансирането не е получавал други минимални помощи за последните три бюджетни го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помощт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е попада в режим de minimis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бенефициентът следва да покрие разликата над допустимия праг на помощ със собствени 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държавни помощи (3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79280" y="1402920"/>
            <a:ext cx="87854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Необходимо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36"/>
                </a:solidFill>
                <a:latin typeface="Arial"/>
              </a:rPr>
              <a:t>e </a:t>
            </a:r>
            <a:r>
              <a:rPr b="0" lang="bg-BG" sz="1800" spc="-1" strike="noStrike">
                <a:solidFill>
                  <a:srgbClr val="000036"/>
                </a:solidFill>
                <a:latin typeface="Arial"/>
              </a:rPr>
              <a:t>да с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учреди и регистрира сдружение на собствениците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реда на чл. 25, ал. 1 от Закона за управление на етажната собственост от собствениците, притежаващи не по-малко от 67% собственост на идеални части от общите части в сграда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С се създават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единствено и само за целите на получаване на безвъзмездната финансова помо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, че сградата се състои от блок-секции, СС може да се създаде отделно за всяка блок-секция. Но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С подават едно заявление за интерес и финансова помощ за цялата сград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рябва да има 100% съгласие на собственицит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(по изключение се допуска и 95%), за да се обнови самата сграда и да се изпълнят необходимите дейности по нея, и да се осигури достъп до всички ж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Когато СС не е учредено от всички собственици, всички нечленуващи собственици заявяват съгласието си с отделна декларация по образ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6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" descr=""/>
          <p:cNvPicPr/>
          <p:nvPr/>
        </p:nvPicPr>
        <p:blipFill>
          <a:blip r:embed="rId7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8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нергийно обновяване на многофамилни жилищни сгради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нергийно обновяване на многофамилни жилищни сгради – основни стъпк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Diagram 2" descr=""/>
          <p:cNvPicPr/>
          <p:nvPr/>
        </p:nvPicPr>
        <p:blipFill>
          <a:blip r:embed="rId4"/>
          <a:stretch/>
        </p:blipFill>
        <p:spPr>
          <a:xfrm>
            <a:off x="171360" y="1371600"/>
            <a:ext cx="8856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Други изиск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270000" y="1413000"/>
            <a:ext cx="8478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а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се финансир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кономически най-ефективният паке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 енергоспестяващи мерки за сградата, с който се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постига най-малко клас на енергопотребление „С“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ъответствие с  Наредба № 7 от 2004 г. за енергийна ефективност на сг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Р на сградите, които обхващат ремонт и реконструкция на различни части на сградата (покрив, стени, стълбищни клетки и площадки, коридори, асансьори и др.), могат да бъдат финансиран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амо ако с предложените мерки по проек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ПРР 2014-2020 сградат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стигне най-малко клас на енергопотребление „С“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че от 60% енергийни спестя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искването за повече от 60% енергийни спестявания следва задължително да се спазва, когато описаните СМР не са пряко свързани с изпълнението на задължителните мерки за енергийна ефективност, но тези СМР са предписани в техническото обслед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0" y="1290600"/>
            <a:ext cx="9072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ане и авторски надз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– до 5% от стойност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МР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иран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от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прилага при инженеринг (проектиране+авторски надзор+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рамките на общата стойност на СМР могат да се включат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редвидени разходи до 10% от общата стойност на СМР, финансирани от БФП по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и инженеринг 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едвидени разходи за СМ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ен надз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разходите за СМР, финансирани от БФП, одобрена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на съответствие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вестиционните проект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стойността на разходите за проектиране и авторски надзор, финансирани от БФП, одобрени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!!!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нженеринг – разходите за строителен надзор и оценка на съответствието са общо до 5% от стойността на инжене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ontent Placeholder 2"/>
          <p:cNvSpPr/>
          <p:nvPr/>
        </p:nvSpPr>
        <p:spPr>
          <a:xfrm>
            <a:off x="0" y="159228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авяне на необходими разрешителни документ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вързаните с тях такс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дължими на съответните компетентни орган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извършване н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енергийна ефективнос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тификат за актуално състояние,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установяване на техническите характеристики и технически паспор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гр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ждането на обекта в експлоата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яко свързани с проекта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ито са необходими за неговата подготовка и изпълнение, като инженерни, технически изследвания, геоложки/геодезически проучвания, финансов анализ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ъзстановим ДДС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ъгласно Указание на министъра на финансите № НФ-5/28.07.2014 г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публичност и визуализац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до 1% от общите преки допустими разходи, финансирани от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БФП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ционна кампан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GB" sz="19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само за проекти за енергийно обновяване на жилищни сгради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1% от общите преки допустими разходи, финансирани от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БФП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</a:rPr>
              <a:t>одит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– до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1% от общия размер на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БФП,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одобрена на етапа на кандидатстване, но не следва да надвишават сумата от 50 000 лв. без ДД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управлени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i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награждения за екипите за управление и изпълнение на проектните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2% общите преки допустими разходи, финансирани от БФП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ВАЖНО: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ултантски услуги за попълване на формуляра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кандидатстване и изготвяне на тръжна документация </a:t>
            </a:r>
            <a:r>
              <a:rPr b="1" lang="ru-RU" sz="1900" spc="-1" strike="noStrike">
                <a:solidFill>
                  <a:srgbClr val="0b2e9d"/>
                </a:solidFill>
                <a:latin typeface="Arial"/>
                <a:ea typeface="Times New Roman"/>
              </a:rPr>
              <a:t>не са допустими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настоящата процедур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2 „Подкрепа за енергийна ефективност в опорни центрове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ontent Placeholder 2"/>
          <p:cNvSpPr/>
          <p:nvPr/>
        </p:nvSpPr>
        <p:spPr>
          <a:xfrm>
            <a:off x="0" y="1628640"/>
            <a:ext cx="900576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31 август 2015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 обявена процедура за директно предоставяне на БФП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BG16RFOP001-2.001 „Енергийна ефективност в периферните райони”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иоритетна ос 2 „Подкрепа за енергийна ефективност в опорни центрове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8 общини на градовет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т 4-то ниво на националната полицентрична сист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ъглас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ционалната концепция за пространствено развитие 2013-202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бюджет по процедурата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06,7 млн. лв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7% от бюджета на ОПРР 2014-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ен срок за кандидатстване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1 май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Content Placeholder 2"/>
          <p:cNvSpPr/>
          <p:nvPr/>
        </p:nvSpPr>
        <p:spPr>
          <a:xfrm>
            <a:off x="-14400" y="129384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секи обект на интервенция задължително се представ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Обследване за енергийна ефектив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валиден сертифика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енергийни характеристики на сграда в експлоа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Обследване за установяване на техническите характеристик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вързани с удовлетворяване на изискванията по чл.169, ал.1, т.1–5 и ал.2 от ЗУТ и технически па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зависимост от степента на проектна готовност на всеки обект (сграда)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е в инвестиционния проект са/ще бъдат включ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ички задължителни ЕСМ, включени в енергийното обслед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ички задължителни мерки, включени в техническото обслед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й-ефективният пакет от ЕСМ, с който се постига най-малко клас на енергопотребление «С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108000" y="1309680"/>
            <a:ext cx="8856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лярът за кандидатстване и приложенията към него се подават електронно чрез ИСУН 2020 на ел.адре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umis2020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1" descr=""/>
          <p:cNvPicPr/>
          <p:nvPr/>
        </p:nvPicPr>
        <p:blipFill>
          <a:blip r:embed="rId6"/>
          <a:stretch/>
        </p:blipFill>
        <p:spPr>
          <a:xfrm>
            <a:off x="571680" y="1928880"/>
            <a:ext cx="7488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108000" y="1309680"/>
            <a:ext cx="885672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00" name="Diagram 3" descr=""/>
          <p:cNvPicPr/>
          <p:nvPr/>
        </p:nvPicPr>
        <p:blipFill>
          <a:blip r:embed="rId4"/>
          <a:stretch/>
        </p:blipFill>
        <p:spPr>
          <a:xfrm>
            <a:off x="-133200" y="1390680"/>
            <a:ext cx="95151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-17640" y="1413000"/>
            <a:ext cx="9072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аксимален брой проектни предложения за бенефици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и административни сгр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По едно отдел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държавни административни сгради за всеки отделен партньор-държавна институ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а образовате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а култур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ектно предложение з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общинска социа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500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Неограничен бро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оектни предложения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за жилищни сград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като всяко следва да включва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най-малко 3 обекта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интервенция (сград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ff0000"/>
                </a:solidFill>
                <a:uFillTx/>
                <a:latin typeface="Arial"/>
              </a:rPr>
              <a:t>По изключение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само в случай че бенефициентът предвижда интервенции </a:t>
            </a:r>
            <a:r>
              <a:rPr b="0" lang="ru-RU" sz="1700" spc="-1" strike="noStrike">
                <a:solidFill>
                  <a:srgbClr val="0b2e9d"/>
                </a:solidFill>
                <a:latin typeface="Arial"/>
              </a:rPr>
              <a:t>в по-малко от три жилищни сград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то следва да подаде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едн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оектно предложение за избраните сград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Изпълнение на проекти по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процедура BG16RFOP001-2.001 „Енергийна ефективност в периферните райони”:</a:t>
            </a:r>
            <a:br>
              <a:rPr sz="2000"/>
            </a:b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152280" y="1415880"/>
            <a:ext cx="878544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Задължение на конкретния бенефициент е да съхраняв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м всяко проектно предложени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вестиционния проект в целия му наличен обем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технически или работен проект съгласно ЗУТ, Наредба №4 КС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доклад за оценка на съответствието със съществените изисквания към строежите и т.н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и свързаната с него налична документация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(съгласувания, одобрения и разрешения и др.),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която се представя на етапа на верификация на разходите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й че на етапа на верификация бъдат установен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ходи за СМР върху собственост, различна от тази на бенефициента, партньора или крайните получател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зависимост от предвидените интервенции), както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и разход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ъгласно Насоките за кандидатстване, тези разходи няма да се финансират чрез БФП и ще се поемат като собствен принос на бенефици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Content Placeholder 2"/>
          <p:cNvSpPr/>
          <p:nvPr/>
        </p:nvSpPr>
        <p:spPr>
          <a:xfrm>
            <a:off x="0" y="1515960"/>
            <a:ext cx="907272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з месец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октомври 2015 г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О ще обяви бюджетна линия за 28 общини на малки градове от 4-то ниво, съгласно НКПР по Приоритетна ос 8 „Техническа помощ“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бюджет на бюджетната линия: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 111 359,48 л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Цел на процедурат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ряване на административния капацитет на бенефициентите на ОПРР 2014-2020 г. с цел изпълнение на проектните им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Техническа помощ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за 28 общини на градове от 4-т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ontent Placeholder 2"/>
          <p:cNvSpPr/>
          <p:nvPr/>
        </p:nvSpPr>
        <p:spPr>
          <a:xfrm>
            <a:off x="179280" y="1413000"/>
            <a:ext cx="871380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частие в  програми за обмен на опит и добри практики - специализирани обучения, обмяна на опит и участие в конференции </a:t>
            </a: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в областта на енергийната ефектив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трани от Северна и Централна Евро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ейността е предназначена за служители на общината, участващи в екипите за подготовка и изпълнение на проекти по процедур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BG16RFOP001-2.001 „Енергийна ефективност в периферните райони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оритетна ос 2 „Подкрепа за енергийна ефективност в опорни центрове в периферните райони“ на ОПРР 2014-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дейности по бюджетната линия за 28 общини на градове от 4-т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министър на регионалното развитие и благоустройството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332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иоритетна ос 2 – 28 града конкретни бенефициенти и бюджети (млн. л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I:\28 бюджет.png"/>
          <p:cNvPicPr/>
          <p:nvPr/>
        </p:nvPicPr>
        <p:blipFill>
          <a:blip r:embed="rId4"/>
          <a:stretch/>
        </p:blipFill>
        <p:spPr>
          <a:xfrm>
            <a:off x="539640" y="134136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тапни цели за 2018 г. на ниво ПО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Бюджетите (максимален индикативен размер на БФП) за всяка община-бенефициент са обвързани с изпълнението на определени цели на ниво приоритетна ос 2 и на ниво отделен бенефици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3357720"/>
          <a:ext cx="8229600" cy="2016000"/>
        </p:xfrm>
        <a:graphic>
          <a:graphicData uri="http://schemas.openxmlformats.org/drawingml/2006/table">
            <a:tbl>
              <a:tblPr/>
              <a:tblGrid>
                <a:gridCol w="4973760"/>
                <a:gridCol w="3255840"/>
              </a:tblGrid>
              <a:tr h="758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казател или основна стъпка за изпълнение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тапна цел за 2018 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44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NewRomanPSMT"/>
                        </a:rPr>
                        <a:t>Сертифицирани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923 488 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жаване на годишното потребление на първична енергия от обществените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140 348 kWh/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ontent Placeholder 2"/>
          <p:cNvSpPr/>
          <p:nvPr/>
        </p:nvSpPr>
        <p:spPr>
          <a:xfrm>
            <a:off x="-17640" y="1346040"/>
            <a:ext cx="910908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бенефициен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верифицирани средства от УО на ОПРР до края на юни 2018 г.) –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11,28% от размера на БФП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всеки бенефициент въз основа на процента на етапната цел на ниво приоритетна ос 2 (сертифицирани средства към края на 2018 г.) към бюджета на приоритетна ос 2 (11,28%)</a:t>
            </a:r>
            <a:r>
              <a:rPr b="0" lang="bg-BG" sz="17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бенефициент не е постигнал индивидуалната си етапна цел на верифицираните от УО на ОПРР средства до 30 юни 2018 г.,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УО си запазва правото да ревизира определения общ ресурс на БФП (100%) за съответния бенефициен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 размера на предоставената до момента БФП по сключените договори с размера на средствата, които не са постигнати като верифициран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"/>
          <p:cNvGraphicFramePr/>
          <p:nvPr/>
        </p:nvGraphicFramePr>
        <p:xfrm>
          <a:off x="303120" y="2565360"/>
          <a:ext cx="8661600" cy="939960"/>
        </p:xfrm>
        <a:graphic>
          <a:graphicData uri="http://schemas.openxmlformats.org/drawingml/2006/table">
            <a:tbl>
              <a:tblPr/>
              <a:tblGrid>
                <a:gridCol w="3451320"/>
                <a:gridCol w="3978360"/>
                <a:gridCol w="123192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 2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 ПО 2 - сертифицирани 2018 г.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704 392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923 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11040" y="3573360"/>
          <a:ext cx="8653680" cy="936720"/>
        </p:xfrm>
        <a:graphic>
          <a:graphicData uri="http://schemas.openxmlformats.org/drawingml/2006/table">
            <a:tbl>
              <a:tblPr/>
              <a:tblGrid>
                <a:gridCol w="3443400"/>
                <a:gridCol w="3986280"/>
                <a:gridCol w="1224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пово (БФП+резерв)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- верифицирани до 30 юни 2018 г.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86 427,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97 188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Цел на процедура BG16RFOP001-2.001 „Енергийна ефективност в периферните райо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360" y="1413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ел на процедурата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а се повиши енергийната ефективност на публичната инфраструктура и на жилищния сектор в опорните центрове от 4-то ниво на националната 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полицентричн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специфични це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 на енергийната ефективност в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жилищния с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енергийната ефективност на </a:t>
            </a: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ествените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гр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симални праг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д проектни предложения за всеки бенефици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9640" y="4292640"/>
          <a:ext cx="8064720" cy="1546200"/>
        </p:xfrm>
        <a:graphic>
          <a:graphicData uri="http://schemas.openxmlformats.org/drawingml/2006/table">
            <a:tbl>
              <a:tblPr/>
              <a:tblGrid>
                <a:gridCol w="4753080"/>
                <a:gridCol w="3311640"/>
              </a:tblGrid>
              <a:tr h="736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ид проектни предложен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57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гийна ефективност в </a:t>
                      </a: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илищния сект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Макс.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ийна ефективност на </a:t>
                      </a:r>
                      <a:r>
                        <a:rPr b="1" lang="bg-BG" sz="15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бществени сград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Макс.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274680"/>
            <a:ext cx="63327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и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артньори, обекти на интервенция, продължителност на проект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7" name="Diagram 9" descr=""/>
          <p:cNvPicPr/>
          <p:nvPr/>
        </p:nvPicPr>
        <p:blipFill>
          <a:blip r:embed="rId4"/>
          <a:stretch/>
        </p:blipFill>
        <p:spPr>
          <a:xfrm>
            <a:off x="176040" y="1395360"/>
            <a:ext cx="87919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Допустими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-84240" y="1407960"/>
            <a:ext cx="907416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2761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зпълнение на ЕС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ито са предписани ка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ължителни в обследването за енергийна ефективно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ности по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структивно възстановяване/ усилва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ито са предписани ка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ължителни в техническото обследване на сград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ъпътстващи 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вързани с изпълнението на Е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Р, които обхваща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монт и реконструкция на различни части на сградата (покрив, стени, стълбищни клетки и площадки, коридори, асансьори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, само ако с предложените мерки по проекта по ОПРР 2014-2020 сградата постигн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-малко клас на енергопотребление „С“ и повече от 60% енергийни спестя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писаните СМР трябва да с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исани в техническото обслед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следвания за енергийна ефективност и технически обслед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обряване достъпа за лица с уврежд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сград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61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екти на интервенция (1)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4880" y="14130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0000"/>
                </a:solidFill>
                <a:latin typeface="Arial"/>
              </a:rPr>
              <a:t>Допустимост на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Еднофамилни жилищни сгради (масивни сгради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ектирани преди 26.04.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Многофамилни жилищни сгради (масивни сгради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ектирани преди 26.04.199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</a:rPr>
              <a:t>Многофамилни жилищни сгради с не повече от 35 самостоятелни обекта с жилищно предназначение, строени по индустриален способ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 ЕПЖС (едропанелно жилищно строителство); ППП (пакетно-повдигани плочи); ЕПК (едроплощен кофраж); пълзящ кофраж и разновидностите им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строителните граници на 28-те град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4-то йерархично ниво, които с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извън обхвата на Националната програма за енергийна ефективност на многофамилни жилищни сград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iktoriya Nenkova</cp:lastModifiedBy>
  <cp:lastPrinted>2015-05-05T13:25:48Z</cp:lastPrinted>
  <dcterms:modified xsi:type="dcterms:W3CDTF">2015-09-18T08:35:21Z</dcterms:modified>
  <cp:revision>1409</cp:revision>
  <dc:subject/>
  <dc:title>Diapositiva 1</dc:title>
</cp:coreProperties>
</file>