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78F4-1DA2-4C3C-AC85-4CB13E1949D5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E1E7-9E75-4467-A6B7-D60EB778C6A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венции върху административни сгради на общинската и държавната администрация са допустими за финансиране в рамките на зоните за въздействие на ИПГВР, на 39-те града, одобрен от УО на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и върху многофамилни жилищни сгради и студентски общежития са допустими извън зоните за въздействие, но в рамките на строителните граници на 39-те гра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ите предложения следва да включват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енергоспестяващи мерк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едписани в обследването за енергийна ефективност, в т.ч. мерки за оползотворяване на възобновяеми енергийни източници (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а техническа осъществимост и икономическа целесъобразнос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ито водят до съответствие на сградат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нормативните изисквания за енергийна ефективност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й-малко клас на енергопотребление „С“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имат пряк екологичен е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 отношение студентски общежития, интервенции са допустими само върху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удентски общежития, обслужващи държавни висши учебни заведения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 интервенции върху студентски общежития, конкретният бенефициент следва да кандидатства в партньорство със съответното държавно висше учебно заведение или юридическото лице, което управлява студентското общежитие, като се представ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артньорско споразумени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в свободен текст между стра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върху студенски общежития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 чрез комбинирано финансиране чрез БФП и финансови инструменти, създадени по линия на ОПРР 2014-2020 г.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Финансирането ще се осъществява с водещата роля на организацията, изпълняваща финансови инструменти (фонд), избрани от Фонд на фондовете, създаден към министъра на финансите, и по ред и при условия, различни от тези за финансиране на проекти с БФП. Фондът ще има ангажимент да определи както подкрепата по линия на финансовия инструмент, така и необходимия размер на 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и интервенции върху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нкретният бенефициент следва да подаде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дно общо проектно предложен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ключени всички предвидени сгради. Допустими са интервенции      върху следните видове многофамилни жилищни сг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(масивни сгради), проектирани преди 26 април 1999 г. в 39-те града от 1-во до 3-то йерархично ниво, които са извън обхвата на Националната програма за енергийна ефективност на многофамилни жилищни сгра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до 36 самостоятелни обекта с жилищно предназначение, строени по индустриален способ: ЕПЖС (едропанелно жилищно строителство); ППП (пакетно-повдигани плочи); ЕПК (едроплощен кофраж); пълзящ кофраж и разновидностите им в 39-те града от 1-во до 3-то йерархично ниво, които са извън обхвата на Националната програма за енергийна ефективност на многофамилни жилищни сг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C99-4BE8-440D-A67C-C09852EE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90E-280E-4481-858B-9F641F05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704-67E5-4FED-8CEA-559C8F91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69F-59D4-4E19-B018-AA51B6DF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9003-A6D6-4671-A8E4-52324FA5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CFD7-4FB6-40E6-B991-91C9A645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6D43-3DBB-437F-BB26-6BBCB346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9927-AF6F-4108-A3C8-46793099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7F76-9780-43AB-A971-2054B112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C8B3-27A6-481C-A72C-9CE20573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0350-16D1-451E-ACC0-ABBC11C7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2C1-744F-4D67-A62C-4A7EF2DF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F4ED-85FB-475D-88A4-A7DD0143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DC60-01C6-40AF-8F98-439FA839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A073-9F7E-4A36-8687-C9882684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0360-EA0A-4D65-957F-787B7C26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C67C-D7F3-433D-873D-2C7F17AD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13240-3BB5-4E8B-88FE-36C1D9DE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4E6A0-997D-447D-92E3-EDF3B7A8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A787-0A70-41C2-8C07-9CA5A57C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565F6-6690-4D6E-A291-C2C324E1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90476-5ED7-425A-B523-BCE24BC8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47A-64FD-4020-B55C-01393769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5A831-D712-476A-8BAB-F6686003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72D2-82E4-4DE0-A9B1-2D5C11E0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D24C9-F71C-4348-81F8-8E259178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4166F-C958-4345-8BCE-0C4C5E63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3CCEE-8960-4753-A10B-0CD88673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65E19-CA3F-41AD-8119-E49A81DD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44C2F-C658-4B54-BE45-FAAC4666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46668-323B-4048-B3AA-3DFB0FFA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5B9C3-CA95-4A93-90D3-97702EE5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C026F-BAAA-4905-BFD2-8324DF63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F0E-2AE6-492A-9EC5-A4B17622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0DB41-4128-4622-B48E-9B980EDA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024E2-A3EA-44C9-A7D0-086A4A95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5EC6D-D402-4044-86F2-4A01AB69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F417B-9080-406B-8330-F1B2578A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C947C-4F88-4AD5-B58E-E25E4A2E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716EA-4D58-4F8C-A367-B02307D3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6C5D3-406B-4044-8299-A8CC711F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82CA4-6A78-4652-9079-89DC4E62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6E7C1-B331-4147-B679-5CC07BA7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D8CB5-DEA7-4352-ADF1-4A2BB45B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E90-1285-456F-AB32-78FA5129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2C3C2-7B2E-49F2-A20A-7C7D1755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5591B-3945-415D-BE69-74D449CE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1A440-3D44-4EC5-9620-F2A71010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2336A-1D9E-4751-87A7-AC672839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FD4AF-DE27-4982-9483-97F63564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50BD4-514C-442F-8415-F9BB01AD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7CBB5-2FFF-47F7-A18B-BC4FDCDC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0D391-774C-4D49-9797-3D6E7BE4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418BB-5B9A-497A-ABE6-01B1CDDF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43C94-9532-49C5-B8FE-4BFD1772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5C5-379F-41A4-91AA-32CCF871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E5A2D-A93F-48BB-B24E-44E35272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FD7-1372-49D1-9DE2-BA68FDF7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1B7-6895-4E88-984F-6B1FC15A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0AF-B0CC-4A5A-AB7B-A7A7CE5E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7FE1-89D1-4EB4-A885-B4E51603C67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CCCA-9767-4BAD-B669-83CD0B17BD5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9F64-5C0B-4B8A-8F45-7E285EC2DCC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9DEE-CD9A-44F9-9DA9-FB60E2BEFA1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7E2C-C8F9-45CA-AB1F-4CED95C4895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5.png"/><Relationship Id="rId7" Type="http://schemas.openxmlformats.org/officeDocument/2006/relationships/image" Target="../media/image3.jpe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eumis2020.government.bg/" TargetMode="External"/><Relationship Id="rId3" Type="http://schemas.openxmlformats.org/officeDocument/2006/relationships/hyperlink" Target="https://eumis2020.government.bg/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179280" y="3905280"/>
            <a:ext cx="554508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Процедура BG16RFOP001-2.001  „ЕНЕРГИЙНА ЕФЕКТИВНОСТ В ПЕРИФЕРНИТЕ РАЙОНИ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Информационен ден – гр. Соф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17.09.2015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79280" y="1413000"/>
            <a:ext cx="8785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Допустимост на еднофамилни жилищни сгра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обствениците са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социално слаб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получават социални помощи за отопление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текущия/последния отоплителен сез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градите се използват единствено за жилищн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ди и в тях не се извършва стопанска дей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Допустимост на общински публични сгра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градите се използват по предназначение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 осъществяване на функциите на действащи към момент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ултурни/социални/ образователни институции, държавна или общинска админис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пълнение н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нергоспестяващи мерки в целите сг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бекти на интервенция (2)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413000"/>
            <a:ext cx="8785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При интервенции в жилищни сгра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 наличие н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амостоятелни обекти в сградата, които се ползват за извършване на стопанска дейност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както и в случаите на отдаване под наем или извършване на дейност от търговци и/или лица със свободни професии,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собственицит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тези обекти/ жилища ще се третират като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получатели на минимална помощ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 minimis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гласно Закона за държавните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мерът на минималната помощ е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до 200 000 ев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ствениците на стопански обек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ито с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вън обхвата на режи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minimis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ледва да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заплатят съответната част от разходите за обновяването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 припадащите им се общи части и разходите за дейностите в съответния самостоятелен об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авила за държавни помощи (1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44000" y="1368000"/>
            <a:ext cx="8712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При интервенции в публични сгради на държавната или общинската администра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няма държавна помощ, ако са изпълнени следните 2 усло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градите са публична собственост и се ползват от съответните органи по предназначение за обичайната им управленска/регулаторна дейнос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й че помещения или части от сградат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е отдават под наем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то приходите от наем не следва да надвишават разходите за издръжка на сграда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ФП се предоставя под формата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минимална помощ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 minimis)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й че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размерът на разходите за помещението/сграда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ползвано за стопанска дейност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е на стойност до 200 000 евро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получателят на финансирането не е получавал други минимални помощи за последните три бюджетни годи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о помощт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е попада в режим de minimis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бенефициентът следва да покрие разликата над допустимия праг на помощ със собствени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авила за държавни помощи (2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79280" y="131724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При интервенции в публични общински сгради от културната инфраструк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няма държавна помощ, ако са изпълнени следните 2 усло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ините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е реализират приходи от сградит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ултурните организации с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 местен характер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извършват дейност на местно ниво и не засягат конкуренцията между държавите-членки (ограничен капацитет на сградата, прояви с местен характер, насочени към местни ползвате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ФП се предоставя под формата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минимална помощ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 minim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й че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размерът на разходите за помещението/сграда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ползвано за стопанска дейност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е на стойност до 200 000 евро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получателят на финансирането не е получавал други минимални помощи за последните три бюджетни го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о помощт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е попада в режим de minimis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бенефициентът следва да покрие разликата над допустимия праг на помощ със собствени 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авила за държавни помощи (3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79280" y="1402920"/>
            <a:ext cx="87854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Необходимо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36"/>
                </a:solidFill>
                <a:latin typeface="Arial"/>
              </a:rPr>
              <a:t>e </a:t>
            </a: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да се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учреди и регистрира сдружение на собствениците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СС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 реда на чл. 25, ал. 1 от Закона за управление на етажната собственост от собствениците, притежаващи не по-малко от 67% собственост на идеални части от общите части в сград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С се създават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динствено и само за целите на получаване на безвъзмездната финансова помо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й, че сградата се състои от блок-секции, СС може да се създаде отделно за всяка блок-секция. Но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СС подават едно заявление за интерес и финансова помощ за цялата сград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Трябва да има 100% съгласие на собственицит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(по изключение се допуска и 95%), за да се обнови самата сграда и да се изпълнят необходимите дейности по нея, и да се осигури достъп до всички жил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Когато СС не е учредено от всички собственици, всички нечленуващи собственици заявяват съгласието си с отделна декларация по образ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6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" descr=""/>
          <p:cNvPicPr/>
          <p:nvPr/>
        </p:nvPicPr>
        <p:blipFill>
          <a:blip r:embed="rId7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"/>
          <p:cNvPicPr/>
          <p:nvPr/>
        </p:nvPicPr>
        <p:blipFill>
          <a:blip r:embed="rId8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Енергийно обновяване на многофамилни жилищни сгради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Енергийно обновяване на многофамилни жилищни сгради – основни стъпк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Diagram 2" descr=""/>
          <p:cNvPicPr/>
          <p:nvPr/>
        </p:nvPicPr>
        <p:blipFill>
          <a:blip r:embed="rId4"/>
          <a:stretch/>
        </p:blipFill>
        <p:spPr>
          <a:xfrm>
            <a:off x="171360" y="1371600"/>
            <a:ext cx="88567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Други изиск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tent Placeholder 2"/>
          <p:cNvSpPr/>
          <p:nvPr/>
        </p:nvSpPr>
        <p:spPr>
          <a:xfrm>
            <a:off x="270000" y="1413000"/>
            <a:ext cx="847872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аж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Ще се финансир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икономически най-ефективният паке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т енергоспестяващи мерки за сградата, с който се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постига най-малко клас на енергопотребление „С“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ъответствие с  Наредба № 7 от 2004 г. за енергийна ефективност на сгра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Р на сградите, които обхващат ремонт и реконструкция на различни части на сградата (покрив, стени, стълбищни клетки и площадки, коридори, асансьори и др.), могат да бъдат финансиран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амо ако с предложените мерки по проек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ПРР 2014-2020 сградат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стигне най-малко клас на енергопотребление „С“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че от 60% енергийни спестя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искването за повече от 60% енергийни спестявания следва задължително да се спазва, когато описаните СМР не са пряко свързани с изпълнението на задължителните мерки за енергийна ефективност, но тези СМР са предписани в техническото обследв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ontent Placeholder 2"/>
          <p:cNvSpPr/>
          <p:nvPr/>
        </p:nvSpPr>
        <p:spPr>
          <a:xfrm>
            <a:off x="0" y="1290600"/>
            <a:ext cx="9072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иране и авторски надзор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– до 5% от стойността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МР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финансиран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от БФ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прилага при инженеринг (проектиране+авторски надзор+СМ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рамките на общата стойност на СМР могат да се включат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епредвидени разходи до 10% от общата стойност на СМР, финансирани от БФП по проект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ри инженеринг –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са допустим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предвидени разходи за СМ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ителен надз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 5% от разходите за СМР, финансирани от БФП, одобрена на етапа на кандидат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на съответствие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инвестиционните проекти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 5% от стойността на разходите за проектиране и авторски надзор, финансирани от БФП, одобрени на етапа на кандидат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!!!!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инженеринг – разходите за строителен надзор и оценка на съответствието са общо до 5% от стойността на инженер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Content Placeholder 2"/>
          <p:cNvSpPr/>
          <p:nvPr/>
        </p:nvSpPr>
        <p:spPr>
          <a:xfrm>
            <a:off x="0" y="159228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, свързани с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авяне на необходими разрешителни документи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свързаните с тях такси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дължими на съответните компетентни орга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извършване н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бследване за енергийна ефективност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ертификат за актуално състояние,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бследване за установяване на техническите характеристики и технически паспорт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сград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, свързани с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въвеждането на обекта в експлоатац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уги, пряко свързани с проекта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които са необходими за неговата подготовка и изпълнение, като инженерни, технически изследвания, геоложки/геодезически проучвания, финансов анализ и д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Невъзстановим ДДС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ъгласно Указание на министъра на финансите № НФ-5/28.07.2014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ontent Placeholder 2"/>
          <p:cNvSpPr/>
          <p:nvPr/>
        </p:nvSpPr>
        <p:spPr>
          <a:xfrm>
            <a:off x="0" y="141300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азходи за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публичност и визуализация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до 1% от общите преки допустими разходи, финансирани от </a:t>
            </a:r>
            <a:r>
              <a:rPr b="0" lang="bg-BG" sz="1900" spc="-1" strike="noStrike">
                <a:solidFill>
                  <a:srgbClr val="ff0000"/>
                </a:solidFill>
                <a:latin typeface="Arial"/>
              </a:rPr>
              <a:t>БФП 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по про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азходи за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нформационна кампания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GB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амо за проекти за енергийно обновяване на жилищни сгради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) – </a:t>
            </a:r>
            <a:r>
              <a:rPr b="0" lang="ru-RU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до 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1% от общите преки допустими разходи, финансирани от </a:t>
            </a:r>
            <a:r>
              <a:rPr b="0" lang="bg-BG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БФП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 по про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Разходи з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</a:rPr>
              <a:t>одит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– до </a:t>
            </a:r>
            <a:r>
              <a:rPr b="0" lang="bg-BG" sz="1900" spc="-1" strike="noStrike">
                <a:solidFill>
                  <a:srgbClr val="ff0000"/>
                </a:solidFill>
                <a:latin typeface="Arial"/>
              </a:rPr>
              <a:t>1% от общия размер на </a:t>
            </a:r>
            <a:r>
              <a:rPr b="0" lang="ru-RU" sz="1900" spc="-1" strike="noStrike">
                <a:solidFill>
                  <a:srgbClr val="ff0000"/>
                </a:solidFill>
                <a:latin typeface="Arial"/>
              </a:rPr>
              <a:t>БФП, </a:t>
            </a:r>
            <a:r>
              <a:rPr b="0" lang="bg-BG" sz="1900" spc="-1" strike="noStrike">
                <a:solidFill>
                  <a:srgbClr val="ff0000"/>
                </a:solidFill>
                <a:latin typeface="Arial"/>
              </a:rPr>
              <a:t>одобрена на етапа на кандидатстване, но не следва да надвишават сумата от 50 000 лв. без ДД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и управление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за </a:t>
            </a:r>
            <a:r>
              <a:rPr b="0" i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възнаграждения за екипите за управление и изпълнение на проектните предложения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до 2% общите преки допустими разходи, финансирани от БФП по про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ВАЖНО: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ултантски услуги за попълване на формуляра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кандидатстване и изготвяне на тръжна документация </a:t>
            </a:r>
            <a:r>
              <a:rPr b="1" lang="ru-RU" sz="1900" spc="-1" strike="noStrike">
                <a:solidFill>
                  <a:srgbClr val="0b2e9d"/>
                </a:solidFill>
                <a:latin typeface="Arial"/>
                <a:ea typeface="Times New Roman"/>
              </a:rPr>
              <a:t>не са допустими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настоящата процедур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 2 „Подкрепа за енергийна ефективност в опорни центрове в периферните район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ontent Placeholder 2"/>
          <p:cNvSpPr/>
          <p:nvPr/>
        </p:nvSpPr>
        <p:spPr>
          <a:xfrm>
            <a:off x="0" y="1628640"/>
            <a:ext cx="900576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а 31 август 2015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 обявена процедура за директно предоставяне на БФП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BG16RFOP001-2.001 „Енергийна ефективност в периферните райони”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приоритетна ос 2 „Подкрепа за енергийна ефективност в опорни центрове в периферните район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8 общини на градовет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от 4-то ниво на националната полицентрична систе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ъгласн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ционалната концепция за пространствено развитие 2013-202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бюджет по процедурата –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06,7 млн. лв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% от бюджета на ОПРР 2014-20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ен срок за кандидатстване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31 май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Content Placeholder 2"/>
          <p:cNvSpPr/>
          <p:nvPr/>
        </p:nvSpPr>
        <p:spPr>
          <a:xfrm>
            <a:off x="-14400" y="129384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 всеки обект на интервенция задължително се представ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Обследване за енергийна ефективнос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валиден сертифика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енергийни характеристики на сграда в експлоа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Обследване за установяване на техническите характеристик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свързани с удовлетворяване на изискванията по чл.169, ал.1, т.1–5 и ал.2 от ЗУТ и технически па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Декларация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в зависимост от степента на проектна готовност на всеки обект (сграда)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е в инвестиционния проект са/ще бъдат включе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сички задължителни ЕСМ, включени в енергийното обследван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сички задължителни мерки, включени в техническото обследван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й-ефективният пакет от ЕСМ, с който се постига най-малко клас на енергопотребление «С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сички необходими мерки за осигуряване на достъпна архитектурна сред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8"/>
          <p:cNvSpPr/>
          <p:nvPr/>
        </p:nvSpPr>
        <p:spPr>
          <a:xfrm>
            <a:off x="1332000" y="33336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 и проектна готовност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332000" y="33336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 и проектна готовност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ontent Placeholder 2"/>
          <p:cNvSpPr/>
          <p:nvPr/>
        </p:nvSpPr>
        <p:spPr>
          <a:xfrm>
            <a:off x="108000" y="1309680"/>
            <a:ext cx="885672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ярът за кандидатстване и приложенията към него се подават електронно чрез ИСУН 2020 на ел.адрес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umis2020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4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"/>
          <p:cNvPicPr/>
          <p:nvPr/>
        </p:nvPicPr>
        <p:blipFill>
          <a:blip r:embed="rId5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"/>
          <p:cNvPicPr/>
          <p:nvPr/>
        </p:nvPicPr>
        <p:blipFill>
          <a:blip r:embed="rId6"/>
          <a:stretch/>
        </p:blipFill>
        <p:spPr>
          <a:xfrm>
            <a:off x="571680" y="1928880"/>
            <a:ext cx="7488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1332000" y="33336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 и проектна готовност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Content Placeholder 2"/>
          <p:cNvSpPr/>
          <p:nvPr/>
        </p:nvSpPr>
        <p:spPr>
          <a:xfrm>
            <a:off x="108000" y="1309680"/>
            <a:ext cx="885672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400" name="Diagram 3" descr=""/>
          <p:cNvPicPr/>
          <p:nvPr/>
        </p:nvPicPr>
        <p:blipFill>
          <a:blip r:embed="rId4"/>
          <a:stretch/>
        </p:blipFill>
        <p:spPr>
          <a:xfrm>
            <a:off x="-133200" y="1390680"/>
            <a:ext cx="95151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-17640" y="1413000"/>
            <a:ext cx="907272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аксимален брой проектни предложения за бенефицие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50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Едно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ектно предложение за </a:t>
            </a:r>
            <a:r>
              <a:rPr b="0" lang="ru-RU" sz="1700" spc="-1" strike="noStrike">
                <a:solidFill>
                  <a:srgbClr val="0b2e9d"/>
                </a:solidFill>
                <a:latin typeface="Arial"/>
              </a:rPr>
              <a:t>общински административни сгр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50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По едно отделно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ектно предложение за </a:t>
            </a:r>
            <a:r>
              <a:rPr b="0" lang="ru-RU" sz="1700" spc="-1" strike="noStrike">
                <a:solidFill>
                  <a:srgbClr val="0b2e9d"/>
                </a:solidFill>
                <a:latin typeface="Arial"/>
              </a:rPr>
              <a:t>държавни административни сгради за всеки отделен партньор-държавна институц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50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Едно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ектно предложение за </a:t>
            </a:r>
            <a:r>
              <a:rPr b="0" lang="ru-RU" sz="1700" spc="-1" strike="noStrike">
                <a:solidFill>
                  <a:srgbClr val="0b2e9d"/>
                </a:solidFill>
                <a:latin typeface="Arial"/>
              </a:rPr>
              <a:t>общинска образователна инфраструкту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50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Едно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ектно предложение за </a:t>
            </a:r>
            <a:r>
              <a:rPr b="0" lang="ru-RU" sz="1700" spc="-1" strike="noStrike">
                <a:solidFill>
                  <a:srgbClr val="0b2e9d"/>
                </a:solidFill>
                <a:latin typeface="Arial"/>
              </a:rPr>
              <a:t>общинска културна инфраструкту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50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Едно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ектно предложение за </a:t>
            </a:r>
            <a:r>
              <a:rPr b="0" lang="ru-RU" sz="1700" spc="-1" strike="noStrike">
                <a:solidFill>
                  <a:srgbClr val="0b2e9d"/>
                </a:solidFill>
                <a:latin typeface="Arial"/>
              </a:rPr>
              <a:t>общинска социална инфраструкту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50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Неограничен бро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оектни предложения </a:t>
            </a:r>
            <a:r>
              <a:rPr b="0" lang="ru-RU" sz="1700" spc="-1" strike="noStrike">
                <a:solidFill>
                  <a:srgbClr val="0b2e9d"/>
                </a:solidFill>
                <a:latin typeface="Arial"/>
              </a:rPr>
              <a:t>за жилищни сград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като всяко следва да включва </a:t>
            </a:r>
            <a:r>
              <a:rPr b="0" lang="ru-RU" sz="1700" spc="-1" strike="noStrike">
                <a:solidFill>
                  <a:srgbClr val="0b2e9d"/>
                </a:solidFill>
                <a:latin typeface="Arial"/>
              </a:rPr>
              <a:t>най-малко 3 обекта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 интервенция (сград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ff0000"/>
                </a:solidFill>
                <a:uFillTx/>
                <a:latin typeface="Arial"/>
              </a:rPr>
              <a:t>По изключение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само в случай че бенефициентът предвижда интервенции </a:t>
            </a:r>
            <a:r>
              <a:rPr b="0" lang="ru-RU" sz="1700" spc="-1" strike="noStrike">
                <a:solidFill>
                  <a:srgbClr val="0b2e9d"/>
                </a:solidFill>
                <a:latin typeface="Arial"/>
              </a:rPr>
              <a:t>в по-малко от три жилищни сград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то следва да подаде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едно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оектно предложение за избраните сгр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8"/>
          <p:cNvSpPr/>
          <p:nvPr/>
        </p:nvSpPr>
        <p:spPr>
          <a:xfrm>
            <a:off x="1332000" y="33336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 и проектна готовност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Изпълнение на проекти по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процедура BG16RFOP001-2.001 „Енергийна ефективност в периферните райони”:</a:t>
            </a:r>
            <a:br>
              <a:rPr sz="2000"/>
            </a:b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Content Placeholder 2"/>
          <p:cNvSpPr/>
          <p:nvPr/>
        </p:nvSpPr>
        <p:spPr>
          <a:xfrm>
            <a:off x="152280" y="1415880"/>
            <a:ext cx="8785440" cy="47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Задължение на конкретния бенефициент е да съхраняв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ъм всяко проектно предложение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вестиционния проект в целия му наличен обем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технически или работен проект съгласно ЗУТ, Наредба №4 КС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доклад за оценка на съответствието със съществените изисквания към строежите и т.н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и свързаната с него налична документация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съгласувания, одобрения и разрешения и др.),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която се представя на етапа на верификация на разходите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й че на етапа на верификация бъдат установен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ходи за СМР върху собственост, различна от тази на бенефициента, партньора или крайните получате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зависимост от предвидените интервенции), както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пустими разход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ъгласно Насоките за кандидатстване, тези разходи няма да се финансират чрез БФП и ще се поемат като собствен принос на бенефици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Content Placeholder 2"/>
          <p:cNvSpPr/>
          <p:nvPr/>
        </p:nvSpPr>
        <p:spPr>
          <a:xfrm>
            <a:off x="0" y="1515960"/>
            <a:ext cx="9072720" cy="47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з месец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октомври 2015 г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О ще обяви бюджетна линия за 28 общини на малки градове от 4-то ниво, съгласно НКПР по Приоритетна ос 8 „Техническа помощ“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бюджет на бюджетната линия: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 111 359,48 л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Цел на процедурат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обряване на административния капацитет на бенефициентите на ОПРР 2014-2020 г. с цел изпълнение на проектните им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Техническа помощ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за 28 общини на градове от 4-то н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Content Placeholder 2"/>
          <p:cNvSpPr/>
          <p:nvPr/>
        </p:nvSpPr>
        <p:spPr>
          <a:xfrm>
            <a:off x="179280" y="1413000"/>
            <a:ext cx="871380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частие в  програми за обмен на опит и добри практики - специализирани обучения, обмяна на опит и участие в конференции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в областта на енергийната ефективнос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трани от Северна и Централна Евро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ейността е предназначена за служители на общината, участващи в екипите за подготовка и изпълнение на проекти по процедур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BG16RFOP001-2.001 „Енергийна ефективност в периферните райони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иоритетна ос 2 „Подкрепа за енергийна ефективност в опорни центрове в периферните райони“ на ОПРР 2014-2020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дейности по бюджетната линия за 28 общини на градове от 4-то н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1042920" y="1844640"/>
            <a:ext cx="72741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ница Ник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местник-министър на регионалното развитие и благоустройството и Ръководител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63327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 2 – 28 града конкретни бенефициенти и бюджети (млн. л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I:\28 бюджет.png"/>
          <p:cNvPicPr/>
          <p:nvPr/>
        </p:nvPicPr>
        <p:blipFill>
          <a:blip r:embed="rId4"/>
          <a:stretch/>
        </p:blipFill>
        <p:spPr>
          <a:xfrm>
            <a:off x="539640" y="1341360"/>
            <a:ext cx="7993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Етапни цели за 2018 г. на ниво ПО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Бюджетите (максимален индикативен размер на БФП) за всяка община-бенефициент са обвързани с изпълнението на определени цели на ниво приоритетна ос 2 и на ниво отделен бенефици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9640" y="3357720"/>
          <a:ext cx="8229600" cy="2016000"/>
        </p:xfrm>
        <a:graphic>
          <a:graphicData uri="http://schemas.openxmlformats.org/drawingml/2006/table">
            <a:tbl>
              <a:tblPr/>
              <a:tblGrid>
                <a:gridCol w="4973760"/>
                <a:gridCol w="3255840"/>
              </a:tblGrid>
              <a:tr h="758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оказател или основна стъпка за изпълнение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Етапна цел за 2018 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44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NewRomanPSMT"/>
                        </a:rPr>
                        <a:t>Сертифицирани сре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923 488 ев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жаване на годишното потребление на първична енергия от обществените сгр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140 348 kWh/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319040" y="333360"/>
            <a:ext cx="5977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дивидуални цели към юни 2018 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ontent Placeholder 2"/>
          <p:cNvSpPr/>
          <p:nvPr/>
        </p:nvSpPr>
        <p:spPr>
          <a:xfrm>
            <a:off x="-17640" y="1346040"/>
            <a:ext cx="910908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Индивидуална етапна цел за всеки бенефициент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(верифицирани средства от УО на ОПРР до края на юни 2018 г.) –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11,28% от размера на БФП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за всеки бенефициент въз основа на процента на етапната цел на ниво приоритетна ос 2 (сертифицирани средства към края на 2018 г.) към бюджета на приоритетна ос 2 (11,28%)</a:t>
            </a:r>
            <a:r>
              <a:rPr b="0" lang="bg-BG" sz="17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В случай че бенефициент не е постигнал индивидуалната си етапна цел на верифицираните от УО на ОПРР средства до 30 юни 2018 г.,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УО си запазва правото да ревизира определения общ ресурс на БФП (100%) за съответния бенефициент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 размера на предоставената до момента БФП по сключените договори с размера на средствата, които не са постигнати като верифицирани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"/>
          <p:cNvGraphicFramePr/>
          <p:nvPr/>
        </p:nvGraphicFramePr>
        <p:xfrm>
          <a:off x="303120" y="2565360"/>
          <a:ext cx="8661600" cy="939960"/>
        </p:xfrm>
        <a:graphic>
          <a:graphicData uri="http://schemas.openxmlformats.org/drawingml/2006/table">
            <a:tbl>
              <a:tblPr/>
              <a:tblGrid>
                <a:gridCol w="3451320"/>
                <a:gridCol w="3978360"/>
                <a:gridCol w="123192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ПО 2,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 ПО 2 - сертифицирани 2018 г.,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704 392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923 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311040" y="3573360"/>
          <a:ext cx="8653680" cy="936720"/>
        </p:xfrm>
        <a:graphic>
          <a:graphicData uri="http://schemas.openxmlformats.org/drawingml/2006/table">
            <a:tbl>
              <a:tblPr/>
              <a:tblGrid>
                <a:gridCol w="3443400"/>
                <a:gridCol w="3986280"/>
                <a:gridCol w="122400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Попово (БФП+резерв), л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на цел - верифицирани до 30 юни 2018 г., л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386 427,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97 188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1332000" y="333360"/>
            <a:ext cx="6188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Цел на процедура BG16RFOP001-2.001 „Енергийна ефективност в периферните район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0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360" y="1413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Цел на процедурата: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а се повиши енергийната ефективност на публичната инфраструктура и на жилищния сектор в опорните центрове от 4-то ниво на националната </a:t>
            </a:r>
            <a:r>
              <a:rPr b="1" i="1" lang="bg-BG" sz="1800" spc="-1" strike="noStrike">
                <a:solidFill>
                  <a:srgbClr val="ff0000"/>
                </a:solidFill>
                <a:latin typeface="Arial"/>
              </a:rPr>
              <a:t>полицентрична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специфични це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3524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ишаване на енергийната ефективност в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жилищния с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3524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ишаван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енергийната ефективност на </a:t>
            </a: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ествените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сгра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3524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ксимални прагов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ид проектни предложения за всеки бенефицие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3524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39640" y="4292640"/>
          <a:ext cx="8064720" cy="1546200"/>
        </p:xfrm>
        <a:graphic>
          <a:graphicData uri="http://schemas.openxmlformats.org/drawingml/2006/table">
            <a:tbl>
              <a:tblPr/>
              <a:tblGrid>
                <a:gridCol w="4753080"/>
                <a:gridCol w="3311640"/>
              </a:tblGrid>
              <a:tr h="736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ид проектни предложен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аг на БФП (100%) спрямо общия размер на БФП, определен за всеки бенефици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571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ргийна ефективност в </a:t>
                      </a: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жилищния секто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Макс.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ийна ефективност на </a:t>
                      </a:r>
                      <a:r>
                        <a:rPr b="1" lang="bg-BG" sz="1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бществени сград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Макс.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63327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опустими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артньори, обекти на интервенция, продължителност на проект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77" name="Diagram 9" descr=""/>
          <p:cNvPicPr/>
          <p:nvPr/>
        </p:nvPicPr>
        <p:blipFill>
          <a:blip r:embed="rId4"/>
          <a:stretch/>
        </p:blipFill>
        <p:spPr>
          <a:xfrm>
            <a:off x="176040" y="1395360"/>
            <a:ext cx="87919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Допустими дей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ontent Placeholder 2"/>
          <p:cNvSpPr/>
          <p:nvPr/>
        </p:nvSpPr>
        <p:spPr>
          <a:xfrm>
            <a:off x="-84240" y="1407960"/>
            <a:ext cx="907416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27612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зпълнение на ЕС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ито са предписани ка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ължителни в обследването за енергийна ефективно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ности по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нструктивно възстановяване/ усил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ито са предписани ка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ължителни в техническото обследване на сград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1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ъпътстващи СМ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вързани с изпълнението на Е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Р, които обхваща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монт и реконструкция на различни части на сградата (покрив, стени, стълбищни клетки и площадки, коридори, асансьори и д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, само ако с предложените мерки по проекта по ОПРР 2014-2020 сградата постигн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й-малко клас на енергопотребление „С“ и повече от 60% енергийни спестя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писаните СМР трябва да с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исани в техническото обслед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1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следвания за енергийна ефективност и технически обслед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1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обряване достъпа за лица с уврежда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сград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бекти на интервенция (1)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64880" y="14130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Допустимост на жилищни сгра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Еднофамилни жилищни сгради (масивни сгради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ектирани преди 26.04.199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Многофамилни жилищни сгради (масивни сгради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ектирани преди 26.04.199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Многофамилни жилищни сгради с не повече от 35 самостоятелни обекта с жилищно предназначение, строени по индустриален способ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 ЕПЖС (едропанелно жилищно строителство); ППП (пакетно-повдигани плочи); ЕПК (едроплощен кофраж); пълзящ кофраж и разновидностите им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 строителните граници на 28-те град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4-то йерархично ниво, които са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извън обхвата на Националната програма за енергийна ефективност на многофамилни жилищни сград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Viktoriya Nenkova</cp:lastModifiedBy>
  <cp:lastPrinted>2015-05-05T13:25:48Z</cp:lastPrinted>
  <dcterms:modified xsi:type="dcterms:W3CDTF">2015-09-18T08:35:21Z</dcterms:modified>
  <cp:revision>1409</cp:revision>
  <dc:subject/>
  <dc:title>Diapositiva 1</dc:title>
</cp:coreProperties>
</file>