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C0C4-6762-418A-8000-9B26EF343E5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4B50-0D69-4124-BC0B-4C2E8EE9CC1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ъответствие с Регламент (ЕС) № 1303/2013 г. е създаден резерв за изпълнение по Приоритетна ос 1 „Устойчиво и интегрирано градско развитие“. Общият индикативен размер на средствата и размера на резерва за изпълнение (6,21%). УО на ОПРР си запазва правото да ревизира общия бюджет на настоящата процедура за предоставяне на безвъзмездна финансова помощ и на предоставената безвъзмездна финансова помощ по сключените договори за БФП с размера на резерва за изпълнение в съответствие със степента на усвояемост на средствата по процедурата, в случай че не са постигнати етапни цели към края на 201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определяне на проектите, които да бъдат включени в инвестиционната програма, всеки конкретен бенефициент следва да се съобрази с минимални и максимални прагове на предоставяната БФП (100%) по някои групи дейности (инвестиционни приоритети), с оглед спазване на съотношението между размера на средствата на ниво Приоритетна ос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йностите по този инвестиционен приоритет са допустим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на цялата територия на 39-те града от 1-во, 2-ро и 3-то йерархично ниво, включително функционалните връзки със съседни населени места, които представляват част от системата на обществения градски транспорт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 са включени в интегрирания проект за устойчив градски транспорт. Проектите ще следва д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а отчитат функционирането на идентифицираните в ИПГВР зони за въздейств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но без да се ограничават териториално в рамките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ят бенефициент следва да представи убедителни доказателства за обществена подкрепа към проекта и към конкретното проектно решение, на база проведени публични обсъждания, кръгли маси, анкетни проучвания и др. При проекти  за градска среда (в частност междублокови пространства, граничещи с многофамилни жилищни сгради), следва да се осигури координация с мерките за енергийна ефективност в многофамилни жилищни сг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 предложения по група дейности „Градска среда“, в т.ч. за  рехабилитация и реконструкция на улични мрежи и тротоари, следва да бъдат придружени от Решение на съответния Общински съвет, че елементите на подземната техническа инфраструктура под обекта на интервенция са напълно изградени и/или реконструирани към момента на кандидатстване и не се предвижда планово изграждане или реконструкция на съществуващата подземна инфраструктура за период от 5 години след одобряване на искането за окончателно плащане или документ, с който бенефициентът се ангажира да осигури собствен ресурс или друг източник на финансиране за подземната инфраструктура, преди стартиране на СМР по ОПРР 2014-202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УО на ОПРР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насърчава прилагането на иновативни и съвременни архитектурно-пространствени, оригинални композиционни и дизайнерски  решения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(напр. интересни настилки, водни площи, елементи на градското обзавеждане, алпинеуми, ландшафтни тематични групи и кътове за отдих, растителни композиции с интересни растителни видове и висок художествено естетически вид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орът на обектите на интервенция, свързани с предоставянето на услуги в общността за възрастни и деца, следва да бъде предварително съгласуван с Министерство на труда и социалната политика с оглед гарантиране съгласуваност на политик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ектните предложения следва да са в съответствие с Националната стратегия на РБългария за интегриране на ромите 2012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763-AD21-4CB6-A9FD-5223C742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40C-4945-44D6-B72A-4E589B19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113-A29E-4435-8CA4-7F347FB6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AA8-E51B-4FF7-8F73-80E8B728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DDA8-383A-4B37-9B71-2A6CC6A8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E4B7-91C9-458A-8E05-FDB8A33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655E-F295-4283-8AE2-37FF047C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2036-CC7E-422D-8360-1AAAB49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035C-497A-4C5C-9F39-103F0311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F37F-11D8-41DA-BF0A-ACA7A5DA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23EA-08DE-43AD-BBAC-77CC1C4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FC0-F84A-4A23-9400-FFD2AEA8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318A-230F-44B5-8A14-335B64CA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0723-351F-4B9A-A14B-5C9BD3A5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D50C-E669-4B09-BA80-B244A5F3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CD39-4ADF-4D77-B7C9-6F900945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8A0A-DF34-4153-A5A8-D0660229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432A-0358-45C5-A0B9-88CCBEA6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E6CB-74E7-492A-AB2E-FFDDB7EB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AF57-9D53-407D-B30D-B3F1B3B8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8250-EA10-471C-AE3A-C53D1600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B3BE-DAA3-4B15-A906-11E492A9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01C-167B-4E0F-ABA2-EE4EC86D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94A8-B1C0-496C-9BFB-4CA5241D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C54B-E015-43EF-9BB0-0627CF3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43A01-7584-4513-BC78-F70265F0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77CF-1267-44C5-BE6D-2AD2566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08F4-4F46-4713-A835-5624C545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84AF-53A9-4D7B-9A4A-100BE687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3392-8893-4F96-8D71-5785B21B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D88-9B24-4728-896F-58529DC7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D09-E5B4-4B97-8133-95CF17E9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E13-A824-47E3-AA83-3EFE5F24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433-6ADD-4299-84BC-AF0A270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6EC-EF5F-4E44-8C58-FD39E139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48A-8CC8-461A-9F42-613933E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A828-5751-46B4-A002-6D756CF8B0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E20E-3F83-40B3-91EB-DE67C41E39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9D0C-9E28-40B4-843F-381110ECC30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270000" y="3860640"/>
            <a:ext cx="55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ИЗПЪЛНЕНИЕ НА ИНТЕГРИРАНИ ПЛАНОВЕ ЗА ГРАДСКО ВЪЗСТАНОВЯВАНЕ И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/проект на Насоки за кандидатстване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Щ РАЗМЕР НА ФИНАНСОВИТЕ СРЕДСТВА ПО ПРОЦЕДУРАТА ЗА Б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87480" y="1703520"/>
            <a:ext cx="89852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61920" y="1703520"/>
          <a:ext cx="8877240" cy="2141280"/>
        </p:xfrm>
        <a:graphic>
          <a:graphicData uri="http://schemas.openxmlformats.org/drawingml/2006/table">
            <a:tbl>
              <a:tblPr/>
              <a:tblGrid>
                <a:gridCol w="2108160"/>
                <a:gridCol w="2376360"/>
                <a:gridCol w="2297160"/>
                <a:gridCol w="209556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Бюджетна ли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бщ размер на финансовите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0% БФП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ъфинансиране от ЕФР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8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ционално съфинансиране (15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G16RFOP0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72 559 396,72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л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166 675 487,21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л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 883 909,51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л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1 778 476,00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6 511 704,60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 266 771,40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Box 3"/>
          <p:cNvSpPr/>
          <p:nvPr/>
        </p:nvSpPr>
        <p:spPr>
          <a:xfrm>
            <a:off x="108000" y="4149720"/>
            <a:ext cx="887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ите бенефициенти следва да осигуря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% задължителен собствен прин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 част от националното съфинансиране. Изискването не се прилага за проекти, които след приключване генерират нетни приходи, по смисъла на чл. 61 от Регламент (ЕС) № 1303/2013,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както и з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нтервенции в многофамилни жилищни сгр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РЕЗЕРВ ЗА ИЗПЪ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569880" y="1628640"/>
          <a:ext cx="8094600" cy="2178360"/>
        </p:xfrm>
        <a:graphic>
          <a:graphicData uri="http://schemas.openxmlformats.org/drawingml/2006/table">
            <a:tbl>
              <a:tblPr/>
              <a:tblGrid>
                <a:gridCol w="1685880"/>
                <a:gridCol w="1944720"/>
                <a:gridCol w="1871640"/>
                <a:gridCol w="2592360"/>
              </a:tblGrid>
              <a:tr h="10976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ерв за изпъ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 на резерва за изпълнение като процент от общата подкрепа от Съю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О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крепа от 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ФРР, ев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о участие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ев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 199 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369 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829 881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Box 6"/>
          <p:cNvSpPr/>
          <p:nvPr/>
        </p:nvSpPr>
        <p:spPr>
          <a:xfrm>
            <a:off x="270000" y="3933720"/>
            <a:ext cx="869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О на ОПРР си запазва право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 ревизира общия бюджет на процедурата за БФП и на предоставената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ключените договори за БФП с размера на резерва за изпълнение в съответствие със степента на усвояемост на средствата по процедура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който в тази връзка следва да бъде поет като собствен принос от страна на съответния конкретен бенефициен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случай че не са постигнати етапни цели към края на 2018 г. на ниво Приоритетна ос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ТАПНИ ЦЕЛИ ЗА 2018 Г. НА НИВО ПРИОРИТЕТНА О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87480" y="1703520"/>
            <a:ext cx="89852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179280" y="1413000"/>
          <a:ext cx="8893440" cy="4537080"/>
        </p:xfrm>
        <a:graphic>
          <a:graphicData uri="http://schemas.openxmlformats.org/drawingml/2006/table">
            <a:tbl>
              <a:tblPr/>
              <a:tblGrid>
                <a:gridCol w="6651720"/>
                <a:gridCol w="2241720"/>
              </a:tblGrid>
              <a:tr h="387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казател или основна стъпка за изпълнение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Етапна цел за 2018 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NewRomanPSMT"/>
                        </a:rPr>
                        <a:t>Сертифицирани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 352 614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ийна ефективност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жаване на годишното потребление на първична енергия от обществените сг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732 281 kWh/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жи за децата и образование: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пацитет на подпомогнатата инфраструктура, предназначена за грижи за децата или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395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дско развитие: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застроени площи, създадени или рехабилитирани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8 728 кв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дско развитие: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ествени или търговски сгради, построени или  обновени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060 кв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дско развитие: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хабилитирани жилища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 жилищ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еление, ползващо подобрени социални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570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tent Placeholder 2"/>
          <p:cNvSpPr/>
          <p:nvPr/>
        </p:nvSpPr>
        <p:spPr>
          <a:xfrm>
            <a:off x="0" y="1290600"/>
            <a:ext cx="910908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58120" indent="-2581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конкретен бенефициент (верифицирани средства от УО на ОПРР до края на юни 2018 г.) –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зчислява се като 20% от размера на БФП за всеки бенефициент въз основа на процента на етапната цел на ниво приоритетна ос 1 (сертифицирани средства към края на 2018 г.) към бюджета на приоритетната ос (20,63%)</a:t>
            </a:r>
            <a:r>
              <a:rPr b="0" lang="bg-BG" sz="17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 че конкретен бенефициент не е постигнал индивидуалната си етапна цел, УО на ОПРР си запазва правото да ревизира определения общ ресурс на БФП (100%) за съответния бенефициент и размера на предоставената БФП по сключените договори за БФП с размера на средствата, които не са постигнати като верифицирани от УО на ОПРР до този момент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и които в тази връзка следва да бъдат поети като собствен принос от страна на съответния бенефициен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303120" y="2637000"/>
          <a:ext cx="8661600" cy="669600"/>
        </p:xfrm>
        <a:graphic>
          <a:graphicData uri="http://schemas.openxmlformats.org/drawingml/2006/table">
            <a:tbl>
              <a:tblPr/>
              <a:tblGrid>
                <a:gridCol w="3451320"/>
                <a:gridCol w="3978360"/>
                <a:gridCol w="1231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ПО 1 (БФП+ФИ)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 ПО 1 сертифицирани 2018 г.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 352 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11040" y="3357720"/>
          <a:ext cx="8653680" cy="949320"/>
        </p:xfrm>
        <a:graphic>
          <a:graphicData uri="http://schemas.openxmlformats.org/drawingml/2006/table">
            <a:tbl>
              <a:tblPr/>
              <a:tblGrid>
                <a:gridCol w="3443400"/>
                <a:gridCol w="398628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Столична община  (БФП+резерв)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верифицирани юни 2018 г.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 375 23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675 04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предоставяне на БФП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tent Placeholder 2"/>
          <p:cNvSpPr/>
          <p:nvPr/>
        </p:nvSpPr>
        <p:spPr>
          <a:xfrm>
            <a:off x="66600" y="1341360"/>
            <a:ext cx="90061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дидатстването се извършва чрез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нвестиционна програма и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нвестиционна програма 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осрочен документ, чрез който бенефициентит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щ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ефинират приоритетните за финансиране проект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в съответствие с изискванията на чл. 7, параграф 4 от Регламент №1301/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ва общ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ханизъм за управление и реализация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кип за управлен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ъответствие с ИПГВР, описание и обосновка на интегрирания подход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ндикатори, план-график за изпълнени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др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в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сновни проекти и списък с резер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чрез 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размер на основните проекти -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 определения максимален ресурс на БФП за съответната инвестиционна програ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размер на списък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 резер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 50% от определения максимален ресурс на БФП за съответната инвестиционна прогр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предоставяне на БФП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ontent Placeholder 2"/>
          <p:cNvSpPr/>
          <p:nvPr/>
        </p:nvSpPr>
        <p:spPr>
          <a:xfrm>
            <a:off x="108000" y="141300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имални и максимални прагове на предоставяната БФП (100%)  по  групи дейност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539640" y="2133720"/>
          <a:ext cx="8280360" cy="3671640"/>
        </p:xfrm>
        <a:graphic>
          <a:graphicData uri="http://schemas.openxmlformats.org/drawingml/2006/table">
            <a:tbl>
              <a:tblPr/>
              <a:tblGrid>
                <a:gridCol w="5256360"/>
                <a:gridCol w="3024000"/>
              </a:tblGrid>
              <a:tr h="861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вестиционни приорите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аг на БФП (100%)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6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Енерг. eф-ст в админ. и жилищни сгради и студентски общеж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ногофамилни жилищни сгр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0% от сумата по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Градска 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Градска сред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 Образовате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Социа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44280" rIns="44280" tIns="0" bIns="0" anchor="b">
                      <a:noAutofit/>
                    </a:bodyPr>
                    <a:p>
                      <a:pPr marL="355680" indent="-3816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Социална инфраструктур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РИТЕРИИ ЗА ОЦЕНКА НА ИНВЕСТИЦИОНН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0" y="1290600"/>
            <a:ext cx="9072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ъответствие на инвестиционната програма с одобрения ИПГВР за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пазване на изискванията по чл. 7 от Регламент 1301/2013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игане н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инергичен ефек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онцентрация на ресурс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цесът на подбор на проектит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е извършен в съответствие с Процедурата за избор на проекти съгласно Насоките за кандидатстван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пазени с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минималните и максимални прагове на предоставената БФП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(100%) по някои групи дейности (инвестиционни приоритети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Общата стойност на проектите за подобряване н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функционалните връзки извън зоните за въздействие не надвишава 20%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от ресурса на БФП (100%), определен за конкретния бенефициент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ектните предложения с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одобрени от Междинното звено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ценка на административния, технически и финансов капацитет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бенефициент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изпълнение и управление на инвестиционната програма и делегираните функции за избор на операц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остигане на резултати и индикатор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– заложените междинни стойности на индикаторите са съобразени с план-графика за изпълнение на инвестиционната програма и одобрените от Междинното звено проектни предлож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РИТЕРИИ ЗА ОЦЕНКА НА ПРОЕКТНИ ПРЕДЛОЖЕ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ontent Placeholder 2"/>
          <p:cNvSpPr/>
          <p:nvPr/>
        </p:nvSpPr>
        <p:spPr>
          <a:xfrm>
            <a:off x="179280" y="155736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ключени са критерии з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ценка на административно съответствие, допустимост и качество на проектното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ритериите са разпределени по инвестиционни приорит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бщи критери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сички инвестиционни приоритети и групи дей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зване на указанията за електронно кандидатстване ИСУН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комплектованост и пълнота на техническата 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пустимост на дейностите/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стойчивост на предложената инвестиц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изическа незавършеност на инвестиц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Специфични критер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секи отделен инвестиционен приоритет и групи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ритериите за оценка на проектните предложения предстои да бъдат одобрени от Комитета за наблюдение на ОПРР 2014-2020 г. –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юни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РИТЕРИИ ЗА ОЦЕНКА НА ПРОЕКТНИТЕ ПРЕДЛОЖЕНИЕ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108000" y="1290600"/>
            <a:ext cx="8964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ПО-ВАЖНИ ОБЩИ КРИТЕРИИ ЗА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й на обекти с разработени инвестиционни проекти по схема BG161PO001/5-02/2012 „В подкрепа за следващия програмен период” – представя с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приетата от УО на ОПРР 2007-2013 г. техническа докум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ено е Решение на Общинския съвет, с което се гарантира, че за предложения проект е осигурена неговата устойчивост и ч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ъответната образователна/ социална/културна/ институция няма да бъде закрита за период, не по-малък от 5 години след крайното плащане към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ено е Решение на Общинския съвет, с което се декларира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че елементите на подземната техническа инфраструктура под обекта на интервенция са напълно изградени и/или реконструирани към момент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ът допринася за постигане на една или повече от приоритетните области, заложени в Плана за действие към Дунавската стратегия –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ов крите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Енергийна ефективност в административни и жилищ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ontent Placeholder 2"/>
          <p:cNvSpPr/>
          <p:nvPr/>
        </p:nvSpPr>
        <p:spPr>
          <a:xfrm>
            <a:off x="108000" y="1290600"/>
            <a:ext cx="8964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0360" indent="-1803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дряване на мерки за енергийна ефективност, вкл. конструктивно укрепване и подобряване достъпа на хора с увреждания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Ще се финансир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кономически най-ефективният паке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от енергоспестяващи мерки за сградата, с който се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остига клас на енергопотребление „С“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Цялостно обновяване на сградит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в съответствие с допустимите дейности - единствено ако мерките за цялостно обновяване са предписани в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обследването за енергийна ефективност и би довело до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остигане на 60% енергийни спестявания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Жилищни сгради и студентски общежит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- допустими и извън зоните за въздействие, но в рамките на строителните граници на 39-те град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тудентски общежит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реализират само чрез комбинирано финансиране чрез БФП и финансови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менти, създадени по линия на ОПРР 2014-2020 г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тервенции върху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многофамилни жилищни сград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- едно общо проектно предложение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без да се посочват определените сград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тервенции върху административни сгради държавна собственост - кандидатстване в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артньорство със съответната държавна институ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417680" y="33804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цедура по делегиране на функции на Междинните зв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37960" y="1557360"/>
            <a:ext cx="8244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от МС за даване на мандат на РУО да делегира функциите по оценка и избор на Междинни звена по Приоритетна ос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97000" y="2455920"/>
            <a:ext cx="8245440" cy="287280"/>
          </a:xfrm>
          <a:prstGeom prst="rect">
            <a:avLst/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добрение на критерии за избор на проекти от Комитет за наблю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18960" y="3171960"/>
            <a:ext cx="8223480" cy="287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ключване на Споразумението между УО и Междинното зв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26"/>
          <p:cNvSpPr/>
          <p:nvPr/>
        </p:nvSpPr>
        <p:spPr>
          <a:xfrm>
            <a:off x="3897360" y="2060640"/>
            <a:ext cx="485640" cy="39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33"/>
          <p:cNvSpPr/>
          <p:nvPr/>
        </p:nvSpPr>
        <p:spPr>
          <a:xfrm>
            <a:off x="3921120" y="2774880"/>
            <a:ext cx="484200" cy="397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4"/>
          <p:cNvSpPr/>
          <p:nvPr/>
        </p:nvSpPr>
        <p:spPr>
          <a:xfrm>
            <a:off x="3505320" y="3753000"/>
            <a:ext cx="1708200" cy="720720"/>
          </a:xfrm>
          <a:prstGeom prst="ellipse">
            <a:avLst/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бщ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1139760" y="4076640"/>
            <a:ext cx="1656000" cy="647640"/>
          </a:xfrm>
          <a:prstGeom prst="rect">
            <a:avLst/>
          </a:prstGeom>
          <a:solidFill>
            <a:srgbClr val="e1eab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Конкретен бенефици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039000" y="4113360"/>
            <a:ext cx="1668240" cy="647640"/>
          </a:xfrm>
          <a:prstGeom prst="rect">
            <a:avLst/>
          </a:prstGeom>
          <a:solidFill>
            <a:srgbClr val="f1d1ad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Междинно зв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2795760" y="5157720"/>
            <a:ext cx="2900160" cy="722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Разделение на функциите в Инвестиционната програм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931840" y="4622760"/>
            <a:ext cx="275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0000"/>
                </a:solidFill>
                <a:latin typeface="Arial"/>
              </a:rPr>
              <a:t>Потенциален конфликт на интере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39"/>
          <p:cNvCxnSpPr>
            <a:endCxn id="153" idx="3"/>
          </p:cNvCxnSpPr>
          <p:nvPr/>
        </p:nvCxnSpPr>
        <p:spPr>
          <a:xfrm flipH="1">
            <a:off x="2795040" y="4105440"/>
            <a:ext cx="710280" cy="295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Straight Arrow Connector 41"/>
          <p:cNvCxnSpPr>
            <a:endCxn id="154" idx="1"/>
          </p:cNvCxnSpPr>
          <p:nvPr/>
        </p:nvCxnSpPr>
        <p:spPr>
          <a:xfrm>
            <a:off x="5213160" y="4105080"/>
            <a:ext cx="826200" cy="332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44"/>
          <p:cNvCxnSpPr>
            <a:stCxn id="153" idx="2"/>
            <a:endCxn id="155" idx="0"/>
          </p:cNvCxnSpPr>
          <p:nvPr/>
        </p:nvCxnSpPr>
        <p:spPr>
          <a:xfrm>
            <a:off x="1968480" y="4724280"/>
            <a:ext cx="2278800" cy="434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Straight Arrow Connector 48"/>
          <p:cNvCxnSpPr>
            <a:stCxn id="154" idx="2"/>
            <a:endCxn id="155" idx="0"/>
          </p:cNvCxnSpPr>
          <p:nvPr/>
        </p:nvCxnSpPr>
        <p:spPr>
          <a:xfrm flipH="1">
            <a:off x="4246560" y="4761000"/>
            <a:ext cx="2627640" cy="397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Интегриран градски транспор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иложен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робно прединвестиционно проучване за цялата система на градския транспор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отговарящо по обхват и съдържание на условията в Насоките за кандидатства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ектът е разработен на основата на интегриран подх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ът е в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съответствие с актуална транспортно-комуникационна схема на целевата територ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.ч и Планове за устойчива градска мобилност, ако са налич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роек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е в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съотве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твие с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общинск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програми за опазване на околната среда, и в частност - </a:t>
            </a:r>
            <a:r>
              <a:rPr b="0" lang="en-GB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инските програми за намаляване на замърсителите и достигане на установените норми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за общините, за които такива програми се изпълняват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тервенции върху активи, собственост на общинска компания за интегриран градски транспорт -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кандидатстване в партньорство с общинския превозвач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Рехабилитация/реконструкция на улични мрежи -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амо при доказана обвързаност със съществуващи/ планирани маршрути на обществения градски транспор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можност за използване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финансови инструмент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 финансиране на отделни компоненти или цялостни решения от проектит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Градска среда (1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108000" y="141300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рупа дейности: Градска с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устими във всички зони за въздействие, включени в ИПГВ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лични мрежи, обществени паркинги, междублокови пространств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дължително следва да се докаже интегриран характер на инвестициите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са допустими интервенции върху улична/градска ВиК мре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е допустимо извършване на текущ ремонт на улична мр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едимство - проекти, които насърчават прилагането на иновативни и съвременни архитектурно-пространствени, оригинални композиционни и дизайнерски 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Градска среда (2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79280" y="1413000"/>
            <a:ext cx="8893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рупа дейности: Зони с потенциал за икономическо развитие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пуска се финансиране на проекти 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звън зоните с потенциал за икономическо развити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включени в ИПГВР)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 рамките на общинската територи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в рамките на 20-те % от гъвкавостта по отношение на проекти за осигуряване на функционални връ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финансира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т само при доказан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реален инвеститорски интерес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към съответната зона и следва д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бъдат придружени от писмо за подкрепа от компания-инвестито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основка за необходимостта и целесъобразността от предложените интервенциите в зоната, които могат да бъдат финансирани по настоящата процед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Социална инфраструкту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ontent Placeholder 2"/>
          <p:cNvSpPr/>
          <p:nvPr/>
        </p:nvSpPr>
        <p:spPr>
          <a:xfrm>
            <a:off x="0" y="1290600"/>
            <a:ext cx="89647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Група дейности: Социал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зборът на обектите на интервенция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  <a:ea typeface="Times New Roman"/>
              </a:rPr>
              <a:t>- предварително съгласуван с МТСП с оглед гарантиране съгласуваност на политикит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d0d0d"/>
                </a:solidFill>
                <a:latin typeface="Arial"/>
                <a:ea typeface="Times New Roman"/>
              </a:rPr>
              <a:t>Представяне на писмо от ОП„Развитие на човешките ресурси“ 2014-2020 г. или друга финансираща програма, в което се декларира, че з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оциалната услуга е/ще бъде осигурено финансиран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d0d0d"/>
                </a:solidFill>
                <a:latin typeface="Arial"/>
                <a:ea typeface="Times New Roman"/>
              </a:rPr>
              <a:t>При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дентифицани проекти за социални жилища в одобрения ИПГВР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  <a:ea typeface="Times New Roman"/>
              </a:rPr>
              <a:t>- да се кандидатства поне с един от тя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ени с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азателства за обществена подкрепа за проект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сочени към изграждането на социални жилища и социален толеранс, на база проведени публични обсъждания, кампании, кръгли маси и др., преди одобрение на инфраструктурния проек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Група дейности: Култур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Дейностите ще се реализират чрез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комбинирано финансиране между БФП и финансови инструмент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създадени по линия на ОПРР 2014-2020 г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 обекти държавна собственост, в управление на МК –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партньорство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 М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Образователна инфраструкту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179280" y="1484280"/>
            <a:ext cx="87854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Ново строителство на детски ясли и градин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пустимо за всички град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устими - учебни зали, библиотеки, лаборатории, спортни съоръжения, учебни корпуси, общежития, интернет връзки), включително прилежащото околно пространство и общеж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имство на проекти с най-висок потенциал за постигане на социално включване и постигане на целта за подобряване на условията за предоставяне на модерни образователни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Социална/Културна/Образователна инфраструкту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2"/>
          <p:cNvSpPr/>
          <p:nvPr/>
        </p:nvSpPr>
        <p:spPr>
          <a:xfrm>
            <a:off x="0" y="1290600"/>
            <a:ext cx="9072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 u="sng">
                <a:solidFill>
                  <a:srgbClr val="ff0000"/>
                </a:solidFill>
                <a:uFillTx/>
                <a:latin typeface="Arial"/>
              </a:rPr>
              <a:t>Общо за социална/ културна/ образовател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Финансиране на проекти и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извън зоните за въздействи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в рамките на общинската територия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в рамките на 20-те % от гъвкавостт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о отношение на проекти за осигуряване на функционални връз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сички проекти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следва да включват </a:t>
            </a:r>
            <a:r>
              <a:rPr b="0" lang="en-GB" sz="1700" spc="-1" strike="noStrike">
                <a:solidFill>
                  <a:srgbClr val="ff0000"/>
                </a:solidFill>
                <a:latin typeface="Arial"/>
              </a:rPr>
              <a:t>цялостна реконструкция на съответните сгради и прилежащите дворни пространства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кономически най-ефективният пакет от енергоспестяващи мерки за сградата, с който се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постига минимум клас на енергопотребление „С“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Оборудване и обзавеждане 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 водят до подобряване качеството на съответната услуга и да са част от цялостната модернизация на съответната институ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Декларация от ръководството на съответната институция 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ъгласие с предложения проект и проектно решение, и съдействие за реализиране на проекта, вкл. за гарантиране на устойчивостта на инвестициите и опазване на обек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Решение на Общинския съвет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съответната образователна/социална/културна институция няма да бъде закривана за период, не по-малък от 5 години от крайното плащане към бенефициен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НВЕСТИЦИОНН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ontent Placeholder 2"/>
          <p:cNvSpPr/>
          <p:nvPr/>
        </p:nvSpPr>
        <p:spPr>
          <a:xfrm>
            <a:off x="179280" y="1413000"/>
            <a:ext cx="8785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з 2018 г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О на ОПРР ще направ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ценка на изпълнението на инвестиционните програм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на Приоритетната ос като цяло, и може д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преразпредели наличния ресурс от по-неактивните към по-активните бенефициенти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изменения в законодателството, социално икономическата среда, изменения в ОПРР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добрените инвестиционни програми могат да бъдат актуализирани, в т.ч. и списъците с резервни проекти, 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през 201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2022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 г.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Всяка актуализация на инвестиционната програм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 извършва в съответствие с процедурата на изготвяне на инвестиционна програма и следва да бъд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добрена от УО на ОПРР 2014-20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1042920" y="1844640"/>
            <a:ext cx="7274160" cy="37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местник-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министър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Гр.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08.05.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566720" y="189000"/>
            <a:ext cx="5708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ект на Споразумение за делегиране между УО и Междинните звена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317520" y="1413000"/>
            <a:ext cx="8647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899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УО възлаг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ценка и избор на проек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л.7 от Регламент 1301/2013 и чл.1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от Регламент 1303/20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Разработване н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Инвестиционн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Изборът на проекти е в съответствие с общинска градска стратегия (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Инвестиционна програма + ИПГВР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4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МЗ гарантир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разделение на функци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5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УО одобрява Инвестиционната програма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съответствие с конкретни критерии и ИПГВР, в т.ч наличие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правленска структура, административен и технически капацитет за изпълнен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6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МЗ документира процедурите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збор и оценка на проек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7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Решение за БФП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е издава от УО на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566720" y="189000"/>
            <a:ext cx="5708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ект на Споразумение за делегиране между УО и Междинните звен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95280" y="1484280"/>
            <a:ext cx="85694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8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УО може да извършв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кончателни проверки за допустимост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9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 Общ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стойност на проектит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10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Оценка на изпълнението и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преразпределение на ресурс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ежду общин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При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епостигане на индивидуална етапна цел към м. юни 2018 г.,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УО ревизира общата стойност и размера на предоставената БФ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2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При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епостигане на етапните цели на ПО 1 към края на 2018 г.,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УО ревизира общата стойност и размера на предоставената БФ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3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МЗ действ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т името на и в полза на УО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4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бщината носи цялата отговорност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пред УО за изпълнение на делегираните функции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и поема финансови корекц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ЦЕДУРА ЗА ИЗГОТВЯНЕ НА ИНВЕСТИЦИОННА ПРОГРАМА И ОЦЕНКА НА ПРОЕКТИ (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2"/>
          <p:cNvSpPr/>
          <p:nvPr/>
        </p:nvSpPr>
        <p:spPr>
          <a:xfrm>
            <a:off x="-57240" y="1413000"/>
            <a:ext cx="91299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1"/>
          <p:cNvSpPr/>
          <p:nvPr/>
        </p:nvSpPr>
        <p:spPr>
          <a:xfrm>
            <a:off x="270000" y="1413000"/>
            <a:ext cx="37256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Общината определя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вено А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за избор на проекти и подготовка на инвестиционна програма и проектни предложения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вено Б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з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оценка на проектни предложения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270000" y="3357720"/>
            <a:ext cx="372564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В резултат на дейността си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Работната група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изготвя доклад до кмета на общината, в който посочва списък с приоритетни обекти и списък с резервни обек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2355840" y="5013360"/>
            <a:ext cx="5164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вено А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подава ИП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и проектни предложения в един от посочените в Насоките за кандидатстване срокове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кр.на месец август, септември и ноември 2015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6"/>
          <p:cNvCxnSpPr/>
          <p:nvPr/>
        </p:nvCxnSpPr>
        <p:spPr>
          <a:xfrm>
            <a:off x="4100400" y="2356920"/>
            <a:ext cx="2628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Straight Arrow Connector 17"/>
          <p:cNvCxnSpPr/>
          <p:nvPr/>
        </p:nvCxnSpPr>
        <p:spPr>
          <a:xfrm flipV="1">
            <a:off x="8264520" y="2141280"/>
            <a:ext cx="411840" cy="18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Straight Arrow Connector 18"/>
          <p:cNvCxnSpPr/>
          <p:nvPr/>
        </p:nvCxnSpPr>
        <p:spPr>
          <a:xfrm>
            <a:off x="3995280" y="3844440"/>
            <a:ext cx="2894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19"/>
          <p:cNvCxnSpPr/>
          <p:nvPr/>
        </p:nvCxnSpPr>
        <p:spPr>
          <a:xfrm>
            <a:off x="4571640" y="4719240"/>
            <a:ext cx="1080" cy="276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 Box 12"/>
          <p:cNvSpPr/>
          <p:nvPr/>
        </p:nvSpPr>
        <p:spPr>
          <a:xfrm flipH="1">
            <a:off x="4594320" y="3357720"/>
            <a:ext cx="422568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След одобрение на доклада, кметът дава мандат на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вено А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да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подготви инвестиционна програма (ИП) и проекти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23760" y="38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 flipH="1">
            <a:off x="4500720" y="1413000"/>
            <a:ext cx="446400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Със заповед на кмета на общината се създава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Работна група за избор на обекти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, която ги приоритизира по определени от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УО на ОПРР критерии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ботната група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включва представители на Звено А, организации от неправителствения сектор и др.заинтересовани стр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ЦЕДУРА ЗА ИЗГОТВЯНЕ НА ИНВЕСТИЦИОННА ПРОГРАМА И ОЦЕНКА НА ПРОЕКТИ (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0" y="1398600"/>
            <a:ext cx="907272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79280" y="1557360"/>
            <a:ext cx="3888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Звено Б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 сформира комисия за оценка на проекти (КОП), в която може да привлече и външни експерти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5364000" y="1557360"/>
            <a:ext cx="309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Паралелно УО на ОПРР извършва оценка на ИП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и изчаква одобрението на проектите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Straight Arrow Connector 23"/>
          <p:cNvCxnSpPr/>
          <p:nvPr/>
        </p:nvCxnSpPr>
        <p:spPr>
          <a:xfrm>
            <a:off x="2050560" y="2703600"/>
            <a:ext cx="1080" cy="280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Text Box 2"/>
          <p:cNvSpPr/>
          <p:nvPr/>
        </p:nvSpPr>
        <p:spPr>
          <a:xfrm>
            <a:off x="179280" y="2492280"/>
            <a:ext cx="3888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КОП извършва оценка на проектните предложения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 и излиза с доклад, включващ списък с одобрени проекти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79280" y="3573360"/>
            <a:ext cx="3888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Кметът на общината издава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решение за одобрение на проекти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, което изпраща до УО на ОПРР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79280" y="4437000"/>
            <a:ext cx="3888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След получаване на решението за одобрение на проектните предложения,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УО на ОПРР финализира оценката на ИП и издава решение за одобряване на ИП, сключване на споразумение и сключване на договори за БФП за одобрените проек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42"/>
          <p:cNvCxnSpPr/>
          <p:nvPr/>
        </p:nvCxnSpPr>
        <p:spPr>
          <a:xfrm flipH="1">
            <a:off x="4788000" y="2139480"/>
            <a:ext cx="5763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8"/>
          <p:cNvCxnSpPr/>
          <p:nvPr/>
        </p:nvCxnSpPr>
        <p:spPr>
          <a:xfrm>
            <a:off x="4800240" y="2123640"/>
            <a:ext cx="1080" cy="3142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54"/>
          <p:cNvCxnSpPr/>
          <p:nvPr/>
        </p:nvCxnSpPr>
        <p:spPr>
          <a:xfrm flipH="1" flipV="1">
            <a:off x="4066920" y="5265000"/>
            <a:ext cx="7214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 Box 2"/>
          <p:cNvSpPr/>
          <p:nvPr/>
        </p:nvSpPr>
        <p:spPr>
          <a:xfrm>
            <a:off x="5364000" y="3168720"/>
            <a:ext cx="3095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УО на ОПРР сключва споразумение и договори за БФП с бенефициента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76"/>
          <p:cNvCxnSpPr/>
          <p:nvPr/>
        </p:nvCxnSpPr>
        <p:spPr>
          <a:xfrm flipH="1">
            <a:off x="7092360" y="2703600"/>
            <a:ext cx="1080" cy="465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ПГВР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2970360" y="1628640"/>
            <a:ext cx="269064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зменение на ИПГВР – 2015 г., 2019 г. и/или 202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6012000" y="1628640"/>
            <a:ext cx="2592360" cy="592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MS Minngs"/>
              </a:rPr>
              <a:t>Аргументирана обосн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 rot="10800000">
            <a:off x="5683320" y="179028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301680" y="1628640"/>
            <a:ext cx="2232000" cy="592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роверка от УО на ОП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2611440" y="179532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0"/>
          <p:cNvSpPr/>
          <p:nvPr/>
        </p:nvSpPr>
        <p:spPr>
          <a:xfrm>
            <a:off x="353880" y="2529000"/>
            <a:ext cx="2186280" cy="11649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грами в зон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 въз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0"/>
          <p:cNvSpPr/>
          <p:nvPr/>
        </p:nvSpPr>
        <p:spPr>
          <a:xfrm>
            <a:off x="6026040" y="2479680"/>
            <a:ext cx="2578320" cy="210168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Функционални връ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6"/>
          <p:cNvCxnSpPr>
            <a:stCxn id="231" idx="2"/>
            <a:endCxn id="236" idx="7"/>
          </p:cNvCxnSpPr>
          <p:nvPr/>
        </p:nvCxnSpPr>
        <p:spPr>
          <a:xfrm flipH="1">
            <a:off x="2219040" y="2220840"/>
            <a:ext cx="2097360" cy="480240"/>
          </a:xfrm>
          <a:prstGeom prst="straightConnector1">
            <a:avLst/>
          </a:prstGeom>
          <a:ln w="1260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39" name="Straight Arrow Connector 11"/>
          <p:cNvCxnSpPr>
            <a:stCxn id="231" idx="2"/>
            <a:endCxn id="237" idx="1"/>
          </p:cNvCxnSpPr>
          <p:nvPr/>
        </p:nvCxnSpPr>
        <p:spPr>
          <a:xfrm>
            <a:off x="4316040" y="2220840"/>
            <a:ext cx="2088360" cy="567360"/>
          </a:xfrm>
          <a:prstGeom prst="straightConnector1">
            <a:avLst/>
          </a:prstGeom>
          <a:ln w="1260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40" name="Rectangle 17"/>
          <p:cNvSpPr/>
          <p:nvPr/>
        </p:nvSpPr>
        <p:spPr>
          <a:xfrm>
            <a:off x="2738520" y="2692440"/>
            <a:ext cx="3084480" cy="29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опустим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3086280" y="3432240"/>
            <a:ext cx="2468520" cy="295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ублични обсъж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70000" y="4027320"/>
            <a:ext cx="2468520" cy="6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опълнение на одобрена матрица бюджет и програма за ре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086280" y="4017960"/>
            <a:ext cx="2469960" cy="295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риемане от Общински съ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3086280" y="5195880"/>
            <a:ext cx="24685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звършване на ЕО и ОС ако е преценено за необход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 rot="16200000">
            <a:off x="4153680" y="2307600"/>
            <a:ext cx="27792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3086280" y="4548240"/>
            <a:ext cx="24699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Разработване/изменение на програмит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за ре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ПГВР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ight Arrow Callout 25"/>
          <p:cNvSpPr/>
          <p:nvPr/>
        </p:nvSpPr>
        <p:spPr>
          <a:xfrm>
            <a:off x="380880" y="1467000"/>
            <a:ext cx="2922840" cy="4282920"/>
          </a:xfrm>
          <a:prstGeom prst="rightArrowCallout">
            <a:avLst>
              <a:gd name="adj1" fmla="val 24994"/>
              <a:gd name="adj2" fmla="val 24992"/>
              <a:gd name="adj3" fmla="val 25000"/>
              <a:gd name="adj4" fmla="val 64977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крепа на осъществяване на функционални връ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3086280" y="1490760"/>
            <a:ext cx="4510080" cy="65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пълване на нов образец на матрица бюджет и програма за ре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3419640" y="2492280"/>
            <a:ext cx="3985920" cy="29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ритерии за избор на прое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3722760" y="3284640"/>
            <a:ext cx="3703680" cy="231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В рамките на общинската тери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инос за функционалните връ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ъответствие с общинските планове за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ъответствие с допустимите дейности за подкре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бщ финансов ресурс – максимум 20 % от ИПГВ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rot="5400000">
            <a:off x="5163120" y="2883600"/>
            <a:ext cx="405000" cy="342720"/>
          </a:xfrm>
          <a:prstGeom prst="rightArrow">
            <a:avLst>
              <a:gd name="adj1" fmla="val 50000"/>
              <a:gd name="adj2" fmla="val 250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Цел на процедура за БФП „Изпълнение на ИПГВР“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144360" y="1413000"/>
            <a:ext cx="882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одкрепи реализацията на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нтегрираните планове за градско възстановяване и развитие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сочени към устойчиво и трайно преодоляване на високата концентрация на икономически, природни и социални проблеми в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9 града от 1-во, 2-ро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 3-то йерархично ниво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съответствие с Националната концепция за пространствено развитие на България за периода 2013-202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та за БФП се реализира в рамките на Приоритетна ос 1 „Устойчиво и интегрирано градско развитие” на ОПРР 2014-20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някои случаи, в зависимост от спецификата на проектите и сферата на интервенции, ще с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зисква комбиниране на подкрепа чрез БФП и финансови инструмен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създадени по линия на ОПРР 2014-2020 г., като по този начин се цели реализирането на проектите в пълн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5-05T13:25:48Z</cp:lastPrinted>
  <dcterms:modified xsi:type="dcterms:W3CDTF">2015-05-08T05:56:37Z</dcterms:modified>
  <cp:revision>1181</cp:revision>
  <dc:subject/>
  <dc:title>Diapositiva 1</dc:title>
</cp:coreProperties>
</file>