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0ACC-9D37-4FCB-9F0F-E6B36016D46B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5FC9-E042-4E0B-9B29-641F5A9D469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съответствие с Регламент (ЕС) № 1303/2013 г. е създаден резерв за изпълнение по Приоритетна ос 1 „Устойчиво и интегрирано градско развитие“. Общият индикативен размер на средствата и размера на резерва за изпълнение (6,21%). УО на ОПРР си запазва правото да ревизира общия бюджет на настоящата процедура за предоставяне на безвъзмездна финансова помощ и на предоставената безвъзмездна финансова помощ по сключените договори за БФП с размера на резерва за изпълнение в съответствие със степента на усвояемост на средствата по процедурата, в случай че не са постигнати етапни цели към края на 201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3 - Приоритетни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определяне на проектите, които да бъдат включени в инвестиционната програма, всеки конкретен бенефициент следва да се съобрази с минимални и максимални прагове на предоставяната БФП (100%) по някои групи дейности (инвестиционни приоритети), с оглед спазване на съотношението между размера на средствата на ниво Приоритетна ос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венции върху административни сгради на общинската и държавната администрация са допустими за финансиране в рамките на зоните за въздействие на ИПГВР, на 39-те града, одобрен от УО на ОПР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ции върху многофамилни жилищни сгради и студентски общежития са допустими извън зоните за въздействие, но в рамките на строителните граници на 39-те гра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те предложения следва да включват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енергоспестяващи мерки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едписани в обследването за енергийна ефективност, в т.ч. мерки за оползотворяване на възобновяеми енергийни източници (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а техническа осъществимост и икономическа целесъобразнос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ито водят до съответствие на сградат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нормативните изисквания за енергийна ефективност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най-малко клас на енергопотребление „С“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ат пряк екологичен е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тношение студентски общежития, интервенции са допустими само върху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удентски общежития, обслужващи държавни висши учебни заведения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 интервенции върху студентски общежития, конкретният бенефициент следва да кандидатства в партньорство със съответното държавно висше учебно заведение или юридическото лице, което управлява студентското общежитие, като се представ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артньорско споразум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в свободен текст между стра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върху студенски общежития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 чрез комбинирано финансиране чрез БФП и финансови инструменти, създадени по линия на ОПРР 2014-2020 г.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Финансирането ще се осъществява с водещата роля на организацията, изпълняваща финансови инструменти (фонд), избрани от Фонд на фондовете, създаден към министъра на финансите, и по ред и при условия, различни от тези за финансиране на проекти с БФП. Фондът ще има ангажимент да определи както подкрепата по линия на финансовия инструмент, така и необходимия размер на БФ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и интервенции върху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нкретният бенефициент следва да подаде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едно общо проектно предложен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ключени всички предвидени сгради. Допустими са интервенции      върху следните видове многофамилни жилищни сград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(масивни сгради), проектирани преди 26 април 1999 г. в 39-те града от 1-во до 3-то йерархично ниво, които са извън обхвата на Националната програма за енергийна ефективност на многофамилни жилищни сгра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гофамилни жилищни сгради до 36 самостоятелни обекта с жилищно предназначение, строени по индустриален способ: ЕПЖС (едропанелно жилищно строителство); ППП (пакетно-повдигани плочи); ЕПК (едроплощен кофраж); пълзящ кофраж и разновидностите им в 39-те града от 1-во до 3-то йерархично ниво, които са извън обхвата на Националната програма за енергийна ефективност на многофамилни жилищни сг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йностите по този инвестиционен приоритет са допустими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на цялата територия на 39-те града от 1-во, 2-ро и 3-то йерархично ниво, включително функционалните връзки със съседни населени места, които представляват част от системата на обществения градски транспорт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 са включени в интегрирания проект за устойчив градски транспорт. Проектите ще следва д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а отчитат функционирането на идентифицираните в ИПГВР зони за въздейств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, но без да се ограничават териториално в рамките 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ретният бенефициент следва да представи убедителни доказателства за обществена подкрепа към проекта и към конкретното проектно решение, на база проведени публични обсъждания, кръгли маси, анкетни проучвания и др. При проекти  за градска среда (в частност междублокови пространства, граничещи с многофамилни жилищни сгради), следва да се осигури координация с мерките за енергийна ефективност в многофамилни жилищни сг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ни предложения по група дейности „Градска среда“, в т.ч. за  рехабилитация и реконструкция на улични мрежи и тротоари, следва да бъдат придружени от Решение на съответния Общински съвет, че елементите на подземната техническа инфраструктура под обекта на интервенция са напълно изградени и/или реконструирани към момента на кандидатстване и не се предвижда планово изграждане или реконструкция на съществуващата подземна инфраструктура за период от 5 години след одобряване на искането за окончателно плащане или документ, с който бенефициентът се ангажира да осигури собствен ресурс или друг източник на финансиране за подземната инфраструктура, преди стартиране на СМР по ОПРР 2014-202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УО на ОПРР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насърчава прилагането на иновативни и съвременни архитектурно-пространствени, оригинални композиционни и дизайнерски  решения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(напр. интересни настилки, водни площи, елементи на градското обзавеждане, алпинеуми, ландшафтни тематични групи и кътове за отдих, растителни композиции с интересни растителни видове и висок художествено естетически вид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орът на обектите на интервенция, свързани с предоставянето на услуги в общността за възрастни и деца, следва да бъде предварително съгласуван с Министерство на труда и социалната политика с оглед гарантиране съгласуваност на политик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п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роектните предложения следва да са в съответствие с Националната стратегия на РБългария за интегриране на ромите 2012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- Приоритетни  ос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енции по група дейности „Зони с потенциал за икономическо развитие“ ще се реализират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зоните с потенциал за икономическо развитие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включени в ИПГВР, одобрен от УО на ОПРР. Допуска се финансиране на проект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н зоните за въздействие на ИПГВР, н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мките на общинската територия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 оглед насърчаване на градско-селските връзки и укрепване на функционалните връзки между градовете и зоните за въздействие с периферната общинска територия. Тези проекти следва да бъдат част от ИПГВР, да съответстват на Общинските планове за развитие и да включват обосновка за техния принос за подобряване на функционалните връзки между града и неговата периф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оектни предложения по група дейности „Зони с потенциал за икономическо развитие” ще се финансират само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оказан реален инвестиционен интерес към съответните зон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За целта при подаване на                проектни предложения по тази група дейности трябва задължително да се представи един от следните документи, доказващи наличие на частни и/или публични инвестиционни намерения в съответните зон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тификат за клас инвестиция и за приоритетен инвестиционен проект или сертификат за инвестиционен проект с общинско значение, в рамките на зоната, съгласно Закона за насърчаване на инвестиции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умент, доказващ получаването на кредит или друг тип подкрепа по линия на финансовите инструменти за проекти в зоните с потенциал за икономическо разви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проект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по Оперативна програма „Иновации и конкурентоспособност” 2014-2020 г., Оперативна програма „Наука и образование за интелигентен растеж“ 2014-2020 г., Програма „Хоризонт 2020“ или други донорски програми, в рамките на зо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айд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EC8-6EA8-4F0C-8DB0-07B1B859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3DB-85EC-4B7C-8838-31A565C9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EDD-24B7-45FF-8421-D57B04B1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816-63A3-4E8D-A6D2-A7C345A2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7ED6-0591-48EC-BBC3-53CB230A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94FB-6AA3-4944-9AA3-DE502850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5FFF-DC55-40F6-B85E-B2BADE28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7129-BA64-41C5-8D5D-D07B70AD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8F73-7F4D-40EA-B726-B106B5EB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21FB-825A-4549-9289-7D7712F3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A64F-0B47-4DE4-81C8-8FFAC5AF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E9E-B57E-43DC-889A-2D0D1D5E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A23F-9646-486F-9E4B-E92C771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07EA-8EF1-4322-BA19-6817B843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1AB0-D8F8-495A-B207-6C17D0FC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82F5-AFF3-475B-A574-A5FB6B92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6743-B12D-4D20-AAAE-76244030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B9A46-90D2-41B3-9E29-F95C200D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B9F3-3CA3-48BD-8424-784E9DBA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45ED-E3B0-49BD-AB94-935AB771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40DF-33B2-4F6B-8AE3-9AA7D739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24F5-0BA9-43CE-9DD0-3BCA34E4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31E-B367-445B-B93D-5C5A3C95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3EA4-4E98-4877-BD07-0B26D1B8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EC2A-07A4-4B00-A155-74D0D512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35121-B16E-4E37-B254-E7E3CCA9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F2E59-96DE-49A7-84F2-748CB081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9034-9A1D-40AA-9C7C-A5E98F3E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1A3F-E100-4306-A60C-D395AEA8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6FB3-C4D7-4E98-874E-F63046CD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BEA-2545-4D25-A175-E99BDD99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FA9-B651-4E89-9DE9-F012ABB4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CDF-D596-4DE7-A2E2-3A52313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DE03-AD04-45AD-869D-6CFF38F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C7C-5C43-4095-94CB-2D3D9C2D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FB4-7279-4392-9221-F5833072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395C-B990-4589-AA01-0A03D350A4D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8B92-3FF7-43C2-AA1B-670B82D7C5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FA59-FA5F-470A-A308-E4B3B609933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270000" y="3860640"/>
            <a:ext cx="559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Arial"/>
              </a:rPr>
              <a:t>Оперативна програма „Региони в растеж“ 2014-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ИЗПЪЛНЕНИЕ НА ИНТЕГРИРАНИ ПЛАНОВЕ ЗА ГРАДСКО ВЪЗСТАНОВЯВАНЕ И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ylfaen"/>
              </a:rPr>
              <a:t>/проект на Насоки за кандидатстване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Щ РАЗМЕР НА ФИНАНСОВИТЕ СРЕДСТВА ПО ПРОЦЕДУРАТА ЗА БФ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Content Placeholder 2"/>
          <p:cNvSpPr/>
          <p:nvPr/>
        </p:nvSpPr>
        <p:spPr>
          <a:xfrm>
            <a:off x="87480" y="1703520"/>
            <a:ext cx="898524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61920" y="1703520"/>
          <a:ext cx="8877240" cy="2141280"/>
        </p:xfrm>
        <a:graphic>
          <a:graphicData uri="http://schemas.openxmlformats.org/drawingml/2006/table">
            <a:tbl>
              <a:tblPr/>
              <a:tblGrid>
                <a:gridCol w="2108160"/>
                <a:gridCol w="2376360"/>
                <a:gridCol w="2297160"/>
                <a:gridCol w="209556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Бюджетна ли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бщ размер на финансовите сре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0% БФП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ъфинансиране от ЕФР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8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ционално съфинансиране (15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G16RFOP00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72 559 396,72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166 675 487,21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5 883 909,51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л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1 778 476,00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6 511 704,60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 266 771,40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Box 3"/>
          <p:cNvSpPr/>
          <p:nvPr/>
        </p:nvSpPr>
        <p:spPr>
          <a:xfrm>
            <a:off x="108000" y="4149720"/>
            <a:ext cx="887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кретните бенефициенти следва да осигуря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 % задължителен собствен прино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 част от националното съфинансиране. Изискването не се прилага за проекти, които след приключване генерират нетни приходи, по смисъла на чл. 61 от Регламент (ЕС) № 1303/2013,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както и з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нтервенции в многофамилни жилищни сгр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РЕЗЕРВ ЗА ИЗПЪЛ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569880" y="1628640"/>
          <a:ext cx="8094600" cy="2178360"/>
        </p:xfrm>
        <a:graphic>
          <a:graphicData uri="http://schemas.openxmlformats.org/drawingml/2006/table">
            <a:tbl>
              <a:tblPr/>
              <a:tblGrid>
                <a:gridCol w="1685880"/>
                <a:gridCol w="1944720"/>
                <a:gridCol w="1871640"/>
                <a:gridCol w="2592360"/>
              </a:tblGrid>
              <a:tr h="1097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зерв за изпъ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 на резерва за изпълнение като процент от общата подкрепа от Съю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О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крепа от 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ФРР, ев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но участие</a:t>
                      </a: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ев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 199 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369 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829 881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6"/>
          <p:cNvSpPr/>
          <p:nvPr/>
        </p:nvSpPr>
        <p:spPr>
          <a:xfrm>
            <a:off x="270000" y="3933720"/>
            <a:ext cx="869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О на ОПРР си запазва право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 ревизира общия бюджет на процедурата за БФП и на предоставената БФ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ключените договори за БФП с размера на резерва за изпълнение в съответствие със степента на усвояемост на средствата по процедура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който в тази връзка следва да бъде поет като собствен принос от страна на съответния конкретен бенефициен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случай че не са постигнати етапни цели към края на 2018 г. на ниво Приоритетна ос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ЕТАПНИ ЦЕЛИ ЗА 2018 Г. НА НИВО ПРИОРИТЕТНА О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87480" y="1703520"/>
            <a:ext cx="89852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179280" y="1413000"/>
          <a:ext cx="8893440" cy="4537080"/>
        </p:xfrm>
        <a:graphic>
          <a:graphicData uri="http://schemas.openxmlformats.org/drawingml/2006/table">
            <a:tbl>
              <a:tblPr/>
              <a:tblGrid>
                <a:gridCol w="6651720"/>
                <a:gridCol w="2241720"/>
              </a:tblGrid>
              <a:tr h="387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казател или основна стъпка за изпълнение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Етапна цел за 2018 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85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NewRomanPSMT"/>
                        </a:rPr>
                        <a:t>Сертифицирани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 352 614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нергийна ефективност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жаване на годишното потребление на първична енергия от обществените сгра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732 281 kWh/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жи за децата и образование: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пацитет на подпомогнатата инфраструктура, предназначена за грижи за децата или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395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дско развитие: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застроени площи, създадени или рехабилитирани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8 728 кв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дско развитие: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ествени или търговски сгради, построени или  обновени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060 кв.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дско развитие: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хабилитирани жилища в градските райо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 жилищ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еление, ползващо подобрени социални услу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570 л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ндивидуални цели към юни 2018 г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tent Placeholder 2"/>
          <p:cNvSpPr/>
          <p:nvPr/>
        </p:nvSpPr>
        <p:spPr>
          <a:xfrm>
            <a:off x="0" y="1290600"/>
            <a:ext cx="910908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58120" indent="-25812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Индивидуална етапна цел за всеки конкретен бенефициент (верифицирани средства от УО на ОПРР до края на юни 2018 г.) –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зчислява се като 20% от размера на БФП за всеки бенефициент въз основа на процента на етапната цел на ниво приоритетна ос 1 (сертифицирани средства към края на 2018 г.) към бюджета на приоритетната ос (20,63%)</a:t>
            </a:r>
            <a:r>
              <a:rPr b="0" lang="bg-BG" sz="1700" spc="-1" strike="noStrike">
                <a:solidFill>
                  <a:srgbClr val="92d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8120" indent="-25812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 случай че конкретен бенефициент не е постигнал индивидуалната си етапна цел, УО на ОПРР си запазва правото да ревизира определения общ ресурс на БФП (100%) за съответния бенефициент и размера на предоставената БФП по сключените договори за БФП с размера на средствата, които не са постигнати като верифицирани от УО на ОПРР до този момент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(и които в тази връзка следва да бъдат поети като собствен принос от страна на съответния бенефициен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303120" y="2637000"/>
          <a:ext cx="8661600" cy="669600"/>
        </p:xfrm>
        <a:graphic>
          <a:graphicData uri="http://schemas.openxmlformats.org/drawingml/2006/table">
            <a:tbl>
              <a:tblPr/>
              <a:tblGrid>
                <a:gridCol w="3451320"/>
                <a:gridCol w="3978360"/>
                <a:gridCol w="1231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ПО 1 (БФП+ФИ)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 ПО 1 сертифицирани 2018 г.,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 449 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352 6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11040" y="3357720"/>
          <a:ext cx="8653680" cy="949320"/>
        </p:xfrm>
        <a:graphic>
          <a:graphicData uri="http://schemas.openxmlformats.org/drawingml/2006/table">
            <a:tbl>
              <a:tblPr/>
              <a:tblGrid>
                <a:gridCol w="3443400"/>
                <a:gridCol w="398628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Столична община  (БФП+резерв)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видуална цел верифицирани юни 2018 г., л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 375 23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675 04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предоставяне на БФП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tent Placeholder 2"/>
          <p:cNvSpPr/>
          <p:nvPr/>
        </p:nvSpPr>
        <p:spPr>
          <a:xfrm>
            <a:off x="66600" y="1341360"/>
            <a:ext cx="90061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дидатстването се извършва чрез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нвестиционна програма и проектни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вестиционна програма 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осрочен документ, чрез който бенефициентит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щ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ефинират приоритетните за финансиране проект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, в съответствие с изискванията на чл. 7, параграф 4 от Регламент №1301/20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ва общ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ханизъм за управление и реализация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екип за управлени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ъответствие с ИПГВР, описание и обосновка на интегрирания подход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ндикатори, план-график за изпълнени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др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в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ни проекти и списък с резер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 финансиране чрез 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размер на основните проекти -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 определения максимален ресурс на БФП за съответната инвестиционна програ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размер на списък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 резервни проект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до 50% от определения максимален ресурс на БФП за съответната инвестиционна прогр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авила за предоставяне на БФП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ontent Placeholder 2"/>
          <p:cNvSpPr/>
          <p:nvPr/>
        </p:nvSpPr>
        <p:spPr>
          <a:xfrm>
            <a:off x="108000" y="141300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мални и максимални прагове на предоставяната БФП (100%)  по  групи дейност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539640" y="2133720"/>
          <a:ext cx="8280360" cy="3671640"/>
        </p:xfrm>
        <a:graphic>
          <a:graphicData uri="http://schemas.openxmlformats.org/drawingml/2006/table">
            <a:tbl>
              <a:tblPr/>
              <a:tblGrid>
                <a:gridCol w="5256360"/>
                <a:gridCol w="3024000"/>
              </a:tblGrid>
              <a:tr h="861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вестиционни приорите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аг на БФП (100%)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6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Енерг. eф-ст в админ. и жилищни сгради и студентски общеж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ногофамилни жилищни сгр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0% от сумата по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Градска 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Градска сред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 Образовате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Социа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44280" rIns="44280" tIns="0" bIns="0" anchor="b">
                      <a:noAutofit/>
                    </a:bodyPr>
                    <a:p>
                      <a:pPr marL="355680" indent="-3816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Социална инфраструктур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РИТЕРИИ ЗА ОЦЕНКА НА ИНВЕСТИЦИОНН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tent Placeholder 2"/>
          <p:cNvSpPr/>
          <p:nvPr/>
        </p:nvSpPr>
        <p:spPr>
          <a:xfrm>
            <a:off x="0" y="1290600"/>
            <a:ext cx="9072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Съответствие на инвестиционната програма с одобрения ИПГВР за </a:t>
            </a: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пазване на изискванията по чл. 7 от Регламент 1301/2013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игане н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инергичен ефек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и концентрация на ресурс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цесът на подбор на проектит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е извършен в съответствие с Процедурата за избор на проекти съгласно Насоките за кандидатстване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пазени с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минималните и максимални прагове на предоставената БФП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(100%) по някои групи дейности (инвестиционни приоритети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Общата стойност на проектите за подобряване н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функционалните връзки извън зоните за въздействие не надвишава 20%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от ресурса на БФП (100%), определен за конкретния бенефициент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оектните предложения с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</a:rPr>
              <a:t>одобрени от Междинното звено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ценка на административния, технически и финансов капацитет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бенефициента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изпълнение и управление на инвестиционната програма и делегираните функции за избор на операц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5600" indent="-255600" algn="just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тигане на резултати и индикатор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– заложените междинни стойности на индикаторите са съобразени с план-графика за изпълнение на инвестиционната програма и одобрените от Междинното звено проектни предлож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РИТЕРИИ ЗА ОЦЕНКА НА ПРОЕКТНИ ПРЕДЛОЖЕНИЯ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ontent Placeholder 2"/>
          <p:cNvSpPr/>
          <p:nvPr/>
        </p:nvSpPr>
        <p:spPr>
          <a:xfrm>
            <a:off x="179280" y="155736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ключени са критерии з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ценка на административно съответствие, допустимост и качество на проектното пред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ритериите са разпределени по инвестиционни приорит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бщи критери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сички инвестиционни приоритети и групи дей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зване на указанията за електронно кандидатстване ИСУН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комплектованост и пълнота на техническата докум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пустимост на дейностите/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стойчивост на предложената инвестиция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изическа незавършеност на инвестиц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Специфични критер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за всеки отделен инвестиционен приоритет и групи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ритериите за оценка на проектните предложения предстои да бъдат одобрени от Комитета за наблюдение на ОПРР 2014-2020 г. –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юни 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РИТЕРИИ ЗА ОЦЕНКА НА ПРОЕКТНИТЕ ПРЕДЛОЖЕНИЕ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108000" y="1290600"/>
            <a:ext cx="8964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ПО-ВАЖНИ ОБЩИ КРИТЕРИИ ЗА 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й на обекти с разработени инвестиционни проекти по схема BG161PO001/5-02/2012 „В подкрепа за следващия програмен период” – представя с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приетата от УО на ОПРР 2007-2013 г. техническа докум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ено е Решение на Общинския съвет, с което се гарантира, че за предложения проект е осигурена неговата устойчивост и че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ъответната образователна/ социална/културна/ институция няма да бъде закрита за период, не по-малък от 5 години след крайното плащане към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ено е Решение на Общинския съвет, с което се декларира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че елементите на подземната техническа инфраструктура под обекта на интервенция са напълно изградени и/или реконструирани към момент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ът допринася за постигане на една или повече от приоритетните области, заложени в Плана за действие към Дунавската стратегия –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ов крите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1319040" y="333360"/>
            <a:ext cx="5977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Енергийна ефективност в административни и жилищни сгра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ontent Placeholder 2"/>
          <p:cNvSpPr/>
          <p:nvPr/>
        </p:nvSpPr>
        <p:spPr>
          <a:xfrm>
            <a:off x="108000" y="1290600"/>
            <a:ext cx="8964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80360" indent="-1803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дряване на мерки за енергийна ефективност, вкл. конструктивно укрепване и подобряване достъпа на хора с увреждания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Ще се финансира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кономически най-ефективният пакет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от енергоспестяващи мерки за сградата, с който се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тига клас на енергопотребление „С“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Цялостно обновяване на сградит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в съответствие с допустимите дейности - единствено ако мерките за цялостно обновяване са предписани в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обследването за енергийна ефективност и би довело до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тигане на 60% енергийни спестявания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Жилищни сгради и студентски общежит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- допустими и извън зоните за въздействие, но в рамките на строителните граници на 39-те град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тудентски общежити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реализират само чрез комбинирано финансиране чрез БФП и финансов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менти, създадени по линия на ОПРР 2014-2020 г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тервенции върху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многофамилни жилищни сград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- едно общо проектно предложение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без да се посочват определените сград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тервенции върху административни сгради държавна собственост - кандидатстване в </a:t>
            </a:r>
            <a:r>
              <a:rPr b="1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партньорство със съответната държавна институ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1316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417680" y="33804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цедура по делегиране на функции на Междинните зв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37960" y="1557360"/>
            <a:ext cx="8244000" cy="503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от МС за даване на мандат на РУО да делегира функциите по оценка и избор на Междинни звена по Приоритетна ос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297000" y="2455920"/>
            <a:ext cx="8245440" cy="287280"/>
          </a:xfrm>
          <a:prstGeom prst="rect">
            <a:avLst/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добрение на критерии за избор на проекти от Комитет за наблю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18960" y="3171960"/>
            <a:ext cx="8223480" cy="287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ключване на Споразумението между УО и Междинното зв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26"/>
          <p:cNvSpPr/>
          <p:nvPr/>
        </p:nvSpPr>
        <p:spPr>
          <a:xfrm>
            <a:off x="3897360" y="2060640"/>
            <a:ext cx="485640" cy="396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33"/>
          <p:cNvSpPr/>
          <p:nvPr/>
        </p:nvSpPr>
        <p:spPr>
          <a:xfrm>
            <a:off x="3921120" y="2774880"/>
            <a:ext cx="484200" cy="397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4"/>
          <p:cNvSpPr/>
          <p:nvPr/>
        </p:nvSpPr>
        <p:spPr>
          <a:xfrm>
            <a:off x="3505320" y="3753000"/>
            <a:ext cx="1708200" cy="720720"/>
          </a:xfrm>
          <a:prstGeom prst="ellipse">
            <a:avLst/>
          </a:prstGeom>
          <a:solidFill>
            <a:srgbClr val="d9d9d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бщ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>
            <a:off x="1139760" y="4076640"/>
            <a:ext cx="1656000" cy="647640"/>
          </a:xfrm>
          <a:prstGeom prst="rect">
            <a:avLst/>
          </a:prstGeom>
          <a:solidFill>
            <a:srgbClr val="e1eab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Конкретен бенефици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>
            <a:off x="6039000" y="4113360"/>
            <a:ext cx="1668240" cy="647640"/>
          </a:xfrm>
          <a:prstGeom prst="rect">
            <a:avLst/>
          </a:prstGeom>
          <a:solidFill>
            <a:srgbClr val="f1d1ad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Междинно зв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>
            <a:off x="2795760" y="5157720"/>
            <a:ext cx="2900160" cy="722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Разделение на функциите в Инвестиционната програм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ИП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2931840" y="4622760"/>
            <a:ext cx="275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ff0000"/>
                </a:solidFill>
                <a:latin typeface="Arial"/>
              </a:rPr>
              <a:t>Потенциален конфликт на интере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39"/>
          <p:cNvCxnSpPr>
            <a:endCxn id="153" idx="3"/>
          </p:cNvCxnSpPr>
          <p:nvPr/>
        </p:nvCxnSpPr>
        <p:spPr>
          <a:xfrm flipH="1">
            <a:off x="2795040" y="4105440"/>
            <a:ext cx="710280" cy="2955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8" name="Straight Arrow Connector 41"/>
          <p:cNvCxnSpPr>
            <a:endCxn id="154" idx="1"/>
          </p:cNvCxnSpPr>
          <p:nvPr/>
        </p:nvCxnSpPr>
        <p:spPr>
          <a:xfrm>
            <a:off x="5213160" y="4105080"/>
            <a:ext cx="826200" cy="3322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44"/>
          <p:cNvCxnSpPr>
            <a:stCxn id="153" idx="2"/>
            <a:endCxn id="155" idx="0"/>
          </p:cNvCxnSpPr>
          <p:nvPr/>
        </p:nvCxnSpPr>
        <p:spPr>
          <a:xfrm>
            <a:off x="1968480" y="4724280"/>
            <a:ext cx="2278800" cy="434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Straight Arrow Connector 48"/>
          <p:cNvCxnSpPr>
            <a:stCxn id="154" idx="2"/>
            <a:endCxn id="155" idx="0"/>
          </p:cNvCxnSpPr>
          <p:nvPr/>
        </p:nvCxnSpPr>
        <p:spPr>
          <a:xfrm flipH="1">
            <a:off x="4246560" y="4761000"/>
            <a:ext cx="2627640" cy="397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Интегриран градски транспор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ontent Placeholder 2"/>
          <p:cNvSpPr/>
          <p:nvPr/>
        </p:nvSpPr>
        <p:spPr>
          <a:xfrm>
            <a:off x="0" y="1413000"/>
            <a:ext cx="90727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3520" indent="-2635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иложено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е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робно прединвестиционно проучване за цялата система на градския транспор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отговарящо по обхват и съдържание на условията в Насоките за кандидатства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ектът е разработен на основата на интегриран подх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ът е в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съответствие с актуална транспортно-комуникационна схема на целевата територ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в т.ч и Планове за устойчива градска мобилност, ако са налич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роек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ът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е в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съответ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твие с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общинск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програми за опазване на околната среда, и в частност - </a:t>
            </a:r>
            <a:r>
              <a:rPr b="0" lang="en-GB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Общинските програми за намаляване на замърсителите и достигане на установените норми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700" spc="-1" strike="noStrike">
                <a:solidFill>
                  <a:srgbClr val="000000"/>
                </a:solidFill>
                <a:latin typeface="Arial"/>
              </a:rPr>
              <a:t>за общините, за които такива програми се изпълняват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тервенции върху активи, собственост на общинска компания за интегриран градски транспорт -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кандидатстване в партньорство с общинския превозвач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Рехабилитация/реконструкция на улични мрежи -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амо при доказана обвързаност със съществуващи/ планирани маршрути на обществения градски транспор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можност за използване н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финансови инструменти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 финансиране на отделни компоненти или цялостни решения от проектит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Градска среда (1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108000" y="141300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рупа дейности: Градска с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стими във всички зони за въздействие, включени в ИПГВР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лични мрежи, обществени паркинги, междублокови пространства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дължително следва да се докаже интегриран характер на инвестициите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са допустими интервенции върху улична/градска ВиК мре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е допустимо извършване на текущ ремонт на улична мр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едимство - проекти, които насърчават прилагането на иновативни и съвременни архитектурно-пространствени, оригинални композиционни и дизайнерски 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Градска среда (2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79280" y="1413000"/>
            <a:ext cx="8893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рупа дейности: Зони с потенциал за икономическо развитие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пуска се финансиране на проекти 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звън зоните с потенциал за икономическо развити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включени в ИПГВР)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 рамките на общинската територия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- в рамките на 20-те % от гъвкавостта по отношение на проекти за осигуряване на функционални връ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Ще се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нсира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т само при доказан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реален инвеститорски интерес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към съответната зона и следва д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бъдат придружени от писмо за подкрепа от компания-инвестито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основка за необходимостта и целесъобразността от предложените интервенциите в зоната, които могат да бъдат финансирани по настоящата процед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Социална инфраструкту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Content Placeholder 2"/>
          <p:cNvSpPr/>
          <p:nvPr/>
        </p:nvSpPr>
        <p:spPr>
          <a:xfrm>
            <a:off x="0" y="1290600"/>
            <a:ext cx="896472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Група дейности: Социал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зборът на обектите на интервенция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  <a:ea typeface="Times New Roman"/>
              </a:rPr>
              <a:t>- предварително съгласуван с МТСП с оглед гарантиране съгласуваност на политикит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Arial"/>
                <a:ea typeface="Times New Roman"/>
              </a:rPr>
              <a:t>Представяне на писмо от ОП„Развитие на човешките ресурси“ 2014-2020 г. или друга финансираща програма, в което се декларира, че за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социалната услуга е/ще бъде осигурено финансиран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d0d0d"/>
                </a:solidFill>
                <a:latin typeface="Arial"/>
                <a:ea typeface="Times New Roman"/>
              </a:rPr>
              <a:t>При </a:t>
            </a:r>
            <a:r>
              <a:rPr b="0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идентифицани проекти за социални жилища в одобрения ИПГВР </a:t>
            </a:r>
            <a:r>
              <a:rPr b="0" lang="ru-RU" sz="1700" spc="-1" strike="noStrike">
                <a:solidFill>
                  <a:srgbClr val="0d0d0d"/>
                </a:solidFill>
                <a:latin typeface="Arial"/>
                <a:ea typeface="Times New Roman"/>
              </a:rPr>
              <a:t>- да се кандидатства поне с един от тях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ени са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доказателства за обществена подкрепа за проект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сочени към изграждането на социални жилища и социален толеранс, на база проведени публични обсъждания, кампании, кръгли маси и др., преди одобрение на инфраструктурния проек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Arial"/>
                <a:ea typeface="Times New Roman"/>
              </a:rPr>
              <a:t>Група дейности: Култур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Дейностите ще се реализират чрез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комбинирано финансиране между БФП и финансови инструменти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създадени по линия на ОПРР 2014-2020 г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За обекти държавна собственост, в управление на МК –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партньорство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с М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ИП Образователна инфраструкту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179280" y="1484280"/>
            <a:ext cx="87854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Ново строителство на детски ясли и градини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пустимо за всички град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устими - учебни зали, библиотеки, лаборатории, спортни съоръжения, учебни корпуси, общежития, интернет връзки), включително прилежащото околно пространство и общеж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имство на проекти с най-висок потенциал за постигане на социално включване и постигане на целта за подобряване на условията за предоставяне на модерни образователни услу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пецифични критерии – Социална/Културна/Образователна инфраструкту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ontent Placeholder 2"/>
          <p:cNvSpPr/>
          <p:nvPr/>
        </p:nvSpPr>
        <p:spPr>
          <a:xfrm>
            <a:off x="0" y="1290600"/>
            <a:ext cx="907272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 u="sng">
                <a:solidFill>
                  <a:srgbClr val="ff0000"/>
                </a:solidFill>
                <a:uFillTx/>
                <a:latin typeface="Arial"/>
              </a:rPr>
              <a:t>Общо за социална/ културна/ образователна инфраструктур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Финансиране на проекти и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извън зоните за въздействие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в рамките на общинската територия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в рамките на 20-те % от гъвкавостта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о отношение на проекти за осигуряване на функционални връз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сички проекти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следва да включват </a:t>
            </a:r>
            <a:r>
              <a:rPr b="0" lang="en-GB" sz="1700" spc="-1" strike="noStrike">
                <a:solidFill>
                  <a:srgbClr val="ff0000"/>
                </a:solidFill>
                <a:latin typeface="Arial"/>
              </a:rPr>
              <a:t>цялостна реконструкция на съответните сгради и прилежащите дворни пространства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кономически най-ефективният пакет от енергоспестяващи мерки за сградата, с който се </a:t>
            </a:r>
            <a:r>
              <a:rPr b="0" lang="bg-BG" sz="1700" spc="-1" strike="noStrike">
                <a:solidFill>
                  <a:srgbClr val="ff0000"/>
                </a:solidFill>
                <a:latin typeface="Arial"/>
              </a:rPr>
              <a:t>постига минимум клас на енергопотребление „С“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Оборудване и обзавеждане -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 водят до подобряване качеството на съответната услуга и да са част от цялостната модернизация на съответната институ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Декларация от ръководството на съответната институция –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ъгласие с предложения проект и проектно решение, и съдействие за реализиране на проекта, вкл. за гарантиране на устойчивостта на инвестициите и опазване на обек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Решение на Общинския съвет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съответната образователна/социална/културна институция няма да бъде закривана за период, не по-малък от 5 години от крайното плащане към бенефициен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НВЕСТИЦИОНН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ontent Placeholder 2"/>
          <p:cNvSpPr/>
          <p:nvPr/>
        </p:nvSpPr>
        <p:spPr>
          <a:xfrm>
            <a:off x="179280" y="1413000"/>
            <a:ext cx="8785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ез 2018 г.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О на ОПРР ще направи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ценка на изпълнението на инвестиционните програм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 на Приоритетната ос като цяло, и може да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преразпредели наличния ресурс от по-неактивните към по-активните бенефициенти</a:t>
            </a: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изменения в законодателството, социално икономическата среда, изменения в ОПРР,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одобрените инвестиционни програми могат да бъдат актуализирани, в т.ч. и списъците с резервни проекти, 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през 201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 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2022</a:t>
            </a:r>
            <a:r>
              <a:rPr b="1" lang="bg-BG" sz="1800" spc="-1" strike="noStrike" u="sng">
                <a:solidFill>
                  <a:srgbClr val="ff0000"/>
                </a:solidFill>
                <a:uFillTx/>
                <a:latin typeface="Arial"/>
              </a:rPr>
              <a:t> г. 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Всяка актуализация на инвестиционната програм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е извършва в съответствие с процедурата на изготвяне на инвестиционна програма и следва да бъд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добрена от УО на ОПРР 2014-202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1042920" y="1844640"/>
            <a:ext cx="7274160" cy="37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ДЕНИЦА НИКОЛОВА</a:t>
            </a:r>
            <a:r>
              <a:rPr b="1" lang="bg-BG" sz="17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местник-</a:t>
            </a: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министър и Ръководител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Гр.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Arial"/>
              </a:rPr>
              <a:t>08.05.201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566720" y="189000"/>
            <a:ext cx="5708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ект на Споразумение за делегиране между УО и Междинните звена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"/>
          <p:cNvSpPr/>
          <p:nvPr/>
        </p:nvSpPr>
        <p:spPr>
          <a:xfrm>
            <a:off x="317520" y="1413000"/>
            <a:ext cx="8647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1899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УО възлаг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ценка и избор на проек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чл.7 от Регламент 1301/2013 и чл.1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от Регламент 1303/20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Разработване н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Инвестиционн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Изборът на проекти е в съответствие с общинска градска стратегия (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Инвестиционна програма + ИПГВР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4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МЗ гарантир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разделение на функци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5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УО одобрява Инвестиционната програма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съответствие с конкретни критерии и ИПГВР, в т.ч наличие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правленска структура, административен и технически капацитет за изпълнен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6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МЗ документира процедурите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збор и оценка на проек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7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Решение за БФП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е издава от УО на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566720" y="189000"/>
            <a:ext cx="5708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оект на Споразумение за делегиране между УО и Междинните звена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95280" y="1484280"/>
            <a:ext cx="85694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8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УО може да извършв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кончателни проверки за допустимост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9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 Общ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стойност на проектит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10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Оценка на изпълнението и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преразпределение на ресурса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ежду общин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1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При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епостигане на индивидуална етапна цел към м. юни 2018 г.,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УО ревизира общата стойност и размера на предоставената БФ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2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При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непостигане на етапните цели на ПО 1 към края на 2018 г.,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УО ревизира общата стойност и размера на предоставената БФ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3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МЗ действа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т името на и в полза на УО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Чл. 14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Общината носи цялата отговорност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пред УО за изпълнение на делегираните функции </a:t>
            </a:r>
            <a:r>
              <a:rPr b="1" lang="bg-BG" sz="1800" spc="-1" strike="noStrike">
                <a:solidFill>
                  <a:srgbClr val="ff0000"/>
                </a:solidFill>
                <a:latin typeface="Arial"/>
              </a:rPr>
              <a:t>и поема финансови корекции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ЦЕДУРА ЗА ИЗГОТВЯНЕ НА ИНВЕСТИЦИОННА ПРОГРАМА И ОЦЕНКА НА ПРОЕКТИ (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-57240" y="1413000"/>
            <a:ext cx="91299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21"/>
          <p:cNvSpPr/>
          <p:nvPr/>
        </p:nvSpPr>
        <p:spPr>
          <a:xfrm>
            <a:off x="270000" y="1413000"/>
            <a:ext cx="37256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Общината определя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вено А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за избор на проекти и подготовка на инвестиционна програма и проектни предложения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вено Б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з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оценка на проектни предложения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270000" y="3357720"/>
            <a:ext cx="372564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В резултат на дейността си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Работната група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изготвя доклад до кмета на общината, в който посочва списък с приоритетни обекти и списък с резервни обек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2355840" y="5013360"/>
            <a:ext cx="5164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вено А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подава ИП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и проектни предложения в един от посочените в Насоките за кандидатстване срокове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/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кр.на месец август, септември и ноември 2015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6"/>
          <p:cNvCxnSpPr/>
          <p:nvPr/>
        </p:nvCxnSpPr>
        <p:spPr>
          <a:xfrm>
            <a:off x="4100400" y="2356920"/>
            <a:ext cx="2628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4" name="Straight Arrow Connector 17"/>
          <p:cNvCxnSpPr/>
          <p:nvPr/>
        </p:nvCxnSpPr>
        <p:spPr>
          <a:xfrm flipV="1">
            <a:off x="8264520" y="2141280"/>
            <a:ext cx="411840" cy="180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Straight Arrow Connector 18"/>
          <p:cNvCxnSpPr/>
          <p:nvPr/>
        </p:nvCxnSpPr>
        <p:spPr>
          <a:xfrm>
            <a:off x="3995280" y="3844440"/>
            <a:ext cx="2894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19"/>
          <p:cNvCxnSpPr/>
          <p:nvPr/>
        </p:nvCxnSpPr>
        <p:spPr>
          <a:xfrm>
            <a:off x="4571640" y="4719240"/>
            <a:ext cx="1080" cy="276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 Box 12"/>
          <p:cNvSpPr/>
          <p:nvPr/>
        </p:nvSpPr>
        <p:spPr>
          <a:xfrm flipH="1">
            <a:off x="4594320" y="3357720"/>
            <a:ext cx="422568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След одобрение на доклада, кметът дава мандат на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вено А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да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подготви инвестиционна програма (ИП) и проекти предло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23760" y="38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0"/>
          <p:cNvSpPr/>
          <p:nvPr/>
        </p:nvSpPr>
        <p:spPr>
          <a:xfrm flipH="1">
            <a:off x="4500720" y="1413000"/>
            <a:ext cx="446400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Със заповед на кмета на общината се създава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Работна група за избор на обекти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, която ги приоритизира по определени от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УО на ОПРР критерии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Работната група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включва представители на Звено А, организации от неправителствения сектор и др.заинтересовани стр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ЦЕДУРА ЗА ИЗГОТВЯНЕ НА ИНВЕСТИЦИОННА ПРОГРАМА И ОЦЕНКА НА ПРОЕКТИ (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0" y="1398600"/>
            <a:ext cx="9072720" cy="47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179280" y="1557360"/>
            <a:ext cx="3888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Звено Б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 сформира комисия за оценка на проекти (КОП), в която може да привлече и външни експерти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5364000" y="1557360"/>
            <a:ext cx="309564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Паралелно УО на ОПРР извършва оценка на ИП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и изчаква одобрението на проектите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Straight Arrow Connector 23"/>
          <p:cNvCxnSpPr/>
          <p:nvPr/>
        </p:nvCxnSpPr>
        <p:spPr>
          <a:xfrm>
            <a:off x="2050560" y="2703600"/>
            <a:ext cx="1080" cy="280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Text Box 2"/>
          <p:cNvSpPr/>
          <p:nvPr/>
        </p:nvSpPr>
        <p:spPr>
          <a:xfrm>
            <a:off x="179280" y="2492280"/>
            <a:ext cx="3888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КОП извършва оценка на проектните предложения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 и излиза с доклад, включващ списък с одобрени проекти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79280" y="3573360"/>
            <a:ext cx="3888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Кметът на общината издава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решение за одобрение на проекти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, което изпраща до УО на ОПРР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79280" y="4437000"/>
            <a:ext cx="3888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След получаване на решението за одобрение на проектните предложения, </a:t>
            </a: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УО на ОПРР финализира оценката на ИП и издава решение за одобряване на ИП, сключване на споразумение и сключване на договори за БФП за одобрените проек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42"/>
          <p:cNvCxnSpPr/>
          <p:nvPr/>
        </p:nvCxnSpPr>
        <p:spPr>
          <a:xfrm flipH="1">
            <a:off x="4788000" y="2139480"/>
            <a:ext cx="5763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48"/>
          <p:cNvCxnSpPr/>
          <p:nvPr/>
        </p:nvCxnSpPr>
        <p:spPr>
          <a:xfrm>
            <a:off x="4800240" y="2123640"/>
            <a:ext cx="1080" cy="31424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54"/>
          <p:cNvCxnSpPr/>
          <p:nvPr/>
        </p:nvCxnSpPr>
        <p:spPr>
          <a:xfrm flipH="1" flipV="1">
            <a:off x="4066920" y="5265000"/>
            <a:ext cx="72144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 Box 2"/>
          <p:cNvSpPr/>
          <p:nvPr/>
        </p:nvSpPr>
        <p:spPr>
          <a:xfrm>
            <a:off x="5364000" y="3168720"/>
            <a:ext cx="3095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УО на ОПРР сключва споразумение и договори за БФП с бенефициента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76"/>
          <p:cNvCxnSpPr/>
          <p:nvPr/>
        </p:nvCxnSpPr>
        <p:spPr>
          <a:xfrm flipH="1">
            <a:off x="7092360" y="2703600"/>
            <a:ext cx="1080" cy="4658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ПГВР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6"/>
          <p:cNvSpPr/>
          <p:nvPr/>
        </p:nvSpPr>
        <p:spPr>
          <a:xfrm>
            <a:off x="2970360" y="1628640"/>
            <a:ext cx="2690640" cy="5922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зменение на ИПГВР – 2015 г., 2019 г. и/или 2022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6012000" y="1628640"/>
            <a:ext cx="2592360" cy="592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  <a:ea typeface="MS Minngs"/>
              </a:rPr>
              <a:t>Аргументирана обосн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 rot="10800000">
            <a:off x="5683320" y="179028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7"/>
          <p:cNvSpPr/>
          <p:nvPr/>
        </p:nvSpPr>
        <p:spPr>
          <a:xfrm>
            <a:off x="301680" y="1628640"/>
            <a:ext cx="2232000" cy="592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роверка от УО на ОП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2611440" y="1795320"/>
            <a:ext cx="277920" cy="343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0"/>
          <p:cNvSpPr/>
          <p:nvPr/>
        </p:nvSpPr>
        <p:spPr>
          <a:xfrm>
            <a:off x="353880" y="2529000"/>
            <a:ext cx="2186280" cy="116496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рограми в зон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 въз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0"/>
          <p:cNvSpPr/>
          <p:nvPr/>
        </p:nvSpPr>
        <p:spPr>
          <a:xfrm>
            <a:off x="6026040" y="2479680"/>
            <a:ext cx="2578320" cy="2101680"/>
          </a:xfrm>
          <a:prstGeom prst="ellipse">
            <a:avLst/>
          </a:prstGeom>
          <a:noFill/>
          <a:ln w="442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Функционални връ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6"/>
          <p:cNvCxnSpPr>
            <a:stCxn id="231" idx="2"/>
            <a:endCxn id="236" idx="7"/>
          </p:cNvCxnSpPr>
          <p:nvPr/>
        </p:nvCxnSpPr>
        <p:spPr>
          <a:xfrm flipH="1">
            <a:off x="2219040" y="2220840"/>
            <a:ext cx="2097360" cy="480240"/>
          </a:xfrm>
          <a:prstGeom prst="straightConnector1">
            <a:avLst/>
          </a:prstGeom>
          <a:ln w="1260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239" name="Straight Arrow Connector 11"/>
          <p:cNvCxnSpPr>
            <a:stCxn id="231" idx="2"/>
            <a:endCxn id="237" idx="1"/>
          </p:cNvCxnSpPr>
          <p:nvPr/>
        </p:nvCxnSpPr>
        <p:spPr>
          <a:xfrm>
            <a:off x="4316040" y="2220840"/>
            <a:ext cx="2088360" cy="567360"/>
          </a:xfrm>
          <a:prstGeom prst="straightConnector1">
            <a:avLst/>
          </a:prstGeom>
          <a:ln w="1260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40" name="Rectangle 17"/>
          <p:cNvSpPr/>
          <p:nvPr/>
        </p:nvSpPr>
        <p:spPr>
          <a:xfrm>
            <a:off x="2738520" y="2692440"/>
            <a:ext cx="3084480" cy="29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опустим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3086280" y="3432240"/>
            <a:ext cx="2468520" cy="29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ублични обсъж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70000" y="4027320"/>
            <a:ext cx="2468520" cy="6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Допълнение на одобрена матрица бюджет и програма за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7"/>
          <p:cNvSpPr/>
          <p:nvPr/>
        </p:nvSpPr>
        <p:spPr>
          <a:xfrm>
            <a:off x="3086280" y="4017960"/>
            <a:ext cx="2469960" cy="295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риемане от Общински съ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3086280" y="5195880"/>
            <a:ext cx="246852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Извършване на ЕО и ОС ако е преценено за необход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 rot="16200000">
            <a:off x="4153680" y="2307600"/>
            <a:ext cx="277920" cy="342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7"/>
          <p:cNvSpPr/>
          <p:nvPr/>
        </p:nvSpPr>
        <p:spPr>
          <a:xfrm>
            <a:off x="3086280" y="4548240"/>
            <a:ext cx="24699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Разработване/изменение на програмит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за реа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129852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1332000" y="33336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Изменение на ИПГВР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ight Arrow Callout 25"/>
          <p:cNvSpPr/>
          <p:nvPr/>
        </p:nvSpPr>
        <p:spPr>
          <a:xfrm>
            <a:off x="380880" y="1467000"/>
            <a:ext cx="2922840" cy="4282920"/>
          </a:xfrm>
          <a:prstGeom prst="rightArrowCallout">
            <a:avLst>
              <a:gd name="adj1" fmla="val 24994"/>
              <a:gd name="adj2" fmla="val 24992"/>
              <a:gd name="adj3" fmla="val 25000"/>
              <a:gd name="adj4" fmla="val 64977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дкрепа на осъществяване на функционални връ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3086280" y="1490760"/>
            <a:ext cx="4510080" cy="65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опълване на нов образец на матрица бюджет и програма за реал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3419640" y="2492280"/>
            <a:ext cx="3985920" cy="29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ритерии за избор на проек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3722760" y="3284640"/>
            <a:ext cx="3703680" cy="2317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В рамките на общинската тери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Принос за функционалните връз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ъответствие с общинските планове за разви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Съответствие с допустимите дейности за подкре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Общ финансов ресурс – максимум 20 % от ИПГВ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rot="5400000">
            <a:off x="5163120" y="2883600"/>
            <a:ext cx="405000" cy="342720"/>
          </a:xfrm>
          <a:prstGeom prst="rightArrow">
            <a:avLst>
              <a:gd name="adj1" fmla="val 50000"/>
              <a:gd name="adj2" fmla="val 250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MS Minng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403280" y="33336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Цел на процедура за БФП „Изпълнение на ИПГВР“ по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tent Placeholder 2"/>
          <p:cNvSpPr/>
          <p:nvPr/>
        </p:nvSpPr>
        <p:spPr>
          <a:xfrm>
            <a:off x="144360" y="1413000"/>
            <a:ext cx="8820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одкрепи реализацията на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нтегрираните планове за градско възстановяване и развитие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сочени към устойчиво и трайно преодоляване на високата концентрация на икономически, природни и социални проблеми в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9 града от 1-во, 2-ро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 3-то йерархично ниво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съответствие с Националната концепция за пространствено развитие на България за периода 2013-2025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spcAft>
                <a:spcPts val="3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та за БФП се реализира в рамките на Приоритетна ос 1 „Устойчиво и интегрирано градско развитие” на ОПРР 2014-20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някои случаи, в зависимост от спецификата на проектите и сферата на интервенции, ще с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зисква комбиниране на подкрепа чрез БФП и финансови инструмен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създадени по линия на ОПРР 2014-2020 г., като по този начин се цели реализирането на проектите в пълн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700"/>
              </a:spcAft>
              <a:tabLst>
                <a:tab algn="l" pos="0"/>
                <a:tab algn="l" pos="1810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 Stanevska</cp:lastModifiedBy>
  <cp:lastPrinted>2015-05-05T13:25:48Z</cp:lastPrinted>
  <dcterms:modified xsi:type="dcterms:W3CDTF">2015-05-08T05:56:37Z</dcterms:modified>
  <cp:revision>1181</cp:revision>
  <dc:subject/>
  <dc:title>Diapositiva 1</dc:title>
</cp:coreProperties>
</file>