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B2D9-5737-476F-BC4B-E438546F89DC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EE15-E996-4D3A-A2FD-4FE4E8538B38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добрение на програм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пратени официално през системата за електронен обмен на данни с Европейската комис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C 2014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а 8 програми (всички седем оперативни програми и Програмата за развитие на селските район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ограмата за морско дело и рибарство ще бъде изпратена на ЕК през септември 201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й напреднали – ОП „Развитие на човешките ресурси“ и ОП „транспорт и транспортна 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чакват се коментари по програмите в рамките на следващите две седмиц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фициални преговори – втората половина на септемв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Стартиране на процедури и реално изпъл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 ОП „Развитие на човешките ресурси“ вече е стартирала процедура по операция „Младежка заетост“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та на процедурата е да се повиши конкурентоспособността на младежите чрез осигуряване на възможност за стажуване или обучение по време на работа, което ще улесни прехода от образование към заетост, а и едновременно с това ще доведе до натрупване на ценен професионален опит, необходим за заемане на свободни работни места, заявени от работодатели. Бюджет 35 млн. л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П «Транспорт и транспортна инфраструктура» се предвижда да стартира изпълнението на проекта на Софийското метр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ограмата за развитие на селските райони – прием за млад фер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добрение на системите за управление и контрол и окончателно определяне на управляващи и сертифициращи орг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81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ончателното определяне на УО и СО е условие за извършване на междинни плащания по програмите от Европейската комисия (ЕК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1811"/>
              </a:spcBef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ланира се изготвянето на график, с ясни срокове за всички участници, така че да се осигури изпълнението на процедурата в разумни времеви границ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181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80BEB-968D-4340-A30F-89024EAC4373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5A21-2AB0-4884-9B22-5C5CCBA29082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ADF-9F59-4809-BD56-D3A08613D1EA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 модела СИБИЛА: Инвестиции – придобиване на ДА и увеличение на капиталовите запас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Частни инвестиции – средства за придобиване на машини, съоръжения, оборудване, сгради и т.н. от частния с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ублични инвестиции – предимно средства за инфра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раждане на нова 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ъзстановяване на съществуващата инфраструктура в стра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ществени сгради, пътища, системи за управление на отпадъците, енергий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ективност, паметници на културата и т.н.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също така средства, които трябва 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бъдат придобити от и за публичната администра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например: изграждане на информационни системи в публичния сектор, придобиване на хардуе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зграждане на съвременни системи за телекомуникация и информационен пренос на дан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ИКТ в образованието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Ограничения при изготвяне на предварителните оце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Усвояемостта на средствата възлиза на 95-10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дварително условно разпределение на средствата по отношение факторите за икономически расте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Прецизни оценки могат да бъдат направени едва след специфицирането на проектите и процедурите и размера на финансирането в рамките на отделните прог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едварителни работни прогнози за икономическото развитие в България и ЕС по отношение на включените в модела икономически индикато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Прецизни оценки могат да бъдат направени едва след изготвянето на детайлни прогнози от страна на отговорните и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Допускане, че икономическата конюнктура в страната и ЕС за периода 2014-2020 е сходна с тази през 2010-2011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Прогнозите са изготвени с помощта на първоначалната версия на модела СИБИЛА, разработен в средата на 2011г. Очаква се актуализация/прекалибриране на модела, която по-точно да отразява настъпилите промени в икономическата ср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Допускане, че в новия програмен период основен фокус на финансиране ще бъдат дългосрочни фактори на растежа: иновации, човешки капитал,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02A2-A357-4D56-97E4-C958F90C8FF0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A766-8A57-4E52-AD69-395408C03478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42568d"/>
                </a:solidFill>
                <a:latin typeface="Cambr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 ресурс за периода 2014-202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вропейско финансира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лн. евр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те оперативни прогр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422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морско дело и рибарст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а за развитие на селските район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 339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 сума по С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849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 за европейско подпомагане на най-нуждаещите се лица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ни плащания*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33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ъм за свързване на Европ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0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пейско териториално сътрудничеств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6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о за Бълга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 8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Сумата за 2014 г. е съгласно таблица 2, параграф 4 от Приложение ІІ на Регламент (ЕС) 1310/201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за периода 2015-2020 е съгласно приложение ІІ от Регламент (ЕС) 1307/201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E39F-D430-474C-A630-48D979F2291B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Идентифициране на най-нуждаещите се лиц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5000"/>
              </a:lnSpc>
              <a:spcAft>
                <a:spcPts val="6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оглед на ограничения финансов ресурс и направените анализи, подкрепата по Оперативната програма по Фонда да Европейско подпомагане на най-нуждаещите се лица 2014-2020 г. ще се предоставя н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цата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помагани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целеви помощи за отопление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йки (осиновителки)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олучавали през предходната календарна година месечни помощи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 отглеждане на дете до една година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реда на чл. 8, ал. 1 от Закона за семейни помощи за деца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(ЗСПД)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авоимащите лица, получавали 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з предходната календарна година </a:t>
            </a:r>
            <a:r>
              <a:rPr b="1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сечна добавка за отглеждане на дете с увреждания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, по реда на чл. 8д ЗСП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20DD-71EE-48E2-B4AB-FBA6277977E2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ECCE-27F7-471A-B0AD-E08C57AD35EF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Работна дефиниция на уязвими и маргинализирани групи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Уязвими са онези лица и групи от хора, които търпят ограничения по отношение на участието им в 1) социалния живот и ползването на социални права, 2) не успяват да получат достъп или да ползват възможностите,</a:t>
            </a:r>
            <a:r>
              <a:rPr b="1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ито предлагат обществото и</a:t>
            </a:r>
            <a:r>
              <a:rPr b="1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икономиката, 3) имат ограничен достъп до качествено образование и здравни услуги, 4)  ниво на професионална квалификация и умения, които препятстват участието им в пазара на труда, 5) в резултат от горепосочените фактори попадат в ситуация на риск от/ или маргинализиране и социално изключ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Маргинализирана група – това са хора, населяващи определена територия, характеризираща се с: условия на живот в крайна бедност, (изключително ниски доходи или липса на такива); социална изолация; затрудняващи комуникацията с останалата общност; наличие на санитарно – битови условия, неотговарящи на регламентираните стандарти; наличие на техническа инфраструктура, ограничаваща достъпа до обекти на социалната инфраструктура от останалата територия, вкл. водещи до ограничен достъп до здравни услуги, достъп до образование в масовите училища; липса или недостатъчни социални умения и образование; отношение към тях, основано на предразсъдъц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031C-C231-4E5B-B962-6B94E01C402C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bg-BG" sz="1200" spc="-1" strike="noStrike">
                <a:solidFill>
                  <a:srgbClr val="000000"/>
                </a:solidFill>
                <a:latin typeface="Calibri"/>
              </a:rPr>
              <a:t>І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ризонтални реформи (общи усло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и поръ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хармонизиране на нормативната база с новото законодателството на ЕС в областта на обществените поръ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илен административния капацитет: както на АОП, така и на възложителите, контролните и разплащателните орг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и и ефективни процедури, вкл. система на електронни обществени поръ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и систе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ор на показатели за резултатите за всяка 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ване на процедурите за събиране и обработване на необходимите дан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ІІ. Секторни реформи (тематични усло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в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ъществяване на реформите с цел осигуряване на инвестиции в научни изследвания и иновации, така че достигнат 1.5% от брутния вътрешен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иемане на Иновационна стратегия за интелигентна специа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правление на ри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одготовка на оценки и картографиране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ирите основни направления рискове (1. сеизмичен и геоложки, 2. ядрена и радиационна авария, 3. наводнения, 4. горски пожари), като оценките ще определят приоритетите по отношение на инвестиции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ане на ЗИД на Закона за водите и завършване на реформата в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зработване на Анализ за възстановяването на разходите – по наличните статистически дан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менение на Тарифата за таксите за водовземане, за ползване на воден обект и за замърсяв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ЗИД на Закона за водите, с което да се въведат, прости и приложими механизми за определяне на таксата за замърсява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законодателни промени в регулаторната рамка в отрасъл В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Наредба за нормите за водопотребление по чл.117а, ал.2 от Закона за вод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ъвеждане на различни цени на услугата водоснабдяване за абонатите, ползващи вода в рамките на нормите за водопотребление, и абонатите, надвишаващи тези нор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готвяне на икономическия анализ на водоползването за периода 2007-2013, на който да се основават мерките и ценовата политика във вторите ПУР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ършване на национални проучвания за преодоляване на пропуски</a:t>
            </a: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 в първите ПУР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емане на вторите ПУРБ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ционално проучване за осигуряване на необходимите данни за изменение на климата и въздействието му върху водит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пълнение на тригодишна програма за завършване на интеркалибрирането на методите за анализ и стойностите на биологичните елементи за качество (БЕК) за типовете повърхностни води на територията на България, съответстващи на определени общи европейски типо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изграждане на мрежите за мониторин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тпадъци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емането на Национален план за управление на отпадъците за периода 2014-2020 г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зготвяне на Програма за предотвратяване образуването на отпадъците, която ще бъде част от Пл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Здравеопазв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Усъвършенстване на модела за предоставяне на здравна помощ, вкл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ване на нов модел за спешна медицинска помо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иране на Националната здравна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емане на Закона за училищното образование и да се осигури съответствие с реформите във всички направления на образование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Приемане на Стратегията за развитието на висшето 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Транспор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Приемане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на мултимодална транспортна стратегия/ Интегрирана транспортна страте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30360" indent="-171720">
              <a:buClr>
                <a:srgbClr val="000000"/>
              </a:buClr>
              <a:buFont typeface="Wingdings" charset="2"/>
              <a:buChar char="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Административна рефор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Дейностите, които остават, за да се изпълни условието 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- 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ка на потребностите на потребителите на административн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на съществуващите потребности от обучение на държавните служи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bg-BG" sz="1200" spc="-1" strike="noStrike">
                <a:solidFill>
                  <a:srgbClr val="000000"/>
                </a:solidFill>
                <a:latin typeface="Calibri"/>
              </a:rPr>
              <a:t>Необходимо е, обаче, също та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крепване на институционалната среда за по-висока ефективност на публичните услуги за гражданите и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съвършенстване на стратегическата база в сферата на правосъдието и съдебната рефор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гръщане на услугите в областта на електронното управление и осигуряване на електронно правосъд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EB95-16D3-4A9D-B448-EF57ADFFD599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237F-2FB9-4FA4-AB58-7BA8FD7D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912A-1608-4DD7-87EA-03A1F410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BBE3-1912-4DE6-AD82-2CCDDC2D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8099E-AE79-4D47-A342-DDCA0E63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5522-093D-44F9-B770-B86B5DAB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057E-AA73-4C98-B4E9-49C2F044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DA49-A524-4FE1-997E-991E5CD9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9530-0677-443F-9DB3-703CEE78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1441-29A1-4334-94D0-1CADE53D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C3DF-DE74-489B-B374-23EF504E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1A11-43CC-4B88-B2B0-0F6847EB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2310-AFFC-48EC-AD64-92A58591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9E45-8C67-4EB7-AF64-7C4593EE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3166-E351-42A1-AE92-A074FBA0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EC5-A257-406D-8139-4A6C989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B440-049B-4CD0-816D-E32054E1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3C06-6BE3-4D4D-8165-9416834A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75F-1D1F-42BD-B885-96EB3F88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A91E-674B-4E1C-B51B-06060522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4400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69040" y="8377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21896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4400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269040" y="314640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19EE-66D5-40A2-90C2-B5586070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9320" y="52574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B4DC-DAA1-4554-8E9B-8FF15B3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D323-43B3-457B-B6AD-BE2D0194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5400" y="314640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DE84-E774-4DAB-8777-15E3E9E6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5209200"/>
            <a:ext cx="72388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8377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14640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5342-EEDB-4D22-9358-3A72B4AB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11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1" name="Rectangle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12"/>
          <p:cNvGrpSpPr/>
          <p:nvPr/>
        </p:nvGrpSpPr>
        <p:grpSpPr>
          <a:xfrm>
            <a:off x="-6480" y="-6480"/>
            <a:ext cx="244440" cy="6870960"/>
            <a:chOff x="-6480" y="-6480"/>
            <a:chExt cx="244440" cy="6870960"/>
          </a:xfrm>
        </p:grpSpPr>
        <p:pic>
          <p:nvPicPr>
            <p:cNvPr id="4" name="Rectangle 12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244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2286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686800" y="574056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0DDB-3AFE-4CFB-90C1-450B08F2E8D4}" type="slidenum">
              <a:rPr b="0" lang="bg-BG" sz="12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Freeform 5"/>
          <p:cNvSpPr/>
          <p:nvPr/>
        </p:nvSpPr>
        <p:spPr>
          <a:xfrm>
            <a:off x="8453520" y="5715000"/>
            <a:ext cx="242640" cy="431640"/>
          </a:xfrm>
          <a:custGeom>
            <a:avLst/>
            <a:gdLst>
              <a:gd name="textAreaLeft" fmla="*/ 0 w 242640"/>
              <a:gd name="textAreaRight" fmla="*/ 243000 w 242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53" h="272">
                <a:moveTo>
                  <a:pt x="62" y="0"/>
                </a:moveTo>
                <a:lnTo>
                  <a:pt x="0" y="0"/>
                </a:lnTo>
                <a:lnTo>
                  <a:pt x="89" y="136"/>
                </a:lnTo>
                <a:lnTo>
                  <a:pt x="89" y="136"/>
                </a:lnTo>
                <a:lnTo>
                  <a:pt x="0" y="272"/>
                </a:lnTo>
                <a:lnTo>
                  <a:pt x="62" y="272"/>
                </a:lnTo>
                <a:lnTo>
                  <a:pt x="153" y="136"/>
                </a:lnTo>
                <a:lnTo>
                  <a:pt x="62" y="0"/>
                </a:lnTo>
                <a:close/>
              </a:path>
            </a:pathLst>
          </a:custGeom>
          <a:solidFill>
            <a:srgbClr val="709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dt" idx="3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FCC0-338E-4305-A686-2AC298418F15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10"/>
          <p:cNvGrpSpPr/>
          <p:nvPr/>
        </p:nvGrpSpPr>
        <p:grpSpPr>
          <a:xfrm>
            <a:off x="-6480" y="-6480"/>
            <a:ext cx="762120" cy="6870960"/>
            <a:chOff x="-6480" y="-6480"/>
            <a:chExt cx="762120" cy="6870960"/>
          </a:xfrm>
        </p:grpSpPr>
        <p:pic>
          <p:nvPicPr>
            <p:cNvPr id="85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7621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0"/>
              <a:ext cx="752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Group 6" descr=""/>
          <p:cNvPicPr/>
          <p:nvPr/>
        </p:nvPicPr>
        <p:blipFill>
          <a:blip r:embed="rId4"/>
          <a:stretch/>
        </p:blipFill>
        <p:spPr>
          <a:xfrm>
            <a:off x="7461360" y="201600"/>
            <a:ext cx="671400" cy="444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5257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5897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 rot="16200000">
            <a:off x="-1198800" y="4821120"/>
            <a:ext cx="262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E06-74F3-40DD-B468-9DECB2A443C9}" type="datetime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258560" y="6552720"/>
            <a:ext cx="716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8150400" y="236520"/>
            <a:ext cx="78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7097d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7BDA-BF87-4840-AA9C-912171BDFB1F}" type="slidenum">
              <a:rPr b="0" lang="bg-BG" sz="1400" spc="-1" strike="noStrike">
                <a:solidFill>
                  <a:srgbClr val="7097d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ufunds.bg/" TargetMode="External"/><Relationship Id="rId3" Type="http://schemas.openxmlformats.org/officeDocument/2006/relationships/hyperlink" Target="mailto:eufunds@government.b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Title 1" descr=""/>
          <p:cNvPicPr/>
          <p:nvPr/>
        </p:nvPicPr>
        <p:blipFill>
          <a:blip r:embed="rId2"/>
          <a:stretch/>
        </p:blipFill>
        <p:spPr>
          <a:xfrm>
            <a:off x="1011240" y="1762200"/>
            <a:ext cx="8156520" cy="3327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" descr=""/>
          <p:cNvPicPr/>
          <p:nvPr/>
        </p:nvPicPr>
        <p:blipFill>
          <a:blip r:embed="rId3"/>
          <a:stretch/>
        </p:blipFill>
        <p:spPr>
          <a:xfrm>
            <a:off x="1695600" y="12600"/>
            <a:ext cx="65484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Title 1" descr=""/>
          <p:cNvPicPr/>
          <p:nvPr/>
        </p:nvPicPr>
        <p:blipFill>
          <a:blip r:embed="rId2"/>
          <a:stretch/>
        </p:blipFill>
        <p:spPr>
          <a:xfrm>
            <a:off x="927000" y="182520"/>
            <a:ext cx="7435800" cy="1017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39640" y="1672920"/>
            <a:ext cx="797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4c63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4c63a2"/>
                </a:solidFill>
                <a:latin typeface="Calibri"/>
              </a:rPr>
              <a:t>Одобрение на програмите</a:t>
            </a:r>
            <a:endParaRPr b="0" lang="en-US" sz="32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4c63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4c63a2"/>
                </a:solidFill>
                <a:latin typeface="Calibri"/>
              </a:rPr>
              <a:t>Стартиране на процедури и реално изпълнение</a:t>
            </a:r>
            <a:endParaRPr b="0" lang="en-US" sz="32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4c63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4c63a2"/>
                </a:solidFill>
                <a:latin typeface="Calibri"/>
              </a:rPr>
              <a:t>Одобрение на системите за управление и контрол и окончателно определяне на управляващи и сертифициращи органи</a:t>
            </a:r>
            <a:endParaRPr b="0" lang="en-US" sz="32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f589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203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-2700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18960" y="1989000"/>
            <a:ext cx="746748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4c63a2"/>
                </a:solidFill>
                <a:latin typeface="Arial"/>
              </a:rPr>
              <a:t>Благодаря за вниманието!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www.eufunds.bg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eufunds@government.bg</a:t>
            </a:r>
            <a:endParaRPr b="0" lang="en-US" sz="2200" spc="-1" strike="noStrike">
              <a:solidFill>
                <a:srgbClr val="2f5897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589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205" name="Picture 2" descr="C:\Users\s.ignatova\AppData\Local\Microsoft\Windows\Temporary Internet Files\Content.Outlook\0FVJA3N1\EU+logo_BG_2014-2020.jpg"/>
          <p:cNvPicPr/>
          <p:nvPr/>
        </p:nvPicPr>
        <p:blipFill>
          <a:blip r:embed="rId4"/>
          <a:stretch/>
        </p:blipFill>
        <p:spPr>
          <a:xfrm>
            <a:off x="2916360" y="723960"/>
            <a:ext cx="3598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1" descr=""/>
          <p:cNvPicPr/>
          <p:nvPr/>
        </p:nvPicPr>
        <p:blipFill>
          <a:blip r:embed="rId2"/>
          <a:stretch/>
        </p:blipFill>
        <p:spPr>
          <a:xfrm>
            <a:off x="811080" y="109440"/>
            <a:ext cx="7729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539640" y="1341360"/>
          <a:ext cx="8101080" cy="5050080"/>
        </p:xfrm>
        <a:graphic>
          <a:graphicData uri="http://schemas.openxmlformats.org/drawingml/2006/table">
            <a:tbl>
              <a:tblPr/>
              <a:tblGrid>
                <a:gridCol w="5040360"/>
                <a:gridCol w="3060720"/>
              </a:tblGrid>
              <a:tr h="221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лн. 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вропейско финансир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3427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те оперативни програми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4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а сума по С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8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617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 за европейско подпомагане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най-нуждаещите се лиц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ректни плащания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зъм за свързване на Европ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4060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вропейско териториално сътрудниче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3680"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 за Българи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 8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1580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Включва и специалната алокация по Инициативата за младежка заетост в размер на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5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8 745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160">
                <a:tc gridSpan="2"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ата за 2014 г. е съгласно таблица 2, параграф 4 от Приложение ІІ на Регламент (ЕС) 1310/2013, а за периода 2015-2020 е съгласно приложение ІІ  от Регламент (ЕС) 1307/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1" descr=""/>
          <p:cNvPicPr/>
          <p:nvPr/>
        </p:nvPicPr>
        <p:blipFill>
          <a:blip r:embed="rId2"/>
          <a:stretch/>
        </p:blipFill>
        <p:spPr>
          <a:xfrm>
            <a:off x="841320" y="622440"/>
            <a:ext cx="7742160" cy="1292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  <p:pic>
        <p:nvPicPr>
          <p:cNvPr id="180" name="table" descr=""/>
          <p:cNvPicPr/>
          <p:nvPr/>
        </p:nvPicPr>
        <p:blipFill>
          <a:blip r:embed="rId4"/>
          <a:stretch/>
        </p:blipFill>
        <p:spPr>
          <a:xfrm>
            <a:off x="1635120" y="1947960"/>
            <a:ext cx="610560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2"/>
          <a:stretch/>
        </p:blipFill>
        <p:spPr>
          <a:xfrm>
            <a:off x="676440" y="689040"/>
            <a:ext cx="8003880" cy="774720"/>
          </a:xfrm>
          <a:prstGeom prst="rect">
            <a:avLst/>
          </a:prstGeom>
          <a:ln w="0">
            <a:noFill/>
          </a:ln>
        </p:spPr>
      </p:pic>
      <p:pic>
        <p:nvPicPr>
          <p:cNvPr id="182" name="Content Placeholder 4" descr=""/>
          <p:cNvPicPr/>
          <p:nvPr/>
        </p:nvPicPr>
        <p:blipFill>
          <a:blip r:embed="rId3"/>
          <a:stretch/>
        </p:blipFill>
        <p:spPr>
          <a:xfrm>
            <a:off x="378000" y="1627200"/>
            <a:ext cx="8510400" cy="5200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Users\s.ignatova\AppData\Local\Microsoft\Windows\Temporary Internet Files\Content.Outlook\0FVJA3N1\EU+logo_BG_2014-2020.jpg"/>
          <p:cNvPicPr/>
          <p:nvPr/>
        </p:nvPicPr>
        <p:blipFill>
          <a:blip r:embed="rId4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Title 1" descr=""/>
          <p:cNvPicPr/>
          <p:nvPr/>
        </p:nvPicPr>
        <p:blipFill>
          <a:blip r:embed="rId2"/>
          <a:stretch/>
        </p:blipFill>
        <p:spPr>
          <a:xfrm>
            <a:off x="334800" y="523800"/>
            <a:ext cx="699948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324000" y="1268280"/>
          <a:ext cx="8712000" cy="5067360"/>
        </p:xfrm>
        <a:graphic>
          <a:graphicData uri="http://schemas.openxmlformats.org/drawingml/2006/table">
            <a:tbl>
              <a:tblPr/>
              <a:tblGrid>
                <a:gridCol w="1584000"/>
                <a:gridCol w="5991480"/>
                <a:gridCol w="1136520"/>
              </a:tblGrid>
              <a:tr h="3654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194b15"/>
                          </a:solidFill>
                          <a:latin typeface="Calibri"/>
                        </a:rPr>
                        <a:t>млн.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84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и дей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ства от 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</a:tr>
              <a:tr h="86364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Транспорт и транспортна инфраструктур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.П. транспор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раструктура и подвижен съста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; 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ътищ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гистрали, пътища І-ви кла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 Метро (инфраструктура и подвижен състав); Интермодални термин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7761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Околна среда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lnSpc>
                          <a:spcPct val="90000"/>
                        </a:lnSpc>
                        <a:spcBef>
                          <a:spcPts val="601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и (пречиствателни станции и ВиК); Отпадъци (системи за разделно) събиране на отпадъци, оползотворяване, завод за боклука на София); Натура 2000 и биоразнообразие; Защита от наводнения; Опазване на възду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5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8622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нергийна ефективност (публични и жилищни сгради); Болници, ВУЗ-ове, училища, детски градини; Градска среда (благоустрояване); Опазване и развитие на културно-исторически паметници; Пътища 1, 2 и 3-ти клас; Градски 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ст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очени към бизнеса и предприятията; Иновации; Нови технологии; Енергийна ефективност;  Навлизане на международни паза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8611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lvl="1"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науката; Развитие на качествено образование на всички нива; Намаляване на ранното отпадане от училище и образователна интеграция на малцинствени групи;  Учене през целия жив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6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468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2"/>
          <a:stretch/>
        </p:blipFill>
        <p:spPr>
          <a:xfrm>
            <a:off x="249120" y="457200"/>
            <a:ext cx="7066080" cy="81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324000" y="1197000"/>
          <a:ext cx="8640720" cy="5342040"/>
        </p:xfrm>
        <a:graphic>
          <a:graphicData uri="http://schemas.openxmlformats.org/drawingml/2006/table">
            <a:tbl>
              <a:tblPr/>
              <a:tblGrid>
                <a:gridCol w="1368360"/>
                <a:gridCol w="6264360"/>
                <a:gridCol w="1008000"/>
              </a:tblGrid>
              <a:tr h="3636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600" spc="-1" strike="noStrike">
                          <a:solidFill>
                            <a:srgbClr val="194b15"/>
                          </a:solidFill>
                          <a:latin typeface="Calibri"/>
                        </a:rPr>
                        <a:t>млн.ев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77760"/>
                          <a:tab algn="l" pos="1955880"/>
                          <a:tab algn="l" pos="2933640"/>
                          <a:tab algn="l" pos="3911760"/>
                          <a:tab algn="l" pos="4889520"/>
                          <a:tab algn="l" pos="5867280"/>
                          <a:tab algn="l" pos="6845400"/>
                          <a:tab algn="l" pos="7823160"/>
                          <a:tab algn="l" pos="8801280"/>
                          <a:tab algn="l" pos="9779040"/>
                          <a:tab algn="l" pos="107568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новни дей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ства от 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</a:tr>
              <a:tr h="11779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1199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ки за заетост (посреднически услуги, обучения, стажове, предприемачество); Мерки за качествени социални и здравни услуги, деинституционализация на деца и възрастни; Подкрепа за институциите и партньорите в сферата на пазара на труда, социалното включване и здравеопазване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9349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плексно административно обслужване и намаляване на административната тежест; Управление на човешките ресурси в администрацията и съдебната система; Електронно управление (е-здравеопазване, е-образование, е-обществени поръчки, е-митници и е-идентификация, е-правосъд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79200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крепа в сектора на аквакултурата, рибарството и свързаната с тях преработка; диверсификация; мерки за заетост; мерки за опазване на околната среда; иновации; контрол и събиране на дан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>
                        <a:alpha val="50000"/>
                      </a:srgbClr>
                    </a:solidFill>
                  </a:tcPr>
                </a:tc>
              </a:tr>
              <a:tr h="72072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marL="108000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земеделските стопанства (МСП в селските райони); НИРД и иновации; образование; заетост; опазване на околната среда; диверсификация; инвестиции в публична инфраструктура; пазари на производителите;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3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f0cc"/>
                    </a:solidFill>
                  </a:tcPr>
                </a:tc>
              </a:tr>
              <a:tr h="4651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 8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4b15"/>
                    </a:solidFill>
                  </a:tcPr>
                </a:tc>
              </a:tr>
              <a:tr h="26856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РЧР включва и специалната алокация по Инициативата за младежка зает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89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2"/>
          <a:stretch/>
        </p:blipFill>
        <p:spPr>
          <a:xfrm>
            <a:off x="384120" y="182520"/>
            <a:ext cx="5851440" cy="11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611280" y="1628640"/>
          <a:ext cx="8137440" cy="4757760"/>
        </p:xfrm>
        <a:graphic>
          <a:graphicData uri="http://schemas.openxmlformats.org/drawingml/2006/table">
            <a:tbl>
              <a:tblPr/>
              <a:tblGrid>
                <a:gridCol w="1584360"/>
                <a:gridCol w="2663640"/>
                <a:gridCol w="3889440"/>
              </a:tblGrid>
              <a:tr h="5605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19224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еопазв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естиции в човешкия капита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-здравеопазв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исшето образование в тази сфера, научно-изследователска  инфраструктура в медицин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7280">
                <a:tc rowSpan="4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яване на качеството на всички нива на образованието, учене през целия живот, образование на маргинализирани и уязвими гр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не през целия живо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на инфраструктура, професионално об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57280">
                <a:tc rowSpan="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ъздаване и внедряване на иновации, внедряване на технологии и приложни изследвания от бизнеса в партньорство с научнит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приложни и научни изследвания и науно-изследователск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селското стопа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9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 в акваквакултурат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0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ни 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pic>
        <p:nvPicPr>
          <p:cNvPr id="192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4680"/>
            <a:ext cx="36003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2"/>
          <a:stretch/>
        </p:blipFill>
        <p:spPr>
          <a:xfrm>
            <a:off x="165240" y="182520"/>
            <a:ext cx="6095880" cy="11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30680" y="4680"/>
            <a:ext cx="3598920" cy="8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324000" y="1341360"/>
          <a:ext cx="8712000" cy="5283360"/>
        </p:xfrm>
        <a:graphic>
          <a:graphicData uri="http://schemas.openxmlformats.org/drawingml/2006/table">
            <a:tbl>
              <a:tblPr/>
              <a:tblGrid>
                <a:gridCol w="1368360"/>
                <a:gridCol w="2950920"/>
                <a:gridCol w="4392720"/>
              </a:tblGrid>
              <a:tr h="287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нефициен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ласти на подкр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71520">
                <a:tc rowSpan="6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СП (бизне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овации, предприемачество, технологично развитие, енергийна ефективност, финансови инструмен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изследователска инфраструктура и изследвания, като партньори на научно-изследователските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тиране на бизнес, предприемачески учения, мерки за заетост и квалификация на работната сила, микрофинанс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</a:t>
                      </a: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еса в сектора на земедерието, хранително-вкусов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морско дело и рибар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помагане на бизнеса в сектора на аквакултури, преработвателната промишленост, технологично развитие, инов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Добро управление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улаторната и административна рамка, въвеждане на електронна търговия и услу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2960">
                <a:tc rowSpan="3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уденти 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кторан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пендии, студентски практики, участие в научни проекти и разработк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ъзможност за стартиране на предприемачество и бизнес, младежка заетост, микрокредит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Иновации и конкурентоспособност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ове за стартиращо финанси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71520">
                <a:tc row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язвими груп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азвитие на човешките ресурси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витие на социални предприятия, социални услуги, заетост, социално включване, деинституционализ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Наука и образование за интелигентен растеж"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, насочено към уязвими груп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а за развитие на селските райо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етост, деинституционализация, развитие 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g-BG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 "Региони в растеж"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институционализация, специализирана и здравна инфра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585720" y="901800"/>
            <a:ext cx="8223480" cy="8046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971280" y="1915920"/>
            <a:ext cx="7467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c63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c63a2"/>
                </a:solidFill>
                <a:latin typeface="Calibri"/>
              </a:rPr>
              <a:t>Хоризонтални реформи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4c63a2"/>
                </a:solidFill>
                <a:latin typeface="Calibri"/>
              </a:rPr>
              <a:t>7 условия: 5 изпълнени и 2 частично изпълн</a:t>
            </a:r>
            <a:r>
              <a:rPr b="0" i="1" lang="bg-BG" sz="2400" spc="-1" strike="noStrike">
                <a:solidFill>
                  <a:srgbClr val="4c63a2"/>
                </a:solidFill>
                <a:latin typeface="Calibri"/>
              </a:rPr>
              <a:t>ени</a:t>
            </a:r>
            <a:endParaRPr b="0" lang="en-US" sz="2400" spc="-1" strike="noStrike">
              <a:solidFill>
                <a:srgbClr val="2f5897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4c63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spcAft>
                <a:spcPts val="601"/>
              </a:spcAft>
              <a:buClr>
                <a:srgbClr val="4c63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c63a2"/>
                </a:solidFill>
                <a:latin typeface="Calibri"/>
              </a:rPr>
              <a:t>Секторни реформи</a:t>
            </a:r>
            <a:endParaRPr b="0" lang="en-US" sz="2800" spc="-1" strike="noStrike">
              <a:solidFill>
                <a:srgbClr val="2f5897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4c63a2"/>
                </a:solidFill>
                <a:latin typeface="Calibri"/>
              </a:rPr>
              <a:t>35 условия: 15 изпълнени, 5 частично изпълнени, 15 неизпълнени</a:t>
            </a:r>
            <a:endParaRPr b="0" lang="en-US" sz="2000" spc="-1" strike="noStrike">
              <a:solidFill>
                <a:srgbClr val="2f5897"/>
              </a:solidFill>
              <a:latin typeface="Calibri"/>
            </a:endParaRPr>
          </a:p>
        </p:txBody>
      </p:sp>
      <p:pic>
        <p:nvPicPr>
          <p:cNvPr id="198" name="Picture 2" descr="C:\Users\s.ignatova\AppData\Local\Microsoft\Windows\Temporary Internet Files\Content.Outlook\0FVJA3N1\EU+logo_BG_2014-2020.jpg"/>
          <p:cNvPicPr/>
          <p:nvPr/>
        </p:nvPicPr>
        <p:blipFill>
          <a:blip r:embed="rId3"/>
          <a:stretch/>
        </p:blipFill>
        <p:spPr>
          <a:xfrm>
            <a:off x="5543640" y="0"/>
            <a:ext cx="3600360" cy="83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1116000" y="4508640"/>
          <a:ext cx="7343640" cy="1873080"/>
        </p:xfrm>
        <a:graphic>
          <a:graphicData uri="http://schemas.openxmlformats.org/drawingml/2006/table">
            <a:tbl>
              <a:tblPr/>
              <a:tblGrid>
                <a:gridCol w="3311640"/>
                <a:gridCol w="4032000"/>
              </a:tblGrid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Инов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Управление на рис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Вод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Отпадъ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Здравеопазв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Транс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spcBef>
                          <a:spcPts val="499"/>
                        </a:spcBef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</a:rPr>
                        <a:t>Административна рефор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971640" y="2924280"/>
          <a:ext cx="7340400" cy="396720"/>
        </p:xfrm>
        <a:graphic>
          <a:graphicData uri="http://schemas.openxmlformats.org/drawingml/2006/table">
            <a:tbl>
              <a:tblPr/>
              <a:tblGrid>
                <a:gridCol w="3456000"/>
                <a:gridCol w="3884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  <a:ea typeface="Times New Roman"/>
                        </a:rPr>
                        <a:t>Обществени поръч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743040" indent="-285840">
                        <a:buClr>
                          <a:srgbClr val="4c63a2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2000" spc="-1" strike="noStrike">
                          <a:solidFill>
                            <a:srgbClr val="4c63a2"/>
                          </a:solidFill>
                          <a:latin typeface="Calibri"/>
                          <a:ea typeface="Times New Roman"/>
                        </a:rPr>
                        <a:t>Статистически систе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4:38:40Z</dcterms:created>
  <dc:creator/>
  <dc:description/>
  <dc:language>en-US</dc:language>
  <cp:lastModifiedBy/>
  <dcterms:modified xsi:type="dcterms:W3CDTF">2014-08-08T12:15:51Z</dcterms:modified>
  <cp:revision>1</cp:revision>
  <dc:subject/>
  <dc:title>Slide 1</dc:title>
</cp:coreProperties>
</file>