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902-3C00-444F-B900-DF51F994197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7922-2848-4A02-B3B9-5723C20F2E6E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добрение на програм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ратени официално през системата за електронен обмен на данни с Европейската комис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C 201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8 програми (всички седем оперативни програми и Програмата за развитие на селските район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грамата за морско дело и рибарство ще бъде изпратена на ЕК през септември 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й напреднали – ОП „Развитие на човешките ресурси“ и ОП „транспорт и транспортна 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т се коментари по програмите в рамките на следващите две седм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фициални преговори – втората половина на септемв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артиране на процедури и реално изпъ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П „Развитие на човешките ресурси“ вече е стартирала процедура по операция „Младежка заетост“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та на процедурата е да се повиши конкурентоспособността на младежите чрез осигуряване на възможност за стажуване или обучение по време на работа, което ще улесни прехода от образование към заетост, а и едновременно с това ще доведе до натрупване на ценен професионален опит, необходим за заемане на свободни работни места, заявени от работодатели. Бюджет 35 млн. л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 «Транспорт и транспортна инфраструктура» се предвижда да стартира изпълнението на проекта на Софийското метр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ограмата за развитие на селските райони – прием за млад фер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добрение на системите за управление и контрол и окончателно определяне на управляващи и сертифициращи орг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81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ончателното определяне на УО и СО е условие за извършване на междинни плащания по програмите от Европейската комисия (Е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81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анира се изготвянето на график, с ясни срокове за всички участници, така че да се осигури изпълнението на процедурата в разумни времеви границ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2F3-DDBD-430D-B588-BDB168B871B3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C2EA-D04E-41D0-90E1-50B4308D6F36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548-54E5-4148-812D-700CA1E4A98C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модела СИБИЛА: Инвестиции – придобиване на ДА и увеличение на капиталовите запас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Частни инвестиции – средства за придобиване на машини, съоръжения, оборудване, сгради и т.н. от частния с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ублични инвестиции – предимно средства за инфра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раждане на нова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ъзстановяване на съществуващата инфраструктура в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ществени сгради, пътища, системи за управление на отпадъците, енергий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ективност, паметници на културата и т.н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що така средства, които трябва 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ъдат придобити от и за публичната администр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пример: изграждане на информационни системи в публичния сектор, придобиване на харду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раждане на съвременни системи за телекомуникация и информационен пренос на дан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КТ в образованието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граничения при изготвяне на предварителните оце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Усвояемостта на средствата възлиза на 95-10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дварително условно разпределение на средствата по отношение факторите за икономически расте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ецизни оценки могат да бъдат направени едва след специфицирането на проектите и процедурите и размера на финансирането в рамките на отделните прог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дварителни работни прогнози за икономическото развитие в България и ЕС по отношение на включените в модела икономически индикато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ецизни оценки могат да бъдат направени едва след изготвянето на детайлни прогнози от страна на отговорните и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Допускане, че икономическата конюнктура в страната и ЕС за периода 2014-2020 е сходна с тази през 2010-201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огнозите са изготвени с помощта на първоначалната версия на модела СИБИЛА, разработен в средата на 2011г. Очаква се актуализация/прекалибриране на модела, която по-точно да отразява настъпилите промени в икономическата ср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Допускане, че в новия програмен период основен фокус на финансиране ще бъдат дългосрочни фактори на растежа: иновации, човешки капитал,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3ABD-C1B6-4663-89FF-8D584B71D88D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9E7-706E-44C6-A25C-B1D7AECD9CF3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42568d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 ресурс за периода 2014-202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вропейско финансира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лн. евр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те оперативни прогр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422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морско дело и рибарст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развитие на селските райо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339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 сума по С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8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за европейско подпомагане на най-нуждаещите се лиц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ни плащания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33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ъм за свързване на Европ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0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 териториално сътрудничест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6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о за Бълг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 8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Сумата за 2014 г. е съгласно таблица 2, параграф 4 от Приложение ІІ на Регламент (ЕС) 1310/20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 периода 2015-2020 е съгласно приложение ІІ от Регламент (ЕС) 1307/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145-44DC-4EB7-B596-C2BBAA08193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Идентифициране на най-нуждаещите се лиц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оглед на ограничения финансов ресурс и направените анализи, подкрепата по Оперативната програма по Фонда да Европейско подпомагане на най-нуждаещите се лица 2014-2020 г. ще се предоставя н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цат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помаган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целеви помощи за отопление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йки (осиновителки)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лучавали през предходната календарна година месечни помощи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отглеждане на дете до една годин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реда на чл. 8, ал. 1 от Закона за семейни помощи за дец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(ЗСПД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имащите лица, получавали 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з предходната календарна година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ечна добавка за отглеждане на дете с увреждания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 реда на чл. 8д ЗСП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615-5CFC-4D87-8CF1-E1CEA42F9AB2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50DF-1CDA-4981-AC42-B210CB4BAAD3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Работна дефиниция на уязвими и маргинализирани групи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Уязвими са онези лица и групи от хора, които търпят ограничения по отношение на участието им в 1) социалния живот и ползването на социални права, 2) не успяват да получат достъп или да ползват възможностите,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ито предлагат обществото и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икономиката, 3) имат ограничен достъп до качествено образование и здравни услуги, 4)  ниво на професионална квалификация и умения, които препятстват участието им в пазара на труда, 5) в резултат от горепосочените фактори попадат в ситуация на риск от/ или маргинализиране и социално изключ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Маргинализирана група – това са хора, населяващи определена територия, характеризираща се с: условия на живот в крайна бедност, (изключително ниски доходи или липса на такива); социална изолация; затрудняващи комуникацията с останалата общност; наличие на санитарно – битови условия, неотговарящи на регламентираните стандарти; наличие на техническа инфраструктура, ограничаваща достъпа до обекти на социалната инфраструктура от останалата територия, вкл. водещи до ограничен достъп до здравни услуги, достъп до образование в масовите училища; липса или недостатъчни социални умения и образование; отношение към тях, основано на предразсъдъц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6BA-E691-42B9-B7A1-4A57F8BCE1EB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І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изонтални реформи (общи усло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и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монизиране на нормативната база с новото законодателството на ЕС в областта на обществените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лен административния капацитет: както на АОП, така и на възложителите, контролните и разплащателните орг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и и ефективни процедури, вкл. система на електронни обществени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 систе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ор на показатели за резултатите за всяка 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ване на процедурите за събиране и обработване на необходимите дан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ІІ. Секторни реформи (тематични усло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в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ъществяване на реформите с цел осигуряване на инвестиции в научни изследвания и иновации, така че достигнат 1.5% от брутния вътрешен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емане на Иновационна стратегия за интелигентна специ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правление на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готовка на оценки и картографиране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ирите основни направления рискове (1. сеизмичен и геоложки, 2. ядрена и радиационна авария, 3. наводнения, 4. горски пожари), като оценките ще определят приоритетите по отношение на инвестици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ане на ЗИД на Закона за водите и завършване на реформата в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зработване на Анализ за възстановяването на разходите – по наличните статистически дан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менение на Тарифата за таксите за водовземане, за ползване на воден обект и за замърсяв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ЗИД на Закона за водите, с което да се въведат, прости и приложими механизми за определяне на таксата за замърсяв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законодателни промени в регулаторната рамка в отрасъл В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Наредба за нормите за водопотребление по чл.117а, ал.2 от Закона за вод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ъвеждане на различни цени на услугата водоснабдяване за абонатите, ползващи вода в рамките на нормите за водопотребление, и абонатите, надвишаващи тези нор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готвяне на икономическия анализ на водоползването за периода 2007-2013, на който да се основават мерките и ценовата политика във вторите ПУР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ършване на национални проучвания за преодоляване на пропуски</a:t>
            </a: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 в първите ПУР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вторите ПУР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но проучване за осигуряване на необходимите данни за изменение на климата и въздействието му върху вод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пълнение на тригодишна програма за завършване на интеркалибрирането на методите за анализ и стойностите на биологичните елементи за качество (БЕК) за типовете повърхностни води на територията на България, съответстващи на определени общи европейски тип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изграждане на мрежите за монитор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падъц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емането на Национален план за управление на отпадъците за периода 2014-2020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готвяне на Програма за предотвратяване образуването на отпадъците, която ще бъде част от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дравеопазв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ъвършенстване на модела за предоставяне на здравна помощ, вк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ване на нов модел за спешна медицинска помо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иране на Националната здравна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емане на Закона за училищното образование и да се осигури съответствие с реформите във всички направления на образовани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емане на Стратегията за развитието на висшето 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иемане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на мултимодална транспортна стратегия/ Интегрирана транспортна страте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дминистративна ре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йностите, които остават, за да се изпълни условието 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ка на потребностите на потребителите на административн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а съществуващите потребности от обучение на държавните служ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Необходимо е, обаче, също та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крепване на институционалната среда за по-висока ефективност на публичните услуги за гражданите 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ъвършенстване на стратегическата база в сферата на правосъдието и съдебната ре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ъщане на услугите в областта на електронното управление и осигуряване на електронно правосъ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1EA-D044-4CDB-9B0A-6355CAEA538D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887A-FEDB-4C2D-A575-F8193E99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6B65-D7A3-44AA-9BF8-25FC082C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6398-CBDB-49F9-81E9-9C2E9825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341E-BE43-4AD5-A6CB-DA932C77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7F34-C9C6-49E8-8B2C-58E5FC2A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B20A-888B-4104-8B6B-26E65F5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D2FE-B933-4FFF-ADDD-17BD0466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69DE-63BD-4E7B-B67D-07F8E62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64F-310D-4BBE-869D-34B8126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90D-EF6B-4D25-B95C-EB7C1825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F2E4-39E0-4EB3-95F0-60FC0507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AFC1-FBE1-41A9-A2B0-63E07D6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94E-CE52-4C5F-B8D0-E5FBEE5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061A-2FC3-4C51-8822-9852070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D923-B5FC-4F67-8F91-326CA6BC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B2DE-15CF-4B57-A38C-F5C730F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E62-BBA0-4081-89FD-A15A459F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A9AA-BA51-4FDD-AE5A-1E362F27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4443-9838-4CD9-A1A2-409BEC3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9A37-DEC9-4C66-979C-CCF6BB4F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D851-5095-4A59-B3B1-9FE7392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1040-B8F8-4DC9-BDA0-AD04A4D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49FC-BC35-42F9-8F39-8399BBE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8650-424F-4D8B-83B8-71AEDBC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2C7-B582-460E-8B8E-032E8ABA689A}" type="slidenum">
              <a:rPr b="0" lang="bg-BG" sz="12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D6E-AC51-48CB-AF8F-16DD252128AD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85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3929-EFE4-468A-AC81-69BA47D349F1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3D4B-74CE-4281-9E33-A045E65BDE32}" type="slidenum">
              <a:rPr b="0" lang="bg-BG" sz="14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ufunds.bg/" TargetMode="External"/><Relationship Id="rId3" Type="http://schemas.openxmlformats.org/officeDocument/2006/relationships/hyperlink" Target="mailto:eufunds@government.b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2"/>
          <a:stretch/>
        </p:blipFill>
        <p:spPr>
          <a:xfrm>
            <a:off x="1011240" y="1762200"/>
            <a:ext cx="8156520" cy="332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" descr=""/>
          <p:cNvPicPr/>
          <p:nvPr/>
        </p:nvPicPr>
        <p:blipFill>
          <a:blip r:embed="rId3"/>
          <a:stretch/>
        </p:blipFill>
        <p:spPr>
          <a:xfrm>
            <a:off x="1695600" y="12600"/>
            <a:ext cx="6548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927000" y="182520"/>
            <a:ext cx="7435800" cy="1017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39640" y="1672920"/>
            <a:ext cx="797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Одобрение на програмите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Стартиране на процедури и реално изпълнение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Одобрение на системите за управление и контрол и окончателно определяне на управляващи и сертифициращи органи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203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-2700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8960" y="1989000"/>
            <a:ext cx="7467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c63a2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ww.eufunds.bg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eufunds@government.bg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205" name="Picture 2" descr="C:\Users\s.ignatova\AppData\Local\Microsoft\Windows\Temporary Internet Files\Content.Outlook\0FVJA3N1\EU+logo_BG_2014-2020.jpg"/>
          <p:cNvPicPr/>
          <p:nvPr/>
        </p:nvPicPr>
        <p:blipFill>
          <a:blip r:embed="rId4"/>
          <a:stretch/>
        </p:blipFill>
        <p:spPr>
          <a:xfrm>
            <a:off x="2916360" y="723960"/>
            <a:ext cx="359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2"/>
          <a:stretch/>
        </p:blipFill>
        <p:spPr>
          <a:xfrm>
            <a:off x="811080" y="109440"/>
            <a:ext cx="7729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539640" y="1341360"/>
          <a:ext cx="8101080" cy="5050080"/>
        </p:xfrm>
        <a:graphic>
          <a:graphicData uri="http://schemas.openxmlformats.org/drawingml/2006/table">
            <a:tbl>
              <a:tblPr/>
              <a:tblGrid>
                <a:gridCol w="5040360"/>
                <a:gridCol w="306072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 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вропейско финансир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те оперативни програм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 сума по 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 за европейско подпомагане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й-нуждаещите се ли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плащания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зъм за свързване на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06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йско териториално сътрудн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 за Българи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 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158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Включва и специалната алокация по Инициативата за младежка заетост в размер на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 745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ата за 2014 г. е съгласно таблица 2, параграф 4 от Приложение ІІ на Регламент (ЕС) 1310/2013, а за периода 2015-2020 е съгласно приложение ІІ  от Регламент (ЕС) 13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2"/>
          <a:stretch/>
        </p:blipFill>
        <p:spPr>
          <a:xfrm>
            <a:off x="841320" y="622440"/>
            <a:ext cx="7742160" cy="1292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  <p:pic>
        <p:nvPicPr>
          <p:cNvPr id="180" name="table" descr=""/>
          <p:cNvPicPr/>
          <p:nvPr/>
        </p:nvPicPr>
        <p:blipFill>
          <a:blip r:embed="rId4"/>
          <a:stretch/>
        </p:blipFill>
        <p:spPr>
          <a:xfrm>
            <a:off x="1635120" y="1947960"/>
            <a:ext cx="61056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2"/>
          <a:stretch/>
        </p:blipFill>
        <p:spPr>
          <a:xfrm>
            <a:off x="676440" y="689040"/>
            <a:ext cx="8003880" cy="77472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4" descr=""/>
          <p:cNvPicPr/>
          <p:nvPr/>
        </p:nvPicPr>
        <p:blipFill>
          <a:blip r:embed="rId3"/>
          <a:stretch/>
        </p:blipFill>
        <p:spPr>
          <a:xfrm>
            <a:off x="378000" y="1627200"/>
            <a:ext cx="8510400" cy="5200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s.ignatova\AppData\Local\Microsoft\Windows\Temporary Internet Files\Content.Outlook\0FVJA3N1\EU+logo_BG_2014-2020.jpg"/>
          <p:cNvPicPr/>
          <p:nvPr/>
        </p:nvPicPr>
        <p:blipFill>
          <a:blip r:embed="rId4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2"/>
          <a:stretch/>
        </p:blipFill>
        <p:spPr>
          <a:xfrm>
            <a:off x="334800" y="523800"/>
            <a:ext cx="699948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324000" y="1268280"/>
          <a:ext cx="8712000" cy="5067360"/>
        </p:xfrm>
        <a:graphic>
          <a:graphicData uri="http://schemas.openxmlformats.org/drawingml/2006/table">
            <a:tbl>
              <a:tblPr/>
              <a:tblGrid>
                <a:gridCol w="1584000"/>
                <a:gridCol w="5991480"/>
                <a:gridCol w="1136520"/>
              </a:tblGrid>
              <a:tr h="3654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194b15"/>
                          </a:solidFill>
                          <a:latin typeface="Calibri"/>
                        </a:rPr>
                        <a:t>млн.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от 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863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Транспорт и транспорт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П. транспо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раструктура и подвижен съста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;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ътищ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истрали, пътища І-ви кл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Метро (инфраструктура и подвижен състав); Интермодални термин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761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Околна сред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и (пречиствателни станции и ВиК); Отпадъци (системи за разделно) събиране на отпадъци, оползотворяване, завод за боклука на София); Натура 2000 и биоразнообразие; Защита от наводнения; Опазване на въ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8622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ийна ефективност (публични и жилищни сгради); Болници, ВУЗ-ове, училища, детски градини; Градска среда (благоустрояване); Опазване и развитие на културно-исторически паметници; Пътища 1, 2 и 3-ти клас; Градски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очени към бизнеса и предприятията; Иновации; Нови технологии; Енергийна ефективност;  Навлизане на международни паз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8611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науката; Развитие на качествено образование на всички нива; Намаляване на ранното отпадане от училище и образователна интеграция на малцинствени групи;  Учене през целия жив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468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2"/>
          <a:stretch/>
        </p:blipFill>
        <p:spPr>
          <a:xfrm>
            <a:off x="249120" y="457200"/>
            <a:ext cx="7066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324000" y="1197000"/>
          <a:ext cx="8640720" cy="5342040"/>
        </p:xfrm>
        <a:graphic>
          <a:graphicData uri="http://schemas.openxmlformats.org/drawingml/2006/table">
            <a:tbl>
              <a:tblPr/>
              <a:tblGrid>
                <a:gridCol w="1368360"/>
                <a:gridCol w="6264360"/>
                <a:gridCol w="100800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194b15"/>
                          </a:solidFill>
                          <a:latin typeface="Calibri"/>
                        </a:rPr>
                        <a:t>млн.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от 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11779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ки за заетост (посреднически услуги, обучения, стажове, предприемачество); Мерки за качествени социални и здравни услуги, деинституционализация на деца и възрастни; Подкрепа за институциите и партньорите в сферата на пазара на труда, социалното включване и здравеопазване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9349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о административно обслужване и намаляване на административната тежест; Управление на човешките ресурси в администрацията и съдебната система; Електронно управление (е-здравеопазване, е-образование, е-обществени поръчки, е-митници и е-идентификация, е-правосъд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792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крепа в сектора на аквакултурата, рибарството и свързаната с тях преработка; диверсификация; мерки за заетост; мерки за опазване на околната среда; иновации; контрол и събиране на дан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земеделските стопанства (МСП в селските райони); НИРД и иновации; образование; заетост; опазване на околната среда; диверсификация; инвестиции в публична инфраструктура; пазари на производителите;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465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26856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РЧР включва и специалната алокация по Инициативата за младежка зает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58514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611280" y="1628640"/>
          <a:ext cx="8137440" cy="4757760"/>
        </p:xfrm>
        <a:graphic>
          <a:graphicData uri="http://schemas.openxmlformats.org/drawingml/2006/table">
            <a:tbl>
              <a:tblPr/>
              <a:tblGrid>
                <a:gridCol w="1584360"/>
                <a:gridCol w="2663640"/>
                <a:gridCol w="3889440"/>
              </a:tblGrid>
              <a:tr h="560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9224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стиции в човешкия капита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-здравеопазв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исшето образование в тази сфера, научно-изследователска  инфраструктура в медицин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сички нива на образованието, учене през целия живот, образование на маргинализирани и уязвими гр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е през целия жив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, професионално об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728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ъздаване и внедряване на иновации, внедряване на технологии и приложни изследвания от бизнеса в партньорство с научнит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приложни и научни изследвания и науно-изследователск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селското стопа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акваквакултур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ни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468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2"/>
          <a:stretch/>
        </p:blipFill>
        <p:spPr>
          <a:xfrm>
            <a:off x="165240" y="182520"/>
            <a:ext cx="6095880" cy="11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30680" y="4680"/>
            <a:ext cx="3598920" cy="8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24000" y="1341360"/>
          <a:ext cx="8712000" cy="5283360"/>
        </p:xfrm>
        <a:graphic>
          <a:graphicData uri="http://schemas.openxmlformats.org/drawingml/2006/table">
            <a:tbl>
              <a:tblPr/>
              <a:tblGrid>
                <a:gridCol w="1368360"/>
                <a:gridCol w="2950920"/>
                <a:gridCol w="4392720"/>
              </a:tblGrid>
              <a:tr h="287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нефици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7152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СП (бизне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, предприемачество, технологично развитие, енергийна ефективност, финансови инструм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изследователска инфраструктура и изследвания, като партньори на научно-изследователскит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тиране на бизнес, предприемачески учения, мерки за заетост и квалификация на работната сила, микро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еса в сектора на земедерието, хранително-вкусов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изнеса в сектора на аквакултури, преработвателн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улаторната и административна рамка, въвеждане на електронна търговия и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296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енти 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торан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пендии, студентски практики, участие в научни проекти и разработк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зможност за стартиране на предприемачество и бизнес, младежка заетост, микрокредит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ове за стартиращо 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язвими груп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социални предприятия, социални услуги, заетост, социално включване, деинституцион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, насочено към уязвими гр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етост, деинституционализация, развитие 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институционализация, специализирана и здрав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585720" y="901800"/>
            <a:ext cx="8223480" cy="804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71280" y="1915920"/>
            <a:ext cx="7467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63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c63a2"/>
                </a:solidFill>
                <a:latin typeface="Calibri"/>
              </a:rPr>
              <a:t>Хоризонтални реформи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4c63a2"/>
                </a:solidFill>
                <a:latin typeface="Calibri"/>
              </a:rPr>
              <a:t>7 условия: 5 изпълнени и 2 частично изпълн</a:t>
            </a:r>
            <a:r>
              <a:rPr b="0" i="1" lang="bg-BG" sz="2400" spc="-1" strike="noStrike">
                <a:solidFill>
                  <a:srgbClr val="4c63a2"/>
                </a:solidFill>
                <a:latin typeface="Calibri"/>
              </a:rPr>
              <a:t>ени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4c63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601"/>
              </a:spcAft>
              <a:buClr>
                <a:srgbClr val="4c63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c63a2"/>
                </a:solidFill>
                <a:latin typeface="Calibri"/>
              </a:rPr>
              <a:t>Секторни реформи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4c63a2"/>
                </a:solidFill>
                <a:latin typeface="Calibri"/>
              </a:rPr>
              <a:t>35 условия: 15 изпълнени, 5 частично изпълнени, 15 неизпълнен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198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1116000" y="4508640"/>
          <a:ext cx="7343640" cy="1873080"/>
        </p:xfrm>
        <a:graphic>
          <a:graphicData uri="http://schemas.openxmlformats.org/drawingml/2006/table">
            <a:tbl>
              <a:tblPr/>
              <a:tblGrid>
                <a:gridCol w="3311640"/>
                <a:gridCol w="403200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Инов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Управление на р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В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Отпадъ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Тран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Административна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71640" y="2924280"/>
          <a:ext cx="7340400" cy="396720"/>
        </p:xfrm>
        <a:graphic>
          <a:graphicData uri="http://schemas.openxmlformats.org/drawingml/2006/table">
            <a:tbl>
              <a:tblPr/>
              <a:tblGrid>
                <a:gridCol w="3456000"/>
                <a:gridCol w="388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  <a:ea typeface="Times New Roman"/>
                        </a:rPr>
                        <a:t>Обществени поръ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  <a:ea typeface="Times New Roman"/>
                        </a:rPr>
                        <a:t>Статистически сист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4:38:40Z</dcterms:created>
  <dc:creator/>
  <dc:description/>
  <dc:language>en-US</dc:language>
  <cp:lastModifiedBy/>
  <dcterms:modified xsi:type="dcterms:W3CDTF">2014-08-08T12:15:51Z</dcterms:modified>
  <cp:revision>1</cp:revision>
  <dc:subject/>
  <dc:title>Slide 1</dc:title>
</cp:coreProperties>
</file>