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4557E1-BFCE-4524-9DB2-D9DF0238706C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406E78-64DC-4A09-A89D-39D2529CF71E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841EE3-DFAC-442D-AD09-3B516B6AA802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F251DB-53D0-40D8-8A49-F679CFFE491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DF14FF-BD9D-40C3-A7DC-4331C301D56D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7BD5C9-F3B7-4F87-A92F-D24489A4DCCA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248305-8732-41A2-B563-428BC6758B9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C14968-1B5C-4CB5-86AA-F6C54E98FB63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7F5077-7CAB-4A4C-84A0-54556E8994DD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FFD-8A16-4902-838D-AFE99661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71C-580F-4832-80AD-FC36F786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137-C2E1-4EED-B718-B57DE408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215-E9CC-44C4-9BAF-F6E14C63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8BD4-3B40-4B5D-A33C-A7DCC000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189-F9C4-4E5C-BF4E-824F570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D65-C9C4-4962-BBAB-11ED471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73C-7147-44FA-9EE5-B8E29A1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625-2CE2-4024-A6CF-7ACED383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D50-3BD3-48FD-82A7-CD5B577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65E-8862-4BCB-A9A0-8A6A47F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001-1E54-457C-B3E6-0F68C38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EF69-1680-43AB-9EF8-256AAFF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C65-4ECD-41F1-8BDF-8F470FE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EDF-FE81-4925-8095-34B3248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1F54-5FD5-47CF-B6E3-2C6F907A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E65-6492-4372-9AF9-9B0E7205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A8D6-7109-4B84-B0AB-CA7D0C17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EFB5-4B00-4336-BD3D-0E7C12DC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8168-83F6-4F35-9935-AA90B43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91B2-B545-4D44-B064-8A652F3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425C-F734-4440-AC90-F32119B6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911-38EB-41DF-B865-FB0528A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9943-A144-4C78-B6C6-B5D0FD07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E6E7-2E20-462F-84F0-63D98E4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C0AB-31FD-47E0-A23B-FB71F7B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6AA9-E924-48C1-B35F-EC9CC44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CCA2-54C1-4CEB-AF34-7BA13F4D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A170-901D-4106-9E14-45C1C374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7FB7-B4CB-4E26-955F-6D68300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F46-C7D6-4DCB-8F60-AD789481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B28-D11E-4C69-BE84-E55E9E2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7F0-CF91-4BE0-9677-E45A449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87D-A178-4AF8-B61E-5EBFF67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C16-CFBC-45A4-BCAB-C1CD880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D24-AC98-46A0-9651-11F4254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C2B-C577-4FEB-9D30-45C5407A471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8F2-2E37-42CA-AC27-4037ABA8D4D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D91-143D-4070-AD84-9FFE4B8A2753}" type="slidenum"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mrrb.government.bg/" TargetMode="External"/><Relationship Id="rId6" Type="http://schemas.openxmlformats.org/officeDocument/2006/relationships/hyperlink" Target="http://www.bgregio.eu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36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24000" y="1773360"/>
            <a:ext cx="856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Региони в растеж” 2014 – 2020 г. </a:t>
            </a:r>
            <a:br>
              <a:rPr sz="24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Годишна конферен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0 декемв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13г., гр. Стара За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www.mrrb.government.bg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4920" y="333360"/>
            <a:ext cx="5976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Логика на интервенции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0" y="1468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438120" y="15462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Calibri"/>
              </a:rPr>
              <a:t>Интегриран градски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108000" y="1949400"/>
            <a:ext cx="4643280" cy="2271600"/>
          </a:xfrm>
          <a:prstGeom prst="ellipse">
            <a:avLst/>
          </a:prstGeom>
          <a:noFill/>
          <a:ln w="12708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Градска среда, икономически зо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бщинска образователна инфраструктура, социална, културна и 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Град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57040" y="4341960"/>
            <a:ext cx="4819680" cy="337320"/>
          </a:xfrm>
          <a:prstGeom prst="rect">
            <a:avLst/>
          </a:prstGeom>
          <a:noFill/>
          <a:ln w="475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Calibri"/>
              </a:rPr>
              <a:t>Секторни политики от регионално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295280" y="5834160"/>
            <a:ext cx="9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драв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паз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2050920" y="5834160"/>
            <a:ext cx="83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2771640" y="583416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онален туризъ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3635280" y="583416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ът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16"/>
          <p:cNvSpPr/>
          <p:nvPr/>
        </p:nvSpPr>
        <p:spPr>
          <a:xfrm>
            <a:off x="1454040" y="4748040"/>
            <a:ext cx="303480" cy="1008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17"/>
          <p:cNvSpPr/>
          <p:nvPr/>
        </p:nvSpPr>
        <p:spPr>
          <a:xfrm>
            <a:off x="232416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18"/>
          <p:cNvSpPr/>
          <p:nvPr/>
        </p:nvSpPr>
        <p:spPr>
          <a:xfrm>
            <a:off x="3116160" y="4748040"/>
            <a:ext cx="303480" cy="1008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19"/>
          <p:cNvSpPr/>
          <p:nvPr/>
        </p:nvSpPr>
        <p:spPr>
          <a:xfrm>
            <a:off x="390852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842000" y="1484280"/>
            <a:ext cx="4194000" cy="27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дкрепа за ИПГВ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дна схема без краен ср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Лимити единствено между тематични це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. 5% за социална инфраструкту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делен ресурс за всеки гра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нтегрирано въздействие върху територия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Хоризонтален подход за енергийна ефективност в жилища и градски 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0 % за функционални връзки за градовете от 1-во, 2-ро и 3-т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5219640" y="4221000"/>
            <a:ext cx="381636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форма в здравеопазването с отчитане на териториалните измер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еинституционализ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ратегия за образ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азване на културно и природно наследство. Потенциал на територия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лючови пътни отсечки от 1-ви, 2-ри и 3-ти клас с достъп до ТЕН-Т мреж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щита от свлачищ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own Arrow 22"/>
          <p:cNvSpPr/>
          <p:nvPr/>
        </p:nvSpPr>
        <p:spPr>
          <a:xfrm>
            <a:off x="470052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4356000" y="5853240"/>
            <a:ext cx="103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венция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own Arrow 18"/>
          <p:cNvSpPr/>
          <p:nvPr/>
        </p:nvSpPr>
        <p:spPr>
          <a:xfrm>
            <a:off x="523800" y="472428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79280" y="58053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разовател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329760"/>
            <a:ext cx="61167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ериториален обхват на ОП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0" y="141300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5"/>
          <a:stretch/>
        </p:blipFill>
        <p:spPr>
          <a:xfrm>
            <a:off x="654120" y="1467000"/>
            <a:ext cx="7564320" cy="5171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tretch/>
        </p:blipFill>
        <p:spPr>
          <a:xfrm>
            <a:off x="6227640" y="5589720"/>
            <a:ext cx="2266920" cy="37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tretch/>
        </p:blipFill>
        <p:spPr>
          <a:xfrm>
            <a:off x="6227640" y="6021360"/>
            <a:ext cx="22654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0" y="1284120"/>
            <a:ext cx="45306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84480" indent="-3844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Включва подкрепа по следните инвестиционни приорите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75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ct val="85000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34 млн. евро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ва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две груп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179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55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7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ct val="85000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2 млн. евро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ва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три груп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5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2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55 млн. ев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5"/>
          <a:stretch/>
        </p:blipFill>
        <p:spPr>
          <a:xfrm>
            <a:off x="5243400" y="1413000"/>
            <a:ext cx="3432240" cy="273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ttp://www.bgregio.eu/media/Dobri%20praktiki/DSC_0520.JPG"/>
          <p:cNvPicPr/>
          <p:nvPr/>
        </p:nvPicPr>
        <p:blipFill>
          <a:blip r:embed="rId6"/>
          <a:stretch/>
        </p:blipFill>
        <p:spPr>
          <a:xfrm>
            <a:off x="5243400" y="4237200"/>
            <a:ext cx="34322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81000" y="1620720"/>
            <a:ext cx="4635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7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броя на преждевременно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тпадналите от училище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повишаване на броя на хората с висш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ontent Placeholder 2"/>
          <p:cNvSpPr/>
          <p:nvPr/>
        </p:nvSpPr>
        <p:spPr>
          <a:xfrm>
            <a:off x="81000" y="4575240"/>
            <a:ext cx="4573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5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здравния статус на населението, чрез модернизация на здравната инфраструктура в градове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746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292720" y="4575240"/>
            <a:ext cx="3527280" cy="215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HTMU-after 3"/>
          <p:cNvPicPr/>
          <p:nvPr/>
        </p:nvPicPr>
        <p:blipFill>
          <a:blip r:embed="rId6"/>
          <a:stretch/>
        </p:blipFill>
        <p:spPr>
          <a:xfrm>
            <a:off x="5286240" y="1790640"/>
            <a:ext cx="3533760" cy="22608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87480" y="1830240"/>
            <a:ext cx="41972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4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отенциал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64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87480" y="4076640"/>
            <a:ext cx="419724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ервация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1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, чрез насърчаване на регионалния туризъ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местния икономически потенциал и нови форми на заетост в региони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финансови инсрументи, НП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15092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292720" y="4179960"/>
            <a:ext cx="3382920" cy="2498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6"/>
          <a:stretch/>
        </p:blipFill>
        <p:spPr>
          <a:xfrm>
            <a:off x="5292720" y="1711440"/>
            <a:ext cx="3382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06200" y="1787400"/>
            <a:ext cx="4440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68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403280" y="140508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115920" y="4232160"/>
            <a:ext cx="452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в съответствие с методологията за приоритизиране на свлачищни обек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403280" y="3817800"/>
            <a:ext cx="5046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zx480_1139082"/>
          <p:cNvPicPr/>
          <p:nvPr/>
        </p:nvPicPr>
        <p:blipFill>
          <a:blip r:embed="rId5"/>
          <a:stretch/>
        </p:blipFill>
        <p:spPr>
          <a:xfrm>
            <a:off x="5668920" y="4238640"/>
            <a:ext cx="3365640" cy="246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borisov_okolovrastno_6923_ant"/>
          <p:cNvPicPr/>
          <p:nvPr/>
        </p:nvPicPr>
        <p:blipFill>
          <a:blip r:embed="rId6"/>
          <a:stretch/>
        </p:blipFill>
        <p:spPr>
          <a:xfrm>
            <a:off x="5541840" y="1797120"/>
            <a:ext cx="3364200" cy="2054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1403280" y="6192720"/>
            <a:ext cx="5046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590400" y="1428840"/>
            <a:ext cx="82296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Иван П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Началник на отдел „Програмиране, оценка, информация и публичност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ГД „Програмиране на регионалното развитие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Tsvetelina Dimitrova</cp:lastModifiedBy>
  <cp:lastPrinted>2013-10-08T12:37:27Z</cp:lastPrinted>
  <dcterms:modified xsi:type="dcterms:W3CDTF">2013-12-06T11:52:26Z</dcterms:modified>
  <cp:revision>222</cp:revision>
  <dc:subject/>
  <dc:title>Оперативна програма “Региони в растеж” 2014 - 2020</dc:title>
</cp:coreProperties>
</file>