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D0FF6A-9A38-4513-BDF3-A695647B09F4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3EB9EEF-E407-4225-BAF4-99B7AED9790F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A14AE0-4627-445F-B76D-97F2A73E3F2E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47270A1-94D2-49AC-BDB1-83FE5DFC0A7A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02C525D-3DDA-4FBB-B960-A04D7EA3C6FD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31B2D94-17CA-4187-AEDB-EF4C540CF995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727F0A-1CFE-45A8-84B4-490BE156B8C3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0FA5300-29EB-4D4A-80D2-A1DE9FC390A7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BFF77C4-4E2E-45CC-8087-B8A4A753149D}" type="slidenum">
              <a:rPr b="0" lang="bg-BG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05C-E12E-4D56-BA75-1AB13AD4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DE9-255D-4AD7-8D70-296BC016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D51-570A-45E4-A1B3-0BE29E9B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B73-F7EF-4CA7-ABC6-69A5A26A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3B4E-78FF-4BFF-9A15-626E04BD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4807-77E6-446E-8068-04F31526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B198-821B-46DC-A78C-E3786FB2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AC5B-1865-4813-9F86-683405B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5CCC-4DAC-4F2A-90BA-8F56698A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E496-A761-4BED-8579-392ABA64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2B85-DD4B-4E5A-A9F1-58E7BE8E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837-58DB-4412-92BE-FDA813C6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2311-93AF-4437-9DEF-7F00D2D9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B649-5A5D-46FB-8184-E116DD09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2B56-4751-481B-943F-D83D4CBE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318D-F3AF-430B-9338-591FCF7E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7BAF-78DF-4229-9DE4-64A41388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4042-01C7-404A-A248-D33DF528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0B75D-5BDB-42CA-BBC7-F83ADBB5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CB84-3808-41EB-A04B-AAFDDF9D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25D0-8508-40E4-86BA-9C0ADAA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E362-CBFF-40ED-A251-8F9BF939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F70-0295-46AC-8598-950CBA29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88D99-A9C2-4814-9468-B9C5D6E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C05D1-71AC-489C-8EF3-0A292563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974B9-CEF3-49AD-9B2D-41FD9364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7483-AFC4-4C58-ACEC-EDB7C339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4AA7-0906-4851-8528-B4351078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9708-9973-45E0-AD53-D3CC8CE0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C68BF-58C5-4B6D-BC39-C6765B77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362-8533-43E6-93D4-17E4A6B5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802-5194-4E86-9454-9333D55B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6CA-8571-4B28-8836-34E485FD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E43-4EEF-425E-82D0-AF279132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F0F-9145-458A-A97B-D727304E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8176-37C1-4CA2-9EE5-22E4C01C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FAA6-D260-4BB3-A715-3314F203F59D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C8B3-D5FB-4220-B04C-72B4C0A2A204}" type="slidenum">
              <a:rPr b="0" lang="bg-B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43A1-6861-47E3-94FF-54BCCB1A0092}" type="slidenum"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1619280" y="126828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mrrb.government.bg/" TargetMode="External"/><Relationship Id="rId6" Type="http://schemas.openxmlformats.org/officeDocument/2006/relationships/hyperlink" Target="http://www.bgregio.eu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slide_EU logo.png"/>
          <p:cNvPicPr/>
          <p:nvPr/>
        </p:nvPicPr>
        <p:blipFill>
          <a:blip r:embed="rId2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sp>
        <p:nvSpPr>
          <p:cNvPr id="136" name="Line 18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324000" y="1773360"/>
            <a:ext cx="856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Оперативна прогр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“</a:t>
            </a:r>
            <a:r>
              <a:rPr b="1" lang="ru-RU" sz="3000" spc="-1" strike="noStrike">
                <a:solidFill>
                  <a:srgbClr val="c00000"/>
                </a:solidFill>
                <a:latin typeface="Arial"/>
                <a:ea typeface="Arial"/>
              </a:rPr>
              <a:t>Региони в растеж” 2014 – 2020 г. </a:t>
            </a:r>
            <a:br>
              <a:rPr sz="24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Годишна конференц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  <a:ea typeface="Arial"/>
              </a:rPr>
              <a:t>10 декемв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13г., гр. Стара Заг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www.mrrb.government.bg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www.bgregio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4920" y="333360"/>
            <a:ext cx="597672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  <a:ea typeface="Arial"/>
              </a:rPr>
              <a:t>Логика на интервенции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0" y="1468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438120" y="15462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Calibri"/>
              </a:rPr>
              <a:t>Интегриран градски приор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108000" y="1949400"/>
            <a:ext cx="4643280" cy="2271600"/>
          </a:xfrm>
          <a:prstGeom prst="ellipse">
            <a:avLst/>
          </a:prstGeom>
          <a:noFill/>
          <a:ln w="127080">
            <a:solidFill>
              <a:srgbClr val="2540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Енергийна ефе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Градска среда, икономически зо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Общинска образователна инфраструктура, социална, културна и спортна инфра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Градск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257040" y="4341960"/>
            <a:ext cx="4819680" cy="337320"/>
          </a:xfrm>
          <a:prstGeom prst="rect">
            <a:avLst/>
          </a:prstGeom>
          <a:noFill/>
          <a:ln w="475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70c0"/>
                </a:solidFill>
                <a:latin typeface="Calibri"/>
              </a:rPr>
              <a:t>Секторни политики от регионално зна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2"/>
          <p:cNvSpPr/>
          <p:nvPr/>
        </p:nvSpPr>
        <p:spPr>
          <a:xfrm>
            <a:off x="1295280" y="5834160"/>
            <a:ext cx="9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драв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пазв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2050920" y="5834160"/>
            <a:ext cx="83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оциална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4"/>
          <p:cNvSpPr/>
          <p:nvPr/>
        </p:nvSpPr>
        <p:spPr>
          <a:xfrm>
            <a:off x="2771640" y="583416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Регионален туризъ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3635280" y="583416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ътна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16"/>
          <p:cNvSpPr/>
          <p:nvPr/>
        </p:nvSpPr>
        <p:spPr>
          <a:xfrm>
            <a:off x="1454040" y="4748040"/>
            <a:ext cx="303480" cy="10083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17"/>
          <p:cNvSpPr/>
          <p:nvPr/>
        </p:nvSpPr>
        <p:spPr>
          <a:xfrm>
            <a:off x="2324160" y="4748040"/>
            <a:ext cx="303120" cy="1008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wn Arrow 18"/>
          <p:cNvSpPr/>
          <p:nvPr/>
        </p:nvSpPr>
        <p:spPr>
          <a:xfrm>
            <a:off x="3116160" y="4748040"/>
            <a:ext cx="303480" cy="100836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n Arrow 19"/>
          <p:cNvSpPr/>
          <p:nvPr/>
        </p:nvSpPr>
        <p:spPr>
          <a:xfrm>
            <a:off x="3908520" y="4748040"/>
            <a:ext cx="303120" cy="1008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842000" y="1484280"/>
            <a:ext cx="4194000" cy="27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Подкрепа за ИПГВ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Една схема без краен ср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Лимити единствено между тематични цел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Мин. 5% за социална инфраструкту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делен ресурс за всеки гра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нтегрирано въздействие върху територия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Хоризонтален подход за енергийна ефективност в жилища и градски транспор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20 % за функционални връзки за градовете от 1-во, 2-ро и 3-то ни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2"/>
          <p:cNvSpPr/>
          <p:nvPr/>
        </p:nvSpPr>
        <p:spPr>
          <a:xfrm>
            <a:off x="5219640" y="4221000"/>
            <a:ext cx="3816360" cy="22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форма в здравеопазването с отчитане на териториалните измер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Деинституционализац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тратегия за образо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азване на културно и природно наследство. Потенциал на територия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лючови пътни отсечки от 1-ви, 2-ри и 3-ти клас с достъп до ТЕН-Т мрежа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Защита от свлачищ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own Arrow 22"/>
          <p:cNvSpPr/>
          <p:nvPr/>
        </p:nvSpPr>
        <p:spPr>
          <a:xfrm>
            <a:off x="4700520" y="4748040"/>
            <a:ext cx="303120" cy="1008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3"/>
          <p:cNvSpPr/>
          <p:nvPr/>
        </p:nvSpPr>
        <p:spPr>
          <a:xfrm>
            <a:off x="4356000" y="5853240"/>
            <a:ext cx="103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евенция н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Down Arrow 18"/>
          <p:cNvSpPr/>
          <p:nvPr/>
        </p:nvSpPr>
        <p:spPr>
          <a:xfrm>
            <a:off x="523800" y="4724280"/>
            <a:ext cx="303120" cy="100836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cc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179280" y="580536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разователна 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slide_EU logo.png"/>
          <p:cNvPicPr/>
          <p:nvPr/>
        </p:nvPicPr>
        <p:blipFill>
          <a:blip r:embed="rId3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329760"/>
            <a:ext cx="61167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Териториален обхват на ОПР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8"/>
          <p:cNvSpPr/>
          <p:nvPr/>
        </p:nvSpPr>
        <p:spPr>
          <a:xfrm>
            <a:off x="0" y="141300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slide_EU logo.png"/>
          <p:cNvPicPr/>
          <p:nvPr/>
        </p:nvPicPr>
        <p:blipFill>
          <a:blip r:embed="rId3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/>
          <p:cNvPicPr/>
          <p:nvPr/>
        </p:nvPicPr>
        <p:blipFill>
          <a:blip r:embed="rId5"/>
          <a:stretch/>
        </p:blipFill>
        <p:spPr>
          <a:xfrm>
            <a:off x="654120" y="1467000"/>
            <a:ext cx="7564320" cy="5171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"/>
          <p:cNvPicPr/>
          <p:nvPr/>
        </p:nvPicPr>
        <p:blipFill>
          <a:blip r:embed="rId6"/>
          <a:stretch/>
        </p:blipFill>
        <p:spPr>
          <a:xfrm>
            <a:off x="6227640" y="5589720"/>
            <a:ext cx="2266920" cy="371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7"/>
          <a:stretch/>
        </p:blipFill>
        <p:spPr>
          <a:xfrm>
            <a:off x="6227640" y="6021360"/>
            <a:ext cx="226548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slide_EU logo.png"/>
          <p:cNvPicPr/>
          <p:nvPr/>
        </p:nvPicPr>
        <p:blipFill>
          <a:blip r:embed="rId2"/>
          <a:stretch/>
        </p:blipFill>
        <p:spPr>
          <a:xfrm>
            <a:off x="179280" y="468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7885080" y="12708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82560" y="333360"/>
            <a:ext cx="5978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а ос 1: „Устойчиво и интегрирано градско развитие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0" y="1279440"/>
            <a:ext cx="906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0" y="1284120"/>
            <a:ext cx="453060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84480" indent="-384480" algn="just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Включва подкрепа по следните инвестиционни приорите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ts val="1698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1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Енергийна ефективност в административни и жилищни сгради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275 млн. евро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ct val="85000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2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добряване на градска сред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234 млн. евро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ключва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две групи дей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градска сред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179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они с потенциал за икономическо развитие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55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ts val="1698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3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те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77 млн. евр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ct val="85000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4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42 млн. евро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ключва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три групи дейно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циал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45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орт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- 42 млн. евр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85000"/>
              </a:lnSpc>
              <a:spcAft>
                <a:spcPts val="700"/>
              </a:spcAft>
              <a:buClr>
                <a:srgbClr val="000000"/>
              </a:buClr>
              <a:buFont typeface="Courier New"/>
              <a:buChar char="o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ултурна инфраструктура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– 55 млн. евр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ts val="1698"/>
              </a:lnSpc>
              <a:spcAft>
                <a:spcPts val="700"/>
              </a:spcAft>
              <a:buClr>
                <a:srgbClr val="003399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 5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ан градски транспорт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24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4480" indent="-384480" algn="just">
              <a:lnSpc>
                <a:spcPts val="1698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5"/>
          <a:stretch/>
        </p:blipFill>
        <p:spPr>
          <a:xfrm>
            <a:off x="5243400" y="1413000"/>
            <a:ext cx="3432240" cy="2736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ttp://www.bgregio.eu/media/Dobri%20praktiki/DSC_0520.JPG"/>
          <p:cNvPicPr/>
          <p:nvPr/>
        </p:nvPicPr>
        <p:blipFill>
          <a:blip r:embed="rId6"/>
          <a:stretch/>
        </p:blipFill>
        <p:spPr>
          <a:xfrm>
            <a:off x="5243400" y="4237200"/>
            <a:ext cx="34322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slide_EU logo.png"/>
          <p:cNvPicPr/>
          <p:nvPr/>
        </p:nvPicPr>
        <p:blipFill>
          <a:blip r:embed="rId2"/>
          <a:stretch/>
        </p:blipFill>
        <p:spPr>
          <a:xfrm>
            <a:off x="285840" y="5256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834320" y="1890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18920" y="274320"/>
            <a:ext cx="5977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18"/>
          <p:cNvSpPr/>
          <p:nvPr/>
        </p:nvSpPr>
        <p:spPr>
          <a:xfrm flipV="1">
            <a:off x="0" y="1332000"/>
            <a:ext cx="92520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250920" y="1700280"/>
            <a:ext cx="856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2"/>
          <p:cNvSpPr/>
          <p:nvPr/>
        </p:nvSpPr>
        <p:spPr>
          <a:xfrm>
            <a:off x="81000" y="1620720"/>
            <a:ext cx="463536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ции в образованието, уменията и ученето през целия живот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77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маляване броя на преждевременно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тпадналите от училище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и повишаване на броя на хората с висше образо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ОН, МЗХ, МК, ММС, Висши училища, общини за общинска образователна инфраструктура от национално и регионално значение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882720" y="1341360"/>
            <a:ext cx="7475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2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образовател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ontent Placeholder 2"/>
          <p:cNvSpPr/>
          <p:nvPr/>
        </p:nvSpPr>
        <p:spPr>
          <a:xfrm>
            <a:off x="81000" y="4575240"/>
            <a:ext cx="4573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 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55 мл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Повишаване на здравния статус на населението, чрез модернизация на здравната инфраструктура в градове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здравеопазването и общ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674640" y="4221000"/>
            <a:ext cx="77216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3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здрав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StefanovZ\Desktop\КН 27.05\Ehograf-Ruse.JPG"/>
          <p:cNvPicPr/>
          <p:nvPr/>
        </p:nvPicPr>
        <p:blipFill>
          <a:blip r:embed="rId5"/>
          <a:stretch/>
        </p:blipFill>
        <p:spPr>
          <a:xfrm>
            <a:off x="5292720" y="4575240"/>
            <a:ext cx="3527280" cy="2154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HTMU-after 3"/>
          <p:cNvPicPr/>
          <p:nvPr/>
        </p:nvPicPr>
        <p:blipFill>
          <a:blip r:embed="rId6"/>
          <a:stretch/>
        </p:blipFill>
        <p:spPr>
          <a:xfrm>
            <a:off x="5286240" y="1790640"/>
            <a:ext cx="3533760" cy="2260800"/>
          </a:xfrm>
          <a:prstGeom prst="rect">
            <a:avLst/>
          </a:prstGeom>
          <a:ln w="19080">
            <a:solidFill>
              <a:srgbClr val="000000">
                <a:alpha val="98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slide_EU logo.png"/>
          <p:cNvPicPr/>
          <p:nvPr/>
        </p:nvPicPr>
        <p:blipFill>
          <a:blip r:embed="rId2"/>
          <a:stretch/>
        </p:blipFill>
        <p:spPr>
          <a:xfrm>
            <a:off x="196920" y="61920"/>
            <a:ext cx="1103400" cy="1279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4"/>
          <a:stretch/>
        </p:blipFill>
        <p:spPr>
          <a:xfrm>
            <a:off x="7736040" y="189000"/>
            <a:ext cx="1083960" cy="1152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79280" y="182160"/>
            <a:ext cx="504036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Приоритетн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2"/>
          <p:cNvSpPr/>
          <p:nvPr/>
        </p:nvSpPr>
        <p:spPr>
          <a:xfrm>
            <a:off x="87480" y="1830240"/>
            <a:ext cx="419724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нвестиране в здравна и социална инфраструктура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44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Социално приобщаване, чрез инвестиции в социална инфраструктура в градове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Потенциални бенефициенти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64 общ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863640" y="1405080"/>
            <a:ext cx="635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4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 соци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2"/>
          <p:cNvSpPr/>
          <p:nvPr/>
        </p:nvSpPr>
        <p:spPr>
          <a:xfrm>
            <a:off x="87480" y="4076640"/>
            <a:ext cx="4197240" cy="27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нсервация, опазване, популяризиране и развитие на природното и културното наследство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10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и цел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Опазване, популяризиране и развитие на културното и природно наследство, чрез насърчаване на регионалния туризъ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Насърчаване на местния икономически потенциал и нови форми на заетост в региони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 бенефициент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К, религиозни институции, общини, финансови инсрументи, НП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1150920" y="3852720"/>
            <a:ext cx="5776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5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ен туризъм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DimovD\Desktop\снимки ОПРР\асенова крепост\18.jpg"/>
          <p:cNvPicPr/>
          <p:nvPr/>
        </p:nvPicPr>
        <p:blipFill>
          <a:blip r:embed="rId5"/>
          <a:stretch/>
        </p:blipFill>
        <p:spPr>
          <a:xfrm>
            <a:off x="5292720" y="4179960"/>
            <a:ext cx="3382920" cy="2498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"/>
          <p:cNvPicPr/>
          <p:nvPr/>
        </p:nvPicPr>
        <p:blipFill>
          <a:blip r:embed="rId6"/>
          <a:stretch/>
        </p:blipFill>
        <p:spPr>
          <a:xfrm>
            <a:off x="5292720" y="1711440"/>
            <a:ext cx="338292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slide_EU logo.png"/>
          <p:cNvPicPr/>
          <p:nvPr/>
        </p:nvPicPr>
        <p:blipFill>
          <a:blip r:embed="rId2"/>
          <a:stretch/>
        </p:blipFill>
        <p:spPr>
          <a:xfrm>
            <a:off x="250920" y="74520"/>
            <a:ext cx="1103040" cy="127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slide_www.png"/>
          <p:cNvPicPr/>
          <p:nvPr/>
        </p:nvPicPr>
        <p:blipFill>
          <a:blip r:embed="rId3"/>
          <a:stretch/>
        </p:blipFill>
        <p:spPr>
          <a:xfrm>
            <a:off x="361800" y="6607080"/>
            <a:ext cx="1041480" cy="135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"/>
          <p:cNvPicPr/>
          <p:nvPr/>
        </p:nvPicPr>
        <p:blipFill>
          <a:blip r:embed="rId4"/>
          <a:stretch/>
        </p:blipFill>
        <p:spPr>
          <a:xfrm>
            <a:off x="7812000" y="201600"/>
            <a:ext cx="1084320" cy="1152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82560" y="182160"/>
            <a:ext cx="56534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оритетн</a:t>
            </a:r>
            <a:r>
              <a:rPr b="1" lang="bg-BG" sz="2400" spc="-1" strike="noStrike">
                <a:solidFill>
                  <a:srgbClr val="c00000"/>
                </a:solidFill>
                <a:latin typeface="Arial"/>
              </a:rPr>
              <a:t>и о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230040" y="1670040"/>
            <a:ext cx="856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106200" y="1787400"/>
            <a:ext cx="4440240" cy="22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:</a:t>
            </a:r>
            <a:r>
              <a:rPr b="0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 – </a:t>
            </a:r>
            <a:r>
              <a:rPr b="1" lang="bg-BG" sz="1400" spc="-1" strike="noStrike">
                <a:solidFill>
                  <a:srgbClr val="003399"/>
                </a:solidFill>
                <a:latin typeface="Arial"/>
                <a:ea typeface="Arial"/>
              </a:rPr>
              <a:t>168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добряване на мобилността на регионално равн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ен бенефициент: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генция «Пътна инфра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403280" y="1405080"/>
            <a:ext cx="6610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6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Регионална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ътна инфраструктур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115920" y="4232160"/>
            <a:ext cx="4522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Инвестиционен приорите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: Насърчаване на инвестициите за справяне със специфични рискове –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17 млн. ев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Специфична цел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венция на риска от свлачищ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Конкретни</a:t>
            </a:r>
            <a:r>
              <a:rPr b="1" lang="en-US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бенефициенти:</a:t>
            </a:r>
            <a:r>
              <a:rPr b="0" lang="ru-RU" sz="14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бщини в съответствие с методологията за приоритизиране на свлачищни обек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403280" y="3817800"/>
            <a:ext cx="5046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7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Превенция на риска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0" descr="zx480_1139082"/>
          <p:cNvPicPr/>
          <p:nvPr/>
        </p:nvPicPr>
        <p:blipFill>
          <a:blip r:embed="rId5"/>
          <a:stretch/>
        </p:blipFill>
        <p:spPr>
          <a:xfrm>
            <a:off x="5668920" y="4238640"/>
            <a:ext cx="3365640" cy="2467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borisov_okolovrastno_6923_ant"/>
          <p:cNvPicPr/>
          <p:nvPr/>
        </p:nvPicPr>
        <p:blipFill>
          <a:blip r:embed="rId6"/>
          <a:stretch/>
        </p:blipFill>
        <p:spPr>
          <a:xfrm>
            <a:off x="5541840" y="1797120"/>
            <a:ext cx="3364200" cy="2054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1403280" y="6192720"/>
            <a:ext cx="5046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Приоритетна ос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8:</a:t>
            </a:r>
            <a:r>
              <a:rPr b="1" lang="en-US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c00000"/>
                </a:solidFill>
                <a:latin typeface="Arial"/>
              </a:rPr>
              <a:t>„Техническа помощ“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9" descr="slide_element.png"/>
          <p:cNvPicPr/>
          <p:nvPr/>
        </p:nvPicPr>
        <p:blipFill>
          <a:blip r:embed="rId1"/>
          <a:stretch/>
        </p:blipFill>
        <p:spPr>
          <a:xfrm>
            <a:off x="7351560" y="5450040"/>
            <a:ext cx="1792440" cy="14079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slide_www.png"/>
          <p:cNvPicPr/>
          <p:nvPr/>
        </p:nvPicPr>
        <p:blipFill>
          <a:blip r:embed="rId2"/>
          <a:stretch/>
        </p:blipFill>
        <p:spPr>
          <a:xfrm>
            <a:off x="361800" y="6453360"/>
            <a:ext cx="1041480" cy="134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0" y="1405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ontent Placeholder 2"/>
          <p:cNvSpPr/>
          <p:nvPr/>
        </p:nvSpPr>
        <p:spPr>
          <a:xfrm>
            <a:off x="590400" y="1428840"/>
            <a:ext cx="822960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МИНИСТЕРСТВО НА РЕГИОНАЛНОТО РАЗВИ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  <a:ea typeface="Arial"/>
              </a:rPr>
              <a:t>БЛАГОДАРЯ ЗА ВНИМАНИЕТ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000099"/>
                </a:solidFill>
                <a:latin typeface="Arial"/>
                <a:ea typeface="Arial"/>
              </a:rPr>
              <a:t>Иван Поп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000099"/>
                </a:solidFill>
                <a:latin typeface="Arial"/>
                <a:ea typeface="Arial"/>
              </a:rPr>
              <a:t>Началник на отдел „Програмиране, оценка, информация и публичност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2200" spc="-1" strike="noStrike">
                <a:solidFill>
                  <a:srgbClr val="000099"/>
                </a:solidFill>
                <a:latin typeface="Arial"/>
                <a:ea typeface="Arial"/>
              </a:rPr>
              <a:t>ГД „Програмиране на регионалното развитие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oprd@mrrb.government.b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slide_EU logo.png"/>
          <p:cNvPicPr/>
          <p:nvPr/>
        </p:nvPicPr>
        <p:blipFill>
          <a:blip r:embed="rId3"/>
          <a:stretch/>
        </p:blipFill>
        <p:spPr>
          <a:xfrm>
            <a:off x="179280" y="44280"/>
            <a:ext cx="1103400" cy="1279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"/>
          <p:cNvPicPr/>
          <p:nvPr/>
        </p:nvPicPr>
        <p:blipFill>
          <a:blip r:embed="rId4"/>
          <a:stretch/>
        </p:blipFill>
        <p:spPr>
          <a:xfrm>
            <a:off x="7951680" y="115920"/>
            <a:ext cx="10843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1:22:21Z</dcterms:created>
  <dc:creator>Zlatko Stefanov</dc:creator>
  <dc:description/>
  <dc:language>en-US</dc:language>
  <cp:lastModifiedBy>Tsvetelina Dimitrova</cp:lastModifiedBy>
  <cp:lastPrinted>2013-10-08T12:37:27Z</cp:lastPrinted>
  <dcterms:modified xsi:type="dcterms:W3CDTF">2013-12-06T11:52:26Z</dcterms:modified>
  <cp:revision>222</cp:revision>
  <dc:subject/>
  <dc:title>Оперативна програма “Региони в растеж” 2014 - 2020</dc:title>
</cp:coreProperties>
</file>