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1E1-1321-42BD-B0AE-8A379C59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B3AF-C3DF-4CA1-AD29-471AFDB6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605-29DA-4A08-9394-CB43612D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25F8-25EF-430E-84BE-E266D5C2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6C76-369E-4840-BF5D-8A43074E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9BFE-76CA-45C6-B690-46DCFFE0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074C-EC88-4830-8039-0D029FF9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BF51-9D72-437C-BC62-4FC7FA9C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D86F-6415-4B91-A2E3-2CFB7D30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933D5-8EF5-433F-A12A-8AF0FDDE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52D7-4EB2-4505-B5BA-655A22BE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A72-C60C-44F1-BE13-D414FC23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5CFE-321B-4B83-A197-A5CF3552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F33B-9CD3-431C-AF25-BF6BC21A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EAA7-8EA1-46C2-8F46-204048C2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4C07-C632-402A-B7E7-056EE6C5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94F4-FC64-4B85-BDAE-12C000D3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FCCF-840A-4595-96DD-AC9A80436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40658-2D6F-4E22-BD54-F3D8F4A3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3639-A353-46CD-AA2A-27D3F2AB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0205-0C79-4068-853C-B7FED58F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E0C1F-4C23-4427-9094-4B87218C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D28-8089-4B74-8024-283AFF0E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BEE94-BF0F-41BE-A02E-17ABE692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FF827-11A9-45AD-AD32-E5576E93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09447-37C4-4846-A1A0-22B3FDE8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59873-21CC-4E5F-98AA-8DF167C4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13D0-86D9-43AE-97EA-4095F235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7D07-B3BF-4F28-ADA7-2E31E495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6E6A1-B36F-4E99-B4CA-B7CC3D45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49B5-A13E-417F-8FCC-E33F9132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B36-8A99-43FA-88A8-2FFDF020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1FA-E354-4105-8D7D-BE227425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329-12B9-417F-9A21-5B2E4196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A28-110F-461D-8235-7B1E1F51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706-01AC-4B31-812D-620B7BFD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5D7E-5835-4702-96FD-D928EA57F98B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4C59-FF30-4D56-91E2-493747841B89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6BF0-9F4F-43E9-A465-66D45B16BCAF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тивна програма 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„Региони в растеж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014-2020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 оперативна програм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9194d"/>
                </a:solidFill>
                <a:latin typeface="Arial"/>
                <a:ea typeface="Arial"/>
              </a:rPr>
              <a:t>Седмо заседание на Тематична работна група за разработване на ОПРР</a:t>
            </a:r>
            <a:r>
              <a:rPr b="0" lang="ru-RU" sz="2000" spc="-1" strike="noStrike">
                <a:solidFill>
                  <a:srgbClr val="19194d"/>
                </a:solidFill>
                <a:latin typeface="Arial"/>
                <a:ea typeface="Arial"/>
              </a:rPr>
              <a:t> за периода 2014-2020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9194d"/>
                </a:solidFill>
                <a:latin typeface="Arial"/>
                <a:ea typeface="Arial"/>
              </a:rPr>
              <a:t>гр. Правец, </a:t>
            </a:r>
            <a:r>
              <a:rPr b="0" lang="ru-RU" sz="2000" spc="-1" strike="noStrike">
                <a:solidFill>
                  <a:srgbClr val="19194d"/>
                </a:solidFill>
                <a:latin typeface="Arial"/>
                <a:ea typeface="Arial"/>
              </a:rPr>
              <a:t>26.03.2013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4000" y="1600200"/>
            <a:ext cx="8362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6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Специфични нужди на географските райони, най-засегнати от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едност или целеви групи, изложени на най-голям риск от дискриминация или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оциалното изключване, със специално внимание към маргинализирани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бщности, както и хората с уврежд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(член 87 (4) (а)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 от Общия регламент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)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Географски райо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Стратегия на О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1049"/>
              </a:spcBef>
              <a:buClr>
                <a:srgbClr val="05088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Вкл. таблица за </a:t>
            </a:r>
            <a:r>
              <a:rPr b="0" lang="ru-RU" sz="1600" spc="-1" strike="noStrike">
                <a:solidFill>
                  <a:srgbClr val="05088d"/>
                </a:solidFill>
                <a:latin typeface="Arial"/>
              </a:rPr>
              <a:t>приноса на ОП– таблицата не е предмет на одобрение от ЕК</a:t>
            </a:r>
            <a:r>
              <a:rPr b="0" lang="bg-BG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Промени в структурата и указанията за попълване, няма принципни разлики в съдържанието – “описанието на ролята на фондовете” се заменя със “стратегия на ОП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600200"/>
            <a:ext cx="8362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7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Специфични нужди на географските райони, които страдат от сериозни и постоянни неблагоприятни природни или демографски ограничения 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(член 87(4)(</a:t>
            </a:r>
            <a:r>
              <a:rPr b="0" lang="en-GB" sz="1800" spc="-1" strike="noStrike">
                <a:solidFill>
                  <a:srgbClr val="05088d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)) – разделът не се одобрява от ЕК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Нов разде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8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Органи, отговарящи за управление, контрол и одит и ролята на съответните партньори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 (член 87(5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 algn="just">
              <a:lnSpc>
                <a:spcPct val="90000"/>
              </a:lnSpc>
              <a:spcBef>
                <a:spcPts val="300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Таблица с контакти за връзка с органите – не се одобрява от 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30960" indent="-50148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Участие на партньорит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89160" indent="-429480" algn="just">
              <a:lnSpc>
                <a:spcPct val="90000"/>
              </a:lnSpc>
              <a:spcBef>
                <a:spcPts val="52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5088d"/>
                </a:solidFill>
                <a:latin typeface="Arial"/>
              </a:rPr>
              <a:t>Роля на партньорите в изпълнението, наблюдението и оценката на ОП – не се одобрява от 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89160" indent="-429480" algn="just">
              <a:lnSpc>
                <a:spcPct val="90000"/>
              </a:lnSpc>
              <a:spcBef>
                <a:spcPts val="52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5088d"/>
                </a:solidFill>
                <a:latin typeface="Arial"/>
              </a:rPr>
              <a:t>Глобални грантове (само за ЕСФ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289160" indent="-429480" algn="just">
              <a:lnSpc>
                <a:spcPct val="90000"/>
              </a:lnSpc>
              <a:spcBef>
                <a:spcPts val="52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5088d"/>
                </a:solidFill>
                <a:latin typeface="Arial"/>
              </a:rPr>
              <a:t>Определяне размера на средствата за изграждане на капацитет (само за ЕСФ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524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5088d"/>
                </a:solidFill>
                <a:latin typeface="Arial"/>
              </a:rPr>
              <a:t>Т. 1 е бивш раздел 10, т. 2 беше част от бивш раздел 7 “Ангажименти за ефективно изпълнение” (частта с предварителните условности и рамката за изпълн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4000" y="1600200"/>
            <a:ext cx="8362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9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Координация между фондовете,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ЕЗФРСР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 ,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ЕФМДР и други 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инструменти за финансиране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на Съюза, национални инструменти и ЕИБ (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чл.87(6)(</a:t>
            </a:r>
            <a:r>
              <a:rPr b="0" lang="en-GB" sz="1800" spc="-1" strike="noStrike">
                <a:solidFill>
                  <a:srgbClr val="05088d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)) – разделът не се одобрява от ЕК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Нов раздел, тази информация беше част от бивш раздел 4</a:t>
            </a: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10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Предварителни условности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 (чл.87(6)(</a:t>
            </a:r>
            <a:r>
              <a:rPr b="0" lang="en-GB" sz="1800" spc="-1" strike="noStrike">
                <a:solidFill>
                  <a:srgbClr val="05088d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)) -</a:t>
            </a: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Таблиц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Информацията може да се представи и с отделни придружителни документи към програм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00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Нов раздел, тази информация беше част от бивш раздел 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628280"/>
            <a:ext cx="83628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11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Намаляване на административната тежест за бенефициентите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чл.87(6)(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)) – разделът не се одобрява от ЕК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Беше част от Раздел 8 заедно със списъка на големите проек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12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Хоризонтални принципи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 (чл.87(7)) – не се одобрява от 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Устойчиво развит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Равни възможности и борба с дискриминация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Равенство между мъжете и жени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Бивш раздел 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4000" y="1600200"/>
            <a:ext cx="83628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13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Отделни елементи, представени като анек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Списък с големи проекти – не се одобрява от 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Рамка на изпълнениет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Списък на партньорите – не се одобрява от 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300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85000"/>
              </a:lnSpc>
              <a:spcBef>
                <a:spcPts val="349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5088d"/>
                </a:solidFill>
                <a:latin typeface="Arial"/>
              </a:rPr>
              <a:t>Нов раздел, тези елементи не бяха изведени като анекси, въвежда се възможност и за други приложения: във връзка с предварителните условности и принципите за равенст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Приложения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Проект на предварителна оценка с обобщение на изпълнението на препоръките (задължителн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Документация по предварителните услов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Становището на националните органи по въпросите на равенството 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по 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 раздели 12.2 и 12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Оперативна програма 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„Региони в растеж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014-2020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Благодаря за вниманието!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9194d"/>
                </a:solidFill>
                <a:latin typeface="Arial"/>
                <a:ea typeface="Arial"/>
              </a:rPr>
              <a:t>ГД Програмиране на регионалното развит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9194d"/>
                </a:solidFill>
                <a:latin typeface="Arial"/>
                <a:ea typeface="Arial"/>
              </a:rPr>
              <a:t>гр. Правец, </a:t>
            </a:r>
            <a:r>
              <a:rPr b="0" lang="ru-RU" sz="2000" spc="-1" strike="noStrike">
                <a:solidFill>
                  <a:srgbClr val="19194d"/>
                </a:solidFill>
                <a:latin typeface="Arial"/>
                <a:ea typeface="Arial"/>
              </a:rPr>
              <a:t>26.03.2013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 оперативна прогр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5088d"/>
                </a:solidFill>
                <a:latin typeface="Arial"/>
              </a:rPr>
              <a:t>Основни принципи на формуля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Следва чл. 87 от Общия регла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Съгласно последните компромисни текстове на Председателствот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Подлежи на промя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Ограничен брой знац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Има задължителен характ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Не всички раздели се одобряват от ЕК - чл. 87(10) от Общия регла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Допълнителни насоки за някои разде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 оперативна прогр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5088d"/>
                </a:solidFill>
                <a:latin typeface="Arial"/>
              </a:rPr>
              <a:t>Описание на разделит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1: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Изготвяне на ОП и участие на Партньорите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 (Чл. 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23(2) 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и чл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. 87(5)(</a:t>
            </a:r>
            <a:r>
              <a:rPr b="0" lang="en-GB" sz="1800" spc="-1" strike="noStrike">
                <a:solidFill>
                  <a:srgbClr val="05088d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) 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на Общия регламент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), включител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5088d"/>
                </a:solidFill>
                <a:latin typeface="Arial"/>
              </a:rPr>
              <a:t>органът, който координира изготвянето на ОП, и публичните институции, пряко включени в </a:t>
            </a: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този проце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5088d"/>
                </a:solidFill>
                <a:latin typeface="Arial"/>
              </a:rPr>
              <a:t>процес на подготовка на О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5088d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5088d"/>
                </a:solidFill>
                <a:latin typeface="Arial"/>
              </a:rPr>
              <a:t>подбор на партньорите и техния прино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5088d"/>
                </a:solidFill>
                <a:latin typeface="Arial"/>
              </a:rPr>
              <a:t>предварителна оценка</a:t>
            </a: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Съгл. чл. 87 (10) тази част от ОП не се одобрява от 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5088d"/>
                </a:solidFill>
                <a:uFillTx/>
                <a:latin typeface="Arial"/>
              </a:rPr>
              <a:t>Раздел 2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Стратегия за приноса на ОП към Европа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5088d"/>
                </a:solidFill>
                <a:latin typeface="Arial"/>
              </a:rPr>
              <a:t>	</a:t>
            </a:r>
            <a:r>
              <a:rPr b="0" i="1" lang="bg-BG" sz="1400" spc="-1" strike="noStrike">
                <a:solidFill>
                  <a:srgbClr val="05088d"/>
                </a:solidFill>
                <a:latin typeface="Arial"/>
              </a:rPr>
              <a:t>Описание на нуждите, стратегията за удовлетворяването им в съответствие с Европа 2020 и описание на съответствие с кореспондиращи национални стратегически докумен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Таблица: Обосновка за избора на тематични це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Обосновка за избора на тематични це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Таблица: Преглед на инвестиционната стратегия – автоматично</a:t>
            </a:r>
            <a:r>
              <a:rPr b="0" lang="en-US" sz="1600" spc="-1" strike="noStrike">
                <a:solidFill>
                  <a:srgbClr val="05088d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5088d"/>
                </a:solidFill>
                <a:latin typeface="Arial"/>
              </a:rPr>
              <a:t>генерир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Отпада текстовото описание на тематични цели и инвестиционни приоритети – заменя се с таблиц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Отпада изискването за описание на приложими нужди, които не са адресирани от О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5088d"/>
                </a:solidFill>
                <a:latin typeface="Arial"/>
              </a:rPr>
              <a:t>Раздел 3: Описание на приоритетните оси</a:t>
            </a:r>
            <a:r>
              <a:rPr b="0" lang="bg-BG" sz="3200" spc="-1" strike="noStrike">
                <a:solidFill>
                  <a:srgbClr val="05088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(чл. 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87(2)(</a:t>
            </a:r>
            <a:r>
              <a:rPr b="0" lang="en-GB" sz="2000" spc="-1" strike="noStrike">
                <a:solidFill>
                  <a:srgbClr val="05088d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 (</a:t>
            </a:r>
            <a:r>
              <a:rPr b="0" lang="en-GB" sz="2000" spc="-1" strike="noStrike">
                <a:solidFill>
                  <a:srgbClr val="05088d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от Общия регламент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800" spc="-1" strike="noStrike">
                <a:solidFill>
                  <a:srgbClr val="05088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just">
              <a:lnSpc>
                <a:spcPct val="100000"/>
              </a:lnSpc>
              <a:spcBef>
                <a:spcPts val="249"/>
              </a:spcBef>
              <a:buClr>
                <a:srgbClr val="0508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46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3.А. Описание на приоритетните оси, различни от техническа помощ (чл.87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5088d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)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 –  </a:t>
            </a:r>
            <a:r>
              <a:rPr b="0" i="1" lang="bg-BG" sz="2000" spc="-1" strike="noStrike">
                <a:solidFill>
                  <a:srgbClr val="05088d"/>
                </a:solidFill>
                <a:latin typeface="Arial"/>
              </a:rPr>
              <a:t>разбивка на осите по инвестиционни приоритети и специфични ц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4640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464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3.В. Описание на приоритетните оси за техническа помощ (чл. 87(2)(с)) – </a:t>
            </a:r>
            <a:r>
              <a:rPr b="0" i="1" lang="bg-BG" sz="2000" spc="-1" strike="noStrike">
                <a:solidFill>
                  <a:srgbClr val="05088d"/>
                </a:solidFill>
                <a:latin typeface="Arial"/>
              </a:rPr>
              <a:t>няма съответстващи тематични цели или инвестиционни приоритети за техническа помощ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46404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just">
              <a:lnSpc>
                <a:spcPct val="100000"/>
              </a:lnSpc>
              <a:spcBef>
                <a:spcPts val="400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Изменена е структурата, внесени са повече пояснения за попълване на отделните части, няма принципни изменения в съдържаниет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just">
              <a:lnSpc>
                <a:spcPct val="100000"/>
              </a:lnSpc>
              <a:spcBef>
                <a:spcPts val="400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Различно съдържание на описанието на приоритетната ос за ТП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just">
              <a:lnSpc>
                <a:spcPct val="100000"/>
              </a:lnSpc>
              <a:spcBef>
                <a:spcPts val="400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Изисква се описание на принципите за подбор на проекти, използването на финансови инструменти и големи проек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just">
              <a:lnSpc>
                <a:spcPct val="100000"/>
              </a:lnSpc>
              <a:spcBef>
                <a:spcPts val="400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5088d"/>
                </a:solidFill>
                <a:latin typeface="Arial"/>
              </a:rPr>
              <a:t>Включена е рамката за изпълнение (беше част от раздел 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just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just">
              <a:lnSpc>
                <a:spcPct val="100000"/>
              </a:lnSpc>
              <a:spcBef>
                <a:spcPts val="601"/>
              </a:spcBef>
              <a:buClr>
                <a:srgbClr val="0508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29920" indent="-5299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0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Arial"/>
              </a:rPr>
              <a:t>Раздел 3: Описание наприоритетните оси</a:t>
            </a:r>
            <a:r>
              <a:rPr b="0" lang="bg-BG" sz="4400" spc="-1" strike="noStrike">
                <a:solidFill>
                  <a:srgbClr val="05088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3.А. Описание на приоритетните оси, различни от техническа помощ (чл.87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(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5088d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Инвестиционни приоритети</a:t>
            </a:r>
            <a:r>
              <a:rPr b="0" lang="ru-RU" sz="1600" spc="-1" strike="noStrike">
                <a:solidFill>
                  <a:srgbClr val="05088d"/>
                </a:solidFill>
                <a:latin typeface="Arial"/>
              </a:rPr>
              <a:t> (в рамките на приоритетната ос) и за всеки от тя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Специфични цели и индикато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2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2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Разпоредби за ЕСФ  - неприложимо за ОПР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2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Рамка на изпълнението – </a:t>
            </a: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2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Категории интервенции  - </a:t>
            </a: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не се одобрява от 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20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Техническа помощ за конкретната приоритетна 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400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349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5088d"/>
                </a:solidFill>
                <a:latin typeface="Arial"/>
              </a:rPr>
              <a:t>Разликата е в оформлението и допълнителните указ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100000"/>
              </a:lnSpc>
              <a:spcBef>
                <a:spcPts val="349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0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000"/>
            </a:br>
            <a:r>
              <a:rPr b="1" lang="bg-BG" sz="2000" spc="-1" strike="noStrike">
                <a:solidFill>
                  <a:srgbClr val="ff0000"/>
                </a:solidFill>
                <a:latin typeface="Arial"/>
                <a:ea typeface="Arial"/>
              </a:rPr>
              <a:t>Раздел 3: Описание наприоритетните оси</a:t>
            </a:r>
            <a:r>
              <a:rPr b="0" lang="bg-BG" sz="4000" spc="-1" strike="noStrike">
                <a:solidFill>
                  <a:srgbClr val="05088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5088d"/>
                </a:solidFill>
                <a:latin typeface="Arial"/>
              </a:rPr>
              <a:t>3.В. Описание на приоритетните оси  за техническа помощ (чл.87</a:t>
            </a: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(</a:t>
            </a:r>
            <a:r>
              <a:rPr b="0" lang="bg-BG" sz="2400" spc="-1" strike="noStrike">
                <a:solidFill>
                  <a:srgbClr val="05088d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)(</a:t>
            </a:r>
            <a:r>
              <a:rPr b="0" lang="bg-BG" sz="2400" spc="-1" strike="noStrike">
                <a:solidFill>
                  <a:srgbClr val="05088d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buClr>
                <a:srgbClr val="0508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Специфични цели и очаквани резулта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Списък на индикаторите за резултат – ако сумата за ТП надхвърля 15 млн. евр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Дейности и приносът им към целит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508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5088d"/>
                </a:solidFill>
                <a:latin typeface="Arial"/>
              </a:rPr>
              <a:t>Описание на дейностите и приноса и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349"/>
              </a:spcBef>
              <a:buClr>
                <a:srgbClr val="05088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5088d"/>
                </a:solidFill>
                <a:latin typeface="Arial"/>
              </a:rPr>
              <a:t>Индикатори за продук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Категории интервенции - </a:t>
            </a: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Съгл. чл. 87 (10) тази част от ОП не се одобрява от 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Този раздел е н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5088d"/>
                </a:solidFill>
                <a:latin typeface="Arial"/>
              </a:rPr>
              <a:t>Раздел 4: План за финансиране на ОП</a:t>
            </a:r>
            <a:r>
              <a:rPr b="0" lang="bg-BG" sz="3200" spc="-1" strike="noStrike">
                <a:solidFill>
                  <a:srgbClr val="05088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(чл. 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87(2)(</a:t>
            </a:r>
            <a:r>
              <a:rPr b="0" lang="en-GB" sz="2000" spc="-1" strike="noStrike">
                <a:solidFill>
                  <a:srgbClr val="05088d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от Общия регламент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800" spc="-1" strike="noStrike">
                <a:solidFill>
                  <a:srgbClr val="05088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0508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508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5088d"/>
                </a:solidFill>
                <a:latin typeface="Arial"/>
              </a:rPr>
              <a:t>Приноса по фондове и по год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5088d"/>
                </a:solidFill>
                <a:latin typeface="Arial"/>
              </a:rPr>
              <a:t>2.А.Финансово разпределение на принос от фондовете и националното съфинансира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5088d"/>
                </a:solidFill>
                <a:latin typeface="Arial"/>
              </a:rPr>
              <a:t>2.В. </a:t>
            </a:r>
            <a:r>
              <a:rPr b="0" lang="ru-RU" sz="2400" spc="-1" strike="noStrike">
                <a:solidFill>
                  <a:srgbClr val="05088d"/>
                </a:solidFill>
                <a:latin typeface="Arial"/>
              </a:rPr>
              <a:t>Финансовия план по тематични ц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5088d"/>
                </a:solidFill>
                <a:latin typeface="Arial"/>
              </a:rPr>
              <a:t>Бивш раздел 9, част 4.2.В е н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508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545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Последен вариант на формуляр на</a:t>
            </a:r>
            <a:r>
              <a:rPr b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bg-BG" sz="2400" spc="-1" strike="noStrike">
                <a:solidFill>
                  <a:srgbClr val="ff0000"/>
                </a:solidFill>
                <a:latin typeface="Arial"/>
                <a:ea typeface="Arial"/>
              </a:rPr>
              <a:t>оперативна програма</a:t>
            </a:r>
            <a:br>
              <a:rPr sz="2400"/>
            </a:br>
            <a:r>
              <a:rPr b="1" lang="bg-BG" sz="2800" spc="-1" strike="noStrike">
                <a:solidFill>
                  <a:srgbClr val="ff0000"/>
                </a:solidFill>
                <a:latin typeface="Arial"/>
                <a:ea typeface="Arial"/>
              </a:rPr>
              <a:t>Описание на раздели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5088d"/>
                </a:solidFill>
                <a:latin typeface="Arial"/>
              </a:rPr>
              <a:t>Раздел 5: Интегриран подход за териториално развитие</a:t>
            </a:r>
            <a:r>
              <a:rPr b="0" lang="bg-BG" sz="3200" spc="-1" strike="noStrike">
                <a:solidFill>
                  <a:srgbClr val="05088d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(чл. 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87(3) </a:t>
            </a:r>
            <a:r>
              <a:rPr b="0" lang="bg-BG" sz="2000" spc="-1" strike="noStrike">
                <a:solidFill>
                  <a:srgbClr val="05088d"/>
                </a:solidFill>
                <a:latin typeface="Arial"/>
              </a:rPr>
              <a:t>от Общия регламент</a:t>
            </a:r>
            <a:r>
              <a:rPr b="0" lang="ru-RU" sz="2000" spc="-1" strike="noStrike">
                <a:solidFill>
                  <a:srgbClr val="05088d"/>
                </a:solidFill>
                <a:latin typeface="Arial"/>
              </a:rPr>
              <a:t>)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800" spc="-1" strike="noStrike">
                <a:solidFill>
                  <a:srgbClr val="05088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Описание на под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Ако е приложим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Водено от общността местно развит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Устойчиво градско разви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Подход за използване на И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91360" indent="-479880" algn="just">
              <a:lnSpc>
                <a:spcPct val="90000"/>
              </a:lnSpc>
              <a:spcBef>
                <a:spcPts val="374"/>
              </a:spcBef>
              <a:buClr>
                <a:srgbClr val="05088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90000"/>
              </a:lnSpc>
              <a:spcBef>
                <a:spcPts val="675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4. Механизми за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 координ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иране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на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 дейностите за сътрудничество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, макро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регионалните стратегии 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и стратегиите </a:t>
            </a:r>
            <a:r>
              <a:rPr b="0" lang="ru-RU" sz="1800" spc="-1" strike="noStrike">
                <a:solidFill>
                  <a:srgbClr val="05088d"/>
                </a:solidFill>
                <a:latin typeface="Arial"/>
              </a:rPr>
              <a:t>за морските басейни</a:t>
            </a:r>
            <a:r>
              <a:rPr b="0" lang="bg-BG" sz="1800" spc="-1" strike="noStrike">
                <a:solidFill>
                  <a:srgbClr val="0508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90000"/>
              </a:lnSpc>
              <a:spcBef>
                <a:spcPts val="300"/>
              </a:spcBef>
              <a:buClr>
                <a:srgbClr val="05088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90000"/>
              </a:lnSpc>
              <a:spcBef>
                <a:spcPts val="524"/>
              </a:spcBef>
              <a:buClr>
                <a:srgbClr val="05088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5088d"/>
                </a:solidFill>
                <a:latin typeface="Arial"/>
              </a:rPr>
              <a:t>Бивш раздел 4: промени в структурата и указанията за попълване, точка 4 е нова, механизмите за координация с финансови инструменти на ЕС и национално ниво е извадено в друг разде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100000"/>
              </a:lnSpc>
              <a:spcBef>
                <a:spcPts val="451"/>
              </a:spcBef>
              <a:buClr>
                <a:srgbClr val="05088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just">
              <a:lnSpc>
                <a:spcPct val="100000"/>
              </a:lnSpc>
              <a:spcBef>
                <a:spcPts val="601"/>
              </a:spcBef>
              <a:buClr>
                <a:srgbClr val="0508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7662960" y="16668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7:52:46Z</dcterms:created>
  <dc:creator>Zlatko Stefanov</dc:creator>
  <dc:description/>
  <dc:language>en-US</dc:language>
  <cp:lastModifiedBy>Ivan Popov</cp:lastModifiedBy>
  <dcterms:modified xsi:type="dcterms:W3CDTF">2013-03-22T16:03:55Z</dcterms:modified>
  <cp:revision>18</cp:revision>
  <dc:subject/>
  <dc:title>PowerPoint Presentation</dc:title>
</cp:coreProperties>
</file>