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12D-01E7-43D4-B6D7-FE1A054E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ADB-9A25-46EA-BC2C-9D8432E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67C-E148-417D-A91B-4E626671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1FE-D253-4F3D-9EDB-5EBBB254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79D6-AFBF-4199-9BAF-FADBD781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31FE-B13D-40B8-B70F-C91C3E2A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F33-8FD4-43E5-9A56-D98E746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B558-FE22-4F00-9F3D-02B68A8D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2684-EB03-4977-BF38-73D477EC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FDDE-94A7-44DA-A363-BB7CF551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5D04-5AAE-4E42-97FA-3EC2CB6E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B94-DF16-4E03-A733-D02836B5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3C3D-348C-487C-911C-A066DCBF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A98A-038D-4278-BE8A-A8A03844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6542-7689-4650-A326-FF846B84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0735-EE76-4B39-BBEA-22970A1A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3FBF-676C-4012-990E-94CD67AD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3080-9793-4824-8B41-3806D09F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6A4C-010D-4982-84EC-BEA4140B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48FC-0DCF-40B4-B3FA-A0F97794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D929-06E0-4ABD-971D-01C73C31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E91E-2856-486C-A251-059F8789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326-964E-43C3-B5B0-B4CCA5F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A8E1-D772-4C60-814A-86AA8EE6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81BB-0BFE-41C0-8B31-1C83585C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FE92-047A-42E0-BEC5-75F848AF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05F2-F8A3-476F-B87E-F63544EB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51FC-7344-4A0B-B911-C71FD623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F5AF-DE58-4FDF-A72F-C02A36CA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A5CF-4334-429E-951C-C4969035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2A5-2258-420B-BF82-8B110FC2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14A-2750-40B1-91FB-9E1302FE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028-A8FC-4011-BE7A-25E21C93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B3E-8174-4F14-BF7E-9B51F1F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C92-7211-4749-8A42-48F8B02B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9DA-D426-4490-9482-8FAAFAA5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B0F8-734E-4A66-9C58-76B49F6A38E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F54F-B6CB-424A-AF07-31817EC2C8F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8AEB-A90F-411F-94D4-3259B45D6F65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 програма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„Региони в растеж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14-202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 оперативна програм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  <a:ea typeface="Arial"/>
              </a:rPr>
              <a:t>Седмо заседание на Тематична работна група за разработване на ОПРР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  <a:ea typeface="Arial"/>
              </a:rPr>
              <a:t> за периода 2014-202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  <a:ea typeface="Arial"/>
              </a:rPr>
              <a:t>гр. Правец, 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  <a:ea typeface="Arial"/>
              </a:rPr>
              <a:t>26.03.2013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40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6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Специфични нужди на географските райони, най-засегнати от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едност или целеви групи, изложени на най-голям риск от дискриминация или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оциалното изключване, със специално внимание към маргинализирани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бщности, както и хората с уврежд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(член 87 (4) (а)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от Общия регламент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Географски райо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Стратегия на 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1049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Вкл. таблица за </a:t>
            </a:r>
            <a:r>
              <a:rPr b="0" lang="ru-RU" sz="1600" spc="-1" strike="noStrike">
                <a:solidFill>
                  <a:srgbClr val="05088d"/>
                </a:solidFill>
                <a:latin typeface="Arial"/>
              </a:rPr>
              <a:t>приноса на ОП– таблицата не е предмет на одобрение от ЕК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Промени в структурата и указанията за попълване, няма принципни разлики в съдържанието – “описанието на ролята на фондовете” се заменя със “стратегия на ОП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7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Специфични нужди на географските райони, които страдат от сериозни и постоянни неблагоприятни природни или демографски ограничения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(член 87(4)(</a:t>
            </a:r>
            <a:r>
              <a:rPr b="0" lang="en-GB" sz="18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) – разделът не се одобрява от ЕК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Нов разде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8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Органи, отговарящи за управление, контрол и одит и ролята на съответните партньори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(член 87(5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 algn="just">
              <a:lnSpc>
                <a:spcPct val="90000"/>
              </a:lnSpc>
              <a:spcBef>
                <a:spcPts val="300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Таблица с контакти за връзка с органите – не се одобрява от 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Участие на партньорит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42948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Роля на партньорите в изпълнението, наблюдението и оценката на ОП – не се одобрява от 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42948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Глобални грантове (само за ЕСФ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42948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Определяне размера на средствата за изграждане на капацитет (само за ЕСФ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Т. 1 е бивш раздел 10, т. 2 беше част от бивш раздел 7 “Ангажименти за ефективно изпълнение” (частта с предварителните условности и рамката за изпълн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40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9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Координация между фондовете,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ЕЗФРСР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 ,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ЕФМДР и други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инструменти за финансиране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на Съюза, национални инструменти и ЕИБ (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чл.87(6)(</a:t>
            </a:r>
            <a:r>
              <a:rPr b="0" lang="en-GB" sz="1800" spc="-1" strike="noStrike">
                <a:solidFill>
                  <a:srgbClr val="05088d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) – разделът не се одобрява от ЕК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Нов раздел, тази информация беше част от бивш раздел 4</a:t>
            </a: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0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Предварителни условности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(чл.87(6)(</a:t>
            </a:r>
            <a:r>
              <a:rPr b="0" lang="en-GB" sz="18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) -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Табли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Информацията може да се представи и с отделни придружителни документи към програм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Нов раздел, тази информация беше част от бивш раздел 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628280"/>
            <a:ext cx="83628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1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Намаляване на административната тежест за бенефициентите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чл.87(6)(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) – разделът не се одобрява от ЕК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Беше част от Раздел 8 заедно със списъка на големите проек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2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Хоризонтални принципи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(чл.87(7)) – 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Устойчиво разви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Равни възможности и борба с дискриминация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Равенство между мъжете и жен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Бивш раздел 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3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Отделни елементи, представени като анек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исък с големи проекти – 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Рамка на изпълнение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исък на партньорите – 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300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349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Нов раздел, тези елементи не бяха изведени като анекси, въвежда се възможност и за други приложения: във връзка с предварителните условности и принципите за равен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Приложения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Проект на предварителна оценка с обобщение на изпълнението на препоръките (задължителн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Документация по предварителните усло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Становището на националните органи по въпросите на равенството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по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раздели 12.2 и 12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 програма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„Региони в растеж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14-202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Благодаря за вниманието!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  <a:ea typeface="Arial"/>
              </a:rPr>
              <a:t>ГД Програмиране на регионалното разви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  <a:ea typeface="Arial"/>
              </a:rPr>
              <a:t>гр. Правец, 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  <a:ea typeface="Arial"/>
              </a:rPr>
              <a:t>26.03.2013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 оперативна прог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5088d"/>
                </a:solidFill>
                <a:latin typeface="Arial"/>
              </a:rPr>
              <a:t>Основни принципи на формуля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ледва чл. 87 от Общия регла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ъгласно последните компромисни текстове на Председателство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Подлежи на промя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Ограничен брой зна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Има задължителен харак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Не всички раздели се одобряват от ЕК - чл. 87(10) от Общия регла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Допълнителни насоки за някои разд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 оперативна прог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Описание на раздели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: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Изготвяне на ОП и участие на Партньорите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(Чл.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23(2)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и чл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. 87(5)(</a:t>
            </a:r>
            <a:r>
              <a:rPr b="0" lang="en-GB" sz="1800" spc="-1" strike="noStrike">
                <a:solidFill>
                  <a:srgbClr val="05088d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на Общия регламент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, включител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органът, който координира изготвянето на ОП, и публичните институции, пряко включени в </a:t>
            </a: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този проце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процес на подготовка на 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подбор на партньорите и техния прин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предварителна оценка</a:t>
            </a: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Съгл. чл. 87 (10) тази част от ОП не се одобрява от 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2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Стратегия за приноса на ОП към Европа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Описание на нуждите, стратегията за удовлетворяването им в съответствие с Европа 2020 и описание на съответствие с кореспондиращи национални стратегически докумен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Таблица: Обосновка за избора на тематични це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Обосновка за избора на тематични це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Таблица: Преглед на инвестиционната стратегия – автоматично</a:t>
            </a:r>
            <a:r>
              <a:rPr b="0" lang="en-US" sz="16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генерир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Отпада текстовото описание на тематични цели и инвестиционни приоритети – заменя се с таблиц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Отпада изискването за описание на приложими нужди, които не са адресирани от 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Раздел 3: Описание на приоритетните оси</a:t>
            </a:r>
            <a:r>
              <a:rPr b="0" lang="bg-BG" sz="32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(чл.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87(2)(</a:t>
            </a:r>
            <a:r>
              <a:rPr b="0" lang="en-GB" sz="20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5088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от Общия регламент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249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46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3.А. Описание на приоритетните оси, различни от техническа помощ (чл.87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)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 –  </a:t>
            </a:r>
            <a:r>
              <a:rPr b="0" i="1" lang="bg-BG" sz="2000" spc="-1" strike="noStrike">
                <a:solidFill>
                  <a:srgbClr val="05088d"/>
                </a:solidFill>
                <a:latin typeface="Arial"/>
              </a:rPr>
              <a:t>разбивка на осите по инвестиционни приоритети и специфични ц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4640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46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3.В. Описание на приоритетните оси за техническа помощ (чл. 87(2)(с)) – </a:t>
            </a:r>
            <a:r>
              <a:rPr b="0" i="1" lang="bg-BG" sz="2000" spc="-1" strike="noStrike">
                <a:solidFill>
                  <a:srgbClr val="05088d"/>
                </a:solidFill>
                <a:latin typeface="Arial"/>
              </a:rPr>
              <a:t>няма съответстващи тематични цели или инвестиционни приоритети за техническа помощ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4640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Изменена е структурата, внесени са повече пояснения за попълване на отделните части, няма принципни изменения в съдържание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Различно съдържание на описанието на приоритетната ос за 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Изисква се описание на принципите за подбор на проекти, използването на финансови инструменти и големи проек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Включена е рамката за изпълнение (беше част от раздел 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Раздел 3: Описание наприоритетните оси</a:t>
            </a:r>
            <a:r>
              <a:rPr b="0" lang="bg-BG" sz="44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3.А. Описание на приоритетните оси, различни от техническа помощ (чл.87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Инвестиционни приоритети</a:t>
            </a:r>
            <a:r>
              <a:rPr b="0" lang="ru-RU" sz="1600" spc="-1" strike="noStrike">
                <a:solidFill>
                  <a:srgbClr val="05088d"/>
                </a:solidFill>
                <a:latin typeface="Arial"/>
              </a:rPr>
              <a:t> (в рамките на приоритетната ос) и за всеки от тя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ецифични цели и индикато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Разпоредби за ЕСФ  - неприложимо за ОПР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Рамка на изпълнението – 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Категории интервенции  - 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Техническа помощ за конкретната приоритетна 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Разликата е в оформлението и допълнителните указ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000"/>
            </a:b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Раздел 3: Описание наприоритетните оси</a:t>
            </a:r>
            <a:r>
              <a:rPr b="0" lang="bg-BG" sz="40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3.В. Описание на приоритетните оси  за техническа помощ (чл.87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)(</a:t>
            </a: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ецифични цели и очаквани резулта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исък на индикаторите за резултат – ако сумата за ТП надхвърля 15 млн. ев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Дейности и приносът им към целит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Описание на дейностите и приноса и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Индикатори за проду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Категории интервенции - 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Съгл. чл. 87 (10) тази част от ОП 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Този раздел е 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Раздел 4: План за финансиране на ОП</a:t>
            </a:r>
            <a:r>
              <a:rPr b="0" lang="bg-BG" sz="32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(чл.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87(2)(</a:t>
            </a:r>
            <a:r>
              <a:rPr b="0" lang="en-GB" sz="2000" spc="-1" strike="noStrike">
                <a:solidFill>
                  <a:srgbClr val="05088d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от Общия регламент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Приноса по фондове и по год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2.А.Финансово разпределение на принос от фондовете и националното съфинансира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2.В. 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Финансовия план по тематични ц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Бивш раздел 9, част 4.2.В е н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Раздел 5: Интегриран подход за териториално развитие</a:t>
            </a:r>
            <a:r>
              <a:rPr b="0" lang="bg-BG" sz="32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(чл.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87(3)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от Общия регламент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Описание на под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Ако е приложим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Водено от общността местно развит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Устойчиво градско разви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Подход за използване на И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4. Механизми за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координ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иране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на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дейностите за сътрудничество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, макро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регионалните стратегии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и стратегиите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за морските басейни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300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Бивш раздел 4: промени в структурата и указанията за попълване, точка 4 е нова, механизмите за координация с финансови инструменти на ЕС и национално ниво е извадено в друг разде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7:52:46Z</dcterms:created>
  <dc:creator>Zlatko Stefanov</dc:creator>
  <dc:description/>
  <dc:language>en-US</dc:language>
  <cp:lastModifiedBy>Ivan Popov</cp:lastModifiedBy>
  <dcterms:modified xsi:type="dcterms:W3CDTF">2013-03-22T16:03:55Z</dcterms:modified>
  <cp:revision>18</cp:revision>
  <dc:subject/>
  <dc:title>PowerPoint Presentation</dc:title>
</cp:coreProperties>
</file>