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738B-AC5F-4C85-9D7C-3EB121CC2E7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3F28-98EC-4915-A6EB-B84A541F6BD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97000" y="468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0F2F-4F2C-415D-9952-D84AD2D87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25360" y="539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440-8334-487A-99DB-9164687F8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25360" y="6112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48C6-9EE2-4B70-B0A1-A2D2AEC9D1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97000" y="468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F8CD-6785-40F8-A706-81410CDB5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B460-016D-405C-BF7A-F5AF760D2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25360" y="468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1E87-7255-4BE7-BE18-3926016DE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D339-F5AD-4A89-999B-188629F5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0311-BB92-478E-B9C6-09DBCFB23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CD8A-0D1A-42AE-8C77-C483105F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4B8F-1016-414F-92E4-07B2F7D32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188-A53E-461B-AB26-4CD14480656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92280" y="435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A01E-AF35-4395-A152-53B1BC23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31A8-4D31-4C6C-9721-892D25B54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A2EC-DE95-47B7-AC8F-CB143647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69E5-F5C2-4D22-9036-B662808C0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B897-B11F-4651-B422-34C03E71B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Notes Placeholder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2600-B595-4252-AB64-A9539A19C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1EAF-61AC-4680-9DB3-6D9D20BB1CC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04280" y="4211640"/>
            <a:ext cx="57675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F31F-4A6D-46A2-8BAD-FD7AC24C2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25360" y="3240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75920" y="3850920"/>
            <a:ext cx="5977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5F35-DD8D-4679-9834-5CA2574F17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211640"/>
            <a:ext cx="56959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862-95D2-4440-AD07-499EECB7AB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1547-EF9F-4351-8486-D3A8880CE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9542-3EF9-4E7D-B726-F3FB9F94C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0F77-5CB7-4056-8E63-5940D084A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1C6-AC07-4607-AC15-D02547AA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0893-4DA4-4BAC-A442-7D842B49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7467B-ED2F-4AFE-8F54-9920EEE6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947C4-DEB9-4696-9348-0587270F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4DA7F-6C49-4C06-B4B5-98FD813C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BBB3E-05D4-4642-B7B9-3B6DB2AE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ECC68-09ED-4299-A61A-EF19BDDE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FCBD4-6C63-4147-ADBA-05C0DFEB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65CCB-787F-4594-98F3-06905B8B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A461-2891-417A-A30C-513A54F0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C58D4-1971-4F44-9728-17D905019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3AE37-EEB8-4082-9E14-7353A6B9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030-4B02-4F70-8762-E06A6280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2DA08-92D0-4B08-94D1-BE3C74BE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78029-3374-4809-B240-88B557E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99283-9D04-49ED-A0C3-B382EE6E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E0CCF-B8A1-4618-BE4D-92889DF6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C7FDD-88F3-412B-9E84-BC5ACEDB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CA66C-EC97-47D2-90A7-586E190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E4A2B-B57E-49BB-A42E-388A26EB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68DA4-99BB-459E-8E20-7952582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F606A-F1CF-40A8-B79F-2A69B482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6B350-C2EB-4BA1-836A-FEE5B3BF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0EF-F882-4355-A23D-E10B0FCB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29CA5-5385-4E2A-9084-A17F0050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48AFA-A0C6-4C05-9334-1B61B339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785DB-C231-4F1A-AC75-47D6E879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523F2-8309-47EE-B03E-AF450B3F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BCCE6-976B-4F78-9051-3DBF882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539A9-8578-4A0C-A653-E88F1445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165E2-AD2C-4DD3-A729-28D5834E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59FCD-4C54-4123-9047-3C858A1E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9D341-64CE-4CDF-97FD-D107EF28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BF640-87DF-4B63-8634-1681B0B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04AC-A83C-43F0-AC86-52937A9E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0BC98-D50B-496D-9C42-8946EEF8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AB699-1921-46B3-8755-E52F0D10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A88D4-26EB-4423-92B4-45EE807A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70AE0-D620-4162-A99D-020B1F1A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51F96-4F9E-4535-84A3-BE5801C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5D36D-6748-4116-857C-DA1AF00A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A1CCF-8EDE-421C-9586-04F09ED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C9BBB-8735-4EE6-A731-440819F8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A5B9E-D97A-4044-A696-DFF90E51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F639D-D93B-4847-8205-BB1736A7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7D2D-83C5-48F3-8A11-1A277BA9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F1F75-5BF2-46D8-AC2D-6E2C569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EECAB-DC94-4703-8655-2BE23A37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76879-1DFB-4F59-BC9B-EC2031C9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ECB225-4E17-4855-891D-BB7EDE84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77256-F407-419D-9F28-842679D2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335EE-AD77-400C-B669-FD64C5F0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D3658-9856-4C0B-A111-C0B446A6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14A049-A67D-4F6D-8580-7D63BA0D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47853-EFB6-4E6A-8434-C1B919ED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F9B90-3A9E-4007-99E3-6B32335F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18AA-1B3A-44F1-B867-566B7E9E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21CC6-9925-45F3-BA09-E9D9F716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1F412-A45F-40E7-BE11-F7FAE0F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CC638-2B74-41EE-87A8-773919A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4B24F-12C7-4410-A92B-DCB251B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B6447-2353-4D0F-9A4E-E061BB3C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F45C3-0D68-48D8-A008-CF3128DB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724F52-C6BD-4A60-991E-70C4BBAC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C29293-5294-4338-9D9F-7B691F3A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8356B-E249-4C38-A1B9-674BDC77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6DABD-BCAB-45ED-A3C2-9EB2C04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9604-3382-4C68-BD48-19E2DD34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ADEF8-68BB-4B7C-8689-A7E49B88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F6DCB-5885-4B6C-A667-FDB712CA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24218-7769-41BB-819D-932E8A94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215C0-2836-4869-A874-E7774F0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30E34-9320-40D4-8DD4-3959924D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C95BD-8E55-43C9-A553-E49BCA5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7053B-6BE8-4E7C-8A0A-943B82B0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A42110-F9B4-4968-A9E5-24E63DB5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BABF8-EC1A-443A-AA4B-6EA4CB8D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2E6FF-7475-4DB4-BB7F-A18E152D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06EE-FB0C-4D6D-B2F4-0422C49D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EE1C5-1CA6-4101-8DB0-4DBB78F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D9B2C0-2BCC-445D-B8DC-EACBEC79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CEA19-9810-4548-BCBF-C97C42E7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ECCC2-C9D8-485E-B877-2CEEDA1C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B45458-FB22-43DC-8EAE-D91B16C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62945-D71F-4F3F-B9E7-8FBCAC6E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D4E4AD-93D4-435B-A5FC-BB794413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0C1FA-E617-4B58-9804-C5F3882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F4FBA-21E7-4EB6-9B5C-9EB11213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ECB64-756B-4067-99A2-DE17392E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1C38-1805-44DB-939F-DB7BD6DD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9A1494-4181-4CBE-9610-2A7B865B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C0B1F1-1F84-4038-862D-63252F1B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94C7C6-B948-4D1A-B829-4C085C9B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271EE-58B7-4EB9-8A14-10045FE5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1E100-BDEE-435E-9F73-4B9E99D7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DFBF5-AFE7-484B-A8EC-0EEBF22C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9CFCC8-DDE0-48D0-A180-41045D54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D92886-5647-4CBA-B1D1-A38E7B7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DBDDFF-AE30-4C4B-9A20-3F7262B4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AE4DF9-8B0C-4C0D-8785-3A49409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880B-1301-4909-A73D-1F990AE3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4A346-DD33-44F1-A246-18F17B6E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129AA-2647-4227-84BD-D3891BBD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A319B3-2877-4FD7-B352-FFA66CB1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AAAA21-FA61-48EF-8A49-3F32E617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24D509-4B56-40DC-9EB1-48F9BB87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356740-12DC-4CA6-BCCF-832BBC3B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0407D-6419-456B-A1BB-B0F23864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AC64D-8284-4B15-9A39-67995C4A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8C236E-10F4-46E2-832B-207FB06A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9D7D19-452A-4074-80E8-E8C729E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385-7485-462C-A0A5-C0FC0950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D087-903D-4067-8F19-F00358E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87637-BEB1-4023-B20D-5FD2FAC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06107D-F4D2-48B7-B602-8C9E975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49671-9C8D-43BB-9B9C-518659A4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FDECC-CF69-45DE-9459-287E8968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832310-0926-411D-AE19-4E1C6441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F9FC-027F-49A2-805C-743CEFB7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997F-936F-41F6-BDFD-43A1F2F4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9B44-677C-4B3E-8D57-1478DDC4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4129-07D4-4745-9F86-C39EBABC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31BA0-0327-4D83-81E9-BA6B841A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D18D-5C6F-4FA6-B54C-BA0BC7DE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5DD2B-71DC-44CD-9017-78D5EAB3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D4458-303A-4097-9950-7D345F95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5918B-0D0F-466F-ADE4-42D9B47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EEB-99A2-4DAD-A0A8-830C940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4D297-3D0B-421D-8678-F8E8C73B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8077-B24C-4540-87DE-CB60855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57C8-3D0D-4E22-A11C-1A78335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6E3C-6FD8-4815-B043-1A7EB8A6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A034-FAAE-4EA9-BE23-F7F702A1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55B87-7BD1-453E-8F04-3077A7AB8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3AE4-8D69-4076-80E9-707B2DFE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FFC4-570A-47B2-9B87-E7A0D861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07D8-0E3A-4193-AE24-5813179B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070E4-A1E1-4E25-9D5B-8F65E13A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E62-CD1A-47D7-9F8D-6DE8EB17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F3C37-928D-4089-BDD0-2717D73F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32266-068A-42C7-A70A-1A6564C1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0772F-B606-4846-84AD-D4EE4F38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3B8A5-4498-495B-B08F-FB3AD8C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7CABF-A0F0-494F-8099-8176D6B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60157-A617-488E-9862-16342552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D6C1-E92B-4EEB-AC46-ACAAD1AF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C664-EA03-43E2-A958-D2808B46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942EF-3DA2-4D72-869A-54D03F5C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67C1-412A-475F-B344-62039DD1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82D-D615-418A-BE85-F2198F3D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1977-06E7-4C11-89A1-106BB524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7EFB8-8BE9-4F12-84C3-B1173CD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B0D39-9D78-4DE6-A72B-DC5FB603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46E6-DFCC-458F-85A0-5014DF0E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F26C-CBCD-4631-823B-D6796957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10E4-9FD6-4132-8C65-74F101AC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4BA8C-63BB-4642-84C0-F35F697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7C30A-30DB-494B-9906-114ABBEA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234C8-FAD5-40F1-A44C-A01DBAC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C6C51-896D-4F3C-BE97-644F2DAD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B50-2016-431B-A56D-04483A08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E3EAA-6C88-45F0-867C-FF673788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72CF-126B-4514-87A5-93C0B5FC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E782F-6346-4E60-AC51-7E8D0692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6AE1-075C-42EE-8796-02C349A0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18DBE-B9FD-4333-AACD-D20CBADA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DF8B-4A27-4559-B364-53C91C7F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BF771-2A88-43BD-AAFF-145BA447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3661E-AB08-4A9E-B5EC-C4781BB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76B2F-9125-4752-9CB6-30D9FDCE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03B20-C7B2-4F9F-8C39-716B8C1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1AB-32D1-4CD6-9706-9DC811DD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103A2-F96C-4648-A759-1C8B422B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AE2DD-EEA7-401D-B4DE-C1692A7D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C0474-AC5A-4F6C-8C12-693EEDE4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F499C-E604-4567-AB0B-04E20B44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E57CD-E34F-4F7A-ACD8-F9419CAE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66DB0-4762-4533-9041-8C3626A6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6D633-1EAA-454C-BB37-9DE643F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6FDE-D1A2-416D-AC9D-F587E0E8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6DF7-678C-497D-B8B4-CE01913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90983-2427-4994-80E4-60385BBD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F10-1F2C-4171-A4E1-0E9ED32F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656CF-4B41-4E97-A384-9C61921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83E99-B10B-46BD-8044-B822DE62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9F37D-5BF5-4214-B60E-E642B7AE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09B37-4AFE-40AB-BC11-9CFBDD00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C7EAC-21FE-40E2-8D9A-105C7F37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C9BD8-11D5-4BB1-8F89-5A3A7CB2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F7ECB-EA90-4A92-B428-C0B2940F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4A6BE-A8A4-445D-B413-5B0DF55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00C66-F5E8-48C9-80BA-4063642C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0A843-AC6D-4FED-A243-F7820E65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2611-AA59-4320-96DC-5709418F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1C04C-F2B4-4981-A5CD-3E3BA9A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FEB42-A37A-4AA1-AFC9-1E2E800D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D72B1-CAD3-43EB-A1B3-8052150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0A449-879E-44A7-97F2-8CD9E426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FE836-FDE3-4C74-98DC-C3355A9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936AB-9CFE-415F-BFF7-8DB02843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6D7C9-29C9-4027-A506-4442A073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A586C-F8BF-4896-8F4B-FF31D593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0D650-8088-4211-BDDE-FA2359FC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797F9-2C86-4FA0-8F27-1F2416A3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B6B7-4C29-4731-9EA4-AC00DF14D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5C1A-886F-4360-8489-E74C4C19C01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BF53-70E8-4ED6-8614-0DA0FB769856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4E88-E25F-42E5-B63D-5E7D39230770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D3A-C628-46DE-9B32-255A0C5D7A3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4A62-8FA4-45A6-BDD3-B2B8275516A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EA1E-9EC0-46E6-9272-7F9E909C77A5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7A34-58E8-45E1-A836-7928705BCD2B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F397-7A70-4542-B88E-DF4C2C271142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45F-D061-45AB-AF0A-96A7AA2A8D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2431-5BC0-480A-89B6-5C22CE70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E8D0-6C23-45F2-BBDB-079569C95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EF6-A3AE-4082-8588-3110B910D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7F78-9017-4B82-A16A-55EC0D151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BD8-9CC6-4D45-ADA2-CFACA2FA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7076-B14E-4A1C-8648-93AB3C4A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E321-8448-48A8-A2DF-A571454AEB4E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200160" y="1628640"/>
            <a:ext cx="878508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Представяне на основните промени в разделите на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bg-BG" sz="2800" spc="-1" strike="noStrike">
                <a:solidFill>
                  <a:srgbClr val="a50021"/>
                </a:solidFill>
                <a:latin typeface="Arial"/>
                <a:ea typeface="Arial"/>
              </a:rPr>
              <a:t>Оперативна програма “Региони в растеж” 2014-2020 г. (ОПРР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дмо заседание на ТРГ за разработване на оперативна програма „Региони в растеж” 2014 – 2020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5-26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 март 2013 г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cc"/>
                </a:solidFill>
                <a:latin typeface="Arial"/>
              </a:rPr>
              <a:t>гр. Прав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" descr=""/>
          <p:cNvPicPr/>
          <p:nvPr/>
        </p:nvPicPr>
        <p:blipFill>
          <a:blip r:embed="rId1"/>
          <a:stretch/>
        </p:blipFill>
        <p:spPr>
          <a:xfrm>
            <a:off x="309600" y="20952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2" descr=""/>
          <p:cNvPicPr/>
          <p:nvPr/>
        </p:nvPicPr>
        <p:blipFill>
          <a:blip r:embed="rId2"/>
          <a:stretch/>
        </p:blipFill>
        <p:spPr>
          <a:xfrm>
            <a:off x="7740720" y="212760"/>
            <a:ext cx="11034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 чрез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граждане на образователна инфраструктур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броя на преждевременно отпадналите от училище и повишаване на броя на хората с висше образ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ство и ремонт на държавни училища и висши учебни за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ОМН, МЗХ, МК, МФВС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Университетски и научни центр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7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 града, определени за подкр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6"/>
          <p:cNvSpPr/>
          <p:nvPr/>
        </p:nvSpPr>
        <p:spPr>
          <a:xfrm>
            <a:off x="1619280" y="260280"/>
            <a:ext cx="579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2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Държавна образовател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10: Инвестиции в образованието, уменията и ученето през целия живот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здравния статус на населението, чрез модернизация на здравната инфраструктура в град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, оборудване и обзавеждане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заведения за спешн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лечебни рентгенологични заведения, свързани с онкологични заболя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нски лечебни за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З за регионална здрав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ни за общинска здрав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6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4" name="Rectangle 6"/>
          <p:cNvSpPr/>
          <p:nvPr/>
        </p:nvSpPr>
        <p:spPr>
          <a:xfrm>
            <a:off x="1619280" y="260280"/>
            <a:ext cx="579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3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на здрав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9: Насърчаване на социалното приобщаване и борба с бедност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108000" y="177336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Социално приобщаване, чрез инвестиции в социална инфраструктура в градове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 в центрове, предоставящи услуги за деца в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 в центрове за настаняване от семеен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тип за деца в ри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МР за защитени ж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та за съпътстващи услуги за де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сграден фонд за социални услуги в общнос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 за предоставяне на услуги за ранно детско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оставка на специализирани транспортни средства, пригодени за хора с увреждания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64 общ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1619280" y="260280"/>
            <a:ext cx="579924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4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на социал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9: Насърчаване на социалното приобщаване и борба с бедност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0" y="1960560"/>
            <a:ext cx="885672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, чрез насърчаване на регионалния туризъ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местния икономически потенциал и нови форми на заетост в регионит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природни, културни и исторически атракци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– СМР и оборудв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ъпътстваща туристическа инфраструктура в района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на атракция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бекти с религиозно зна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на регионални продукти и пазарната информ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и кампании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финансови инсрумен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82" name="Rectangle 6"/>
          <p:cNvSpPr/>
          <p:nvPr/>
        </p:nvSpPr>
        <p:spPr>
          <a:xfrm>
            <a:off x="1619280" y="260280"/>
            <a:ext cx="5799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5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ен туризъ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6:Опазване на околната среда и насърчаване на ресурсната ефективно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90360" y="170028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 свързаността и достъпността на мрежата от градове и обектите на културното и природно наследство с TEN-T мреж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ървокласни и второкласни (извън Трансевропейската транспортна мрежа) и третокласни пътища, които обслужват вътрешнорегионални връзки между градовете и осигуряват възможности за развитие на техния специфичен икономически потенциал, връзка и достъп до TEN-T мрежа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 първокласни и второкласни (извън Трансевропейската транспортна мрежа) и третокласни пътища осигуряващи достъп до райони с потенциал за развитие на туризъм, връзка и достъп до TEN-T мреж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6"/>
          <p:cNvSpPr/>
          <p:nvPr/>
        </p:nvSpPr>
        <p:spPr>
          <a:xfrm>
            <a:off x="1619280" y="260280"/>
            <a:ext cx="5799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6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егионална път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  <a:ea typeface="Arial"/>
              </a:rPr>
              <a:t>ТЦ 7: Насърчаване на устойчиво развития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108000" y="1295280"/>
            <a:ext cx="885672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и повишаване на административния капацитет на управляващия орган и бенефициентите по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онсултации, изследвания, анализи, проучван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омютъризирана информационна система  и офис оборуд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, финансов контрол и о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не оценка и избор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дейности по информация и публичност на 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омитет по наблю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възнаграждения за УО, н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нефициенти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 6"/>
          <p:cNvSpPr/>
          <p:nvPr/>
        </p:nvSpPr>
        <p:spPr>
          <a:xfrm>
            <a:off x="1619280" y="260280"/>
            <a:ext cx="57992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, Приоритетна ос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7: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Техническ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2"/>
          <a:stretch/>
        </p:blipFill>
        <p:spPr>
          <a:xfrm>
            <a:off x="7662960" y="8424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5"/>
          <p:cNvSpPr/>
          <p:nvPr/>
        </p:nvSpPr>
        <p:spPr>
          <a:xfrm>
            <a:off x="1763640" y="62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Раздел </a:t>
            </a: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:</a:t>
            </a: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 Финансов план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324000" y="166680"/>
            <a:ext cx="1439640" cy="94464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5" name=""/>
          <p:cNvGraphicFramePr/>
          <p:nvPr/>
        </p:nvGraphicFramePr>
        <p:xfrm>
          <a:off x="179280" y="1447920"/>
          <a:ext cx="8856720" cy="5221080"/>
        </p:xfrm>
        <a:graphic>
          <a:graphicData uri="http://schemas.openxmlformats.org/drawingml/2006/table">
            <a:tbl>
              <a:tblPr/>
              <a:tblGrid>
                <a:gridCol w="7877160"/>
                <a:gridCol w="979560"/>
              </a:tblGrid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1.  „Устойчиво и интегрирано градско развитие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 Енергийна ефективност в административни и жилищни сгра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2 Градска сре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3 Зони с потенциал за икономическо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4 Спорт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5 Култур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6 Образовател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7 Социална инфраструк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8 Интегриран градски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2 "Държавна образователна инфра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3 „Регионална здравна инфра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оритетна ос 4 „Регионална социална инфраструктура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ен туризъ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72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на пътна инфраструктура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544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на ос 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ехническа помо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880">
                <a:tc>
                  <a:txBody>
                    <a:bodyPr lIns="18000" rIns="18000" tIns="10800" bIns="10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Щ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8000" rIns="18000" tIns="10800" bIns="10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5 Интегриран подход за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7667640" y="9360"/>
            <a:ext cx="1297080" cy="127980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9"/>
          <p:cNvSpPr/>
          <p:nvPr/>
        </p:nvSpPr>
        <p:spPr>
          <a:xfrm>
            <a:off x="307800" y="1700280"/>
            <a:ext cx="86457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cc"/>
                </a:solidFill>
                <a:uFillTx/>
                <a:latin typeface="Arial"/>
              </a:rPr>
              <a:t>Описание на подхода свързано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Адресиране на основни потребности и затруднения и съществуващи потенциали – разработена НКПР 2013-2025 г. и териториален приоритет в СП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Принос към специфичните цели и очакваните резултати от оперативната програма – интегриран подход в рамките на ИПГ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Устойчиво градско развитие – избрания по ОПРР интегриран подход за териториално развитие съдържащ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5"/>
          <p:cNvSpPr/>
          <p:nvPr/>
        </p:nvSpPr>
        <p:spPr>
          <a:xfrm>
            <a:off x="365040" y="5732640"/>
            <a:ext cx="28638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ние на прилагания под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5"/>
          <p:cNvSpPr/>
          <p:nvPr/>
        </p:nvSpPr>
        <p:spPr>
          <a:xfrm>
            <a:off x="3363840" y="5732640"/>
            <a:ext cx="28638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исъка с градове за подкреп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67 бро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326280" y="5732640"/>
            <a:ext cx="2655720" cy="9205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ханизми за партньорство с градските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6: Специфични нужди на географските райони най-силно засегнати от бедност/целеви групи с най-висок риск от дискримин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" descr=""/>
          <p:cNvPicPr/>
          <p:nvPr/>
        </p:nvPicPr>
        <p:blipFill>
          <a:blip r:embed="rId2"/>
          <a:stretch/>
        </p:blipFill>
        <p:spPr>
          <a:xfrm>
            <a:off x="7667640" y="9360"/>
            <a:ext cx="1297080" cy="127980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9"/>
          <p:cNvSpPr/>
          <p:nvPr/>
        </p:nvSpPr>
        <p:spPr>
          <a:xfrm>
            <a:off x="307800" y="1700280"/>
            <a:ext cx="858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Основни целеви групи по ОПРР 2014-2020 г.  - маргинализираните групи от населението, вкл. ро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С най-висок риск от дикриминация и социално изключване, поради което ще бъдат специално подкрепяни по ОПРР 2014-2020 г. в рамките на ИПГВ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ОПРР 2014-2020 г. цели да адресира основно нуждата от подобряване на жилищните условия, включително и на прилежащата техническа инфраструкту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cc"/>
                </a:solidFill>
                <a:latin typeface="Arial"/>
              </a:rPr>
              <a:t>Задължително заделяне на минимум 5 % за мерки в подкрепа на изграждане на подходяща социална инфраструктура и създаване на адекватни условия за живот за маргинализираните групи от населението, вкл.ром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8: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Власти и органи, отговарящи за управление, контрол и оди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ролята на съответните партньо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2" descr=""/>
          <p:cNvPicPr/>
          <p:nvPr/>
        </p:nvPicPr>
        <p:blipFill>
          <a:blip r:embed="rId2"/>
          <a:stretch/>
        </p:blipFill>
        <p:spPr>
          <a:xfrm>
            <a:off x="7667640" y="9360"/>
            <a:ext cx="1297080" cy="1279800"/>
          </a:xfrm>
          <a:prstGeom prst="rect">
            <a:avLst/>
          </a:prstGeom>
          <a:ln w="0">
            <a:noFill/>
          </a:ln>
        </p:spPr>
      </p:pic>
      <p:pic>
        <p:nvPicPr>
          <p:cNvPr id="813" name="Rectangle 9" descr=""/>
          <p:cNvPicPr/>
          <p:nvPr/>
        </p:nvPicPr>
        <p:blipFill>
          <a:blip r:embed="rId3"/>
          <a:stretch/>
        </p:blipFill>
        <p:spPr>
          <a:xfrm>
            <a:off x="255600" y="1670040"/>
            <a:ext cx="8686800" cy="477360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30"/>
          <p:cNvSpPr/>
          <p:nvPr/>
        </p:nvSpPr>
        <p:spPr>
          <a:xfrm>
            <a:off x="4103640" y="4938840"/>
            <a:ext cx="1368360" cy="318960"/>
          </a:xfrm>
          <a:prstGeom prst="rightArrow">
            <a:avLst>
              <a:gd name="adj1" fmla="val 77870"/>
              <a:gd name="adj2" fmla="val 16802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ctr" anchorCtr="1">
            <a:noAutofit/>
          </a:bodyPr>
          <a:p>
            <a:pPr algn="ct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5"/>
          <p:cNvSpPr/>
          <p:nvPr/>
        </p:nvSpPr>
        <p:spPr>
          <a:xfrm>
            <a:off x="1763640" y="62064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Раздел 1: Изготвяне на Оперативната програма и участие на партньорите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414360" y="1773360"/>
            <a:ext cx="835344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Засилване на обосновката и по-подробно описание н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частието на партньорите в подготовката на оперативната програма, съгласно чл. 5 на Общия регламе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Акцент върху механизмите за избор на партньори, вкл. на НПО-тата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писъка на участващите партньорите е изведен, като приложение в раздел 13 на ОПР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риетите мерки за осигуряване на широко включване и активно участие на партньорите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сновен принос на партньорите в разработването на оперативната програма и вземането на решения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7812000" y="3063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2"/>
          <a:stretch/>
        </p:blipFill>
        <p:spPr>
          <a:xfrm>
            <a:off x="324000" y="355680"/>
            <a:ext cx="1439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9: Демаркация и допълняемост с други оперативни програми и програмата за развитие на селските райони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 по О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19" name="Rectangle 9"/>
          <p:cNvSpPr/>
          <p:nvPr/>
        </p:nvSpPr>
        <p:spPr>
          <a:xfrm>
            <a:off x="307800" y="1700280"/>
            <a:ext cx="858528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Разграничаване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«Околна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Транспорт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Иновации и предприемачество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Развитие на човешките ресурс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Наука и образование за интелигентен растеж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Добро управлен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а за развитие на селските рай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и за териториално сътрудн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опълняемост и синергия 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«Околна сре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Развитие на човешките ресурси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ивна програма „Наука и образование за интелигентен растеж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10: Приложими предварителни усл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23" name="AutoShape 24"/>
          <p:cNvSpPr/>
          <p:nvPr/>
        </p:nvSpPr>
        <p:spPr>
          <a:xfrm>
            <a:off x="539640" y="1577880"/>
            <a:ext cx="8209080" cy="576360"/>
          </a:xfrm>
          <a:prstGeom prst="rightArrow">
            <a:avLst>
              <a:gd name="adj1" fmla="val 50000"/>
              <a:gd name="adj2" fmla="val 26797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чни предварителни усл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24"/>
          <p:cNvSpPr/>
          <p:nvPr/>
        </p:nvSpPr>
        <p:spPr>
          <a:xfrm>
            <a:off x="716040" y="5516640"/>
            <a:ext cx="8208720" cy="576360"/>
          </a:xfrm>
          <a:prstGeom prst="rightArrow">
            <a:avLst>
              <a:gd name="adj1" fmla="val 50000"/>
              <a:gd name="adj2" fmla="val 267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 предварителни усло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9"/>
          <p:cNvSpPr/>
          <p:nvPr/>
        </p:nvSpPr>
        <p:spPr>
          <a:xfrm>
            <a:off x="347760" y="2154240"/>
            <a:ext cx="861696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Предприети стъпки за изпълнението 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ждане на ежемесечни работни срещи с конкретните бенефицине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първата участваха представители на Министерство на здравеопазването, Министерство на труда и социалната политика, Агенция „Пътна инфраструктура“, Министерство на вътрешните работи, Министерство на образованието, младежта и наук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сяко едно от тях е ангажирано с пълното или частично изпълнение на предварително услов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 резултат от проведените срещи е разработена таблица, съдържаща поетите ангажименти и срокове за тяхното изпълн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кларирана пълна подкрепа и поеха ангажимент за своевременна подготовка на необходимите докумен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Ще бъдат включени в Споразумението за партньор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11: Н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амаляване на административната тежест за бенефициен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29" name="Rectangle 9"/>
          <p:cNvSpPr/>
          <p:nvPr/>
        </p:nvSpPr>
        <p:spPr>
          <a:xfrm>
            <a:off x="399960" y="1628640"/>
            <a:ext cx="856476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51"/>
              </a:spcBef>
              <a:spcAft>
                <a:spcPts val="451"/>
              </a:spcAft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Допълнен и изцяло разработен раздел, съгласно изискванията на темплейтите за Оперативна програма с фокус върх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ценка на административната тежест за бенефициентите в периода 2007-2013 и основните вече предприети действия за намаляване на тежестта за периода 2014-202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вършена оптимизация на процесите с цел ускоряване на верификаци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вършена оптимизация на процесите в етапа на кандидатств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Резюме на основни планирани дейности за постигане намаляване на административната теже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руктуриране на УО като изпълнителни аг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лектронно отчитане и подаване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роко застъпване на алтернативни и/или допълващи форми на подкрепа, освен БФП - финансови инстр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5"/>
          <p:cNvSpPr/>
          <p:nvPr/>
        </p:nvSpPr>
        <p:spPr>
          <a:xfrm>
            <a:off x="1763640" y="62064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Раздел 12: Хоризонтални принц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9"/>
          <p:cNvSpPr/>
          <p:nvPr/>
        </p:nvSpPr>
        <p:spPr>
          <a:xfrm>
            <a:off x="700200" y="6058080"/>
            <a:ext cx="822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 “Региони в растеж” ще гарантира съблюдаването на равните възможности между мъже и ж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24"/>
          <p:cNvSpPr/>
          <p:nvPr/>
        </p:nvSpPr>
        <p:spPr>
          <a:xfrm>
            <a:off x="773280" y="1209600"/>
            <a:ext cx="7940520" cy="576360"/>
          </a:xfrm>
          <a:prstGeom prst="rightArrow">
            <a:avLst>
              <a:gd name="adj1" fmla="val 50000"/>
              <a:gd name="adj2" fmla="val 2679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21"/>
          <p:cNvSpPr/>
          <p:nvPr/>
        </p:nvSpPr>
        <p:spPr>
          <a:xfrm>
            <a:off x="773280" y="2852640"/>
            <a:ext cx="7940520" cy="576360"/>
          </a:xfrm>
          <a:prstGeom prst="rightArrow">
            <a:avLst>
              <a:gd name="adj1" fmla="val 50000"/>
              <a:gd name="adj2" fmla="val 2679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 възможности и  борба с дискриминация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25"/>
          <p:cNvSpPr/>
          <p:nvPr/>
        </p:nvSpPr>
        <p:spPr>
          <a:xfrm>
            <a:off x="700200" y="5516640"/>
            <a:ext cx="8013600" cy="576360"/>
          </a:xfrm>
          <a:prstGeom prst="rightArrow">
            <a:avLst>
              <a:gd name="adj1" fmla="val 50000"/>
              <a:gd name="adj2" fmla="val 26797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енство между мъже и ж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"/>
          <p:cNvSpPr/>
          <p:nvPr/>
        </p:nvSpPr>
        <p:spPr>
          <a:xfrm>
            <a:off x="671400" y="3279600"/>
            <a:ext cx="7977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ключване на задължителна хоризонтална дейност по подобряване достъпа за хора с увреждания до ремонтираните с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пециално внимание за осигуряване на съвременни социални жилища за уязвими и маргинализирани групи, вкл. роми и деинституционализация за деца и възрастни хора с увреж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ключване на хоризонтален индикатор, който да измери постигнатите резултати на ниво прогр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"/>
          <p:cNvSpPr/>
          <p:nvPr/>
        </p:nvSpPr>
        <p:spPr>
          <a:xfrm>
            <a:off x="773280" y="1785960"/>
            <a:ext cx="798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и по ОПРР 2014-2020 г.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щ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ъдат одобрявани само след положително решение/становище по проведени процедури по реда на ЗООС и ЗБ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Съответствие на ОПРР с насоките за интеграция на политиките по околна среда и изменение на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5"/>
          <p:cNvSpPr/>
          <p:nvPr/>
        </p:nvSpPr>
        <p:spPr>
          <a:xfrm>
            <a:off x="1763640" y="62064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Tahoma"/>
              </a:rPr>
              <a:t>Раздел 13: </a:t>
            </a:r>
            <a:r>
              <a:rPr b="1" lang="ru-RU" sz="1800" spc="-1" strike="noStrike">
                <a:solidFill>
                  <a:srgbClr val="a50021"/>
                </a:solidFill>
                <a:latin typeface="Tahoma"/>
              </a:rPr>
              <a:t>Отделни елементи – представени като приложения във разпечатаната версия на доку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1" descr=""/>
          <p:cNvPicPr/>
          <p:nvPr/>
        </p:nvPicPr>
        <p:blipFill>
          <a:blip r:embed="rId1"/>
          <a:stretch/>
        </p:blipFill>
        <p:spPr>
          <a:xfrm>
            <a:off x="399960" y="2919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" descr=""/>
          <p:cNvPicPr/>
          <p:nvPr/>
        </p:nvPicPr>
        <p:blipFill>
          <a:blip r:embed="rId2"/>
          <a:stretch/>
        </p:blipFill>
        <p:spPr>
          <a:xfrm>
            <a:off x="7812000" y="9360"/>
            <a:ext cx="1152720" cy="127980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3"/>
          <p:cNvSpPr/>
          <p:nvPr/>
        </p:nvSpPr>
        <p:spPr>
          <a:xfrm>
            <a:off x="826920" y="1522440"/>
            <a:ext cx="813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cc"/>
                </a:solidFill>
                <a:uFillTx/>
                <a:latin typeface="Arial"/>
              </a:rPr>
              <a:t>Списък на съответните партньори, участващи в подготовката на оперативната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826920" y="2347920"/>
            <a:ext cx="813780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Европейска Комис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Министерски съ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00100"/>
                </a:solidFill>
                <a:latin typeface="Arial"/>
              </a:rPr>
              <a:t>Сертифициращ и одитиращ орга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100100"/>
                </a:solidFill>
                <a:latin typeface="Arial"/>
              </a:rPr>
              <a:t>Работодателски и работнически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Министерства и ведомства имащи отношение към разработването на Програм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0100"/>
                </a:solidFill>
                <a:latin typeface="Arial"/>
              </a:rPr>
              <a:t>Местни власти, вкл. Националното сдружение на общините в Република Бълга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еправителствени организации в сферата на екологията, политиките за развитие, социалната сфера, в образователната сфера и други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ято дейност има отношение към тематичните цели и мерки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елигиозните институции на вероизповеданията и техните местни поделения, които са юридически л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Академичната общно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876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355680" algn="just">
              <a:spcBef>
                <a:spcPts val="876"/>
              </a:spcBef>
              <a:buClr>
                <a:srgbClr val="1001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539640" y="137160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-н Иван Попов, нач. отдел „Програмиране, оценка, информация и публичност“ в ГД „Програмиране на регионалното развитие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www.mrrb.government.b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www.bgregio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oprd@mrrb.government.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5"/>
          <p:cNvSpPr/>
          <p:nvPr/>
        </p:nvSpPr>
        <p:spPr>
          <a:xfrm>
            <a:off x="1763640" y="62064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Arial"/>
              </a:rPr>
              <a:t>Раздел 2: Стратегия за приноса на ОПРР към стратегия Европа 2020 и целите на кохезионната поли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7812000" y="3063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324000" y="355680"/>
            <a:ext cx="1439640" cy="944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9"/>
          <p:cNvSpPr/>
          <p:nvPr/>
        </p:nvSpPr>
        <p:spPr>
          <a:xfrm>
            <a:off x="324000" y="1808280"/>
            <a:ext cx="8264520" cy="64908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исание на стратегията на оперативната програма за принос към постигане на целите на стратегията Европа 2020 и постигането на икономическо, социално и териториално сближаван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5"/>
          <p:cNvSpPr/>
          <p:nvPr/>
        </p:nvSpPr>
        <p:spPr>
          <a:xfrm>
            <a:off x="468360" y="5186520"/>
            <a:ext cx="28638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основка на избора тематични цели и инвестиционни приорите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611280" y="2644920"/>
            <a:ext cx="8105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ъответствие с нуждите в Националната програма за реформи и другите стратегически национални и регионални документ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исание на конкретния принос на ОПРР за постигане на целите и приоритети на стратегическите и програмните документ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Описание как ОПРР ще адресира основните предизвикателства и идентифицираните потребности и нужди в документит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ълнен със съответствие и насоченост към стратегическите приоритети на Споразумението за партньо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4"/>
          <p:cNvSpPr/>
          <p:nvPr/>
        </p:nvSpPr>
        <p:spPr>
          <a:xfrm>
            <a:off x="3635280" y="4869000"/>
            <a:ext cx="4998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Базира се на идентифицирани национални нужди и техните регионални измер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опринасят са изпълнение на конкретни препоръки на Европейския съв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ключват и препоръките на предварителната оценка на Програм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 txBox="1"/>
          <p:nvPr/>
        </p:nvSpPr>
        <p:spPr>
          <a:xfrm>
            <a:off x="259920" y="1628280"/>
            <a:ext cx="8883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</a:t>
            </a:r>
            <a:r>
              <a:rPr b="1" lang="bg-BG" sz="2700" spc="-1" strike="noStrike">
                <a:solidFill>
                  <a:srgbClr val="003399"/>
                </a:solidFill>
                <a:latin typeface="Arial"/>
              </a:rPr>
              <a:t>: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и ВЕИ в жилищни сгради и публичния с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: Повишаване на енергийната ефективност в публичните сгради и в жилищния с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мерки за ЕЕ 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многофамилни жилищни сгра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административни сгради на държавната и общинска администрац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ирекция „Жилищна политика”, МРРБ/фонд за жилищно обновяван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6"/>
          <p:cNvSpPr/>
          <p:nvPr/>
        </p:nvSpPr>
        <p:spPr>
          <a:xfrm>
            <a:off x="1187280" y="139680"/>
            <a:ext cx="6409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   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Раздел 3.Приоритетна ос 1: „Устойчиво и интегрирано градско развитие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ТЦ 4: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крепа за преминаването към нисковъглеродна икономика във всички сек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652760" y="182160"/>
            <a:ext cx="5798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ТЦ: 6 „Опазване на околната среда и насърчаване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на ресурсната ефективност”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26640" y="1267920"/>
            <a:ext cx="9117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2: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околна сре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</a:t>
            </a:r>
            <a:r>
              <a:rPr b="1" lang="bg-BG" sz="15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качеството на живот, социално включване, и подобряване на екологичната сре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икономическата активност в градовет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та околна среда, чрез инвестиции в спортна инфраструкту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градска среда (зони за обществен отдих, пешеходни зони, осветление, системи за наблюдение и др.); зони за икономическо развитие; спортна инфраструктур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– само финансови инструмен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,цялата територия за градовете от ниво 4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за икономическо развит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1" descr=""/>
          <p:cNvPicPr/>
          <p:nvPr/>
        </p:nvPicPr>
        <p:blipFill>
          <a:blip r:embed="rId1"/>
          <a:stretch/>
        </p:blipFill>
        <p:spPr>
          <a:xfrm>
            <a:off x="127080" y="-468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652760" y="274320"/>
            <a:ext cx="579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ТЦ: 6 „Опазване на околната среда и насърчаване 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на ресурсната ефективност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127080" y="155700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</a:t>
            </a: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културния живот в градов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ултурни центрове, театри, читалища, библиотеки, музеи, изложбени зали и др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652400" y="404280"/>
            <a:ext cx="58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: 10 „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Инвестиции в образованието, уменията и ученето през целия живот посредством изграждането на образователна инфраструктура и на инфраструктура за обучение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360" y="1773360"/>
            <a:ext cx="888372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и на инфраструктура за об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: Намаляване броя на преждевременно отпадналите от училище, чрез инвестиции в образователната инфраструктура в градове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и средни училища; детски ясли и градин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 съгл. Приложение 2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579924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br>
              <a:rPr sz="2000"/>
            </a:b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: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9 „Насърчаване на социалното приобщаване и борба с бедността”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59920" y="1628640"/>
            <a:ext cx="88837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социална инфраструкту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оциално приобщаване, чрез инвестиции в социална инфраструктура в градов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нска социална инфраструктура, съвременни социални жилища, достъпна градск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7-те общини съгл. Приложение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 – ИПГ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оните за въздействие за градовете от 1-во, 2-ро и 3-то ни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за градовете от ниво 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окус - маргинализирани групи -  в т. ч. и ро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688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Раздел 3, Приоритетна ос 1</a:t>
            </a:r>
            <a:br>
              <a:rPr sz="2000"/>
            </a:br>
            <a:br>
              <a:rPr sz="2000"/>
            </a:b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ТЦ 4: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одкрепа за преминаването към нисковъглеродна икономика във всички сектори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0" y="1817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6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нисковъглеродни стратегии в градските райони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устойчива  градска моб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качеството на въздуха в градо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3399"/>
                </a:solidFill>
                <a:latin typeface="Arial"/>
                <a:ea typeface="Arial"/>
              </a:rPr>
              <a:t>Дейности: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Транспортна и прилежаща инфраструктура; системи за управление и контрол на трафика и градския транспорт; системи за информационно и комуникационо обслужване; превозни средства, достъпна архитектурна с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5 общини за градовете от 1-во до 3-то ниво, съгласно приложение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инструменти за градовете от 1-во до 3-то ни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Целева тери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ялата територия на 35-те града, определени за подкрепа по ОПР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07:28Z</dcterms:created>
  <dc:creator>RusevaA</dc:creator>
  <dc:description/>
  <dc:language>en-US</dc:language>
  <cp:lastModifiedBy>RusevaA</cp:lastModifiedBy>
  <dcterms:modified xsi:type="dcterms:W3CDTF">2013-04-01T12:21:07Z</dcterms:modified>
  <cp:revision>411</cp:revision>
  <dc:subject/>
  <dc:title>Slide 1</dc:title>
</cp:coreProperties>
</file>