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DD008-0C3E-427B-B287-D61721B861C4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CCD3E-EFF5-4786-896F-73A01F5B091F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97000" y="468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CD557-A08D-4EA4-98EC-37F4AF567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25360" y="5396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A57E7-E529-448C-AA45-84B7740E8A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25360" y="6112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657A0-BEFB-4711-83F4-3889676D44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97000" y="468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BED52-B894-44E4-B144-659AA0EB82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428E1-1EE8-439E-B303-5E92608FDA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25360" y="468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CE001-765E-44B2-A0A6-8CF257F84C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ACB83-D3FC-46BF-A640-5C9620FCC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C4211-D443-45D0-909E-797754158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92349-D129-480B-86A1-4FEAB8C74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0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88DAB-F9D9-471F-82AA-FE3434FBD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4A1BA-7C9E-4BCD-B99E-2DBD4A81DAE6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92280" y="43560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9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0D838-DEEB-4030-B099-431868C64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F0412-9CA3-49FC-A090-8DEA814F5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81A7A-4908-439D-9267-C7B96C1BC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1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555EE-8B75-4BF9-8A09-AEB2BD16B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82123-4AF1-4768-849B-F250FDE61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59938-BE11-4BCF-B712-2985B67B9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AAA24-2262-4216-AD25-CAFD08C5FB6A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404280" y="4211640"/>
            <a:ext cx="5767560" cy="47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A25F3-49C3-4570-8847-2B011E7DD9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25360" y="3240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475920" y="3850920"/>
            <a:ext cx="5977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2B997-CE38-4AE2-839E-4861B7AD62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211640"/>
            <a:ext cx="569592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02B36-14F8-458E-849D-FF8EEDFEC2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528BD-F5A3-43F2-8765-30C266DA0A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C3722-7544-4281-85DA-68DBBD5CC0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E35C0-9BE8-4C89-966C-1234FD3467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F076-5EAF-4E66-B3C0-BBEA13AC4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2D42-EA3D-4693-886F-2AEE1CBDF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219A9C-C31B-4E63-B6CE-BD43584B7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8E47C7-1159-445D-8DE4-2B472FA16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1E305D-95E4-4EB5-B176-2B6C77BC1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935234-254F-49DD-9D06-ECF32124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3E3E39-5DD9-4176-82B0-FC471403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8A5F1E-3BD1-4FC0-AB8B-04844150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42DA71-324E-4F3E-8B45-A4C317AEB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A086F6-37DA-489E-986C-B05DC2A18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ED87A9-189C-4B65-8F24-7F6EBD456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434B52-1C2F-4CA3-B45D-093934189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AFFA-113B-4CF4-B7A9-B4BDAD855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F605AD-93B9-4997-AF68-CA7C33350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B4076C-C5F3-4735-B315-95EAEB573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97CF73-10AF-47D4-BE20-CC2889C30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21A6DD-D573-4520-BD29-46EB43816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0C0732-FBAE-43F1-AE07-676DF080C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3914EC-FDC3-48A9-87E8-E755C5CB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89A6BE-990C-4C5F-85A3-82CA2140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CFA5C6-879F-4522-AA30-53C6008C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67F84B-0864-4C94-A0AF-BF69F56D3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94F1CB-9D04-4C42-AF70-4E176EA53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B369-E78F-4456-A8B9-116BA3FA7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8A1503-74D6-4BAC-BF33-25B1DE6A2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42581B-B355-4C8F-8D57-23F810EF9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2C42B0-7790-4E56-B9C5-3F3223598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FE4132-F5ED-458E-891E-193A273E0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59BD1B-2BE9-4BE3-BE28-A6AAF2642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C6B811-67B0-45AB-8966-13FC59BA5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BF25C0-B3E8-4A67-BFF5-B06280E0E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4320CA-FE04-4BB1-B438-DB285292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7CFEAA-AC64-46B3-80ED-4D4141AF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2745AD-6D8D-4F5A-B9AB-965B820E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3A2D7-4217-4D75-A4A4-BB517D7CC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E025F7-B6BF-4021-88AC-C2FF818B9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E5DDCA-00A6-4D7E-BB8D-80A8802D3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702359-D979-4369-9F09-EE85F94A8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76AFDC-C73C-4264-8529-B6B823336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CD0B64-3FC6-4E49-AE63-003E41D97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4C8A12-C915-4DDB-B697-6085A8933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B3CCE8-9362-416F-9BDB-8C3452AE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C83F79-3023-4EF8-8151-1C765DDC7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E23E36-377E-4358-BF65-DDCDF45E0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C09063-1E14-4BB7-9CDC-83C998EE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1F09F-41E9-483E-BB83-538F5DB38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ABBF0E-69FB-4B50-BE92-C175D52E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FF089E-5D12-4432-92CB-2FAB8956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4D5AA2-FD14-4BB4-B550-CB9CBAB0D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C001E6-05B2-4322-AFA4-0F6A2C24E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C26BCB-79B9-427E-95D6-45D99379A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D2B1D0-CA53-442C-A20A-F84184D76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C3620D-9C16-43B1-96CC-3697DB0EC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96CEAD-B67D-450C-80E2-65ABB2F00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F9FD75-C5FB-477C-A79F-296806CFE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ABF197-57AB-493F-BCFA-3AABCB0BA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B08F4-7926-440E-A81D-00BBF3F15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B0B4EB-0B22-4949-BF70-EC0DF1D88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75432D-BEEA-45FB-9E43-4A19BF8A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77E638-169C-4274-A363-CF7EC91A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104299-355B-4B3D-AA8A-AE1D5EC5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478D28-A02F-407D-83B4-89762E98D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7B940C-B3D9-4356-BF88-4214F2BA7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5EC12F-0480-4B4F-8B68-DB96E6AE0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F80A8B-BD50-440A-859B-4B0FBEFDB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C866BB-30F3-466E-968B-35280BD8C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C81B50-130A-401A-B360-45B02C7DA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DA58E-AB54-4409-B0BC-19ACEF7F2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6239EA-71C7-4A58-8221-3CA66FADF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E24802-FAFF-4153-A8A7-ECDE5FF60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EA0041-90FC-40A3-BBCD-B67BB11B8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8276AF-99E2-41D8-95E3-15859788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641CEC-E028-42B4-9750-E6358220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E38EE7-5EC6-4AE1-8BDB-6C7EA90F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CB5764-830B-4D43-AAF1-FDABB6E9E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8A253D-7E53-4D48-AC9F-1409EBC97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922216-04AE-490A-B6E9-720A1F672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45F9F4-F81D-428B-A6E1-764EB73BB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204BD-3623-497D-9BC4-B3C7C8307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94B363-7CD9-4BEE-8B59-C563E60C3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23A257-DB80-497C-8029-20A048AC2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4BC870-0B4A-4815-B211-2AFC5F5BD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15C4D6-6907-4838-80FC-923561453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74B63D-EBF1-485C-B131-5E52078D7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65AEE6-0D55-47B5-B7F8-A1C06E15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071E7D-39A5-45CE-96D7-DA602797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95E586-12E0-4B86-A6B1-CB4C3BE8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DCB383-B8CD-4C68-8A4F-98ABD66A6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226E15-53C9-42E6-987B-7EFFEA98F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4D89C-47DA-4147-8AE1-9FA2BAB7E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8B073F-7853-4CBA-B140-120B265DA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582E7B-CF85-4926-88DC-1422ADCA5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C06D96-1349-4940-9492-33638314B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D7BB51-3F9E-412C-970F-404A85A55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04C9E6-D9C1-4B6D-B00A-09D124C23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F466FA-19CC-417B-A6E8-EC594FAE7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D9A43C-41AB-4594-B593-D3C7266A1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BF89F2-CE9E-4E7F-B1A3-78CFF7EC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BA9B5A-7F86-43D4-9882-32FB9A13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8CC9F8-DEA2-4357-ACB3-3BC299EB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E2155-B1F8-4AA1-885D-2D6B4426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9313BF-6A30-4B69-9A2F-37D144DFE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BF99F6-1872-47F8-8913-315C78583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C01A16-DE0E-4702-8C98-0466FA071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FD8D32-EA1C-47FC-8013-DFD871D18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008B74-01A9-40B0-8426-CBE3C556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06F597-C1CE-481F-B0EC-8E5A9DBB9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09D11D-AD22-42E2-9F90-6D5020EEC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1BA9A3-4B6E-4D0E-B9A2-32A02D6E0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2DBAA7-9835-4988-B2BA-E993940D8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2AC22B-A1A4-45F7-A608-6A85C16A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25DA-254F-4922-9849-F55CB0D2D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96337-0773-40D0-BC63-2A428596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C5DA63-D05D-4565-A032-6CDD5308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72D11A-D82B-4074-8B48-19CA9B3A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F0C681-DDD8-4BA0-B411-9D57D8954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7439E3-81FC-443E-BDDB-067D86915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A141E1-DF28-4015-B6A5-440C294B9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E3031-9F75-40BD-A74B-1290A2CB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A4421-AA73-4812-A8E4-CDBE524F4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B8865-EDEB-43D8-B0B7-35C7F9260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FB8C1-F49B-4175-B4B3-AF529D5D8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ECB95-3E95-4B47-98FD-BBDFA3041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0F3E5-D503-4A79-A3AE-AE9B17C67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6C2BF-E3E0-4C88-95E8-E292C8DBE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6ED7F-0C44-478E-B82C-55026FDCE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0E019-EFD8-4229-8832-1271D5CD6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971B-BC5D-4AF5-8974-74515494E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62170-4811-4216-8034-B9C9062CD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4FEAC-322F-4FA1-8471-36AC2EF1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8DDB3-E642-4E4B-8743-178D4DB0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5ECBE-3540-4396-802E-72365FEA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E18E7-F935-44C2-BBCE-908F79096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ABD87-5C47-4277-B53D-0F06C2121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4CAED-E9DB-4D61-A7A5-61FC93449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7A1A4-20BC-43E7-8676-F51D9D6C5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14731-BEA9-4767-9269-40A5A4BAC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745F1-CC33-4D7D-A172-F6A2AC96C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53A6-BE87-46AB-957F-14F5D1CA0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981C6-7471-4A7A-A243-E54DCC25B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EDC03-FCE2-4850-BCD6-D5F26A914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5468C-2ADD-4A7E-8BA1-4BDF56EFC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F422B-A8C8-4448-835E-C02D56D4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3DD71-EF2A-4999-B1B3-E455BB0B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863F1-CA2C-47B1-9597-0333991B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8340F-F240-48E4-9D09-90683C89B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035FC-9864-4D92-8A7B-E363C1881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60932-F4E7-4C51-B8BB-2E9FEC82E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2A2B8-A3D7-475D-B096-CC50B85D9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02C5-5F70-4D75-A53C-51FD49974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D0BE0-C6E3-409A-8D11-6EE897F99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D6708-C191-43C1-AEE6-200E338BE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43AA6-A33C-4BC9-A8CB-B24E4F124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3F9C2-0449-4DE1-9EAB-043C5714D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3D4DD-4AD9-4FD2-8E84-36A917D4A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FFCCB-8561-4B11-B913-A8B6C383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602CD-A589-4E32-8974-B2C94536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D1A0E-18C5-40DB-B7C5-8977E378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C98A6-E405-4B04-94F3-918E5ACFC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E1077-1BE2-4230-B1C2-F05DFD17F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6472-6362-4CCB-9758-4129C1A2C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9D1CC-10FF-472E-981E-653089641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0B47D-DEF4-4344-A1FA-7781669A8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492FEC-74FA-4239-A8BB-9CFF8B352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199BE-D21D-4690-AEB1-DA36FBA20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A6983-63BD-44EC-A360-296A757AC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86DDC-CD8A-41D8-9DBB-D10A016A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721CB-0DC0-4455-85ED-52C75C2FE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A0B5F-6CD8-457E-912F-A63D79EA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2D337-042B-4A3B-B8CC-12C6C84C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A1149F-598F-4648-B92A-47A59680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07F7-D8BB-4F25-AE20-4BE1C090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C811DC-24C4-4066-BBE8-324A351C2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84EE17-41FD-4FA7-A267-8E271492C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23464-5169-4802-B1B5-4AA0FEA9A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A3933-6E9A-408A-9706-9FB055CB6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D4AE7-0C34-45AE-8B08-A1921228A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1F08C-4932-49E5-BA7A-68BAAB872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E9401-423C-4576-9EA5-5BCDC438D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9EBCD-30D8-4A42-AB1E-275F95F4D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DFA5B-0C72-4253-8058-385BC942F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6BA52C-DC34-4CF4-A89A-C6A2A371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6731-0175-4FD5-AF01-7F9D4EFD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96E1B-69EF-4E63-8420-E3E441DF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DDDC6-8A0A-4D5D-986F-3C0DA686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4EAE8-D402-4982-A10E-617974760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6C54EE-D5C6-49A4-8AB6-B0615E3F9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F20B1-0D48-443C-A030-8B13709C1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628081-BF58-430A-AF75-A0116230C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77BA53-8938-4EEA-8B5B-8FBB8D409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B9EEE2-BD39-4914-A3C1-55BAB0024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CE32EF-1844-4362-A5F9-F549DC21D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FE58A-6AD0-4E49-8F39-5F6750527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7939-1B48-4642-B002-4050F45A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B8C121-4376-4711-9185-BED82F3F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2F33E6-961F-4DA7-998F-B26237F4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9C1E5-680F-4D58-B15A-22B158DC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7F9BA3-BA3E-405E-A834-5F8839B6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D83DD-F015-482C-A4DF-06ABFB671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88E791-305E-4665-9A93-7D1DBC933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1B38E7-DDCF-4FC7-A5B9-964E750EF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C2C4AF-BE32-4640-AA1D-E2FBD3335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A85197-BC3D-4AF8-B1FA-3F1E49DD5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2C1471-688B-4B2D-B53A-42DA8383B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4A4F4-2F4E-4A88-A974-58B10643C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84280"/>
          </a:xfrm>
          <a:prstGeom prst="rect">
            <a:avLst/>
          </a:prstGeom>
          <a:ln w="0">
            <a:noFill/>
          </a:ln>
        </p:spPr>
      </p:pic>
      <p:sp>
        <p:nvSpPr>
          <p:cNvPr id="380" name="Text Box 9"/>
          <p:cNvSpPr/>
          <p:nvPr/>
        </p:nvSpPr>
        <p:spPr>
          <a:xfrm>
            <a:off x="1619280" y="1268280"/>
            <a:ext cx="70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CF2C4-4DEE-4357-83D3-CFA1C19C4276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84280"/>
          </a:xfrm>
          <a:prstGeom prst="rect">
            <a:avLst/>
          </a:prstGeom>
          <a:ln w="0">
            <a:noFill/>
          </a:ln>
        </p:spPr>
      </p:pic>
      <p:sp>
        <p:nvSpPr>
          <p:cNvPr id="423" name="Text Box 9"/>
          <p:cNvSpPr/>
          <p:nvPr/>
        </p:nvSpPr>
        <p:spPr>
          <a:xfrm>
            <a:off x="1619280" y="1268280"/>
            <a:ext cx="70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59AF1-5329-49A4-A8DB-6E74D2D391A1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84280"/>
          </a:xfrm>
          <a:prstGeom prst="rect">
            <a:avLst/>
          </a:prstGeom>
          <a:ln w="0">
            <a:noFill/>
          </a:ln>
        </p:spPr>
      </p:pic>
      <p:sp>
        <p:nvSpPr>
          <p:cNvPr id="466" name="Text Box 9"/>
          <p:cNvSpPr/>
          <p:nvPr/>
        </p:nvSpPr>
        <p:spPr>
          <a:xfrm>
            <a:off x="1619280" y="1268280"/>
            <a:ext cx="70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C2476-4009-42CB-8389-BE48226738CC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84280"/>
          </a:xfrm>
          <a:prstGeom prst="rect">
            <a:avLst/>
          </a:prstGeom>
          <a:ln w="0">
            <a:noFill/>
          </a:ln>
        </p:spPr>
      </p:pic>
      <p:sp>
        <p:nvSpPr>
          <p:cNvPr id="509" name="Text Box 9"/>
          <p:cNvSpPr/>
          <p:nvPr/>
        </p:nvSpPr>
        <p:spPr>
          <a:xfrm>
            <a:off x="1619280" y="1268280"/>
            <a:ext cx="70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21288-3B39-4E1B-AD27-BE51E7E999C3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84280"/>
          </a:xfrm>
          <a:prstGeom prst="rect">
            <a:avLst/>
          </a:prstGeom>
          <a:ln w="0">
            <a:noFill/>
          </a:ln>
        </p:spPr>
      </p:pic>
      <p:sp>
        <p:nvSpPr>
          <p:cNvPr id="552" name="Text Box 9"/>
          <p:cNvSpPr/>
          <p:nvPr/>
        </p:nvSpPr>
        <p:spPr>
          <a:xfrm>
            <a:off x="1619280" y="1268280"/>
            <a:ext cx="70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4AE35-458B-401E-B5F3-F279A7A05CE9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84280"/>
          </a:xfrm>
          <a:prstGeom prst="rect">
            <a:avLst/>
          </a:prstGeom>
          <a:ln w="0">
            <a:noFill/>
          </a:ln>
        </p:spPr>
      </p:pic>
      <p:sp>
        <p:nvSpPr>
          <p:cNvPr id="595" name="Text Box 9"/>
          <p:cNvSpPr/>
          <p:nvPr/>
        </p:nvSpPr>
        <p:spPr>
          <a:xfrm>
            <a:off x="1619280" y="1268280"/>
            <a:ext cx="70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A613B-5DB7-4CEF-996B-677185F11F8C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84280"/>
          </a:xfrm>
          <a:prstGeom prst="rect">
            <a:avLst/>
          </a:prstGeom>
          <a:ln w="0">
            <a:noFill/>
          </a:ln>
        </p:spPr>
      </p:pic>
      <p:sp>
        <p:nvSpPr>
          <p:cNvPr id="638" name="Text Box 9"/>
          <p:cNvSpPr/>
          <p:nvPr/>
        </p:nvSpPr>
        <p:spPr>
          <a:xfrm>
            <a:off x="1619280" y="1268280"/>
            <a:ext cx="70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8EF32-79E7-4B05-85E3-7392330C01A1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84280"/>
          </a:xfrm>
          <a:prstGeom prst="rect">
            <a:avLst/>
          </a:prstGeom>
          <a:ln w="0">
            <a:noFill/>
          </a:ln>
        </p:spPr>
      </p:pic>
      <p:sp>
        <p:nvSpPr>
          <p:cNvPr id="681" name="Text Box 9"/>
          <p:cNvSpPr/>
          <p:nvPr/>
        </p:nvSpPr>
        <p:spPr>
          <a:xfrm>
            <a:off x="1619280" y="1268280"/>
            <a:ext cx="70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0234A-1532-4F32-AF59-6DE88D871346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03DEB-9588-4C8F-99F7-79185F64C85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842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9"/>
          <p:cNvSpPr/>
          <p:nvPr/>
        </p:nvSpPr>
        <p:spPr>
          <a:xfrm>
            <a:off x="1619280" y="1268280"/>
            <a:ext cx="70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59D1A-EC50-4547-8829-2F68DC2CD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117A8-7153-4A0D-9D2F-9147F8567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4FDA8-7ABF-4086-A1A3-D64436499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8428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9"/>
          <p:cNvSpPr/>
          <p:nvPr/>
        </p:nvSpPr>
        <p:spPr>
          <a:xfrm>
            <a:off x="1619280" y="1268280"/>
            <a:ext cx="70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2BADF-C72B-4FFA-9EB0-B03ABFD9F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8428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9"/>
          <p:cNvSpPr/>
          <p:nvPr/>
        </p:nvSpPr>
        <p:spPr>
          <a:xfrm>
            <a:off x="1619280" y="1268280"/>
            <a:ext cx="70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33C7F-BBD5-4593-BBCA-2E63D243D4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8428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9"/>
          <p:cNvSpPr/>
          <p:nvPr/>
        </p:nvSpPr>
        <p:spPr>
          <a:xfrm>
            <a:off x="1619280" y="1268280"/>
            <a:ext cx="70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9E01D-5D7F-4FAC-867C-36C77E4FC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8428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9"/>
          <p:cNvSpPr/>
          <p:nvPr/>
        </p:nvSpPr>
        <p:spPr>
          <a:xfrm>
            <a:off x="1619280" y="1268280"/>
            <a:ext cx="70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5DF19-810B-44F4-9A2E-AD2841FADEA9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2"/>
          <p:cNvSpPr/>
          <p:nvPr/>
        </p:nvSpPr>
        <p:spPr>
          <a:xfrm>
            <a:off x="200160" y="1628640"/>
            <a:ext cx="8785080" cy="43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Представяне на основните промени в разделите на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  <a:ea typeface="Arial"/>
              </a:rPr>
              <a:t> </a:t>
            </a:r>
            <a:r>
              <a:rPr b="1" lang="bg-BG" sz="2800" spc="-1" strike="noStrike">
                <a:solidFill>
                  <a:srgbClr val="a50021"/>
                </a:solidFill>
                <a:latin typeface="Arial"/>
                <a:ea typeface="Arial"/>
              </a:rPr>
              <a:t>Оперативна програма “Региони в растеж” 2014-2020 г. (ОПРР)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Седмо заседание на ТРГ за разработване на оперативна програма „Региони в растеж” 2014 – 2020 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25-26</a:t>
            </a:r>
            <a:r>
              <a:rPr b="1" lang="bg-BG" sz="1600" spc="-1" strike="noStrike">
                <a:solidFill>
                  <a:srgbClr val="0000cc"/>
                </a:solidFill>
                <a:latin typeface="Arial"/>
              </a:rPr>
              <a:t> март 2013 г.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, </a:t>
            </a:r>
            <a:r>
              <a:rPr b="1" lang="bg-BG" sz="1600" spc="-1" strike="noStrike">
                <a:solidFill>
                  <a:srgbClr val="0000cc"/>
                </a:solidFill>
                <a:latin typeface="Arial"/>
              </a:rPr>
              <a:t>гр. Прав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Picture 1" descr=""/>
          <p:cNvPicPr/>
          <p:nvPr/>
        </p:nvPicPr>
        <p:blipFill>
          <a:blip r:embed="rId1"/>
          <a:stretch/>
        </p:blipFill>
        <p:spPr>
          <a:xfrm>
            <a:off x="309600" y="209520"/>
            <a:ext cx="1440000" cy="94464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2" descr=""/>
          <p:cNvPicPr/>
          <p:nvPr/>
        </p:nvPicPr>
        <p:blipFill>
          <a:blip r:embed="rId2"/>
          <a:stretch/>
        </p:blipFill>
        <p:spPr>
          <a:xfrm>
            <a:off x="7740720" y="212760"/>
            <a:ext cx="110340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 txBox="1"/>
          <p:nvPr/>
        </p:nvSpPr>
        <p:spPr>
          <a:xfrm>
            <a:off x="0" y="170028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3399"/>
                </a:solidFill>
                <a:latin typeface="Arial"/>
                <a:ea typeface="Arial"/>
              </a:rPr>
              <a:t>Инвестиционен приоритет: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  <a:ea typeface="Arial"/>
              </a:rPr>
              <a:t>Инвестиции в образованието чрез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зграждане на образователна инфраструктур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Arial"/>
                <a:ea typeface="Arial"/>
              </a:rPr>
              <a:t>Специфична цел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Arial"/>
              </a:rPr>
              <a:t>Намаляване броя на преждевременно отпадналите от училище и повишаване на броя на хората с висше образовани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 algn="just">
              <a:spcAft>
                <a:spcPts val="601"/>
              </a:spcAft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1" lang="bg-BG" sz="2000" spc="-1" strike="noStrike">
                <a:solidFill>
                  <a:srgbClr val="003399"/>
                </a:solidFill>
                <a:latin typeface="Arial"/>
                <a:ea typeface="Arial"/>
              </a:rPr>
              <a:t>Дейности: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Строителство и ремонт на държавни училища и висши учебни заве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 algn="just">
              <a:spcAft>
                <a:spcPts val="601"/>
              </a:spcAft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  <a:ea typeface="Arial"/>
              </a:rPr>
              <a:t>Конкретни бенефициенти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ОМН, МЗХ, МК, МФВС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Университетски и научни центро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 algn="just">
              <a:spcAft>
                <a:spcPts val="601"/>
              </a:spcAft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  <a:ea typeface="Arial"/>
              </a:rPr>
              <a:t>Целева територия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67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 града, определени за подкре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9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  <p:sp>
        <p:nvSpPr>
          <p:cNvPr id="770" name="Rectangle 6"/>
          <p:cNvSpPr/>
          <p:nvPr/>
        </p:nvSpPr>
        <p:spPr>
          <a:xfrm>
            <a:off x="1619280" y="260280"/>
            <a:ext cx="579924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c00000"/>
                </a:solidFill>
                <a:latin typeface="Arial"/>
                <a:ea typeface="Arial"/>
              </a:rPr>
              <a:t>Раздел 3, Приоритетна ос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 2</a:t>
            </a:r>
            <a:r>
              <a:rPr b="1" lang="bg-BG" sz="2000" spc="-1" strike="noStrike">
                <a:solidFill>
                  <a:srgbClr val="c00000"/>
                </a:solidFill>
                <a:latin typeface="Arial"/>
                <a:ea typeface="Arial"/>
              </a:rPr>
              <a:t>: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c00000"/>
                </a:solidFill>
                <a:latin typeface="Arial"/>
                <a:ea typeface="Arial"/>
              </a:rPr>
              <a:t>Държавна образователна инфраструк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c00000"/>
                </a:solidFill>
                <a:latin typeface="Arial"/>
                <a:ea typeface="Arial"/>
              </a:rPr>
              <a:t>ТЦ10: Инвестиции в образованието, уменията и ученето през целия живот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Picture 2" descr=""/>
          <p:cNvPicPr/>
          <p:nvPr/>
        </p:nvPicPr>
        <p:blipFill>
          <a:blip r:embed="rId2"/>
          <a:stretch/>
        </p:blipFill>
        <p:spPr>
          <a:xfrm>
            <a:off x="7662960" y="166680"/>
            <a:ext cx="110304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 txBox="1"/>
          <p:nvPr/>
        </p:nvSpPr>
        <p:spPr>
          <a:xfrm>
            <a:off x="0" y="170028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3399"/>
                </a:solidFill>
                <a:latin typeface="Arial"/>
                <a:ea typeface="Arial"/>
              </a:rPr>
              <a:t>Инвестиционен приоритет: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Инвестиране в здравна и социална инфраструк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Специфична це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Повишаване на здравния статус на населението, чрез модернизация на здравната инфраструктура в градове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just">
              <a:lnSpc>
                <a:spcPct val="90000"/>
              </a:lnSpc>
              <a:spcAft>
                <a:spcPts val="601"/>
              </a:spcAft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0" lang="bg-BG" sz="1800" spc="-1" strike="noStrike">
                <a:solidFill>
                  <a:srgbClr val="003399"/>
                </a:solidFill>
                <a:latin typeface="Arial"/>
                <a:ea typeface="Arial"/>
              </a:rPr>
              <a:t>Дейности: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СМР, оборудване и обзавеждане 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just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 algn="just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заведения за спешна помо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 algn="just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лечебни рентгенологични заведения, свързани с онкологични заболя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 algn="just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общински лечебни заве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just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just">
              <a:lnSpc>
                <a:spcPct val="90000"/>
              </a:lnSpc>
              <a:spcAft>
                <a:spcPts val="601"/>
              </a:spcAft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Конкретни бенефициен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 algn="just">
              <a:lnSpc>
                <a:spcPct val="90000"/>
              </a:lnSpc>
              <a:spcAft>
                <a:spcPts val="601"/>
              </a:spcAft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З за регионална здравна инфраструк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 algn="just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бщини за общинска здравна инфраструк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just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6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6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6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  <p:sp>
        <p:nvSpPr>
          <p:cNvPr id="774" name="Rectangle 6"/>
          <p:cNvSpPr/>
          <p:nvPr/>
        </p:nvSpPr>
        <p:spPr>
          <a:xfrm>
            <a:off x="1619280" y="260280"/>
            <a:ext cx="579924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c00000"/>
                </a:solidFill>
                <a:latin typeface="Arial"/>
                <a:ea typeface="Arial"/>
              </a:rPr>
              <a:t>Раздел 3, Приоритетна ос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bg-BG" sz="2000" spc="-1" strike="noStrike">
                <a:solidFill>
                  <a:srgbClr val="c00000"/>
                </a:solidFill>
                <a:latin typeface="Arial"/>
                <a:ea typeface="Arial"/>
              </a:rPr>
              <a:t>3: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c00000"/>
                </a:solidFill>
                <a:latin typeface="Arial"/>
                <a:ea typeface="Arial"/>
              </a:rPr>
              <a:t>Регионална здравна инфраструк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c00000"/>
                </a:solidFill>
                <a:latin typeface="Arial"/>
                <a:ea typeface="Arial"/>
              </a:rPr>
              <a:t>ТЦ9: Насърчаване на социалното приобщаване и борба с бедност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Picture 2" descr=""/>
          <p:cNvPicPr/>
          <p:nvPr/>
        </p:nvPicPr>
        <p:blipFill>
          <a:blip r:embed="rId2"/>
          <a:stretch/>
        </p:blipFill>
        <p:spPr>
          <a:xfrm>
            <a:off x="7662960" y="166680"/>
            <a:ext cx="110304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 txBox="1"/>
          <p:nvPr/>
        </p:nvSpPr>
        <p:spPr>
          <a:xfrm>
            <a:off x="108000" y="177336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3399"/>
                </a:solidFill>
                <a:latin typeface="Arial"/>
                <a:ea typeface="Arial"/>
              </a:rPr>
              <a:t>Инвестиционен приоритет: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  <a:ea typeface="Arial"/>
              </a:rPr>
              <a:t>Инвестиране в здравна и социална инфраструк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Arial"/>
                <a:ea typeface="Arial"/>
              </a:rPr>
              <a:t>Специфична цел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Arial"/>
              </a:rPr>
              <a:t>Социално приобщаване, чрез инвестиции в социална инфраструктура в градове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Aft>
                <a:spcPts val="601"/>
              </a:spcAft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1" lang="bg-BG" sz="2000" spc="-1" strike="noStrike">
                <a:solidFill>
                  <a:srgbClr val="003399"/>
                </a:solidFill>
                <a:latin typeface="Arial"/>
                <a:ea typeface="Arial"/>
              </a:rPr>
              <a:t>Дей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 algn="just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СМР в центрове, предоставящи услуги за деца в ри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 algn="just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СМР в центрове за настаняване от семеен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тип за деца в ри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 algn="just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СМР за защитени жилищ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 algn="just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инфраструктурата за съпътстващи услуги за де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 algn="just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сграден фонд за социални услуги в общност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 algn="just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инфраструктура за предоставяне на услуги за ранно детско развит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 algn="just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доставка на специализирани транспортни средства, пригодени за хора с увреждания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Aft>
                <a:spcPts val="601"/>
              </a:spcAft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  <a:ea typeface="Arial"/>
              </a:rPr>
              <a:t>Конкретни бенефициен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 algn="just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64 общ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  <p:sp>
        <p:nvSpPr>
          <p:cNvPr id="778" name="Rectangle 6"/>
          <p:cNvSpPr/>
          <p:nvPr/>
        </p:nvSpPr>
        <p:spPr>
          <a:xfrm>
            <a:off x="1619280" y="260280"/>
            <a:ext cx="5799240" cy="16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c00000"/>
                </a:solidFill>
                <a:latin typeface="Arial"/>
                <a:ea typeface="Arial"/>
              </a:rPr>
              <a:t>Раздел 3, Приоритетна ос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bg-BG" sz="2000" spc="-1" strike="noStrike">
                <a:solidFill>
                  <a:srgbClr val="c00000"/>
                </a:solidFill>
                <a:latin typeface="Arial"/>
                <a:ea typeface="Arial"/>
              </a:rPr>
              <a:t>4: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c00000"/>
                </a:solidFill>
                <a:latin typeface="Arial"/>
                <a:ea typeface="Arial"/>
              </a:rPr>
              <a:t>Регионална социална инфраструк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ТЦ9: Насърчаване на социалното приобщаване и борба с бедност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Picture 2" descr=""/>
          <p:cNvPicPr/>
          <p:nvPr/>
        </p:nvPicPr>
        <p:blipFill>
          <a:blip r:embed="rId2"/>
          <a:stretch/>
        </p:blipFill>
        <p:spPr>
          <a:xfrm>
            <a:off x="7662960" y="166680"/>
            <a:ext cx="110304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 txBox="1"/>
          <p:nvPr/>
        </p:nvSpPr>
        <p:spPr>
          <a:xfrm>
            <a:off x="0" y="1960560"/>
            <a:ext cx="885672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900" spc="-1" strike="noStrike">
                <a:solidFill>
                  <a:srgbClr val="003399"/>
                </a:solidFill>
                <a:latin typeface="Arial"/>
                <a:ea typeface="Arial"/>
              </a:rPr>
              <a:t>Инвестиционен приоритет: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Arial"/>
              </a:rPr>
              <a:t>Опазване, популяризиране и развитие на културното и природно наследство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  <a:ea typeface="Arial"/>
              </a:rPr>
              <a:t>Специфични цел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пазване, популяризиране и развитие на културното и природно наследство, чрез насърчаване на регионалния туризъ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Насърчаване на местния икономически потенциал и нови форми на заетост в регионите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Aft>
                <a:spcPts val="601"/>
              </a:spcAft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1" lang="bg-BG" sz="1600" spc="-1" strike="noStrike">
                <a:solidFill>
                  <a:srgbClr val="003399"/>
                </a:solidFill>
                <a:latin typeface="Arial"/>
                <a:ea typeface="Arial"/>
              </a:rPr>
              <a:t>Дейност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на природни, културни и исторически атракции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– СМР и оборудван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ъпътстваща туристическа инфраструктура в района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 на атракция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обекти с религиозно знач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на регионални продукти и пазарната информ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информационни кампании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Aft>
                <a:spcPts val="601"/>
              </a:spcAft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  <a:ea typeface="Arial"/>
              </a:rPr>
              <a:t>Конкретни бенефициенти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К, религиозни институции, общини, финансови инсрумен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6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1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  <p:sp>
        <p:nvSpPr>
          <p:cNvPr id="782" name="Rectangle 6"/>
          <p:cNvSpPr/>
          <p:nvPr/>
        </p:nvSpPr>
        <p:spPr>
          <a:xfrm>
            <a:off x="1619280" y="260280"/>
            <a:ext cx="579924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c00000"/>
                </a:solidFill>
                <a:latin typeface="Arial"/>
                <a:ea typeface="Arial"/>
              </a:rPr>
              <a:t>Раздел 3, Приоритетна ос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bg-BG" sz="2000" spc="-1" strike="noStrike">
                <a:solidFill>
                  <a:srgbClr val="c00000"/>
                </a:solidFill>
                <a:latin typeface="Arial"/>
                <a:ea typeface="Arial"/>
              </a:rPr>
              <a:t>5: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c00000"/>
                </a:solidFill>
                <a:latin typeface="Arial"/>
                <a:ea typeface="Arial"/>
              </a:rPr>
              <a:t>Регионален туризъ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c00000"/>
                </a:solidFill>
                <a:latin typeface="Arial"/>
                <a:ea typeface="Arial"/>
              </a:rPr>
              <a:t>ТЦ6:Опазване на околната среда и насърчаване на ресурсната ефективнос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Picture 2" descr=""/>
          <p:cNvPicPr/>
          <p:nvPr/>
        </p:nvPicPr>
        <p:blipFill>
          <a:blip r:embed="rId2"/>
          <a:stretch/>
        </p:blipFill>
        <p:spPr>
          <a:xfrm>
            <a:off x="7662960" y="166680"/>
            <a:ext cx="110304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 txBox="1"/>
          <p:nvPr/>
        </p:nvSpPr>
        <p:spPr>
          <a:xfrm>
            <a:off x="90360" y="170028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3399"/>
                </a:solidFill>
                <a:latin typeface="Arial"/>
                <a:ea typeface="Arial"/>
              </a:rPr>
              <a:t>Инвестиционен приоритет: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Подобряване на мобилността на регионално равнищ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Специфична це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Подобряване на  свързаността и достъпността на мрежата от градове и обектите на културното и природно наследство с TEN-T мреж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Aft>
                <a:spcPts val="601"/>
              </a:spcAft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0" lang="bg-BG" sz="1800" spc="-1" strike="noStrike">
                <a:solidFill>
                  <a:srgbClr val="003399"/>
                </a:solidFill>
                <a:latin typeface="Arial"/>
                <a:ea typeface="Arial"/>
              </a:rPr>
              <a:t>Дейн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първокласни и второкласни (извън Трансевропейската транспортна мрежа) и третокласни пътища, които обслужват вътрешнорегионални връзки между градовете и осигуряват възможности за развитие на техния специфичен икономически потенциал, връзка и достъп до TEN-T мрежата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на първокласни и второкласни (извън Трансевропейската транспортна мрежа) и третокласни пътища осигуряващи достъп до райони с потенциал за развитие на туризъм, връзка и достъп до TEN-T мреж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Aft>
                <a:spcPts val="601"/>
              </a:spcAft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Конкретен бенефициент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П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5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  <p:sp>
        <p:nvSpPr>
          <p:cNvPr id="786" name="Rectangle 6"/>
          <p:cNvSpPr/>
          <p:nvPr/>
        </p:nvSpPr>
        <p:spPr>
          <a:xfrm>
            <a:off x="1619280" y="260280"/>
            <a:ext cx="57992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c00000"/>
                </a:solidFill>
                <a:latin typeface="Arial"/>
                <a:ea typeface="Arial"/>
              </a:rPr>
              <a:t>Раздел 3, Приоритетна ос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bg-BG" sz="2000" spc="-1" strike="noStrike">
                <a:solidFill>
                  <a:srgbClr val="c00000"/>
                </a:solidFill>
                <a:latin typeface="Arial"/>
                <a:ea typeface="Arial"/>
              </a:rPr>
              <a:t>6: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c00000"/>
                </a:solidFill>
                <a:latin typeface="Arial"/>
                <a:ea typeface="Arial"/>
              </a:rPr>
              <a:t>Регионална пътна инфраструк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c00000"/>
                </a:solidFill>
                <a:latin typeface="Arial"/>
                <a:ea typeface="Arial"/>
              </a:rPr>
              <a:t>ТЦ 7: Насърчаване на устойчиво развития транспор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7" name="Picture 2" descr=""/>
          <p:cNvPicPr/>
          <p:nvPr/>
        </p:nvPicPr>
        <p:blipFill>
          <a:blip r:embed="rId2"/>
          <a:stretch/>
        </p:blipFill>
        <p:spPr>
          <a:xfrm>
            <a:off x="7662960" y="166680"/>
            <a:ext cx="110304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 txBox="1"/>
          <p:nvPr/>
        </p:nvSpPr>
        <p:spPr>
          <a:xfrm>
            <a:off x="108000" y="1295280"/>
            <a:ext cx="8856720" cy="515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Специфична це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и повишаване на административния капацитет на управляващия орган и бенефициентите по програм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spcAft>
                <a:spcPts val="601"/>
              </a:spcAft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1" lang="bg-BG" sz="1800" spc="-1" strike="noStrike">
                <a:solidFill>
                  <a:srgbClr val="003399"/>
                </a:solidFill>
                <a:latin typeface="Arial"/>
                <a:ea typeface="Arial"/>
              </a:rPr>
              <a:t>Дейн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консултации, изследвания, анализи, проучвания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комютъризирана информационна система  и офис оборудв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оценка, финансов контрол и од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подпомагане оценка и избор на проек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дейности по информация и публичност на О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комитет по наблю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възнаграждения за УО, на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и т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spcAft>
                <a:spcPts val="601"/>
              </a:spcAft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Конкретни бенефициен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 algn="just">
              <a:spcAft>
                <a:spcPts val="601"/>
              </a:spcAft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енефициенти на ОПР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  <p:sp>
        <p:nvSpPr>
          <p:cNvPr id="790" name="Rectangle 6"/>
          <p:cNvSpPr/>
          <p:nvPr/>
        </p:nvSpPr>
        <p:spPr>
          <a:xfrm>
            <a:off x="1619280" y="260280"/>
            <a:ext cx="5799240" cy="7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c00000"/>
                </a:solidFill>
                <a:latin typeface="Arial"/>
                <a:ea typeface="Arial"/>
              </a:rPr>
              <a:t>Раздел 3, Приоритетна ос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bg-BG" sz="2000" spc="-1" strike="noStrike">
                <a:solidFill>
                  <a:srgbClr val="c00000"/>
                </a:solidFill>
                <a:latin typeface="Arial"/>
                <a:ea typeface="Arial"/>
              </a:rPr>
              <a:t>7: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c00000"/>
                </a:solidFill>
                <a:latin typeface="Arial"/>
                <a:ea typeface="Arial"/>
              </a:rPr>
              <a:t>Техническа помо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1" name="Picture 2" descr=""/>
          <p:cNvPicPr/>
          <p:nvPr/>
        </p:nvPicPr>
        <p:blipFill>
          <a:blip r:embed="rId2"/>
          <a:stretch/>
        </p:blipFill>
        <p:spPr>
          <a:xfrm>
            <a:off x="7662960" y="84240"/>
            <a:ext cx="110304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5"/>
          <p:cNvSpPr/>
          <p:nvPr/>
        </p:nvSpPr>
        <p:spPr>
          <a:xfrm>
            <a:off x="1763640" y="62064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Tahoma"/>
              </a:rPr>
              <a:t>Раздел </a:t>
            </a:r>
            <a:r>
              <a:rPr b="1" lang="en-US" sz="1800" spc="-1" strike="noStrike">
                <a:solidFill>
                  <a:srgbClr val="a50021"/>
                </a:solidFill>
                <a:latin typeface="Tahoma"/>
              </a:rPr>
              <a:t>4</a:t>
            </a:r>
            <a:r>
              <a:rPr b="1" lang="ru-RU" sz="1800" spc="-1" strike="noStrike">
                <a:solidFill>
                  <a:srgbClr val="a50021"/>
                </a:solidFill>
                <a:latin typeface="Tahoma"/>
              </a:rPr>
              <a:t>:</a:t>
            </a:r>
            <a:r>
              <a:rPr b="1" lang="bg-BG" sz="1800" spc="-1" strike="noStrike">
                <a:solidFill>
                  <a:srgbClr val="a50021"/>
                </a:solidFill>
                <a:latin typeface="Tahoma"/>
              </a:rPr>
              <a:t> Финансов план на ОПР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Picture 1" descr=""/>
          <p:cNvPicPr/>
          <p:nvPr/>
        </p:nvPicPr>
        <p:blipFill>
          <a:blip r:embed="rId1"/>
          <a:stretch/>
        </p:blipFill>
        <p:spPr>
          <a:xfrm>
            <a:off x="324000" y="166680"/>
            <a:ext cx="1439640" cy="94464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2" descr=""/>
          <p:cNvPicPr/>
          <p:nvPr/>
        </p:nvPicPr>
        <p:blipFill>
          <a:blip r:embed="rId2"/>
          <a:stretch/>
        </p:blipFill>
        <p:spPr>
          <a:xfrm>
            <a:off x="7662960" y="166680"/>
            <a:ext cx="1103040" cy="127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95" name=""/>
          <p:cNvGraphicFramePr/>
          <p:nvPr/>
        </p:nvGraphicFramePr>
        <p:xfrm>
          <a:off x="179280" y="1447920"/>
          <a:ext cx="8856720" cy="5221080"/>
        </p:xfrm>
        <a:graphic>
          <a:graphicData uri="http://schemas.openxmlformats.org/drawingml/2006/table">
            <a:tbl>
              <a:tblPr/>
              <a:tblGrid>
                <a:gridCol w="7877160"/>
                <a:gridCol w="979560"/>
              </a:tblGrid>
              <a:tr h="326880">
                <a:tc>
                  <a:txBody>
                    <a:bodyPr lIns="18000" rIns="18000" tIns="10800" bIns="10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иоритетна ос 1.  „Устойчиво и интегрирано градско развитие"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25440">
                <a:tc>
                  <a:txBody>
                    <a:bodyPr lIns="18000" rIns="18000" tIns="10800" bIns="10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1 Енергийна ефективност в административни и жилищни сград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18000" rIns="18000" tIns="10800" bIns="10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2 Градска сред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18000" rIns="18000" tIns="10800" bIns="10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3 Зони с потенциал за икономическо разви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40">
                <a:tc>
                  <a:txBody>
                    <a:bodyPr lIns="18000" rIns="18000" tIns="10800" bIns="10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4 Спортна инфраструк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18000" rIns="18000" tIns="10800" bIns="10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5 Културна инфраструк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18000" rIns="18000" tIns="10800" bIns="10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6 Образователна инфраструк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40">
                <a:tc>
                  <a:txBody>
                    <a:bodyPr lIns="18000" rIns="18000" tIns="10800" bIns="10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7 Социална инфраструк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18000" rIns="18000" tIns="10800" bIns="10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8 Интегриран градски трансп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18000" rIns="18000" tIns="10800" bIns="10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иоритетна ос 2 "Държавна образователна инфраструктура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25440">
                <a:tc>
                  <a:txBody>
                    <a:bodyPr lIns="18000" rIns="18000" tIns="10800" bIns="10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иоритетна ос 3 „Регионална здравна инфраструктура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26880">
                <a:tc>
                  <a:txBody>
                    <a:bodyPr lIns="18000" rIns="18000" tIns="10800" bIns="10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оритетна ос 4 „Регионална социална инфраструктура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25440">
                <a:tc>
                  <a:txBody>
                    <a:bodyPr lIns="18000" rIns="18000" tIns="10800" bIns="10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иоритетна ос 5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„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егионален туризъ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27240">
                <a:tc>
                  <a:txBody>
                    <a:bodyPr lIns="18000" rIns="18000" tIns="10800" bIns="10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иоритетна ос 6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„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егионална пътна инфраструктура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25440">
                <a:tc>
                  <a:txBody>
                    <a:bodyPr lIns="18000" rIns="18000" tIns="10800" bIns="10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иоритетна ос 7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„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ехническа помо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26880">
                <a:tc>
                  <a:txBody>
                    <a:bodyPr lIns="18000" rIns="18000" tIns="10800" bIns="10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БЩО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18"/>
          <p:cNvSpPr/>
          <p:nvPr/>
        </p:nvSpPr>
        <p:spPr>
          <a:xfrm>
            <a:off x="1547640" y="1268280"/>
            <a:ext cx="759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5"/>
          <p:cNvSpPr/>
          <p:nvPr/>
        </p:nvSpPr>
        <p:spPr>
          <a:xfrm>
            <a:off x="1763640" y="62064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ahoma"/>
              </a:rPr>
              <a:t>Раздел 5 Интегриран подход за териториално 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Picture 1" descr=""/>
          <p:cNvPicPr/>
          <p:nvPr/>
        </p:nvPicPr>
        <p:blipFill>
          <a:blip r:embed="rId1"/>
          <a:stretch/>
        </p:blipFill>
        <p:spPr>
          <a:xfrm>
            <a:off x="399960" y="291960"/>
            <a:ext cx="1440000" cy="944640"/>
          </a:xfrm>
          <a:prstGeom prst="rect">
            <a:avLst/>
          </a:prstGeom>
          <a:ln w="0">
            <a:noFill/>
          </a:ln>
        </p:spPr>
      </p:pic>
      <p:pic>
        <p:nvPicPr>
          <p:cNvPr id="799" name="Picture 2" descr=""/>
          <p:cNvPicPr/>
          <p:nvPr/>
        </p:nvPicPr>
        <p:blipFill>
          <a:blip r:embed="rId2"/>
          <a:stretch/>
        </p:blipFill>
        <p:spPr>
          <a:xfrm>
            <a:off x="7667640" y="9360"/>
            <a:ext cx="1297080" cy="1279800"/>
          </a:xfrm>
          <a:prstGeom prst="rect">
            <a:avLst/>
          </a:prstGeom>
          <a:ln w="0">
            <a:noFill/>
          </a:ln>
        </p:spPr>
      </p:pic>
      <p:sp>
        <p:nvSpPr>
          <p:cNvPr id="800" name="Rectangle 9"/>
          <p:cNvSpPr/>
          <p:nvPr/>
        </p:nvSpPr>
        <p:spPr>
          <a:xfrm>
            <a:off x="307800" y="1700280"/>
            <a:ext cx="864576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cc"/>
                </a:solidFill>
                <a:uFillTx/>
                <a:latin typeface="Arial"/>
              </a:rPr>
              <a:t>Описание на подхода свързано 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cc"/>
                </a:solidFill>
                <a:latin typeface="Arial"/>
              </a:rPr>
              <a:t>Адресиране на основни потребности и затруднения и съществуващи потенциали – разработена НКПР 2013-2025 г. и териториален приоритет в СП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Принос към специфичните цели и очакваните резултати от оперативната програма – интегриран подход в рамките на ИПГВ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cc"/>
                </a:solidFill>
                <a:latin typeface="Arial"/>
              </a:rPr>
              <a:t>Устойчиво градско развитие – избрания по ОПРР интегриран подход за териториално развитие съдържащ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25"/>
          <p:cNvSpPr/>
          <p:nvPr/>
        </p:nvSpPr>
        <p:spPr>
          <a:xfrm>
            <a:off x="365040" y="5732640"/>
            <a:ext cx="2863800" cy="936360"/>
          </a:xfrm>
          <a:prstGeom prst="rect">
            <a:avLst/>
          </a:prstGeom>
          <a:solidFill>
            <a:srgbClr val="cc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писание на прилагания подх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25"/>
          <p:cNvSpPr/>
          <p:nvPr/>
        </p:nvSpPr>
        <p:spPr>
          <a:xfrm>
            <a:off x="3363840" y="5732640"/>
            <a:ext cx="2863800" cy="936360"/>
          </a:xfrm>
          <a:prstGeom prst="rect">
            <a:avLst/>
          </a:prstGeom>
          <a:solidFill>
            <a:srgbClr val="cc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писъка с градове за подкреп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 67 бро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25"/>
          <p:cNvSpPr/>
          <p:nvPr/>
        </p:nvSpPr>
        <p:spPr>
          <a:xfrm>
            <a:off x="6326280" y="5732640"/>
            <a:ext cx="2655720" cy="920520"/>
          </a:xfrm>
          <a:prstGeom prst="rect">
            <a:avLst/>
          </a:prstGeom>
          <a:solidFill>
            <a:srgbClr val="cc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Механизми за партньорство с градските в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18"/>
          <p:cNvSpPr/>
          <p:nvPr/>
        </p:nvSpPr>
        <p:spPr>
          <a:xfrm>
            <a:off x="1547640" y="1268280"/>
            <a:ext cx="759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5"/>
          <p:cNvSpPr/>
          <p:nvPr/>
        </p:nvSpPr>
        <p:spPr>
          <a:xfrm>
            <a:off x="1763640" y="620640"/>
            <a:ext cx="60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ahoma"/>
              </a:rPr>
              <a:t>Раздел 6: Специфични нужди на географските райони най-силно засегнати от бедност/целеви групи с най-висок риск от дискримин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6" name="Picture 1" descr=""/>
          <p:cNvPicPr/>
          <p:nvPr/>
        </p:nvPicPr>
        <p:blipFill>
          <a:blip r:embed="rId1"/>
          <a:stretch/>
        </p:blipFill>
        <p:spPr>
          <a:xfrm>
            <a:off x="399960" y="291960"/>
            <a:ext cx="1440000" cy="94464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2" descr=""/>
          <p:cNvPicPr/>
          <p:nvPr/>
        </p:nvPicPr>
        <p:blipFill>
          <a:blip r:embed="rId2"/>
          <a:stretch/>
        </p:blipFill>
        <p:spPr>
          <a:xfrm>
            <a:off x="7667640" y="9360"/>
            <a:ext cx="1297080" cy="1279800"/>
          </a:xfrm>
          <a:prstGeom prst="rect">
            <a:avLst/>
          </a:prstGeom>
          <a:ln w="0">
            <a:noFill/>
          </a:ln>
        </p:spPr>
      </p:pic>
      <p:sp>
        <p:nvSpPr>
          <p:cNvPr id="808" name="Rectangle 9"/>
          <p:cNvSpPr/>
          <p:nvPr/>
        </p:nvSpPr>
        <p:spPr>
          <a:xfrm>
            <a:off x="307800" y="1700280"/>
            <a:ext cx="8585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cc"/>
                </a:solidFill>
                <a:latin typeface="Arial"/>
              </a:rPr>
              <a:t>Основни целеви групи по ОПРР 2014-2020 г.  - маргинализираните групи от населението, вкл. ро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cc"/>
                </a:solidFill>
                <a:latin typeface="Arial"/>
              </a:rPr>
              <a:t>С най-висок риск от дикриминация и социално изключване, поради което ще бъдат специално подкрепяни по ОПРР 2014-2020 г. в рамките на ИПГВ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cc"/>
                </a:solidFill>
                <a:latin typeface="Arial"/>
              </a:rPr>
              <a:t>ОПРР 2014-2020 г. цели да адресира основно нуждата от подобряване на жилищните условия, включително и на прилежащата техническа инфраструктур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cc"/>
                </a:solidFill>
                <a:latin typeface="Arial"/>
              </a:rPr>
              <a:t>Задължително заделяне на минимум 5 % за мерки в подкрепа на изграждане на подходяща социална инфраструктура и създаване на адекватни условия за живот за маргинализираните групи от населението, вкл.роми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8"/>
          <p:cNvSpPr/>
          <p:nvPr/>
        </p:nvSpPr>
        <p:spPr>
          <a:xfrm>
            <a:off x="1547640" y="1268280"/>
            <a:ext cx="759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5"/>
          <p:cNvSpPr/>
          <p:nvPr/>
        </p:nvSpPr>
        <p:spPr>
          <a:xfrm>
            <a:off x="1763640" y="620640"/>
            <a:ext cx="60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a50021"/>
                </a:solidFill>
                <a:latin typeface="Tahoma"/>
              </a:rPr>
              <a:t>Раздел 8: </a:t>
            </a:r>
            <a:r>
              <a:rPr b="1" lang="ru-RU" sz="1800" spc="-1" strike="noStrike">
                <a:solidFill>
                  <a:srgbClr val="a50021"/>
                </a:solidFill>
                <a:latin typeface="Tahoma"/>
              </a:rPr>
              <a:t>Власти и органи, отговарящи за управление, контрол и одит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Tahoma"/>
              </a:rPr>
              <a:t>ролята на съответните партньор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1" name="Picture 1" descr=""/>
          <p:cNvPicPr/>
          <p:nvPr/>
        </p:nvPicPr>
        <p:blipFill>
          <a:blip r:embed="rId1"/>
          <a:stretch/>
        </p:blipFill>
        <p:spPr>
          <a:xfrm>
            <a:off x="399960" y="291960"/>
            <a:ext cx="1440000" cy="94464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2" descr=""/>
          <p:cNvPicPr/>
          <p:nvPr/>
        </p:nvPicPr>
        <p:blipFill>
          <a:blip r:embed="rId2"/>
          <a:stretch/>
        </p:blipFill>
        <p:spPr>
          <a:xfrm>
            <a:off x="7667640" y="9360"/>
            <a:ext cx="1297080" cy="1279800"/>
          </a:xfrm>
          <a:prstGeom prst="rect">
            <a:avLst/>
          </a:prstGeom>
          <a:ln w="0">
            <a:noFill/>
          </a:ln>
        </p:spPr>
      </p:pic>
      <p:pic>
        <p:nvPicPr>
          <p:cNvPr id="813" name="Rectangle 9" descr=""/>
          <p:cNvPicPr/>
          <p:nvPr/>
        </p:nvPicPr>
        <p:blipFill>
          <a:blip r:embed="rId3"/>
          <a:stretch/>
        </p:blipFill>
        <p:spPr>
          <a:xfrm>
            <a:off x="255600" y="1670040"/>
            <a:ext cx="8686800" cy="4773600"/>
          </a:xfrm>
          <a:prstGeom prst="rect">
            <a:avLst/>
          </a:prstGeom>
          <a:ln w="0">
            <a:noFill/>
          </a:ln>
        </p:spPr>
      </p:pic>
      <p:sp>
        <p:nvSpPr>
          <p:cNvPr id="814" name="AutoShape 30"/>
          <p:cNvSpPr/>
          <p:nvPr/>
        </p:nvSpPr>
        <p:spPr>
          <a:xfrm>
            <a:off x="4103640" y="4938840"/>
            <a:ext cx="1368360" cy="318960"/>
          </a:xfrm>
          <a:prstGeom prst="rightArrow">
            <a:avLst>
              <a:gd name="adj1" fmla="val 77870"/>
              <a:gd name="adj2" fmla="val 16802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0" bIns="0" anchor="ctr" anchorCtr="1">
            <a:noAutofit/>
          </a:bodyPr>
          <a:p>
            <a:pPr algn="ct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5"/>
          <p:cNvSpPr/>
          <p:nvPr/>
        </p:nvSpPr>
        <p:spPr>
          <a:xfrm>
            <a:off x="1763640" y="620640"/>
            <a:ext cx="60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  <a:ea typeface="Arial"/>
              </a:rPr>
              <a:t>Раздел 1: Изготвяне на Оперативната програма и участие на партньорите</a:t>
            </a:r>
            <a:r>
              <a:rPr b="1" lang="ru-RU" sz="1600" spc="-1" strike="noStrike">
                <a:solidFill>
                  <a:srgbClr val="a50021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9"/>
          <p:cNvSpPr/>
          <p:nvPr/>
        </p:nvSpPr>
        <p:spPr>
          <a:xfrm>
            <a:off x="414360" y="1773360"/>
            <a:ext cx="835344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cc"/>
                </a:solidFill>
                <a:latin typeface="Arial"/>
              </a:rPr>
              <a:t>Засилване на обосновката и по-подробно описание на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участието на партньорите в подготовката на оперативната програма, съгласно чл. 5 на Общия регламен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 algn="just">
              <a:lnSpc>
                <a:spcPct val="150000"/>
              </a:lnSpc>
              <a:buClr>
                <a:srgbClr val="0000cc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cc"/>
                </a:solidFill>
                <a:latin typeface="Arial"/>
              </a:rPr>
              <a:t>Акцент върху механизмите за избор на партньори, вкл. на НПО-тата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 algn="just">
              <a:lnSpc>
                <a:spcPct val="150000"/>
              </a:lnSpc>
              <a:buClr>
                <a:srgbClr val="0000cc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писъка на участващите партньорите е изведен, като приложение в раздел 13 на ОПР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 algn="just">
              <a:lnSpc>
                <a:spcPct val="150000"/>
              </a:lnSpc>
              <a:buClr>
                <a:srgbClr val="0000cc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едприетите мерки за осигуряване на широко включване и активно участие на партньорите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 algn="just">
              <a:lnSpc>
                <a:spcPct val="150000"/>
              </a:lnSpc>
              <a:buClr>
                <a:srgbClr val="0000cc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сновен принос на партньорите в разработването на оперативната програма и вземането на решения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Picture 2" descr=""/>
          <p:cNvPicPr/>
          <p:nvPr/>
        </p:nvPicPr>
        <p:blipFill>
          <a:blip r:embed="rId1"/>
          <a:stretch/>
        </p:blipFill>
        <p:spPr>
          <a:xfrm>
            <a:off x="7812000" y="306360"/>
            <a:ext cx="1103400" cy="127944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1" descr=""/>
          <p:cNvPicPr/>
          <p:nvPr/>
        </p:nvPicPr>
        <p:blipFill>
          <a:blip r:embed="rId2"/>
          <a:stretch/>
        </p:blipFill>
        <p:spPr>
          <a:xfrm>
            <a:off x="324000" y="355680"/>
            <a:ext cx="143964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18"/>
          <p:cNvSpPr/>
          <p:nvPr/>
        </p:nvSpPr>
        <p:spPr>
          <a:xfrm>
            <a:off x="1547640" y="1268280"/>
            <a:ext cx="759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5"/>
          <p:cNvSpPr/>
          <p:nvPr/>
        </p:nvSpPr>
        <p:spPr>
          <a:xfrm>
            <a:off x="1763640" y="620640"/>
            <a:ext cx="60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a50021"/>
                </a:solidFill>
                <a:latin typeface="Tahoma"/>
              </a:rPr>
              <a:t>Раздел 9: Демаркация и допълняемост с други оперативни програми и програмата за развитие на селските райони</a:t>
            </a:r>
            <a:r>
              <a:rPr b="1" lang="ru-RU" sz="1800" spc="-1" strike="noStrike">
                <a:solidFill>
                  <a:srgbClr val="a50021"/>
                </a:solidFill>
                <a:latin typeface="Tahoma"/>
              </a:rPr>
              <a:t> по ОС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7" name="Picture 1" descr=""/>
          <p:cNvPicPr/>
          <p:nvPr/>
        </p:nvPicPr>
        <p:blipFill>
          <a:blip r:embed="rId1"/>
          <a:stretch/>
        </p:blipFill>
        <p:spPr>
          <a:xfrm>
            <a:off x="399960" y="291960"/>
            <a:ext cx="1440000" cy="94464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2" descr=""/>
          <p:cNvPicPr/>
          <p:nvPr/>
        </p:nvPicPr>
        <p:blipFill>
          <a:blip r:embed="rId2"/>
          <a:stretch/>
        </p:blipFill>
        <p:spPr>
          <a:xfrm>
            <a:off x="7812000" y="9360"/>
            <a:ext cx="1152720" cy="1279800"/>
          </a:xfrm>
          <a:prstGeom prst="rect">
            <a:avLst/>
          </a:prstGeom>
          <a:ln w="0">
            <a:noFill/>
          </a:ln>
        </p:spPr>
      </p:pic>
      <p:sp>
        <p:nvSpPr>
          <p:cNvPr id="819" name="Rectangle 9"/>
          <p:cNvSpPr/>
          <p:nvPr/>
        </p:nvSpPr>
        <p:spPr>
          <a:xfrm>
            <a:off x="307800" y="1700280"/>
            <a:ext cx="8585280" cy="50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Разграничаване 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еративна програма «Околна сре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еративна програма „Транспорт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еративна програма „Иновации и предприемачество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еративна програма „Развитие на човешките ресурси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еративна програма „Наука и образование за интелигентен растеж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еративна програма „Добро управление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рама за развитие на селските райо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рами за териториално сътруднич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spcAft>
                <a:spcPts val="451"/>
              </a:spcAft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Допълняемост и синергия 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еративна програма «Околна сре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еративна програма „Развитие на човешките ресурси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еративна програма „Наука и образование за интелигентен растеж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5"/>
          <p:cNvSpPr/>
          <p:nvPr/>
        </p:nvSpPr>
        <p:spPr>
          <a:xfrm>
            <a:off x="1763640" y="62064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ahoma"/>
              </a:rPr>
              <a:t>Раздел 10: Приложими предварителни услов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Picture 1" descr=""/>
          <p:cNvPicPr/>
          <p:nvPr/>
        </p:nvPicPr>
        <p:blipFill>
          <a:blip r:embed="rId1"/>
          <a:stretch/>
        </p:blipFill>
        <p:spPr>
          <a:xfrm>
            <a:off x="399960" y="291960"/>
            <a:ext cx="1440000" cy="94464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2" descr=""/>
          <p:cNvPicPr/>
          <p:nvPr/>
        </p:nvPicPr>
        <p:blipFill>
          <a:blip r:embed="rId2"/>
          <a:stretch/>
        </p:blipFill>
        <p:spPr>
          <a:xfrm>
            <a:off x="7812000" y="9360"/>
            <a:ext cx="1152720" cy="1279800"/>
          </a:xfrm>
          <a:prstGeom prst="rect">
            <a:avLst/>
          </a:prstGeom>
          <a:ln w="0">
            <a:noFill/>
          </a:ln>
        </p:spPr>
      </p:pic>
      <p:sp>
        <p:nvSpPr>
          <p:cNvPr id="823" name="AutoShape 24"/>
          <p:cNvSpPr/>
          <p:nvPr/>
        </p:nvSpPr>
        <p:spPr>
          <a:xfrm>
            <a:off x="539640" y="1577880"/>
            <a:ext cx="8209080" cy="576360"/>
          </a:xfrm>
          <a:prstGeom prst="rightArrow">
            <a:avLst>
              <a:gd name="adj1" fmla="val 50000"/>
              <a:gd name="adj2" fmla="val 26797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атични предварителни услов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AutoShape 24"/>
          <p:cNvSpPr/>
          <p:nvPr/>
        </p:nvSpPr>
        <p:spPr>
          <a:xfrm>
            <a:off x="716040" y="5516640"/>
            <a:ext cx="8208720" cy="576360"/>
          </a:xfrm>
          <a:prstGeom prst="rightArrow">
            <a:avLst>
              <a:gd name="adj1" fmla="val 50000"/>
              <a:gd name="adj2" fmla="val 2679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и предварителни услов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9"/>
          <p:cNvSpPr/>
          <p:nvPr/>
        </p:nvSpPr>
        <p:spPr>
          <a:xfrm>
            <a:off x="347760" y="2154240"/>
            <a:ext cx="8616960" cy="42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Предприети стъпки за изпълнението и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веждане на ежемесечни работни срещи с конкретните бенефицине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 първата участваха представители на Министерство на здравеопазването, Министерство на труда и социалната политика, Агенция „Пътна инфраструктура“, Министерство на вътрешните работи, Министерство на образованието, младежта и наукат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сяко едно от тях е ангажирано с пълното или частично изпълнение на предварително услов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 резултат от проведените срещи е разработена таблица, съдържаща поетите ангажименти и срокове за тяхното изпълн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Декларирана пълна подкрепа и поеха ангажимент за своевременна подготовка на необходимите докумен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Ще бъдат включени в Споразумението за партньорств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5"/>
          <p:cNvSpPr/>
          <p:nvPr/>
        </p:nvSpPr>
        <p:spPr>
          <a:xfrm>
            <a:off x="1763640" y="62064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a50021"/>
                </a:solidFill>
                <a:latin typeface="Tahoma"/>
              </a:rPr>
              <a:t>Раздел 11: Н</a:t>
            </a:r>
            <a:r>
              <a:rPr b="1" lang="ru-RU" sz="1800" spc="-1" strike="noStrike">
                <a:solidFill>
                  <a:srgbClr val="a50021"/>
                </a:solidFill>
                <a:latin typeface="Tahoma"/>
              </a:rPr>
              <a:t>амаляване на административната тежест за бенефициент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Picture 1" descr=""/>
          <p:cNvPicPr/>
          <p:nvPr/>
        </p:nvPicPr>
        <p:blipFill>
          <a:blip r:embed="rId1"/>
          <a:stretch/>
        </p:blipFill>
        <p:spPr>
          <a:xfrm>
            <a:off x="399960" y="291960"/>
            <a:ext cx="1440000" cy="944640"/>
          </a:xfrm>
          <a:prstGeom prst="rect">
            <a:avLst/>
          </a:prstGeom>
          <a:ln w="0">
            <a:noFill/>
          </a:ln>
        </p:spPr>
      </p:pic>
      <p:pic>
        <p:nvPicPr>
          <p:cNvPr id="828" name="Picture 2" descr=""/>
          <p:cNvPicPr/>
          <p:nvPr/>
        </p:nvPicPr>
        <p:blipFill>
          <a:blip r:embed="rId2"/>
          <a:stretch/>
        </p:blipFill>
        <p:spPr>
          <a:xfrm>
            <a:off x="7812000" y="9360"/>
            <a:ext cx="1152720" cy="1279800"/>
          </a:xfrm>
          <a:prstGeom prst="rect">
            <a:avLst/>
          </a:prstGeom>
          <a:ln w="0">
            <a:noFill/>
          </a:ln>
        </p:spPr>
      </p:pic>
      <p:sp>
        <p:nvSpPr>
          <p:cNvPr id="829" name="Rectangle 9"/>
          <p:cNvSpPr/>
          <p:nvPr/>
        </p:nvSpPr>
        <p:spPr>
          <a:xfrm>
            <a:off x="399960" y="1628640"/>
            <a:ext cx="8564760" cy="51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Bef>
                <a:spcPts val="451"/>
              </a:spcBef>
              <a:spcAft>
                <a:spcPts val="451"/>
              </a:spcAft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Допълнен и изцяло разработен раздел, съгласно изискванията на темплейтите за Оперативна програма с фокус върх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ценка на административната тежест за бенефициентите в периода 2007-2013 и основните вече предприети действия за намаляване на тежестта за периода 2014-2020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 algn="just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звършена оптимизация на процесите с цел ускоряване на верификация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 algn="just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звършена оптимизация на процесите в етапа на кандидатств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Резюме на основни планирани дейности за постигане намаляване на административната тежес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 algn="just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труктуриране на УО като изпълнителни аген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 algn="just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Електронно отчитане и подаване на проек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 algn="just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о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ироко застъпване на алтернативни и/или допълващи форми на подкрепа, освен БФП - финансови инструмен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5"/>
          <p:cNvSpPr/>
          <p:nvPr/>
        </p:nvSpPr>
        <p:spPr>
          <a:xfrm>
            <a:off x="1763640" y="62064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ahoma"/>
              </a:rPr>
              <a:t>Раздел 12: Хоризонтални принцип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1" name="Picture 1" descr=""/>
          <p:cNvPicPr/>
          <p:nvPr/>
        </p:nvPicPr>
        <p:blipFill>
          <a:blip r:embed="rId1"/>
          <a:stretch/>
        </p:blipFill>
        <p:spPr>
          <a:xfrm>
            <a:off x="399960" y="291960"/>
            <a:ext cx="1440000" cy="944640"/>
          </a:xfrm>
          <a:prstGeom prst="rect">
            <a:avLst/>
          </a:prstGeom>
          <a:ln w="0">
            <a:noFill/>
          </a:ln>
        </p:spPr>
      </p:pic>
      <p:pic>
        <p:nvPicPr>
          <p:cNvPr id="832" name="Picture 2" descr=""/>
          <p:cNvPicPr/>
          <p:nvPr/>
        </p:nvPicPr>
        <p:blipFill>
          <a:blip r:embed="rId2"/>
          <a:stretch/>
        </p:blipFill>
        <p:spPr>
          <a:xfrm>
            <a:off x="7812000" y="9360"/>
            <a:ext cx="1152720" cy="1279800"/>
          </a:xfrm>
          <a:prstGeom prst="rect">
            <a:avLst/>
          </a:prstGeom>
          <a:ln w="0">
            <a:noFill/>
          </a:ln>
        </p:spPr>
      </p:pic>
      <p:sp>
        <p:nvSpPr>
          <p:cNvPr id="833" name="Rectangle 9"/>
          <p:cNvSpPr/>
          <p:nvPr/>
        </p:nvSpPr>
        <p:spPr>
          <a:xfrm>
            <a:off x="700200" y="6058080"/>
            <a:ext cx="8224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П “Региони в растеж” ще гарантира съблюдаването на равните възможности между мъже и же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AutoShape 24"/>
          <p:cNvSpPr/>
          <p:nvPr/>
        </p:nvSpPr>
        <p:spPr>
          <a:xfrm>
            <a:off x="773280" y="1209600"/>
            <a:ext cx="7940520" cy="576360"/>
          </a:xfrm>
          <a:prstGeom prst="rightArrow">
            <a:avLst>
              <a:gd name="adj1" fmla="val 50000"/>
              <a:gd name="adj2" fmla="val 26795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ойчиво 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AutoShape 21"/>
          <p:cNvSpPr/>
          <p:nvPr/>
        </p:nvSpPr>
        <p:spPr>
          <a:xfrm>
            <a:off x="773280" y="2852640"/>
            <a:ext cx="7940520" cy="576360"/>
          </a:xfrm>
          <a:prstGeom prst="rightArrow">
            <a:avLst>
              <a:gd name="adj1" fmla="val 50000"/>
              <a:gd name="adj2" fmla="val 26795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вни възможности и  борба с дискриминация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AutoShape 25"/>
          <p:cNvSpPr/>
          <p:nvPr/>
        </p:nvSpPr>
        <p:spPr>
          <a:xfrm>
            <a:off x="700200" y="5516640"/>
            <a:ext cx="8013600" cy="576360"/>
          </a:xfrm>
          <a:prstGeom prst="rightArrow">
            <a:avLst>
              <a:gd name="adj1" fmla="val 50000"/>
              <a:gd name="adj2" fmla="val 26797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венство между мъже и же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1"/>
          <p:cNvSpPr/>
          <p:nvPr/>
        </p:nvSpPr>
        <p:spPr>
          <a:xfrm>
            <a:off x="671400" y="3279600"/>
            <a:ext cx="79772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ключване на задължителна хоризонтална дейност по подобряване достъпа за хора с увреждания до ремонтираните сград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Специално внимание за осигуряване на съвременни социални жилища за уязвими и маргинализирани групи, вкл. роми и деинституционализация за деца и възрастни хора с уврежд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ключване на хоризонтален индикатор, който да измери постигнатите резултати на ниво програ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2"/>
          <p:cNvSpPr/>
          <p:nvPr/>
        </p:nvSpPr>
        <p:spPr>
          <a:xfrm>
            <a:off x="773280" y="1785960"/>
            <a:ext cx="798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екти по ОПРР 2014-2020 г.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щ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бъдат одобрявани само след положително решение/становище по проведени процедури по реда на ЗООС и ЗБ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Съответствие на ОПРР с насоките за интеграция на политиките по околна среда и изменение на клим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5"/>
          <p:cNvSpPr/>
          <p:nvPr/>
        </p:nvSpPr>
        <p:spPr>
          <a:xfrm>
            <a:off x="1763640" y="620640"/>
            <a:ext cx="60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a50021"/>
                </a:solidFill>
                <a:latin typeface="Tahoma"/>
              </a:rPr>
              <a:t>Раздел 13: </a:t>
            </a:r>
            <a:r>
              <a:rPr b="1" lang="ru-RU" sz="1800" spc="-1" strike="noStrike">
                <a:solidFill>
                  <a:srgbClr val="a50021"/>
                </a:solidFill>
                <a:latin typeface="Tahoma"/>
              </a:rPr>
              <a:t>Отделни елементи – представени като приложения във разпечатаната версия на докум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0" name="Picture 1" descr=""/>
          <p:cNvPicPr/>
          <p:nvPr/>
        </p:nvPicPr>
        <p:blipFill>
          <a:blip r:embed="rId1"/>
          <a:stretch/>
        </p:blipFill>
        <p:spPr>
          <a:xfrm>
            <a:off x="399960" y="291960"/>
            <a:ext cx="1440000" cy="94464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2" descr=""/>
          <p:cNvPicPr/>
          <p:nvPr/>
        </p:nvPicPr>
        <p:blipFill>
          <a:blip r:embed="rId2"/>
          <a:stretch/>
        </p:blipFill>
        <p:spPr>
          <a:xfrm>
            <a:off x="7812000" y="9360"/>
            <a:ext cx="1152720" cy="1279800"/>
          </a:xfrm>
          <a:prstGeom prst="rect">
            <a:avLst/>
          </a:prstGeom>
          <a:ln w="0">
            <a:noFill/>
          </a:ln>
        </p:spPr>
      </p:pic>
      <p:sp>
        <p:nvSpPr>
          <p:cNvPr id="842" name="Rectangle 3"/>
          <p:cNvSpPr/>
          <p:nvPr/>
        </p:nvSpPr>
        <p:spPr>
          <a:xfrm>
            <a:off x="826920" y="1522440"/>
            <a:ext cx="813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cc"/>
                </a:solidFill>
                <a:uFillTx/>
                <a:latin typeface="Arial"/>
              </a:rPr>
              <a:t>Списък на съответните партньори, участващи в подготовката на оперативната програм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8"/>
          <p:cNvSpPr/>
          <p:nvPr/>
        </p:nvSpPr>
        <p:spPr>
          <a:xfrm>
            <a:off x="826920" y="2347920"/>
            <a:ext cx="8137800" cy="51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355680" algn="just">
              <a:spcBef>
                <a:spcPts val="1001"/>
              </a:spcBef>
              <a:buClr>
                <a:srgbClr val="1001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0100"/>
                </a:solidFill>
                <a:latin typeface="Arial"/>
              </a:rPr>
              <a:t>Европейска Комис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355680" algn="just">
              <a:spcBef>
                <a:spcPts val="1001"/>
              </a:spcBef>
              <a:buClr>
                <a:srgbClr val="1001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0100"/>
                </a:solidFill>
                <a:latin typeface="Arial"/>
              </a:rPr>
              <a:t>Министерски съве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355680" algn="just">
              <a:spcBef>
                <a:spcPts val="1001"/>
              </a:spcBef>
              <a:buClr>
                <a:srgbClr val="1001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100100"/>
                </a:solidFill>
                <a:latin typeface="Arial"/>
              </a:rPr>
              <a:t>Сертифициращ и одитиращ орга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355680" algn="just">
              <a:spcBef>
                <a:spcPts val="1001"/>
              </a:spcBef>
              <a:buClr>
                <a:srgbClr val="1001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100100"/>
                </a:solidFill>
                <a:latin typeface="Arial"/>
              </a:rPr>
              <a:t>Работодателски и работнически орган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355680" algn="just">
              <a:spcBef>
                <a:spcPts val="1001"/>
              </a:spcBef>
              <a:buClr>
                <a:srgbClr val="1001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0100"/>
                </a:solidFill>
                <a:latin typeface="Arial"/>
              </a:rPr>
              <a:t>Министерства и ведомства имащи отношение към разработването на Програмат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355680" algn="just">
              <a:spcBef>
                <a:spcPts val="1001"/>
              </a:spcBef>
              <a:buClr>
                <a:srgbClr val="1001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0100"/>
                </a:solidFill>
                <a:latin typeface="Arial"/>
              </a:rPr>
              <a:t>Местни власти, вкл. Националното сдружение на общините в Република Българ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355680" algn="just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Неправителствени организации в сферата на екологията, политиките за развитие, социалната сфера, в образователната сфера и други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иято дейност има отношение към тематичните цели и мерки”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355680" algn="just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елигиозните институции на вероизповеданията и техните местни поделения, които са юридически лиц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355680" algn="just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Академичната общнос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355680" algn="just">
              <a:spcBef>
                <a:spcPts val="876"/>
              </a:spcBef>
              <a:buClr>
                <a:srgbClr val="1001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355680" algn="just">
              <a:spcBef>
                <a:spcPts val="876"/>
              </a:spcBef>
              <a:buClr>
                <a:srgbClr val="1001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"/>
          <p:cNvSpPr txBox="1"/>
          <p:nvPr/>
        </p:nvSpPr>
        <p:spPr>
          <a:xfrm>
            <a:off x="539640" y="137160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МИНИСТЕРСТВО НА РЕГИОНАЛНОТО РАЗВИТИЕ И БЛАГОУСТРОЙСТВОТ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200" spc="-1" strike="noStrike">
                <a:solidFill>
                  <a:srgbClr val="c00000"/>
                </a:solidFill>
                <a:latin typeface="Arial"/>
                <a:ea typeface="Arial"/>
              </a:rPr>
              <a:t>БЛАГОДАРЯ ЗА ВНИМАНИЕТО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Г-н Иван Попов, нач. отдел „Програмиране, оценка, информация и публичност“ в ГД „Програмиране на регионалното развитие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www.mrrb.government.b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www.bgregio.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oprd@mrrb.government.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5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  <p:pic>
        <p:nvPicPr>
          <p:cNvPr id="846" name="Picture 2" descr=""/>
          <p:cNvPicPr/>
          <p:nvPr/>
        </p:nvPicPr>
        <p:blipFill>
          <a:blip r:embed="rId2"/>
          <a:stretch/>
        </p:blipFill>
        <p:spPr>
          <a:xfrm>
            <a:off x="7662960" y="166680"/>
            <a:ext cx="110304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5"/>
          <p:cNvSpPr/>
          <p:nvPr/>
        </p:nvSpPr>
        <p:spPr>
          <a:xfrm>
            <a:off x="1763640" y="620640"/>
            <a:ext cx="604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  <a:ea typeface="Arial"/>
              </a:rPr>
              <a:t>Раздел 2: Стратегия за приноса на ОПРР към стратегия Европа 2020 и целите на кохезионната поли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Picture 2" descr=""/>
          <p:cNvPicPr/>
          <p:nvPr/>
        </p:nvPicPr>
        <p:blipFill>
          <a:blip r:embed="rId1"/>
          <a:stretch/>
        </p:blipFill>
        <p:spPr>
          <a:xfrm>
            <a:off x="7812000" y="306360"/>
            <a:ext cx="1103400" cy="127944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1" descr=""/>
          <p:cNvPicPr/>
          <p:nvPr/>
        </p:nvPicPr>
        <p:blipFill>
          <a:blip r:embed="rId2"/>
          <a:stretch/>
        </p:blipFill>
        <p:spPr>
          <a:xfrm>
            <a:off x="324000" y="355680"/>
            <a:ext cx="1439640" cy="944640"/>
          </a:xfrm>
          <a:prstGeom prst="rect">
            <a:avLst/>
          </a:prstGeom>
          <a:ln w="0">
            <a:noFill/>
          </a:ln>
        </p:spPr>
      </p:pic>
      <p:sp>
        <p:nvSpPr>
          <p:cNvPr id="740" name="Rectangle 19"/>
          <p:cNvSpPr/>
          <p:nvPr/>
        </p:nvSpPr>
        <p:spPr>
          <a:xfrm>
            <a:off x="324000" y="1808280"/>
            <a:ext cx="8264520" cy="649080"/>
          </a:xfrm>
          <a:prstGeom prst="rect">
            <a:avLst/>
          </a:prstGeom>
          <a:solidFill>
            <a:srgbClr val="cc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писание на стратегията на оперативната програма за принос към постигане на целите на стратегията Европа 2020 и постигането на икономическо, социално и териториално сближаване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25"/>
          <p:cNvSpPr/>
          <p:nvPr/>
        </p:nvSpPr>
        <p:spPr>
          <a:xfrm>
            <a:off x="468360" y="5186520"/>
            <a:ext cx="2863800" cy="936360"/>
          </a:xfrm>
          <a:prstGeom prst="rect">
            <a:avLst/>
          </a:prstGeom>
          <a:solidFill>
            <a:srgbClr val="cc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босновка на избора тематични цели и инвестиционни приорите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"/>
          <p:cNvSpPr/>
          <p:nvPr/>
        </p:nvSpPr>
        <p:spPr>
          <a:xfrm>
            <a:off x="611280" y="2644920"/>
            <a:ext cx="81057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ъответствие с нуждите в Националната програма за реформи и другите стратегически национални и регионални документи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писание на конкретния принос на ОПРР за постигане на целите и приоритети на стратегическите и програмните документит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писание как ОПРР ще адресира основните предизвикателства и идентифицираните потребности и нужди в документит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Допълнен със съответствие и насоченост към стратегическите приоритети на Споразумението за партньор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14"/>
          <p:cNvSpPr/>
          <p:nvPr/>
        </p:nvSpPr>
        <p:spPr>
          <a:xfrm>
            <a:off x="3635280" y="4869000"/>
            <a:ext cx="49989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Базира се на идентифицирани национални нужди и техните регионални измерен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Допринасят са изпълнение на конкретни препоръки на Европейския съве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ключват и препоръките на предварителната оценка на Програма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 txBox="1"/>
          <p:nvPr/>
        </p:nvSpPr>
        <p:spPr>
          <a:xfrm>
            <a:off x="259920" y="1628280"/>
            <a:ext cx="8883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3399"/>
                </a:solidFill>
                <a:latin typeface="Arial"/>
                <a:ea typeface="Arial"/>
              </a:rPr>
              <a:t>Инвестиционен приоритет 1</a:t>
            </a:r>
            <a:r>
              <a:rPr b="1" lang="bg-BG" sz="2700" spc="-1" strike="noStrike">
                <a:solidFill>
                  <a:srgbClr val="003399"/>
                </a:solidFill>
                <a:latin typeface="Arial"/>
              </a:rPr>
              <a:t>: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енергийна ефективност и ВЕИ в жилищни сгради и публичния сек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  <a:ea typeface="Arial"/>
              </a:rPr>
              <a:t>Специфична це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: Повишаване на енергийната ефективност в публичните сгради и в жилищния сек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Aft>
                <a:spcPts val="601"/>
              </a:spcAft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1" lang="bg-BG" sz="1700" spc="-1" strike="noStrike">
                <a:solidFill>
                  <a:srgbClr val="003399"/>
                </a:solidFill>
                <a:latin typeface="Arial"/>
                <a:ea typeface="Arial"/>
              </a:rPr>
              <a:t>Дейности: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Arial"/>
              </a:rPr>
              <a:t>мерки за ЕЕ в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Arial"/>
                <a:ea typeface="Arial"/>
              </a:rPr>
              <a:t>многофамилни жилищни сград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административни сгради на държавната и общинска администрац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Aft>
                <a:spcPts val="601"/>
              </a:spcAft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3399"/>
                </a:solidFill>
                <a:latin typeface="Arial"/>
                <a:ea typeface="Arial"/>
              </a:rPr>
              <a:t>Конкретни бенефициенти</a:t>
            </a:r>
            <a:r>
              <a:rPr b="1" lang="bg-BG" sz="1700" spc="-1" strike="noStrike">
                <a:solidFill>
                  <a:srgbClr val="003399"/>
                </a:solidFill>
                <a:latin typeface="Arial"/>
                <a:ea typeface="Arial"/>
              </a:rPr>
              <a:t> 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Дирекция „Жилищна политика”, МРРБ/фонд за жилищно обновяване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67-те общини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Финансови инструменти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Aft>
                <a:spcPts val="601"/>
              </a:spcAft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3399"/>
                </a:solidFill>
                <a:latin typeface="Arial"/>
                <a:ea typeface="Arial"/>
              </a:rPr>
              <a:t>Целева територия – ИПГВР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Arial"/>
                <a:ea typeface="Arial"/>
              </a:rPr>
              <a:t>зоните за въздействие за градовете от 1-во, 2-ро и 3-то нив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Arial"/>
                <a:ea typeface="Arial"/>
              </a:rPr>
              <a:t>цялата територия за градовете от ниво 4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5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  <p:sp>
        <p:nvSpPr>
          <p:cNvPr id="746" name="Rectangle 6"/>
          <p:cNvSpPr/>
          <p:nvPr/>
        </p:nvSpPr>
        <p:spPr>
          <a:xfrm>
            <a:off x="1187280" y="139680"/>
            <a:ext cx="64090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    </a:t>
            </a:r>
            <a:r>
              <a:rPr b="1" lang="bg-BG" sz="2000" spc="-1" strike="noStrike">
                <a:solidFill>
                  <a:srgbClr val="c00000"/>
                </a:solidFill>
                <a:latin typeface="Arial"/>
                <a:ea typeface="Arial"/>
              </a:rPr>
              <a:t>Раздел 3.Приоритетна ос 1: „Устойчиво и интегрирано градско развитие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c00000"/>
                </a:solidFill>
                <a:latin typeface="Arial"/>
              </a:rPr>
              <a:t>ТЦ 4: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одкрепа за преминаването към нисковъглеродна икономика във всички секто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Picture 2" descr=""/>
          <p:cNvPicPr/>
          <p:nvPr/>
        </p:nvPicPr>
        <p:blipFill>
          <a:blip r:embed="rId2"/>
          <a:stretch/>
        </p:blipFill>
        <p:spPr>
          <a:xfrm>
            <a:off x="7662960" y="166680"/>
            <a:ext cx="110304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652760" y="182160"/>
            <a:ext cx="57988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Раздел 3, Приоритетна ос 1</a:t>
            </a:r>
            <a:br>
              <a:rPr sz="2000"/>
            </a:b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ТЦ: 6 „Опазване на околната среда и насърчаване </a:t>
            </a:r>
            <a:br>
              <a:rPr sz="1600"/>
            </a:b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на ресурсната ефективност”</a:t>
            </a:r>
            <a:br>
              <a:rPr sz="40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26640" y="1267920"/>
            <a:ext cx="91170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003399"/>
                </a:solidFill>
                <a:latin typeface="Arial"/>
                <a:ea typeface="Arial"/>
              </a:rPr>
              <a:t>Инвестиционен приоритет 2: </a:t>
            </a:r>
            <a:r>
              <a:rPr b="0" lang="bg-BG" sz="1500" spc="-1" strike="noStrike">
                <a:solidFill>
                  <a:srgbClr val="000000"/>
                </a:solidFill>
                <a:latin typeface="Arial"/>
                <a:ea typeface="Arial"/>
              </a:rPr>
              <a:t>Подобряване на градска околна сред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003399"/>
                </a:solidFill>
                <a:latin typeface="Arial"/>
                <a:ea typeface="Arial"/>
              </a:rPr>
              <a:t>Специфични цели</a:t>
            </a:r>
            <a:r>
              <a:rPr b="1" lang="bg-BG" sz="1500" spc="-1" strike="noStrike">
                <a:solidFill>
                  <a:srgbClr val="003399"/>
                </a:solidFill>
                <a:latin typeface="Arial"/>
                <a:ea typeface="Arial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Повишаване на качеството на живот, социално включване, и подобряване на екологичната сред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Подобряване на икономическата активност в градовете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Подобряване на градската околна среда, чрез инвестиции в спортна инфраструктур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Aft>
                <a:spcPts val="601"/>
              </a:spcAft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1" lang="bg-BG" sz="1700" spc="-1" strike="noStrike">
                <a:solidFill>
                  <a:srgbClr val="003399"/>
                </a:solidFill>
                <a:latin typeface="Arial"/>
                <a:ea typeface="Arial"/>
              </a:rPr>
              <a:t>Дейности: </a:t>
            </a:r>
            <a:r>
              <a:rPr b="0" lang="bg-BG" sz="1500" spc="-1" strike="noStrike">
                <a:solidFill>
                  <a:srgbClr val="000000"/>
                </a:solidFill>
                <a:latin typeface="Arial"/>
                <a:ea typeface="Arial"/>
              </a:rPr>
              <a:t>градска среда (зони за обществен отдих, пешеходни зони, осветление, системи за наблюдение и др.); зони за икономическо развитие; спортна инфраструктур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Aft>
                <a:spcPts val="601"/>
              </a:spcAft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3399"/>
                </a:solidFill>
                <a:latin typeface="Arial"/>
                <a:ea typeface="Arial"/>
              </a:rPr>
              <a:t>Конкретни бенефициенти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67-те общин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Финансови инструмен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портна инфраструктура – само финансови инструмен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Aft>
                <a:spcPts val="601"/>
              </a:spcAft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99"/>
                </a:solidFill>
                <a:latin typeface="Arial"/>
                <a:ea typeface="Arial"/>
              </a:rPr>
              <a:t>Целева територия – ИПГВР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оните за въздействие за градовете от 1-во, 2-ро и 3-то ниво,цялата територия за градовете от ниво 4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они за икономическо развитие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0" name="Picture 1" descr=""/>
          <p:cNvPicPr/>
          <p:nvPr/>
        </p:nvPicPr>
        <p:blipFill>
          <a:blip r:embed="rId1"/>
          <a:stretch/>
        </p:blipFill>
        <p:spPr>
          <a:xfrm>
            <a:off x="127080" y="-4680"/>
            <a:ext cx="1500120" cy="114300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2" descr=""/>
          <p:cNvPicPr/>
          <p:nvPr/>
        </p:nvPicPr>
        <p:blipFill>
          <a:blip r:embed="rId2"/>
          <a:stretch/>
        </p:blipFill>
        <p:spPr>
          <a:xfrm>
            <a:off x="7662960" y="166680"/>
            <a:ext cx="110304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652760" y="274320"/>
            <a:ext cx="579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Раздел 3, Приоритетна ос 1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br>
              <a:rPr sz="2000"/>
            </a:b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ТЦ: 6 „Опазване на околната среда и насърчаване </a:t>
            </a:r>
            <a:br>
              <a:rPr sz="1600"/>
            </a:b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на ресурсната ефективност”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127080" y="1557000"/>
            <a:ext cx="8640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3399"/>
                </a:solidFill>
                <a:latin typeface="Arial"/>
                <a:ea typeface="Arial"/>
              </a:rPr>
              <a:t>Инвестиционен приоритет 3:</a:t>
            </a:r>
            <a:r>
              <a:rPr b="1" lang="bg-BG" sz="16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пазване, популяризиране и развитие на културното и природно наслед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3399"/>
                </a:solidFill>
                <a:latin typeface="Arial"/>
                <a:ea typeface="Arial"/>
              </a:rPr>
              <a:t>Специфична цел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сърчаване на културния живот в градове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 algn="just">
              <a:spcAft>
                <a:spcPts val="601"/>
              </a:spcAft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3399"/>
                </a:solidFill>
                <a:latin typeface="Arial"/>
                <a:ea typeface="Arial"/>
              </a:rPr>
              <a:t>Дейности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ултурни центрове, театри, читалища, библиотеки, музеи, изложбени зали и дру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 algn="just">
              <a:spcAft>
                <a:spcPts val="601"/>
              </a:spcAft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  <a:ea typeface="Arial"/>
              </a:rPr>
              <a:t>Конкретни бенефициен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67-те общин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Финансови инструмен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 algn="just">
              <a:spcAft>
                <a:spcPts val="601"/>
              </a:spcAft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  <a:ea typeface="Arial"/>
              </a:rPr>
              <a:t>Целева територия – ИПГВ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зоните за въздействие за градовете от 1-во, 2-ро и 3-то ни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цялата територия за градовете от ниво 4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4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2" descr=""/>
          <p:cNvPicPr/>
          <p:nvPr/>
        </p:nvPicPr>
        <p:blipFill>
          <a:blip r:embed="rId2"/>
          <a:stretch/>
        </p:blipFill>
        <p:spPr>
          <a:xfrm>
            <a:off x="7662960" y="166680"/>
            <a:ext cx="110304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652400" y="404280"/>
            <a:ext cx="5871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c00000"/>
                </a:solidFill>
                <a:latin typeface="Arial"/>
              </a:rPr>
              <a:t>Раздел 3, Приоритетна ос 1</a:t>
            </a:r>
            <a:br>
              <a:rPr sz="2000"/>
            </a:b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ТЦ: 10 „ 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Инвестиции в образованието, уменията и ученето през целия живот посредством изграждането на образователна инфраструктура и на инфраструктура за обучение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”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-360" y="1773360"/>
            <a:ext cx="8883720" cy="43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3399"/>
                </a:solidFill>
                <a:latin typeface="Arial"/>
                <a:ea typeface="Arial"/>
              </a:rPr>
              <a:t>Инвестиционен приоритет 4:</a:t>
            </a:r>
            <a:r>
              <a:rPr b="1" lang="bg-BG" sz="14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Инвестиции в образованието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бразователна инфраструктура и на инфраструктура за обу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003399"/>
                </a:solidFill>
                <a:latin typeface="Arial"/>
                <a:ea typeface="Arial"/>
              </a:rPr>
              <a:t>Специфична цел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Arial"/>
              </a:rPr>
              <a:t>: Намаляване броя на преждевременно отпадналите от училище, чрез инвестиции в образователната инфраструктура в градовет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Aft>
                <a:spcPts val="601"/>
              </a:spcAft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003399"/>
                </a:solidFill>
                <a:latin typeface="Arial"/>
                <a:ea typeface="Arial"/>
              </a:rPr>
              <a:t>Дейности: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основни и средни училища; детски ясли и градин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Aft>
                <a:spcPts val="601"/>
              </a:spcAft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3399"/>
                </a:solidFill>
                <a:latin typeface="Arial"/>
                <a:ea typeface="Arial"/>
              </a:rPr>
              <a:t>Конкретни бенефициенти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67-те общини съгл. Приложение 2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Aft>
                <a:spcPts val="601"/>
              </a:spcAft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3399"/>
                </a:solidFill>
                <a:latin typeface="Arial"/>
                <a:ea typeface="Arial"/>
              </a:rPr>
              <a:t>Целева територия – ИПГВР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Arial"/>
              </a:rPr>
              <a:t>зоните за въздействие за градовете от 1-во, 2-ро и 3-то ниво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Arial"/>
              </a:rPr>
              <a:t>цялата територия за градовете от ниво 4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8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  <p:pic>
        <p:nvPicPr>
          <p:cNvPr id="759" name="Picture 2" descr=""/>
          <p:cNvPicPr/>
          <p:nvPr/>
        </p:nvPicPr>
        <p:blipFill>
          <a:blip r:embed="rId2"/>
          <a:stretch/>
        </p:blipFill>
        <p:spPr>
          <a:xfrm>
            <a:off x="7662960" y="166680"/>
            <a:ext cx="110304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476000" y="333360"/>
            <a:ext cx="5799240" cy="13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c00000"/>
                </a:solidFill>
                <a:latin typeface="Arial"/>
              </a:rPr>
              <a:t>Раздел 3, Приоритетна ос 1</a:t>
            </a:r>
            <a:br>
              <a:rPr sz="2000"/>
            </a:br>
            <a:br>
              <a:rPr sz="2000"/>
            </a:b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ТЦ: 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9 „Насърчаване на социалното приобщаване и борба с бедността”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259920" y="1628640"/>
            <a:ext cx="888372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900" spc="-1" strike="noStrike">
                <a:solidFill>
                  <a:srgbClr val="003399"/>
                </a:solidFill>
                <a:latin typeface="Arial"/>
                <a:ea typeface="Arial"/>
              </a:rPr>
              <a:t>Инвестиционен приоритет 5: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Arial"/>
              </a:rPr>
              <a:t>Инвестиране в социална инфраструктур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3399"/>
                </a:solidFill>
                <a:latin typeface="Arial"/>
                <a:ea typeface="Arial"/>
              </a:rPr>
              <a:t>Специфична цел: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оциално приобщаване, чрез инвестиции в социална инфраструктура в градовет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Aft>
                <a:spcPts val="601"/>
              </a:spcAft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3399"/>
                </a:solidFill>
                <a:latin typeface="Arial"/>
                <a:ea typeface="Arial"/>
              </a:rPr>
              <a:t>Дейности: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бщинска социална инфраструктура, съвременни социални жилища, достъпна градска сре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Aft>
                <a:spcPts val="601"/>
              </a:spcAft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  <a:ea typeface="Arial"/>
              </a:rPr>
              <a:t>Конкретни бенефициен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67-те общини съгл. Приложение 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Aft>
                <a:spcPts val="601"/>
              </a:spcAft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  <a:ea typeface="Arial"/>
              </a:rPr>
              <a:t>Целева територия – ИПГВ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зоните за въздействие за градовете от 1-во, 2-ро и 3-то ни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цялата територия за градовете от ниво 4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Фокус - маргинализирани групи -  в т. ч. и ро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2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2" descr=""/>
          <p:cNvPicPr/>
          <p:nvPr/>
        </p:nvPicPr>
        <p:blipFill>
          <a:blip r:embed="rId2"/>
          <a:stretch/>
        </p:blipFill>
        <p:spPr>
          <a:xfrm>
            <a:off x="7662960" y="166680"/>
            <a:ext cx="110304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692360" y="188640"/>
            <a:ext cx="56880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1" lang="bg-BG" sz="2000" spc="-1" strike="noStrike">
                <a:solidFill>
                  <a:srgbClr val="c00000"/>
                </a:solidFill>
                <a:latin typeface="Arial"/>
              </a:rPr>
              <a:t>Раздел 3, Приоритетна ос 1</a:t>
            </a:r>
            <a:br>
              <a:rPr sz="2000"/>
            </a:br>
            <a:br>
              <a:rPr sz="2000"/>
            </a:b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ТЦ 4: 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Подкрепа за преминаването към нисковъглеродна икономика във всички сектори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0" y="181728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3399"/>
                </a:solidFill>
                <a:latin typeface="Arial"/>
                <a:ea typeface="Arial"/>
              </a:rPr>
              <a:t>Инвестиционен приоритет 6: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Насърчаване на нисковъглеродни стратегии в градските райони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асърчаване на устойчива  градска мобилн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3399"/>
                </a:solidFill>
                <a:latin typeface="Arial"/>
                <a:ea typeface="Arial"/>
              </a:rPr>
              <a:t>Специфична цел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добряване на качеството на въздуха в градове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Aft>
                <a:spcPts val="601"/>
              </a:spcAft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3399"/>
                </a:solidFill>
                <a:latin typeface="Arial"/>
                <a:ea typeface="Arial"/>
              </a:rPr>
              <a:t>Дейности: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Транспортна и прилежаща инфраструктура; системи за управление и контрол на трафика и градския транспорт; системи за информационно и комуникационо обслужване; превозни средства, достъпна архитектурна с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Aft>
                <a:spcPts val="601"/>
              </a:spcAft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Конкретни бенефициен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5 общини за градовете от 1-во до 3-то ниво, съгласно приложение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Финансови инструменти за градовете от 1-во до 3-то нив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Aft>
                <a:spcPts val="601"/>
              </a:spcAft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Целева терит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цялата територия на 35-те града, определени за подкрепа по ОПР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2" descr=""/>
          <p:cNvPicPr/>
          <p:nvPr/>
        </p:nvPicPr>
        <p:blipFill>
          <a:blip r:embed="rId2"/>
          <a:stretch/>
        </p:blipFill>
        <p:spPr>
          <a:xfrm>
            <a:off x="7662960" y="166680"/>
            <a:ext cx="110304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7T15:07:28Z</dcterms:created>
  <dc:creator>RusevaA</dc:creator>
  <dc:description/>
  <dc:language>en-US</dc:language>
  <cp:lastModifiedBy>RusevaA</cp:lastModifiedBy>
  <dcterms:modified xsi:type="dcterms:W3CDTF">2013-04-01T12:21:07Z</dcterms:modified>
  <cp:revision>411</cp:revision>
  <dc:subject/>
  <dc:title>Slide 1</dc:title>
</cp:coreProperties>
</file>