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0FB5-5A63-4541-9728-108CF7EA5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4C8F-0E7A-45C6-B27F-3235AF0B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080F-7742-45F0-8AAC-2DA6A36D0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471A-3678-44F5-BA9D-0FA08C852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E8A5-BDBE-4BB5-854B-F16ADA55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ECEC-3520-4DC1-911B-398FE2AE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BE95-46F7-4B0E-9604-8EE9765B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2E52-6ACF-493C-93A2-D8D447A6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79CB-80A3-43CF-B195-7E2A19D9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4977-201A-4538-BA04-85D18F3F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383B-0D3D-431E-B517-EE747731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26B7-2DB8-46E1-9163-A03A0775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ционален център за териториално развитие Е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12CA-FE32-4E1F-93D9-CBD99F786BD7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9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500120" cy="11462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"/>
          <p:cNvPicPr/>
          <p:nvPr/>
        </p:nvPicPr>
        <p:blipFill>
          <a:blip r:embed="rId3"/>
          <a:stretch/>
        </p:blipFill>
        <p:spPr>
          <a:xfrm>
            <a:off x="7524720" y="189000"/>
            <a:ext cx="1258920" cy="151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567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6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%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от финансовия ресурс за 1-во ниво – 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6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%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от финансовия ресурс за 2-ро нив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8-те големи града, вкл. Благоевград и Велико Търн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6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%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от финансовия ресурс за 3-то ниво – 26-те средно-големи гра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6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%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от финансовия ресурс за 4-то нив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32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малки града със специфично териториално 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6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1,88% за всеки град от 2-ро ни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6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1,73% за всеки град от 3-то ни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0,63% за всеки град от 4-то ниво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1692000" y="620280"/>
            <a:ext cx="56214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2060"/>
                </a:solidFill>
                <a:latin typeface="Arial"/>
              </a:rPr>
              <a:t>Разпределение на финансовия ресурс по</a:t>
            </a:r>
            <a:br>
              <a:rPr sz="2000"/>
            </a:br>
            <a:r>
              <a:rPr b="1" lang="bg-BG" sz="2000" spc="-1" strike="noStrike">
                <a:solidFill>
                  <a:srgbClr val="002060"/>
                </a:solidFill>
                <a:latin typeface="Arial"/>
              </a:rPr>
              <a:t>градове от съответните йерархични н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7313760" y="115920"/>
            <a:ext cx="16142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0T14:15:49Z</dcterms:created>
  <dc:creator>DimovD</dc:creator>
  <dc:description/>
  <dc:language>en-US</dc:language>
  <cp:lastModifiedBy>Dimcho Dimov</cp:lastModifiedBy>
  <cp:lastPrinted>2012-10-19T23:03:31Z</cp:lastPrinted>
  <dcterms:modified xsi:type="dcterms:W3CDTF">2013-03-22T15:40:13Z</dcterms:modified>
  <cp:revision>323</cp:revision>
  <dc:subject/>
  <dc:title>Slide 1</dc:title>
</cp:coreProperties>
</file>