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8AAE-8AEC-436C-B6DE-1AFC4C7E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D5FF-8664-4089-923E-876C6110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21D-B4AD-4678-A907-5FDB6543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539-B770-4E2D-A670-7E19809D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8A5C-F15B-44A6-9424-8AE81B16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E98-D750-4931-96BA-9B6BC384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B5C8-0F28-40AA-BC1C-2848CA00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005-3CBD-46A7-8C64-E5D88571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9774-4C0F-4A8F-9C64-9CF6C77D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037-E4A7-4173-A833-383FE1D0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FFAE-4F49-4048-B9FE-3CB1583F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C56A-662D-4521-8E18-E6A04904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ционален център за териториално развитие Е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CC2D-3D40-4297-A435-5CAD2180B4E4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500120" cy="11462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258920" cy="151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567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%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т финансовия ресурс за 1-во ниво – 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%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т финансовия ресурс за 2-ро нив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8-те големи града, вкл. Благоевград и Велико Тър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%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т финансовия ресурс за 3-то ниво – 26-те средно-големи гра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т финансовия ресурс за 4-то нив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32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алки града със специфично териториално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1,88% за всеки град от 2-ро н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1,73% за всеки град от 3-то н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0,63% за всеки град от 4-то ниво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692000" y="620280"/>
            <a:ext cx="5621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Разпределение на финансовия ресурс по</a:t>
            </a:r>
            <a:br>
              <a:rPr sz="2000"/>
            </a:b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градове от съответните йерархични н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7313760" y="115920"/>
            <a:ext cx="16142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0T14:15:49Z</dcterms:created>
  <dc:creator>DimovD</dc:creator>
  <dc:description/>
  <dc:language>en-US</dc:language>
  <cp:lastModifiedBy>Dimcho Dimov</cp:lastModifiedBy>
  <cp:lastPrinted>2012-10-19T23:03:31Z</cp:lastPrinted>
  <dcterms:modified xsi:type="dcterms:W3CDTF">2013-03-22T15:40:13Z</dcterms:modified>
  <cp:revision>323</cp:revision>
  <dc:subject/>
  <dc:title>Slide 1</dc:title>
</cp:coreProperties>
</file>