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4596-D4EB-41A3-8D31-5C9FA13D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7C4-C2B7-42E6-A073-C4A93F1A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CD5-9661-48CB-A491-18B5E39A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76E-54FC-4493-9911-96E3991A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505-7BE1-4A21-A9FE-CCDC84DB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7351-24ED-4BC0-AF09-F459453F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D88-DD22-46A2-8BD6-30719ECD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BEE-4856-495E-81B5-86B739A0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466B-1FDF-47E3-AE7F-C1A669CF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F6D-679D-4E80-9D2A-A787D8D4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1E6-2C6F-4F4C-840D-14EE876C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EC2-FFA4-4ED6-A2D6-70CC11E9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592D-E084-46DF-A084-9C56467E7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gregio.eu/" TargetMode="External"/><Relationship Id="rId2" Type="http://schemas.openxmlformats.org/officeDocument/2006/relationships/hyperlink" Target="mailto:oprd@mrrb.government.bg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Обсъждане на индикато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по ОПРР 2014-2020 г.</a:t>
            </a:r>
            <a:r>
              <a:rPr b="1" lang="ru-RU" sz="2800" spc="-1" strike="noStrike">
                <a:solidFill>
                  <a:srgbClr val="a50021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Calibri"/>
              </a:rPr>
              <a:t>Шесто заседание на Тематична работна група за разработване на оперативна програма за регионално развитие 2014-202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Calibri"/>
              </a:rPr>
              <a:t>18 декември 2012 г.</a:t>
            </a:r>
            <a:r>
              <a:rPr b="1" lang="en-US" sz="1600" spc="-1" strike="noStrike">
                <a:solidFill>
                  <a:srgbClr val="000066"/>
                </a:solidFill>
                <a:latin typeface="Calibri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Calibri"/>
              </a:rPr>
              <a:t>гр.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Calibri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Calibri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на регионалното развитие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устройството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Gerb"/>
          <p:cNvPicPr/>
          <p:nvPr/>
        </p:nvPicPr>
        <p:blipFill>
          <a:blip r:embed="rId1"/>
          <a:stretch/>
        </p:blipFill>
        <p:spPr>
          <a:xfrm>
            <a:off x="380880" y="228600"/>
            <a:ext cx="1430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52280" y="182880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2400"/>
            </a:b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дикатори по ОПРР 2014-2020 г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91320" y="3886200"/>
            <a:ext cx="2666880" cy="1828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маляване на емисиите на парникови газове (т. CO2 еквивалент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на национално ниво в Н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037040"/>
            <a:ext cx="3440160" cy="6494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-ПП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нижаване на потреблението на първична енергия от обществените сгради (kWh/годиш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4913280"/>
            <a:ext cx="3441960" cy="4572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–ПП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рой домакинства, с подобрен клас на енергопотреб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467160"/>
            <a:ext cx="3443400" cy="4572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-ПП1, ПП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маляване на емисиите на парникови газове (т. CO2 еквивалент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5486400"/>
            <a:ext cx="3440160" cy="7239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–ПП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пълнителен капацитет за производство на енергия от възобновяеми източници, за собствено потреб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666880"/>
            <a:ext cx="2895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Индикатори за продукт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2819520"/>
            <a:ext cx="3124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дикатори за резулт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4267080"/>
            <a:ext cx="83808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3543480"/>
            <a:ext cx="228600" cy="2438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4133520" y="5390640"/>
            <a:ext cx="266760" cy="914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4133520" y="4666680"/>
            <a:ext cx="266760" cy="914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4133880" y="3905280"/>
            <a:ext cx="266400" cy="914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133880" y="3219480"/>
            <a:ext cx="266400" cy="914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90512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.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вестиционен приоритет “Предоставяне на подкрепа за енергийната ефективност и за използването на енергия от възобновяеми източници в публични инфраструктури, включително в публични сгради и в жилищния сектор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152280" y="182880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дикатори по ОПРР 2014-2020 г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3505320"/>
            <a:ext cx="3581280" cy="6858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–ПП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хабилитирани/Нови незастроени площи в градските райо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495680"/>
            <a:ext cx="3581280" cy="6858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–ПП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ехабилитирани/Нови обществени или търговски сгради в градските райони (кв.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5410080"/>
            <a:ext cx="3579840" cy="6858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-ПП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ща площ на рехабилитираната земя (хектар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267080"/>
            <a:ext cx="2743200" cy="9669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Увеличение на обем на ПЧИ в районите (%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на ниво области в Н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67652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вестиционен приоритет “Действия за подобряване на градската околна среда, в това число възобновяване на терените за вторично застрояване и намаляване на замърсяването на въздуха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3657600"/>
            <a:ext cx="152280" cy="2286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4590720" y="5314320"/>
            <a:ext cx="266760" cy="914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4590720" y="4323960"/>
            <a:ext cx="266760" cy="914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4590720" y="3333240"/>
            <a:ext cx="266760" cy="914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4267080"/>
            <a:ext cx="83808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590920"/>
            <a:ext cx="2895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Индикатори за продукт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2743200"/>
            <a:ext cx="3124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дикатори за резулт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72200" y="2666880"/>
            <a:ext cx="2666880" cy="9144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Увеличени приходи от нощувки (%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на ниво области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в Н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2819520"/>
            <a:ext cx="3581640" cy="5331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рой посещения на подкрепяни обекти на културното и природно наследство и атра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133720"/>
            <a:ext cx="3581640" cy="5331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–ПП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рой посещения на културни обект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не е общ индикат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505320"/>
            <a:ext cx="3581640" cy="6094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–ПП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рой посещения на подпомогнатите туристически обек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не е общ индикато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21932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вестиционен приоритет “Опазване, популяризиране и развитие на културното и природно наследство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1440" y="533520"/>
            <a:ext cx="53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дикатори по ОПРР 2014-2020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2590920"/>
            <a:ext cx="838080" cy="99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286000"/>
            <a:ext cx="228600" cy="1676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572000" y="3428640"/>
            <a:ext cx="228600" cy="838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590720" y="2647440"/>
            <a:ext cx="266760" cy="914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4590720" y="1961640"/>
            <a:ext cx="266760" cy="914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114800"/>
            <a:ext cx="883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вестиционен приоритет “Инвестиции в образованието, уменията и ученето през целия живот посредством изграждането на образователна инфраструктура и на инфраструктура за обучение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5867280"/>
            <a:ext cx="3444840" cy="8384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Брой на заетите с НИРД лица, които работят в новопостроена или новооборудвана научноизследователска 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4952880"/>
            <a:ext cx="3422880" cy="8384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маляване дела на рано напусналите образование и обучение (%) </a:t>
            </a:r>
            <a:r>
              <a:rPr b="0" lang="bg-BG" sz="1400" spc="-1" strike="noStrike">
                <a:solidFill>
                  <a:srgbClr val="ff0000"/>
                </a:solidFill>
                <a:latin typeface="Arial"/>
              </a:rPr>
              <a:t>на национално</a:t>
            </a:r>
            <a:r>
              <a:rPr b="0" lang="bg-BG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ff0000"/>
                </a:solidFill>
                <a:latin typeface="Arial"/>
              </a:rPr>
              <a:t>ниво в Н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10080" y="5867280"/>
            <a:ext cx="3429000" cy="8384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величаване броя на лицата на възраст 30-34 г.   с висше образование (%)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на национално ни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952880"/>
            <a:ext cx="3440160" cy="8384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–ПП6 и ПО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пацитет за обслужване на подпомогнатата инфраструктура, предназначена за грижи за децата или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632448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5105520"/>
            <a:ext cx="228600" cy="990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495288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586728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828800"/>
            <a:ext cx="2895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Индикатори за продукт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1905120"/>
            <a:ext cx="3124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дикатори за резулт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7620120" y="152280"/>
            <a:ext cx="11030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152280" y="182880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1700280" y="485640"/>
            <a:ext cx="5919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дикатори по ОПРР 2014-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095880" y="3429000"/>
            <a:ext cx="2590920" cy="20574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маляване дела на умиранията от новообразувания и болести на органите на кръвообращението (%)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на ниво области в Н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5181480"/>
            <a:ext cx="3441960" cy="10368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ПО1–ПП7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Брой лица от целевата група, облагодетелствани от подобрената социал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жилищна инфраструктура (брой лица, настанени в социалните жилища) </a:t>
            </a:r>
            <a:r>
              <a:rPr b="1" lang="bg-BG" sz="1200" spc="-1" strike="noStrike">
                <a:solidFill>
                  <a:srgbClr val="ff0000"/>
                </a:solidFill>
                <a:latin typeface="Arial"/>
              </a:rPr>
              <a:t>не е общ инд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4038480"/>
            <a:ext cx="3441960" cy="762120"/>
          </a:xfrm>
          <a:prstGeom prst="rect">
            <a:avLst/>
          </a:prstGeom>
          <a:solidFill>
            <a:srgbClr val="99ccff">
              <a:alpha val="9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рой лица с увреждания, ползватели на подобрена социална инфраструктура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не е общ инд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2971800"/>
            <a:ext cx="3443400" cy="8380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–ПП7 и ПО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пацитет на подпомогнатите здравни услу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371600"/>
            <a:ext cx="822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вестиционен приоритет “Инвестиране в здравна и социална инфраструктура, която допринася за националното, регионалното и местното развитие, понижаване на неравнопоставеността по отношение на здравния статус и преминаване от служби на институционално равнище към служби на местно равнище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3962520"/>
            <a:ext cx="914400" cy="99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3200400"/>
            <a:ext cx="228600" cy="25909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4381200" y="5219280"/>
            <a:ext cx="228600" cy="914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4362120" y="4019040"/>
            <a:ext cx="266760" cy="914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4400280" y="2837880"/>
            <a:ext cx="266760" cy="990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2514600"/>
            <a:ext cx="2895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Индикатори за продукт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2633760"/>
            <a:ext cx="3124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дикатори за резулт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7543800" y="152280"/>
            <a:ext cx="1103400" cy="12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дикатори по ОПРР 2014-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920" y="2819520"/>
            <a:ext cx="3504960" cy="83808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1–ПП8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ъст на пътникопотока в подпомогнатия градски транспорт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не е общ инд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2819520"/>
            <a:ext cx="4114800" cy="8380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Намаляване на емисиите на парникови газове в (т. CO2 еквивалент) </a:t>
            </a:r>
            <a:br>
              <a:rPr sz="1600"/>
            </a:br>
            <a:r>
              <a:rPr b="0" lang="bg-BG" sz="1600" spc="-1" strike="noStrike">
                <a:solidFill>
                  <a:srgbClr val="ff0000"/>
                </a:solidFill>
                <a:latin typeface="Times New Roman"/>
              </a:rPr>
              <a:t>на национално ниво в Н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67652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вестиционен приоритет “Разработване на екологосъобразни и нисковъглеродни транспортни системи и насърчаване на устойчиво развита градска мобилнос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4382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Индикатори за проду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2514600"/>
            <a:ext cx="3124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дикатори за резулт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29718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99420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7. Инвестиционен приоритет “Подобряване на мобилността на регионално равнище посредством свързването на второстепенни и третостепенни възли с инфраструктурата на трансевропейската транспортна мрежа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952880"/>
            <a:ext cx="3441960" cy="6098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О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ща дължина на новопостроени и реконструирани пътища (к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4876920"/>
            <a:ext cx="4114800" cy="7617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величаване на дела на пътникопотока и товаропотока по TEN-T мрежата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НСИ не предоставя данни за TEN-T мреж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9528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7583400" y="168120"/>
            <a:ext cx="1103400" cy="12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152280" y="182880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49280" y="2895480"/>
            <a:ext cx="3429000" cy="762120"/>
          </a:xfrm>
          <a:prstGeom prst="rect">
            <a:avLst/>
          </a:prstGeom>
          <a:solidFill>
            <a:srgbClr val="99ccff">
              <a:alpha val="9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О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рой жители, които се ползват от мерки за защита от наводнения и свлачища не е общ инд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2819520"/>
            <a:ext cx="3801960" cy="9903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Times New Roman"/>
              </a:rPr>
              <a:t>Брой жители ползващи се от мерките за превенция на риск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bg-BG" sz="1600" spc="-1" strike="noStrike">
                <a:solidFill>
                  <a:srgbClr val="ff0000"/>
                </a:solidFill>
                <a:latin typeface="Times New Roman"/>
              </a:rPr>
              <a:t>НСИ не предоставя дан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676520"/>
            <a:ext cx="822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вестиционен приоритет “Насърчаване на инвестиции, предназначени за справяне със специфични рискове, осигуряване на устойчивост при бедствия и разработване на системи за управление на бедствия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30560" y="2971800"/>
            <a:ext cx="762120" cy="609480"/>
          </a:xfrm>
          <a:prstGeom prst="rightArrow">
            <a:avLst>
              <a:gd name="adj1" fmla="val 50000"/>
              <a:gd name="adj2" fmla="val 31261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4575960"/>
            <a:ext cx="81536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еличен БВП на регионално н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411480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9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Контекстуален индика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514600"/>
            <a:ext cx="2895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Индикатори за продукт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2514600"/>
            <a:ext cx="3124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ндикатори за резулт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103040" cy="12794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ндикатори по ОПРР 2014-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179280" y="1628640"/>
            <a:ext cx="87854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Иван По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66"/>
                </a:solidFill>
                <a:latin typeface="Arial"/>
              </a:rPr>
              <a:t>Началник на отдел „Програмиране, оценка, информация и публичност“, Главна дирекция „Програмиране на регионално развитие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prd@mrrb.government.b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Gerb"/>
          <p:cNvPicPr/>
          <p:nvPr/>
        </p:nvPicPr>
        <p:blipFill>
          <a:blip r:embed="rId3"/>
          <a:stretch/>
        </p:blipFill>
        <p:spPr>
          <a:xfrm>
            <a:off x="304920" y="228600"/>
            <a:ext cx="1430280" cy="1447920"/>
          </a:xfrm>
          <a:prstGeom prst="rect">
            <a:avLst/>
          </a:prstGeom>
          <a:ln w="0">
            <a:noFill/>
          </a:ln>
        </p:spPr>
      </p:pic>
      <p:sp>
        <p:nvSpPr>
          <p:cNvPr id="18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на регионалното развитие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устройството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7T07:03:30Z</dcterms:created>
  <dc:creator>Stefan Ivanov</dc:creator>
  <dc:description/>
  <dc:language>en-US</dc:language>
  <cp:lastModifiedBy>PopovI</cp:lastModifiedBy>
  <dcterms:modified xsi:type="dcterms:W3CDTF">2012-12-18T09:18:30Z</dcterms:modified>
  <cp:revision>744</cp:revision>
  <dc:subject/>
  <dc:title>Основни резултати от анализа  на регионалното социално-икономическо развитие  на България</dc:title>
</cp:coreProperties>
</file>