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1E3-96F5-44FF-BE24-0A0970250E49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П за регионално развитие ще допринесе главно за постигане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ратегическа цел 1: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„Икономическо сближаване в европейски, национален и вътрешнорегионален план чрез развитие на собствения потенциал на районите и опазване на околната среда”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ратегическа цел 2: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„Социално сближаване и намаляване на регионалните диспропорции в социалната сфера чрез създаване на условия за развитие и реализация на човешкия капитал”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ратегическа цел 4: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„Балансирано териториално развитие чрез укрепване на мрежата от градове-центрове, подобряване свързаността в районите и качеството на средата в населените места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допълнение, оперативната програма ще подкрепи и регионалното измерение на някои секторни политики, включени в секторните приоритети на Националната програма за развитие България 2020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оритет 1: „Подобряване на достъпа и повишаване на качеството на образованието и обучението и качествените характеристики на работната сила” – по отношение на здравна и образователна инфраструктура от регионално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оритет 2: „Намаляване на бедността и насърчаване на социалното включване” –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о отношение на социалната инфраструктура от регионално знач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оритет 6: Укрепване на институционалната среда за по-висока ефективност на публичните услуги за гражданите и бизнес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9A7-5AF9-4207-B64F-92C2E562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6AA-C8C0-4105-B5C8-D130B023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4A9-2E86-48D4-BE46-0704C673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CCE-1B31-4E87-B5D4-E6A9D3FF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421-C2D6-4CDF-BDB2-1D899E65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ABE-4F61-4F13-9B6D-907C3C89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AAA-41CE-4CA7-BFA1-0F8C696B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5FF-8DDC-424E-97F4-840416E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CCC-C4C0-43EE-ADFA-9E34D1F4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5F1-9A60-44C7-BC9B-0D6A5AE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A03-BBB1-408C-83C2-B9DF245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F1B-A466-48EA-82C2-B83212F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A285-FAD0-446B-B723-E32C69F5869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5238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alibri"/>
              </a:rPr>
              <a:t>Предварителна оценка на ОП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2014-2020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Calibri"/>
              </a:rPr>
              <a:t>Първи междинен до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Шесто заседание на Тематичната работна 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18 декември 2012 г.</a:t>
            </a:r>
            <a:r>
              <a:rPr b="1" lang="en-US" sz="16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гр.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Т.2.5 на Вариант 3 на ОПРР съдържа списък на избраните тематични цели и инвестиционни приоритети, но не е посочена връзката между избраните тематични цели/инвестиционни приоритети с идентифицираните нужди, каквото е предписанието на Фиш 5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876920" y="2286000"/>
            <a:ext cx="38862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Конкретната връзка между избраните тематични цели и съответните инвестиционни приоритети с идентифицираните нужди следва да бъде включена в текс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3962520" y="3886200"/>
            <a:ext cx="5057640" cy="2895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8"/>
          <p:cNvSpPr/>
          <p:nvPr/>
        </p:nvSpPr>
        <p:spPr>
          <a:xfrm>
            <a:off x="3794040" y="4602240"/>
            <a:ext cx="1006560" cy="5792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РР 2014-2020 е включен SWOT анализ, което също е сред положителните страни на анализа в програмата. Налице са възможности за подобряване на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4876920" y="2286000"/>
            <a:ext cx="3886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SWOT анализът следва да бъде преработен и да отчете идентифицираните възможности за подобрението 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обсъди възможността за включването на количествен SWOT анализ в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81480" y="3581280"/>
            <a:ext cx="358164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Като цяло между повечето предложени дейности, инвестиционни приоритети и специфични цели идентифицирани в ОПРР 2014-2020 има пряка връ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4038480" y="2286000"/>
            <a:ext cx="4724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преформулират / отпаднат / добавят някои от посочените в доклада специфични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Необходимо е в текста на ОПРР 2014-2020 да се включи допълнителна обосновка за връзките между някои дейности, инвестиционни приоритети и специфични цели, идентифицирани в настоящия доклад. По-специално внимание трябва да се отдели в този смисъл на подприоритет 3 и подприоритет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"/>
          <p:cNvPicPr/>
          <p:nvPr/>
        </p:nvPicPr>
        <p:blipFill>
          <a:blip r:embed="rId3"/>
          <a:stretch/>
        </p:blipFill>
        <p:spPr>
          <a:xfrm>
            <a:off x="0" y="1523880"/>
            <a:ext cx="9156600" cy="4876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5334120" y="4419720"/>
            <a:ext cx="2895480" cy="8380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387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257800" y="3505320"/>
            <a:ext cx="3733920" cy="1143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52280" y="3581280"/>
            <a:ext cx="4496040" cy="30481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" descr=""/>
          <p:cNvPicPr/>
          <p:nvPr/>
        </p:nvPicPr>
        <p:blipFill>
          <a:blip r:embed="rId1"/>
          <a:stretch/>
        </p:blipFill>
        <p:spPr>
          <a:xfrm>
            <a:off x="125280" y="1447920"/>
            <a:ext cx="8866440" cy="3951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 rot="16200000">
            <a:off x="6286320" y="3390120"/>
            <a:ext cx="1600200" cy="6098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"/>
          <p:cNvPicPr/>
          <p:nvPr/>
        </p:nvPicPr>
        <p:blipFill>
          <a:blip r:embed="rId1"/>
          <a:srcRect l="0" t="1249" r="0" b="0"/>
          <a:stretch/>
        </p:blipFill>
        <p:spPr>
          <a:xfrm>
            <a:off x="228600" y="76320"/>
            <a:ext cx="8493120" cy="56959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5105520" y="5715000"/>
            <a:ext cx="3581280" cy="106668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304920" y="1371600"/>
            <a:ext cx="4343400" cy="1143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990720" y="-9360"/>
            <a:ext cx="7324560" cy="6867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562720" y="3429000"/>
            <a:ext cx="2895480" cy="8380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Критериите „Специфичност”, „Измеримост” и „Релевантност” са взети под внимание и с някои изключения по отношение на „Специфичността“ са добре отразени в системата от индикато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4495680" y="2286000"/>
            <a:ext cx="41148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опълнително да се прецизират формулировките на част от индикатор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Където е приложимо, да се използват индикаторите посочени в проекта на Регламент за 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Програмирането и отчитането на индикаторите е сред един от сериозните проблеми при изпълнението на оперативните програми в периода 2007-2013 г., като предизвикателствата са отчетени също в Междинната оценка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4495680" y="2286000"/>
            <a:ext cx="4114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Разработване на специфичен Наръчник за индикаторите с цел преодоляване на част от трудностите при програмирането и отчитането на индикато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Раздел 2 на ОПРР 2014-2020 има наличие на текстове, които посочват съответствие с национални и европейски документи, но е необходимо анализът да се конкретиз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4495680" y="2286000"/>
            <a:ext cx="4114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добавят кратки елементи с пояснителен характер относно съответствията на програмата със стратегическите докумен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4"/>
          <a:srcRect l="31252" t="42971" r="21251" b="35939"/>
          <a:stretch/>
        </p:blipFill>
        <p:spPr>
          <a:xfrm>
            <a:off x="3124080" y="4191120"/>
            <a:ext cx="5791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исанието на индикаторите за продукт са включени индикатори за резул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4495680" y="2286000"/>
            <a:ext cx="411480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Следва да се разработят други индикатори за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Някои от посочените индикатори за продукт биха могли да се добавят към таблицата с индикатори за резул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добавят нови индикатори за резултат, съгласно направените в доклада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609480" y="1803240"/>
            <a:ext cx="7848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Индикатори за </a:t>
            </a:r>
            <a:r>
              <a:rPr b="1" lang="bg-BG" sz="1800" spc="-1" strike="noStrike" u="sng">
                <a:solidFill>
                  <a:srgbClr val="a50021"/>
                </a:solidFill>
                <a:uFillTx/>
                <a:latin typeface="Calibri"/>
              </a:rPr>
              <a:t>резул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ение на обем на бизнес инвестициите и ПЧИ в районите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ен брой на реализирани нощувки в районите (%) и Увеличени приходи от нощу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Намаляване дела на рано напусналите образование и обучение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аване броя на завършилите висше </a:t>
            </a: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образование лица на 30-3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Намаляване дела на умиранията от новообразования и болести на органите на кръвообращението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ен БВП на регионално 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228600" y="1523880"/>
          <a:ext cx="8763120" cy="3448080"/>
        </p:xfrm>
        <a:graphic>
          <a:graphicData uri="http://schemas.openxmlformats.org/drawingml/2006/table">
            <a:tbl>
              <a:tblPr/>
              <a:tblGrid>
                <a:gridCol w="6315120"/>
                <a:gridCol w="2448000"/>
              </a:tblGrid>
              <a:tr h="29700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ходен показател (продукт,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ент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42084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аквано намаляване на емисиите на парникови газове в CO2 еквивал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48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и обществени или търговски сгради в град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8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посещения на подпомогнатите спортни 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48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посещения на подпомогнатите  културни 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8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ъст на пътникопотока в подпомогнатия градски 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62712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на заетите с НИРД лица/научни работници, които работят в новопостроена или новооборудвана научноизследователск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48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посещения на подпомогнатите туристически 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pic>
        <p:nvPicPr>
          <p:cNvPr id="328" name="Picture 1" descr=""/>
          <p:cNvPicPr/>
          <p:nvPr/>
        </p:nvPicPr>
        <p:blipFill>
          <a:blip r:embed="rId4"/>
          <a:srcRect l="25001" t="57816" r="5002" b="24220"/>
          <a:stretch/>
        </p:blipFill>
        <p:spPr>
          <a:xfrm>
            <a:off x="228600" y="5105520"/>
            <a:ext cx="6897600" cy="1415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5"/>
          <a:srcRect l="41876" t="32034" r="23126" b="34378"/>
          <a:stretch/>
        </p:blipFill>
        <p:spPr>
          <a:xfrm>
            <a:off x="7218360" y="5105520"/>
            <a:ext cx="184932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609480" y="1447920"/>
            <a:ext cx="78487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Национална стратегия за регионално развитие – съдържа множество индикатори за продукт, които са приложими след преформулиране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Брой туристически атракции създадени/подобрени (бр.) – релевантен на ПП5 и ПО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Създадени и популяризирани туристически дестинации на база културно-историческо наследство (бр.) - релевантен на ПП5 и ПО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Брой модернизирани и реконструирани сгради и обекти на културата (бр.) – ПП5 и ПО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Брой изградени и реконструирани обекти инфраструктура за професионален спорт и спорт в свободното време (бр.) – П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Население, живеещо на територия с реализирани планове за интегрирано градско развитие /Брой/ - хоризонтален индик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Създадени/обновени градски зелени площи /% от зелените площи/ - П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28600" y="1066680"/>
            <a:ext cx="8785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Фокус гру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685800" y="1295280"/>
            <a:ext cx="77724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</a:rPr>
              <a:t>Фокус група с представители на Работна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</a:rPr>
              <a:t>Фокус група с бенефици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тората седмица на януари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10-11 участника във всяка работн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</a:rPr>
              <a:t>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индикатор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бюджета на програ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административния капацитет за изпълнение на програ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хоризонталните поли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Съгласно изискванията на Фиш 5А в текста на ОП трябва да намери отражение изискването да се направи описание какви са идентифицираните нужди в основни стратегически документи на национално/европейско ниво и дали те могат да се адресират с национални и регионални средства или е необходим принос от страна на 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4495680" y="2286000"/>
            <a:ext cx="411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 текста на ОПРР 2014-2020 да се посочат основните идентифицирани в стратегическите документи нужди и предизвикателства, както и необходимостта от финансова помощ от 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1981080" y="5486400"/>
            <a:ext cx="685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-голяма добавена стойност има демонстриране на връзка с идентифицирани нужди, отколкото с приоритетни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Стратегията, заложена в ОПРР се вписва в приоритетите на Териториалния  дневен ред 2020 на Европейския съюз, но документът е споменат бегло в текс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4495680" y="2286000"/>
            <a:ext cx="41148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обърне повече внимание върху Териториалния дневен ред 2020 при описанието на идентифицираните нужди на програмата (т.2.1 на ОПРР 2014-20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добави аргументация, която да поясни, че ПО4 „Регионален туризъм“ не съдържа дейности, които по някакъв начин може да доведат до превръщането на масовия туризъм в заплаха за културното и природното наслед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4952880" y="2209680"/>
            <a:ext cx="3810240" cy="15242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За целенасочена подкрепа в ОПРР 2014-2020 е определен целият Северозападен рай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495680" y="2286000"/>
            <a:ext cx="411480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С оглед на известните разминавания в критериите за райони за целенасочена подкрепа в националната/европейската рамка има нужда от допълване на обоснов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Също така, би следвало да се посочи в какво ще се изразява целенасочената подк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952880" y="2209680"/>
            <a:ext cx="3810240" cy="2743200"/>
          </a:xfrm>
          <a:prstGeom prst="rect">
            <a:avLst/>
          </a:prstGeom>
          <a:noFill/>
          <a:ln w="25560">
            <a:solidFill>
              <a:srgbClr val="9bbb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текста на проекта на ОПРР не е достатъчно изяснено какво ще бъде регионалното измерение на секторните политики по ПО2, ПО3 ПО4, ПО5 и ПО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4495680" y="2286000"/>
            <a:ext cx="4114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За конкретизиране на териториалното измерение на ОПРР 2014-2020 могат да се използват НСРР и регионалните планове за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952880" y="2209680"/>
            <a:ext cx="3810240" cy="1600200"/>
          </a:xfrm>
          <a:prstGeom prst="rect">
            <a:avLst/>
          </a:prstGeom>
          <a:noFill/>
          <a:ln w="25560">
            <a:solidFill>
              <a:srgbClr val="9bbb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самооценка във връзка с предварителни тематични условности не са включени всички специфични изисквания на ЕК, представени по отношение на договора за партньорство и имащи отношение към изпълнението на ОПРР 2014-20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4495680" y="2286000"/>
            <a:ext cx="4114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Необходимо е да бъдат отразени в следващите варианти на програмата, както и да се предвидят мерките и срокове за изпъл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РР 2014-2020 се предвижда предоставяне на подкрепа за енергийната ефективност в жилищни и обществени административни сгради в рамките на ПО 1 „Устойчиво и интегрирано градско развитие”, но избраният подход има известни недостатъц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4495680" y="2286000"/>
            <a:ext cx="41148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Мярка „Енергийна ефективност в жилищни сгради” да бъде отделена в отделна приоритетна ос на ОПРР 2014-2020 или по нея да не бъдат финансирани единствено сгради, които са в обособените социални зони за въз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РР 2014-2020 г. е включено описание на нуждите идентифицирани в социално-икономическия анализ на програмата. Включването на този анализ е сред положителните елементи на програмата, но са идентифицирани редица възможности за подобрението 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4191120" y="2217600"/>
            <a:ext cx="487656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цитират всички източници на използваните данни в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използват последните налични статистически да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 случай, че не бъде направена специфична връзка с идентифицираните нужди и целите на ОПРР, се препоръчва отделни текстове да отпаднат от социално-икономическия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 случай, че са идентифицирани нужди, които няма да бъдат адресирани по ОПРР, следва изрично да се поясни защо дейности в конкретния сектор няма да бъдат финансирани или да отпаднат от текста на ОПРР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03:30Z</dcterms:created>
  <dc:creator>Stefan Ivanov</dc:creator>
  <dc:description/>
  <dc:language>en-US</dc:language>
  <cp:lastModifiedBy>Ecorys-PC</cp:lastModifiedBy>
  <dcterms:modified xsi:type="dcterms:W3CDTF">2012-12-17T12:44:00Z</dcterms:modified>
  <cp:revision>848</cp:revision>
  <dc:subject/>
  <dc:title>Основни резултати от анализа  на регионалното социално-икономическо развитие  на България</dc:title>
</cp:coreProperties>
</file>