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4734-FE3A-4278-AC84-F1F3FB13F6D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Йерархичната система от градове-центрове, с влияние върху пространственото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1-во ниво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- столица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я,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център с европейско значение за националната територия - 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град от 4-та степен на ниво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tropolitan European Growth areas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GA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PON)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с население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1 291 591 жит. 17.5% от населението на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2-ро ниво</a:t>
            </a:r>
            <a:r>
              <a:rPr b="0" i="1" lang="bg-BG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големите градове, центрове с национално значение за територията на районите – Пловдив, Варна, Бургас, Русе, Плевен, Стара Загора – 6 бр. с население над 100 000 ж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3-то ниво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- средни градове, центрове с регионално значение за територията на областите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астни центрове и други изявени градове – 28 б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ява на градове балансьори, ограничаващи тенденциите за моноцентрично развитие – в националното пространство, в районите от ниво 2 и в област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5EE8-089E-4B1A-9896-A8FA0672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0DD8-1667-4812-B877-D38E4DF1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6EB-C9C3-4633-988B-0DD18C93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F31-E16B-4918-95F3-368AA698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164-6534-4F2A-BB0E-BC387140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BD4-F9ED-4948-A30C-B7733443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24E-47A7-4D02-AB54-D1BC0EE8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124-2D0D-42C1-B8E5-8894581E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CCD3-0F1B-4E7E-9934-7E0B4EC3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FB1-E609-48CB-B434-99E34B59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2F9-78F4-4037-AA72-C8FECFFA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0D2-6250-4155-A6D9-6A01F896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ционален център за териториално развитие Е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C9E4-746B-43D0-91C0-5DC500FAB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9840" y="1476360"/>
            <a:ext cx="84247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Arial"/>
              </a:rPr>
              <a:t>Бенефициенти по бъдещата програма за регионално развитие 2014-2020 г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4365360"/>
            <a:ext cx="733284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</a:rPr>
              <a:t>Шесто заседание на Тематична работна група за разработване на ОПРР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</a:rPr>
              <a:t> за периода 2014-2020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19194d"/>
                </a:solidFill>
                <a:latin typeface="Arial"/>
              </a:rPr>
              <a:t>Министерски съвет, Гранитна зала</a:t>
            </a:r>
            <a:r>
              <a:rPr b="0" lang="ru-RU" sz="2000" spc="-1" strike="noStrike">
                <a:solidFill>
                  <a:srgbClr val="19194d"/>
                </a:solidFill>
                <a:latin typeface="Arial"/>
              </a:rPr>
              <a:t>, 18.12.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ен център за териториално развитие Е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64F4-86A1-44AF-A508-B9952A208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1127160" y="6031080"/>
            <a:ext cx="92376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DAD-33E2-4E16-822F-20F4A48C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3_V6_Centers_Ver2020"/>
          <p:cNvPicPr/>
          <p:nvPr/>
        </p:nvPicPr>
        <p:blipFill>
          <a:blip r:embed="rId3"/>
          <a:stretch/>
        </p:blipFill>
        <p:spPr>
          <a:xfrm>
            <a:off x="784080" y="1476360"/>
            <a:ext cx="7739280" cy="5472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2063880" y="81432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1" lang="bg-BG" sz="3200" spc="-1" strike="noStrike">
                <a:solidFill>
                  <a:srgbClr val="002060"/>
                </a:solidFill>
                <a:latin typeface="Arial"/>
              </a:rPr>
              <a:t>Умерен полицентризъм</a:t>
            </a: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62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13C6-3B2E-4536-BB05-BF72C1851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2060"/>
                </a:solidFill>
                <a:latin typeface="Arial"/>
              </a:rPr>
              <a:t>Критерии за 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1335240"/>
            <a:ext cx="889308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Всички градове от 1, 2 и 3-то ниво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– 35 </a:t>
            </a: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б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Подкрепа на градовете от 4-то нив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положен на основна или второстепенна ос на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бслужващ център за повече от една об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Да подкрепя областния центъ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зположен в периферията, осъществяващ важни връзки със съседните ст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Оценка на обслужващи функц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700" spc="-1" strike="noStrike">
                <a:solidFill>
                  <a:srgbClr val="000000"/>
                </a:solidFill>
                <a:latin typeface="Arial"/>
              </a:rPr>
              <a:t>Допълнителни критер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5. Тенденции за преминаване в по-високо н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0320" indent="-4251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6. ЕКАТТЕ – 2 или 3-та 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381D-82D6-4D9E-9D3A-339F8764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89320" y="9795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Градове за подкрепа по ОП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C:\Users\Vesselina Troeva\AppData\Local\Temp\ARC6CEB\A3_OPRR_Var5_11.jpg"/>
          <p:cNvPicPr/>
          <p:nvPr/>
        </p:nvPicPr>
        <p:blipFill>
          <a:blip r:embed="rId3"/>
          <a:stretch/>
        </p:blipFill>
        <p:spPr>
          <a:xfrm>
            <a:off x="1001880" y="1473120"/>
            <a:ext cx="75596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57E7-4A01-4604-9E67-50C2B842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2060"/>
                </a:solidFill>
                <a:latin typeface="Arial"/>
              </a:rPr>
              <a:t>Групи от град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557360"/>
            <a:ext cx="844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Силни градов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критерии 1, 3, 4, 5 – да не дублират областния център – 14 б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Средни градов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4 от критерии 1, 3, 4, 5 и 6 – 7 б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Средни и малки градове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– стабилизираща роля в гранични територии – 3 от критерии 1, 2, 3, 4, 5 и 6 – 11 б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Общ брой 35 + 32 бр. =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67 б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B8A9-523C-4C91-AB32-577159D74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332000" y="78732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002060"/>
                </a:solidFill>
                <a:latin typeface="Arial"/>
              </a:rPr>
              <a:t>Пространствена решетка – центрове и оси на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BG_Poly_Buffer_3Blue5_NoLInk"/>
          <p:cNvPicPr/>
          <p:nvPr/>
        </p:nvPicPr>
        <p:blipFill>
          <a:blip r:embed="rId3"/>
          <a:stretch/>
        </p:blipFill>
        <p:spPr>
          <a:xfrm>
            <a:off x="971640" y="1763640"/>
            <a:ext cx="720072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sp>
        <p:nvSpPr>
          <p:cNvPr id="86" name="Footer Placeholder 1"/>
          <p:cNvSpPr/>
          <p:nvPr/>
        </p:nvSpPr>
        <p:spPr>
          <a:xfrm>
            <a:off x="1908000" y="6245280"/>
            <a:ext cx="5712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090D-EC18-4780-AD62-27FBAA508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589320" y="979560"/>
            <a:ext cx="72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Градове за подкрепа по ОП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900000" y="1441440"/>
            <a:ext cx="765504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0920" y="549360"/>
            <a:ext cx="813744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Проектът се финансира от ЕФРР и от държавния бюдж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2060"/>
                </a:solidFill>
                <a:latin typeface="Arial"/>
              </a:rPr>
              <a:t>на Република Бълг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bg-BG" sz="2800" spc="-1" strike="noStrike">
                <a:solidFill>
                  <a:srgbClr val="002060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ЦТР ЕАД ви пожелава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ВЕСЕЛИ ПРАЗНИЦИ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л. „Алабин“ №16-20, 5 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л. 029800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Факс 0298003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ice@ncrdhp.bg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332000" y="6165720"/>
            <a:ext cx="6264360" cy="617760"/>
            <a:chOff x="1332000" y="6165720"/>
            <a:chExt cx="6264360" cy="617760"/>
          </a:xfrm>
        </p:grpSpPr>
        <p:pic>
          <p:nvPicPr>
            <p:cNvPr id="93" name="Picture 4" descr=""/>
            <p:cNvPicPr/>
            <p:nvPr/>
          </p:nvPicPr>
          <p:blipFill>
            <a:blip r:embed="rId1"/>
            <a:stretch/>
          </p:blipFill>
          <p:spPr>
            <a:xfrm>
              <a:off x="1332000" y="6165720"/>
              <a:ext cx="796680" cy="6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Line 5"/>
            <p:cNvSpPr/>
            <p:nvPr/>
          </p:nvSpPr>
          <p:spPr>
            <a:xfrm>
              <a:off x="1332000" y="6707160"/>
              <a:ext cx="62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ooter Placeholder 7"/>
          <p:cNvSpPr/>
          <p:nvPr/>
        </p:nvSpPr>
        <p:spPr>
          <a:xfrm>
            <a:off x="2128680" y="6245280"/>
            <a:ext cx="5467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ен център за териториално развитие Е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69E4-2871-4770-94B3-97204CB2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50012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7812000" y="33336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763640" y="3976560"/>
            <a:ext cx="23767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14:15:49Z</dcterms:created>
  <dc:creator>DimovD</dc:creator>
  <dc:description/>
  <dc:language>en-US</dc:language>
  <cp:lastModifiedBy>VTroeva</cp:lastModifiedBy>
  <cp:lastPrinted>2012-10-19T23:03:31Z</cp:lastPrinted>
  <dcterms:modified xsi:type="dcterms:W3CDTF">2012-12-18T10:49:39Z</dcterms:modified>
  <cp:revision>200</cp:revision>
  <dc:subject/>
  <dc:title>Slide 1</dc:title>
</cp:coreProperties>
</file>