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2ACD-C059-4F30-873F-04B297F102B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Йерархичната система от градове-центрове, с влияние върху пространственото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1-во нив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- столица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я,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център с европейско значение за националната територия - 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град от 4-та степен на ниво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tropolitan European Growth areas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SPON)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с население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1 291 591 жит. 17.5% от населението на стран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2-ро ниво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големите градове, центрове с национално значение за територията на районите – Пловдив, Варна, Бургас, Русе, Плевен, Стара Загора – 6 бр. с население над 100 000 ж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3-то ниво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- средни градове, центрове с регионално значение за територията на областите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ни центрове и други изявени градове – 28 б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ява на градове балансьори, ограничаващи тенденциите за моноцентрично развитие – в националното пространство, в районите от ниво 2 и в облас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Йерархичната система от градове-центрове, с влияние върху пространственото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1-во нив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- столица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я,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център с европейско значение за националната територия - 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град от 4-та степен на ниво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tropolitan European Growth areas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SPON)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с население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1 291 591 жит. 17.5% от населението на стран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2-ро ниво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големите градове, центрове с национално значение за територията на районите – Пловдив, Варна, Бургас, Русе, Плевен, Стара Загора – 6 бр. с население над 100 000 ж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3-то ниво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- средни градове, центрове с регионално значение за територията на областите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ни центрове и други изявени градове – 28 б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ява на градове балансьори, ограничаващи тенденциите за моноцентрично развитие – в националното пространство, в районите от ниво 2 и в облас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Йерархичната система от градове-центрове, с влияние върху пространственото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1-во нив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- столица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я,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център с европейско значение за националната територия - 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град от 4-та степен на ниво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tropolitan European Growth areas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SPON)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с население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1 291 591 жит. 17.5% от населението на стран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2-ро ниво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големите градове, центрове с национално значение за територията на районите – Пловдив, Варна, Бургас, Русе, Плевен, Стара Загора – 6 бр. с население над 100 000 ж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3-то ниво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- средни градове, центрове с регионално значение за територията на областите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ни центрове и други изявени градове – 28 б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ява на градове балансьори, ограничаващи тенденциите за моноцентрично развитие – в националното пространство, в районите от ниво 2 и в облас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Йерархичната система от градове-центрове, с влияние върху пространственото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1-во нив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- столица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я,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център с европейско значение за националната територия - 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град от 4-та степен на ниво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tropolitan European Growth areas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SPON)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с население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1 291 591 жит. 17.5% от населението на стран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2-ро ниво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големите градове, центрове с национално значение за територията на районите – Пловдив, Варна, Бургас, Русе, Плевен, Стара Загора – 6 бр. с население над 100 000 ж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3-то ниво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- средни градове, центрове с регионално значение за територията на областите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ни центрове и други изявени градове – 28 б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ява на градове балансьори, ограничаващи тенденциите за моноцентрично развитие – в националното пространство, в районите от ниво 2 и в облас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Йерархичната система от градове-центрове, с влияние върху пространственото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1-во нив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- столица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я,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център с европейско значение за националната територия - 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град от 4-та степен на ниво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tropolitan European Growth areas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SPON)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с население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1 291 591 жит. 17.5% от населението на стран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2-ро ниво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големите градове, центрове с национално значение за територията на районите – Пловдив, Варна, Бургас, Русе, Плевен, Стара Загора – 6 бр. с население над 100 000 ж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3-то ниво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- средни градове, центрове с регионално значение за територията на областите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ни центрове и други изявени градове – 28 б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ява на градове балансьори, ограничаващи тенденциите за моноцентрично развитие – в националното пространство, в районите от ниво 2 и в облас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681-BF61-4D7F-B805-5922B4AA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CAE-3A54-48FD-9DCF-2F34702C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887-B934-4AB0-8DB0-3E518462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588-FDA2-4BE8-BDF3-0269C26F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FFD-C48E-497F-AA84-68E6BDFD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E54-A72F-4978-B131-647DA613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6FA-4C1E-4C66-96C5-BDD64261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B92-E97B-4BDD-B7D4-0812D5C6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1057-6970-439A-A01F-44994E39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E22-5905-4A25-9F8B-0BF1CC25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BBD-DF78-40A3-BD09-F159886B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1AD-C60E-4981-AFE7-602D02D9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ен център за териториално развитие Е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615B-C4D3-4623-B128-8BC650811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9840" y="1476360"/>
            <a:ext cx="842472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Arial"/>
              </a:rPr>
              <a:t>Бенефициенти по бъдещата програма за регионално развитие 2014-2020 г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4365360"/>
            <a:ext cx="733284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9194d"/>
                </a:solidFill>
                <a:latin typeface="Arial"/>
              </a:rPr>
              <a:t>Шесто заседание на Тематична работна група за разработване на ОПРР</a:t>
            </a:r>
            <a:r>
              <a:rPr b="0" lang="ru-RU" sz="2000" spc="-1" strike="noStrike">
                <a:solidFill>
                  <a:srgbClr val="19194d"/>
                </a:solidFill>
                <a:latin typeface="Arial"/>
              </a:rPr>
              <a:t> за периода 2014-202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9194d"/>
                </a:solidFill>
                <a:latin typeface="Arial"/>
              </a:rPr>
              <a:t>Министерски съвет, Гранитна зала</a:t>
            </a:r>
            <a:r>
              <a:rPr b="0" lang="ru-RU" sz="2000" spc="-1" strike="noStrike">
                <a:solidFill>
                  <a:srgbClr val="19194d"/>
                </a:solidFill>
                <a:latin typeface="Arial"/>
              </a:rPr>
              <a:t>, 18.12.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1"/>
          <p:cNvSpPr/>
          <p:nvPr/>
        </p:nvSpPr>
        <p:spPr>
          <a:xfrm>
            <a:off x="1908000" y="6245280"/>
            <a:ext cx="571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ен център за териториално развитие Е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86EB-5E71-4FCE-8A98-1790A305B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1127160" y="6031080"/>
            <a:ext cx="92376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7812000" y="33336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56" name="Footer Placeholder 1"/>
          <p:cNvSpPr/>
          <p:nvPr/>
        </p:nvSpPr>
        <p:spPr>
          <a:xfrm>
            <a:off x="1908000" y="6245280"/>
            <a:ext cx="571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3CE5-5088-47E3-8ABE-D5D821C81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3_V6_Centers_Ver2020"/>
          <p:cNvPicPr/>
          <p:nvPr/>
        </p:nvPicPr>
        <p:blipFill>
          <a:blip r:embed="rId3"/>
          <a:stretch/>
        </p:blipFill>
        <p:spPr>
          <a:xfrm>
            <a:off x="784080" y="1476360"/>
            <a:ext cx="7739280" cy="5472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2063880" y="8143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1" lang="bg-BG" sz="3200" spc="-1" strike="noStrike">
                <a:solidFill>
                  <a:srgbClr val="002060"/>
                </a:solidFill>
                <a:latin typeface="Arial"/>
              </a:rPr>
              <a:t>Умерен полицентризъм</a:t>
            </a:r>
            <a:r>
              <a:rPr b="1" lang="bg-BG" sz="2800" spc="-1" strike="noStrike">
                <a:solidFill>
                  <a:srgbClr val="00206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62" name="Footer Placeholder 1"/>
          <p:cNvSpPr/>
          <p:nvPr/>
        </p:nvSpPr>
        <p:spPr>
          <a:xfrm>
            <a:off x="1908000" y="6245280"/>
            <a:ext cx="571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92AE-D0EA-4CA7-BEE2-7ED251EAD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2060"/>
                </a:solidFill>
                <a:latin typeface="Arial"/>
              </a:rPr>
              <a:t>Критерии за 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1335240"/>
            <a:ext cx="889308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Arial"/>
              </a:rPr>
              <a:t>Всички градове от 1, 2 и 3-то ниво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– 35 </a:t>
            </a:r>
            <a:r>
              <a:rPr b="0" lang="bg-BG" sz="2700" spc="-1" strike="noStrike">
                <a:solidFill>
                  <a:srgbClr val="000000"/>
                </a:solidFill>
                <a:latin typeface="Arial"/>
              </a:rPr>
              <a:t>бр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Arial"/>
              </a:rPr>
              <a:t>Подкрепа на градовете от 4-то нив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азположен на основна или второстепенна ос на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бслужващ център за повече от една об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а подкрепя областния центъ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азположен в периферията, осъществяващ важни връзки със съседните ст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Arial"/>
              </a:rPr>
              <a:t>Оценка на обслужващи функц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Arial"/>
              </a:rPr>
              <a:t>Допълнителни крите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5. Тенденции за преминаване в по-високо н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6. ЕКАТТЕ – 2 или 3-та катег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68" name="Footer Placeholder 1"/>
          <p:cNvSpPr/>
          <p:nvPr/>
        </p:nvSpPr>
        <p:spPr>
          <a:xfrm>
            <a:off x="1908000" y="6245280"/>
            <a:ext cx="571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4B4D-DBD3-4E81-96EF-4187E8772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589320" y="9795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Градове за подкрепа по ОПР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C:\Users\Vesselina Troeva\AppData\Local\Temp\ARC6CEB\A3_OPRR_Var5_11.jpg"/>
          <p:cNvPicPr/>
          <p:nvPr/>
        </p:nvPicPr>
        <p:blipFill>
          <a:blip r:embed="rId3"/>
          <a:stretch/>
        </p:blipFill>
        <p:spPr>
          <a:xfrm>
            <a:off x="1001880" y="1473120"/>
            <a:ext cx="75596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1"/>
          <p:cNvSpPr/>
          <p:nvPr/>
        </p:nvSpPr>
        <p:spPr>
          <a:xfrm>
            <a:off x="1908000" y="6245280"/>
            <a:ext cx="571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B775-01CE-486D-AC36-FACFF2EBD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2060"/>
                </a:solidFill>
                <a:latin typeface="Arial"/>
              </a:rPr>
              <a:t>Групи от град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557360"/>
            <a:ext cx="844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Силни градов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критерии 1, 3, 4, 5 – да не дублират областния център – 14 б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Средни градов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4 от критерии 1, 3, 4, 5 и 6 – 7 б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Средни и малки градов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стабилизираща роля в гранични територии – 3 от критерии 1, 2, 3, 4, 5 и 6 – 11 б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бщ брой 35 + 32 бр. =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67 б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80" name="Footer Placeholder 1"/>
          <p:cNvSpPr/>
          <p:nvPr/>
        </p:nvSpPr>
        <p:spPr>
          <a:xfrm>
            <a:off x="1908000" y="6245280"/>
            <a:ext cx="571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6F8C-76CE-4911-A85A-AED93F5E4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1332000" y="7873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002060"/>
                </a:solidFill>
                <a:latin typeface="Arial"/>
              </a:rPr>
              <a:t>Пространствена решетка – центрове и оси на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BG_Poly_Buffer_3Blue5_NoLInk"/>
          <p:cNvPicPr/>
          <p:nvPr/>
        </p:nvPicPr>
        <p:blipFill>
          <a:blip r:embed="rId3"/>
          <a:stretch/>
        </p:blipFill>
        <p:spPr>
          <a:xfrm>
            <a:off x="971640" y="1763640"/>
            <a:ext cx="720072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86" name="Footer Placeholder 1"/>
          <p:cNvSpPr/>
          <p:nvPr/>
        </p:nvSpPr>
        <p:spPr>
          <a:xfrm>
            <a:off x="1908000" y="6245280"/>
            <a:ext cx="571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ADB8-7FA3-4056-B7A4-B424DFB80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589320" y="9795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Градове за подкрепа по ОПР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0000" y="1441440"/>
            <a:ext cx="765504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0920" y="549360"/>
            <a:ext cx="813744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Проектът се финансира от ЕФРР и от държавния бюдж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на Република Бълг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bg-BG" sz="2800" spc="-1" strike="noStrike">
                <a:solidFill>
                  <a:srgbClr val="002060"/>
                </a:solidFill>
                <a:latin typeface="Arial"/>
              </a:rPr>
              <a:t>БЛАГОДАРЯ ЗА ВНИМАНИЕ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ЦТР ЕАД ви пожелава </a:t>
            </a: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ВЕСЕЛИ ПРАЗНИЦ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л. „Алабин“ №16-20, 5 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л. 0298003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кс 0298003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@ncrdhp.bg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1332000" y="6165720"/>
            <a:ext cx="6264360" cy="617760"/>
            <a:chOff x="1332000" y="6165720"/>
            <a:chExt cx="6264360" cy="617760"/>
          </a:xfrm>
        </p:grpSpPr>
        <p:pic>
          <p:nvPicPr>
            <p:cNvPr id="93" name="Picture 4" descr=""/>
            <p:cNvPicPr/>
            <p:nvPr/>
          </p:nvPicPr>
          <p:blipFill>
            <a:blip r:embed="rId1"/>
            <a:stretch/>
          </p:blipFill>
          <p:spPr>
            <a:xfrm>
              <a:off x="1332000" y="6165720"/>
              <a:ext cx="796680" cy="6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Line 5"/>
            <p:cNvSpPr/>
            <p:nvPr/>
          </p:nvSpPr>
          <p:spPr>
            <a:xfrm>
              <a:off x="1332000" y="6707160"/>
              <a:ext cx="62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Footer Placeholder 7"/>
          <p:cNvSpPr/>
          <p:nvPr/>
        </p:nvSpPr>
        <p:spPr>
          <a:xfrm>
            <a:off x="2128680" y="6245280"/>
            <a:ext cx="5467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ен център за териториално развитие Е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EB7C-24EA-49B1-9785-F33A48424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7812000" y="33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763640" y="3976560"/>
            <a:ext cx="23767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14:15:49Z</dcterms:created>
  <dc:creator>DimovD</dc:creator>
  <dc:description/>
  <dc:language>en-US</dc:language>
  <cp:lastModifiedBy>VTroeva</cp:lastModifiedBy>
  <cp:lastPrinted>2012-10-19T23:03:31Z</cp:lastPrinted>
  <dcterms:modified xsi:type="dcterms:W3CDTF">2012-12-18T10:49:39Z</dcterms:modified>
  <cp:revision>200</cp:revision>
  <dc:subject/>
  <dc:title>Slide 1</dc:title>
</cp:coreProperties>
</file>