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981-D725-4530-BD6A-36B1B08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020-5ADF-4BEC-9596-312EFA3E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6FD4-6C5A-4734-B2E7-C4B2C589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015-E796-498A-87AC-0003AFBA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910-E0FF-410E-B210-B3643DC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08E-FFD4-4926-9DDE-9014C8B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A2A-4409-4E98-8F58-5C153451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CA3-500B-4B3D-A88B-7382CEBF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432-D77C-46C1-9CB0-8D95023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32D-8E02-4578-9A62-CEBA6D4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547-9D95-486A-9C5E-6257208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413-D149-4E3D-9507-28E63053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D7FD-794B-4B8B-AA20-B992C5249E5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gregio.eu/programirane-i-otsenka/programirane-2014-2020.aspx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mailto:oprd@mrrb.government.bg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80808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Calibri"/>
                <a:ea typeface="Arial"/>
              </a:rPr>
              <a:t>Структура и промени във финализирания първи вариант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Calibri"/>
                <a:ea typeface="Arial"/>
              </a:rPr>
              <a:t>Оперативна програма “Региони в расте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Calibri"/>
                <a:ea typeface="Arial"/>
              </a:rPr>
              <a:t>2014-2020 г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18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  <a:ea typeface="Arial"/>
              </a:rPr>
              <a:t>декември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 2012 г.</a:t>
            </a:r>
            <a:r>
              <a:rPr b="1" lang="en-US" sz="1600" spc="-1" strike="noStrike">
                <a:solidFill>
                  <a:srgbClr val="000066"/>
                </a:solidFill>
                <a:latin typeface="Calibri"/>
                <a:ea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Calibri"/>
                <a:ea typeface="Arial"/>
              </a:rPr>
              <a:t>гр.Соф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Calibri"/>
                <a:ea typeface="Arial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Gerb"/>
          <p:cNvPicPr/>
          <p:nvPr/>
        </p:nvPicPr>
        <p:blipFill>
          <a:blip r:embed="rId1"/>
          <a:stretch/>
        </p:blipFill>
        <p:spPr>
          <a:xfrm>
            <a:off x="380880" y="228600"/>
            <a:ext cx="1430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1: Информация относно подготовката на ОПРР 2014-2020 г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773360"/>
            <a:ext cx="2160720" cy="9349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ие на партньорите и проведени консул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2140560" y="2188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1844640"/>
            <a:ext cx="2160360" cy="8636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ътрудничество с комисията и националните институ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92720" y="1844640"/>
            <a:ext cx="2232000" cy="8636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готвителни дейности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кл. предварителна оценк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4516920" y="2188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80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2: Стратегия за приноса на ОПРР към стратегия Европа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213000"/>
            <a:ext cx="223200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ъответствие с нуждите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Националната програма за реформи и друг стратегически докумен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3213000"/>
            <a:ext cx="223200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новни нужди и изводи идентифицирани в социално-икономическия 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2140920" y="3556440"/>
            <a:ext cx="126180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588560" y="3628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213000"/>
            <a:ext cx="223236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OT 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869000"/>
            <a:ext cx="223236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рани тематични цели и инвестиционни приорите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4869000"/>
            <a:ext cx="2232000" cy="93636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огиката на интервенции и инвестиционна стратегия на програм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 rot="9430800">
            <a:off x="2985480" y="4651200"/>
            <a:ext cx="2811240" cy="314280"/>
          </a:xfrm>
          <a:prstGeom prst="rightArrow">
            <a:avLst>
              <a:gd name="adj1" fmla="val 77870"/>
              <a:gd name="adj2" fmla="val 3503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ctr" anchorCtr="1">
            <a:no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32000" y="5373720"/>
            <a:ext cx="1368720" cy="318960"/>
          </a:xfrm>
          <a:prstGeom prst="rightArrow">
            <a:avLst>
              <a:gd name="adj1" fmla="val 77870"/>
              <a:gd name="adj2" fmla="val 16807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0" bIns="0" anchor="ctr" anchorCtr="1">
            <a:noAutofit/>
          </a:bodyPr>
          <a:p>
            <a:pPr algn="ct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4400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440000" cy="944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3: Обосновка на п</a:t>
            </a:r>
            <a:r>
              <a:rPr b="1" lang="bg-BG" sz="1800" spc="-1" strike="noStrike">
                <a:solidFill>
                  <a:srgbClr val="0000cc"/>
                </a:solidFill>
                <a:latin typeface="Arial"/>
              </a:rPr>
              <a:t>риоритетните ос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1871640" cy="143964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яне на инвестиционните приоритети и описание на съответстващите специфични цел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3645000"/>
            <a:ext cx="82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4: Принос към интегрираното териториалн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4437000"/>
            <a:ext cx="237636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ланираният подход за устойчиво интегрирано градско развит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4437000"/>
            <a:ext cx="266364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исъкът от градовете, където ще се изпълняват интегрирани дейности за устойчиво градско развит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1635840" y="240408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5380560" y="225972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11280" y="1844640"/>
            <a:ext cx="1871640" cy="144000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исък на индикаторите за резултат, по инвестиционни приорите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844640"/>
            <a:ext cx="1871640" cy="144000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йности за подкрепа за постигане на специфичните цели и съответстващите изходни показат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3725280" y="2475360"/>
            <a:ext cx="126180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1844640"/>
            <a:ext cx="1871640" cy="144000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тегории на интервенци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5812920" y="2475360"/>
            <a:ext cx="126180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4437000"/>
            <a:ext cx="2663640" cy="936720"/>
          </a:xfrm>
          <a:prstGeom prst="rect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потребата на интегрирани териториални инвести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2140560" y="478044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5020200" y="4780440"/>
            <a:ext cx="1262160" cy="14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395280" y="0"/>
            <a:ext cx="11034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76364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440000" cy="944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34136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5: Хоризонтални принц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3429000"/>
            <a:ext cx="82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6: Разпоредби относно изпълн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205000"/>
            <a:ext cx="6696000" cy="576360"/>
          </a:xfrm>
          <a:prstGeom prst="rightArrow">
            <a:avLst>
              <a:gd name="adj1" fmla="val 50000"/>
              <a:gd name="adj2" fmla="val 2679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и възможности и не-дискримина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557360"/>
            <a:ext cx="6696000" cy="576360"/>
          </a:xfrm>
          <a:prstGeom prst="rightArrow">
            <a:avLst>
              <a:gd name="adj1" fmla="val 50000"/>
              <a:gd name="adj2" fmla="val 2679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852640"/>
            <a:ext cx="6696000" cy="576360"/>
          </a:xfrm>
          <a:prstGeom prst="rightArrow">
            <a:avLst>
              <a:gd name="adj1" fmla="val 50000"/>
              <a:gd name="adj2" fmla="val 26796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енство между полове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1727280" cy="2881440"/>
          </a:xfrm>
          <a:prstGeom prst="rightArrow">
            <a:avLst>
              <a:gd name="adj1" fmla="val 48648"/>
              <a:gd name="adj2" fmla="val 47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мка за изпъл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860640"/>
            <a:ext cx="1727280" cy="2881440"/>
          </a:xfrm>
          <a:prstGeom prst="rightArrow">
            <a:avLst>
              <a:gd name="adj1" fmla="val 48648"/>
              <a:gd name="adj2" fmla="val 47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варител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08720" y="3789360"/>
            <a:ext cx="1727280" cy="2881440"/>
          </a:xfrm>
          <a:prstGeom prst="rightArrow">
            <a:avLst>
              <a:gd name="adj1" fmla="val 48648"/>
              <a:gd name="adj2" fmla="val 47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олята на партньор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324000" y="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908000" y="549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557360"/>
            <a:ext cx="882504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7: Разпоредби за ефективно изпъ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1 Дейности за намаляване на административната тежест за бенефици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2 Списък с Големи проек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8: Финансов пл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1 Разпределение на средствата по годи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2 Разпределение на средствата по приоритетни о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дел 9: Институции, отговорни за управлението, контрола и оди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редитиращ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ващ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тифициращ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just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тен орг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7596360" y="404640"/>
            <a:ext cx="1439640" cy="94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8"/>
          <p:cNvSpPr/>
          <p:nvPr/>
        </p:nvSpPr>
        <p:spPr>
          <a:xfrm>
            <a:off x="1547640" y="1268280"/>
            <a:ext cx="759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908000" y="549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ahoma"/>
              </a:rPr>
              <a:t>Структура и елементи на оперативната програма - при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1916280"/>
            <a:ext cx="860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1: Резюме за изпълнение на предварителната оцен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2: Списък на градовете за подкрепа по ОПРР 2014-2020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ложение 3: Социално-икономически анализ за нуждите на оперативна програма за регионално развитие за програмен период 2014-2020г.: </a:t>
            </a:r>
            <a:r>
              <a:rPr b="0" lang="bg-BG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gregio.eu/programirane-i-otsenka/programirane-2014-2020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440000" cy="94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1103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Иван Поп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0066"/>
                </a:solidFill>
                <a:latin typeface="Arial"/>
              </a:rPr>
              <a:t>Началник на отдел „Програмиране, оценка, информация и публичност“, Главна дирекция „Програмиране на регионално развитие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Gerb"/>
          <p:cNvPicPr/>
          <p:nvPr/>
        </p:nvPicPr>
        <p:blipFill>
          <a:blip r:embed="rId3"/>
          <a:stretch/>
        </p:blipFill>
        <p:spPr>
          <a:xfrm>
            <a:off x="304920" y="228600"/>
            <a:ext cx="1430280" cy="1447920"/>
          </a:xfrm>
          <a:prstGeom prst="rect">
            <a:avLst/>
          </a:prstGeom>
          <a:ln w="0">
            <a:noFill/>
          </a:ln>
        </p:spPr>
      </p:pic>
      <p:sp>
        <p:nvSpPr>
          <p:cNvPr id="10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на регионалното развитие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устройството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07:28Z</dcterms:created>
  <dc:creator>RusevaA</dc:creator>
  <dc:description/>
  <dc:language>en-US</dc:language>
  <cp:lastModifiedBy>BogdanovM</cp:lastModifiedBy>
  <dcterms:modified xsi:type="dcterms:W3CDTF">2012-12-18T09:00:45Z</dcterms:modified>
  <cp:revision>141</cp:revision>
  <dc:subject/>
  <dc:title>Slide 1</dc:title>
</cp:coreProperties>
</file>