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FC6-5FE3-4DD0-8611-9A404D4A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3D1-2BE4-48F2-B442-876CE9EE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691-3224-475E-85E5-A3B05C2E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ABE-48FD-450E-827C-98C97E49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19D-2F03-40CA-BBF6-5A9F1859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47F6-4D75-415F-A20F-D0E857A0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856-F5B7-41F1-8289-F4EC8A70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78A-8998-447F-A036-8196353C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3226-E750-4931-9BE7-8F5EE9DA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994F-E3F2-4BC6-8DD2-4FA07D18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D7D-A9C2-462D-BF09-59382A4F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8CA9-A3DD-470C-B5E5-0D4CA1D7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33AF-1ED1-4485-A9FA-6D2785AE16A9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gregio.eu/programirane-i-otsenka/programirane-2014-2020.aspx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gregio.eu/" TargetMode="External"/><Relationship Id="rId2" Type="http://schemas.openxmlformats.org/officeDocument/2006/relationships/hyperlink" Target="mailto:oprd@mrrb.government.bg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808080"/>
                </a:solidFill>
                <a:latin typeface="Calibri"/>
                <a:ea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Calibri"/>
                <a:ea typeface="Arial"/>
              </a:rPr>
              <a:t>Структура и промени във финализирания първи вариант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Calibri"/>
                <a:ea typeface="Arial"/>
              </a:rPr>
              <a:t>Оперативна програма “Региони в расте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Calibri"/>
                <a:ea typeface="Arial"/>
              </a:rPr>
              <a:t>2014-2020 г.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18</a:t>
            </a:r>
            <a:r>
              <a:rPr b="1" lang="bg-BG" sz="1600" spc="-1" strike="noStrike">
                <a:solidFill>
                  <a:srgbClr val="000066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декември</a:t>
            </a:r>
            <a:r>
              <a:rPr b="1" lang="bg-BG" sz="1600" spc="-1" strike="noStrike">
                <a:solidFill>
                  <a:srgbClr val="000066"/>
                </a:solidFill>
                <a:latin typeface="Calibri"/>
                <a:ea typeface="Arial"/>
              </a:rPr>
              <a:t> 2012 г.</a:t>
            </a:r>
            <a:r>
              <a:rPr b="1" lang="en-US" sz="1600" spc="-1" strike="noStrike">
                <a:solidFill>
                  <a:srgbClr val="000066"/>
                </a:solidFill>
                <a:latin typeface="Calibri"/>
                <a:ea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Calibri"/>
                <a:ea typeface="Arial"/>
              </a:rPr>
              <a:t>гр.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Calibri"/>
                <a:ea typeface="Arial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Calibri"/>
                <a:ea typeface="Arial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на регионалното развитие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устройството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Gerb"/>
          <p:cNvPicPr/>
          <p:nvPr/>
        </p:nvPicPr>
        <p:blipFill>
          <a:blip r:embed="rId1"/>
          <a:stretch/>
        </p:blipFill>
        <p:spPr>
          <a:xfrm>
            <a:off x="380880" y="228600"/>
            <a:ext cx="1430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8"/>
          <p:cNvSpPr/>
          <p:nvPr/>
        </p:nvSpPr>
        <p:spPr>
          <a:xfrm>
            <a:off x="1547640" y="1268280"/>
            <a:ext cx="759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763640" y="620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Структура и елементи на оперативната п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341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дел 1: Информация относно подготовката на ОПРР 2014-2020 г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773360"/>
            <a:ext cx="2160720" cy="93492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стие на партньорите и проведени консул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2140560" y="2188080"/>
            <a:ext cx="126216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1844640"/>
            <a:ext cx="2160360" cy="86364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ътрудничество с комисията и националните институ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92720" y="1844640"/>
            <a:ext cx="2232000" cy="86364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готвителни дейности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кл. предварителна оценк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4516920" y="2188080"/>
            <a:ext cx="126216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80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дел 2: Стратегия за приноса на ОПРР към стратегия Европа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3213000"/>
            <a:ext cx="2232000" cy="93672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ъответствие с нуждит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Националната програма за реформи и друг стратегически докумен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3213000"/>
            <a:ext cx="2232000" cy="93672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новни нужди и изводи идентифицирани в социално-икономическия анал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2140920" y="3556440"/>
            <a:ext cx="126180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4588560" y="3628080"/>
            <a:ext cx="126216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3213000"/>
            <a:ext cx="2232360" cy="93672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OT анал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4869000"/>
            <a:ext cx="2232360" cy="93636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брани тематични цели и инвестиционни приорите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4869000"/>
            <a:ext cx="2232000" cy="93636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огиката на интервенции и инвестиционна стратегия на програм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9430800">
            <a:off x="2985480" y="4651200"/>
            <a:ext cx="2811240" cy="314280"/>
          </a:xfrm>
          <a:prstGeom prst="rightArrow">
            <a:avLst>
              <a:gd name="adj1" fmla="val 77870"/>
              <a:gd name="adj2" fmla="val 35034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ctr" anchorCtr="1">
            <a:noAutofit/>
          </a:bodyPr>
          <a:p>
            <a:pPr algn="ct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32000" y="5373720"/>
            <a:ext cx="1368720" cy="318960"/>
          </a:xfrm>
          <a:prstGeom prst="rightArrow">
            <a:avLst>
              <a:gd name="adj1" fmla="val 77870"/>
              <a:gd name="adj2" fmla="val 1680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ctr" anchorCtr="1">
            <a:noAutofit/>
          </a:bodyPr>
          <a:p>
            <a:pPr algn="ct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>
            <a:off x="7524720" y="260280"/>
            <a:ext cx="14400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8"/>
          <p:cNvSpPr/>
          <p:nvPr/>
        </p:nvSpPr>
        <p:spPr>
          <a:xfrm>
            <a:off x="1547640" y="1268280"/>
            <a:ext cx="759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763640" y="620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Структура и елементи на оперативната п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440000" cy="944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1341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дел 3: Обосновка на п</a:t>
            </a:r>
            <a:r>
              <a:rPr b="1" lang="bg-BG" sz="1800" spc="-1" strike="noStrike">
                <a:solidFill>
                  <a:srgbClr val="0000cc"/>
                </a:solidFill>
                <a:latin typeface="Arial"/>
              </a:rPr>
              <a:t>риоритетните ос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773360"/>
            <a:ext cx="1871640" cy="143964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ределяне на инвестиционните приоритети и описание на съответстващите специфични цел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3645000"/>
            <a:ext cx="82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дел 4: Принос към интегрираното териториалн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4437000"/>
            <a:ext cx="2376360" cy="93672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ланираният подход за устойчиво интегрирано градско развит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4437000"/>
            <a:ext cx="2663640" cy="93672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исъкът от градовете, където ще се изпълняват интегрирани дейности за устойчиво градско развит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1635840" y="2404080"/>
            <a:ext cx="126216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5380560" y="2259720"/>
            <a:ext cx="126216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1844640"/>
            <a:ext cx="1871640" cy="144000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исък на индикаторите за резултат, по инвестиционни приорите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1844640"/>
            <a:ext cx="1871640" cy="144000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йности за подкрепа за постигане на специфичните цели и съответстващите изходни показате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3725280" y="2475360"/>
            <a:ext cx="126180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88000" y="1844640"/>
            <a:ext cx="1871640" cy="144000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тегории на интервенци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5812920" y="2475360"/>
            <a:ext cx="126180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6000" y="4437000"/>
            <a:ext cx="2663640" cy="93672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потребата на интегрирани териториални инвести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2140560" y="4780440"/>
            <a:ext cx="126216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5020200" y="4780440"/>
            <a:ext cx="126216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395280" y="0"/>
            <a:ext cx="11034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8"/>
          <p:cNvSpPr/>
          <p:nvPr/>
        </p:nvSpPr>
        <p:spPr>
          <a:xfrm>
            <a:off x="1547640" y="1268280"/>
            <a:ext cx="759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763640" y="620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Структура и елементи на оперативната п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440000" cy="944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1341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дел 5: Хоризонтални принци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3429000"/>
            <a:ext cx="82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дел 6: Разпоредби относно изпълнени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205000"/>
            <a:ext cx="6696000" cy="576360"/>
          </a:xfrm>
          <a:prstGeom prst="rightArrow">
            <a:avLst>
              <a:gd name="adj1" fmla="val 50000"/>
              <a:gd name="adj2" fmla="val 2679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и възможности и не-дискримина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557360"/>
            <a:ext cx="6696000" cy="576360"/>
          </a:xfrm>
          <a:prstGeom prst="rightArrow">
            <a:avLst>
              <a:gd name="adj1" fmla="val 50000"/>
              <a:gd name="adj2" fmla="val 2679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852640"/>
            <a:ext cx="6696000" cy="576360"/>
          </a:xfrm>
          <a:prstGeom prst="rightArrow">
            <a:avLst>
              <a:gd name="adj1" fmla="val 50000"/>
              <a:gd name="adj2" fmla="val 2679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енство между полове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3860640"/>
            <a:ext cx="1727280" cy="2881440"/>
          </a:xfrm>
          <a:prstGeom prst="rightArrow">
            <a:avLst>
              <a:gd name="adj1" fmla="val 48648"/>
              <a:gd name="adj2" fmla="val 4733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мка за изпъл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3860640"/>
            <a:ext cx="1727280" cy="2881440"/>
          </a:xfrm>
          <a:prstGeom prst="rightArrow">
            <a:avLst>
              <a:gd name="adj1" fmla="val 48648"/>
              <a:gd name="adj2" fmla="val 4733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варителни 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3789360"/>
            <a:ext cx="1727280" cy="2881440"/>
          </a:xfrm>
          <a:prstGeom prst="rightArrow">
            <a:avLst>
              <a:gd name="adj1" fmla="val 48648"/>
              <a:gd name="adj2" fmla="val 4733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олята на партньор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324000" y="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8"/>
          <p:cNvSpPr/>
          <p:nvPr/>
        </p:nvSpPr>
        <p:spPr>
          <a:xfrm>
            <a:off x="1547640" y="1268280"/>
            <a:ext cx="759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908000" y="54936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Структура и елементи на оперативната п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557360"/>
            <a:ext cx="8825040" cy="53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дел 7: Разпоредби за ефективно изпъл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1 Дейности за намаляване на административната тежест за бенефициент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2 Списък с Големи проек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дел 8: Финансов 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1 Разпределение на средствата по годи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2 Разпределение на средствата по приоритетни ос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дел 9: Институции, отговорни за управлението, контрола и оди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редитиращ орг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ващ орг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тифициращ орг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тен орг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7596360" y="404640"/>
            <a:ext cx="1439640" cy="944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8"/>
          <p:cNvSpPr/>
          <p:nvPr/>
        </p:nvSpPr>
        <p:spPr>
          <a:xfrm>
            <a:off x="1547640" y="1268280"/>
            <a:ext cx="759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908000" y="54936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Структура и елементи на оперативната програма - при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916280"/>
            <a:ext cx="860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иложение 1: Резюме за изпълнение на предварителната оц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иложение 2: Списък на градовете за подкрепа по ОПРР 2014-2020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иложение 3: Социално-икономически анализ за нуждите на оперативна програма за регионално развитие за програмен период 2014-2020г.: </a:t>
            </a:r>
            <a:r>
              <a:rPr b="0" lang="bg-BG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gregio.eu/programirane-i-otsenka/programirane-2014-2020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2"/>
          <a:stretch/>
        </p:blipFill>
        <p:spPr>
          <a:xfrm>
            <a:off x="7451640" y="333360"/>
            <a:ext cx="1440000" cy="944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324000" y="11592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179280" y="1628640"/>
            <a:ext cx="87854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  <a:ea typeface="Arial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Иван По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66"/>
                </a:solidFill>
                <a:latin typeface="Arial"/>
              </a:rPr>
              <a:t>Началник на отдел „Програмиране, оценка, информация и публичност“, Главна дирекция „Програмиране на регионално развитие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oprd@mrrb.government.b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Gerb"/>
          <p:cNvPicPr/>
          <p:nvPr/>
        </p:nvPicPr>
        <p:blipFill>
          <a:blip r:embed="rId3"/>
          <a:stretch/>
        </p:blipFill>
        <p:spPr>
          <a:xfrm>
            <a:off x="304920" y="228600"/>
            <a:ext cx="1430280" cy="1447920"/>
          </a:xfrm>
          <a:prstGeom prst="rect">
            <a:avLst/>
          </a:prstGeom>
          <a:ln w="0">
            <a:noFill/>
          </a:ln>
        </p:spPr>
      </p:pic>
      <p:sp>
        <p:nvSpPr>
          <p:cNvPr id="10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на регионалното развитие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устройството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5:07:28Z</dcterms:created>
  <dc:creator>RusevaA</dc:creator>
  <dc:description/>
  <dc:language>en-US</dc:language>
  <cp:lastModifiedBy>BogdanovM</cp:lastModifiedBy>
  <dcterms:modified xsi:type="dcterms:W3CDTF">2012-12-18T09:00:45Z</dcterms:modified>
  <cp:revision>141</cp:revision>
  <dc:subject/>
  <dc:title>Slide 1</dc:title>
</cp:coreProperties>
</file>