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40B3-0341-421F-8D77-EFE9D7B3C892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D6D2-3E09-4D83-9697-3DC7633A144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В3 следва да се попълва за всеки самостоятелен обект (СО), към който е приложим режим „de minimis“, с отделна страница/sheet/ за всеки обект). Таблица 1 от Приложение В3 се попълва в случай, че е предвидено да се извършват интервенции в конкретния самостоятелен обект със стопанско предназначение. Таблицата не се попълва само ако няма предвидени интервенции в конкретния самостоятелен обе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лица 2 от Приложение В3 се изчисляват разходите, свързани с общите части на сградата, приспадащи се на конкретния собственик на самостоятелен обект (ССО) в зависимост от притежавания от него процент идеални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лона 2 от таблицата се посочва процентът идеални части от сградата, причислен на съответния собственик на самостоятелен обект съгласно Приложение № 7 „Справка за ССО“ към Приложение Н от Насоките за кандидатст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лона 3 се посочва стойността на всеки конкретен разход (съгласно колона 1) за сградата, в която се намира конкретния самостоятелен обект. В колона 3 не  следва да се посочва общата стойност на разходите за всички сгради в обхвата на проектното предложение. В случай че е предвидено изпълнение на инженеринг, не се попълват разходи по редове „Разходи за изготвяне на инвестиционен проект“ и „Разходи за авторски надзор“, а стойността на инженеринга се вписва в ред „Разходи за строителни и монтажни работи (без включена дограма на самия СО и други дейности в СО)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CC0B-3DEF-444B-B014-D16C60D3BCC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БФП в рамките на настоящата процедура се приема, че е в съответствие с правилата по държавните помощи и не подлежи на режим на минимални помощи, само ако се отпуска за интервенции в публична инфраструктура или за жилищни обекти, които не се ползват по стопански начин. Фактът, че към момента в даден обект със стопанско предназначение не се извършва дейност, не променя неговото предназначение, не го прави публична инфраструктура или жилищен обект и не гарантира, че обектът няма да започне да се ползва в някой следващ момент за осъществяването на стопанска дейност.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669D-84B6-4667-9F8F-051F148ACAB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гласно Приложение Н към НК, многофамилна жилищна сграда е „жилищна сграда, която включва не по-малко от две жилища, които принадлежат на различни собственици и в които се помещават различни домакинства“. За да бъде приет отделен самостоятелен обект в сградата за жилище съгласно ЗУТ трябва да има самостоятелен вход, най-малко едно жилищно помещение, кухня или кухненски бокс и баня-тоалетна, както и складово помещение, което може да бъде в жилището или извън нег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F47-84C1-4155-83BA-A7A424F6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05C-E522-484F-803C-829E2CFC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914-9277-49CB-B857-E6320DDD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AC5-22BF-46A4-AF65-F7A3BB24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55B7-033C-4EBA-80ED-80D4AD15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3207-0B55-46FE-A01B-3CBBE1A4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4B4D-2DB4-4674-BB69-6E3D7762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01F9-EF2D-4608-8DA1-D41450FF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2BA7-5DE1-43B2-9F9B-3F9A7708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CE7A-F2AC-4A88-9A1B-3D72827D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F0E3-F92D-4029-81B6-50DF035E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0C1-CCD1-4118-B81F-F1DC12BB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0C17-C6ED-40D9-AC6F-B8A989B4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527E-535F-4F8A-9D22-27A26C6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AE54-65F0-4380-B589-2A28E81B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B2C7-F44D-4A07-BA4B-46F8255F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601-6489-4AC5-8BE0-4D17AD49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27F6-97AC-49A2-84AD-E33614C7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811C-5B21-4C2B-984B-3D106175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DC57-CFE2-4EE6-A100-B8744380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D760-3B7A-40A1-9FB4-423B9B3D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46F8-1046-4B1C-A05E-3FACAA55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FA1-A548-4BE7-9F63-72304F3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0BD7-9441-4456-96D9-ED3B322B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5E69-AE16-4696-BF04-401D703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1FE5-D671-43E3-9BC4-B8D0A0B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E936-7173-465E-9255-F74FE681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1685-2142-4F9D-AA6C-0BF88260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0944-DD8D-4F25-A5C9-1CD4B4FA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202D-41DF-4AEA-85DE-2AC36C92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761-7B6B-4ACA-9F69-17F6F623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8A6-60EA-4BC9-B8DF-C98E239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4B4-B8DF-4FB8-98D4-D7C620F3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3C5-9863-41EA-AF0D-C5F33E21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3EC-53EE-44E0-BCC5-4ADFB264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A26-4175-4CEE-AFA2-778A98C4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836A-BD81-4009-B7EA-00D85100443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63C7-F7E2-40F6-9745-2F57986229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F905-E01A-44EE-9498-08A909C00A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79280" y="3905280"/>
            <a:ext cx="61930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НФОРМАЦИОННА СРЕЩА ПО ПРОЦЕД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BG16RFOP001-2.003 „ЕНЕРГИЙНА ЕФЕКТИВНОСТ В ПЕРИФЕРНИТЕ РАЙОНИ-3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8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01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179280" y="1455840"/>
            <a:ext cx="87854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</a:rPr>
              <a:t>Мерките за осигуряване на достъпна архитектурна среда следва да се осигурят съгласно действащата нормативна уредба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В жилищните сгради в зависимост от ситуацията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о главния вход на сграда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При жилищни сгради със съществуващ асансьор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о първото етажно ниво на сградата (нивото с асансьор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административна/обществена сграда, в зависимост от техническите възможности и проектантското решение,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в цялата сград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ите на сгради на РПУ, РСПБЗН и гранично управление,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задължително до нивото, на което се осъществява административното обслужване на граждан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50560" y="1698480"/>
            <a:ext cx="856908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и липсват доказателствени документи за съответствие на цените с пазарн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интервенции в публични сгради с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ставят се декларации за съглас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ектното предложение от собственика на сгра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екларацията следва да е попълнена от ръководството на съответната институция, </a:t>
            </a: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ползвател на сграда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64880" y="1207800"/>
            <a:ext cx="87994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Доказателствата за подбор на включените в ПП жилищни сгради не дават увереност, че е приложена недискриминационна процедура и критер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</a:rPr>
              <a:t>Препоръка: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Необходимо е да се представи подробна информация, подкрепена с доказателства за: проведената на територията на общината информационна кампания; как са избрани жилищните сгради, включени в обхвата на проектното предложение; утвърдената процедура за подбор и др. релевантни документ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Част от включените в ПП жилищни сгради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а одобрени с предходна информационна камп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700" spc="-1" strike="noStrike">
                <a:solidFill>
                  <a:srgbClr val="002060"/>
                </a:solidFill>
                <a:latin typeface="Arial"/>
              </a:rPr>
              <a:t>Препоръка: 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Допустимо е СС, с подадени заявления за интерес и финансова помощ </a:t>
            </a:r>
            <a:r>
              <a:rPr b="0" i="1" lang="bg-BG" sz="1700" spc="-1" strike="noStrike">
                <a:solidFill>
                  <a:srgbClr val="002060"/>
                </a:solidFill>
                <a:latin typeface="Arial"/>
              </a:rPr>
              <a:t>по предходни процедури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да кандидатстват отново, като е необходимо това да бъде удостоверено по подходящ начин (чрез протокол, решение или др.).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Следва да се приложи еднакъв подход при подбора и оценка на новоподадените и на валидните от предходната процедура заявления за интерес и финансова помощ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4880" y="1413000"/>
            <a:ext cx="865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проектни предложения, които включват интервенции в многофамилни жилищни сгради липсва Приложение 3 „Разходи за самостоятелен обект“, при наличие на стопанска дейност или са представени няколко так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Препоръка: 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Приложение В3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следв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да се прилага винаги към окончателния вариант на ПП, при наличие на стопанска дейност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и/или отдаване под наем и/или извършване на дейност от търговец и/или лице със свободна профе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Приложение В3 следва да се попълва за всеки самостоятелен обект (СО), към който е приложим режим „de minimis“, като е препоръчително отделно попълнените приложения за всеки СО да бъдат обединени в един общ файл (с отделна страница/sheet/ за всеки обек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400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е предоставя информация за обекти със стопанско предназначение, които не се ползват към момента на кандидатства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В случай, че конкретен обект не се използва към момента, но е със стопанско предназначение по принцип, той би следвало да се включи в обхвата на помощта в режим „de minimis“, т.е. следва да се опише в Приложение В3 или средствата за него да се поемат като собствен принос от собстве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42920" y="1844640"/>
            <a:ext cx="727416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приоритетна ос 2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324000" y="1628640"/>
            <a:ext cx="85471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абостите и неточности, които водят до връщане за корекции на подадените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ри определяне на допустимост на разходите/инвестици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в документи към проектните пред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на формуляра за кандидатстване (ФК) се отбелязва, че данъка върху добавената стойност (ДДС) е недопустим разход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от формуляра за кандидатстване – бюджетно перо се отразява в режим „държавна/минимална помощ“ когато администратор на помощта е общи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дминистратор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омощ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е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общината, всички разходи в Раздел 5 се записват в редове с описание „фонд: ЕФРР, режим на финансиране: Неприложимо, допустим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413000"/>
            <a:ext cx="86918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,  на ФК не съответства на общата стойност на разходите съгласно представеното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за СМР следва да съответства на стойността на представеното КСС, като в индикативните КСС бъдат добавени и разходите за проектиране и авторски надзор на об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, разходите за отделните дейности и отделните обекти на интервен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5, разходите се представят като обща сума. Подробното описание и обосновкат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50840" y="1343160"/>
            <a:ext cx="869004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, но са собствено финансиране са отразени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Допустимите разходи по НК, следва да бъдат отразени в съответстващите бюджетни редове в колона „Собствен принос“, а не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. „План за изпълнение/Дейности по проекта“ на ФК стойността на разходите не съответства на заложения разход в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 към съответните дейности,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34920" y="1541520"/>
            <a:ext cx="91090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Индикатори”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ректно се въвеждат “Базова стойност общо:“, “Целева стойност общо:” и „Източник на информация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!!! З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.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Ц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елевите стойности са разликата между актуалното състояние на емисиите СО2 и очакваните емисии след въвеждане на ЕСМ; разликата между актуалния годишен разход на първична енергия и очаквания разход след въвеждане на ЕСМ, съгласно данните от приложения към ПП сертификат за енергийни характеристики на сград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П за многофамилни жилищни сгради некоректно се въвеждат стойностите по отношение на индикатор “Енергийна ефективност: Брой домакинства, преминали в по-горен клас на енергопотребление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Индикатора отчита само обектите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с жилищн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</a:t>
            </a:r>
            <a:r>
              <a:rPr b="0" i="1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и с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измерва с броя на самостоятелните обекти в сградите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с жилищн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като в него </a:t>
            </a:r>
            <a:r>
              <a:rPr b="0" i="1" lang="ru-RU" sz="16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не се включват самостоятелните обекти със стопанск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които не се ползват за жилищн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2880" y="1541520"/>
            <a:ext cx="869184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9 „Екип“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псват разписани изискванията за професионална компетентност и опит в дейности по управлението и/или изпълнението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едва да бъдат описани изискванията за квалификация и опит на всеки член от екипа и да се представят автобиографии, подкрепени с доказателствени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цедурата за избор на изпълнител е проведена и кандидатът има сключен договор с изпълнител, то това следва да се опише в раздел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ри определяне на допустимост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бюджета на проекта се включват разходи за СМР, за мерки  извън предвидените в енергийното обследване, в случаите когато сградата не постига 60%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ргийни спестявания на първична ен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не се постигат повече от 60% енергийни спестявания, могат да бъдат финансирани с БФП единствено задължителните енергоспестяващи мерки, задължителните мерки, свързани с конструктивното укрепване, мълниезащитната инсталация и мерките за осигуряване на достъпна архитектурна с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сгради, за които не може да се добие увереност, че отговарят на критериите замногофамилни жилищни сград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Ж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11, поле „Описание на обектите на интервенция и целевите групи“ следва да се направи описание на сградите, доказващо, че представляват МЖ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ри определяне на допустимост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tent Placeholder 2"/>
          <p:cNvSpPr/>
          <p:nvPr/>
        </p:nvSpPr>
        <p:spPr>
          <a:xfrm>
            <a:off x="468360" y="1628640"/>
            <a:ext cx="8280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обекти, включени в ПП, с местонахождение, извън строителните граници на съответната община – кандид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!!! Дейностите по настоящата процедура следва да се осъществяват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в рамките на строителните граници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на 28-те населени места от четвърто н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!!! Обект с местонахождение, извън строителните граници на съответната община – кандидат, е недопустим за финансиране с БФП по настоящата процед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ATALI KIRILOVA LAZAROVA</cp:lastModifiedBy>
  <cp:lastPrinted>2018-09-28T12:57:03Z</cp:lastPrinted>
  <dcterms:modified xsi:type="dcterms:W3CDTF">2020-03-11T14:03:00Z</dcterms:modified>
  <cp:revision>1571</cp:revision>
  <dc:subject/>
  <dc:title>Diapositiva 1</dc:title>
</cp:coreProperties>
</file>