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47FC-5331-4840-B902-AE9D2CFD1A4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0E8-7539-4E72-81F2-7D0D24E6442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В3 следва да се попълва за всеки самостоятелен обект (СО), към който е приложим режим „de minimis“, с отделна страница/sheet/ за всеки обект). Таблица 1 от Приложение В3 се попълва в случай, че е предвидено да се извършват интервенции в конкретния самостоятелен обект със стопанско предназначение. Таблицата не се попълва само ако няма предвидени интервенции в конкретния самостоятелен об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лица 2 от Приложение В3 се изчисляват разходите, свързани с общите части на сградата, приспадащи се на конкретния собственик на самостоятелен обект (ССО) в зависимост от притежавания от него процент идеални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2 от таблицата се посочва процентът идеални части от сградата, причислен на съответния собственик на самостоятелен обект съгласно Приложение № 7 „Справка за ССО“ към Приложение Н от Насоките за кандидатст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3 се посочва стойността на всеки конкретен разход (съгласно колона 1) за сградата, в която се намира конкретния самостоятелен обект. В колона 3 не  следва да се посочва общата стойност на разходите за всички сгради в обхвата на проектното предложение. В случай че е предвидено изпълнение на инженеринг, не се попълват разходи по редове „Разходи за изготвяне на инвестиционен проект“ и „Разходи за авторски надзор“, а стойността на инженеринга се вписва в ред „Разходи за строителни и монтажни работи (без включена дограма на самия СО и други дейности в СО)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CBB9-E633-4105-A11A-A7B2A6CD8ED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БФП в рамките на настоящата процедура се приема, че е в съответствие с правилата по държавните помощи и не подлежи на режим на минимални помощи, само ако се отпуска за интервенции в публична инфраструктура или за жилищни обекти, които не се ползват по стопански начин. Фактът, че към момента в даден обект със стопанско предназначение не се извършва дейност, не променя неговото предназначение, не го прави публична инфраструктура или жилищен обект и не гарантира, че обектът няма да започне да се ползва в някой следващ момент за осъществяването на стопанска дейност.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795-068C-4B2D-AA6F-45D8B0B2764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иложение Н към НК, многофамилна жилищна сграда е „жилищна сграда, която включва не по-малко от две жилища, които принадлежат на различни собственици и в които се помещават различни домакинства“. За да бъде приет отделен самостоятелен обект в сградата за жилище съгласно ЗУТ трябва да има самостоятелен вход, най-малко едно жилищно помещение, кухня или кухненски бокс и баня-тоалетна, както и складово помещение, което може да бъде в жилището или извън не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6DA-1C5F-40DB-A28C-59139977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138-2C1B-417E-9E90-64749424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2FE-FA5A-4779-A234-7FBA752D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457-5DC1-4F12-AFCE-B55196EF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DEB-516A-45B5-9569-FB783FBC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5992-6C15-4F81-8DA3-EBCC60C2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596E-B7F3-4F34-9902-7620CF3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FD27-4CC3-477A-8638-1CB5DAE2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EDB1-722D-48F6-93D0-549E35C4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F0ED-C7D4-443C-8A0D-B6CB3FC8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158A-E3BC-4BD5-AE72-2624D6A9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4CE2-73FB-46FF-8294-9D42F98A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7DF-9A8F-475B-9014-47607A9B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D03-E9AA-4E63-B655-7B86DA0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620-EDC7-4891-8F0C-15D64CE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8A1D-2DED-47CA-864E-CD14DB97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0538-41AE-4F58-8422-98CA238D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B9232-4693-4227-B64F-966FECF9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36B0-97CE-40C1-AA6A-443CA5F0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8AB1-E3C5-49E9-9B46-4992F59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8E8F9-E020-4083-BEC7-9A8BA055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54C8-4CED-4AEB-B264-F48C20FC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54F-CC38-489C-92C2-FE07E988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146A-9CBD-41FF-8C8F-2DAE39FD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55E7-F587-4808-9829-D5BB96B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0B42-6366-4B92-A3AA-129682B6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0850-AD39-4DDD-984C-F12E6F64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C069E-EFC7-42D5-9FCC-BC720860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A43F9-A410-46D0-8ADC-42E29275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9234-29D0-470B-A7BD-286FE390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6D6-9743-4970-90AF-F100F0DD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F51-9148-498F-B3EC-96EBB0CA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3A19-4C1A-4748-AEFD-9427558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A33E-87C7-4F29-9637-8EFCF519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D1B-3A58-4E9A-8F43-CBE46787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AAC-731A-4D7F-B704-0C6AF68B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5BF-250C-45BC-A4AE-BD9957FCD5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CF9D-8E89-4E58-BFEF-8488FD83FC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ED38-3264-4C9E-B56B-40713B7653C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2.003 „ЕНЕРГИЙНА ЕФЕКТИВНОСТ В ПЕРИФЕРНИТЕ РАЙОНИ-3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1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В жилищните сгради в зависимост от ситуацията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главния вход на сграда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ри жилищни сгради със съществуващ асансьор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първото етажно ниво на сградата (нивото с асансьо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ите на сгради на РПУ, РСПБЗН и гранично управл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ължително до нивото, на което се осъществява административното обслужване на граждан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50560" y="1698480"/>
            <a:ext cx="85690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ервенции в публични сгради 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ставят се декларации за съглас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ектното предложение от собственика н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кларацията следва да е попълнена от ръководството на съответната институция,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ползвател на сграда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880" y="1207800"/>
            <a:ext cx="87994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казателствата за подбор на включените в ПП жилищни сгради не дават увереност, че е приложена недискриминационна процедура и крите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Необходимо е да се представи подробна информация, подкрепена с доказателства за: проведената на територията на общината информационна кампания; как са избрани жилищните сгради, включени в обхвата на проектното предложение; утвърдената процедура за подбор и др. релевантни докумен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Част от включените в ПП жилищни сград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добрени с предходна информационна камп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опустимо е СС, с подадени заявления за интерес и финансова помощ </a:t>
            </a: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о предходни процедури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а кандидатстват отново, като е необходимо това да бъде удостоверено по подходящ начин (чрез протокол, решение или др.).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Следва да се приложи еднакъв подход при подбора и оценка на новоподадените и на валидните от предходната процедура заявления за интерес и финансов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4880" y="1413000"/>
            <a:ext cx="865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роектни предложения, които включват интервенции в многофамилни жилищни сгради липсва Приложение 3 „Разходи за самостоятелен обект“, при наличие на стопанска дейност или са представени няколко так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следв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да се прилага винаги към окончателния вариант на ПП, при наличие на стопанска дейност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и/или отдаване под наем и/или извършване на дейност от търговец и/или лице със свободна профе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следва да се попълва за всеки самостоятелен обект (СО), към който е приложим режим „de minimis“, като е препоръчително отделно попълнените приложения за всеки СО да бъдат обединени в един общ файл (с отделна страница/sheet/ за всеки об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едоставя информация за обекти със стопанско предназначение, които не се ползват към момента на кандидатст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 случай, че конкретен обект не се използва към момента, но е със стопанско предназначение по принцип, той би следвало да се включи в обхвата на помощта в режим „de minimis“, т.е. следва да се опише в Приложение В3 или средствата за него да се поемат като собствен принос от собств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2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от формуляра за кандидатстване – бюджетно перо се отразява в режим „държавна/минимална помощ“ когато администратор на помощта е общ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дминистратор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ощ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е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ината, всички разходи в Раздел 5 се записват в редове с описание „фонд: ЕФРР, режим на финансиране: Неприложимо, допусти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Ц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елевите стойности са разликата между актуалното състояние на емисиите СО2 и очакваните емисии след въвеждане на ЕСМ; разликата между актуалния годишен разход на първична енергия и очаквания разход след въвеждане на ЕСМ, съгласно данните от приложения към ПП сертификат за енергийни характеристики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П за многофамилни жилищни сгради некоректно се въвеждат стойностите по отношение на индикатор “Енергийна ефективност: Брой домакинства, преминали в по-горен клас на енергопотребление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катора отчита само обект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 с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измерва с броя на самостоятелните обекти в сград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ато в него </a:t>
            </a:r>
            <a:r>
              <a:rPr b="0" i="1" lang="ru-RU" sz="1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не се включват самостоятелните обекти със стопанск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оито не се ползват за жилищн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бюджета на проекта се включват разходи за СМР, за мерки  извън предвидените в енергийното обследване, в случаите когато сградата не постига 6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йни спестявания на първичн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не се постигат повече от 60% енергийни спестявания, могат да бъдат финансирани с БФП единствено задължителните енергоспестяващи мерки, задължителните мерки, свързани с конструктивното укрепване, мълниезащитната инсталация и мерките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сгради, за които не може да се добие увереност, че отговарят на критериите замногофамилни жилищни сгра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Ж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следва да се направи описание на сградите, доказващо, че представляват МЖ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468360" y="1628640"/>
            <a:ext cx="8280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обекти, включени в ПП, с местонахождение, извън строителните граници на съответната община – канди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Дейностите по настоящата процедура следва да се осъществяват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в рамките на строителните граници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а 28-те населени места от четвърт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Обект с местонахождение, извън строителните граници на съответната община – кандидат, е недопустим за финансиране с БФП по настоящата 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TALI KIRILOVA LAZAROVA</cp:lastModifiedBy>
  <cp:lastPrinted>2018-09-28T12:57:03Z</cp:lastPrinted>
  <dcterms:modified xsi:type="dcterms:W3CDTF">2020-03-11T14:03:00Z</dcterms:modified>
  <cp:revision>1571</cp:revision>
  <dc:subject/>
  <dc:title>Diapositiva 1</dc:title>
</cp:coreProperties>
</file>