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120F-F32E-479A-81DE-6CBEF5891137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8D5C-3F89-4AE2-B6AB-941690188B33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85BE-FA42-4B7B-9751-FB4A36B2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652-3A58-43B9-B422-4F4FFCB4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4EFB-AEB8-4B96-89CD-0EA4E7152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9111-6F91-4A6D-B8E1-0D6200C1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B368-38D4-4762-9D9A-47830A86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B014-E483-409E-9667-0782CADB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89A5-CAC4-41BB-A7B3-5A5F09DA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B3A8-98E7-4E0D-928F-F8F4B62C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1CB1-1CAA-40C7-A9AD-D047BD04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D423-A8B3-4646-B939-999C6DB9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0716-9424-44A9-A0D6-1762CD12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5014-E979-440C-944B-E36D28AB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DBD9-F4DB-4DDA-BCD5-A8C7417E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EC30-8AED-42DD-8A21-4E38CEE2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2F48-266C-4698-B8F5-570CBF06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C42E-2018-4BC8-8626-44D8D1ED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582F-3FD8-483F-AD48-84C5356B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0F3A3-86C1-41C7-A8A4-407AFC5BD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AAF48-4608-4ED9-8B54-460BD1C6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0D01D-2A84-4EB7-8362-632D3490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BFF9E-E239-4FDB-8223-87CFC7EE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507A4-A7AE-4E33-A695-E58F5ED2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CE3-9181-4419-BF95-19C2BCF3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99A99-4E4E-470B-9305-2C1303B9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DABD0-AD65-4849-8A2D-BA4221C5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B442D-295E-42A5-AF2C-A3716502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4849F-14B8-4FFB-89D5-316AB96F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1F7DC-8545-4569-ADC0-7D5EF0FF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7F54D-42C9-4057-A57A-0194D8EC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AC49B-0C4E-41D4-9CD6-A1132D2D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0B24-78B1-457A-937D-467FD815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5114-EA5C-4C1D-A6E1-11E5BFA4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D18-95E4-481B-A3E3-BFC0BA9F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371B-6EA8-4E20-85D2-98E3E7C8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F86-4998-4808-9F9B-AAF892C0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20E-5993-4741-98F0-8E5E031C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AEED-626E-4536-A11A-7299456C4DD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2908-BCBE-4B28-9E53-F6C7250672A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034D-3B92-4ACC-A7C3-0C83DADE5B5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369396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0"/>
          <p:cNvSpPr/>
          <p:nvPr/>
        </p:nvSpPr>
        <p:spPr>
          <a:xfrm>
            <a:off x="395280" y="522936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"/>
          <p:cNvPicPr/>
          <p:nvPr/>
        </p:nvPicPr>
        <p:blipFill>
          <a:blip r:embed="rId4"/>
          <a:stretch/>
        </p:blipFill>
        <p:spPr>
          <a:xfrm>
            <a:off x="7367760" y="222120"/>
            <a:ext cx="1487160" cy="1198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-360" y="3789360"/>
            <a:ext cx="6372360" cy="24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НФОРМАЦИОННА СРЕЩА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роцедура BG16RFOP001-5.00</a:t>
            </a: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„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одкрепа за</a:t>
            </a: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деинституционализация на </a:t>
            </a:r>
            <a:r>
              <a:rPr b="1" i="1" lang="bg-BG" sz="2800" spc="-1" strike="noStrike">
                <a:solidFill>
                  <a:srgbClr val="002060"/>
                </a:solidFill>
                <a:latin typeface="Arial"/>
              </a:rPr>
              <a:t>социалните услуги 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2060"/>
                </a:solidFill>
                <a:latin typeface="Arial"/>
              </a:rPr>
              <a:t>възрастни и хора с увреждания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70"/>
          <p:cNvSpPr/>
          <p:nvPr/>
        </p:nvSpPr>
        <p:spPr>
          <a:xfrm>
            <a:off x="487440" y="6089760"/>
            <a:ext cx="51847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70c0"/>
                </a:solidFill>
                <a:latin typeface="Sylfaen"/>
              </a:rPr>
              <a:t>гр. София, </a:t>
            </a:r>
            <a:r>
              <a:rPr b="1" i="1" lang="en-US" sz="2000" spc="-1" strike="noStrike">
                <a:solidFill>
                  <a:srgbClr val="0070c0"/>
                </a:solidFill>
                <a:latin typeface="Sylfaen"/>
              </a:rPr>
              <a:t>1</a:t>
            </a:r>
            <a:r>
              <a:rPr b="1" i="1" lang="bg-BG" sz="2000" spc="-1" strike="noStrike">
                <a:solidFill>
                  <a:srgbClr val="0070c0"/>
                </a:solidFill>
                <a:latin typeface="Sylfaen"/>
              </a:rPr>
              <a:t>1.0</a:t>
            </a:r>
            <a:r>
              <a:rPr b="1" i="1" lang="en-US" sz="2000" spc="-1" strike="noStrike">
                <a:solidFill>
                  <a:srgbClr val="0070c0"/>
                </a:solidFill>
                <a:latin typeface="Sylfaen"/>
              </a:rPr>
              <a:t>3</a:t>
            </a:r>
            <a:r>
              <a:rPr b="1" i="1" lang="bg-BG" sz="2000" spc="-1" strike="noStrike">
                <a:solidFill>
                  <a:srgbClr val="0070c0"/>
                </a:solidFill>
                <a:latin typeface="Sylfaen"/>
              </a:rPr>
              <a:t>.2020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137016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Грешки при провеждане на обществени поръчки, водещи до налагане на финансови кор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ontent Placeholder 2"/>
          <p:cNvSpPr/>
          <p:nvPr/>
        </p:nvSpPr>
        <p:spPr>
          <a:xfrm>
            <a:off x="-49320" y="1557360"/>
            <a:ext cx="907272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19" name="Content Placeholder 2"/>
          <p:cNvSpPr/>
          <p:nvPr/>
        </p:nvSpPr>
        <p:spPr>
          <a:xfrm>
            <a:off x="179280" y="1413000"/>
            <a:ext cx="88934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­Наличие на изисквания, които дават необосновано предимство или необосновано ограничават участието в обществените поръчки, както и ограничителни изисквания спрямо чуждестранните участници – напр. изисквания за представяне на различни документи по българско законодателство на етап кандидатства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­Методиката за оценка е незаконосъобразна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е съдържа достатъчно информация за начина на определяне на оценката по всеки показател или показателите за оценка не са свързани с предмета на поръчката, а с офертите на другите участници, и допуска субективизъм при оценяванет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еобосновано отстраняване на участник или допускане до по-нататъшно участие на участник, който е следвало да бъде отстранен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­Несъответствия между обявените в процедурата технически спецификации за възлагане на обществената поръчка и в други части на документацията или незаконосъобразни технически спецификации, насочващи към определен изпълнител и не осигуряващ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вен достъп на кандидатите до процедурата за възлагане на обществената поръчк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24000" y="1541520"/>
            <a:ext cx="864072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СТРАТЕГИЧЕСКО ПЛАНИРАНЕ И ПРОГРАМИ ЗА  РЕГИОНАЛНО РАЗВИТИЕ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ЗА ВНИМАНИЕТО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333440" y="264960"/>
            <a:ext cx="6335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Често допускани пропуски и грешки при подготовката на проектни предложения по ОПРР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179280" y="1628640"/>
            <a:ext cx="869184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база натрупания до момента опит по оценка на ПП по ОПРР 2014-2020, която УО извършва, са изведени слабостите и неточности, които водят до връщане за корекции на подадените проектни предложения, предоставяне на допълнителна информация и документи, както и повторна оценка, така че да се постигнат в максимална степен критериите за административно съответствие и допустимост и критериите за техническа и финансова оценка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цел 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я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обобщена информация з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-чес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кани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грешк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андидатстване с проектни пред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Грешки в документите към формуляра 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179280" y="1628640"/>
            <a:ext cx="869184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 „Основни данни“ от формуляра за кандидатстване (ФК) се отбелязва, че данъка върху добавената стойност (ДДС) е недопустим разход по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Препоръ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Когато проектът включва както допустим, така и недопустим разход за ДДС в раздел 1 „Основни данни“ на ФК следва да се отбележи, че ДДС е допустим разход, независимо, че в част от разходите се включва  недопустим ДДС. В този случай недопустимият ДДС се отбелязва в ред „Недопустими разходи“, колона „Собствено финансиране“ от бюджета на ПП (раздел 5 от ФК в ИСУ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179280" y="1700280"/>
            <a:ext cx="86918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ата стойност на разходите за СМР от раздел 5 „Бюджет“ от ФК не съответства на общата стойност на разходите, съгласно представеното КСС към 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Препоръ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тойността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на </a:t>
            </a:r>
            <a:r>
              <a:rPr b="0" i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разходите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за СМР следва да съответства на стойността на разходите в представеното КСС, а когато несъответствието се дължи на включени разходи за проектиране и авторски надзор (например при инженеринг), е необходимо в индикативните КСС да бъдат добавени и разходите за проектиране и авторски надзор на обекта, и да са ясно описано във формуляра на ПП и във финансовата обосновка на разходите, представена от бенефици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108000" y="1343160"/>
            <a:ext cx="896472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282960" indent="-28296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е спазва изискването в раздел 5 „Бюджет“ от ФК, разходите за отделните дейности да се представят като обща с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Препоръ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Разходите за отделните дейности в раздел 5 следва да се представят като обща сума. Подробно описание и обосновка на видовете разходи следва да бъдат посочени в раздел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5 „Бюджет“ от ФК разходите за дейности, които са допустими (напр. „Разходи за персонал“, „Разходи за авторски надзор“), но са собствено финансиране, са отразени в бюджетен ред VI. „Недопустими разходи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Препоръ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Цитираните разходи са допустими съгласно НК, свързани са с изпълнение на дейности по проекта и като такива, следва да бъдат отразени в съответстващите бюджетни редове за конкретната дейност, в колона „Собствен принос“, а не в бюджетен ред VI. „Недопустими разходи“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2960" indent="-2829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tent Placeholder 2"/>
          <p:cNvSpPr/>
          <p:nvPr/>
        </p:nvSpPr>
        <p:spPr>
          <a:xfrm>
            <a:off x="150840" y="1422360"/>
            <a:ext cx="869004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7 „План за изпълнение/Дейности по проекта“ на ФК стойността на разходите не съответства на заложения разход в раздел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Препоръ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 раздел 7 „План за изпълнение/Дейности по проекта“ от ФК е необходимо  разходите към съответните дейности така да бъдат представени, че информацията да съответства на заложения разход в бюджета на проекта в раздел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ъщо така, стойностите на всички дейности в раздел 7 и на всички процедури в раздел 10 следва да са формирани в зависимост от заложените разходи в бюджета раздел 5 на ФК и да са с ДДС, т.е. между раздели 5, 7 и 10 от ФК информацията следва да си съответства и посочи с ДД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500720" y="11271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ontent Placeholder 2"/>
          <p:cNvSpPr/>
          <p:nvPr/>
        </p:nvSpPr>
        <p:spPr>
          <a:xfrm>
            <a:off x="0" y="1436760"/>
            <a:ext cx="90727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0 „План за външно възлагане“ се описват вече проведени процедури, със сключени договори с изпълнители преди подаване на П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Препоръ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Когато процедурата за избор на изпълнител е проведена преди етапа на кандидатстване и кандидатът има сключен договор с изпълнител, то това следва да се опише в раздел 7, а не в раздел 10 на ФК. В раздел 10 се представя информация само за предстоящи за провеждане процедури за избор на изпълнители по прое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8 “Индикатори”, за заложените индикатори некоректно се въвеждат “Базова стойност общо:“, “Целева стойност общо:” и „Източник на информация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Препоръ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За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сички индикатори като базова стойност винаги се въвежда „0“, а целевата стойност</a:t>
            </a:r>
            <a:r>
              <a:rPr b="0" i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е определя като разлика между очакваното състояние след изпълнение (1 бр.) и актуалното състояние преди изпълнение (0 б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6920" y="70920"/>
            <a:ext cx="633276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документите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ъм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формуляра за </a:t>
            </a: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0" y="141264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се прилага обосновка за реалистичност и икономичност на предвидените разходи (финансова обосновка), както и липсва разбивка на отделните видове разходи по количество и единична цена и липсват доказателствени документи за съответствие на цените с пазарните или от представената обосновката не става ясно как точно са остойностени описаните разхо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Препоръ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а се представи подробна обосновка и разбивка на разходите от отделните пера в бюджетите на ПП, както и доказателствени документи за това как са формирани стойностите на дейностите (напр. анализ на цени, цена на квадратен метър на база предишен опит на общината с позоваване на конкретни проведени обществени поръчки, Справочник за цените в строителството и т. н., показатели/ оферти/ извлечение от каталог на производители/ доставчици и/или проучване в интернет. При позоваване на оферти, се прилага копие на офертите; при позоваване на извлечение от каталог на производители/ доставчици се прилагат извлеченията или се посочват съответните линкове, където са достъпни каталози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333440" y="12852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свързани с осигуряване на достъпна архитектурна сре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ontent Placeholder 2"/>
          <p:cNvSpPr/>
          <p:nvPr/>
        </p:nvSpPr>
        <p:spPr>
          <a:xfrm>
            <a:off x="179280" y="1455840"/>
            <a:ext cx="869184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етапа на кандидатстване се декларира изпълнение на мерки за достъпна среда, но впоследствие при проектирането не се предвиждат мерки съгласно 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едб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№4 от 01.07.2009 г. за проектиране, изпълнение и поддържане на строежите в съответствие с изискванията за достъпна среда за населението, включително за хората с уврежд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1, поле „Описание на обектите на интервенция и целевите групи“ липсва информация как ПП адресира нуждите и проблемите на хората в неравностойно положение и какви мерки са включени за осигуряване на достъпна архитектурна сре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Препоръ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ff0000"/>
                </a:solidFill>
                <a:latin typeface="Arial"/>
              </a:rPr>
              <a:t>Мерките за осигуряване на достъпна архитектурна среда следва да са съгласно действащата нормативна уредба. В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раздел 11 следва да се опишат какви мерки за достъпна среда ще бъдат изпълнени. Необходимо е информацията да е в съответствие с техническата документация и К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VANYA TODOROVA VALKOVA</cp:lastModifiedBy>
  <cp:lastPrinted>2020-01-24T15:00:54Z</cp:lastPrinted>
  <dcterms:modified xsi:type="dcterms:W3CDTF">2020-03-05T13:04:22Z</dcterms:modified>
  <cp:revision>1570</cp:revision>
  <dc:subject/>
  <dc:title>Diapositiva 1</dc:title>
</cp:coreProperties>
</file>