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F4A-BC96-470C-B658-2D197F646DED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B86-B995-473A-83CC-C3E8F4BA804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AB7-AE58-4882-A9DA-ED5A508D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4FA-B357-49C1-90F4-B22E8319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B04-C132-4473-BA86-E6543333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7B5-5185-48E2-968E-10D7BA11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7BE-0361-4718-B2F7-AF48B73A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FFB-1935-408F-A839-C277F7B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BF5-EBE0-45B0-9509-A2337AA7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5414-4684-40FC-9502-B5FDBE0F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8AF1-B612-46CF-9111-B575D82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41D-332C-4D57-86C8-702C11A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1237-8ABB-4AAB-9D75-622CBE2B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23E-66D8-4538-AE5F-C6B61F9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A421-19E5-44EF-B1F0-53D5594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C2A-DC4F-436C-81C7-5938AC6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0F8-1D66-49C3-A16E-C0EDF88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CE26-6D6F-4118-928B-E2DB9F18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A04-64EF-4BAC-B562-FA5B6B6D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0A3A-BB0F-4A94-904B-36B23A6E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9731-44FB-405D-88E9-983F06F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4CF7-3664-485F-B619-7672AAF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99ED-3315-4675-BE88-724E3CA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4DBA-DA00-498F-80EE-74DF41AB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D5-03F3-42C3-88C4-CDFD6C7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F186-EC4A-4EEF-A15A-EC26926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26B1-E247-4E27-A33F-12FD283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16EA-1773-4502-8ECD-FA5F769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A30F-69AE-4BA0-A282-34B0F5F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87DB-E36C-471A-9849-A022FCA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6162-DDE3-4E00-ACB4-7B1A3D1C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B88F-CA71-4A45-BCEA-92B212CF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4E8-9771-4069-B78A-A2A7272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670-19C1-4CDF-98BB-3DB69D3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A7E-D81A-4173-B688-8691B061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7D6-F54B-4B51-9AC4-C108988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35B-D4E2-4861-ACA3-A4937EBA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274-E7B7-4774-8BA6-FE5E4AC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9258-86AA-41F5-BE35-756FDF4B4E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A3B-0E45-41FA-8A24-6E7B5D3B8C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12E-5F5F-4C89-AD7F-50EB387A2C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60" y="3789360"/>
            <a:ext cx="637236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НФОРМАЦИОННА СРЕЩ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оцедура BG16RFOP001-5.00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крепа за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деинституционализация на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</a:rPr>
              <a:t>социалните услуги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2060"/>
                </a:solidFill>
                <a:latin typeface="Arial"/>
              </a:rPr>
              <a:t>възрастни и хора с увреждания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0"/>
          <p:cNvSpPr/>
          <p:nvPr/>
        </p:nvSpPr>
        <p:spPr>
          <a:xfrm>
            <a:off x="487440" y="6089760"/>
            <a:ext cx="518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гр. София, </a:t>
            </a:r>
            <a:r>
              <a:rPr b="1" i="1" lang="en-US" sz="2000" spc="-1" strike="noStrike">
                <a:solidFill>
                  <a:srgbClr val="0070c0"/>
                </a:solidFill>
                <a:latin typeface="Sylfaen"/>
              </a:rPr>
              <a:t>1</a:t>
            </a: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1.0</a:t>
            </a:r>
            <a:r>
              <a:rPr b="1" i="1" lang="en-US" sz="2000" spc="-1" strike="noStrike">
                <a:solidFill>
                  <a:srgbClr val="0070c0"/>
                </a:solidFill>
                <a:latin typeface="Sylfaen"/>
              </a:rPr>
              <a:t>3</a:t>
            </a: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.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37016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ешки при провеждане на обществени поръчки, водещи до налагане на финансови ко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-49320" y="1557360"/>
            <a:ext cx="90727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Content Placeholder 2"/>
          <p:cNvSpPr/>
          <p:nvPr/>
        </p:nvSpPr>
        <p:spPr>
          <a:xfrm>
            <a:off x="179280" y="1413000"/>
            <a:ext cx="8893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аличие на изисквания, които дават необосновано предимство или необосновано ограничават участието в обществените поръчки, както и ограничителни изисквания спрямо чуждестранните участници – напр. изисквания за представяне на различни документи по българско законодателство на етап кандидатст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Методиката за оценка е незаконосъобразна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, а с офертите на другите участници, и допуска субективизъм при оценяване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основано отстраняване на участник или допускане до по-нататъшно участие на участник, който е следвало да бъде отстране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, насочващи към определен изпълнител и не осигурява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ен достъп на кандидатите до процедурата за възлагане на обществената поръч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24000" y="1541520"/>
            <a:ext cx="864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ТРАТЕГИЧЕСКО ПЛАНИРАНЕ И ПРОГРАМИ ЗА 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3440" y="264960"/>
            <a:ext cx="633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аза натрупания до момента опит по оценка на ПП по ОПРР 2014-2020, която УО извършва, са изведени слабостите и неточности, които водят до връщане за корекции на подадените проектни предложения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л 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-ч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еш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ндидатстване с проектни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от формуляра за кандидатстване (ФК) се отбелязва, че данъка върху добавената стойност (ДДС) е недопустим разход п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, независимо, че в част от разходите се включва  недопустим ДДС. В този случай недопустимият ДДС се отбелязва в ред „Недопустими разходи“, колона „Собствено финансиране“ от бюджета на ПП (раздел 5 от ФК в ИСУ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700280"/>
            <a:ext cx="8691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 от ФК не съответства на общата стойност на разходите,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за СМР следва да съответства на стойността на разходите в представеното КСС, а когато несъответствието се дължи на включени разходи за проектиране и авторски надзор (например при инженеринг), е необходимо в индикативните КСС да бъдат добавени и разходите за проектиране и авторски надзор на обекта, и да са ясно описано във формуляра на ПП и във финансовата обосновка на разходите, представена от бенефи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08000" y="1343160"/>
            <a:ext cx="8964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 от ФК, разходите за отделните дейности 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ходите за отделните дейности в раздел 5 следва да се представят като обща сума. Подробно описание и обосновк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 (напр. „Разходи за персонал“, „Разходи за авторски надзор“), но са собствено финансиране, са отразени в бюджетен ред VI. „Недопустими разход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итираните разходи са допустими съгласно НК, свързани са с изпълнение на дейности по проекта и като такива, следва да бъдат отразени в съответстващите бюджетни редове за конкретната дейност, в колона „Собствен принос“, а не в бюджетен ред VI. „Недопустими разходи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150840" y="1422360"/>
            <a:ext cx="86900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 „План за изпълнение/Дейности по проекта“ на ФК стойността на разходите не съответства на заложения разход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раздел 7 „План за изпълнение/Дейности по проекта“ от ФК е необходимо  разходите към съответните дейности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що така,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с ДДС, т.е. между раздели 5, 7 и 10 от ФК информацията следва да си съответства и посочи 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271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0" y="1436760"/>
            <a:ext cx="9072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гато процедурата за избор на изпълнител е проведена преди етапа на кандидатстване и кандидатът има сключен договор с изпълнител, то това следва да се опише в раздел 7, а не в раздел 10 на ФК. В раздел 10 се представя информация само за предстоящи за провеждане процедури за избор на изпълнители по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“Индикатори”, за заложените индикатори 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, а целевата стойност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е определя като разлика между очакваното състояние след изпълнение (1 бр.) и актуалното състояние преди изпълнение (0 б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6920" y="709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(финансова обосновка),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 (напр. анализ на цени, цена на квадратен метър на база предишен опит на общината с позоваване на конкретни проведени обществени поръчки, Справочник за цените в строителството и т. н., показатели/ оферти/ извлечение от каталог на производители/ доставчици и/или проучване в интернет. При позоваване на оферти, се прилага копие на офертите; при позоваване на извлечение от каталог на производители/ доставчици се прилагат извлеченията или се посочват съответните линкове, където са достъпни каталоз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333440" y="12852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осигуряване на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179280" y="1455840"/>
            <a:ext cx="869184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мерки съгласно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4 от 01.07.2009 г. за проектиране, изпълнение и поддържане на строежите в съответствие с изискванията за достъпна среда за населението, включително за хората с уврежд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липсва информация как ПП адресира нуждите и проблемите на хората в неравностойно положение и какви мерки са включени за осигуряване на достъпна архитектурна 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</a:rPr>
              <a:t>Мерките за осигуряване на достъпна архитектурна среда следва да са съгласно действащата нормативна уредба. В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раздел 11 следва да се опишат какви мерки за достъпна среда ще бъдат изпълнени. Необходимо е информацията да е в съответствие с техническата документация и К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NYA TODOROVA VALKOVA</cp:lastModifiedBy>
  <cp:lastPrinted>2020-01-24T15:00:54Z</cp:lastPrinted>
  <dcterms:modified xsi:type="dcterms:W3CDTF">2020-03-05T13:04:22Z</dcterms:modified>
  <cp:revision>1570</cp:revision>
  <dc:subject/>
  <dc:title>Diapositiva 1</dc:title>
</cp:coreProperties>
</file>