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C467-4AC5-4D8F-A2D3-CF459FFAFFD2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282-764E-4895-A21A-45F8CD7B38F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579-F8F8-4479-AD31-8E982189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418-322A-43A6-A67D-F83743D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31F-2FAE-4C26-8D58-2DBCE139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D71F-B3CE-452A-A996-4B65ED17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D0B9-3028-4475-9A9C-4C2A9E2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905C-9FDD-41F1-9C0B-E5D59A00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C86-7B96-481E-A13F-5C274FC4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187-ED71-47D5-ACF0-5819C396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EEFC-942C-409A-90BD-23535088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6700-5D20-412D-95C0-70AD134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E75F-42E7-47FF-ACE4-86DA10D0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032-10B7-4089-97A2-97B32DC0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5E90-BDCC-42E7-AD8B-E1A13AF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AE09-DB41-44A8-B85C-879AD98C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24CC-1F0B-478F-BDC0-ADB292B0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F340-F89C-4591-92E0-DA1894AF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49B-AA6C-4646-8F64-F24DA752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ABE21-A8A3-40D5-8C9C-45686FE9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C1CC3-3D29-4050-B15A-28A907A5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9C66C-E656-46AF-B1FC-11AB9EAC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C82CE-419C-489F-8E4C-44B3D6D5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A765C-CCB6-461F-B718-DC5AB4D5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05AA-BFC6-444A-BD48-E7E931CB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57BCA-6F5C-4A44-B5C7-34200A82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9711A-5DF1-456D-B7B3-42C626C7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F624F-71F0-4600-9B58-CBCA1FB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C5758-832A-4C73-A94F-7506A08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13D14-A32C-4A3F-8758-689811BF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8DA0A-A576-449E-8E4F-B66D3848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67B3C-AD43-42E6-826C-950B4DE5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A1F4D-70F7-4452-8C8A-9FEE7DFA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7B3D-750A-4041-A6A0-AADE8DD8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D455-076E-4FED-9C85-84E6739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56B-7CF3-4C00-BCF5-ABB609B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79938-3B0A-4998-906D-39A3B732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462E-9C43-4C33-ADCC-4BEE3C95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D563-9ABD-4E0A-932A-DD1B0AE7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F7FED-67FB-4541-A269-77479042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FCA7-2178-4988-B24A-2A7F22B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4677-147C-44DC-8997-650E389C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71908-E543-4B5D-98BB-A89EFD2C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681F-C873-46F7-8AA1-1CA5E700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4973-1204-4823-93D4-D1AB81F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7948-F6A0-4917-83C0-ED55F5BB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F73-2952-4EAD-917A-412C8F37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037-48D0-4115-B0AB-C3686A64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935-1FD3-405D-8702-3495780C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729-274E-457E-9372-888DDC1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763A-9D39-4C0B-A6C2-98F9775AF7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b05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b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b05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A74-268B-4B76-A50A-519772F1E2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49EB-F5CD-4799-A25E-0D11C29130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76d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b05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ceb9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0843c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b05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F2B1-28D5-4672-AB1D-5222F19D9B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ssicasofia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43000" y="2514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248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Ноември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hd.jpg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339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jaune"/>
          <p:cNvPicPr/>
          <p:nvPr/>
        </p:nvPicPr>
        <p:blipFill>
          <a:blip r:embed="rId2"/>
          <a:stretch/>
        </p:blipFill>
        <p:spPr>
          <a:xfrm>
            <a:off x="7848720" y="5791320"/>
            <a:ext cx="574560" cy="39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OPRR_bg"/>
          <p:cNvPicPr/>
          <p:nvPr/>
        </p:nvPicPr>
        <p:blipFill>
          <a:blip r:embed="rId3"/>
          <a:stretch/>
        </p:blipFill>
        <p:spPr>
          <a:xfrm>
            <a:off x="8534520" y="5638680"/>
            <a:ext cx="457200" cy="560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>
            <a:off x="8001000" y="624852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404040"/>
                </a:solidFill>
                <a:latin typeface="Calibri"/>
              </a:rPr>
              <a:t>Ноември 2012 г.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100" spc="-1" strike="noStrike">
                <a:solidFill>
                  <a:srgbClr val="404040"/>
                </a:solidFill>
                <a:latin typeface="Calibri"/>
              </a:rPr>
              <a:t>Соф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0" y="627372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800" spc="-1" strike="noStrike">
                <a:solidFill>
                  <a:srgbClr val="000000"/>
                </a:solidFill>
                <a:latin typeface="Calibri"/>
              </a:rPr>
              <a:t>Тази презентация е създадена в рамките на инициатива „JESSICA”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резентацията  се носи от „Фонд за устойчиво градски развитие на София” и при никакви обстоятелства не може да се счита, че тази презентация отразява официалното становище на Европейския съюз и Договарящия орган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2 -                                  Спортна инфраструктура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365724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многофункционални спортни зали и спортно-развлекателни комплекс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спортни съоръжения за масов спорт на открит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Възстановяване на съществуващи спортни зали, комплекси и съоръжен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collage.jpg"/>
          <p:cNvPicPr/>
          <p:nvPr/>
        </p:nvPicPr>
        <p:blipFill>
          <a:blip r:embed="rId4"/>
          <a:stretch/>
        </p:blipFill>
        <p:spPr>
          <a:xfrm>
            <a:off x="380880" y="1523880"/>
            <a:ext cx="8305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3 – </a:t>
            </a:r>
            <a:br>
              <a:rPr sz="3200"/>
            </a:b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Пазари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3962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Реконструкция и модернизиране на съществуващи пазар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Създаване на нови пазарни пространства със специализирано предназначени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collage2.jpg"/>
          <p:cNvPicPr/>
          <p:nvPr/>
        </p:nvPicPr>
        <p:blipFill>
          <a:blip r:embed="rId4"/>
          <a:stretch/>
        </p:blipFill>
        <p:spPr>
          <a:xfrm>
            <a:off x="380880" y="1447920"/>
            <a:ext cx="84362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4 –                       Образователна, културна и социална инфраструктура 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396252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училища и детски градин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хосписи и центрове за медико-социални гриж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обряване на обслужващата инфраструктур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collage1.jpg"/>
          <p:cNvPicPr/>
          <p:nvPr/>
        </p:nvPicPr>
        <p:blipFill>
          <a:blip r:embed="rId4"/>
          <a:stretch/>
        </p:blipFill>
        <p:spPr>
          <a:xfrm>
            <a:off x="304920" y="1828800"/>
            <a:ext cx="846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5 -                              Обществен транспорт и паркинги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3809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граждане на паркинги и съпътстващи систе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Внедряване на интегрирани системи за управление на градската мобилнос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collage5.jpg"/>
          <p:cNvPicPr/>
          <p:nvPr/>
        </p:nvPicPr>
        <p:blipFill>
          <a:blip r:embed="rId4"/>
          <a:stretch/>
        </p:blipFill>
        <p:spPr>
          <a:xfrm>
            <a:off x="457200" y="1371600"/>
            <a:ext cx="8466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843c"/>
                </a:solidFill>
                <a:latin typeface="Calibri"/>
              </a:rPr>
              <a:t>Предизвикателства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294920"/>
            <a:ext cx="8229600" cy="527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Утвърждаването като успешен финансов инструмент, който да подпомогне развитието  и оптимизирането  на ключовите системи за устойчиво  развитие и функциониране на град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Възприемането на интегрален подход при решаването на градските проблеми с включване на широк кръг заинтересувани лица и обществена подкрепа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04040"/>
                </a:solidFill>
                <a:latin typeface="Calibri"/>
              </a:rPr>
              <a:t>Постигането на взаимосвързаност и повишаване на ефикасността при функционирането на основните градски системи с помощта на съвременните технолог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5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586728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jaune"/>
          <p:cNvPicPr/>
          <p:nvPr/>
        </p:nvPicPr>
        <p:blipFill>
          <a:blip r:embed="rId2"/>
          <a:stretch/>
        </p:blipFill>
        <p:spPr>
          <a:xfrm>
            <a:off x="4191120" y="6095880"/>
            <a:ext cx="785520" cy="540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26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ffffff"/>
                </a:solidFill>
                <a:latin typeface="Calibri"/>
              </a:rPr>
              <a:t>Контакти на ФУГРС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libri"/>
              </a:rPr>
              <a:t>София, ул.”Солунска” 2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Calibri"/>
              </a:rPr>
              <a:t>02/ 988 23 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ffd6"/>
                </a:solidFill>
                <a:latin typeface="Calibri"/>
              </a:rPr>
              <a:t>www.jessicasofia.co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2" descr="Jessica_logo_variant3"/>
          <p:cNvPicPr/>
          <p:nvPr/>
        </p:nvPicPr>
        <p:blipFill>
          <a:blip r:embed="rId1"/>
          <a:stretch/>
        </p:blipFill>
        <p:spPr>
          <a:xfrm>
            <a:off x="3200400" y="4724280"/>
            <a:ext cx="26589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843c"/>
                </a:solidFill>
                <a:latin typeface="Calibri"/>
              </a:rPr>
              <a:t>Иновациите на инициативата </a:t>
            </a:r>
            <a:r>
              <a:rPr b="0" lang="en-US" sz="3600" spc="-1" strike="noStrike">
                <a:solidFill>
                  <a:srgbClr val="00843c"/>
                </a:solidFill>
                <a:latin typeface="Calibri"/>
              </a:rPr>
              <a:t>JESSICA</a:t>
            </a:r>
            <a:endParaRPr b="0" lang="en-US" sz="36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Преход от финансиране чрез схеми за предоставяне на безвъзмездна финансова помощ към финансов инженеринг и револвиращи финансови инструмент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Осигуряване на дългосрочна икономическа жизнеспособност на градските проекти чрез стимулиране развитието на публично-частни партньорства и частни инвести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Катализатор в инвестиционния процес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404040"/>
                </a:solidFill>
                <a:latin typeface="Calibri"/>
              </a:rPr>
              <a:t>Насърчаване на предприемчивост, експертиза, мотивация  в развитието на европейските градове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Jessica_logo_variant3"/>
          <p:cNvPicPr/>
          <p:nvPr/>
        </p:nvPicPr>
        <p:blipFill>
          <a:blip r:embed="rId1"/>
          <a:stretch/>
        </p:blipFill>
        <p:spPr>
          <a:xfrm>
            <a:off x="152280" y="610236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jaune"/>
          <p:cNvPicPr/>
          <p:nvPr/>
        </p:nvPicPr>
        <p:blipFill>
          <a:blip r:embed="rId2"/>
          <a:stretch/>
        </p:blipFill>
        <p:spPr>
          <a:xfrm>
            <a:off x="403848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OPRR_bg"/>
          <p:cNvPicPr/>
          <p:nvPr/>
        </p:nvPicPr>
        <p:blipFill>
          <a:blip r:embed="rId3"/>
          <a:stretch/>
        </p:blipFill>
        <p:spPr>
          <a:xfrm>
            <a:off x="8305920" y="6095880"/>
            <a:ext cx="5284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На 30 май 2012 г. е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писано Оперативното споразумение за създаване на</a:t>
            </a:r>
            <a:r>
              <a:rPr b="1" lang="bg-BG" sz="2000" spc="-1" strike="noStrike">
                <a:solidFill>
                  <a:srgbClr val="404040"/>
                </a:solidFill>
                <a:latin typeface="Calibri"/>
              </a:rPr>
              <a:t> Фонд за устойчиво градско развитие на София (ФУГРС)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 algn="just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Ресурс на ФУГРС – 49.2 млн. лева, с възможност за увеличение на участието на фонда при наличие на готови за финансиране проек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Банка  партньор – Райфайзенбанк Българ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400"/>
              </a:spcBef>
              <a:buClr>
                <a:srgbClr val="00b05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убликувана покана за набиране на проекти – </a:t>
            </a:r>
            <a:r>
              <a:rPr b="1" lang="bg-BG" sz="2000" spc="-1" strike="noStrike">
                <a:solidFill>
                  <a:srgbClr val="404040"/>
                </a:solidFill>
                <a:latin typeface="Calibri"/>
              </a:rPr>
              <a:t>1.11.2012 г.</a:t>
            </a:r>
            <a:endParaRPr b="0" lang="en-US" sz="20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262626"/>
                </a:solidFill>
                <a:latin typeface="Calibri"/>
              </a:rPr>
              <a:t>Срокове за инвестиране: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50% от средствата до 31 декември 2013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80% от средствата до 31 декември 2014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lvl="1" marL="365040" indent="-255600">
              <a:lnSpc>
                <a:spcPct val="80000"/>
              </a:lnSpc>
              <a:spcBef>
                <a:spcPts val="326"/>
              </a:spcBef>
              <a:spcAft>
                <a:spcPts val="85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005828"/>
                </a:solidFill>
                <a:latin typeface="Calibri"/>
              </a:rPr>
              <a:t>100% от средствата до 30 юни 2015</a:t>
            </a:r>
            <a:endParaRPr b="0" lang="en-US" sz="1700" spc="-1" strike="noStrike">
              <a:solidFill>
                <a:srgbClr val="00b05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586728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Приоритетни области за финансиране на проектите за градско развитие: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282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сигуряване на подходяща и рентабилна образователна, социална, здравна и културна инфраструктура и подобряване на енергийната й ефективност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одобряване на физическата среда и превенция на риска чрез изграждане на нова или възстановяване на деградирана или декапитализирана градска инфраструктур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устойчиви градски транспортни системи чрез модернизация и развитие на мрежите от инфраструктура за обществен транспорт и комуникации, както и свързаната инфраструктура, включително системи за управление на трафика, паркинги и др. съоръжения за подобряване на транспортните системи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рганизация и подобряване на икономическите дейности чрез развитие и изграждане на нови институции на бизнес средат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2" descr="Jessica_logo_variant3"/>
          <p:cNvPicPr/>
          <p:nvPr/>
        </p:nvPicPr>
        <p:blipFill>
          <a:blip r:embed="rId1"/>
          <a:stretch/>
        </p:blipFill>
        <p:spPr>
          <a:xfrm>
            <a:off x="380880" y="6102360"/>
            <a:ext cx="1295640" cy="701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jaune"/>
          <p:cNvPicPr/>
          <p:nvPr/>
        </p:nvPicPr>
        <p:blipFill>
          <a:blip r:embed="rId2"/>
          <a:stretch/>
        </p:blipFill>
        <p:spPr>
          <a:xfrm>
            <a:off x="411480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OPRR_bg"/>
          <p:cNvPicPr/>
          <p:nvPr/>
        </p:nvPicPr>
        <p:blipFill>
          <a:blip r:embed="rId3"/>
          <a:stretch/>
        </p:blipFill>
        <p:spPr>
          <a:xfrm>
            <a:off x="8305920" y="6019920"/>
            <a:ext cx="5284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Допустими кандидати за финансиране от ФУГРС: </a:t>
            </a:r>
            <a:br>
              <a:rPr sz="3200"/>
            </a:b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Столична община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търговски дружества, в които Столична община има участие над 50 на сто от капитала на дружеството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други общински  публично-правни организации на Столична община по смисъла на Закона за публично-частното партньорство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ублично-частни дружества, създадени по реда и при условията на Закона за публично-частното партньорство, или лица, сключили договор за публично-частно партньорство, в които страна по договора са Столична община или нейни общински  публично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авни организации по смисъла на Закона за публично-частното партньорство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други юридически лица, включително частни инвеститор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2" descr="Jessica_logo_variant3"/>
          <p:cNvPicPr/>
          <p:nvPr/>
        </p:nvPicPr>
        <p:blipFill>
          <a:blip r:embed="rId1"/>
          <a:stretch/>
        </p:blipFill>
        <p:spPr>
          <a:xfrm>
            <a:off x="15228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jaune"/>
          <p:cNvPicPr/>
          <p:nvPr/>
        </p:nvPicPr>
        <p:blipFill>
          <a:blip r:embed="rId2"/>
          <a:stretch/>
        </p:blipFill>
        <p:spPr>
          <a:xfrm>
            <a:off x="4267080" y="6095880"/>
            <a:ext cx="785880" cy="540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зисквания за допустимост  на проект за градско развитие 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допустимите дейности по приоритетна ос 1 „Устойчиво и интегрирано градско развитие” на ОПРР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Регламентите за Структурните фондове на ЕС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Инвестиционната стратегия на Холдингов фонд по JESSICA за Българ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част от Интегрирания план за градско възстановяване и  развитие на град София или част от специалните общински планове (Общински план за развитие, Общ устройствен и Подробни устройствени планове)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руктуриран по начин, по който устойчиво генерира приход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невъзможност за реализация при чисто пазарни услов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имулиране на положителна социално-икономическа промяна и устойчиво  развитие на гр. Соф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на местната власт и широка обществена подкреп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0084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610236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jaune"/>
          <p:cNvPicPr/>
          <p:nvPr/>
        </p:nvPicPr>
        <p:blipFill>
          <a:blip r:embed="rId2"/>
          <a:stretch/>
        </p:blipFill>
        <p:spPr>
          <a:xfrm>
            <a:off x="4267080" y="617220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OPRR_bg"/>
          <p:cNvPicPr/>
          <p:nvPr/>
        </p:nvPicPr>
        <p:blipFill>
          <a:blip r:embed="rId3"/>
          <a:stretch/>
        </p:blipFill>
        <p:spPr>
          <a:xfrm>
            <a:off x="8381880" y="6095880"/>
            <a:ext cx="5288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00843c"/>
                </a:solidFill>
                <a:latin typeface="Calibri"/>
              </a:rPr>
              <a:t>Етапи на кандидатстване</a:t>
            </a:r>
            <a:endParaRPr b="0" lang="en-US" sz="4000" spc="-1" strike="noStrike">
              <a:solidFill>
                <a:srgbClr val="69676d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843c"/>
                </a:solidFill>
                <a:latin typeface="Calibri"/>
              </a:rPr>
              <a:t>1 етап – </a:t>
            </a:r>
            <a:r>
              <a:rPr b="1" lang="bg-BG" sz="2000" spc="-1" strike="noStrike">
                <a:solidFill>
                  <a:srgbClr val="00843c"/>
                </a:solidFill>
                <a:latin typeface="Calibri"/>
              </a:rPr>
              <a:t>Подаване на попълнен формуляр за кандидатстване и придружаващите го документи в офиса на ФУГРС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Образец на формуляра и приложенията към него са налични на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Calibri"/>
                <a:hlinkClick r:id="rId1"/>
              </a:rPr>
              <a:t>www.jessicasofia.com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. Придружаващите документи включват документи за доказване на правния статут на крайния получател, годишни финансови отчети, решение за обезпечаване на заема, референции от обслужващите банки и др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00843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843c"/>
                </a:solidFill>
                <a:latin typeface="Calibri"/>
              </a:rPr>
              <a:t>2 етап – Подаване на бизнес план</a:t>
            </a:r>
            <a:r>
              <a:rPr b="1" lang="en-US" sz="2000" spc="-1" strike="noStrike">
                <a:solidFill>
                  <a:srgbClr val="00843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- </a:t>
            </a: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и успешно преминаване на оценката на допустимостта на проекта, ФУГРС отправя покана до крайния получател да подаде актуален Бизнес план на проекта, както и информация за структурата на заема и предлаганите обезпечения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2" descr="Jessica_logo_variant3"/>
          <p:cNvPicPr/>
          <p:nvPr/>
        </p:nvPicPr>
        <p:blipFill>
          <a:blip r:embed="rId2"/>
          <a:stretch/>
        </p:blipFill>
        <p:spPr>
          <a:xfrm>
            <a:off x="457200" y="57150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jaune"/>
          <p:cNvPicPr/>
          <p:nvPr/>
        </p:nvPicPr>
        <p:blipFill>
          <a:blip r:embed="rId3"/>
          <a:stretch/>
        </p:blipFill>
        <p:spPr>
          <a:xfrm>
            <a:off x="4191120" y="5943600"/>
            <a:ext cx="785520" cy="53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OPRR_bg"/>
          <p:cNvPicPr/>
          <p:nvPr/>
        </p:nvPicPr>
        <p:blipFill>
          <a:blip r:embed="rId4"/>
          <a:stretch/>
        </p:blipFill>
        <p:spPr>
          <a:xfrm>
            <a:off x="8305920" y="5867280"/>
            <a:ext cx="5284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Схема на цикъла на кандидатстване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pic>
        <p:nvPicPr>
          <p:cNvPr id="259" name="Content Placeholder 7" descr="Picture1.jpg"/>
          <p:cNvPicPr/>
          <p:nvPr/>
        </p:nvPicPr>
        <p:blipFill>
          <a:blip r:embed="rId1"/>
          <a:stretch/>
        </p:blipFill>
        <p:spPr>
          <a:xfrm>
            <a:off x="533520" y="990720"/>
            <a:ext cx="7866000" cy="516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Jessica_logo_variant3"/>
          <p:cNvPicPr/>
          <p:nvPr/>
        </p:nvPicPr>
        <p:blipFill>
          <a:blip r:embed="rId2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jaune"/>
          <p:cNvPicPr/>
          <p:nvPr/>
        </p:nvPicPr>
        <p:blipFill>
          <a:blip r:embed="rId4"/>
          <a:stretch/>
        </p:blipFill>
        <p:spPr>
          <a:xfrm>
            <a:off x="4191120" y="6172200"/>
            <a:ext cx="78552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843c"/>
                </a:solidFill>
                <a:latin typeface="Calibri"/>
              </a:rPr>
              <a:t>Индикативни проекти 1 –                                    Енергийна ефективност</a:t>
            </a:r>
            <a:endParaRPr b="0" lang="en-US" sz="3200" spc="-1" strike="noStrike">
              <a:solidFill>
                <a:srgbClr val="69676d"/>
              </a:solidFill>
              <a:latin typeface="Trebuchet MS"/>
            </a:endParaRPr>
          </a:p>
        </p:txBody>
      </p:sp>
      <p:pic>
        <p:nvPicPr>
          <p:cNvPr id="264" name="Picture 2" descr="Jessica_logo_variant3"/>
          <p:cNvPicPr/>
          <p:nvPr/>
        </p:nvPicPr>
        <p:blipFill>
          <a:blip r:embed="rId1"/>
          <a:stretch/>
        </p:blipFill>
        <p:spPr>
          <a:xfrm>
            <a:off x="228600" y="5943600"/>
            <a:ext cx="1393920" cy="75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jaune"/>
          <p:cNvPicPr/>
          <p:nvPr/>
        </p:nvPicPr>
        <p:blipFill>
          <a:blip r:embed="rId2"/>
          <a:stretch/>
        </p:blipFill>
        <p:spPr>
          <a:xfrm>
            <a:off x="4267080" y="6019920"/>
            <a:ext cx="785880" cy="539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OPRR_bg"/>
          <p:cNvPicPr/>
          <p:nvPr/>
        </p:nvPicPr>
        <p:blipFill>
          <a:blip r:embed="rId3"/>
          <a:stretch/>
        </p:blipFill>
        <p:spPr>
          <a:xfrm>
            <a:off x="8381880" y="6019920"/>
            <a:ext cx="528840" cy="647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9"/>
          <p:cNvSpPr/>
          <p:nvPr/>
        </p:nvSpPr>
        <p:spPr>
          <a:xfrm>
            <a:off x="380880" y="3505320"/>
            <a:ext cx="822960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Използване на алтернативни източници на енергия за отопление на обществени сгр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оекти за енергийно улично осветление - в случай, че са част от интегрирани решения устойчиво генериращи прихо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Aft>
                <a:spcPts val="601"/>
              </a:spcAft>
              <a:buClr>
                <a:srgbClr val="0084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04040"/>
                </a:solidFill>
                <a:latin typeface="Calibri"/>
              </a:rPr>
              <a:t>Проекти за използване на ВЕИ  за производство на е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0" descr="collage4.jpg"/>
          <p:cNvPicPr/>
          <p:nvPr/>
        </p:nvPicPr>
        <p:blipFill>
          <a:blip r:embed="rId4"/>
          <a:stretch/>
        </p:blipFill>
        <p:spPr>
          <a:xfrm>
            <a:off x="380880" y="137160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53:30Z</dcterms:created>
  <dc:creator>Nadia Dankinova</dc:creator>
  <dc:description/>
  <dc:language>en-US</dc:language>
  <cp:lastModifiedBy> </cp:lastModifiedBy>
  <dcterms:modified xsi:type="dcterms:W3CDTF">2012-11-05T08:46:56Z</dcterms:modified>
  <cp:revision>85</cp:revision>
  <dc:subject/>
  <dc:title>Slide 1</dc:title>
</cp:coreProperties>
</file>