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7F54-59F3-479A-861B-5690EDA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E8F51-BFC4-4AA4-B740-120FEAD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E77D7-E1E3-4C77-AEF2-FB2E3070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4D12-3AC7-45D7-9B81-A698DC4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2B87-9AFD-4661-8D25-3D4FC13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D15E-1154-4B56-A7CE-90095C6B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CCFAE-CC3D-4083-A4C8-16C93189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C4C4-0003-4FF3-B82F-DA46F51F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727B-DE40-4730-A4C8-10834E8C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A9F22-E20D-41A2-9D17-ED06AF36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2C096-655D-46A6-BCB5-B6546A8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45380-916A-4005-BF33-8BDCBB4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D558A-D8E8-4644-A0FD-4D0CDC35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8023C-A800-4D41-B80B-8CF07905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83A85-9869-44F3-93ED-C0114E52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6E548-527A-429B-A3AB-01FBBA2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557F1-78C7-43E2-8A6F-2F59A68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ABDA5-ED25-48B0-9D73-BB6D01E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C2E4-A82C-46FB-B072-33C1788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5E552-8254-405F-9C92-15B0433F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6CECD-AC08-48F6-9807-0BE53EC1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2B3BC-6CA0-41DB-A456-A2BBBEE3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23CD2-2FBD-4654-8B1D-88D3DC18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8EB90-16AB-4E36-BA4A-0463FB7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3CCAA-998D-4E5E-A440-2A53F195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DB307-28B7-4B35-973B-F1DDDD5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F9F4C-A6C9-4A4A-BAE8-9EE4B818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9C948-F026-4F8B-A830-ECAFD35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361DE-8A02-45E5-93DE-F28872C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07BB-4996-41D3-B360-DBB522A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DC7-DD7A-4784-BFED-E9DC12DE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4CC19-9884-43EC-8189-478BDE5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712B6-D47D-4266-8AFD-EE276509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59012-DC38-4A1E-8767-77A08BAA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30786-B317-418E-9761-032BBACF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EB522-3F16-4F63-AF0F-029673C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30B77-670E-4258-943E-9485F03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76EE-D003-4CCB-BEE3-CFC466AC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22A4-B442-4DBA-BB1C-2008373A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E44DB-631E-4D5A-9968-C1B52EE3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87951-E1BC-429E-ABEC-13C2B51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E57-B1D1-470D-87B8-6E8009F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5C2B8-FA24-49B4-B8AB-B753067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5F557-658E-4762-8605-D816F49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B713D-2CD4-40C9-9C42-A2260B79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D9A8-0927-431A-ACF0-BC976100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8D7BD-6A80-4D30-A1E1-185B3FBC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CB8-B9A3-4F11-872D-2D95F9C3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43B-3899-4D64-859D-F6E5C2A7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4D8-C248-4EB3-B068-7C3470F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997-50C1-47E5-90C9-74BB37F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9ED-A908-4177-8E7D-3626D1F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C33-E4F2-44B2-B7BD-DB2C75F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BEC-08BC-43E7-9112-8898408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917-48E7-4450-8782-ED4C07C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708-322C-47EF-9C02-66F03428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C65-4829-45EA-8391-B03C1D19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20E5-DCAD-4648-9DC1-85A9DCC3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408-0380-4D98-8A9E-730B59EB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72B-8B55-4480-9979-B3A81EF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AD86-CAC7-4FDE-9EE6-946B36F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3947-E588-45BD-8270-7D065243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62A9-B195-4EA0-A794-AEA9F07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BB34-5CC9-4F28-88BB-3A6F434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DE9-B49A-4457-A77F-42601331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F4C2-D191-4C0D-ABA8-04DD896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2810-6658-4FE7-84FF-24D7191D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8F6F-6294-4198-8BED-591D9A9C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EC2A-5183-4316-A87B-FC86970F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CD2D-F176-4FA3-9BB6-130B8E58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196B-82EF-4AB7-9AD9-20B4E84D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524-84CC-408C-887E-327761EC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1A59-4176-4545-9F1E-E680E35F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F7C5-AA71-49CE-82F1-D1A5A08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8511-F6C9-4023-88DF-A21574D9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6D50-7703-4776-B864-D83316F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0E55-D324-4530-B875-401614E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F8FA-2098-42D4-8D40-5E9B5AF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8DC7-8384-45C9-8567-C711005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F28A-6380-4004-8283-2A7FAAD1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8298-781A-4515-AA60-CC973A93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88F6-5FA3-4E28-8351-FB79077D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6682-F6A9-40C3-8368-5607ECB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8EA9-1ECC-4F47-ACA0-A09C1DCF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47EB-43F7-4914-A8F2-B9CA3942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05F2-9A25-4BED-8F22-C2336C03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D23A-6332-49B6-8CD1-957231BE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4FDC-212A-4819-9777-5FBB1E5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C35C-A939-4D23-A787-B02191E9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0AAA-2B88-434B-AFF0-FFB1E94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6675-5FDA-4EE7-9B24-0E4E68B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F246-5BDA-4F09-849A-35AB14F8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8A92-2226-4282-B486-10CA9ADD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E4F0-F2D2-4BB2-AA8F-2C38C521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A3BD-9BE3-4304-8D1C-5036584A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5EE9-5DFD-4D3A-BF8F-465ABA7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56BA-48DC-4A66-AC37-59ED4D1F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AD58-3221-452E-960B-6CE2D33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3A04-6A80-4E5D-91DB-E6C36887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415C-419E-4824-9201-38CB292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C8F4-9DE7-427B-A85F-1944F27D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4B27-CCA7-4C29-AF1D-A524F99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3EEB-5281-494B-ABFC-E435D785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E93C-B2B3-4F87-B6F4-91AC3D77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DD67-A1C5-4DB4-A0FA-27152422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BC17-0A99-4B48-9640-F0BE5749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3ADDE-42AD-4C66-900A-A7B6636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765C-3396-4654-83AE-FE9AAC8E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9BB5F-6DCF-4674-BA8C-FEAC1CA5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ADCD4-4F8A-4DFA-9C9E-F2ECF43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57EEC-33F6-4682-A73E-7D399F1F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9B0E-0EB2-4FDC-9FAE-6B8B622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E693-4229-4ACB-A7C5-814A254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EF010-1EB1-47A4-A951-6FC812B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90EE1-7FE0-4B52-8A54-3FE8DED7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78A2C-D0DE-4685-8382-EAF5BA28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27DE-BAEC-4264-B792-03A61F81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9A2F5-AB11-4343-978A-0CC02B73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C4D5-596D-42EE-A2B1-A6E58CA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88CA-9FF6-485F-9F9B-D32B58C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0EBAA-D202-43DD-B05B-F2F6BBB9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D2FBF-0200-47FC-A07E-C54D181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937E-6632-4694-B6B7-2C3EE1BD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34F04-0542-495A-8C67-314A421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AEDB-04A6-4240-B47E-B4B6063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081D-2A54-44C1-BC8E-5FF1BCBD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C9CB-D456-46BC-A0FC-D2120A36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9AA2-CEF8-4133-BE5C-C2E6A4F7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A1EB5-C59C-448D-A3FD-246E317D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60E17-71DE-4AAB-8967-2EDDD40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7ECE-757D-4F9D-BB3C-A7633C7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595F-3F6A-4559-B351-8DC1133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60D-BE25-4D91-8508-7ECDDEB00C63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93F-220F-4131-BCB0-69A40B37AE3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7ECB-F566-4397-B699-4E8D70DD14C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1228-0DED-41DB-B3CE-5F6F2D0E7F0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52B-7A1F-4B98-A3E4-E71C70C3651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8FC-6E2B-4326-BF57-7FF5457B0FF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4036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8540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F8C-B5F9-4273-98FA-4A1606B3E01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679-D0E2-46DD-B169-59AFB2985C0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96BA-40CB-4B1B-936D-588D7618C971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95A-03DB-4A74-B969-45A90A0EB6A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4AE-93CE-4024-B847-7365DB81F531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41F-C87C-4D84-A3A1-BEEAFC13949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2BB-2B9B-41D3-A44B-CD2A77202FC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89A-276A-450C-AC7B-63320F25C84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9EDE-A04D-4538-9477-F00BB71D6E33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713-47EF-45ED-8299-49590BB6549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D222-16BE-498F-A8C5-E261FADCAA0C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D810-6FA0-4DA6-9837-371EA75E3A9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F7D-E05E-4675-87DD-35A8248E911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236-32CF-4880-AD0C-0383B08D7D6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937-7CC6-4126-BD91-21FCB8C2D78A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52A-E4D2-407F-A091-45525EFB8A5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468360" y="1700280"/>
            <a:ext cx="83516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авоъгълник 3"/>
          <p:cNvSpPr/>
          <p:nvPr/>
        </p:nvSpPr>
        <p:spPr>
          <a:xfrm>
            <a:off x="250920" y="1484280"/>
            <a:ext cx="8642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ключителна прес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говор № РД-02-29-16/21.01.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аботване на специфично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операции за бенефициенти и консулт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разработване и изпълнение на проекти по О</a:t>
            </a: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Р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G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1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O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1/5-01/2008/01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нансиран от Оперативна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гионално развитие” 2007-2013 г</a:t>
            </a: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пълнени дей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ност 1. Логистично осигуряване на обученията на бенефициентите на ОПР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ност 2: Разработване на програми за обучение по конкретни операции (схеми) на ОПРР, включваща 2 основни компонен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ализ на потребностите от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хват на изследването: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% от общините - бенефициенти на ОПРР и 100% от конкретните бенефициенти на ОПР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Разработване и провеждане на обучения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рой на обученията – 109 обу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рой на участниците в едно обучение – средно 15 ч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дължителност на едно обучение – 2 / 3 д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ност 3: Осигуряване на обмяна на опит - посещения в държави членки на ЕС с доказан добър опит в регионалната полити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ирани 28 пътувания с продължителност 5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работни</a:t>
            </a: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дн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ъв всяка група участваха по 12 представители на бенефициен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468360" y="1700280"/>
            <a:ext cx="778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време на </a:t>
            </a:r>
            <a:r>
              <a:rPr b="0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разработването на про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овната ни цел беше да подпомогнем бенефициентите да разработят качествени проекти в съответствие с изискванията на всяка конкретната сх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ва прави проекта конкурентоспособен и му дава шанс да бъде одобрен/подкрепен финанс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684360" y="1773360"/>
            <a:ext cx="7783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време на </a:t>
            </a:r>
            <a:r>
              <a:rPr b="0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изпълнението на проек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след сключване на договор за изпълн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овната цел беше бенефициентите да бъдат подпомогнати, за да управляват и реализи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я проект по добър начин – ефективно и ефикас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 постигнат най-добър резултат в съответствие с изискванията на конкретната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468360" y="1557360"/>
            <a:ext cx="778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стоен анализ на нуждите от обучение на бенефициент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ктически ориентирани обучения в малки групи с използване на иновативни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ипът - висококвалифицирани опитни експерти със силна мотивация за отлично изпълнение на задач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460440" y="1484280"/>
            <a:ext cx="778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рез </a:t>
            </a:r>
            <a:r>
              <a:rPr b="0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УЧЕБНИТЕ ПЪТУВАНИЯ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ставители на бенефициентите имаха възможност да се запознаят с опита и добрите практики на страни – партньори от Европейския съюз при решаването на проблеми, които са обект на конкретните схеми за безвъзмездна помо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250920" y="1413000"/>
            <a:ext cx="84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еинституционализация на социални институции, предлагащи услуги за деца в рис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и планове за градско възстановяване и развит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азвитието на природни, културни и исторически атрак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създаване и промотиране на иновативни културни съб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ъвместна европейска инициатива за устойчиви инвестиции в градските райони JESS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23640" y="1268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общини извън градските агломерационни аре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градските агло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в градските агло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на 178 малки общ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енергийна ефективност в многофамилни жилищни сгр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539640" y="126828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74760" y="12081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градските аглом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178 малки общ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Столична общ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Община Бург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539640" y="126828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395280" y="1557360"/>
            <a:ext cx="77835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НАТИ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готвен план за провеждане на обучения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аботена методология на обучения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и методи за оценка на ефективността от проведените обучения и степента на удовлетвореност на обучаем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и програми за обучение на служителите на бенефициентите по различните операции (схеми) по ОПР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250920" y="1341360"/>
            <a:ext cx="849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НАТИ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ирани и проведени 1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9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 1760 представители на бенефициентите общо в България и чужбина (заложени минимум 1584 представи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о подробно съдържание на всеки модул в зависимост от съответната обучителна прогр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и обучителни материали по съответните програми за обучение на служителите на бенефициентите по ОПР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 график за изпълнение на отделнит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Rectangle 2"/>
          <p:cNvGrpSpPr/>
          <p:nvPr/>
        </p:nvGrpSpPr>
        <p:grpSpPr>
          <a:xfrm>
            <a:off x="676440" y="1335240"/>
            <a:ext cx="7864200" cy="2676240"/>
            <a:chOff x="676440" y="1335240"/>
            <a:chExt cx="7864200" cy="2676240"/>
          </a:xfrm>
        </p:grpSpPr>
        <p:pic>
          <p:nvPicPr>
            <p:cNvPr id="626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1335240"/>
              <a:ext cx="786420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684360" y="1341360"/>
              <a:ext cx="78483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ои сме ни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</a:t>
              </a: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онсорциум „С.И.Ц.И. Доминус ООД </a:t>
              </a:r>
              <a:r>
                <a:rPr b="1" lang="bg-BG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и </a:t>
              </a: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ългарска консултантска организация ООД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324000" y="126828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НАТИ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брани 6 страни членки на ЕС с доказани добри практики в изпълнението на регионална полит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готвена програма за осъществяването на учебните пътувания в страни членки на ЕС с доказани добри практики в изпълнението на регионална полит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ирани и проведени 28 пътувания в страни членки на ЕС с доказани добри практики в изпълнението на регионална поли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истично обезпечено провеждането на обученията на територията на Р Българ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игурени 2 пресконференции относно изпълнението на договора – откриваща и закриващ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468360" y="1268280"/>
            <a:ext cx="7991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Столична общин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Община Бургас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азвитието на природни, културни и исторически атрак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създаване и промотиране на иновативни културни съб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468360" y="134136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еинституционализация на социални институции, предлагащи услуги за деца в рис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осигуряване на съвременни социални жилища за настаняване на уязвими, малцинствени и социално слаби групи от населението  и други групи в неравностойно полож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и планове за градско възстановяване и развит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ъвместна европейска инициатива за устойчиви инвестиции в градските райони JESS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395280" y="1341360"/>
            <a:ext cx="820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, обновяване и оборудване на държавни лечебни и здравни заведения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общини извън градските агломерационни ареа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178 малки общ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468360" y="1413000"/>
            <a:ext cx="7775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енергийна ефективност в многофамилни жилищни сгра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на 178 малки общ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азвитие на критична, защитена, сигурна и надеждна обществена ИКТ инфра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468360" y="1268280"/>
            <a:ext cx="8070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помогнахме партньорите от общините и министерствата /агенциите да придобият необходимите </a:t>
            </a:r>
            <a:r>
              <a:rPr b="1" i="1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знания</a:t>
            </a: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умения</a:t>
            </a: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да развият </a:t>
            </a:r>
            <a:r>
              <a:rPr b="1" i="1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да разработват добри проек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да реализират проектите по добър начин (ефективно, икономично; да постигнат най-добър резулт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да се подобрят условията за живота на българските гражда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755640" y="1700280"/>
            <a:ext cx="7775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ЛАГОДАРИМ 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ВНИМАНИЕТ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СТО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В ПРОГРАМЕН ПЕРИОД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900000" y="1268280"/>
            <a:ext cx="77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ИЯТ ЕК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ъководител</a:t>
            </a:r>
            <a:r>
              <a:rPr b="1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ючови експер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подготовката и изпълнението на учебния 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 по изготвяне на програмите за обу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 по методите и формите на обу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 по програмите за осъществяване на пътуванията за обмяна на опит в страни членки на ЕС с доказани добри практики в изпълнението на регионална поли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ключови експерти: 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 специалисти в конкретните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395280" y="193248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пълнихме договор с МР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изпълнение на дейности по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G161PO001/5-01/2008/014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репване на капацитета на бенефициентит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 „Регионално развитие”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успешно участие в изпълнението на ОПРР и усвоя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средствата, отпуснати от Структурните фонд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рез изпълнение на плана за обучени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539640" y="1341360"/>
            <a:ext cx="77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250920" y="147276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ът беше реализиран чрез схема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оставяне на безвъзмездна финансова помо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№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G161PO001/5-01/2008 „Техническа помощ за подготовка, управление, наблюдение, оценка, информация, контрол и укрепване на административния капацитет за изпълнение на ОП „Регионално развитие” 2007–2013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нансирана по Оперативна прог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гионално развитие”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007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13 г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оритетна ос 5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ическа помощ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ерация 5.3. „Изграждане на капаците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нефициентите на ОПРР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68360" y="1268280"/>
            <a:ext cx="77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3"/>
          <p:cNvSpPr/>
          <p:nvPr/>
        </p:nvSpPr>
        <p:spPr>
          <a:xfrm>
            <a:off x="539640" y="1484280"/>
            <a:ext cx="77835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</a:t>
            </a: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ремеви параметри на до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1 Януари 2011 г. – 20 януари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продължителност – 2 год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57200" y="1600200"/>
            <a:ext cx="7354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з целия период на изпълнението на прое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ахме конструктивно партньорство с МРРБ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в часност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Д „Програмиране на регионалното развитие” в качеството й на Управляващ 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Оператив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гионално развитие” 200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7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20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395280" y="1339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рез изпълнението на до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е подпомогнах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евите групи бенефициен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на ОПР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ини, министерства, агенции и др. конкретни бенефициенти да развият своя капацитет за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пешно разработване и изпълнение на проекти по ОПРР като така допринесохме за осъществяването на полезни за развитието на населените места и регионите проекти и за ефективното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свояване на средствата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9528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ите, които постигнах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а ц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репване капацитета на бенефициентите на Оперативна програма „Регионално развитие” 2007-2013 г. при разработване и изпълнението на проекти по ОПР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ецифични 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аботване на програми за обучение, предлагащи подходящи интервенции с цел придобиване на знания и умения на бенефициентите на ОПРР за ефективно усвояване на средствата, отпуснати по ОПР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ждане на обучения за служителите на бенефициентите в различни области – подготовка на проектни предложения, управление и изпълнение на проек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мяна на опит със страни членки на ЕС чрез провеждане на учебни пъту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NaydenovaTs</cp:lastModifiedBy>
  <dcterms:modified xsi:type="dcterms:W3CDTF">2013-01-09T14:40:20Z</dcterms:modified>
  <cp:revision>148</cp:revision>
  <dc:subject/>
  <dc:title>Слайд 1</dc:title>
</cp:coreProperties>
</file>