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F14B5-25BC-4ED4-B5F8-2B8E7B10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59187-58C2-42F4-AB49-8EED3DB2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3BC3A-7D17-476A-AE52-E06A91CE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A76B1-3E19-4B1F-B477-08578AA0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E49D6-8EA5-4A6D-BCDA-AC98F874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EF70E-6DC0-4178-A3B2-E5CB89D0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F047F-3272-47F1-AE3D-9D75222C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885FA-10BB-4602-B2F4-A6DC8C95E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2A3A2-9A56-4383-8A86-8C811E93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F4C69-53FE-4C5F-9EEB-FE8AB7A3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08D85-A4FE-4ECB-9896-E72E985A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D98EE-547D-4215-8D50-D1663DBC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1B8EF-C692-4216-9CD5-104CC212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AA607-2549-486A-9F46-F3CA287D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55D9F-2F45-45D9-9397-33BBEB9A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41FF7-44E8-49D1-BAE2-41E5BCE6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8E948-A9B8-439F-A259-5F67C10A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092CC-96F0-41C9-86FF-F8D38991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5D53E-3CB5-4175-898E-67D40D9E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3A451-3C53-4B2C-9FDE-5B8B1F796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1D2C4-CD2D-4F63-B9C3-F62C02302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500EBA-8A6C-4064-AC45-9C1925AE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40D4E9-F216-4CE1-953B-EAD057C1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8C283-4D8C-4BD9-BD1C-45F935F1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4D7D2-120C-413A-8181-8E3040AF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2F83C-4288-4A63-9ED9-D119F8CF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23347-6504-4E85-A444-AFBE76A4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51FB0-7DD5-40AE-B979-3B9907F4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ED6B0-5159-49DB-BACD-E402C5ED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5654E-B7BC-4840-9177-84BFF09D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3524-F080-4D2E-A8DB-64C9E5AB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869D6-8BA9-459A-8441-D91590DF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F8262-85B1-46DE-B3A1-AA2C9DEFA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8BA2E-B565-4E1C-B3A2-A0B50B54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E3976-A6E9-4126-A03C-EA6245235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5498D-3587-488A-B788-CCE1341F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228BB-94B1-4D6B-8BBB-D566E1DA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E6AF6-F275-4F4F-BDC6-CEF64C82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DD5C1-7DB8-454F-B57B-54B63122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54EF9-2B98-41D4-8011-A5852461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B027A-7AEF-4F0A-8FE5-BE13AE24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B9BB-EE30-434F-AEBE-DA191208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43E3A-FC92-4AAA-8C77-68D2E57E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E6F2C-FEEF-4605-8DA0-61019FE8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AC5A9-497D-4893-8847-D5F5ED6C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18B1D-FD6C-40A8-9B6F-7B97ED355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89E87-E1CF-4987-A7B3-3321B37F9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F038-11E9-49D8-9DEE-5F91B701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7E68-2104-4089-8CD0-14E366AA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C1EE-41CA-4CFB-9FC0-7B5D9F14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F691-5A56-45E4-A6E6-1A1F1FA3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ED23-1574-458B-B477-EC73570C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D796-1FD3-4AB4-AC39-19E3A49B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45CB-A364-4357-9DBE-0993EB35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15C7-9107-441F-A8DD-CD8F90D0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E6F3-B46B-4C74-8E94-2A3BCBB85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5641-F287-41BB-A6E7-4287E1BD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6804-1E60-4240-8ECE-15068F3A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7936-774D-4A73-9C05-4AEF47A0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AFF3-EBDB-4DE2-9EE3-BEDB9224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47E5-7733-4C7D-9516-9382F948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A9AE-E812-46F5-A033-A404685B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C174-4572-4E79-88DD-0FBA742F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B1F6-9A41-47BE-AA4F-4923D2A9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03DD-64E8-417F-9ED0-50FF7396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B282-872A-4722-A639-392B548D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A3A0-E82A-4B19-9B3F-44533F9B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47A0-4EAF-47CD-8815-E6F016B6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6A4B-BF53-4013-8994-23A08751E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14C09-C4FC-4A89-9FCA-F18A42FB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FBC2F-A58D-4E84-BFCF-E83763AC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4D11E-0477-4F62-B645-2774B10E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FCC9D-23DE-4FA0-85ED-1FB56427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71783-8CE0-4922-A244-E3616B0A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C4D8D-0E68-4E60-A28B-EC2CE5F1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E394B-D14D-4AC8-8B67-248D717D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F8088-15B3-4004-AEC0-0DD31816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34180-ACCA-49EA-8EE8-604557C7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0AB62-546F-4757-982D-4E4B93D7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3A7B1-FC9F-42E0-90DE-84BC780AE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DAA23-A808-4AFB-82D4-0F27F64A1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816B9-74F1-4E7E-B336-5449ABE3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71926-3EA3-4B61-9F8C-FD0E2F04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CA791-ACD8-4973-923B-010330E3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90603-BAA2-4425-B7F9-12546D8A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E2DD7-E37C-4824-9654-FDE4E814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CF413-8ACD-4521-A172-A42C9575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85B63-C591-4713-ABAA-A8D2C44C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911F9-5CC3-48B3-9B1C-7DB60922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71F07-3D71-4426-81D6-061019C8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3A47D-3B04-4401-97FE-5F64740B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CF331-50AD-44DC-83A3-A68BFF07E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150F2-788C-4075-984C-D0E74D19C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82AFC-0C4D-4AA8-88F4-2367ECCD6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3CE13-9642-4CC8-B172-AEB87F63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C83EE-CD76-4783-ACEF-EF3B71FA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EB4A2-4AD5-4276-B012-F9B8E393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FE473-FCB0-49F4-B9E8-CA6DCF7E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CFAC5-6C2D-40A4-ABB9-C77AD34F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86A6F-B18A-4067-AD9F-878265A8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B6C2C-5559-4D80-9E7B-1204BBE3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B59D9-620B-4633-B2E9-A505C513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BA568-E32B-433F-88C9-82430123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87DDF-09E4-4311-9C33-81765FA3A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02630-8720-4B76-B57E-6048F00D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6B28A-EDDB-462C-932F-B3C3E5A4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FD08B-0FDE-427B-B2A0-4806183D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9D707-1E16-465A-9C62-188C15C7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CCAB1-AE03-4979-8D4A-9FE55EB3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AF127-142E-4D90-8B82-90BC61AC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E981D-D78D-4E1C-ADA5-C292D688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5E054-7D30-4D70-A87F-32890D28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1CF7A-9C03-45A5-9111-AA935792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BFF68-C9FD-49D9-8283-44D50051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E221A-6DFC-4906-B5C5-EE42F0E3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314F5-A252-4B18-88FB-7B9EC96A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F38D6-8B25-4C94-A54E-019AD35D9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B6AE8-FAE2-453C-8330-0896C856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23004-FDE2-4B3D-8BC2-F16EB4C4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417A1-1D7D-4375-B8EE-3CFDD045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D2782-D48E-471A-A89C-DBAF4607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5760F-CC6F-4784-A612-4E9B23E7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CE200-FC8A-495E-929B-FFB85EAD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DF0C4-8309-487D-BE12-461E4A73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FA94D-9317-4A1E-A4ED-54C19579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7FA6B-C156-493C-80DC-4E930CB6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2B4B1-19A8-475E-8B19-88969A1D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AA5D6-6BF0-4877-8D6A-574D0DCB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77781-C517-4ADD-B799-3E548DCB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4AC32-510F-40D7-B718-AE8BFBB88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96059-9AAE-4D52-8C3C-71B8B1D1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EE81B-9E1E-4B0F-9E08-FB1D7C16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6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6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7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7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D7F0-4B23-496C-95ED-F3DBFDC3C039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BEC5-0307-4125-8438-5F5D8502FBEE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2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2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3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CE72-82D3-44B7-8D5B-696BFCBAF284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3619-9A4E-42D3-A50E-24172C9B75FC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7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7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8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D2B6-0F13-4F49-AA75-DD8AC11E529F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DD77-A550-443D-BA28-DF9DBFD63314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9"/>
          <p:cNvSpPr/>
          <p:nvPr/>
        </p:nvSpPr>
        <p:spPr>
          <a:xfrm>
            <a:off x="774036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5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4"/>
          <p:cNvSpPr/>
          <p:nvPr/>
        </p:nvSpPr>
        <p:spPr>
          <a:xfrm>
            <a:off x="18540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5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6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096A-7472-443E-A76F-45536DB4F82D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817F-43AC-4087-B034-714068524FAD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09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BCA8-781C-4954-B274-6257F81963AF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1FE8-1123-429B-9EA5-73D5F7F2E519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6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6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2786-67AC-494E-B397-20E6751A462B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3269-6933-4D9A-ADFE-F17C0248CF72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1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1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D776-13A0-404F-9EFB-AD3DB8B802FE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DDD0-63D9-446E-8884-112B6D5BE85D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6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7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4202-817A-4188-BB42-EDFF138F233D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7654-F577-4BD3-8526-52A02D8295D2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1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2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A420-DA66-47A4-ABC2-452706BC7CD9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DF63-4083-4674-9864-6E36563FAFBD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6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69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7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F457-6FD8-4B39-B5C5-3BF359AB5348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52F5-1D9A-49A3-AA2E-F4B279F383A5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1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2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2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852B-3F85-44D9-99A6-2D07221EA99F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4D57-BA53-48E9-AB9B-7CDEDB689F58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2"/>
          <p:cNvSpPr/>
          <p:nvPr/>
        </p:nvSpPr>
        <p:spPr>
          <a:xfrm>
            <a:off x="468360" y="1700280"/>
            <a:ext cx="835164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авоъгълник 3"/>
          <p:cNvSpPr/>
          <p:nvPr/>
        </p:nvSpPr>
        <p:spPr>
          <a:xfrm>
            <a:off x="250920" y="1484280"/>
            <a:ext cx="86421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ключителна пресконфе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оговор № РД-02-29-16/21.01.201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„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работване на специфично 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 операции за бенефициенти и консултир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 разработване и изпълнение на проекти по О</a:t>
            </a: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Р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ект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G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61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PO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001/5-01/2008/014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финансиран от Оперативна прог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„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егионално развитие” 2007-2013 г</a:t>
            </a:r>
            <a:r>
              <a:rPr b="1" i="1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зпълнени дей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ейност 1. Логистично осигуряване на обученията на бенефициентите на ОПР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ейност 2: Разработване на програми за обучение по конкретни операции (схеми) на ОПРР, включваща 2 основни компонент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нализ на потребностите от обуч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хват на изследването: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0</a:t>
            </a:r>
            <a:r>
              <a:rPr b="0" lang="bg-BG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0% от общините - бенефициенти на ОПРР и 100% от конкретните бенефициенти на ОПР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. Разработване и провеждане на обучения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рой на обученията – 109 обуче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рой на участниците в едно обучение – средно 15 чове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дължителност на едно обучение – 2 / 3 дн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ейност 3: Осигуряване на обмяна на опит - посещения в държави членки на ЕС с доказан добър опит в регионалната политик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рганизирани 28 пътувания с продължителност 5</a:t>
            </a: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работни</a:t>
            </a:r>
            <a:r>
              <a:rPr b="0" lang="bg-BG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дн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ъв всяка група участваха по 12 представители на бенефициентит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3"/>
          <p:cNvSpPr/>
          <p:nvPr/>
        </p:nvSpPr>
        <p:spPr>
          <a:xfrm>
            <a:off x="468360" y="1700280"/>
            <a:ext cx="77835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 време на </a:t>
            </a:r>
            <a:r>
              <a:rPr b="0" lang="bg-BG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разработването на проек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сновната ни цел беше да подпомогнем бенефициентите да разработят качествени проекти в съответствие с изискванията на всяка конкретната схе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ова прави проекта конкурентоспособен и му дава шанс да бъде одобрен/подкрепен финанс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3"/>
          <p:cNvSpPr/>
          <p:nvPr/>
        </p:nvSpPr>
        <p:spPr>
          <a:xfrm>
            <a:off x="684360" y="1773360"/>
            <a:ext cx="77832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 време на </a:t>
            </a:r>
            <a:r>
              <a:rPr b="0" lang="bg-BG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изпълнението на проект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след сключване на договор за изпълн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сновната цел беше бенефициентите да бъдат подпомогнати, за да управляват и реализир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воя проект по добър начин – ефективно и ефикас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а постигнат най-добър резултат в съответствие с изискванията на конкретната сх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3"/>
          <p:cNvSpPr/>
          <p:nvPr/>
        </p:nvSpPr>
        <p:spPr>
          <a:xfrm>
            <a:off x="468360" y="1557360"/>
            <a:ext cx="77835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стоен анализ на нуждите от обучение на бенефициенти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актически ориентирани обучения в малки групи с използване на иновативни мето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кипът - висококвалифицирани опитни експерти със силна мотивация за отлично изпълнение на задач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3"/>
          <p:cNvSpPr/>
          <p:nvPr/>
        </p:nvSpPr>
        <p:spPr>
          <a:xfrm>
            <a:off x="460440" y="1484280"/>
            <a:ext cx="77835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ведени учебни пътувания по 15 схе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рез </a:t>
            </a:r>
            <a:r>
              <a:rPr b="0" lang="bg-BG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УЧЕБНИТЕ ПЪТУВАНИЯ </a:t>
            </a: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едставители на бенефициентите имаха възможност да се запознаят с опита и добрите практики на страни – партньори от Европейския съюз при решаването на проблеми, които са обект на конкретните схеми за безвъзмездна помощ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3"/>
          <p:cNvSpPr/>
          <p:nvPr/>
        </p:nvSpPr>
        <p:spPr>
          <a:xfrm>
            <a:off x="250920" y="1413000"/>
            <a:ext cx="8424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ведени учебни пътувания по 15 схе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деинституционализация на социални институции, предлагащи услуги за деца в риск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интегрирани планове за градско възстановяване и развити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развитието на природни, културни и исторически атракц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създаване и промотиране на иновативни културни събит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ъвместна европейска инициатива за устойчиви инвестиции в градските райони JESSIC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323640" y="126828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ведени учебни пътувания по 15 схе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реконструкция/обновяване и оборудване на общински лечебни заведения в общини извън градските агломерационни ареа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реконструкция/обновяване и оборудване на общински лечебни заведения в градските агломер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прилагане на мерки за енергийна ефективност в общинска образователна инфраструктура в градските агломер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прилагане на мерки за енергийна ефективност в общинска образователна инфраструктура на 178 малки общи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енергийна ефективност в многофамилни жилищни сгра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539640" y="1268280"/>
            <a:ext cx="7632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8280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374760" y="120816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ведени учебни пътувания по 15 схе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дребномащабни мерки за предотвратяване на наводнения в градските агломер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дребномащабни мерки за предотвратяване на наводнения в 178 малки общи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интегриран градски транспорт в Столична общи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интегриран градски транспорт в Община Бурга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интегриран градски транспорт в петте големи град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3"/>
          <p:cNvSpPr/>
          <p:nvPr/>
        </p:nvSpPr>
        <p:spPr>
          <a:xfrm>
            <a:off x="539640" y="1268280"/>
            <a:ext cx="7632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82800" indent="-5335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3"/>
          <p:cNvSpPr/>
          <p:nvPr/>
        </p:nvSpPr>
        <p:spPr>
          <a:xfrm>
            <a:off x="395280" y="1557360"/>
            <a:ext cx="778356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СТИГНАТИ ИНДИКА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зготвен план за провеждане на обучения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работена методология на обучения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зработени методи за оценка на ефективността от проведените обучения и степента на удовлетвореност на обучаеми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зработени програми за обучение на служителите на бенефициентите по различните операции (схеми) по ОПР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3"/>
          <p:cNvSpPr/>
          <p:nvPr/>
        </p:nvSpPr>
        <p:spPr>
          <a:xfrm>
            <a:off x="250920" y="1341360"/>
            <a:ext cx="84978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СТИГНАТИ ИНДИКА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рганизирани и проведени 1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09</a:t>
            </a: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обуч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учени 1760 представители на бенефициентите общо в България и чужбина (заложени минимум 1584 представите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зработено подробно съдържание на всеки модул в зависимост от съответната обучителна програ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зработени обучителни материали по съответните програми за обучение на служителите на бенефициентите по ОПР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зработен график за изпълнение на отделните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Rectangle 2"/>
          <p:cNvGrpSpPr/>
          <p:nvPr/>
        </p:nvGrpSpPr>
        <p:grpSpPr>
          <a:xfrm>
            <a:off x="676440" y="1335240"/>
            <a:ext cx="7864200" cy="2676240"/>
            <a:chOff x="676440" y="1335240"/>
            <a:chExt cx="7864200" cy="2676240"/>
          </a:xfrm>
        </p:grpSpPr>
        <p:pic>
          <p:nvPicPr>
            <p:cNvPr id="626" name="Rectangle 2" descr=""/>
            <p:cNvPicPr/>
            <p:nvPr/>
          </p:nvPicPr>
          <p:blipFill>
            <a:blip r:embed="rId1"/>
            <a:stretch/>
          </p:blipFill>
          <p:spPr>
            <a:xfrm>
              <a:off x="676440" y="1335240"/>
              <a:ext cx="7864200" cy="26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684360" y="1341360"/>
              <a:ext cx="7848360" cy="26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bg-BG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Кои сме ние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К</a:t>
              </a:r>
              <a:r>
                <a:rPr b="1" lang="ru-RU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онсорциум „С.И.Ц.И. Доминус ООД </a:t>
              </a:r>
              <a:r>
                <a:rPr b="1" lang="bg-BG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и </a:t>
              </a:r>
              <a:r>
                <a:rPr b="1" lang="ru-RU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Българска консултантска организация ООД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3"/>
          <p:cNvSpPr/>
          <p:nvPr/>
        </p:nvSpPr>
        <p:spPr>
          <a:xfrm>
            <a:off x="324000" y="1268280"/>
            <a:ext cx="84247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СТИГНАТИ ИНДИКА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збрани 6 страни членки на ЕС с доказани добри практики в изпълнението на регионална политик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зготвена програма за осъществяването на учебните пътувания в страни членки на ЕС с доказани добри практики в изпълнението на регионална политик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рганизирани и проведени 28 пътувания в страни членки на ЕС с доказани добри практики в изпълнението на регионална полит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Логистично обезпечено провеждането на обученията на територията на Р Българ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сигурени 2 пресконференции относно изпълнението на договора – откриваща и закриващ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3"/>
          <p:cNvSpPr/>
          <p:nvPr/>
        </p:nvSpPr>
        <p:spPr>
          <a:xfrm>
            <a:off x="468360" y="1268280"/>
            <a:ext cx="79912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ведени обучения по 18 схе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интегриран градски транспорт в Столична общин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интегриран градски транспорт в Община Бургас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интегриран градски транспорт в петте големи град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развитието на природни, културни и исторически атракц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създаване и промотиране на иновативни културни събит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3"/>
          <p:cNvSpPr/>
          <p:nvPr/>
        </p:nvSpPr>
        <p:spPr>
          <a:xfrm>
            <a:off x="468360" y="1341360"/>
            <a:ext cx="79214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ведени обучения по 18 схе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деинституционализация на социални институции, предлагащи услуги за деца в риск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осигуряване на съвременни социални жилища за настаняване на уязвими, малцинствени и социално слаби групи от населението  и други групи в неравностойно положени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интегрирани планове за градско възстановяване и развити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ъвместна европейска инициатива за устойчиви инвестиции в градските райони JESSIC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3"/>
          <p:cNvSpPr/>
          <p:nvPr/>
        </p:nvSpPr>
        <p:spPr>
          <a:xfrm>
            <a:off x="395280" y="1341360"/>
            <a:ext cx="8209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ведени обучения по 18 схе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реконструкция, обновяване и оборудване на държавни лечебни и здравни заведения в градските агломерац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реконструкция/обновяване и оборудване на общински лечебни заведения в общини извън градските агломерационни ареал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реконструкция/обновяване и оборудване на общински лечебни заведения в градските агломерац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дребномащабни мерки за предотвратяване на наводнения в градските агломерац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дребномащабни мерки за предотвратяване на наводнения в 178 малки общин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3"/>
          <p:cNvSpPr/>
          <p:nvPr/>
        </p:nvSpPr>
        <p:spPr>
          <a:xfrm>
            <a:off x="468360" y="1413000"/>
            <a:ext cx="77756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ведени обучения по 18 схе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енергийна ефективност в многофамилни жилищни сград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прилагане на мерки за енергийна ефективност в общинска образователна инфраструктура в градските агломерац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прилагане на мерки за енергийна ефективност в общинска образователна инфраструктура на 178 малки общин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крепа за развитие на критична, защитена, сигурна и надеждна обществена ИКТ инфраструкту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3"/>
          <p:cNvSpPr/>
          <p:nvPr/>
        </p:nvSpPr>
        <p:spPr>
          <a:xfrm>
            <a:off x="468360" y="1268280"/>
            <a:ext cx="807084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помогнахме партньорите от общините и министерствата /агенциите да придобият необходимите </a:t>
            </a:r>
            <a:r>
              <a:rPr b="1" i="1" lang="bg-BG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знания</a:t>
            </a:r>
            <a:r>
              <a:rPr b="1" i="1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и </a:t>
            </a:r>
            <a:r>
              <a:rPr b="1" i="1" lang="bg-BG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умения</a:t>
            </a:r>
            <a:r>
              <a:rPr b="1" i="1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да развият </a:t>
            </a:r>
            <a:r>
              <a:rPr b="1" i="1" lang="bg-BG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компет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 да разработват добри проект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 да реализират проектите по добър начин (ефективно, икономично; да постигнат най-добър резултат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 да се подобрят условията за живота на българските граждан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3"/>
          <p:cNvSpPr/>
          <p:nvPr/>
        </p:nvSpPr>
        <p:spPr>
          <a:xfrm>
            <a:off x="755640" y="1700280"/>
            <a:ext cx="77756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ЛАГОДАРИМ 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 ВНИМАНИЕТО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ЕДСТО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ОВ ПРОГРАМЕН ПЕРИОД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3"/>
          <p:cNvSpPr/>
          <p:nvPr/>
        </p:nvSpPr>
        <p:spPr>
          <a:xfrm>
            <a:off x="900000" y="1268280"/>
            <a:ext cx="7783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ШИЯТ ЕКИ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ъководител</a:t>
            </a:r>
            <a:r>
              <a:rPr b="1" lang="bg-BG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bg-BG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лючови експер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ксперт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bg-BG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 подготовката и изпълнението на учебния пл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ксперт по изготвяне на програмите за обуч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ксперт по методите и формите на обуч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ксперт по програмите за осъществяване на пътуванията за обмяна на опит в страни членки на ЕС с доказани добри практики в изпълнението на регионална полит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ключови експерти: </a:t>
            </a:r>
            <a:r>
              <a:rPr b="0" lang="bg-BG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0 специалисти в конкретните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6"/>
          <p:cNvSpPr/>
          <p:nvPr/>
        </p:nvSpPr>
        <p:spPr>
          <a:xfrm>
            <a:off x="395280" y="1932480"/>
            <a:ext cx="8569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зпълнихме договор с МРР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 изпълнение на дейности по проек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G161PO001/5-01/2008/014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„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крепване на капацитета на бенефициентите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П „Регионално развитие” 2007-2013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 успешно участие в изпълнението на ОПРР и усвояв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 средствата, отпуснати от Структурните фондо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рез изпълнение на плана за обучение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3"/>
          <p:cNvSpPr/>
          <p:nvPr/>
        </p:nvSpPr>
        <p:spPr>
          <a:xfrm>
            <a:off x="539640" y="1341360"/>
            <a:ext cx="7783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82800" indent="-53352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6"/>
          <p:cNvSpPr/>
          <p:nvPr/>
        </p:nvSpPr>
        <p:spPr>
          <a:xfrm>
            <a:off x="250920" y="1472760"/>
            <a:ext cx="849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ектът беше реализиран чрез схема 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едоставяне на безвъзмездна финансова помо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№ </a:t>
            </a: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G161PO001/5-01/2008 „Техническа помощ за подготовка, управление, наблюдение, оценка, информация, контрол и укрепване на административния капацитет за изпълнение на ОП „Регионално развитие” 2007–2013”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финансирана по Оперативна програ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„</a:t>
            </a: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егионално развитие”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2007</a:t>
            </a: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013 г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иоритетна ос 5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– </a:t>
            </a: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ехническа помощ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перация 5.3. „Изграждане на капацитет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енефициентите на ОПРР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3"/>
          <p:cNvSpPr/>
          <p:nvPr/>
        </p:nvSpPr>
        <p:spPr>
          <a:xfrm>
            <a:off x="468360" y="1268280"/>
            <a:ext cx="7783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8280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3"/>
          <p:cNvSpPr/>
          <p:nvPr/>
        </p:nvSpPr>
        <p:spPr>
          <a:xfrm>
            <a:off x="539640" y="1484280"/>
            <a:ext cx="778356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82800" indent="-53352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 </a:t>
            </a: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ремеви параметри на догов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1 Януари 2011 г. – 20 януари 2013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продължителност – 2 годи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457200" y="1600200"/>
            <a:ext cx="73548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ез целия период на изпълнението на проек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махме конструктивно партньорство с МРРБ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и в часност </a:t>
            </a: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Д „Програмиране на регионалното развитие” в качеството й на Управляващ орг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 Оперативна прогр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„</a:t>
            </a: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егионално развитие” 200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7</a:t>
            </a: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-2013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3"/>
          <p:cNvSpPr/>
          <p:nvPr/>
        </p:nvSpPr>
        <p:spPr>
          <a:xfrm>
            <a:off x="395280" y="1339920"/>
            <a:ext cx="7632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82800" indent="-53352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рез изпълнението на догов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ие подпомогнах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целевите групи бенефициенти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на ОПРР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33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щини, министерства, агенции и др. конкретни бенефициенти да развият своя капацитет за </a:t>
            </a:r>
            <a:r>
              <a:rPr b="0" lang="bg-BG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спешно разработване и изпълнение на проекти по ОПРР като така допринесохме за осъществяването на полезни за развитието на населените места и регионите проекти и за ефективното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усвояване на средствата от 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395280" y="105228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339480" indent="-33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Целите, които постигнах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ща це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крепване капацитета на бенефициентите на Оперативна програма „Регионално развитие” 2007-2013 г. при разработване и изпълнението на проекти по ОПР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пецифични це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работване на програми за обучение, предлагащи подходящи интервенции с цел придобиване на знания и умения на бенефициентите на ОПРР за ефективно усвояване на средствата, отпуснати по ОПРР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веждане на обучения за служителите на бенефициентите в различни области – подготовка на проектни предложения, управление и изпълнение на проек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мяна на опит със страни членки на ЕС чрез провеждане на учебни пътув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4:32:57Z</dcterms:created>
  <dc:creator>maria.mihovska</dc:creator>
  <dc:description/>
  <dc:language>en-US</dc:language>
  <cp:lastModifiedBy>NaydenovaTs</cp:lastModifiedBy>
  <dcterms:modified xsi:type="dcterms:W3CDTF">2013-01-09T14:40:20Z</dcterms:modified>
  <cp:revision>148</cp:revision>
  <dc:subject/>
  <dc:title>Слайд 1</dc:title>
</cp:coreProperties>
</file>