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6F64-03C0-4DA4-876B-213C18BC7BA4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B06-A095-40D2-B546-17EE0B50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78EF-92A4-4925-A553-EF90FE09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4C8-0062-4218-9B90-0BEE9349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E8E8-1687-47B7-B65F-1B5ED053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54AC-C80C-4306-A638-1C7495AF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4947-7CE1-4A18-BF7E-FA2986C6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C218-3121-45DF-AB66-971799A4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E48C-4AC4-4E87-85C3-D1338CA1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5882-A681-41C2-A61A-8C0E52CB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C642-0D3E-490B-B8AC-EDE1D2C8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1AD8-FDBD-40B4-AFCF-C0543B19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66B-51C2-44E1-8D6D-C65FBE85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08A3-0003-4A53-B65A-3FF24E89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25EF-0A03-4F58-88C4-0F32EFFE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E807-59C8-4008-8EAE-2ACBCD40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94FD-4244-4D6D-828D-2BC74450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94A2-245F-4A52-80C1-218F0483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B22C-E1D0-4ABE-8075-5FE7B8B6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C018-7A41-45E1-AE83-17C50E94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F98DA-4132-472D-A492-FFCFBE8F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E306A-48FB-49F7-A69E-4AA14C31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C9BC5-C82A-4C6C-8634-1155743D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66C-42F7-4596-AF21-D6E28AE7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42AE8-DAD7-410D-8BD8-23DAB4B9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D5DD9-98FE-4134-8FB6-D75863B7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1E8F-5D72-4B4D-A56C-87E3F434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DFFF5-685A-4F85-8BF6-A9C0A26C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409C-F605-4F57-8BC1-338D0041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E587E-E2AE-49F9-AB4F-5DB710B6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45507-8D2E-4862-B571-AB302689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9897-A762-4FF3-A281-06838B92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3356A-49B4-44DA-8C72-7069697C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CA49A-BBBE-4595-9CB8-2AB284BC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0BD-9722-48AC-9F0F-3928E2EA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DFE19-1C31-4094-969C-424AE76F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16C54-50B6-40CA-9E0F-E7D9120C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52CE-E5D3-4F42-9AC8-7FD7D9F0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25697-A459-4CC6-A614-77563DA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16E0A-8246-44F8-A11D-98790EF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7408-BE97-482E-9D15-A89D477A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3239B-6046-445C-9852-BDECDB50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01F03-06F7-4746-9A7C-1C032678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7AE7-AA75-49A1-8BEE-BF2082BB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BCA-D7F1-4449-98FE-C2C87677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C59-83D1-4BF8-AA6E-E2900EA7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0EE9-195E-4B37-A591-FC9E93D4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9D4-59B7-4015-B8FD-EF3E759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356-C7D5-4C50-BCB4-0CA1200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2936-F815-4D47-BB87-BCE1B6E6759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2220-2CF7-4E98-8CB4-6DA6FBA31BA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DC98-857A-4B32-9C53-D6A51C6174B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D835-F902-4D0B-8145-90793D84307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-360" y="3789360"/>
            <a:ext cx="637236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ДИСТАНЦИОН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ФОРМАЦИОННА СРЕЩА 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</a:rPr>
              <a:t>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оцедура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G16RFOP001-7.00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ЪТНА БЕЗОПАСНОСТ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0"/>
          <p:cNvSpPr/>
          <p:nvPr/>
        </p:nvSpPr>
        <p:spPr>
          <a:xfrm>
            <a:off x="487440" y="6089760"/>
            <a:ext cx="5184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70c0"/>
                </a:solidFill>
                <a:latin typeface="Sylfaen"/>
              </a:rPr>
              <a:t>гр. София, 28.04.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3995640" y="1731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8"/>
          <p:cNvSpPr/>
          <p:nvPr/>
        </p:nvSpPr>
        <p:spPr>
          <a:xfrm>
            <a:off x="5378400" y="5986440"/>
            <a:ext cx="37213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4"/>
          <a:stretch/>
        </p:blipFill>
        <p:spPr>
          <a:xfrm>
            <a:off x="7451640" y="103320"/>
            <a:ext cx="1487520" cy="1197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042920" y="1844640"/>
            <a:ext cx="7274160" cy="41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b050"/>
                </a:solidFill>
                <a:latin typeface="Tahoma"/>
              </a:rPr>
              <a:t>ГЛАВНА ДИРЕ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b050"/>
                </a:solidFill>
                <a:latin typeface="Tahoma"/>
              </a:rPr>
              <a:t>„</a:t>
            </a:r>
            <a:r>
              <a:rPr b="1" lang="bg-BG" sz="2000" spc="-1" strike="noStrike">
                <a:solidFill>
                  <a:srgbClr val="00b050"/>
                </a:solidFill>
                <a:latin typeface="Tahoma"/>
              </a:rPr>
              <a:t>СТРАТЕГИЧЕСКО ПЛАНИРАНЕ И ПРОГРАМИ ЗА  РЕГИОНАЛНО РАЗВИТИЕ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1333440" y="264960"/>
            <a:ext cx="6335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ОПРР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179280" y="1628640"/>
            <a:ext cx="86918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база натрупания до момента опит по оценка на ПП по ОПРР 2014-2020, която УО извършва, са изведени слабостите и неточности, които водят до връщане за корекции на подадените проектни предложения, предоставяне на допълнителна информация и документи, както и повторна оценка, така че да се постигнат в максимална степен критериите за административно съответствие и допустимост и критериите за техническа и финансова оценка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цел 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я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обобщена информация з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-чес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ни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решк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ндидатстване с проектни пред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tent Placeholder 2"/>
          <p:cNvSpPr/>
          <p:nvPr/>
        </p:nvSpPr>
        <p:spPr>
          <a:xfrm>
            <a:off x="179280" y="1628640"/>
            <a:ext cx="86918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от формуляра за кандидатстване (ФК) се отбелязва, че данъка върху добавената стойност (ДДС) е недопустим разход п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, независимо, че в част от разходите се включва  недопустим ДДС. В този случай недопустимият ДДС се отбелязва в ред „Недопустими разходи“, колона „Собствено финансиране“ от бюджета на ПП (раздел 5 от ФК в ИСУ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Content Placeholder 2"/>
          <p:cNvSpPr/>
          <p:nvPr/>
        </p:nvSpPr>
        <p:spPr>
          <a:xfrm>
            <a:off x="179280" y="1700280"/>
            <a:ext cx="86918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 от ФК не съответства на общата стойност на разходите, съгласно представеното КСС към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 на </a:t>
            </a:r>
            <a:r>
              <a:rPr b="0" i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 за СМР следва да съответства на стойността на разходите в представеното КСС, а когато несъответствието се дължи на включени разходи за проектиране и авторски надзор (например при инженеринг), е необходимо в индикативните КСС да бъдат добавени и разходите за проектиране и авторски надзор на обекта, и да са ясно описано във формуляра на ПП и във финансовата обосновка на разходите, представена от бенефици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ontent Placeholder 2"/>
          <p:cNvSpPr/>
          <p:nvPr/>
        </p:nvSpPr>
        <p:spPr>
          <a:xfrm>
            <a:off x="108000" y="1343160"/>
            <a:ext cx="896472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282960" indent="-2829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спазва изискването в раздел 5 „Бюджет“ от ФК, разходите за отделните дейности да се представят като обща с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Разходите за отделните дейности в раздел 5 следва да се представят като обща сума. Подробно описание и обосновка на видовете разходи следва да бъдат посочени в раздел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„Бюджет“ от ФК разходите за дейности, които са допустими (напр. „Разходи за персонал“, „Разходи за авторски надзор“), но са собствено финансиране, са отразени в бюджетен ред VI. „Недопустими разходи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Цитираните разходи са допустими съгласно НК, свързани са с изпълнение на дейности по проекта и като такива, следва да бъдат отразени в съответстващите бюджетни редове за конкретната дейност, в колона „Собствен принос“, а не в бюджетен ред VI. „Недопустими разходи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150840" y="1422360"/>
            <a:ext cx="86900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 „План за изпълнение/Дейности по проекта“ на ФК стойността на разходите не съответства на заложения разход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В раздел 7 „План за изпълнение/Дейности по проекта“ от ФК е необходимо  разходите към съответните дейности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Също така, стойностите на всички дейности в раздел 7 и на всички процедури в раздел 10 следва да са формирани в зависимост от заложените разходи в бюджета раздел 5 на ФК и да са с ДДС, т.е. между раздели 5, 7 и 10 от ФК информацията следва да си съответства и посочи с ДД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4500720" y="11271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0" y="1436760"/>
            <a:ext cx="90727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Когато процедурата за избор на изпълнител е проведена преди етапа на кандидатстване и кандидатът има сключен договор с изпълнител, то това следва да се опише в раздел 7, а не в раздел 10 на ФК. В раздел 10 се представя информация само за предстоящи за провеждане процедури за избор на изпълнители по про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“Индикатори”, за заложените индикатори некоректно се въвеждат “Базова стойност общо:“, “Целева стойност общо:” и „Източник на информация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За 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, а целевата стойност</a:t>
            </a:r>
            <a:r>
              <a:rPr b="0" i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се определя като разлика между очакваното състояние след изпълнение (напр. 1 бр.) и актуалното състояние преди изпълнение (0 б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6920" y="7092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0" y="141264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(финансова обосновка), както и липсва разбивка на отделните видове разходи по количество и единична цена и липсват доказателствени документи за съответствие на цените с пазарните или от представената обосновката не става ясно как точно са остойностени описаните разхо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 (напр. анализ на цени, цена на квадратен метър на база предишен опит на бенефициента с позоваване на конкретни проведени обществени поръчки, Справочник за цените в строителството и т. н., показатели/ оферти/ извлечение от каталог на производители/ доставчици и/или проучване в интернет. При позоваване на оферти, се прилага копие на офертите; при позоваване на извлечение от каталог на производители/ доставчици се прилагат извлеченията или се посочват съответните линкове, където са достъпни каталоз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37016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ешки при провеждане на обществени поръчки, водещи до налагане на финансови кор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ontent Placeholder 2"/>
          <p:cNvSpPr/>
          <p:nvPr/>
        </p:nvSpPr>
        <p:spPr>
          <a:xfrm>
            <a:off x="-49320" y="1557360"/>
            <a:ext cx="907272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50" name="Content Placeholder 2"/>
          <p:cNvSpPr/>
          <p:nvPr/>
        </p:nvSpPr>
        <p:spPr>
          <a:xfrm>
            <a:off x="179280" y="1413000"/>
            <a:ext cx="88934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­Наличие на изисквания, които дават необосновано предимство или необосновано ограничават участието в обществените поръчки, както и ограничителни изисквания спрямо чуждестранните участници – напр. изисквания за представяне на различни документи по българско законодателство на етап кандидатств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­Методиката за оценка е незаконосъобразна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 съдържа достатъчно информация за начина на определяне на оценката по всеки показател или показателите за оценка не са свързани с предмета на поръчката, а с офертите на другите участници, и допуска субективизъм при оценяванет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обосновано отстраняване на участник или допускане до по-нататъшно участие на участник, който е следвало да бъде отстранен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­Несъответствия между обявените в процедурата технически спецификации за възлагане на обществената поръчка и в други части на документацията или незаконосъобразни технически спецификации, насочващи към определен изпълнител и не осигуряващ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вен достъп на кандидатите до процедурата за възлагане на обществената поръчк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VANYA TODOROVA VALKOVA</cp:lastModifiedBy>
  <cp:lastPrinted>2020-01-24T15:00:54Z</cp:lastPrinted>
  <dcterms:modified xsi:type="dcterms:W3CDTF">2020-04-22T12:14:27Z</dcterms:modified>
  <cp:revision>1572</cp:revision>
  <dc:subject/>
  <dc:title>Diapositiva 1</dc:title>
</cp:coreProperties>
</file>