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706C-1B3E-456F-9063-D24F34DBAD6C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FA3-8641-4F21-97C1-224953BD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4BA6-57F5-4094-9438-F191C35B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973-0CFC-4118-A32E-8D0DBCBF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ABB-4896-49E2-8500-2086F359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2416-191B-4A23-BB64-ABFE280E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99E7-C349-42EC-8141-340A9831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6C3B-AAC1-4A1A-A0AC-0A880724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E460-73BC-48A3-86C9-A5D4D70D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0E02-6D93-46A4-985C-B314A67F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3D1A-D2CD-428D-A575-2DCFC6F3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3726-0124-4885-9226-61DD27CB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325-9FD9-44FF-9ADE-3551BA0B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6466-7730-4B4C-BE14-86A65518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B986-F7BB-4C9B-ADA6-CB3B3D80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319A-7073-4D31-8A9C-E7CB1F43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B43A-CD83-4AD2-91AD-B1FD4ED2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F591-51B9-4B00-ADA6-1781DFF1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F4E07-A9F9-4B2D-BF25-A8204A50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E0526-EC17-4ED8-ABD8-1A525754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47E3C-48B6-4F11-9E17-5D293E48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A3458-E8BB-4A11-BA37-BAF4B297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6CF67-A172-42CF-ACFB-308DF962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81E-12D0-49E8-A7C8-D1F34692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29D0B-F688-491D-B699-3959B3C7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00EBE-D100-4ADA-9CA1-8BEB3CCC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C4FAA-CA77-41C5-B00F-EA77213B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CC3E4-0251-4C37-B7D6-DAD7BABC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A863-B358-45EB-AD4C-0A77D795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D151-398C-4CDB-8DAC-BF335350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1E63A-063A-45F3-BCFC-6D089C40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06C1C-BC9F-4D4F-B3FC-5734CA2D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B020F-8824-47D9-A62B-C1D42508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7A754-D503-49AC-98A0-4AC6E1F4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D1A-190B-4D6A-B60F-E9D7EEFC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4A337-D75C-4DF3-8849-0F6ED1E7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D8F6C-B83C-43DF-9820-934FC4C5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BC485-F5D2-4567-8BCD-54185306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3A4BD-FE21-432C-90FA-7B803823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9E013-9A31-4530-82BD-9AB079D3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E9BCE-7033-4139-8684-FA0CCB93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8194B-6CE7-410F-948C-1396FCB5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94B51-7962-4C5C-9E97-776EA315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304B2-9C99-48B3-94F6-216DCDB6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059-F5F2-4A84-9DC4-207B907A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96A-662C-4A07-8FC0-CB3ADE39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741-1F13-40F5-8675-D0BA1281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A0F-27F7-4084-ACDE-EFD77830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E61-6C4D-437B-9DFD-C75C59EF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6CB8-001B-4D4C-BDA0-5DE4113DF9A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B0AC-23D3-44FF-8FF3-2B60AAE9096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C695-FE52-4FEA-9F1C-8AACE4241A0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7CA1-139E-4990-89F9-5773898D110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-360" y="3789360"/>
            <a:ext cx="6372360" cy="24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ДИСТАНЦИОН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ФОРМАЦИОННА СРЕЩА 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оцедура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G16RFOP001-7.00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„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ЪТНА БЕЗОПАСНОСТ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70"/>
          <p:cNvSpPr/>
          <p:nvPr/>
        </p:nvSpPr>
        <p:spPr>
          <a:xfrm>
            <a:off x="487440" y="6089760"/>
            <a:ext cx="51847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70c0"/>
                </a:solidFill>
                <a:latin typeface="Sylfaen"/>
              </a:rPr>
              <a:t>гр. София, 28.04.202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3"/>
          <a:stretch/>
        </p:blipFill>
        <p:spPr>
          <a:xfrm>
            <a:off x="3995640" y="1731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8"/>
          <p:cNvSpPr/>
          <p:nvPr/>
        </p:nvSpPr>
        <p:spPr>
          <a:xfrm>
            <a:off x="5378400" y="5986440"/>
            <a:ext cx="37213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"/>
          <p:cNvPicPr/>
          <p:nvPr/>
        </p:nvPicPr>
        <p:blipFill>
          <a:blip r:embed="rId4"/>
          <a:stretch/>
        </p:blipFill>
        <p:spPr>
          <a:xfrm>
            <a:off x="7451640" y="103320"/>
            <a:ext cx="1487520" cy="1197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042920" y="1844640"/>
            <a:ext cx="727416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b050"/>
                </a:solidFill>
                <a:latin typeface="Tahoma"/>
              </a:rPr>
              <a:t>ГЛАВНА ДИРЕ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b050"/>
                </a:solidFill>
                <a:latin typeface="Tahoma"/>
              </a:rPr>
              <a:t>„</a:t>
            </a:r>
            <a:r>
              <a:rPr b="1" lang="bg-BG" sz="2000" spc="-1" strike="noStrike">
                <a:solidFill>
                  <a:srgbClr val="00b050"/>
                </a:solidFill>
                <a:latin typeface="Tahoma"/>
              </a:rPr>
              <a:t>СТРАТЕГИЧЕСКО ПЛАНИРАНЕ И ПРОГРАМИ ЗА  РЕГИОНАЛНО РАЗВИТИЕ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1333440" y="264960"/>
            <a:ext cx="6335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Често допускани пропуски и грешки при подготовката на проектни предложения по ОПРР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tent Placeholder 2"/>
          <p:cNvSpPr/>
          <p:nvPr/>
        </p:nvSpPr>
        <p:spPr>
          <a:xfrm>
            <a:off x="179280" y="1628640"/>
            <a:ext cx="869184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база натрупания до момента опит по оценка на ПП по ОПРР 2014-2020, която УО извършва, са изведени слабостите и неточности, които водят до връщане за корекции на подадените проектни предложения, предоставяне на допълнителна информация и документи, както и повторна оценка, така че да се постигнат в максимална степен критериите за административно съответствие и допустимост и критериите за техническа и финансова оценка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цел 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я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обобщена информация з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-чес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кани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грешк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ндидатстване с проектни пред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Грешки в документите към формуляра 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ontent Placeholder 2"/>
          <p:cNvSpPr/>
          <p:nvPr/>
        </p:nvSpPr>
        <p:spPr>
          <a:xfrm>
            <a:off x="179280" y="1628640"/>
            <a:ext cx="869184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 „Основни данни“ от формуляра за кандидатстване (ФК) се отбелязва, че данъка върху добавената стойност (ДДС) е недопустим разход п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Когато проектът включва както допустим, така и недопустим разход за ДДС в раздел 1 „Основни данни“ на ФК следва да се отбележи, че ДДС е допустим разход, независимо, че в част от разходите се включва  недопустим ДДС. В този случай недопустимият ДДС се отбелязва в ред „Недопустими разходи“, колона „Собствено финансиране“ от бюджета на ПП (раздел 5 от ФК в ИСУ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ontent Placeholder 2"/>
          <p:cNvSpPr/>
          <p:nvPr/>
        </p:nvSpPr>
        <p:spPr>
          <a:xfrm>
            <a:off x="179280" y="1700280"/>
            <a:ext cx="86918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ата стойност на разходите за СМР от раздел 5 „Бюджет“ от ФК не съответства на общата стойност на разходите, съгласно представеното КСС към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Препоръ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Стойността</a:t>
            </a:r>
            <a:r>
              <a:rPr b="0" i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 на </a:t>
            </a:r>
            <a:r>
              <a:rPr b="0" i="1" lang="bg-BG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разходите</a:t>
            </a:r>
            <a:r>
              <a:rPr b="0" i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 за СМР следва да съответства на стойността на разходите в представеното КСС, а когато несъответствието се дължи на включени разходи за проектиране и авторски надзор (например при инженеринг), е необходимо в индикативните КСС да бъдат добавени и разходите за проектиране и авторски надзор на обекта, и да са ясно описано във формуляра на ПП и във финансовата обосновка на разходите, представена от бенефици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ontent Placeholder 2"/>
          <p:cNvSpPr/>
          <p:nvPr/>
        </p:nvSpPr>
        <p:spPr>
          <a:xfrm>
            <a:off x="108000" y="1343160"/>
            <a:ext cx="896472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282960" indent="-28296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е спазва изискването в раздел 5 „Бюджет“ от ФК, разходите за отделните дейности да се представят като обща с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Препоръ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Разходите за отделните дейности в раздел 5 следва да се представят като обща сума. Подробно описание и обосновка на видовете разходи следва да бъдат посочени в раздел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5 „Бюджет“ от ФК разходите за дейности, които са допустими (напр. „Разходи за персонал“, „Разходи за авторски надзор“), но са собствено финансиране, са отразени в бюджетен ред VI. „Недопустими разходи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Цитираните разходи са допустими съгласно НК, свързани са с изпълнение на дейности по проекта и като такива, следва да бъдат отразени в съответстващите бюджетни редове за конкретната дейност, в колона „Собствен принос“, а не в бюджетен ред VI. „Недопустими разходи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150840" y="1422360"/>
            <a:ext cx="869004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7 „План за изпълнение/Дейности по проекта“ на ФК стойността на разходите не съответства на заложения разход в раздел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В раздел 7 „План за изпълнение/Дейности по проекта“ от ФК е необходимо  разходите към съответните дейности така да бъдат представени, че информацията да съответства на заложения разход в бюджета на проекта в раздел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Също така, стойностите на всички дейности в раздел 7 и на всички процедури в раздел 10 следва да са формирани в зависимост от заложените разходи в бюджета раздел 5 на ФК и да са с ДДС, т.е. между раздели 5, 7 и 10 от ФК информацията следва да си съответства и посочи с ДД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4500720" y="11271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ontent Placeholder 2"/>
          <p:cNvSpPr/>
          <p:nvPr/>
        </p:nvSpPr>
        <p:spPr>
          <a:xfrm>
            <a:off x="0" y="1436760"/>
            <a:ext cx="90727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0 „План за външно възлагане“ се описват вече проведени процедури, със сключени договори с изпълнители преди подаване на П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Когато процедурата за избор на изпълнител е проведена преди етапа на кандидатстване и кандидатът има сключен договор с изпълнител, то това следва да се опише в раздел 7, а не в раздел 10 на ФК. В раздел 10 се представя информация само за предстоящи за провеждане процедури за избор на изпълнители по про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8 “Индикатори”, за заложените индикатори некоректно се въвеждат “Базова стойност общо:“, “Целева стойност общо:” и „Източник на информация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За </a:t>
            </a:r>
            <a:r>
              <a:rPr b="0" i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всички индикатори като базова стойност винаги се въвежда „0“, а целевата стойност</a:t>
            </a:r>
            <a:r>
              <a:rPr b="0" i="1" lang="bg-BG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се определя като разлика между очакваното състояние след изпълнение (напр. 1 бр.) и актуалното състояние преди изпълнение (0 б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86920" y="70920"/>
            <a:ext cx="633276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документите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ъм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формуляра з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0" y="141264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е прилага обосновка за реалистичност и икономичност на предвидените разходи (финансова обосновка), както и липсва разбивка на отделните видове разходи по количество и единична цена и липсват доказателствени документи за съответствие на цените с пазарните или от представената обосновката не става ясно как точно са остойностени описаните разхо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Препоръ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Да се представи подробна обосновка и разбивка на разходите от отделните пера в бюджетите на ПП, както и доказателствени документи за това как са формирани стойностите на дейностите (напр. анализ на цени, цена на квадратен метър на база предишен опит на бенефициента с позоваване на конкретни проведени обществени поръчки, Справочник за цените в строителството и т. н., показатели/ оферти/ извлечение от каталог на производители/ доставчици и/или проучване в интернет. При позоваване на оферти, се прилага копие на офертите; при позоваване на извлечение от каталог на производители/ доставчици се прилагат извлеченията или се посочват съответните линкове, където са достъпни каталози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137016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Грешки при провеждане на обществени поръчки, водещи до налагане на финансови кор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ontent Placeholder 2"/>
          <p:cNvSpPr/>
          <p:nvPr/>
        </p:nvSpPr>
        <p:spPr>
          <a:xfrm>
            <a:off x="-49320" y="1557360"/>
            <a:ext cx="907272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50" name="Content Placeholder 2"/>
          <p:cNvSpPr/>
          <p:nvPr/>
        </p:nvSpPr>
        <p:spPr>
          <a:xfrm>
            <a:off x="179280" y="1413000"/>
            <a:ext cx="88934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­Наличие на изисквания, които дават необосновано предимство или необосновано ограничават участието в обществените поръчки, както и ограничителни изисквания спрямо чуждестранните участници – напр. изисквания за представяне на различни документи по българско законодателство на етап кандидатства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­Методиката за оценка е незаконосъобразна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е съдържа достатъчно информация за начина на определяне на оценката по всеки показател или показателите за оценка не са свързани с предмета на поръчката, а с офертите на другите участници, и допуска субективизъм при оценяванет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еобосновано отстраняване на участник или допускане до по-нататъшно участие на участник, който е следвало да бъде отстранен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­Несъответствия между обявените в процедурата технически спецификации за възлагане на обществената поръчка и в други части на документацията или незаконосъобразни технически спецификации, насочващи към определен изпълнител и не осигуряващ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вен достъп на кандидатите до процедурата за възлагане на обществената поръчк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VANYA TODOROVA VALKOVA</cp:lastModifiedBy>
  <cp:lastPrinted>2020-01-24T15:00:54Z</cp:lastPrinted>
  <dcterms:modified xsi:type="dcterms:W3CDTF">2020-04-22T12:14:27Z</dcterms:modified>
  <cp:revision>1572</cp:revision>
  <dc:subject/>
  <dc:title>Diapositiva 1</dc:title>
</cp:coreProperties>
</file>