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D39-315E-4E8A-96AB-A5E69685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014-9021-4A6E-83D4-A83FB7F3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3DA-06F0-4CFB-BE95-E95D4725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C2A2-E538-4245-82DD-0689AC68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A31C-3EEB-4839-AAB2-29067A4C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5CDE-ACCD-41E7-9DF0-7BA17222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8D44-BCD6-4A23-BD18-945B8BA1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A417-C99C-4E49-9110-5747F74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11DE-0897-43E0-83FA-0841858C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0263-1D58-4460-8BA9-FC793C9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5894-69BF-4B02-BA22-A9761B43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743-DFF6-4EB7-A70B-77A9DE7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6FB3-D06D-4F99-8EEE-C8C7AF43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1559-01B0-4C2E-A099-F88AF9EA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6860-9F8C-477C-8C92-B58FCFBC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8BA-1B6B-42AB-A970-4B4B74F5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7EAB-A161-43F3-B95B-4871D441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E003D-4027-475F-8403-5764DD2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6192-E0CD-444B-B3D9-D5D68A8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61F9F-D77A-421A-8BF7-E96C1DCD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FF758-07E9-412F-B352-A8ACA6ED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3FD4-6EB0-4FE2-87C5-A1544154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6E9A-2823-48A8-8D9A-373540E7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8CA0-5FC6-429E-9FB6-C3CD893A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CB18-0485-4E9E-82EF-57A24E98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8B42B-8E0F-4063-9567-B4C49132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AC03-7DA1-4492-BE60-8C2637F9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C43-3414-4E7E-89EB-8D460F13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655E-04CF-4FDE-A11E-7DE808CF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6404-EF04-4C56-9F45-1E720A1E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7CE60-BC4A-455F-BA1D-90D52287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D0803-2EF0-40E8-94C1-AB6B2673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B9B1E-E33C-4C2C-9EAA-F4375E20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2AB2-2887-4110-B538-F1581810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13E7-4846-4846-8243-F875EC48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552D-A447-40B3-85B0-79F0ED1A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6F20-35AF-48D7-8FEA-FA899170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523B-3D6B-442D-AACD-4BCC761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FCA8-DB5E-4A99-828F-3A14257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484F-0B00-4B31-8141-63934E51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6ABF-5415-4659-910A-676B4BF2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AB63F-016C-4460-9E59-561C340B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9991D-0DE7-48CC-A736-CCBEB526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B817F-2141-4951-9788-87934E7A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0AA-A95E-4B9C-8BDA-BDD4A089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57430-4D53-487C-BF0B-9551C56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BD79-2BF0-4CBE-BDF9-C624DD6A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A150D-2DF1-4E1F-9177-F507CF60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FDC91-49C7-4C4E-B176-70DF1609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BA78-6A3E-4998-8449-2806915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1D9F-2135-4F5E-9024-D4EE35B5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53B64-D492-4916-ABAA-02AABD96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AE57-C9A6-4426-9B94-F1E1A99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D7CD-BA4A-4101-9808-0EA01B1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5AA80-9721-4826-ADEC-EA216EBD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975-8508-43AC-8FB1-C8E4B273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5D15-14D7-4140-9CBF-44790101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994B-F7DC-4BB7-9001-D2759993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57A8F-2655-435C-B821-B7799A60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32AF4-9A29-474A-9FF5-7F22433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0DA62-CD52-48E4-86F7-9595FB6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9DEA-11EF-47C1-998E-0B4841FF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2EDB1-55EA-4577-A77B-DA7B2200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0C8B-267C-4FB6-9A88-68DA11B6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8143-73FF-4EC1-A075-113D977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ABA06-BD97-4189-BB56-798C1AD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9E5-2459-4771-9521-28BBFB6B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7F849-3B80-4230-889B-6080E7DC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9B9E6-E762-44F0-9F1F-B085DFFE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DF0EB-D6EF-49D1-8498-ED5C1499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946-DD38-4C74-9D01-3674C475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EC4-EE4E-4275-AE34-92C1D5C6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CF5F-264D-424F-B181-D2D4E08AD89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8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3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85B9-C136-4EA9-AA23-C988A7916FE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10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5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C97F-BCE4-4FCE-BA8D-2334AB4E2A9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2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7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E673-3F8B-4480-8371-F5D423257F6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4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9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1D44-A7AC-4AA5-A857-95D002C1600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8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602F-E962-48D5-BC2F-29F79330792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Прозрачност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АП следва да публикува на централен уебсай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Пълния текст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одобрената от ЕК схема и разпоредбите за въвеждането й в действие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Име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бенефициент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Размер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помощ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Интензитет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на помощ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Използвана </a:t>
            </a: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- информ. следва да бъде достъпна за широката аудитория поне за 10 год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Бенефициентът на помощта е задължен да предостави на упълномощените трети страни 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всеобхватен 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bg-BG" sz="1200" spc="-1" strike="noStrike">
                <a:solidFill>
                  <a:srgbClr val="000000"/>
                </a:solidFill>
                <a:latin typeface="Arial"/>
              </a:rPr>
              <a:t> недискриминационен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достъп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до информация относно инфраструктурат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(включително inter alia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канал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улични кути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оптични влакн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), разработена според договор за Д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Това ще позволи на другите оператори да могат лесно да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установят възможност за достъп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до тази инфраструктура и следва да предостави цялата съответна информация относно широколентовата мрежа на </a:t>
            </a:r>
            <a:r>
              <a:rPr b="1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централен регистър на широк. инфраструктури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, ако такава база данни съществува в държавата- членка, и/или на Н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Докладване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На всеки две години АП, следва да съобщава на ЕК ключова информация за проектите за помощ, считано от момента, в който мярката е въведена в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Тази информация следва да включва освен изискуемата съгл. </a:t>
            </a: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пар. 78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 и поне следната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 u="sng">
                <a:solidFill>
                  <a:srgbClr val="000000"/>
                </a:solidFill>
                <a:uFillTx/>
                <a:latin typeface="Arial"/>
              </a:rPr>
              <a:t>датата</a:t>
            </a: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, на която мрежата е въведена в употреб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продуктите за достъп на едро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броя на търсещите достъп страни и на доставчиците на услуги в мрежата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броя на свързаните домове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степента на усвояван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В случай на национални или регионални рамкови схеми националните или регионалните органи следва да </a:t>
            </a:r>
            <a:r>
              <a:rPr b="0" lang="bg-BG" sz="1200" spc="-1" strike="noStrike" u="sng">
                <a:solidFill>
                  <a:srgbClr val="000000"/>
                </a:solidFill>
                <a:uFillTx/>
                <a:latin typeface="Arial"/>
              </a:rPr>
              <a:t>консолидират информацията</a:t>
            </a: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 за отделните мерки и да докладват на 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огато приема решение съгласно Насоките, Комисията може да изиска допълнително докладване относно предоставената помощ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1f497d"/>
                </a:solidFill>
                <a:uFillTx/>
                <a:latin typeface="Arial"/>
              </a:rPr>
              <a:t>ПРОЗРАЧНОСТ. ДОКЛАДВАНЕ - НАСОКИТЕ.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PCStation</cp:lastModifiedBy>
  <dcterms:modified xsi:type="dcterms:W3CDTF">2013-01-07T21:04:30Z</dcterms:modified>
  <cp:revision>19</cp:revision>
  <dc:subject/>
  <dc:title>Слайд 1</dc:title>
</cp:coreProperties>
</file>