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20C-E1CB-4FF4-A5A8-AD4798DC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2EE-11A3-4857-B6C8-5091D2A7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B79-493D-41ED-8E67-0A35A167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B10-4737-4D89-B0A9-2169B233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6DD2-C1A3-49A8-AA3D-3F3A6359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1A98-769F-452E-BD2B-327B2301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183C-AA68-4D8C-BE16-1457EBB3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C1C3-AA48-4328-979A-5E894A20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B28D-5BF9-4317-8687-36EB4C51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1615-268D-4652-A3EA-7BA164DE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FA40-6663-4FBB-9284-3E65026B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36B-5D4A-4232-A201-CF26A8F1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24B1-0301-45A1-A02B-BCA3A8E5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6D8F-4782-49C7-8D9B-14A7BE21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A5A5-2F92-489F-A424-0305718F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97D5-40CC-4818-B7C2-11FA7C21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17A3-CD95-4D37-9A2B-CD729644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2058-F492-4571-82F7-ADFC310B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B7B1-E3A7-457B-B8FA-D46FF38D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C91C-80CB-437A-B229-C4CF7F9D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2C37-35BD-4141-AFB4-3746225F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F215-C887-4725-8EF0-77DA93D6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A61-B8A0-40F2-8284-20DAE61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BB21-B208-4D44-AC12-F6F1D57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1051-D4B3-4A83-ABA2-9CB2B85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F217-4F8A-4611-AC38-A465AEE5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A42F-B3A9-4176-9222-899BE0A6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96FF-36ED-43D9-94AD-53DB197C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E207-636A-4FCA-8038-9958B5E3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C0FA-E54D-423F-B22D-67AE991C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F000C-69A9-41AE-86CE-574EA87D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B97BE-ED8F-48B0-A034-D21D78E2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7397-B9F5-43E5-B7CE-C80BB238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7A6-2159-46AC-8168-B906FF05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ABDF3-ED37-42B6-AA6D-7BEA5B1B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E6A4-8B80-4E84-ADC8-A8B219D7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D42A-1D94-4D8B-8E27-EDBD3865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6741-C2E8-4C97-9A04-160A810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8567-A7D9-4A64-A567-E363E43D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C834-4B3B-4689-9F6E-876893BC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25B4-6EEB-4AFD-BF88-1955282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11DC1-4A23-493C-9734-4B57ABB3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527B-E041-4A1A-99BA-20C9AED1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8041-4EF0-4F43-97A0-BB11C105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81D-70C2-45D1-BB0E-90A516B1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9A8F0-0B23-464E-A441-2F9B08DD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24157-4F68-4C63-A4CC-E31E7312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70DB-9FBC-4BBA-AB29-85BCCEAC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458A1-1535-4BCE-807A-0882AA84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155F-DBE3-48B3-BD27-D9624588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6DC2-5E97-44EF-9176-03F28DB0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69DD-721C-4416-A02D-7F7674C4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8745-F610-4D0C-9A51-5328B64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BB77D-F2A6-483A-B78E-CC398986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37659-2C9E-44FF-AA0A-68D53CB7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4F2-AA3D-4BCD-9E76-B5B7E5E9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2F615-E1B6-4258-B3FD-4E521630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0FD76-6A5C-44E7-B994-8573C334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6056F-0EF6-4EEF-A0A0-13CA151F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50E4C-7F37-42E3-A82A-98D6A41D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D1E5F-9FAF-4081-8F40-0C2A58D4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9D5A0-6CB8-4BF1-91E4-C0181BB0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BE71D-59EC-443E-928C-C6BE7C6D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F184-5743-4ABC-9D1E-54F26E52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C2884-4D5A-4833-9F75-DFE7C3DB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5DAB3-16BB-416A-B263-11F17706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32D-E720-4A3B-BF32-05CD9E2C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96C7F-A7C0-4D72-BF52-5AC957B5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93FE8-0F5C-41C7-B93E-2A5E2804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AD730-33D6-4D27-896F-654EE148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3F0-8B0A-4C2F-B80D-03C8CB6D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6C4-C649-4455-8FDD-DA82B86A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575D-C702-410A-9476-9755F794009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8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3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B66D-06C0-453B-A22E-5B6CE9A54D7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10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5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7A9B-9E0F-4701-AE97-6D4C4C03A85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2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7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D336-37EB-42D8-8E97-1793BD7CA56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4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9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FA0F-FD8A-46E6-B588-710F654A0D6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62C7-C7E2-44A9-9A7D-44F740B3E33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Прозрачност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АП следва да публикува на централен уебсай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Пълния текст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на одобрената от ЕК схема и разпоредбите за въвеждането й в действие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Име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на бенефициент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на помощт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Интензитет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на помощт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Използвана </a:t>
            </a: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- информ. следва да бъде достъпна за широката аудитория поне за 10 год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Бенефициентът на помощта е задължен да предостави на упълномощените трети стран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всеобхватен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 недискриминационен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достъп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до информация относно инфраструктурата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(включително inter alia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канал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улични кути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оптични влакна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), разработена според договор за Д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ова ще позволи на другите оператори да могат лесно да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установят възможност за достъп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до тази инфраструктура и следва да предостави цялата съответна информация относно широколентовата мрежа на </a:t>
            </a: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централен регистър на широк. инфраструктур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, ако такава база данни съществува в държавата- членка, и/или на Н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Докладване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а всеки две години АП, следва да съобщава на ЕК ключова информация за проектите за помощ, считано от момента, в който мярката е въведена в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Тази информация следва да включва освен изискуемата съгл. </a:t>
            </a: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пар. 78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и поне следната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датата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, на която мрежата е въведена в употре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продуктите за достъп на едро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броя на търсещите достъп страни и на доставчиците на услуги в мрежат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броя на свързаните домове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степента на усвояван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 случай на национални или регионални рамкови схеми националните или регионалните органи следва да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консолидират информацията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отделните мерки и да докладват на 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Когато приема решение съгласно Насоките, Комисията може да изиска допълнително докладване относно предоставената помощ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1f497d"/>
                </a:solidFill>
                <a:uFillTx/>
                <a:latin typeface="Arial"/>
              </a:rPr>
              <a:t>ПРОЗРАЧНОСТ. ДОКЛАДВАНЕ - НАСОКИТЕ.</a:t>
            </a: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PCStation</cp:lastModifiedBy>
  <dcterms:modified xsi:type="dcterms:W3CDTF">2013-01-07T21:04:30Z</dcterms:modified>
  <cp:revision>19</cp:revision>
  <dc:subject/>
  <dc:title>Слайд 1</dc:title>
</cp:coreProperties>
</file>