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62393-A77F-4144-AC2A-2EC8CE3D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19564-92C3-4D73-8D85-999B1144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40583-8BA3-41A1-AA6D-7911644B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EFA55-0496-4FEF-8B78-F702966A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FA861-AE10-4585-BC49-C07A595B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C3A26-077F-4CDD-B086-DDE368DE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FE778-DDA6-4B86-8FC7-53356C7D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77604-BB2E-4B28-ACCC-A3D569925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8235E-8988-4152-A8E7-F494808F6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D7177-D3BF-4400-BA23-1C522A17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2EBDA-A70E-4617-AA4B-03CB112D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42597-34D7-4FCD-957A-BF86EB60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8127F-620C-4C81-8F6D-9182191F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D085F-3DCC-4F50-A7CE-06F66BFA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CC33A-2479-45A6-B706-9F31895D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4F084-04B4-45EC-9050-BDC22329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55F28-E66A-483A-A4E7-663A5879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0D929-487E-4EDD-8C49-755A4090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428B1-53B4-4B94-96B0-C92B88BB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D3E67-CA14-4162-9836-D8180A22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B3EC1-2DE8-484C-AA3F-DA96591F4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5C673-2B4F-45EB-886D-3BEAD372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2C87D-E72F-4BE7-881D-4E110328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31457-1B65-47CF-89C1-23604D0F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FA718-9895-4DC3-B03C-6E2EEE9E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0FBD8-BC6F-4B1A-8FE8-CBBFE657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E14731-9508-4588-A32D-7D85D70D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46B2C-D7B4-4A6A-ADE1-0CC5E433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149A6A-3575-4853-98DD-446FDA30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58C89-CB61-4A01-A78C-8C05D46B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EB1D-E6A4-40F9-8BFF-65D72954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9FF74D-E69F-4797-85D8-74A468B5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4280B-699D-453A-B603-9945E4576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E4A46-FB5C-41BC-BFEB-21083EEC8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34E86-60AE-46F6-ABD0-1816EB4D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7A1B0-82FD-4B1F-AE89-BB6B9A1D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ECA51-61DB-4CA0-9C94-BBEA5E1B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A67F9-8A88-41B6-85B4-9807FBDE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FD4AF-6CB0-4E3B-A03F-EE237943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89D46-E9F3-42E6-BFB7-C10BAE35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74451-C5EE-4A31-8F33-8347BDB0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C647-D87D-4CCE-B8C6-82D51C8D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EB3C3-42ED-43FC-B673-454B73A3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6143A-4CAB-49C3-B336-BCB503A2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47D75-CA1D-415E-AD57-AA2FF3B2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5CB20-4776-4EB5-B12B-BA2DAE57E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1C57E-B147-441E-BC35-9D228E78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E446-CEEA-4B7B-B426-C3BEE42C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C543-1ED3-4176-8080-1B073166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5605-93FF-473F-AC33-61842FF4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AF85-4149-4D3F-95BC-25C4B675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5980-C92F-4F84-8A6D-001F03C0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1AEC-337E-4AF0-86DC-FCD954F6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8106-4A25-4534-BAF9-22717F97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2057-B6CF-4A48-94C2-84AB186F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45E5-6336-425F-8DB5-07BCB2F0F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9D6A-15F5-4D1A-AB24-E60300323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6FFB-2940-436C-8C3C-924FB1405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6601-B4AA-4AFD-8A75-9F2F45BB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5A47-6735-471C-988F-AFC687E4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E411-2380-415C-8C16-5D41EFD1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2503-CCAD-426E-AD5A-B1AD3561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A1F3-2CAD-42E7-8EF8-954CF832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B465-F7CE-4C41-A2F5-84D5F950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47F5-E3D0-40AF-85E4-50F7A9F8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247B-BA7C-4AFC-8C0C-E6EC39B9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896F-504A-4623-960C-D1A54761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9FAD-7AE5-4804-AF3B-198D8505B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FA7D-13CE-48DB-A767-D619CD254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96807-D7D0-4FA9-B7EF-492C7A3C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FB78C-B2D0-466D-91E2-3CB375FA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FABC3-D37C-42F1-AFD2-3205DA6E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E3C0E-3F2B-4EDA-A1BB-E018FB89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05485-FABE-4A6E-96FB-59E6EBAE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88DF5-6E0B-4B99-B1E6-744EFF3C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D7CB7-AAA3-4EBC-894C-753929D9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43D1F-59A8-4384-BFE0-69726FD2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6A595-B439-42CE-8F86-D4A2691B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B1912-6087-4053-B096-D197E93D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FCF2C-8371-4DC1-AD90-95856F95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E6E9A-01CE-4322-B501-ADC7E0F12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5046E-18D1-4BC7-AEF5-D1DE2C82F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992C1-C5C0-4522-B9E5-D03147E9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B1FCE-83E2-42F6-8128-552916BB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A66A5-31A0-4E3A-8693-F7724644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A7842-DA0B-4020-9B17-EC498D2F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ECD1B-6BB5-48B1-8A3E-CCC92ABF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91918-3E14-4D42-BE6E-75AA2C64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B4A7E-64A7-414F-9655-E6D49FEA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F88A6-3F0D-453A-9D75-11595E8A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F6928-EC6E-4737-901E-19D6A0E0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292CA-B162-442A-9969-15A07742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3D2DA-9EA7-4230-854D-8A0A987A2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826A0-FD7D-495B-BE50-8D4F0898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036CF-7C77-4674-822C-4651E82B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A8EBF-0138-4F63-9D77-7AAD0A76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C6C67-58E4-4511-98C2-BAB471DE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0A0AA-790F-4CC9-9147-877FD3B3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6FF05-CF52-452F-B471-ABECC23F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72F12-7FCA-45CD-9C7E-9E8A2CA2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BE594-9CC6-4991-A070-2DF89477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B9B5A-AA90-4ECC-9501-000A2296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58528-58A1-44CF-8595-B1725BE0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04125-80D7-4AFA-967B-E81524AF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CFBCB-4E32-471F-B1AE-64B46A143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754F9-6350-4AC6-8397-ABE1DDA9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5A4D1-A71C-47C8-AD16-EAD81F45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2511E-6FF9-45EA-A3E3-E4CAA8FF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832EC-5870-4531-85F9-A250E98F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F3E5D-FAB9-4CD1-AC9D-2C6353DE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84C14-5F79-423D-BD8F-D4D4FB04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B61B6-7BF0-4EB5-BD58-51F6B903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C5138-5E0C-49AD-87B7-3B5F1094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43D6A-8D4F-4CF7-AF6C-58780E38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4D664-38C3-419F-AC91-80428525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C0DC3-9B61-4226-A4ED-148437E0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25F9C-266B-4AC8-98C0-D0FC90CA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6B11B-F1C6-4713-AE6F-DB598660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57770-C61A-447B-A955-856A55D2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20AE1-3E9A-4047-B540-39DE1A25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83332-8B05-4D32-894A-6002602F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97396-D94B-4BC9-A9F4-B4DD6E00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39248-D245-4A59-8F2B-A5D7DBFB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06FCC-A049-4F41-8C62-6F9AE46D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A8399-1575-4D08-BABB-E60301CF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635DC-C4C3-493D-BF61-3CC97BF1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FA8ED-778D-48F8-8E81-D237CC2E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80D33-124C-485E-8C30-5586DE52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F3EED-7B26-4D4E-ACC2-793DD5065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F76BD-9170-4227-8534-EFC0E5B2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B5EB2-F0F1-4D83-B6B4-00205458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A5F22-E4C6-4559-A2B2-A97B585D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http://www.bgregio.eu/FCKeditor/UserFiles/File/OPRR_bg.JPG"/>
          <p:cNvPicPr/>
          <p:nvPr/>
        </p:nvPicPr>
        <p:blipFill>
          <a:blip r:embed="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Европейска емблема"/>
          <p:cNvPicPr/>
          <p:nvPr/>
        </p:nvPicPr>
        <p:blipFill>
          <a:blip r:embed="rId3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6" name="il_fi" descr="http://ecoline.hit.bg/BG-flag.gif"/>
          <p:cNvPicPr/>
          <p:nvPr/>
        </p:nvPicPr>
        <p:blipFill>
          <a:blip r:embed="rId4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" name="Picture 16" descr=""/>
            <p:cNvPicPr/>
            <p:nvPr/>
          </p:nvPicPr>
          <p:blipFill>
            <a:blip r:embed="rId5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7" descr="http://www.bgregio.eu/FCKeditor/UserFiles/File/OPRR_bg.JPG"/>
          <p:cNvPicPr/>
          <p:nvPr/>
        </p:nvPicPr>
        <p:blipFill>
          <a:blip r:embed="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6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11" descr="Европейска емблема"/>
          <p:cNvPicPr/>
          <p:nvPr/>
        </p:nvPicPr>
        <p:blipFill>
          <a:blip r:embed="rId3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71" name="il_fi" descr="http://ecoline.hit.bg/BG-flag.gif"/>
          <p:cNvPicPr/>
          <p:nvPr/>
        </p:nvPicPr>
        <p:blipFill>
          <a:blip r:embed="rId4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7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7" name="Picture 16" descr=""/>
            <p:cNvPicPr/>
            <p:nvPr/>
          </p:nvPicPr>
          <p:blipFill>
            <a:blip r:embed="rId5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2FF8-9707-4BA4-93B3-F82FE395A9EC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7" descr="http://www.bgregio.eu/FCKeditor/UserFiles/File/OPRR_bg.JPG"/>
          <p:cNvPicPr/>
          <p:nvPr/>
        </p:nvPicPr>
        <p:blipFill>
          <a:blip r:embed="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1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1" descr="Европейска емблема"/>
          <p:cNvPicPr/>
          <p:nvPr/>
        </p:nvPicPr>
        <p:blipFill>
          <a:blip r:embed="rId3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23" name="il_fi" descr="http://ecoline.hit.bg/BG-flag.gif"/>
          <p:cNvPicPr/>
          <p:nvPr/>
        </p:nvPicPr>
        <p:blipFill>
          <a:blip r:embed="rId4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2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9" name="Picture 16" descr=""/>
            <p:cNvPicPr/>
            <p:nvPr/>
          </p:nvPicPr>
          <p:blipFill>
            <a:blip r:embed="rId5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6DF4-3DC8-4F5C-83EB-134772590976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7" descr="http://www.bgregio.eu/FCKeditor/UserFiles/File/OPRR_bg.JPG"/>
          <p:cNvPicPr/>
          <p:nvPr/>
        </p:nvPicPr>
        <p:blipFill>
          <a:blip r:embed="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7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11" descr="Европейска емблема"/>
          <p:cNvPicPr/>
          <p:nvPr/>
        </p:nvPicPr>
        <p:blipFill>
          <a:blip r:embed="rId3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75" name="il_fi" descr="http://ecoline.hit.bg/BG-flag.gif"/>
          <p:cNvPicPr/>
          <p:nvPr/>
        </p:nvPicPr>
        <p:blipFill>
          <a:blip r:embed="rId4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8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1" name="Picture 16" descr=""/>
            <p:cNvPicPr/>
            <p:nvPr/>
          </p:nvPicPr>
          <p:blipFill>
            <a:blip r:embed="rId5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2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DEF1-AE10-4057-BFD8-C46E591E36F7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9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4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5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16" descr=""/>
            <p:cNvPicPr/>
            <p:nvPr/>
          </p:nvPicPr>
          <p:blipFill>
            <a:blip r:embed="rId4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3E84-E23B-4490-90C9-40D4975697DC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9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0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4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5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45BC-5E38-45D4-8AA0-B67821112E19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http://www.bgregio.eu/FCKeditor/UserFiles/File/OPRR_bg.JPG"/>
          <p:cNvPicPr/>
          <p:nvPr/>
        </p:nvPicPr>
        <p:blipFill>
          <a:blip r:embed="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Европейска емблема"/>
          <p:cNvPicPr/>
          <p:nvPr/>
        </p:nvPicPr>
        <p:blipFill>
          <a:blip r:embed="rId3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59" name="il_fi" descr="http://ecoline.hit.bg/BG-flag.gif"/>
          <p:cNvPicPr/>
          <p:nvPr/>
        </p:nvPicPr>
        <p:blipFill>
          <a:blip r:embed="rId4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6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Picture 16" descr=""/>
            <p:cNvPicPr/>
            <p:nvPr/>
          </p:nvPicPr>
          <p:blipFill>
            <a:blip r:embed="rId5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9CEC-AB29-4BEB-8847-D7B054F45DA7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http://www.bgregio.eu/FCKeditor/UserFiles/File/OPRR_bg.JPG"/>
          <p:cNvPicPr/>
          <p:nvPr/>
        </p:nvPicPr>
        <p:blipFill>
          <a:blip r:embed="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1" descr="Европейска емблема"/>
          <p:cNvPicPr/>
          <p:nvPr/>
        </p:nvPicPr>
        <p:blipFill>
          <a:blip r:embed="rId3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11" name="il_fi" descr="http://ecoline.hit.bg/BG-flag.gif"/>
          <p:cNvPicPr/>
          <p:nvPr/>
        </p:nvPicPr>
        <p:blipFill>
          <a:blip r:embed="rId4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1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16" descr=""/>
            <p:cNvPicPr/>
            <p:nvPr/>
          </p:nvPicPr>
          <p:blipFill>
            <a:blip r:embed="rId5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FFB8-34EA-41E6-92C2-12EF8502ECA9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http://www.bgregio.eu/FCKeditor/UserFiles/File/OPRR_bg.JPG"/>
          <p:cNvPicPr/>
          <p:nvPr/>
        </p:nvPicPr>
        <p:blipFill>
          <a:blip r:embed="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1" descr="Европейска емблема"/>
          <p:cNvPicPr/>
          <p:nvPr/>
        </p:nvPicPr>
        <p:blipFill>
          <a:blip r:embed="rId3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63" name="il_fi" descr="http://ecoline.hit.bg/BG-flag.gif"/>
          <p:cNvPicPr/>
          <p:nvPr/>
        </p:nvPicPr>
        <p:blipFill>
          <a:blip r:embed="rId4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6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Picture 16" descr=""/>
            <p:cNvPicPr/>
            <p:nvPr/>
          </p:nvPicPr>
          <p:blipFill>
            <a:blip r:embed="rId5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37AC-BD0D-4FFA-9CE2-2386B3126274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7" descr="http://www.bgregio.eu/FCKeditor/UserFiles/File/OPRR_bg.JPG"/>
          <p:cNvPicPr/>
          <p:nvPr/>
        </p:nvPicPr>
        <p:blipFill>
          <a:blip r:embed="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1" descr="Европейска емблема"/>
          <p:cNvPicPr/>
          <p:nvPr/>
        </p:nvPicPr>
        <p:blipFill>
          <a:blip r:embed="rId3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15" name="il_fi" descr="http://ecoline.hit.bg/BG-flag.gif"/>
          <p:cNvPicPr/>
          <p:nvPr/>
        </p:nvPicPr>
        <p:blipFill>
          <a:blip r:embed="rId4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2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Picture 16" descr=""/>
            <p:cNvPicPr/>
            <p:nvPr/>
          </p:nvPicPr>
          <p:blipFill>
            <a:blip r:embed="rId5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DA98-1074-4853-83F6-45983AB88146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63" name="TextBox 1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7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9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6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24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25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7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5F8F-8E7D-4CE8-A431-88F180AFB36C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http://www.bgregio.eu/FCKeditor/UserFiles/File/OPRR_bg.JPG"/>
          <p:cNvPicPr/>
          <p:nvPr/>
        </p:nvPicPr>
        <p:blipFill>
          <a:blip r:embed="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1" descr="Европейска емблема"/>
          <p:cNvPicPr/>
          <p:nvPr/>
        </p:nvPicPr>
        <p:blipFill>
          <a:blip r:embed="rId3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19" name="il_fi" descr="http://ecoline.hit.bg/BG-flag.gif"/>
          <p:cNvPicPr/>
          <p:nvPr/>
        </p:nvPicPr>
        <p:blipFill>
          <a:blip r:embed="rId4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2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Picture 16" descr=""/>
            <p:cNvPicPr/>
            <p:nvPr/>
          </p:nvPicPr>
          <p:blipFill>
            <a:blip r:embed="rId5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DD40-36A7-4FFF-B4DF-03BD840943E6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Box 8"/>
          <p:cNvSpPr/>
          <p:nvPr/>
        </p:nvSpPr>
        <p:spPr>
          <a:xfrm>
            <a:off x="250920" y="263700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ЛАНИРАНЕ И АДМИНИСТРИРАНЕ НА ПРОЕКТНИТЕ ДЕЙ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ЗИСКВАНИЯ НА ОП ОТНОШЕНИЕ НА УПРАВЛЕНИЕ НА КАЧЕСТВОТ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ДИТНА ПЪТЕКА НА БЕНЕФИЦИЕНТ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И ПОСЛЕДОВАТЕЛНОСТ НА ДЕЙНОСТИТ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ТА, УЧАСТВАЩИ В ДЕЙНОСТИТ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ЙНИЯ СРОК/ПЕРИОДА ЗА ИЗВЪРШВАНЕ НА ДЕЙНОСТИТ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ЪТ – Т.Е. КОЙ ИЗПРАЩА ДОКУМЕНТ И КАК, КЪДЕ СЕ СЪХРАНЯВАТ ДОКУМЕНТИТЕ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ЕН ФОРМАТ ОТ СВЪРЗАНИ ФОРМИ ЗА КАНДИДАТСТВАНЕ/ИСКАНИЯ, УВЕДОМЛЕНИЯ, ДОКЛАДИ, </a:t>
            </a:r>
            <a:r>
              <a:rPr b="1" lang="bg-BG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ТОЧНИКА НА ИНФОРМАЦИЯ, ДОКУМЕНТИ, ДОКЛАДИ И Т.Н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2296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8"/>
          <p:cNvSpPr/>
          <p:nvPr/>
        </p:nvSpPr>
        <p:spPr>
          <a:xfrm>
            <a:off x="250920" y="2637000"/>
            <a:ext cx="84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А ЗА ВЪТРЕШНО ОТЧИТАНЕ И МОНИТОРИНГ Е ПРЯКА ФУНКЦИЯ ОТ ИНСТИТУЦИОНАЛНАТА ОРГАНИЗАЦИЯ НА ПРОЕКТА И ВКЛЮЧ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БИРАНЕ И АНАЛИЗ НА ИНФОРМАЦИЯ ЗА НАПРЕДЪКА ПО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НА ОТЧЕТИ; КОНТРОЛ ВЪРХУ ПОСТИГАНЕ НА ПРОЕКТНИТЕ ИНДИКАТОР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 ВЪРХУ КАЧЕСТВОТ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И НА ВЗИМАНЕ НА РЕ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ИСТЕМА ЗА ВЪТРЕШНО ОТЧИТАНЕ И МОНИТОРИНГ НА ПРОЕ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8"/>
          <p:cNvSpPr/>
          <p:nvPr/>
        </p:nvSpPr>
        <p:spPr>
          <a:xfrm>
            <a:off x="250920" y="263700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ЪЛЖЕНИЕ НА БЕНЕФИЦИЕНТИТЕ ПО ОТНОШЕНИЕ НА ПРОЕКТНОТО ДОС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Е СЪХРАНЯВА НА БЕЗОПАСНО И ДОСТЪПНО МЯСТ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-МАЛКО ОТ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ИНИ СЛЕД ПРИКЛЮЧВАНЕ НА ОПЕРАТИВНАТА ПРОГРА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ОСИГУРЯВА ДОСТЪП ДО ПРОЕКТНОТО ДОСИЕ ЗА ОДИТИРАЩИ ОРГА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ДЕКЛАРИРА СЪГЛАСИЕ КОМПЕТЕНТНИЯТ ОРГАН ПО ПРИХОДИТЕ ПО МЕСТОРЕГИСТРАЦИЯ ДА ПРЕДОСТАВЯ ИНФОРМАЦИЯ НА ДОГОВАРЯЩИЯ ОРГ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5"/>
          <p:cNvSpPr/>
          <p:nvPr/>
        </p:nvSpPr>
        <p:spPr>
          <a:xfrm>
            <a:off x="250920" y="179712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ИСТЕМА ЗА АРХИВИРАНЕ И СЪХРАНЕНИЕ НА ПРОЕКТНАТА ДОКУМЕНТ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8"/>
          <p:cNvSpPr/>
          <p:nvPr/>
        </p:nvSpPr>
        <p:spPr>
          <a:xfrm>
            <a:off x="250920" y="263700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ЪЛЖЕНИЕ НА БЕНЕФИЦИЕНТИТЕ ПО ОТНОШЕНИЕ НА ПРОЕКТНОТО ДОС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ПОДДЪРЖА АКТУАЛЕН РЕГИСТЪР НА ДОКУМЕТООБОРО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УПРАВЛЯВА ДВИЖЕНИЕТО НА ДОКУМЕНТИ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УПРАВЛЯВА ПРОЕКТНОТО ДОСИЕ И СЛЕД ПРИКЛЮЧВАНЕ НА ПРОЕКТНИТЕ ДЕЙ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250920" y="179712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ИСТЕМА ЗА АРХИВИРАНЕ И СЪХРАНЕНИЕ НА ПРОЕКТНАТА ДОКУМЕНТ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8"/>
          <p:cNvSpPr/>
          <p:nvPr/>
        </p:nvSpPr>
        <p:spPr>
          <a:xfrm>
            <a:off x="250920" y="2637000"/>
            <a:ext cx="84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ИСК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Е ПОСТИГНЕ СЪВМЕСТИМОСТ МЕЖДУ СИСТЕМАТА ЗА ДОКУМЕТООБОРОТ НА БЕНЕФИЦИЕНТА И ИЗИСКВАНИЯТА НА ОП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Е ГАРАНТИРА ПРИЕМСТВЕНОСТ И ИНСТИТУЦИОНАЛНА ПАМ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ЕТОВОДНИТЕ ДОКУММЕТИ ПО ПРОЕКТА ПРИ ВЪЗМОЖНОСТ ДА СЕ СЪХРАНЯВАТ ОТДЕЛ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5"/>
          <p:cNvSpPr/>
          <p:nvPr/>
        </p:nvSpPr>
        <p:spPr>
          <a:xfrm>
            <a:off x="250920" y="179712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ИСТЕМА ЗА АРХИВИРАНЕ И СЪХРАНЕНИЕ НА ПРОЕКТНАТА ДОКУМЕНТ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8"/>
          <p:cNvSpPr/>
          <p:nvPr/>
        </p:nvSpPr>
        <p:spPr>
          <a:xfrm>
            <a:off x="250920" y="263700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ДОВЕ ПРОМЕНИ НА ДБФ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ДОМЛ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И, ИЗИСКВАЩИ ОДОБРЕНИЕ ОТ СТРАНА НА У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(СКЛЮЧВАНЕ НА ДОПЪЛНИТЕЛНО СПОРАЗУМЕНИЕ/ИЗДАВАНЕ НА ЗАПОВЕД ЗА ИЗМЕНЕНИ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5"/>
          <p:cNvSpPr/>
          <p:nvPr/>
        </p:nvSpPr>
        <p:spPr>
          <a:xfrm>
            <a:off x="250920" y="179712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8"/>
          <p:cNvSpPr/>
          <p:nvPr/>
        </p:nvSpPr>
        <p:spPr>
          <a:xfrm>
            <a:off x="250920" y="2637000"/>
            <a:ext cx="849780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МЕНИ НА ДБФП, КЛАСИФИЦИРАНИ КАТО УВЕДОМ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НА БАНКОВАТА СМЕТКА ИЛИ ПОДСМЕТКА, ПОСОЧЕНА В ИСКАНЕТО ЗА АВАНСОВО ПЛАЩАН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НА ПОЩЕНСКИ АДРЕС, ТЕЛЕФОНИ, ЕЛЕКТРОНЕН АДРЕС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В НАИМЕНОВАНИЕТО НА БЕНЕФИЦИЕНТА/ПАРТНЬОР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НА ЗАКОННИЯ ПРЕДСТАВИТЕЛ НА БЕНЕФИЦИЕНТА/ПАРТНЬОР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НЕ/ ПРОМЯНА НА ЧЛЕНОВЕТЕ НА ЕКИПА ПО ПРОЕКТА (ПРИ ПРОЕКТИ, РАЗЛИЧНИ ОТ ИНФРАСТРУКТУРН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5"/>
          <p:cNvSpPr/>
          <p:nvPr/>
        </p:nvSpPr>
        <p:spPr>
          <a:xfrm>
            <a:off x="250920" y="179712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8"/>
          <p:cNvSpPr/>
          <p:nvPr/>
        </p:nvSpPr>
        <p:spPr>
          <a:xfrm>
            <a:off x="250920" y="2637000"/>
            <a:ext cx="849780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МЕНИ НА ДБФП С ОДОБР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ЖИТЕЛНО РАЗМЕСТВАНЕ В ГРАФИКА ЗА ИЗПЪЛНЕНИЕ НА ПРОЕКТА, КОЕТО НЕ ВОДИ ДО ОТПАДАНЕ НА ЧАСТ ОТ ПРОЕКТНИТЕ ДЕЙ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НА РЕГИСТРИРАНИЯ ОДИТОР ИЛИ НА ФИРМАТА ЗА ОДИТ, КОИТО СЛЕДВА ДА ОСЪЩЕСТВЯТ НЕЗАВИСИМИЯ ОДИ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ЯНА НА РЪКОВОДИТЕЛЯ НА ПРОЕКТА, ОДОБРЕН НА ЕТАП ОЦЕНКА НА ПРОЕКТНОТО ПРЕДЛОЖ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НЕ И СМЯНА НА ЧЛЕНОВЕ ОТ ЕКИПА ПО ИЗПЪЛНЕНИЕТО НА ПРОЕКТА (САМО ЗА ИНФРАСТРУКТУРНИ ПРОЕКТИ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50920" y="179712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8"/>
          <p:cNvSpPr/>
          <p:nvPr/>
        </p:nvSpPr>
        <p:spPr>
          <a:xfrm>
            <a:off x="250920" y="2637000"/>
            <a:ext cx="84978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МЕНИ НА ДБФП С ОДОБР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В КСС ПРЕДИ ПРОВЕЖДАНЕ НА ПРОЦЕДУРИ ЗА ИЗБОР НА ИЗПЪЛНИТЕЛ ПРЕДИ СКЛЮЧВАНЕ НА ДОГОВОР С ИЗПЪЛНИТЕЛ НА СМР – САМО В РЕЗУЛТАТ НА РАЗРАБОТВАНЕ/АКТУАЛИЗАЦИЯ НА ТЕХНИЧЕСКИ ИЛИ РАБОТЕН ПРОЕК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В КСС СЛЕД СКЛЮЧВАНЕ НА ДОГОВОР С ИЗПЪЛНИТЕЛ НА СМР ЧРЕЗ ЗАМЕНИТЕЛНА ТАБЛИЦА ПРИ УСТАНОВЕНИ ПО ВРЕМЕ НА СТРОИТЕЛСТВОТО РАЗЛИКИ В ПРЕДВИДЕНИТЕ КОЛИЧЕСТВА НА ОТДЕЛНИТЕ ВИДОВЕ СМР ВСЛЕДСТВИЕ НАПРАВЕНИ ТОЧНИ ИЗМЕРВАНИЯ НА МЯСТОТО НА ИЗПЪЛНЕНИЕ – ПРОМЯНАТА СЕ ОДОБРЯВА ПРИ ВЕРИФИЦИРАНЕ НА ИСКАНЕ ЗА ПЛАЩАН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250920" y="2637000"/>
            <a:ext cx="8497800" cy="23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МЕНИ НА ДБФП С ОДОБР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РАЗПРЕДЕЛЕНИЕ НА СРЕДСТВАТА МЕЖДУ БЮДЖЕТНИ ПЕРА В РАМКИТЕ НА ЕДИН БЮДЖЕТЕН РАЗДЕЛ. ТАКОВА ПРЕРАЗПРЕДЕЛЕНИЕ Е ДОПУСТИМО ЕДИНСТВЕНО ПРИ ПРЕРАЗПРЕДЕЛЕНИЕ МЕЖДУ ОБЕКТИТЕ НА ИНТЕРВЕНЦИЯ НА: СРЕДСТВА/РАЗХОДИ ЗА СМР, СРЕДСТВА/РАЗХОДИ ЗА СТРОИТЕЛЕН НАДЗОР, СРЕДСТВА/РАЗХОДИ ЗА АВТОРСКИ НАДЗОР СЛЕД  ИЗВЪРШВАНЕ НА ПРОЦЕДУРИТЕ ЗА ВЪЗЛАГАНЕ НА ОБЩЕСТВЕНИ ПОРЪЧКИ ПО СЪОТВЕТНИТЕ БЮДЖЕТНИ ПЕРА И ПРИ УСЛОВИЕ, ЧЕ НЕ СЕ ПРОМЕНЯ ОБЩИЯТ РАЗМЕР НА БЕЗВЪЗМЕЗДНАТА ФИНАНСОВА ПОМОЩ ЗА СМР, СЪОТВЕТНО ЗА СТРОИТЕЛЕН НАДЗОР ИЛИ ЗА АВТОРСКИ НАДЗОР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5"/>
          <p:cNvSpPr/>
          <p:nvPr/>
        </p:nvSpPr>
        <p:spPr>
          <a:xfrm>
            <a:off x="250920" y="179712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8"/>
          <p:cNvSpPr/>
          <p:nvPr/>
        </p:nvSpPr>
        <p:spPr>
          <a:xfrm>
            <a:off x="250920" y="263700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ОТО УПРАВЛЕНИЕ СЕ ОПРЕДЕЛЯ КАТО ПРОЦЕС НА РАЗРАБОТВАНЕ, ПЛАНИРАНЕ, МОНИТОРИНГ, РЕАЛИЗАЦИЯ  И КОНТРОЛ НА ПРОЕКТА, ТАКА, ЧЕ ДА БЪДАТ ПОСТИГНАТИ ОПРЕДЕЛЕНИ РЕЗУЛТАТИ И ЕФЕК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И НА ДОБРОТО ПРОЕКТНО УПРАВ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АЦИЯ КЪМ РЕЗУЛТ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ИКАС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ИМ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А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50920" y="179712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ОЕКТЕН ЦИКЪЛ И ЕФЕКТИВНО УПРАВЛЕНИЕ НА ПРОЕКТИ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8"/>
          <p:cNvSpPr/>
          <p:nvPr/>
        </p:nvSpPr>
        <p:spPr>
          <a:xfrm>
            <a:off x="250920" y="2637000"/>
            <a:ext cx="849780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МЕНИ НА ДБФП С АНЕКС ЗА ИЗМЕН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НА СРОКА ЗА ИЗПЪЛНЕНИЕ НА ДОГОВОРА/ЗАПОВЕДТА ЗА БЕЗВЪЗМЕЗДНА ФИНАНСОВА ПОМОЩ (ЕДНОКРАТНО УВЕЛИЧАВАНЕ ДО МАКСИМАЛНО ДОПУСТИМАТА ПРОДЪЛЖИТЕЛНОСТ НА ПРОЕКТ СЪГЛАСНО НАСОКИТЕ ЗА КАНДИДАТСТВАНЕ ПО СЪОТВЕТНАТА СХЕМ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В ПРАВНИЯ СТАТУТ НА БЕНЕФИЦИЕНТ/ ПАРТНЬОР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В ДОГОВОРЕНИТЕ ДЕЙНОСТИ ПО ПРОЕКТА, КОЯТО ВОДИ ДО ВЪВЕЖДАНЕ НА НОВИ ДЕЙНОСТИ/НОВИ БЮДЖЕТНИ ПЕРА/НОВИ ВИДОВЕ И/ИЛИ КОЛИЧЕСТВА СМР/НОВИ ВИДОВЕ И/ИЛИ КОЛИЧЕСТВА В ТС. ОСВЕН В СЛУЧАИТЕ НА НЕПРЕОДОЛИМА СИЛА, ВЪВЕЖДАНЕТО НА НОВИ ДЕЙНОСТИ/НОВИ БЮДЖЕТНИ ПЕРА/НОВИ ВИДОВЕ И/ИЛИ КОЛИЧЕСТВА Е НЕДОПУСТИМО ЗА ФИНАНСИРАНЕ ОТ БЕЗВЪЗМЕЗДНА ФИНАНСОВА ПОМОЩ И СЛЕДВА ДА СЕ ОТРАЗИ КАТО СОБСТВЕН ПРИНОС НА БЕНЕФИЦИЕНТА ПО БЮДЖЕТА НА ПРОЕК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50920" y="179712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8"/>
          <p:cNvSpPr/>
          <p:nvPr/>
        </p:nvSpPr>
        <p:spPr>
          <a:xfrm>
            <a:off x="250920" y="2637000"/>
            <a:ext cx="849780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ДОПУСТИМИ ПРОМЕНИ НА ДБФ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И, КОИТО СА РЕЗУЛТАТ ОТ  НЕДОБРОТО ИЗПЪЛНЕНИЕ НА ДОГОВОРИ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ВИТО И ДА БИЛО ПРОМЕНИ, КОИТО СЪЩЕСТВЕНО ПРОМЕНЯТ ХАРАКТЕРА НА ПРО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ЯНА НА РЪКОВОДИТЕЛЯ НА ПРОЕКТА С ДРУГ, КОЙТО НЕ ОТГОВАРЯ НА ИЗИСКВАНИЯТА НА УПРАВЛЯВАЩИЯ ОРГАН ЗА РЪКОВОДИТЕЛ НА ИНФРАСТРУКТУРЕН ПРОЕКТ; СМЯНА НА ЧЛЕН НА ЕКИПА С ДРУГ, КОЙТО НЕ ОТГОВАРЯ НА ИЗИСКВАНИЯТА НА УПРАВЛЯВАЩИЯ ОРГАН ЗА ЧЛЕН НА ЕКИПА НА ИНФРАСТРУКТУРЕН ПРОЕК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СВАЩО ИЛИ ЗАКЪСНЯЛО ПИСМЕНО УВЕДОМЛЕНИЕ ЗА ИЗВЪРШВАНЕТО НА ПРОМЯН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СВАЩА ИЛИ НЕУБЕДИТЕЛНА АРГУМЕНТАЦИЯ ЗА ИЗВЪРШВАНЕ НА ПРОМЯН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ТА ОТ ИЗВЪРШВАНЕ НА ПРОМЯНАТА Е НЕДОСТАТЪЧНА ИЛИ НЕУБЕДИТЕЛ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5"/>
          <p:cNvSpPr/>
          <p:nvPr/>
        </p:nvSpPr>
        <p:spPr>
          <a:xfrm>
            <a:off x="250920" y="179712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8"/>
          <p:cNvSpPr/>
          <p:nvPr/>
        </p:nvSpPr>
        <p:spPr>
          <a:xfrm>
            <a:off x="250920" y="2637000"/>
            <a:ext cx="849780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ДОПУСТИМИ ПРОМЕНИ НА ДБФ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ТАТ НА ПРОМЯНАТА Е ЗАСТРАШЕНО ПОСТИГАНЕТО НА ПЛАНИРАНИТЕ РЕЗУЛТАТИ ИЛИ УСПЕШНОТО ИЗПЪЛНЕНИЕ НА ПРОЕК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И, КОИТО ПОСТАВЯТ ПОД СЪМНЕНИЕ РЕШЕНИЕТО ЗА ОТПУСКАНЕ НА БЕЗВЪЗМЕЗДНАТА ПОМО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И В РАЗХОДИ ЗА „ОРГАНИЗАЦИЯ И УПРАВЛЕНИЕ”, ВОДЕЩИ ДО УВЕЛИЧАВАНЕ В РАЗМЕРА НА ОПРЕДЕЛЕНИТЕ В ДОГОВОРА ВЪЗНАГРАЖДЕНИЯ ЗА ПОЛОЖЕН ТРУД, БРОЙ ЕДИНИЦИ И ЕДИНИЧНА МЯРКА, КАКТО И ПРЕРАЗПРЕДЕЛЕНИЕ НА ВЪЗНАГРАЖДЕНИЯ МЕЖДУ ЧЛЕНОВЕТЕ НА ЕКИПА ПО ПРОЕК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И, ВОДЕЩИ ДО УВЕЛИЧАВАНЕ НА РАЗМЕРА НА ОТПУСНАТАТА БЕЗВЪЗМЕЗДНАТА ФИНАНСОВА ПОМОЩ ПО ПРОЕКТА, С ИЗКЛЮЧЕНИЕ НА ПРОЕКТИ ПО ПРОЦЕДУРИ ЗА ДИРЕКТНО ПРЕДОСТАВЯНЕ НА БЕЗВЪЗМЕЗДНА ФИНАНСОВА ПОМОЩ С ЕДИН ЕДИНСТВЕН КОНКРЕТЕН БЕНЕФИЦИЕН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5"/>
          <p:cNvSpPr/>
          <p:nvPr/>
        </p:nvSpPr>
        <p:spPr>
          <a:xfrm>
            <a:off x="250920" y="179712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8"/>
          <p:cNvSpPr/>
          <p:nvPr/>
        </p:nvSpPr>
        <p:spPr>
          <a:xfrm>
            <a:off x="250920" y="2637000"/>
            <a:ext cx="849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ЕТЕ ДБФП – ТОЙ Е НАЙ-ДОБРОТО СРЕДСТВО ЗА КОМУНИКАЦИЯ С У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ЪРЖАЙТЕ РЕГУЛЯРНА КОМУНИКАЦИЯ С УО НА ОПР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ЕТЕ РЕДОВНО СТРАНИЦАТА НА УО НА ОПР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5"/>
          <p:cNvSpPr/>
          <p:nvPr/>
        </p:nvSpPr>
        <p:spPr>
          <a:xfrm>
            <a:off x="250920" y="177336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ОМУНИКАЦИЯ С УО НА ОПР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 txBox="1"/>
          <p:nvPr/>
        </p:nvSpPr>
        <p:spPr>
          <a:xfrm>
            <a:off x="539640" y="2133720"/>
            <a:ext cx="777744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НИЕТО 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8"/>
          <p:cNvSpPr/>
          <p:nvPr/>
        </p:nvSpPr>
        <p:spPr>
          <a:xfrm>
            <a:off x="250920" y="2637000"/>
            <a:ext cx="8497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ОБХВАТА НА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ЦЕЛИТЕ НА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ВРЕМЕВИЯ ГРАФИК НА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РЕСУРС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КАЧЕСТВО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РИ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О УПРА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КОМУНИКАЦИОННИТЕ ПРОЦЕ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ОБЩЕСТВЕНИТЕ ПОРЪЧКИ И ДОГОВОРИТЕ С ИЗПЪЛНИТ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250920" y="184644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АКТИЧЕСКИ ОБЛАСТИ НА ПРОЕКТНИЯ МЕНИДЖМЪН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8"/>
          <p:cNvSpPr/>
          <p:nvPr/>
        </p:nvSpPr>
        <p:spPr>
          <a:xfrm>
            <a:off x="250920" y="263700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ИСКВАНИЯ НА ОПРР ЗА ИЗБОР НА ЕКИ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МС  330 ОТ 05.12.2011 Г. ЗА ДОПЪЛНЕНИЕ НА ПМС 62 ОТ 200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Я НА УО НА ОП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КИПИ ЗА ИЗПЪЛНЕНИЕ НА ПРОЕКТ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ДОВЕ ЕКИП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5"/>
          <p:cNvSpPr/>
          <p:nvPr/>
        </p:nvSpPr>
        <p:spPr>
          <a:xfrm>
            <a:off x="250920" y="184644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КИП ЗА УПРАВЛЕНИЕ/ ИЗПЪЛНЕНИЕ НА ПРОЕ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8"/>
          <p:cNvSpPr/>
          <p:nvPr/>
        </p:nvSpPr>
        <p:spPr>
          <a:xfrm>
            <a:off x="250920" y="2492280"/>
            <a:ext cx="84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ДОВЕ РЕСУРС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ОВЕ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РЕСУРСИТЕ, КОЕТО ДА ГАРАНТИРА ЕФЕКТИВНА ИНВЕСТИЦИЯ С МИСЪЛ ЗА НЕЙНОТО БЪДЕЩО 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5"/>
          <p:cNvSpPr/>
          <p:nvPr/>
        </p:nvSpPr>
        <p:spPr>
          <a:xfrm>
            <a:off x="250920" y="184644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ИСТЕМА ЗА УПРАВЛЕНИЕ НА РЕСУРСИ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ЗИСКВАНИЯ НА ОП ОТНОШЕНИЕ НА УПРАВЛЕНИЕ НА КАЧЕСТВОТ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УК НА БЕНЕФИЦИЕН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ИФИКАЦИЯ НА РАЗХОДИ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 НА ДОГОВОРИТЕ ЗА ИЗПЪЛНЕНИЕ НА СМ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ТНА ПЪТ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2296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ЗИСКВАНИЯ НА ОП ОТНОШЕНИЕ НА УПРАВЛЕНИЕ НА КАЧЕСТВОТ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ФУК НА БЕНЕФИЦИЕН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Я СЕ ПРИ ПЪРВО ИСКАНЕ ЗА ПЛАЩАНЕ ОТ СТРАНА НА БЕНЕФИЦИЕН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О ТРЯБВА ДА БЪДЕ АДАПТИРАНА ЗА ЦЕЛИТЕ НА ИЗПЪЛНЕНИЕТО НА ДОГОВОРИ ЗА БЕЗВЪЗМЕЗДНА ФИНАНСОВА ПОМО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2296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ЗИСКВАНИЯ НА ОП ОТНОШЕНИЕ НА УПРАВЛЕНИЕ НА КАЧЕСТВОТ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ЕРИФИКАЦИЯ НА РАЗХОДИ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 Е ПЪРВИ ЕТАП ОТ ПРОЦЕСА НА СЕРТИФИЦИРАНЕ И ПРЕДСТАВЛЯВА ПРОЦЕС НА НАБЛЮДЕНИЕ И КОНТРОЛ ВЪРХУ ФИНАНСОВИЯ И ФИЗИЧЕСКИЯ НАПРЕДЪК ПО ПРОЕКТИТЕ ЗА ПОТВЪРЖДАВАНЕ НА ПРИЕМЛИВОСТТА НА РАЗХОДИТЕ ЗА ИЗПЪЛНЕНИЕ НА ОДОБРЕНИЯ ПО ОПЕРАТИВНАТА ПРОГРАМА ПРОЕК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2296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ЗИСКВАНИЯ НА ОП ОТНОШЕНИЕ НА УПРАВЛЕНИЕ НА КАЧЕСТВОТ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ТРОЛ НА ДОГОВОРИТЕ ЗА СМ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О НА ОПРР АКТУАЛИЗИРА ПРОЦЕДУРИТЕ ПО «ВЪТРЕШЕН МОНИТОРИНГ», КАТО ВЪВЕЖДА 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ЖДАНЕТО ОТ БЕНЕФИЦИЕНТА НА ПРОВЕРКА НА МЯСТОТО НА ИЗПЪЛНЕНИЕ НА СЪОТВЕТНАТА ДЕЙНОСТ, КОЕТО ЩЕ БЪДЕ УДОСТОВЕРЕНО С ПОДПИСВАНЕТО НА ДВУСТРАНЕН КОНСТАТИВЕН ПРОТОКОЛ, УДОСТОВЕРЯВАЩ СЪОТВЕТСТВИЕТО МЕЖДУ ЗАЛОЖЕНИ, АКТУВАНИ И РЕАЛНО ИЗПЪЛНЕНИ СТРОИТЕЛНО-МОНТАЖНИ РАБОТИ (СМР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22960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4:32:57Z</dcterms:created>
  <dc:creator>maria.mihovska</dc:creator>
  <dc:description/>
  <dc:language>en-US</dc:language>
  <cp:lastModifiedBy>S</cp:lastModifiedBy>
  <dcterms:modified xsi:type="dcterms:W3CDTF">2013-01-08T17:10:43Z</dcterms:modified>
  <cp:revision>343</cp:revision>
  <dc:subject/>
  <dc:title>Слайд 1</dc:title>
</cp:coreProperties>
</file>