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1E03A-3713-4EA1-B5C1-09BD7EF2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2330-05A7-4521-B4EE-C0835C13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589F6-A5AE-4B26-A7A9-EAD59E87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4A65-D515-40C0-8B5C-8E4C9EB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9E5F-3133-4FEE-B273-7AA177F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FD4EC-4FF0-4231-9731-8BE0D34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5C324-C0CF-4AEF-910E-2DEC3F41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15EC6-7D43-4622-A31D-CF3E4EF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4C0A-00C2-4CB6-B162-644438B2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FE672-3625-4D1A-AC2F-345A8ED5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68A77-4678-4314-BC05-D4FE7BB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1FA19-9409-4C9B-A556-EB52B04C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306E1-9195-48C2-B76A-94820CD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E567D-0B78-4AB5-A796-CF25637E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8EB0-7ACB-4A44-91A4-3435DB42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E3458-BFA1-4C00-8B54-6F39D61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6F27C-1DD5-4C19-BF20-C8A7564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69831-2F5B-4135-99E9-E5ADAD9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CD7BA-59D3-4169-81AF-BE9B5F29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C60B8-2942-4C77-93F4-A49AC0D4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31459-6F04-4E80-AE57-9E190F74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CC311-24B7-46B7-9AFD-C1034782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A9B06-0477-4F33-94EE-432ECDEF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6AB06-5DAD-40CA-B171-AD9F9DE4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EF78B-3C65-4F8C-9E7C-13454E5C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BFEB3-23A1-4BBD-A23F-73C8D42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220F4-4F12-4B54-BDAE-286D6617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3F576-7F95-44C4-A29E-FF057EA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B246C-6DE1-43D9-A561-290A30F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1D995-6C52-4E07-9EC6-9C69CEC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10B-C32E-4CC9-B153-585EAB00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BBC3B-C9D0-49A3-A467-EB0A88FF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73EE4-D953-40AE-8E5B-95D2EADE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E3516-B7CB-4947-9398-F2F47BAB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04246-1A56-41AF-882A-08F86D68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7C261-3CDA-419B-94A4-25639A2D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9E658-13F9-4485-A32D-281C3504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03C11-5EF6-492D-93E0-3A38509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50AC3-98D9-4119-8BB5-DF2BEA97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CEA60-0468-468E-8360-8A792085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99D8B-9EB5-4C21-8805-750A32DF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826-F84B-4E2A-8312-0301509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2D529-4506-405A-918E-565C4EB5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6CB1A-77D1-47E3-8D81-3053566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60F93-C73D-4F19-A1D6-EEF718BE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E5474-98A6-4A9F-8DF3-607DB313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B1BBD-D5D1-4458-A4F8-1A777A75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6BA-9FFA-4B3C-B63F-1CE8CBC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158-4372-4814-9763-CEA921D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CD7-DF4D-4B17-A252-A5FDCA38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589-F4DB-4260-B632-D58ED30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B03-3EB5-4631-B32D-8D204A9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C8C-D675-4DE9-9A51-EAF64BD0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FD0-B40F-4AB9-BFD1-3532099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09A-4CCA-4AD9-8FBB-3849E5AC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7D2-87AE-433E-9F73-FB214721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B5D-3DFF-4289-8611-8A57FD7D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F22D-D299-4B8A-B085-595671E6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894A-9ECA-413C-A47C-F863C1BB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EA33-E80A-4325-97B4-4BDF27D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42B-2995-4B9B-AF46-5D85B41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E802-3B2B-4118-B3F3-5BB9C8C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2E95-7D46-4650-A2E6-E90A8CDE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491-C80B-48E4-A992-8AB3B35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ABF4-3026-4156-B1E6-DA08FA6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A1DD-DDF8-4809-9DC5-A9D0824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829-33A4-486B-A47E-DD7A60B4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B885-206D-4AEA-80D9-370860F1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F32A-ED9D-4943-B240-7FC6CE98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6E5D-B32B-4CF6-B134-859E68A3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6BE78-4799-408C-AF69-F96BA6A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0AEB-DF74-40E4-B829-03C35A4D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7618-A42D-44D9-A50B-884150B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4488-79AC-4527-917A-27ADA9E4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0E15-E30C-4087-8D7A-9F55593D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8419-70BE-4F1C-854F-B1CDC8E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71AE-02CB-4452-971F-A79FA13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C228-4630-4DE9-BEB5-93010A3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D140-46A0-4F60-8A12-F9F86260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A29E-7E27-4593-A5D5-3090A4DE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4938-4B0E-48F0-A624-B978CCD9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40E32-F133-4B8E-AF0E-32EFA26C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63ED-4560-4EA6-A5C5-2DE075E7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D0338-4B20-4B47-A499-979195A7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7405-65E6-48C2-8453-9D171870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7C87-4824-4D7F-880B-3192823F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375E-D053-4A76-ABCD-B7EE4F3A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6A9C-EB1F-43CB-9462-5AAB1B6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A709-C08D-481A-B76F-896E1FF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63DF-08EB-4237-84F0-7432016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9BF3-60A7-4D7F-8C5B-9F82BE7F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EAC1-01FC-4877-9AD9-BFFC2DCC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B49B-22B6-46C2-BE7F-70BFF16B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21FD-946B-4DCC-B4D6-1274CBD1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BC18B-3951-4554-919D-CB7430B4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4E2CD-49D8-42C8-9B25-F06F841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81E1C-9354-45AE-BE79-43EBAEDE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4A96-5D16-4414-AE65-3D43B53D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0426-9B82-415E-A842-167E8572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A2EC-07FA-4F7B-8527-82F50117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2CF0-6A27-4629-AF93-2C6AF561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EFC04-C80F-4393-B2D9-DBE5A5A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8C682-97F0-4A7D-B17D-B96FB43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1621D-E3D1-473B-888D-D838E8F3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3062F-7F60-4D26-8E28-E2E8F5D7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BF9F-E393-4C16-8240-07D57EE9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A6BCF-A3D2-4499-8433-608A39D1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00885-21FE-4429-AC12-45D8DCC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CF7A-CCBC-4D19-A06A-E80056FB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AA391-BD80-4663-8DED-F7F9321D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19E4-4B76-433B-8561-B1D93C12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7BA2-899B-438B-B902-68D1D5A5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D764C-B202-479C-AEB9-E3AE2E71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F868-F93C-4449-9C7A-05ED39F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8381-65D1-45E9-8ACB-4BC376A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4A394-4C3D-444A-A823-20F9E4D9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2CA2-9FA0-44EA-B768-89162EE9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FC68-5C4E-48FA-90E2-7399B433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773D-6073-4460-977F-24063722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FFBC-F89E-4DF6-A042-A3B6D52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BB8F7-EEDA-4833-B8EA-97C4AFE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4F4AE-C065-4257-B126-14FAB3AB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DCEB-15D8-4270-A6BB-B780A1C4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7F87-F4A3-4D12-A718-66BCEE57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F9C7D-24FE-42BD-A56D-0C8F983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6CD03-0366-4EE3-BA0E-F14881C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FD545-9D68-4385-B1EA-6952DC32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0AFE9-3E1B-4B0E-98C0-5CA26988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7179-9807-4B9D-9A16-F942AE25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B1080-74E0-400F-9A63-45B54506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B559A-26B0-4B33-9BAB-D92573ED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BB903-D39D-4D5C-8BAF-B98E4B6E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290F-0A14-46DF-9A5B-A7CEB790384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C7D4-8561-4634-B090-465C5C406C6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FA4-FBB4-4DF8-9908-855907F616F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5F8-5692-4CF2-88A9-3720D522608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6494-0D6A-42A1-A668-A54642D21C0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EAE-D317-4DD2-A26A-100AF6C3E4C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840-AC95-40E2-8CE5-3F10F5362AD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3F3F-4C00-4E36-8CC4-70CE54CD162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BF41-E3F6-4DC6-BBED-0F1022B96C9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AA5E-78CC-4F8B-B196-480156C38DB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C257-C2C6-4772-BA17-403A79D56D5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8"/>
          <p:cNvSpPr/>
          <p:nvPr/>
        </p:nvSpPr>
        <p:spPr>
          <a:xfrm>
            <a:off x="250920" y="2637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ЛАНИРАНЕ И АДМИНИСТРИРАНЕ НА ПРОЕКТНИТЕ ДЕЙ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ИТНА ПЪТЕКА НА БЕНЕФИЦИЕН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СЛЕДОВАТЕЛНОСТ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ТА, УЧАСТВАЩИ В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Я СРОК/ПЕРИОДА ЗА ИЗВЪРШВАНЕ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ЪТ – Т.Е. КОЙ ИЗПРАЩА ДОКУМЕНТ И КАК, КЪДЕ СЕ СЪХРАНЯВАТ ДОКУМЕН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Н ФОРМАТ ОТ СВЪРЗАНИ ФОРМИ ЗА КАНДИДАТСТВАНЕ/ИСКАНИЯ, УВЕДОМЛЕНИЯ, ДОКЛАДИ, </a:t>
            </a: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А НА ИНФОРМАЦИЯ, ДОКУМЕНТИ, ДОКЛАДИ И Т.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ВЪТРЕШНО ОТЧИТАНЕ И МОНИТОРИНГ Е ПРЯКА ФУНКЦИЯ ОТ ИНСТИТУЦИОНАЛНАТА ОРГАНИЗАЦИЯ НА ПРОЕКТА И ВКЛЮЧ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БИРАНЕ И АНАЛИЗ НА ИНФОРМАЦИЯ ЗА НАПРЕДЪКА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ОТЧЕТИ; КОНТРОЛ ВЪРХУ ПОСТИГАНЕ НА ПРОЕКТНИТЕ ИНДИКАТ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НА ВЗИМАНЕ НА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ВЪТРЕШНО ОТЧИТАНЕ И МОНИТОРИНГ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СЪХРАНЯВА НА БЕЗОПАСНО И ДОСТЪПНО МЯ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-МАЛКО О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И СЛЕД ПРИКЛЮЧВАНЕ НА ОПЕРАТИВ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ИГУРЯВА ДОСТЪП ДО ПРОЕКТНОТО ДОСИЕ ЗА ОДИТИРАЩИ ОРГ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ДЕКЛАРИРА СЪГЛАСИЕ КОМПЕТЕНТНИЯТ ОРГАН ПО ПРИХОДИТЕ ПО МЕСТОРЕГИСТРАЦИЯ ДА ПРЕДОСТАВЯ ИНФОРМАЦИЯ НА ДОГОВАРЯЩИЯ ОР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ДДЪРЖА АКТУАЛЕН РЕГИСТЪР НА ДОКУМЕТООБОР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ДВИЖЕНИЕТО НА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ПРОЕКТНОТО ДОСИЕ И СЛЕД ПРИКЛЮЧВАНЕ НА ПРОЕКТНИТЕ ДЕЙ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СТИГНЕ СЪВМЕСТИМОСТ МЕЖДУ СИСТЕМАТА ЗА ДОКУМЕТООБОРОТ НА БЕНЕФИЦИЕНТА И ИЗИСКВАНИЯТА НА 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ГАРАНТИРА ПРИЕМСТВЕНОСТ И ИНСТИТУЦИОНАЛНА ПАМ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НИТЕ ДОКУММЕТИ ПО ПРОЕКТА ПРИ ВЪЗМОЖНОСТ ДА СЕ СЪХРАНЯВАТ ОТДЕ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ИЗИСКВАЩИ ОДОБРЕНИЕ ОТ СТРАНА НА У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(СКЛЮЧВАНЕ НА ДОПЪЛНИТЕЛНО СПОРАЗУМЕНИЕ/ИЗДАВАНЕ НА ЗАПОВЕД ЗА ИЗМЕН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, КЛАСИФИЦИРАНИ КАТО УВЕДОМ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БАНКОВАТА СМЕТКА ИЛИ ПОДСМЕТКА, ПОСОЧЕНА В ИСКАНЕТО ЗА АВАНСОВО ПЛАЩ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ПОЩЕНСКИ АДРЕС, ТЕЛЕФОНИ, ЕЛЕКТРОНЕН АДРЕ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НАИМЕНОВАНИЕТО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ЗАКОННИЯ ПРЕДСТАВИТЕЛ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/ ПРОМЯНА НА ЧЛЕНОВЕТЕ НА ЕКИПА ПО ПРОЕКТА (ПРИ ПРОЕКТИ, РАЗЛИЧНИ ОТ ИНФРАСТРУКТУРН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ИТЕЛНО РАЗМЕСТВАНЕ В ГРАФИКА ЗА ИЗПЪЛНЕНИЕ НА ПРОЕКТА, КОЕТО НЕ ВОДИ ДО ОТПАДАНЕ НА ЧАСТ ОТ ПРОЕКТНИТЕ ДЕЙ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РЕГИСТРИРАНИЯ ОДИТОР ИЛИ НА ФИРМАТА ЗА ОДИТ, КОИТО СЛЕДВА ДА ОСЪЩЕСТВЯТ НЕЗАВИСИМИЯ ОДИ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, ОДОБРЕН НА ЕТАП ОЦЕНКА НА ПРОЕКТНОТО ПРЕДЛО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И СМЯНА НА ЧЛЕНОВЕ ОТ ЕКИПА ПО ИЗПЪЛНЕНИЕТО НА ПРОЕКТА (САМО ЗА ИНФРАСТРУКТУРНИ ПРОЕК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250920" y="2637000"/>
            <a:ext cx="8497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ПРЕДИ ПРОВЕЖДАНЕ НА ПРОЦЕДУРИ ЗА ИЗБОР НА ИЗПЪЛНИТЕЛ ПРЕДИ СКЛЮЧВАНЕ НА ДОГОВОР С ИЗПЪЛНИТЕЛ НА СМР – САМО В РЕЗУЛТАТ НА РАЗРАБОТВАНЕ/АКТУАЛИЗАЦИЯ НА ТЕХНИЧЕСКИ ИЛИ РАБОТ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– ПРОМЯНАТА СЕ ОДОБРЯВА ПРИ ВЕРИФИЦИРАНЕ НА ИСКАНЕ ЗА ПЛАЩ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250920" y="2637000"/>
            <a:ext cx="8497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ЗПРЕДЕЛЕНИЕ НА СРЕДСТВАТА МЕЖДУ БЮДЖЕТНИ ПЕРА В РАМКИТЕ НА ЕДИН БЮДЖЕТЕН РАЗДЕЛ. ТАКОВА ПРЕРАЗПРЕДЕЛЕНИЕ Е ДОПУСТИМО ЕДИНСТВЕНО ПРИ ПРЕРАЗПРЕДЕЛЕНИЕ МЕЖДУ ОБЕКТИТЕ НА ИНТЕРВЕНЦИЯ НА: СРЕДСТВА/РАЗХОДИ ЗА СМР, СРЕДСТВА/РАЗХОДИ ЗА СТРОИТЕЛЕН НАДЗОР, СРЕДСТВА/РАЗХОДИ ЗА АВТОРСКИ НАДЗОР СЛЕД  ИЗВЪРШВАНЕ НА ПРОЦЕДУРИТЕ ЗА ВЪЗЛАГАНЕ НА ОБЩЕСТВЕНИ ПОРЪЧКИ ПО СЪОТВЕТНИТЕ БЮДЖЕТНИ ПЕРА И ПРИ УСЛОВИЕ, ЧЕ НЕ СЕ ПРОМЕНЯ ОБЩИЯТ РАЗМЕР НА БЕЗВЪЗМЕЗДНАТА ФИНАНСОВА ПОМОЩ ЗА СМР, СЪОТВЕТНО ЗА СТРОИТЕЛЕН НАДЗОР ИЛИ ЗА АВТОРСКИ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ТО УПРАВЛЕНИЕ СЕ ОПРЕДЕЛЯ КАТО ПРОЦЕС НА РАЗРАБОТВАНЕ, ПЛАНИРАНЕ, МОНИТОРИНГ, РЕАЛИЗАЦИЯ  И КОНТРОЛ НА ПРОЕКТА, ТАКА, ЧЕ ДА БЪДАТ ПОСТИГНАТИ ОПРЕДЕЛЕНИ РЕЗУЛТАТИ И ЕФ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НА ДОБРОТО ПРОЕКТНО У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КЪМ РЕЗУЛ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ЕН ЦИКЪЛ И ЕФЕКТИВНО УПРАВЛЕНИЕ НА ПРОЕКТ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8"/>
          <p:cNvSpPr/>
          <p:nvPr/>
        </p:nvSpPr>
        <p:spPr>
          <a:xfrm>
            <a:off x="250920" y="2637000"/>
            <a:ext cx="84978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АНЕКС ЗА ИЗМЕ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СРОКА ЗА ИЗПЪЛНЕНИЕ НА ДОГОВОРА/ЗАПОВЕДТА ЗА БЕЗВЪЗМЕЗДНА ФИНАНСОВА ПОМОЩ (ЕДНОКРАТНО УВЕЛИЧАВАНЕ ДО МАКСИМАЛНО ДОПУСТИМАТА ПРОДЪЛЖИТЕЛНОСТ НА ПРОЕКТ СЪГЛАСНО НАСОКИТЕ ЗА КАНДИДАТСТВАНЕ ПО СЪОТВЕТНАТА СХЕМ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ПРАВНИЯ СТАТУТ НА БЕНЕФИЦИЕНТ/ ПАРТНЬ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ДОГОВОРЕНИТЕ ДЕЙНОСТИ ПО ПРОЕКТА, КОЯТО ВОДИ ДО ВЪВЕЖДАНЕ НА НОВИ ДЕЙНОСТИ/НОВИ БЮДЖЕТНИ ПЕРА/НОВИ ВИДОВЕ И/ИЛИ КОЛИЧЕСТВА СМР/НОВИ ВИДОВЕ И/ИЛИ КОЛИЧЕСТВА В ТС. ОСВЕН В СЛУЧАИТЕ НА НЕПРЕОДОЛИМА СИЛА, ВЪВЕЖДАНЕТО НА НОВИ ДЕЙНОСТИ/НОВИ БЮДЖЕТНИ ПЕРА/НОВИ ВИДОВЕ И/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СА РЕЗУЛТАТ ОТ  НЕДОБРОТО ИЗПЪЛНЕНИЕ НА ДОГОВОР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ВИТО И ДА БИЛО ПРОМЕНИ, КОИТО СЪЩЕСТВЕНО ПРОМЕНЯТ ХАРАКТЕ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 С ДРУГ, КОЙТО НЕ ОТГОВАРЯ НА ИЗИСКВАНИЯТА НА УПРАВЛЯВАЩИЯ ОРГАН ЗА РЪКОВОДИТЕЛ НА ИНФРАСТРУКТУРЕН ПРОЕКТ; СМЯНА НА ЧЛЕН НА ЕКИПА С ДРУГ, КОЙТО НЕ ОТГОВАРЯ НА ИЗИСКВАНИЯТА НА УПРАВЛЯВАЩИЯ ОРГАН ЗА ЧЛЕН НА ЕКИПА НА ИНФРАСТРУКТУР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О ИЛИ ЗАКЪСНЯЛО ПИСМЕНО УВЕДОМЛЕНИЕ ЗА ИЗВЪРШВАНЕТО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А ИЛИ НЕУБЕДИТЕЛНА АРГУМЕНТАЦИЯ ЗА ИЗВЪРШВАНЕ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ТА ОТ ИЗВЪРШВАНЕ НА ПРОМЯНАТА Е НЕДОСТАТЪЧНА ИЛИ НЕУБЕДИТЕ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ТАТ НА ПРОМЯНАТА Е ЗАСТРАШЕНО ПОСТИГАНЕТО НА ПЛАНИРАНИТЕ РЕЗУЛТАТИ ИЛИ УСПЕШНОТО ИЗПЪЛНЕНИЕ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ПОСТАВЯТ ПОД СЪМНЕНИЕ РЕШЕНИЕТО ЗА ОТПУСКАНЕ НА БЕЗВЪЗМЕЗД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 В РАЗХОДИ ЗА „ОРГАНИЗАЦИЯ И УПРАВЛЕНИЕ”, ВОДЕЩИ ДО УВЕЛИЧАВАНЕ В РАЗМЕРА НА ОПРЕДЕЛЕНИТЕ В ДОГОВОРА ВЪЗНАГРАЖДЕНИЯ ЗА ПОЛОЖЕН ТРУД, БРОЙ ЕДИНИЦИ И ЕДИНИЧНА МЯРКА, КАКТО И ПРЕРАЗПРЕДЕЛЕНИЕ НА ВЪЗНАГРАЖДЕНИЯ МЕЖДУ ЧЛЕНОВЕТЕ НА ЕКИПА ПО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ВОДЕЩИ ДО УВЕЛИЧАВАНЕ НА РАЗМЕРА НА ОТПУСНАТАТА БЕЗВЪЗМЕЗДНАТА ФИНАНСОВА ПОМОЩ ПО ПРОЕКТА, С ИЗКЛЮЧЕНИЕ НА ПРОЕКТИ ПО ПРОЦЕДУРИ ЗА ДИРЕКТНО ПРЕДОСТАВЯНЕ НА БЕЗВЪЗМЕЗДНА ФИНАНСОВА ПОМОЩ С ЕДИН ЕДИНСТВЕН КОНКРЕТЕН БЕНЕ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50920" y="2637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ДБФП – ТОЙ Е НАЙ-ДОБРОТО СРЕДСТВО ЗА КОМУНИКАЦИЯ С У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ЪРЖАЙТЕ РЕГУЛЯРНА КОМУНИКАЦИЯ С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РЕДОВНО СТРАНИЦАТА НА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УНИКАЦИЯ С УО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ХВАТА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ЦЕЛИТЕ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ВРЕМЕВИЯ ГРАФИК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АЧЕСТВ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 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ОМУНИКАЦИОННИТЕ ПРОЦ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ЩЕСТВЕНИТЕ ПОРЪЧКИ И ДОГОВОРИТЕ С ИЗПЪЛН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0920" y="18464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И ОБЛАСТИ НА ПРОЕКТНИЯ МЕНИДЖМЪ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 НА ОПРР ЗА ИЗБОР НА ЕК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С  330 ОТ 05.12.2011 Г. ЗА ДОПЪЛНЕНИЕ НА ПМС 62 ОТ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Я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ИПИ ЗА ИЗПЪЛНЕНИЕ НА ПРОЕК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ОВЕ ЕК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250920" y="18464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8"/>
          <p:cNvSpPr/>
          <p:nvPr/>
        </p:nvSpPr>
        <p:spPr>
          <a:xfrm>
            <a:off x="250920" y="24922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РЕСУР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, КОЕТО ДА ГАРАНТИРА ЕФЕКТИВНА ИНВЕСТИЦИЯ С МИСЪЛ ЗА НЕЙНОТО БЪДЕЩ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"/>
          <p:cNvSpPr/>
          <p:nvPr/>
        </p:nvSpPr>
        <p:spPr>
          <a:xfrm>
            <a:off x="250920" y="18464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УПРАВЛЕНИЕ НА РЕСУРС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НА ДОГОВОРИТЕ ЗА ИЗПЪЛНЕНИЕ Н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НА ПЪТ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 СЕ ПРИ ПЪРВО ИСКАНЕ ЗА ПЛАЩАНЕ ОТ СТРАНА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ТРЯБВА ДА БЪДЕ АДАПТИРАНА ЗА ЦЕЛИТЕ НА ИЗПЪЛНЕНИЕТО НА ДОГОВОРИ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 Е ПЪРВИ ЕТАП ОТ ПРОЦЕСА НА СЕРТИФИЦИРАНЕ И ПРЕДСТАВЛЯВА ПРОЦЕС НА НАБЛЮДЕНИЕ И КОНТРОЛ ВЪРХУ ФИНАНСОВИЯ И ФИЗИЧЕСКИЯ НАПРЕДЪК ПО ПРОЕКТИТЕ ЗА ПОТВЪРЖДАВАНЕ НА ПРИЕМЛИВОСТТА НА РАЗХОДИТЕ ЗА ИЗПЪЛНЕНИЕ НА ОДОБРЕНИЯ ПО ОПЕРАТИВНАТА ПРОГРАМА ПРОЕ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НА ДОГОВОРИТЕ З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АКТУАЛИЗИРА ПРОЦЕДУРИТЕ ПО «ВЪТРЕШЕН МОНИТОРИНГ», КАТО ВЪВЕЖДА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НЕТО ОТ БЕНЕФИЦИЕНТА НА ПРОВЕРКА НА МЯСТОТО НА ИЗПЪЛНЕНИЕ НА СЪОТВЕТНАТА ДЕЙНОСТ, КОЕТО ЩЕ БЪДЕ УДОСТОВЕРЕНО С ПОДПИСВАНЕТО НА ДВУСТРАНЕН КОНСТАТИВЕН ПРОТОКОЛ, УДОСТОВЕРЯВАЩ СЪОТВЕТСТВИЕТО МЕЖДУ ЗАЛОЖЕНИ, АКТУВАНИ И РЕАЛНО ИЗПЪЛНЕНИ СТРОИТЕЛНО-МОНТАЖНИ РАБОТИ (СМ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S</cp:lastModifiedBy>
  <dcterms:modified xsi:type="dcterms:W3CDTF">2013-01-08T17:10:43Z</dcterms:modified>
  <cp:revision>343</cp:revision>
  <dc:subject/>
  <dc:title>Слайд 1</dc:title>
</cp:coreProperties>
</file>