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3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8" name="PlaceHolder 5"/>
          <p:cNvSpPr>
            <a:spLocks noGrp="1"/>
          </p:cNvSpPr>
          <p:nvPr>
            <p:ph type="ftr" idx="3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3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9BF3-C14F-4546-A316-C64C1B7D5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7640" y="744480"/>
            <a:ext cx="4962600" cy="3722760"/>
          </a:xfrm>
          <a:prstGeom prst="rect">
            <a:avLst/>
          </a:prstGeom>
          <a:ln w="0">
            <a:noFill/>
          </a:ln>
        </p:spPr>
      </p:sp>
      <p:sp>
        <p:nvSpPr>
          <p:cNvPr id="7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Calibri"/>
              </a:rPr>
              <a:t>Бенефициентът следва да уведоми писмено УО чрез съответния РО относно необходимостта от извършване на промяна в количествата на отделни видове СМР преди тяхното извършване. При искане за възстановяване на средства за тези промени, бенефициентът задължително представя копие </a:t>
            </a:r>
            <a:r>
              <a:rPr b="0" lang="bg-BG" sz="1200" spc="-1" strike="noStrike">
                <a:solidFill>
                  <a:srgbClr val="000000"/>
                </a:solidFill>
                <a:latin typeface="Calibri"/>
              </a:rPr>
              <a:t>на подкрепящи исканите промени документи – заменителна таблица, констативни протоколи, становища на компетентни органи, заповедна книга, актове за приемане на СМР, анализи на единичните цени на СМР и др. Заменителната таблица се представя и на електронен носит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За възстановяване на разходи за СМР Бенефициентите следва да ползват публикувания унифициран образец на Протокол за приемане на извършени СМР (бивш образец акт 19) – подава се на електронен носител във формат “xls.” (MS Office Excel, а не в “pdf.”), както и на хартиен такъв. При съставяне на протоколите трябва ясно да се разграничат приетите СМР по вида разход – безвъзмездна финансова помощ, задължителен собствен принос, допълнителен собствен принос и/или непредвидени разходи. Към искането за плащане се представят всички съставени Протоколи за приемане на извършени СМР на електронен носител, включително представените към предходните искания за плащ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EC1A-F4D8-4018-A4A3-9E6C5AA5F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17640" y="744480"/>
            <a:ext cx="4962600" cy="3722760"/>
          </a:xfrm>
          <a:prstGeom prst="rect">
            <a:avLst/>
          </a:prstGeom>
          <a:ln w="0">
            <a:noFill/>
          </a:ln>
        </p:spPr>
      </p:sp>
      <p:sp>
        <p:nvSpPr>
          <p:cNvPr id="7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ефициентът следва да има предви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ерифициране на искане за междинно плащане УО проверява изпълнението на следните усло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След поисканата промяна общата стойност на КСС към договора за строителство не се увелича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Промяната в количеството на всяка конкретна позиция в КСС не може да надвишава с повече от 15% първоначално определеното количество както в посока увеличаване, така и в посока намаляване на количество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Не са налице отпаднали или нови позиции в КСС към договора за строител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ерифициране на искане за окончателно плащане УО проверява изпълнението на следните усло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След поисканата/ите промяна/и общата стойност на КСС към договора за строителство не се увелича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Промяната/те в количеството на всяка конкретна позиция в КСС не могат да надвишава с повече от 15% първоначално определеното количество както в посока увеличаване, така и в посока намаляване на количество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Не са налице отпаднали или нови позиции в КСС към договора за строител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6161-9E6B-4EDD-8403-17B45B6CF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7640" y="744480"/>
            <a:ext cx="4962600" cy="3722760"/>
          </a:xfrm>
          <a:prstGeom prst="rect">
            <a:avLst/>
          </a:prstGeom>
          <a:ln w="0">
            <a:noFill/>
          </a:ln>
        </p:spPr>
      </p:sp>
      <p:sp>
        <p:nvSpPr>
          <p:cNvPr id="7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ите, при които в договора с изпълнителя на СМР има включена клауза, касаеща третирането на непредвидени разходи (в размер до 10% от стойността на КСС по договора с изпълнителя), тези разходи се отчитат на окончателно плащане. С цел верифициране на непредвидените разходи бенефициентът следва да представи отделен протокол за приемането им, придружен от необходимите документи, обосноваващи изпълнението им. Следва да се има предвид, че ще бъдат верифицирани само разходи, които попадат в следната хипоте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Непредвидени разходи за строителни и монтажни работи са разходите, свързани с увеличаване на заложени количества строителни и монтажни работи и/или добавяне на нови количества или видове строителни и монтажни работи, които към момента на разработване и одобряване на технически или работен инвестиционен проект обективно не са могли да бъдат предвидени, но при изпълнение на дейностите са обективно необходими за въвеждане на обекта в експлоатация. Разходите, които биха могли да бъдат верифицирани като непредвидени, следва да отговарят на условията за допустимост на разходите по схемата, в рамките на която е сключен договоръ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еразпределение на средствата между бюджетни пера в рамките на един бюджетен раздел – преразпределение в рамките на разходи за СМР или в рамките на разходи за строителен надзор или в рамките на разходи за авторски надзор между обекти на интервенция, към Искането за промяна, изискваща одобрение от страна на УО, се представя Образец на искане за промяна на бюджета, както и копие на бюджета по договора с УО и нов бюджет, включително и на електронен носител, съгласно настъпилите промени. Следва да се приложат и КСС по договор с УО и нови КСС (в случай на преразпределение на разходи за СМР), съгласно настъпилите промени, в това число и на електронен носит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AA13-39A3-4AD6-8759-0E2D3A2C8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17640" y="744480"/>
            <a:ext cx="4962600" cy="3722760"/>
          </a:xfrm>
          <a:prstGeom prst="rect">
            <a:avLst/>
          </a:prstGeom>
          <a:ln w="0">
            <a:noFill/>
          </a:ln>
        </p:spPr>
      </p:sp>
      <p:sp>
        <p:nvSpPr>
          <p:cNvPr id="75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Изменение на договор, изискващ подписване на допълнително споразумение (анек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ането за изменение на договора чрез анекс се изготвя от бенефициента съгласно приложения образец. Искането се представя официално от бенефициента (включително от конкретен бенефициент-община) до Ръководителя на УО чрез съответния регионален отдел на ГД „ПР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ефициент изготвя в 2 оригинални екземпляра анекса, който следва да влезне в сила в съответствие с Искането за изменение, като не попълва „дата на сключване”, „дата на влизане в сила” „регистрационен номер на договора от ИСУН” и „регистрационен номер на анекса от ИСУН”, подписва го на всяка страница и го подпечатва. В случай че се изисква, бенефициентът изготвя в 2 оригинални екземпляра всички необходими приложения към анекса, подписва ги на всяка страница и ги подпечатва. Бенефициентът прилага двата оригинални екземпляра на анекс и съответните приложения към Искането за измен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й на конкретен бенефициент-държавна администрация и конкретен бенефициент по проект за интегриран градски транспорт, Искането за изменение на договора, придружено от подкрепящи документи, се подава в 1 екземпляр в отдел „Мониторинг” на ГД „ПР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омяна на срока за изпълнение на договора към Искането се представя и обяснителна записка, посочваща настъпилите промени и причините, довели до тях, както и копие от план-график за изпълнение на дейностите по договора с УО и нов план график. Към Искането следва да се представи нова банкова гаранция /запис на заповед, придружена с ново Решение на Общинския съвет с новия срок, който да покрива периода до два месеца след приключване на новата продължителност на прое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омяна в правния статут на бенефициента/партньора към Искането се прилагат и копия на административни актове/закони/ правилници/ съдебни решения и други, доказващи извършената законодателна промя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яна в договорените дейности по проекта, която води до въвеждане на нови дейности/нови бюджетни пера/ нови видове и/или количества СМР/нови видове и/или количества в ТС. Освен в случаите на непреодолима сила, въвеждането на нови дейности е недопустимо за финансиране от безвъзмездна финансова помощ и следва да се отрази като собствен принос на бенефициента по бюджета на проекта. При промяна в договорените дейности по проекта към Искането се прилага и обяснителна записка, посочваща необходимостта от изисканата промяна и други подкрепящи исканото изменение документи - технически/работни проекти, становища на компетентни органи, констативни протоколи и др. При условие, че въвеждането на нови дейности/нови бюджетни пера/нови видове и/или количества СМР/нови видове и/или количества в ТС има финансово изражение, към документацията следва да се приложат копие на бюджета, КСС, ТС по договор, както и нов бюджет, КСС, ТС, в това число и на електронен носител. В допълнение към Искането се прилага и план-график на изпълнение на дейностите по договора с УО и нов план график съгласно предлаганите промени. При условие, че въвеждането има финансово изражение и се увеличава собственият принос на бенефициента, следва да се представи Решение на Общинския съвет за увеличената сума. Новият бюджет, КСС, ТС се прилагат и към анек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амаляване на размера на предоставената безвъзмездна финансова помощ по договора в резултат на констатирано от страна на ДО двойно финансиране на дейности/обекти на интервенция или част от дейности по проекта, към Искането се прилага и обяснителна записка, посочваща необходимостта от изисканата промяна, и други подкрепящи исканото изменение документи – копие на бюджета, КСС, ТС по договор, както и нов бюджет, КСС и ТС, сравнителни КСС/ТС таблици, посочващи предлаганите промени, разработени в образеца, публикуван към пакета документи по схемата за предоставяне на безвъзмездна финансова помощ, в това число и на електронен носител.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амаляване на размера на безвъзмездната финансова помощ по договора с повече от 15 %, но не по-малко от 500 000 лв. в резултат на проведени от бенефициента процедури за възлагане на обществени поръчки към Искането се прилага и обяснителна записка, посочваща необходимостта от исканата промяна, и други подкрепящи исканото изменение документи – договор с изпълнител, копие на бюджет и КСС по договор, както и нов бюджет и КСС, включително на електронен носител.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 извършва преглед на подкрепящите документи. При констатиране на липса на документи и/или некоректно попълнени документи, РО извършва писмена кореспонденция с бенефициента, в която указва липсващите документи и сроковете за представянето им. Бенефициентът е длъжен да предостави допълнителните документи в срок до 5 работни дни или да предостави обосновка за необходимостта от удължаване на този ср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писаният Анекс е неразделна част от Договора за безвъзмездна финансова помо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ички референции в анекса към членове и/или приложения от договора, които се модифицират, трябва да съответстват на тези от първоначалния договор. Всеки анекс, модифициращ бюджета трябва да включва и нов бюджет, и/или нова КСС и/или ТС, ако е приложимо. Нов план-график се прилага към изготвения анекс само в случай на въвеждане на нови дей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8DC3-811F-4B8A-84B5-5A49E435D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7640" y="744480"/>
            <a:ext cx="4962600" cy="3722760"/>
          </a:xfrm>
          <a:prstGeom prst="rect">
            <a:avLst/>
          </a:prstGeom>
          <a:ln w="0">
            <a:noFill/>
          </a:ln>
        </p:spPr>
      </p:sp>
      <p:sp>
        <p:nvSpPr>
          <p:cNvPr id="7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й, че в писмото за временно спиране до бенефициента не е определена крайната дата на периода на спирането, поради невъзможност за първоначално определяне на такава, в срок до 5 календарни дни от настъпване на обстоятелствата, които обуславят възобновяване на изпълнението на дейностите/договора бенефициентът изпраща на съответния Регионален отдел писмо, съдържащо информация относно горепосочените обстоятелства, подкрепено със съответните документи и опис на тези документи. Към писмото бенефициентът представ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линеен график за изпълнението на дейностите за приключване на про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запис на заповед/ банкова гаранция, съобразени с новата дата на приключване на про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тговор Управляващият орган изпраща писмо до бенефициента, съдържащо информация относ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основанието (съгласно Общите условия към Договора за БФП) за възобновяване на изпълнение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дейността/дейностите, чието изпълнение се възобновява (в това число дейностите, чието изпълнение е пряко свързано със спрените дей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началната дата на възобновяване на изпълнение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периода на удължаване на срока на изпълнението на съответните дейности по проекта (този период е равен на периода на прекъсване на изпълнението в календарни д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новата крайна дата за приключване на проекта по договора за предоставяне на БФ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2D7E-2204-4B81-A122-C1E02EE3F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7640" y="744480"/>
            <a:ext cx="4962600" cy="3722760"/>
          </a:xfrm>
          <a:prstGeom prst="rect">
            <a:avLst/>
          </a:prstGeom>
          <a:ln w="0">
            <a:noFill/>
          </a:ln>
        </p:spPr>
      </p:sp>
      <p:sp>
        <p:nvSpPr>
          <p:cNvPr id="7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1D4A-F3A8-47CA-BDF0-26CFE2909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AB31C-E004-4193-ACF1-6BDAC84673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34B900-418D-40A9-8814-9F71AC67AF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84922-DED9-4D5F-8AD0-43B8CC2DE4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C244D-D1B1-4D73-94A3-86E3D23A0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1116B-FC66-4A80-B178-B2B66439D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80EF7-64B4-4E7F-8972-5BB00B9AB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BCDD0-A699-4866-8A5D-E110E1451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EB968B-43FD-447B-8100-0E171BA596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237736-24FF-4995-B369-504660563F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1A06B8-CF82-4916-B64E-CF34959A28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028062-0B99-410B-B7E0-89AE8716D4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207594-8C91-4347-8D55-26D469A712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91F958-5439-464C-AD8F-9217B2ACCE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269C80-1AD3-4B44-85AA-A32D616A06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BA129A-F92E-4337-AFA9-6A200318E6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2BB3E8-7646-4ED4-89FD-713DB73FE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42376-88CC-4CD2-98DF-E2A45BD19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A331A-1B89-4410-921A-F7CBE64540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3C23E5-4AFE-44F2-92D0-278D104331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223C95-532F-49CF-A4DD-C9DF02B7E3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AB8159-8C5C-41F6-997B-813CFB77D5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C65B2C-D410-4BDB-8836-DF513DE25F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B1B123-0C57-4932-80DF-66C96C4A18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608E7E-C59C-4078-8AAC-1D9BC4AEB9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3D4E74-9E52-47B9-8F17-235C6CA04A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361DC4-F419-493A-82F9-44148C6C0C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D27895-68F6-4378-9761-51AD53DEE2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BF79FF-1B8C-43EF-BA9E-1A42A2E1FA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653D84-3FD4-4EAC-96A9-25FBF8D41D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64E5F0-4397-40E9-B178-ABA3CD94E1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44BDB-74E4-46C3-9B04-85D23BB1C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36DC79-49EE-40F0-B7DD-ABA2ECA1B6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1E804C-46B8-45C3-B133-2E6DF830DE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76B991-664C-4FDA-A7EB-6538185174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3C7FD9-05A5-40F6-9670-D1801DB1E4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41D29E-66C4-46DF-A002-FEED6BA6A2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8B84C2-9B3D-4DF1-90F7-AF63B7FBC7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A164C1-F4EC-4A22-B494-4C56786752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006026-8B76-4B05-94FB-4248CBF6B4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9C02D7-FC59-4DF9-9243-96A00A4B72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228FB2-E501-47AB-A049-BCACB29A60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08A2D-DBA3-4B93-9AAD-439B0050A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CEBE86-DF7D-47FD-AEF4-02EFC4C150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3D5142-40AD-48E4-9ED0-984BA1F39C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4A5396-491E-428C-9C0A-D5484C3FAE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78F49B-C3DD-4B5A-AB42-449822FE25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6E7AF0-CCCF-4268-9E16-8B297162D4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6DF0E-2AFC-45A8-8395-DDEEEAEB3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28EA7-848A-4F28-9242-881C02FCE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97CF2-BECE-486D-A1DE-9DCDD1F1E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FF020-CCAF-48BD-A265-794476471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90EB-04CC-470B-A929-91B8A75B3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B7E3-F34B-4E8E-B26B-06CA95A6B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84758-8871-480A-86EE-AF899F8F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6A8A-A8CB-4F25-AFBD-0213F8BF6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F8544-6973-492A-92D7-DFA4AC342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DA79A-37E1-465D-B6B9-46EA4924F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D0BF0-89C1-4605-9D1C-9F600410A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2D588-A8C9-4483-8675-F59C21FA7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B0958-7CC1-4374-8029-81B900696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1FEE1-4753-4C5F-9E9B-69B9C6A2D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0179F-5FAC-4227-BBD4-1C005EDA7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4C4BB-DF5E-41C3-A19D-1E95E5123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5AB70-6184-42E9-A239-F329772DA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02774-5BFD-4222-9FF6-FB0254991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99709-4E3E-428A-BA5A-DBC20D66F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3C3E6-8E5E-4C68-8BFF-7C89565B6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B5D37-B2AE-4BCA-BAF9-6A8163099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17453-A04B-42A9-A2DD-717464035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3CD454-1EEA-423A-A72B-62EB8AC3C6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A7728-5E2F-4209-8169-7E680C2FD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3BC4D-33D5-4733-8754-C5786B537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1D5DF-86CE-4AB5-BCBA-FA250F8EE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A84BB-5C78-4142-8738-5509A8F7B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61D6F-79F1-49D1-B8CD-43485D162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35657-8C45-4D1B-83E9-355500BE0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02354-DB04-457E-A7EB-F66AEAAD3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E4AC3-BC8B-4A32-9B13-F2DC8C2ED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B8172-7156-4BF3-ADA0-2A1EA273D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167407-767B-485B-8CDB-9440B35D59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391478-0311-4BAA-90B8-CC0C74766F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3E09CB-91B6-4ACA-B3D2-77D95F770A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3E721B-5BD0-47A6-BFD8-605242FA3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41F29-9C7F-43FF-9604-1B09A4EB1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85D722-FB61-4E71-8679-043A80BFAD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86CAF-9BE9-4784-8346-AE1A8708A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F86272-E8DE-43D5-88BC-683B304EF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6C25A-AE83-4AA2-8B36-406E8E9DE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4FB4D-5992-4CB0-9A6F-CA4A7B766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A7B76-0B54-4E1A-B539-CBA5C996F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81B60-09D0-45BB-B518-B9CBC7839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EB2DA2-ED3C-4478-A1F1-BA8875E781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8DDAFF-3E95-4F6F-8919-88B33D4205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C90170-17C8-4FBC-8C2E-968A05D8DB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2BB91-1FC0-472F-9B97-A7B3A64AC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7F6700-43D3-4DD1-85D9-8313FDADE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2C52D-716B-4862-9095-695BE410B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25525-42A3-4998-A8CD-A60F35F36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06355-D6D0-4D88-9923-372F0B2D9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CCDCA-E3E6-4AB6-AEB0-AC0B18BA47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4526A-52B7-402C-8866-8342DB7BC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67521-4E42-405A-8234-177BAD976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AB096-43ED-438C-BE68-010D396B0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549E59-435D-49C9-96EB-27769F2B53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A73708-86D1-428A-8DAF-72489DBAD6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D3940D-79CD-433A-B71F-58BBBC4F85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D72B5-F590-441E-874F-A69F86C61B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D2D6B5-FD86-4B6B-9AEE-25B06FD0B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FFBC95-B8FB-4271-949B-556DAC9FBF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FB3467-DE83-4E91-9CE5-C9C452A9E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D1007-8B70-465F-89CC-8E3EC4D94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9756B-E069-407F-87C5-704899727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155A73-983F-43F3-A80D-DBC5A9A67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95D73C-A1F3-4DB5-8D0F-6E627404E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A57A2-2C54-41DB-8F22-26B4D2907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21F85-8FCE-4124-9624-99C7DD3094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F09628-D2BA-413C-81FF-3F3D34D90A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93E828-56EC-47F1-94CE-5D6AD44B61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0C19CC-1D2A-41F0-9E39-543EB6375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80440F-A326-4D12-BE9C-9190A06041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9CF14A-92E3-467D-8172-446268D74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3B5EE6-C1F7-456E-85E3-E7FE88B13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8C55A-3975-4DB3-9368-C8D641DEA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E41A7-5321-4526-BC1E-DE788D10C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DF8097-839B-498F-B916-23F6AAD15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25A63-E42C-4D11-A2EC-8AD4BCC224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9EA6FC-6BA5-4833-99E0-D6C9469B88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19FEF5-4DDB-4E84-8D97-37D149DFF5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005448-B11C-4E7E-9BC1-1998FF61D8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8DD748-4402-4D51-9F76-92ED0340F8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B3C983-AC1C-4B6B-B919-1277AA12B8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96AF78-EAF3-4E07-85A5-7DA3211FD6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6"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7"/>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473"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7"/>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B709-C1CB-49D8-8AD2-149A495471CA}"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2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7"/>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5825-A314-4EB5-80E3-AD56206B0E0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7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7"/>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CEEF-98EC-4C4C-89CB-9412FB2A301A}"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5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7"/>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6AB4-50CA-4596-93E4-0B8C22BD2B6A}"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10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6"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0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0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1" name="Group 15"/>
          <p:cNvGrpSpPr/>
          <p:nvPr/>
        </p:nvGrpSpPr>
        <p:grpSpPr>
          <a:xfrm>
            <a:off x="250920" y="189000"/>
            <a:ext cx="1009440" cy="685800"/>
            <a:chOff x="250920" y="189000"/>
            <a:chExt cx="1009440" cy="685800"/>
          </a:xfrm>
        </p:grpSpPr>
        <p:sp>
          <p:nvSpPr>
            <p:cNvPr id="11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Picture 16" descr=""/>
            <p:cNvPicPr/>
            <p:nvPr/>
          </p:nvPicPr>
          <p:blipFill>
            <a:blip r:embed="rId7"/>
            <a:stretch/>
          </p:blipFill>
          <p:spPr>
            <a:xfrm>
              <a:off x="250920" y="189000"/>
              <a:ext cx="1009440" cy="685800"/>
            </a:xfrm>
            <a:prstGeom prst="rect">
              <a:avLst/>
            </a:prstGeom>
            <a:ln w="0">
              <a:noFill/>
            </a:ln>
          </p:spPr>
        </p:pic>
      </p:grpSp>
      <p:sp>
        <p:nvSpPr>
          <p:cNvPr id="11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E5C0-DFB7-49DB-8154-AF814DBD305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61"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7"/>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E521-FB9A-4413-AF10-FCE94E5122C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13"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7"/>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E707-A653-4680-9DEF-641E4779A9F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6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7"/>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7B6E-1555-4870-AD9E-A7763FC6C0A2}"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1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7"/>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4B02-5329-4F3A-BAD9-F2F26AB57B8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6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7"/>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F5AC-37F0-4B2D-B7B9-9CE8B9EA472A}"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421"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7"/>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7E08-0104-4A71-BE35-A88CD0F2E03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hyperlink" Target="http://web.apis.bg/p.php?i=9663#p6225789" TargetMode="External"/><Relationship Id="rId2" Type="http://schemas.openxmlformats.org/officeDocument/2006/relationships/hyperlink" Target="http://web.apis.bg/p.php?i=9663#p6225789" TargetMode="External"/><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68360" y="1822320"/>
            <a:ext cx="80643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000000"/>
                </a:solidFill>
                <a:latin typeface="Times New Roman"/>
                <a:ea typeface="Times New Roman"/>
              </a:rPr>
              <a:t>ОБУЧЕНИ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000000"/>
                </a:solidFill>
                <a:latin typeface="Times New Roman"/>
                <a:ea typeface="Times New Roman"/>
              </a:rPr>
              <a:t>за</a:t>
            </a:r>
            <a:r>
              <a:rPr b="1" i="1" lang="en-US" sz="3200" spc="-1" strike="noStrike">
                <a:solidFill>
                  <a:srgbClr val="000000"/>
                </a:solidFill>
                <a:latin typeface="Times New Roman"/>
                <a:ea typeface="Times New Roman"/>
              </a:rPr>
              <a:t> </a:t>
            </a:r>
            <a:r>
              <a:rPr b="1" i="1" lang="ru-RU" sz="3200" spc="-1" strike="noStrike">
                <a:solidFill>
                  <a:srgbClr val="000000"/>
                </a:solidFill>
                <a:latin typeface="Times New Roman"/>
                <a:ea typeface="Times New Roman"/>
              </a:rPr>
              <a:t>изпълнение и управление на проект по</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BG161PO001/2.2-01/2011</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a:t>
            </a:r>
            <a:r>
              <a:rPr b="1" i="1" lang="ru-RU" sz="3200" spc="-1" strike="noStrike">
                <a:solidFill>
                  <a:srgbClr val="000000"/>
                </a:solidFill>
                <a:latin typeface="Times New Roman"/>
                <a:ea typeface="Times New Roman"/>
              </a:rPr>
              <a:t>Подкрепа за развитие на критичн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защитена, сигурна и надеждна обществена ИКТ инфраструкту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74760" y="1413000"/>
            <a:ext cx="8229600" cy="129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КАЗАНИЯ ОТНОСНО ПРОМЯНА НА ДОГОВОР</a:t>
            </a:r>
            <a:br>
              <a:rPr sz="2400"/>
            </a:br>
            <a:r>
              <a:rPr b="1" lang="ru-RU" sz="2400" spc="-1" strike="noStrike">
                <a:solidFill>
                  <a:srgbClr val="000000"/>
                </a:solidFill>
                <a:latin typeface="Times New Roman"/>
                <a:ea typeface="Times New Roman"/>
              </a:rPr>
              <a:t>ЗА ПРЕДОСТАВЯНЕ НА БЕЗВЪЗМЕЗДНА</a:t>
            </a:r>
            <a:br>
              <a:rPr sz="2400"/>
            </a:br>
            <a:r>
              <a:rPr b="1" lang="ru-RU" sz="2400" spc="-1" strike="noStrike">
                <a:solidFill>
                  <a:srgbClr val="000000"/>
                </a:solidFill>
                <a:latin typeface="Times New Roman"/>
                <a:ea typeface="Times New Roman"/>
              </a:rPr>
              <a:t>ФИНАНСОВА ПОМОЩ ПО ОПРР</a:t>
            </a:r>
            <a:br>
              <a:rPr sz="2400"/>
            </a:br>
            <a:endParaRPr b="0" lang="en-US" sz="2400" spc="-1" strike="noStrike">
              <a:solidFill>
                <a:srgbClr val="000000"/>
              </a:solidFill>
              <a:latin typeface="Calibri"/>
            </a:endParaRPr>
          </a:p>
        </p:txBody>
      </p:sp>
      <p:sp>
        <p:nvSpPr>
          <p:cNvPr id="659" name=""/>
          <p:cNvSpPr txBox="1"/>
          <p:nvPr/>
        </p:nvSpPr>
        <p:spPr>
          <a:xfrm>
            <a:off x="457200" y="2707920"/>
            <a:ext cx="8229600" cy="302580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енефициентите следва да имат предвид, че в зависимост от начина, по който се изменя характерът на договора, промените биват: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ведомления;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мени, изискващи одобрение от страна на УО;</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менения (сключване на допълнително споразумение/анекс)</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0" name=""/>
          <p:cNvGraphicFramePr/>
          <p:nvPr/>
        </p:nvGraphicFramePr>
        <p:xfrm>
          <a:off x="179280" y="1557360"/>
          <a:ext cx="8713800" cy="4024440"/>
        </p:xfrm>
        <a:graphic>
          <a:graphicData uri="http://schemas.openxmlformats.org/drawingml/2006/table">
            <a:tbl>
              <a:tblPr/>
              <a:tblGrid>
                <a:gridCol w="8713800"/>
              </a:tblGrid>
              <a:tr h="487440">
                <a:tc>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0000"/>
                          </a:solidFill>
                          <a:latin typeface="Times New Roman"/>
                          <a:ea typeface="Times New Roman"/>
                        </a:rPr>
                        <a:t>Важно</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53700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енефициентът е длъжен да уведоми УО за всяка промяна в дейностите по договора, която смята да предприеме и която изисква одобрение от УО или сключване на анекс. В случай че такива действия са предприети без да бъде уведомен УО, бенефициентът поема всички разходи със собствени средства. </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случай че УО е уведомен своевременно, бенефициентът може да предприеме съответните действия, като УО си запазва правото да не одобри тези действия, ако те не са изпълнени съгласно изискванията на националната нормативна уредба, не са основателни или са в противоречие с условията на договора. В случай на неодобрение на предприетите от бенефициента промени, разходите за тях се включват като собствен принос на бенефициента.</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97000"/>
            <a:ext cx="8229600" cy="100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ВАЖНО</a:t>
            </a:r>
            <a:endParaRPr b="0" lang="en-US" sz="3200" spc="-1" strike="noStrike">
              <a:solidFill>
                <a:srgbClr val="000000"/>
              </a:solidFill>
              <a:latin typeface="Calibri"/>
            </a:endParaRPr>
          </a:p>
        </p:txBody>
      </p:sp>
      <p:sp>
        <p:nvSpPr>
          <p:cNvPr id="662" name=""/>
          <p:cNvSpPr txBox="1"/>
          <p:nvPr/>
        </p:nvSpPr>
        <p:spPr>
          <a:xfrm>
            <a:off x="178920" y="1700280"/>
            <a:ext cx="8713800" cy="41371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бщата стойност на промените за целия период на изпълнение при намаляване на количествата на СМР не трябва да надвишава 10% от стойността на КСС към договора за строителство;</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бщата стойност на промените за целия период на изпълнение при увеличаване на количествата на СМР не трябва да надвишава 10% от стойността на КСС към договора за строителство в случаите, когато се компенсира с намаляване на други количества.</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00"/>
                </a:solidFill>
                <a:latin typeface="Times New Roman"/>
                <a:ea typeface="Times New Roman"/>
              </a:rPr>
              <a:t>Забележка: В случай че в договора за строителство са включени СМР, които се покриват със собствени средства на бенефициента горните условия се отнасят до безвъзмездната финансова помощ, предоставена от УО на ОПР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485720"/>
            <a:ext cx="822960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мени, класифицирани като уведомления</a:t>
            </a:r>
            <a:r>
              <a:rPr b="0" lang="ru-RU" sz="2800" spc="-1" strike="noStrike">
                <a:solidFill>
                  <a:srgbClr val="000000"/>
                </a:solidFill>
                <a:latin typeface="Times New Roman"/>
                <a:ea typeface="Times New Roman"/>
              </a:rPr>
              <a:t>:</a:t>
            </a:r>
            <a:br>
              <a:rPr sz="2800"/>
            </a:br>
            <a:endParaRPr b="0" lang="en-US" sz="2800" spc="-1" strike="noStrike">
              <a:solidFill>
                <a:srgbClr val="000000"/>
              </a:solidFill>
              <a:latin typeface="Calibri"/>
            </a:endParaRPr>
          </a:p>
        </p:txBody>
      </p:sp>
      <p:sp>
        <p:nvSpPr>
          <p:cNvPr id="664" name=""/>
          <p:cNvSpPr txBox="1"/>
          <p:nvPr/>
        </p:nvSpPr>
        <p:spPr>
          <a:xfrm>
            <a:off x="457200" y="2100240"/>
            <a:ext cx="8229600" cy="4137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на банковата сметка или подсметка, посочена в Искането за авансово   плащан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на пощенски адрес, телефони, електронен адрес;</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наименованието на бенефициента/партньо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на законния представител на бенефициента/партньо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ределяне/ промяна на членовете на екипа по проекта (при проекти, различни от инфраструктур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95280" y="1485720"/>
            <a:ext cx="8229600" cy="502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ени, изискващи одобрение от страна на УО:</a:t>
            </a:r>
            <a:endParaRPr b="0" lang="en-US" sz="2800" spc="-1" strike="noStrike">
              <a:solidFill>
                <a:srgbClr val="000000"/>
              </a:solidFill>
              <a:latin typeface="Calibri"/>
            </a:endParaRPr>
          </a:p>
        </p:txBody>
      </p:sp>
      <p:sp>
        <p:nvSpPr>
          <p:cNvPr id="666" name=""/>
          <p:cNvSpPr txBox="1"/>
          <p:nvPr/>
        </p:nvSpPr>
        <p:spPr>
          <a:xfrm>
            <a:off x="250920" y="1989000"/>
            <a:ext cx="8642160" cy="4104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аложително разместване в графика за изпълнение на проекта, което не води до отпадане на част от договорените дейнос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на регистрирания одитор или на фирмата за одит, които следва да осъществят независимия оди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мяна на ръководителя на проекта, одобрен на етап оценка на проектното предлож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ределяне и смяна на членове от екипа по изпълнението на проекта (само за инфраструктурни проек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КСС преди провеждане на процедури за избор на изпълнител преди сключване на договор с изпълнител на СМР – само в резултат на разработване/актуализация на технически или работен проект;</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4920" y="1341000"/>
            <a:ext cx="8229600" cy="5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ени, изискващи одобрение от страна на УО:</a:t>
            </a:r>
            <a:endParaRPr b="0" lang="en-US" sz="2800" spc="-1" strike="noStrike">
              <a:solidFill>
                <a:srgbClr val="000000"/>
              </a:solidFill>
              <a:latin typeface="Calibri"/>
            </a:endParaRPr>
          </a:p>
        </p:txBody>
      </p:sp>
      <p:sp>
        <p:nvSpPr>
          <p:cNvPr id="668" name=""/>
          <p:cNvSpPr txBox="1"/>
          <p:nvPr/>
        </p:nvSpPr>
        <p:spPr>
          <a:xfrm>
            <a:off x="179280" y="1628280"/>
            <a:ext cx="8640720" cy="4210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КСС след сключване на договор с изпълнител на СМР чрез заменителна таблица при установени по време на строителството разлики в предвидените количества на отделните видове СМР вследствие направени точни измервания на мястото на изпълнение – промяната се одобрява при верифициране на искане за плащан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еразпределение на средствата между бюджетни пера в рамките на един бюджетен раздел. Такова преразпределение е допустимо единствено при преразпределение между обектите на интервенция на: средства/разходи за СМР, средства/разходи за строителен надзор, средства/разходи за авторски надзор след  извършване на процедурите за възлагане на обществени поръчки по съответните бюджетни пера и при условие, че не се променя общият размер на безвъзмездната финансова помощ за СМР, съответно за строителен надзор или за авторски надзо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1339920"/>
            <a:ext cx="9144000" cy="50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ени, класифицирани като изменения (анекс):</a:t>
            </a:r>
            <a:endParaRPr b="0" lang="en-US" sz="2800" spc="-1" strike="noStrike">
              <a:solidFill>
                <a:srgbClr val="000000"/>
              </a:solidFill>
              <a:latin typeface="Calibri"/>
            </a:endParaRPr>
          </a:p>
        </p:txBody>
      </p:sp>
      <p:sp>
        <p:nvSpPr>
          <p:cNvPr id="670" name=""/>
          <p:cNvSpPr txBox="1"/>
          <p:nvPr/>
        </p:nvSpPr>
        <p:spPr>
          <a:xfrm>
            <a:off x="107640" y="1773000"/>
            <a:ext cx="8713800" cy="435276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цедурата по сключване на допълнително споразумение (анекс) към подписан договор за предоставяне на безвъзмездна финансова помощ по Оперативна програма "Регионално развитие" 2007-2013 г. /ОПРР/ задължително се провежда само в следните случаи:</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мяна на срока за изпълнение на договора за безвъзмездна финансова помощ</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мяна в правния статут на бенефициент/ партньор;</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мяна в договорените дейности по проекта, която води до въвеждане на нови дейности/нови бюджетни пера/нови видове и/или количества СМР/нови видове и/или количества в ТС. Освен в случаите на непреодолима сила, въвеждането на нови дейности/нови бюджетни пера/нови видове и/или количества е недопустимо за финансиране от безвъзмездна финансова помощ и следва да се отрази като собствен принос на бенефициента по бюджета на проекта;</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Намаляване размера на предоставената безвъзмездна финансова помощ по договора в резултат на констатирано от страна на ДО двойно финансиране на дейности/обекти на интервенция или част от дейности по проекта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Намаляване размера на безвъзмездната финансова помощ по договора за предоставяне на безвъзмездна финансова помощ с повече от 15 %, но не по-малко от 500 000 лв  в резултат на проведени от бенефициенти процедури за възлагане на обществени поръчки. В този случай допълнителното споразумение следва да се сключи </a:t>
            </a:r>
            <a:r>
              <a:rPr b="0" lang="bg-BG" sz="1400" spc="-1" strike="noStrike" u="sng">
                <a:solidFill>
                  <a:srgbClr val="000000"/>
                </a:solidFill>
                <a:uFillTx/>
                <a:latin typeface="Times New Roman"/>
                <a:ea typeface="Times New Roman"/>
              </a:rPr>
              <a:t>задължително</a:t>
            </a:r>
            <a:r>
              <a:rPr b="0" lang="bg-BG" sz="1400" spc="-1" strike="noStrike">
                <a:solidFill>
                  <a:srgbClr val="000000"/>
                </a:solidFill>
                <a:latin typeface="Times New Roman"/>
                <a:ea typeface="Times New Roman"/>
              </a:rPr>
              <a:t> преди подаване на искане за авансово плащан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1" name=""/>
          <p:cNvGraphicFramePr/>
          <p:nvPr/>
        </p:nvGraphicFramePr>
        <p:xfrm>
          <a:off x="324000" y="1484280"/>
          <a:ext cx="8496000" cy="4295880"/>
        </p:xfrm>
        <a:graphic>
          <a:graphicData uri="http://schemas.openxmlformats.org/drawingml/2006/table">
            <a:tbl>
              <a:tblPr/>
              <a:tblGrid>
                <a:gridCol w="8496000"/>
              </a:tblGrid>
              <a:tr h="487440">
                <a:tc>
                  <a:txBody>
                    <a:bodyPr lIns="68400" rIns="6840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0000"/>
                          </a:solidFill>
                          <a:latin typeface="Times New Roman"/>
                          <a:ea typeface="Times New Roman"/>
                        </a:rPr>
                        <a:t>Важно</a:t>
                      </a:r>
                      <a:endParaRPr b="0" lang="en-US" sz="3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r h="3808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Всяка документация, която се изпраща до Управляващия орган на Оперативна програма „Регионално развитие” 2007-2013 г., трябва да е окомплектована по надлежен начин в класьор с твърди корици с подробен опис, всички документи трябва да са перфорирани и приложени вътре! Не се допуска използването на папки с меки корици /освен в случаите, когато документацията е по-малко от 10 листа/, джоб пликове и друг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Всички документи трябва да бъдат номерирани с уникален номер започвайки от едно. В подробния опис трябва да бъдат посочени номерата на страниците на документите, съгласно извършената номерация. При предоставяне на допълнителни или коригирани документи същите трябва да бъдат представени с подробен опис и номерирани с уникален номер. Когато се представят документи и в електронен вариант (компакт диск - CD), съдържанието на електронните носители следва да бъде описано в Приложение- Декларация - Опис на електронния носител.</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Times New Roman"/>
                          <a:ea typeface="Times New Roman"/>
                        </a:rPr>
                        <a:t>При неспазване на тези изисквания УО си запазва правото да не разглежда представената документация!!!</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19120" y="1197000"/>
            <a:ext cx="822960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УКАЗАНИЯ ЗА ВРЕМЕННО СПИРАНЕ</a:t>
            </a:r>
            <a:br>
              <a:rPr sz="2400"/>
            </a:br>
            <a:r>
              <a:rPr b="1" lang="bg-BG" sz="2400" spc="-1" strike="noStrike" u="sng">
                <a:solidFill>
                  <a:srgbClr val="000000"/>
                </a:solidFill>
                <a:uFillTx/>
                <a:latin typeface="Times New Roman"/>
                <a:ea typeface="Times New Roman"/>
              </a:rPr>
              <a:t>И ВЪЗОБНОВЯВАНЕ НА ДОГОВОР</a:t>
            </a:r>
            <a:br>
              <a:rPr sz="2800"/>
            </a:br>
            <a:endParaRPr b="0" lang="en-US" sz="2400" spc="-1" strike="noStrike">
              <a:solidFill>
                <a:srgbClr val="000000"/>
              </a:solidFill>
              <a:latin typeface="Calibri"/>
            </a:endParaRPr>
          </a:p>
        </p:txBody>
      </p:sp>
      <p:sp>
        <p:nvSpPr>
          <p:cNvPr id="673" name=""/>
          <p:cNvSpPr txBox="1"/>
          <p:nvPr/>
        </p:nvSpPr>
        <p:spPr>
          <a:xfrm>
            <a:off x="250920" y="1955880"/>
            <a:ext cx="8642160" cy="3921120"/>
          </a:xfrm>
          <a:prstGeom prst="rect">
            <a:avLst/>
          </a:prstGeom>
          <a:noFill/>
          <a:ln w="0">
            <a:noFill/>
          </a:ln>
        </p:spPr>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1. Временно спиране на дейности по проект</a:t>
            </a: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Изпълнението на дейности по Проекта може да бъде временно спряно изцяло или отчасти на основание Общите условия към Договора за безвъзмездна финансова помощ. Бенефициентът е длъжен да информира Договарящия орган </a:t>
            </a:r>
            <a:r>
              <a:rPr b="1" lang="bg-BG" sz="1700" spc="-1" strike="noStrike">
                <a:solidFill>
                  <a:srgbClr val="000000"/>
                </a:solidFill>
                <a:latin typeface="Times New Roman"/>
                <a:ea typeface="Times New Roman"/>
              </a:rPr>
              <a:t>незабавно</a:t>
            </a:r>
            <a:r>
              <a:rPr b="0" lang="bg-BG" sz="1700" spc="-1" strike="noStrike">
                <a:solidFill>
                  <a:srgbClr val="000000"/>
                </a:solidFill>
                <a:latin typeface="Times New Roman"/>
                <a:ea typeface="Times New Roman"/>
              </a:rPr>
              <a:t> за възникването на всякакви обстоятелства, които биха могли да попречат или да забавят изпълнението на Проекта.</a:t>
            </a: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При необходимост от временно спиране на изпълнението на дейности по Проекта:</a:t>
            </a: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 Бенефициентът изпраща на съответния Регионален отдел писмо-искане, съдържащо информация относно обстоятелствата, на които се основава необходимостта от спиране на дейностите, подкрепена с доказващи я документи и опис на тези документи. </a:t>
            </a: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 Регионалният отдел извършва проверка дали искането е мотивирано и подкрепено с необходимите документи. При липса на необходими документи, Регионалният отдел осъществява кореспонденция с бенефициента за комплектоване на преписката. </a:t>
            </a:r>
            <a:endParaRPr b="0" lang="en-US" sz="1700" spc="-1" strike="noStrike">
              <a:solidFill>
                <a:srgbClr val="000000"/>
              </a:solidFill>
              <a:latin typeface="Calibri"/>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539280" y="1267920"/>
            <a:ext cx="8147160" cy="5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Писмото за временно спиране до бенефициента </a:t>
            </a:r>
            <a:br>
              <a:rPr sz="2400"/>
            </a:br>
            <a:r>
              <a:rPr b="1" lang="bg-BG" sz="2400" spc="-1" strike="noStrike">
                <a:solidFill>
                  <a:srgbClr val="000000"/>
                </a:solidFill>
                <a:latin typeface="Times New Roman"/>
                <a:ea typeface="Times New Roman"/>
              </a:rPr>
              <a:t>съдържа информация за следното: </a:t>
            </a:r>
            <a:br>
              <a:rPr sz="2400"/>
            </a:br>
            <a:endParaRPr b="0" lang="en-US" sz="2400" spc="-1" strike="noStrike">
              <a:solidFill>
                <a:srgbClr val="000000"/>
              </a:solidFill>
              <a:latin typeface="Calibri"/>
            </a:endParaRPr>
          </a:p>
        </p:txBody>
      </p:sp>
      <p:sp>
        <p:nvSpPr>
          <p:cNvPr id="675" name=""/>
          <p:cNvSpPr txBox="1"/>
          <p:nvPr/>
        </p:nvSpPr>
        <p:spPr>
          <a:xfrm>
            <a:off x="250560" y="2060640"/>
            <a:ext cx="8713800" cy="36720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основанието (съгласно Общите условия към Договора за БФП) за временното спиране;</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ейността/дейностите, чието изпълнение е спряно;</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при спиране на част от дейностите, се съобразяват и всички свързани дейности, които не могат да приключат преди изпълнението им;</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начална и крайна дата на периода на спирането и продължителността му в календарни дни, ако е възможно да се определи точната продължителност;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задължение на бенефициента да уведоми УО за обстоятелствата, обуславящи възобновяване на временно спряното изпълнение (ако е приложимо);</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нова крайна дата за приключване на проекта по договора за предоставяне на БФП, в случай че е възможно да се определи крайна дат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информацията за актуализираните документи, които следва да бъдат представени с възобновяване на дейностите по проекта и срокът за тяхното представяне;</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опис на документацията по препискат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219320" y="981000"/>
            <a:ext cx="666576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Проектен цикъл</a:t>
            </a:r>
            <a:endParaRPr b="0" lang="en-US" sz="3200" spc="-1" strike="noStrike">
              <a:solidFill>
                <a:srgbClr val="000000"/>
              </a:solidFill>
              <a:latin typeface="Calibri"/>
            </a:endParaRPr>
          </a:p>
        </p:txBody>
      </p:sp>
      <p:grpSp>
        <p:nvGrpSpPr>
          <p:cNvPr id="632" name="Group 3"/>
          <p:cNvGrpSpPr/>
          <p:nvPr/>
        </p:nvGrpSpPr>
        <p:grpSpPr>
          <a:xfrm>
            <a:off x="673200" y="1557360"/>
            <a:ext cx="8291520" cy="4211640"/>
            <a:chOff x="673200" y="1557360"/>
            <a:chExt cx="8291520" cy="4211640"/>
          </a:xfrm>
        </p:grpSpPr>
        <p:sp>
          <p:nvSpPr>
            <p:cNvPr id="633" name="AutoShape 4"/>
            <p:cNvSpPr/>
            <p:nvPr/>
          </p:nvSpPr>
          <p:spPr>
            <a:xfrm>
              <a:off x="673200" y="1557360"/>
              <a:ext cx="8291520" cy="4211640"/>
            </a:xfrm>
            <a:prstGeom prst="rect">
              <a:avLst/>
            </a:prstGeom>
            <a:no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5"/>
            <p:cNvSpPr/>
            <p:nvPr/>
          </p:nvSpPr>
          <p:spPr>
            <a:xfrm>
              <a:off x="1833840" y="2820600"/>
              <a:ext cx="18241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Оценка </a:t>
              </a:r>
              <a:endParaRPr b="0" lang="en-US" sz="1600" spc="-1" strike="noStrike">
                <a:solidFill>
                  <a:srgbClr val="000000"/>
                </a:solidFill>
                <a:latin typeface="Arial"/>
              </a:endParaRPr>
            </a:p>
          </p:txBody>
        </p:sp>
        <p:sp>
          <p:nvSpPr>
            <p:cNvPr id="635" name="Text Box 6"/>
            <p:cNvSpPr/>
            <p:nvPr/>
          </p:nvSpPr>
          <p:spPr>
            <a:xfrm>
              <a:off x="5482080" y="2820600"/>
              <a:ext cx="215568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Идентифициране</a:t>
              </a:r>
              <a:endParaRPr b="0" lang="en-US" sz="1300" spc="-1" strike="noStrike">
                <a:solidFill>
                  <a:srgbClr val="000000"/>
                </a:solidFill>
                <a:latin typeface="Arial"/>
              </a:endParaRPr>
            </a:p>
          </p:txBody>
        </p:sp>
        <p:sp>
          <p:nvSpPr>
            <p:cNvPr id="636" name="Text Box 7"/>
            <p:cNvSpPr/>
            <p:nvPr/>
          </p:nvSpPr>
          <p:spPr>
            <a:xfrm>
              <a:off x="1833840" y="4084200"/>
              <a:ext cx="18241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Изпълнение</a:t>
              </a:r>
              <a:endParaRPr b="0" lang="en-US" sz="1400" spc="-1" strike="noStrike">
                <a:solidFill>
                  <a:srgbClr val="000000"/>
                </a:solidFill>
                <a:latin typeface="Arial"/>
              </a:endParaRPr>
            </a:p>
          </p:txBody>
        </p:sp>
        <p:sp>
          <p:nvSpPr>
            <p:cNvPr id="637" name="Text Box 8"/>
            <p:cNvSpPr/>
            <p:nvPr/>
          </p:nvSpPr>
          <p:spPr>
            <a:xfrm>
              <a:off x="5482080" y="4084200"/>
              <a:ext cx="19897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Планиране</a:t>
              </a:r>
              <a:endParaRPr b="0" lang="en-US" sz="1400" spc="-1" strike="noStrike">
                <a:solidFill>
                  <a:srgbClr val="000000"/>
                </a:solidFill>
                <a:latin typeface="Arial"/>
              </a:endParaRPr>
            </a:p>
          </p:txBody>
        </p:sp>
        <p:sp>
          <p:nvSpPr>
            <p:cNvPr id="638" name="Text Box 9"/>
            <p:cNvSpPr/>
            <p:nvPr/>
          </p:nvSpPr>
          <p:spPr>
            <a:xfrm>
              <a:off x="3657960" y="5067000"/>
              <a:ext cx="18241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Финансиране</a:t>
              </a:r>
              <a:endParaRPr b="0" lang="en-US" sz="1400" spc="-1" strike="noStrike">
                <a:solidFill>
                  <a:srgbClr val="000000"/>
                </a:solidFill>
                <a:latin typeface="Arial"/>
              </a:endParaRPr>
            </a:p>
          </p:txBody>
        </p:sp>
        <p:sp>
          <p:nvSpPr>
            <p:cNvPr id="639" name="Text Box 10"/>
            <p:cNvSpPr/>
            <p:nvPr/>
          </p:nvSpPr>
          <p:spPr>
            <a:xfrm>
              <a:off x="3657960" y="1837800"/>
              <a:ext cx="18241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ограмиране</a:t>
              </a:r>
              <a:endParaRPr b="0" lang="en-US" sz="1300" spc="-1" strike="noStrike">
                <a:solidFill>
                  <a:srgbClr val="000000"/>
                </a:solidFill>
                <a:latin typeface="Arial"/>
              </a:endParaRPr>
            </a:p>
          </p:txBody>
        </p:sp>
        <p:sp>
          <p:nvSpPr>
            <p:cNvPr id="640" name="Line 11"/>
            <p:cNvSpPr/>
            <p:nvPr/>
          </p:nvSpPr>
          <p:spPr>
            <a:xfrm flipV="1">
              <a:off x="2662920" y="3381840"/>
              <a:ext cx="720" cy="701640"/>
            </a:xfrm>
            <a:prstGeom prst="line">
              <a:avLst/>
            </a:prstGeom>
            <a:ln w="19080">
              <a:solidFill>
                <a:srgbClr val="000000"/>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12"/>
            <p:cNvSpPr/>
            <p:nvPr/>
          </p:nvSpPr>
          <p:spPr>
            <a:xfrm flipH="1" flipV="1">
              <a:off x="2828520" y="4645440"/>
              <a:ext cx="829080" cy="701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13"/>
            <p:cNvSpPr/>
            <p:nvPr/>
          </p:nvSpPr>
          <p:spPr>
            <a:xfrm flipH="1">
              <a:off x="5481720" y="4645800"/>
              <a:ext cx="994680" cy="701640"/>
            </a:xfrm>
            <a:prstGeom prst="line">
              <a:avLst/>
            </a:prstGeom>
            <a:ln w="2844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4"/>
            <p:cNvSpPr/>
            <p:nvPr/>
          </p:nvSpPr>
          <p:spPr>
            <a:xfrm>
              <a:off x="6643080" y="3382200"/>
              <a:ext cx="0" cy="701640"/>
            </a:xfrm>
            <a:prstGeom prst="line">
              <a:avLst/>
            </a:prstGeom>
            <a:ln w="2844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5"/>
            <p:cNvSpPr/>
            <p:nvPr/>
          </p:nvSpPr>
          <p:spPr>
            <a:xfrm>
              <a:off x="5482080" y="2118600"/>
              <a:ext cx="1160640" cy="701640"/>
            </a:xfrm>
            <a:prstGeom prst="line">
              <a:avLst/>
            </a:prstGeom>
            <a:ln w="2844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6"/>
            <p:cNvSpPr/>
            <p:nvPr/>
          </p:nvSpPr>
          <p:spPr>
            <a:xfrm flipV="1">
              <a:off x="2662920" y="2118240"/>
              <a:ext cx="994680" cy="701640"/>
            </a:xfrm>
            <a:prstGeom prst="line">
              <a:avLst/>
            </a:prstGeom>
            <a:ln w="2844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7"/>
            <p:cNvSpPr/>
            <p:nvPr/>
          </p:nvSpPr>
          <p:spPr>
            <a:xfrm>
              <a:off x="2331360" y="1978200"/>
              <a:ext cx="6631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8"/>
            <p:cNvSpPr/>
            <p:nvPr/>
          </p:nvSpPr>
          <p:spPr>
            <a:xfrm>
              <a:off x="4321440" y="3101400"/>
              <a:ext cx="66312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125000"/>
            <a:ext cx="8229600" cy="574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Крайната дата на договора </a:t>
            </a:r>
            <a:br>
              <a:rPr sz="2800"/>
            </a:br>
            <a:r>
              <a:rPr b="1" lang="bg-BG" sz="2800" spc="-1" strike="noStrike">
                <a:solidFill>
                  <a:srgbClr val="000000"/>
                </a:solidFill>
                <a:latin typeface="Times New Roman"/>
                <a:ea typeface="Times New Roman"/>
              </a:rPr>
              <a:t>за предоставяне на БФП</a:t>
            </a:r>
            <a:r>
              <a:rPr b="0" lang="bg-BG"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
        <p:nvSpPr>
          <p:cNvPr id="677" name=""/>
          <p:cNvSpPr txBox="1"/>
          <p:nvPr/>
        </p:nvSpPr>
        <p:spPr>
          <a:xfrm>
            <a:off x="457200" y="2098800"/>
            <a:ext cx="8229600" cy="420984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е определя от периода на временно спиране /изчислява се като към настоящата дата за приключване на договора се прибави продължителността на спирането в календарни дни/, като това не променя общата продължителност на проект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Times New Roman"/>
                <a:ea typeface="Times New Roman"/>
              </a:rPr>
              <a:t>При частично спиран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сички дейности, които не се засягат от спирането следва да приключат на първоначално определената крайна д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амо дейностите, които са били временно спрени могат да приключат на новата крайна дата, определена съгласно периода на прекъсване. Като за същите не трябва да има изпълнение през периода на спиран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78920" y="1268280"/>
            <a:ext cx="8713800" cy="865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ъзобновяване на </a:t>
            </a:r>
            <a:br>
              <a:rPr sz="2800"/>
            </a:br>
            <a:r>
              <a:rPr b="1" lang="ru-RU" sz="2800" spc="-1" strike="noStrike">
                <a:solidFill>
                  <a:srgbClr val="000000"/>
                </a:solidFill>
                <a:latin typeface="Times New Roman"/>
                <a:ea typeface="Times New Roman"/>
              </a:rPr>
              <a:t>временно спрени дейности по проект</a:t>
            </a:r>
            <a:br>
              <a:rPr sz="2800"/>
            </a:br>
            <a:endParaRPr b="0" lang="en-US" sz="2800" spc="-1" strike="noStrike">
              <a:solidFill>
                <a:srgbClr val="000000"/>
              </a:solidFill>
              <a:latin typeface="Calibri"/>
            </a:endParaRPr>
          </a:p>
        </p:txBody>
      </p:sp>
      <p:sp>
        <p:nvSpPr>
          <p:cNvPr id="679" name=""/>
          <p:cNvSpPr txBox="1"/>
          <p:nvPr/>
        </p:nvSpPr>
        <p:spPr>
          <a:xfrm>
            <a:off x="324000" y="2460240"/>
            <a:ext cx="8640720" cy="399276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ВАЖНО! </a:t>
            </a:r>
            <a:r>
              <a:rPr b="0" lang="ru-RU" sz="2000" spc="-1" strike="noStrike">
                <a:solidFill>
                  <a:srgbClr val="000000"/>
                </a:solidFill>
                <a:latin typeface="Times New Roman"/>
                <a:ea typeface="Times New Roman"/>
              </a:rPr>
              <a:t>Договорът възобновява автоматично своето действие при отпадане на обстоятелствата, довели до временно спиране на договора и посочени в писмото за временно спиране. Бенефициентът следва да възобнови изпълнението на спрените дейности по проекта (строителство, доставки, услуги и други) от датата на отпадане на обстоятелствата за временно спиране съгласно писмото за временно спиране. Управляващият орган допълнително ще уведоми бенефициента за новата крайна дата на догово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178920" y="1125000"/>
            <a:ext cx="8643960" cy="4286520"/>
          </a:xfrm>
          <a:prstGeom prst="rect">
            <a:avLst/>
          </a:prstGeom>
          <a:noFill/>
          <a:ln w="0">
            <a:noFill/>
          </a:ln>
        </p:spPr>
        <p:txBody>
          <a:bodyPr lIns="90000" rIns="90000" tIns="46800" bIns="46800" anchor="t">
            <a:normAutofit fontScale="98000"/>
          </a:bodyPr>
          <a:p>
            <a:pPr marL="335880" indent="-33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УКАЗАНИЯ ЗА ПРОВЕЖДАНЕ НА</a:t>
            </a:r>
            <a:endParaRPr b="0" lang="en-US" sz="2000" spc="-1" strike="noStrike">
              <a:solidFill>
                <a:srgbClr val="000000"/>
              </a:solidFill>
              <a:latin typeface="Calibri"/>
            </a:endParaRPr>
          </a:p>
          <a:p>
            <a:pPr marL="335880" indent="-33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ПРОЦЕДУРИ ЗА ИЗБОР НА ИЗПЪЛНИТЕЛИ ЗОП </a:t>
            </a:r>
            <a:endParaRPr b="0" lang="en-US" sz="2000" spc="-1" strike="noStrike">
              <a:solidFill>
                <a:srgbClr val="000000"/>
              </a:solidFill>
              <a:latin typeface="Calibri"/>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Бенефициентът е длъжен </a:t>
            </a:r>
            <a:r>
              <a:rPr b="1" i="1" lang="bg-BG" sz="1800" spc="-1" strike="noStrike">
                <a:solidFill>
                  <a:srgbClr val="000000"/>
                </a:solidFill>
                <a:latin typeface="Times New Roman"/>
                <a:ea typeface="Times New Roman"/>
              </a:rPr>
              <a:t>до 10 работни дни след сключване на договора за безвъзмездна финансова помощ да представи </a:t>
            </a:r>
            <a:r>
              <a:rPr b="0" i="1" lang="bg-BG" sz="1800" spc="-1" strike="noStrike">
                <a:solidFill>
                  <a:srgbClr val="000000"/>
                </a:solidFill>
                <a:latin typeface="Times New Roman"/>
                <a:ea typeface="Times New Roman"/>
              </a:rPr>
              <a:t>актуализиран график за провеждане на тръжни процедури</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Изпращане на покана до УО на ОПРР за наблюдатели в комисиите за избор на изпълнители – </a:t>
            </a:r>
            <a:r>
              <a:rPr b="1" i="1" lang="bg-BG" sz="1800" spc="-1" strike="noStrike">
                <a:solidFill>
                  <a:srgbClr val="000000"/>
                </a:solidFill>
                <a:latin typeface="Times New Roman"/>
                <a:ea typeface="Times New Roman"/>
              </a:rPr>
              <a:t>не по-късно от 15 календарни дни преди дата на изтичане на срока за кандидатстване</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Бенефициентът е длъжен да уведоми УО на ОПРР в срок </a:t>
            </a:r>
            <a:r>
              <a:rPr b="1" i="1" lang="bg-BG" sz="1800" spc="-1" strike="noStrike">
                <a:solidFill>
                  <a:srgbClr val="000000"/>
                </a:solidFill>
                <a:latin typeface="Times New Roman"/>
                <a:ea typeface="Times New Roman"/>
              </a:rPr>
              <a:t>до 10 работни дни от датата на подписване с изпълнителя </a:t>
            </a:r>
            <a:r>
              <a:rPr b="0" i="1" lang="bg-BG" sz="1800" spc="-1" strike="noStrike">
                <a:solidFill>
                  <a:srgbClr val="000000"/>
                </a:solidFill>
                <a:latin typeface="Times New Roman"/>
                <a:ea typeface="Times New Roman"/>
              </a:rPr>
              <a:t>за сключен договор за възлагане на обществена поръчка</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и възлагане на обществени поръчки, финансирани със средства на ОПРР, бенефициентите следва да спазват и изискванията на Общите насоки за избягване на конфликт на интереси и за спазване принципа на безпристрастност и независимос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456840" y="1600200"/>
            <a:ext cx="7427880" cy="452592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2.</a:t>
            </a:r>
            <a:r>
              <a:rPr b="0" lang="bg-BG" sz="2000" spc="-1" strike="noStrike">
                <a:solidFill>
                  <a:srgbClr val="000000"/>
                </a:solidFill>
                <a:latin typeface="Times New Roman"/>
                <a:ea typeface="Times New Roman"/>
              </a:rPr>
              <a:t> (1) Обществените поръчки се възлагат по процедурите, предвидени в този закон, в съответствие със следните принципи:</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публичност и прозрачност;</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свободна и лоялна конкуренция;</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равнопоставеност и недопускане на дискриминация.</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324000" y="1267920"/>
            <a:ext cx="8572320" cy="42325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ГРАФИК НА ПОРЪЧКИТЕ. ПЛАНИРАНЕ.</a:t>
            </a:r>
            <a:endParaRPr b="0" lang="en-US" sz="24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 зависимост от подготвените технически спецификации и технически зад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еобходимо ли е време за извършване на допълнително проучване, за да се формират прецизно техническите изисквания към кандидатит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реме за изготвяне на документацията и обявяване на процедурата. Структуриране на отделни поръчки/обособени позиции.</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рок за подаване на оферти – в съответствие с процедурата и разпоредбите на ЗОП.</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ключени ли са процедурите в предварителното обявление по чл. 23 от ЗОП – поръчки, които Възложителят е планирал за следващите 12 месеца.</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рок за оценка (Важно от гледна точка на планирането).</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ключване на договор и изпълнение.</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1413000"/>
            <a:ext cx="7467480" cy="792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ПРИМЕРЕН ОБРАЗЕЦ НА ГРАФИК ЗА ТРЪЖНИТЕ ПРОЦЕДУРИ - ДЕКЛАРАЦИЯ</a:t>
            </a:r>
            <a:endParaRPr b="0" lang="en-US" sz="2400" spc="-1" strike="noStrike">
              <a:solidFill>
                <a:srgbClr val="000000"/>
              </a:solidFill>
              <a:latin typeface="Calibri"/>
            </a:endParaRPr>
          </a:p>
        </p:txBody>
      </p:sp>
      <p:graphicFrame>
        <p:nvGraphicFramePr>
          <p:cNvPr id="684" name=""/>
          <p:cNvGraphicFramePr/>
          <p:nvPr/>
        </p:nvGraphicFramePr>
        <p:xfrm>
          <a:off x="457200" y="2349360"/>
          <a:ext cx="7931160" cy="3384720"/>
        </p:xfrm>
        <a:graphic>
          <a:graphicData uri="http://schemas.openxmlformats.org/drawingml/2006/table">
            <a:tbl>
              <a:tblPr/>
              <a:tblGrid>
                <a:gridCol w="7931160"/>
              </a:tblGrid>
              <a:tr h="29206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луподписаният, ……………………………………………………………………. …..,                               /име и длъжност/ в качеството си на представляващ  …………………………………….. , съгласно ………………………………………………. с настоящото декларирам, че:</a:t>
                      </a:r>
                      <a:br>
                        <a:rPr sz="1600"/>
                      </a:br>
                      <a:r>
                        <a:rPr b="0" lang="bg-BG" sz="1600" spc="-1" strike="noStrike">
                          <a:solidFill>
                            <a:srgbClr val="000000"/>
                          </a:solidFill>
                          <a:latin typeface="Times New Roman"/>
                          <a:ea typeface="Times New Roman"/>
                        </a:rPr>
                        <a:t> са обединени всички идентични и сходни дейности или ще бъдат проведени отделни процедури, които са определени по вид на база общата им стойност, по всички договори за предоставяне на безвъзмездна финансова помощ по Оперативна Програма …………………………………………………………….с бенефициент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Times New Roman"/>
                          <a:ea typeface="Times New Roman"/>
                        </a:rPr>
                        <a:t>Известна ми е наказателната отговорност по чл. 313 от Наказателния кодекс за деклариране на неверни обстоятелства!</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екларатор:</a:t>
                      </a:r>
                      <a:br>
                        <a:rPr sz="1600"/>
                      </a:br>
                      <a:r>
                        <a:rPr b="0" lang="bg-BG" sz="1600" spc="-1" strike="noStrike">
                          <a:solidFill>
                            <a:srgbClr val="000000"/>
                          </a:solidFill>
                          <a:latin typeface="Times New Roman"/>
                          <a:ea typeface="Times New Roman"/>
                        </a:rPr>
                        <a:t>      (подпис и печат)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5" name=""/>
          <p:cNvGraphicFramePr/>
          <p:nvPr/>
        </p:nvGraphicFramePr>
        <p:xfrm>
          <a:off x="755640" y="1557360"/>
          <a:ext cx="7632720" cy="3779640"/>
        </p:xfrm>
        <a:graphic>
          <a:graphicData uri="http://schemas.openxmlformats.org/drawingml/2006/table">
            <a:tbl>
              <a:tblPr/>
              <a:tblGrid>
                <a:gridCol w="7632720"/>
              </a:tblGrid>
              <a:tr h="615960">
                <a:tc>
                  <a:txBody>
                    <a:bodyPr lIns="68400" rIns="684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Calibri"/>
                        </a:rPr>
                        <a:t> </a:t>
                      </a:r>
                      <a:r>
                        <a:rPr b="1" lang="bg-BG" sz="2400" spc="-1" strike="noStrike">
                          <a:solidFill>
                            <a:srgbClr val="000000"/>
                          </a:solidFill>
                          <a:latin typeface="Times New Roman"/>
                          <a:ea typeface="Times New Roman"/>
                        </a:rPr>
                        <a:t>ВИДОВЕ ПРОЦЕДУРИ ПО  НОВИЯ ЗОП</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noFill/>
                  </a:tcPr>
                </a:tc>
              </a:tr>
              <a:tr h="3163680">
                <a:tc>
                  <a:txBody>
                    <a:bodyPr lIns="68400" rIns="6840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ткрита</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граничена</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Състезателен диалог</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оцедура на договаряне с обявление</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оцедура на договаряне без обявление</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Конкурс за проект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о чл. 14, ал.2</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о чл. 14, ал.3</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о чл. 14, ал.4</a:t>
                      </a:r>
                      <a:endParaRPr b="0" lang="en-US" sz="20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6" name=""/>
          <p:cNvGraphicFramePr/>
          <p:nvPr/>
        </p:nvGraphicFramePr>
        <p:xfrm>
          <a:off x="1523880" y="3527280"/>
          <a:ext cx="6096240" cy="669960"/>
        </p:xfrm>
        <a:graphic>
          <a:graphicData uri="http://schemas.openxmlformats.org/drawingml/2006/table">
            <a:tbl>
              <a:tblPr/>
              <a:tblGrid>
                <a:gridCol w="2133720"/>
                <a:gridCol w="3962520"/>
              </a:tblGrid>
              <a:tr h="167760">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 </a:t>
                      </a:r>
                      <a:r>
                        <a:rPr b="0" lang="bg-BG" sz="1100" spc="-1" strike="noStrike">
                          <a:solidFill>
                            <a:srgbClr val="000000"/>
                          </a:solidFill>
                          <a:latin typeface="Calibri"/>
                        </a:rPr>
                        <a:t>на Договора</a:t>
                      </a:r>
                      <a:r>
                        <a:rPr b="0" lang="en-GB" sz="1100" spc="-1" strike="noStrike">
                          <a:solidFill>
                            <a:srgbClr val="000000"/>
                          </a:solidFill>
                          <a:latin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760">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Наименование на проекта</a:t>
                      </a:r>
                      <a:r>
                        <a:rPr b="0" lang="en-GB" sz="1100" spc="-1" strike="noStrike">
                          <a:solidFill>
                            <a:srgbClr val="000000"/>
                          </a:solidFill>
                          <a:latin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Продължителност на проекта</a:t>
                      </a:r>
                      <a:r>
                        <a:rPr b="0" lang="en-GB" sz="1100" spc="-1" strike="noStrike">
                          <a:solidFill>
                            <a:srgbClr val="000000"/>
                          </a:solidFill>
                          <a:latin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Бенефициент</a:t>
                      </a:r>
                      <a:r>
                        <a:rPr b="0" lang="en-GB" sz="1100" spc="-1" strike="noStrike">
                          <a:solidFill>
                            <a:srgbClr val="000000"/>
                          </a:solidFill>
                          <a:latin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87" name=""/>
          <p:cNvGraphicFramePr/>
          <p:nvPr/>
        </p:nvGraphicFramePr>
        <p:xfrm>
          <a:off x="250920" y="1709640"/>
          <a:ext cx="8496360" cy="3880080"/>
        </p:xfrm>
        <a:graphic>
          <a:graphicData uri="http://schemas.openxmlformats.org/drawingml/2006/table">
            <a:tbl>
              <a:tblPr/>
              <a:tblGrid>
                <a:gridCol w="282600"/>
                <a:gridCol w="284040"/>
                <a:gridCol w="285840"/>
                <a:gridCol w="287280"/>
                <a:gridCol w="284040"/>
                <a:gridCol w="284400"/>
                <a:gridCol w="284040"/>
                <a:gridCol w="285840"/>
                <a:gridCol w="287280"/>
                <a:gridCol w="282600"/>
                <a:gridCol w="282600"/>
                <a:gridCol w="282600"/>
                <a:gridCol w="258480"/>
                <a:gridCol w="360360"/>
                <a:gridCol w="1944720"/>
                <a:gridCol w="1366920"/>
                <a:gridCol w="1152720"/>
              </a:tblGrid>
              <a:tr h="182520">
                <a:tc rowSpan="3">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N</a:t>
                      </a:r>
                      <a:endParaRPr b="0" lang="en-US" sz="1000" spc="-1" strike="noStrike">
                        <a:solidFill>
                          <a:srgbClr val="000000"/>
                        </a:solidFill>
                        <a:latin typeface="Arial"/>
                      </a:endParaRPr>
                    </a:p>
                  </a:txBody>
                  <a:tcPr anchor="ctr" marL="60120" marR="6012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13">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Тип процедура</a:t>
                      </a:r>
                      <a:endParaRPr b="0" lang="en-US" sz="1000" spc="-1" strike="noStrike">
                        <a:solidFill>
                          <a:srgbClr val="000000"/>
                        </a:solidFill>
                        <a:latin typeface="Arial"/>
                      </a:endParaRPr>
                    </a:p>
                  </a:txBody>
                  <a:tcPr anchor="ctr"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Разпределение на бюджетни средства (по обособени позиции, ако е приложимо)</a:t>
                      </a:r>
                      <a:endParaRPr b="0" lang="en-US" sz="1000" spc="-1" strike="noStrike">
                        <a:solidFill>
                          <a:srgbClr val="000000"/>
                        </a:solidFill>
                        <a:latin typeface="Arial"/>
                      </a:endParaRPr>
                    </a:p>
                  </a:txBody>
                  <a:tcPr anchor="ctr" marL="60120" marR="60120">
                    <a:lnL w="18720">
                      <a:solidFill>
                        <a:srgbClr val="ffffff"/>
                      </a:solidFill>
                    </a:lnL>
                    <a:lnR w="5760">
                      <a:solidFill>
                        <a:srgbClr val="ffffff"/>
                      </a:solidFill>
                    </a:lnR>
                    <a:lnT w="5760">
                      <a:solidFill>
                        <a:srgbClr val="ffffff"/>
                      </a:solidFill>
                    </a:lnT>
                    <a:lnB w="18720">
                      <a:solidFill>
                        <a:srgbClr val="ffffff"/>
                      </a:solidFill>
                    </a:lnB>
                    <a:solidFill>
                      <a:srgbClr val="4f81bd"/>
                    </a:solidFill>
                  </a:tcPr>
                </a:tc>
                <a:tc rowSpan="2">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Планирана дата за обявяване на процедурата - индикативна</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rowSpan="2">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Планирана дата за отваряне на процедурата - индикативна</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60120" marR="6012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0">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ЗОП</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60120" marR="6012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Д</a:t>
                      </a:r>
                      <a:endParaRPr b="0" lang="en-US" sz="1000" spc="-1" strike="noStrike">
                        <a:solidFill>
                          <a:srgbClr val="000000"/>
                        </a:solidFill>
                        <a:latin typeface="Arial"/>
                      </a:endParaRPr>
                    </a:p>
                  </a:txBody>
                  <a:tcPr anchor="t" marL="60120" marR="60120">
                    <a:lnL w="1872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У</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С</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Дата/Месе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Година</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Дата/Месе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Година</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1249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Об.Поз. 1 Бюджетно перо/пера </a:t>
                      </a:r>
                      <a:r>
                        <a:rPr b="0" lang="ru-RU" sz="1000" spc="-1" strike="noStrike">
                          <a:solidFill>
                            <a:srgbClr val="000000"/>
                          </a:solidFill>
                          <a:latin typeface="Times New Roman"/>
                          <a:ea typeface="Times New Roman"/>
                        </a:rPr>
                        <a:t>“</a:t>
                      </a:r>
                      <a:r>
                        <a:rPr b="0" lang="bg-BG" sz="1000" spc="-1" strike="noStrike">
                          <a:solidFill>
                            <a:srgbClr val="000000"/>
                          </a:solidFill>
                          <a:latin typeface="Times New Roman"/>
                          <a:ea typeface="Times New Roman"/>
                        </a:rPr>
                        <a:t>………</a:t>
                      </a: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Стойност - ……… л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Об.Поз. 2 Бюджетно перо/пера </a:t>
                      </a:r>
                      <a:r>
                        <a:rPr b="0" lang="ru-RU" sz="1000" spc="-1" strike="noStrike">
                          <a:solidFill>
                            <a:srgbClr val="000000"/>
                          </a:solidFill>
                          <a:latin typeface="Times New Roman"/>
                          <a:ea typeface="Times New Roman"/>
                        </a:rPr>
                        <a:t>“</a:t>
                      </a:r>
                      <a:r>
                        <a:rPr b="0" lang="bg-BG" sz="1000" spc="-1" strike="noStrike">
                          <a:solidFill>
                            <a:srgbClr val="000000"/>
                          </a:solidFill>
                          <a:latin typeface="Times New Roman"/>
                          <a:ea typeface="Times New Roman"/>
                        </a:rPr>
                        <a:t>………</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Стойност - ……… л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Обща сума    - ……… лв.</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716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gridSpan="2">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524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457200" y="1428840"/>
            <a:ext cx="8229600" cy="4697280"/>
          </a:xfrm>
          <a:prstGeom prst="rect">
            <a:avLst/>
          </a:prstGeom>
          <a:noFill/>
          <a:ln w="0">
            <a:noFill/>
          </a:ln>
        </p:spPr>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graphicFrame>
        <p:nvGraphicFramePr>
          <p:cNvPr id="689" name=""/>
          <p:cNvGraphicFramePr/>
          <p:nvPr/>
        </p:nvGraphicFramePr>
        <p:xfrm>
          <a:off x="250920" y="1197000"/>
          <a:ext cx="8588160" cy="4424400"/>
        </p:xfrm>
        <a:graphic>
          <a:graphicData uri="http://schemas.openxmlformats.org/drawingml/2006/table">
            <a:tbl>
              <a:tblPr/>
              <a:tblGrid>
                <a:gridCol w="4321080"/>
                <a:gridCol w="1655640"/>
                <a:gridCol w="2611440"/>
              </a:tblGrid>
              <a:tr h="420840">
                <a:tc>
                  <a:txBody>
                    <a:bodyPr lIns="43920" rIns="439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Новия ЗОП</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3920" rIns="439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строителство</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3920" rIns="439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доставки, услуги и конкурс за проект</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Чл. 14</a:t>
                      </a:r>
                      <a:r>
                        <a:rPr b="1" lang="bg-BG" sz="1200" spc="-1" strike="noStrike">
                          <a:solidFill>
                            <a:srgbClr val="ffffff"/>
                          </a:solidFill>
                          <a:latin typeface="Times New Roman"/>
                          <a:ea typeface="Times New Roman"/>
                        </a:rPr>
                        <a:t> (1) Процедурите по закона се прилагат задължително при възлагане на обществени поръчки, които имат следните стойности без ДДС</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авни или по-високи от 2</a:t>
                      </a:r>
                      <a:r>
                        <a:rPr b="0" lang="bg-BG" sz="1200" spc="-1" strike="noStrike">
                          <a:solidFill>
                            <a:srgbClr val="000000"/>
                          </a:solidFill>
                          <a:latin typeface="Times New Roman"/>
                          <a:ea typeface="Times New Roman"/>
                        </a:rPr>
                        <a:t>64</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авни или по-високи от 6</a:t>
                      </a:r>
                      <a:r>
                        <a:rPr b="0" lang="bg-BG"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157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Чл.14 </a:t>
                      </a:r>
                      <a:r>
                        <a:rPr b="1" lang="en-US" sz="1200" spc="-1" strike="noStrike">
                          <a:solidFill>
                            <a:srgbClr val="ffffff"/>
                          </a:solidFill>
                          <a:latin typeface="Times New Roman"/>
                          <a:ea typeface="Times New Roman"/>
                        </a:rPr>
                        <a:t>(2) Възложителите могат да прилагат предвидените в този закон опростени правила, когато обществените поръчки имат следните стойности без ДДС</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т 2</a:t>
                      </a:r>
                      <a:r>
                        <a:rPr b="0" lang="bg-BG" sz="1200" spc="-1" strike="noStrike">
                          <a:solidFill>
                            <a:srgbClr val="000000"/>
                          </a:solidFill>
                          <a:latin typeface="Times New Roman"/>
                          <a:ea typeface="Times New Roman"/>
                        </a:rPr>
                        <a:t>64 </a:t>
                      </a:r>
                      <a:r>
                        <a:rPr b="0" lang="en-US" sz="1200" spc="-1" strike="noStrike">
                          <a:solidFill>
                            <a:srgbClr val="000000"/>
                          </a:solidFill>
                          <a:latin typeface="Times New Roman"/>
                          <a:ea typeface="Times New Roman"/>
                        </a:rPr>
                        <a:t>000 до 2 </a:t>
                      </a:r>
                      <a:r>
                        <a:rPr b="0" lang="bg-BG" sz="1200" spc="-1" strike="noStrike">
                          <a:solidFill>
                            <a:srgbClr val="000000"/>
                          </a:solidFill>
                          <a:latin typeface="Times New Roman"/>
                          <a:ea typeface="Times New Roman"/>
                        </a:rPr>
                        <a:t>640</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т 6</a:t>
                      </a:r>
                      <a:r>
                        <a:rPr b="0" lang="bg-BG"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084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Чл.14 </a:t>
                      </a:r>
                      <a:r>
                        <a:rPr b="1" lang="en-US" sz="1200" spc="-1" strike="noStrike">
                          <a:solidFill>
                            <a:srgbClr val="ffffff"/>
                          </a:solidFill>
                          <a:latin typeface="Times New Roman"/>
                          <a:ea typeface="Times New Roman"/>
                        </a:rPr>
                        <a:t>(3) Възложителите могат да не провеждат процедурите по закона, но са длъжни да прилагат условията и реда на глава осма "а" при обществени поръчки на стойност без ДДС</a:t>
                      </a:r>
                      <a:r>
                        <a:rPr b="1" lang="bg-BG" sz="1200" spc="-1" strike="noStrike">
                          <a:solidFill>
                            <a:srgbClr val="ffffff"/>
                          </a:solidFill>
                          <a:latin typeface="Times New Roman"/>
                          <a:ea typeface="Times New Roman"/>
                        </a:rPr>
                        <a:t> (възложителят събира оферти с публикуване на покана)</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т </a:t>
                      </a:r>
                      <a:r>
                        <a:rPr b="0" lang="bg-BG" sz="1200" spc="-1" strike="noStrike">
                          <a:solidFill>
                            <a:srgbClr val="000000"/>
                          </a:solidFill>
                          <a:latin typeface="Times New Roman"/>
                          <a:ea typeface="Times New Roman"/>
                        </a:rPr>
                        <a:t>66</a:t>
                      </a:r>
                      <a:r>
                        <a:rPr b="0" lang="en-US" sz="1200" spc="-1" strike="noStrike">
                          <a:solidFill>
                            <a:srgbClr val="000000"/>
                          </a:solidFill>
                          <a:latin typeface="Times New Roman"/>
                          <a:ea typeface="Times New Roman"/>
                        </a:rPr>
                        <a:t> 000 до 240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т </a:t>
                      </a:r>
                      <a:r>
                        <a:rPr b="0" lang="bg-BG" sz="1200" spc="-1" strike="noStrike">
                          <a:solidFill>
                            <a:srgbClr val="000000"/>
                          </a:solidFill>
                          <a:latin typeface="Times New Roman"/>
                          <a:ea typeface="Times New Roman"/>
                        </a:rPr>
                        <a:t>20 </a:t>
                      </a:r>
                      <a:r>
                        <a:rPr b="0" lang="en-US" sz="1200" spc="-1" strike="noStrike">
                          <a:solidFill>
                            <a:srgbClr val="000000"/>
                          </a:solidFill>
                          <a:latin typeface="Times New Roman"/>
                          <a:ea typeface="Times New Roman"/>
                        </a:rPr>
                        <a:t> 000 до</a:t>
                      </a:r>
                      <a:r>
                        <a:rPr b="0" lang="bg-BG"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6</a:t>
                      </a:r>
                      <a:r>
                        <a:rPr b="0" lang="bg-BG"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97240">
                <a:tc>
                  <a:txBody>
                    <a:bodyPr lIns="43920" rIns="439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Чл.14 </a:t>
                      </a:r>
                      <a:r>
                        <a:rPr b="1" lang="en-US" sz="1200" spc="-1" strike="noStrike">
                          <a:solidFill>
                            <a:srgbClr val="ffffff"/>
                          </a:solidFill>
                          <a:latin typeface="Times New Roman"/>
                          <a:ea typeface="Times New Roman"/>
                        </a:rPr>
                        <a:t>(4) Възложителите не са длъжни да прилагат процедурите по закона или условията и реда на глава осма "а" при разход на средства на следните стойности без ДДС:</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д 45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д </a:t>
                      </a:r>
                      <a:r>
                        <a:rPr b="0" lang="bg-BG" sz="1200" spc="-1" strike="noStrike">
                          <a:solidFill>
                            <a:srgbClr val="000000"/>
                          </a:solidFill>
                          <a:latin typeface="Times New Roman"/>
                          <a:ea typeface="Times New Roman"/>
                        </a:rPr>
                        <a:t>20 </a:t>
                      </a:r>
                      <a:r>
                        <a:rPr b="0" lang="en-US" sz="1200" spc="-1" strike="noStrike">
                          <a:solidFill>
                            <a:srgbClr val="000000"/>
                          </a:solidFill>
                          <a:latin typeface="Times New Roman"/>
                          <a:ea typeface="Times New Roman"/>
                        </a:rPr>
                        <a:t> 000 лв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 конкурс за проект - под 60 000 лв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В тези случаи </a:t>
                      </a:r>
                      <a:r>
                        <a:rPr b="0" lang="en-US" sz="1200" spc="-1" strike="noStrike">
                          <a:solidFill>
                            <a:srgbClr val="000000"/>
                          </a:solidFill>
                          <a:latin typeface="Times New Roman"/>
                          <a:ea typeface="Times New Roman"/>
                        </a:rPr>
                        <a:t>възложителите могат да не сключват писмен договор, като доказват разхода чрез първични платежни документи.</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341000"/>
            <a:ext cx="8229600" cy="47847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000000"/>
                </a:solidFill>
                <a:uFillTx/>
                <a:latin typeface="Times New Roman"/>
                <a:ea typeface="Times New Roman"/>
              </a:rPr>
              <a:t>Прагове по чл. 45а</a:t>
            </a:r>
            <a:endParaRPr b="0" lang="en-US" sz="3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зпращане на информация до ЕК – уредени са по-голям брой специфични хипотези:</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 оглед на категорията на Възложителя (отделно за ТО на ИВ, отбрана и сигурност и др.);</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 оглед на предмета – най-често са обособени по категории услуги</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сновни прагове: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троителство – 9 779 хил. лева;</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ставки – 254 хил. лева;</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Услуги – 391 хил. лева или приравнени на доставките;</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ИНАГИ – проверявайте точната стойност!</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и секторни възложители:</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За доставки и услуги – 782 хил. лев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052640"/>
            <a:ext cx="822960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Мониторинг</a:t>
            </a:r>
            <a:r>
              <a:rPr b="1" lang="ru-RU" sz="3600" spc="-1" strike="noStrike">
                <a:solidFill>
                  <a:srgbClr val="000000"/>
                </a:solidFill>
                <a:latin typeface="Times New Roman"/>
                <a:ea typeface="Times New Roman"/>
              </a:rPr>
              <a:t> </a:t>
            </a:r>
            <a:br>
              <a:rPr sz="3600"/>
            </a:br>
            <a:endParaRPr b="0" lang="en-US" sz="3600" spc="-1" strike="noStrike">
              <a:solidFill>
                <a:srgbClr val="000000"/>
              </a:solidFill>
              <a:latin typeface="Calibri"/>
            </a:endParaRPr>
          </a:p>
        </p:txBody>
      </p:sp>
      <p:sp>
        <p:nvSpPr>
          <p:cNvPr id="649" name=""/>
          <p:cNvSpPr txBox="1"/>
          <p:nvPr/>
        </p:nvSpPr>
        <p:spPr>
          <a:xfrm>
            <a:off x="457200" y="1700280"/>
            <a:ext cx="8229600" cy="3744720"/>
          </a:xfrm>
          <a:prstGeom prst="rect">
            <a:avLst/>
          </a:prstGeom>
          <a:noFill/>
          <a:ln w="0">
            <a:noFill/>
          </a:ln>
        </p:spPr>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ниторингът е непрекъснат процес на събиране на информация, с цел наблюдение изпълнението на проектите и осигуряване на съответствие с договора и ненарушаване на правилата на Структурните фондове и законодателството на Република България и ЕС. С оглед изпълнението на дейностите по даден проект, мониторингът е текущо и систематично набиране и анализ на информация (доказателства), която се използва в процеса на понататъшно управление, контрол и вземане на решение. Дейността по мониторинга позволява да се направи оценка дали планираните и одобрени по проекта дейности водят до постигане на очакваните резултати и цели на съответния проект. Това позволява своевременно да се идентифицират възможни проблеми и да се предприемат съответните корективни действия.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457200" y="1125000"/>
            <a:ext cx="8229600" cy="4086360"/>
          </a:xfrm>
          <a:prstGeom prst="rect">
            <a:avLst/>
          </a:prstGeom>
          <a:noFill/>
          <a:ln w="0">
            <a:noFill/>
          </a:ln>
        </p:spPr>
        <p:txBody>
          <a:bodyPr lIns="90000" rIns="90000" tIns="46800" bIns="46800" anchor="t">
            <a:normAutofit fontScale="75000"/>
          </a:bodyPr>
          <a:p>
            <a:pPr marL="257040" indent="-257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Етап на изпълнение</a:t>
            </a:r>
            <a:endParaRPr b="0" lang="en-US" sz="2800" spc="-1" strike="noStrike">
              <a:solidFill>
                <a:srgbClr val="000000"/>
              </a:solidFill>
              <a:latin typeface="Calibri"/>
            </a:endParaRPr>
          </a:p>
          <a:p>
            <a:pPr marL="257040" indent="-2570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лучаване на офертите – регистър на офертите;</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ъстав на комисията – формиране;</a:t>
            </a:r>
            <a:endParaRPr b="0" lang="en-US" sz="2000" spc="-1" strike="noStrike">
              <a:solidFill>
                <a:srgbClr val="000000"/>
              </a:solidFill>
              <a:latin typeface="Calibri"/>
            </a:endParaRPr>
          </a:p>
          <a:p>
            <a:pPr lvl="1" marL="557280" indent="-214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частие на заинтересованите страни;</a:t>
            </a:r>
            <a:endParaRPr b="0" lang="en-US" sz="2000" spc="-1" strike="noStrike">
              <a:solidFill>
                <a:srgbClr val="000000"/>
              </a:solidFill>
              <a:latin typeface="Calibri"/>
            </a:endParaRPr>
          </a:p>
          <a:p>
            <a:pPr lvl="1" marL="557280" indent="-214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рой комисии (в зависимост от броя процедури)</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нтрол, упражняван от Възложителя – отношение към Вътрешните правила – отговорни лица;</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ключване и изпълнение на договори</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трол на изпълнението на сключените договори:</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ношение към контрола, осъществяван от финансиращата институция и изискванията в тази връзка.</a:t>
            </a:r>
            <a:endParaRPr b="0" lang="en-US" sz="2000" spc="-1" strike="noStrike">
              <a:solidFill>
                <a:srgbClr val="000000"/>
              </a:solidFill>
              <a:latin typeface="Calibri"/>
            </a:endParaRPr>
          </a:p>
          <a:p>
            <a:pPr marL="257040" indent="-2570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56840" y="1483920"/>
            <a:ext cx="8115480" cy="414324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одготовка на документацията (тръжното досие)</a:t>
            </a:r>
            <a:endParaRPr b="0" lang="en-US" sz="2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шение на Възложителя за откриване на процедур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явление за обществена поръчка ! (водещо като съдържани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ълно описание на обекта/обособени позиц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ехнически спецификац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ции – варианти на офертата; При строителство – инвестиционен проек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ритерий за оценка/Показатели с тежест/Методика за оценк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разци на документи (Техническа, Ценова оферта, Декларации) с Указания за подготовка и проект на Договор</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50560" y="1600200"/>
            <a:ext cx="8435880" cy="37735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000000"/>
                </a:solidFill>
                <a:uFillTx/>
                <a:latin typeface="Times New Roman"/>
                <a:ea typeface="Times New Roman"/>
              </a:rPr>
              <a:t>Промени, свързани с подготовка на документация</a:t>
            </a:r>
            <a:endParaRPr b="0" lang="en-US" sz="28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нкорпориране на досегашна практика (чл.25, ал. 6-10);</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веждане на възможност за коригендум (чл.27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Хипотеза: закъснение при предоставяне на разяснения – в рамките на 6/3 дни от крайния срок (чл.29, ал.2);</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457200" y="1179000"/>
            <a:ext cx="8229600" cy="469764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ОБЯВЛЕНИЕ</a:t>
            </a:r>
            <a:endParaRPr b="0" lang="en-US" sz="24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анни на възложителя; Лице за контакт (значение за предоставянето на допълнителна информация по реда на ЗОП);</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Вид на поръчката:</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Строителство (подвид);</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ставки (подвид);</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Услуги (посочва се категорията услуга);</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ратко описание на поръчката;</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од на поръчката по общ терминологичен речник – избира се в редактора на форм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Предвиждат ли се обособени позици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оличество/обем на поръчката и прогнозна стойнос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Срок за изпълнение – в месеци или дн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Гаранция за участие – размер, банкова сметка, реквизити;</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ОБЯВЛЕНИЕ (2)</a:t>
            </a:r>
            <a:endParaRPr b="0" lang="en-US" sz="24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Гаранция за изпълнение – до 3% - урежда се подробно в договора</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Основни финансови условия и начин на плащане (описват се с оглед и на изискванията на финансиращата институция)</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Изискуеми документи от кандидатите:</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кументи, които се изискват в процедурата и са посочени и в документацията;</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кументи във връзка с правния статус на кандидата;</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кументи във връзка с критериите за подбор</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ритерии за икономически и финансови възможности (</a:t>
            </a:r>
            <a:r>
              <a:rPr b="0" i="1" lang="bg-BG" sz="1600" spc="-1" strike="noStrike">
                <a:solidFill>
                  <a:srgbClr val="000000"/>
                </a:solidFill>
                <a:latin typeface="Times New Roman"/>
                <a:ea typeface="Times New Roman"/>
              </a:rPr>
              <a:t>ЗОП отразява досегашната практика във връзка с формулирането им</a:t>
            </a:r>
            <a:r>
              <a:rPr b="0" lang="bg-BG"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ритерии за технически възможност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Вид на процедурата – съгласно ЗОП</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ритерии за възлагане и тежес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ОБЯВЛЕНИЕ (3)</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купуване на документацията – начин, цен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получаване на оферт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Език на който трябва да бъдат оферти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алидност на оферти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словия за отваряне на оферти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ръчка във връзка с проект или програм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пълнителна информация – напр. ползване на съкратени срокове на основание в ЗОП;</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цедура по обжалване – стандартна информация за КЗК.</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285840" y="1500120"/>
            <a:ext cx="8400960" cy="462600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РЕШЕНИЕ</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омер на заповед на Възложителя и партида на Възложителя;</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сочва се вида на решението (за откриване на процедура) и вида на Възложителя (тук класически възложител по чл. 7, т.1-4)</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нни за Възложителя</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ид на процедур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исани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д за обжалване – стандартни данни за КЗК</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ДОКУМЕНТАЦИЯ</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работване на методиката за оценка – основни параметри от </a:t>
            </a:r>
            <a:r>
              <a:rPr b="0" lang="bg-BG" sz="2000" spc="-1" strike="noStrike" u="sng">
                <a:solidFill>
                  <a:srgbClr val="000000"/>
                </a:solidFill>
                <a:uFillTx/>
                <a:latin typeface="Times New Roman"/>
                <a:ea typeface="Times New Roman"/>
              </a:rPr>
              <a:t>Техническата офер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разци на документи – оферта и декларации; проект на договор</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ъответствие със заложеното в обявлението, в изискванията и в методиката;</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лагане на контролни механизми по отношение на изпълнениет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Критерии за подбор на кандидатите</a:t>
            </a:r>
            <a:endParaRPr b="0" lang="en-US" sz="32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чл. 25, ал. 6 - 10</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оротът не може да надвишава повече от три пъти стойността на поръчк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искването се съобразява със стойността на обособените позици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обединения – изискването е за обединението, с изключение на регистрация/сертификат или друго услов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ритерии за подбор не могат да се използват като показатели за оценка;</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250920" y="1197000"/>
            <a:ext cx="8642160" cy="4857840"/>
          </a:xfrm>
          <a:prstGeom prst="rect">
            <a:avLst/>
          </a:prstGeom>
          <a:noFill/>
          <a:ln w="0">
            <a:noFill/>
          </a:ln>
        </p:spPr>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яна на публикувано обявление</a:t>
            </a:r>
            <a:endParaRPr b="0" lang="en-US" sz="2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Може да се променя еднократно:</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собствена инициатива;</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предложение на заинтересовано лице;</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алидно е и за документацията към обявлението;</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Цел – законосъобразност, отстраняване на пропуски или фактически грешки;</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Заинтересованите лица могат да правят предложения в 10-дневен срок от публикуване на обявлението</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зложителят изготвя Решение за промяна;</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Трябва да се публикува в РОП – в 14-дневен срок от публикуването на Обявлението;</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е могат да се променят дейности или доставки;</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пределя се нов срок за подаване на оферти/заявления;</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руги промени – само удължаване на сроковете за подаване на офер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85560" y="1198080"/>
            <a:ext cx="7931160" cy="574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Непосредствени цели на наблюдението</a:t>
            </a:r>
            <a:endParaRPr b="0" lang="en-US" sz="3200" spc="-1" strike="noStrike">
              <a:solidFill>
                <a:srgbClr val="000000"/>
              </a:solidFill>
              <a:latin typeface="Calibri"/>
            </a:endParaRPr>
          </a:p>
        </p:txBody>
      </p:sp>
      <p:sp>
        <p:nvSpPr>
          <p:cNvPr id="651" name=""/>
          <p:cNvSpPr txBox="1"/>
          <p:nvPr/>
        </p:nvSpPr>
        <p:spPr>
          <a:xfrm>
            <a:off x="395280" y="1773360"/>
            <a:ext cx="8229600" cy="395928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на техническа и финансова отчетност по финансирания проек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и гарантиране на стриктното спазване на правилата и процедурите по ЗОП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НВМОП</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и Постановление на МС No.55/2007г.;</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арантиране, че одобреният проект се реализира с необходимите човешки ресурси;</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за коректност, валидност и надеждност на представената в докладите информация, както и степен на изпълнение на дейностите и постигнати резултати по проекта;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на използването на ресурсите за постигане на предвидените резултати и техния принос за изпълнението на целите на проек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арантиране, че извършените дейности за изпълнение на проекта са надлежно документирани и при поискване са на разположение на националните и европейските контролни орган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468360" y="1125000"/>
            <a:ext cx="8229600" cy="4526280"/>
          </a:xfrm>
          <a:prstGeom prst="rect">
            <a:avLst/>
          </a:prstGeom>
          <a:noFill/>
          <a:ln w="0">
            <a:noFill/>
          </a:ln>
        </p:spPr>
        <p:txBody>
          <a:bodyPr lIns="90000" rIns="90000" tIns="46800" bIns="46800" anchor="t">
            <a:normAutofit fontScale="98000"/>
          </a:bodyPr>
          <a:p>
            <a:pPr marL="335880" indent="-335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Работа на комисията</a:t>
            </a:r>
            <a:endParaRPr b="0" lang="en-US" sz="2800" spc="-1" strike="noStrike">
              <a:solidFill>
                <a:srgbClr val="000000"/>
              </a:solidFill>
              <a:latin typeface="Calibri"/>
            </a:endParaRPr>
          </a:p>
          <a:p>
            <a:pPr marL="335880" indent="-33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ово</a:t>
            </a:r>
            <a:r>
              <a:rPr b="0" lang="bg-BG" sz="2000" spc="-1" strike="noStrike">
                <a:solidFill>
                  <a:srgbClr val="000000"/>
                </a:solidFill>
                <a:latin typeface="Times New Roman"/>
                <a:ea typeface="Times New Roman"/>
              </a:rPr>
              <a:t> – при отклонение с повече от 20% на предложение на кандидата, което има количествен израз – искане на обосновка (задължително)</a:t>
            </a:r>
            <a:r>
              <a:rPr b="0" lang="en-US" sz="2000" spc="-1" strike="noStrike">
                <a:solidFill>
                  <a:srgbClr val="000000"/>
                </a:solidFill>
                <a:latin typeface="Times New Roman"/>
                <a:ea typeface="Times New Roman"/>
              </a:rPr>
              <a:t> – </a:t>
            </a:r>
            <a:r>
              <a:rPr b="0" lang="bg-BG" sz="2000" spc="-1" strike="noStrike">
                <a:solidFill>
                  <a:srgbClr val="000000"/>
                </a:solidFill>
                <a:latin typeface="Times New Roman"/>
                <a:ea typeface="Times New Roman"/>
              </a:rPr>
              <a:t>чл.</a:t>
            </a:r>
            <a:r>
              <a:rPr b="0" lang="en-US" sz="2000" spc="-1" strike="noStrike">
                <a:solidFill>
                  <a:srgbClr val="000000"/>
                </a:solidFill>
                <a:latin typeface="Times New Roman"/>
                <a:ea typeface="Times New Roman"/>
              </a:rPr>
              <a:t> 70</a:t>
            </a:r>
            <a:r>
              <a:rPr b="0" lang="bg-BG" sz="2000" spc="-1" strike="noStrike">
                <a:solidFill>
                  <a:srgbClr val="000000"/>
                </a:solidFill>
                <a:latin typeface="Times New Roman"/>
                <a:ea typeface="Times New Roman"/>
              </a:rPr>
              <a:t>, ал.1;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лика от предишните две решения в закона;</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ажи и при договаряне с/без обявление</a:t>
            </a:r>
            <a:r>
              <a:rPr b="0" lang="en-US" sz="2000" spc="-1" strike="noStrike">
                <a:solidFill>
                  <a:srgbClr val="000000"/>
                </a:solidFill>
                <a:latin typeface="Times New Roman"/>
                <a:ea typeface="Times New Roman"/>
              </a:rPr>
              <a:t>-</a:t>
            </a:r>
            <a:r>
              <a:rPr b="0" lang="bg-BG" sz="2000" spc="-1" strike="noStrike">
                <a:solidFill>
                  <a:srgbClr val="000000"/>
                </a:solidFill>
                <a:latin typeface="Times New Roman"/>
                <a:ea typeface="Times New Roman"/>
              </a:rPr>
              <a:t>Чл. 89, ал. 4</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основката трябва мотивирано да се приеме или отхвърли от комисията;</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мисията решава по целесъобразност, но задължително излага мотиви;</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Липсата на мотиви е нарушение – може да доведе до отмяна на последващото Решение на Възложителя (практика на КЗК);</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u="sng">
                <a:solidFill>
                  <a:srgbClr val="000000"/>
                </a:solidFill>
                <a:uFillTx/>
                <a:latin typeface="Times New Roman"/>
                <a:ea typeface="Times New Roman"/>
              </a:rPr>
              <a:t>Комисия – възможни казуси от практиката</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фериране в различни мерни единици, по различни стандарти и др.</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рху плика липсват – фирма на участника, адрес за кореспонденция, телефон...</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Ценова оферта – офериране по артикули, които са много на брой – кандидат не оферира всички артикул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ясна методика – хипотези, при които се присъждат 10/5/1 точки – налагат комисията да обоснове оценката си по всеки показател и за всеки кандида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Методиката има показатели – Комисията въвежда подпоказатели с различна тежест – Недопустимо!</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ът на валидност на офертата е изтекъл, а Комисията още рабо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000000"/>
                </a:solidFill>
                <a:latin typeface="Times New Roman"/>
                <a:ea typeface="Times New Roman"/>
              </a:rPr>
              <a:t>Методика за оценка - примери</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изпълн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гаранционно обслужван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реме за реакция при повред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акса за обслужван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95280" y="1341360"/>
            <a:ext cx="8229600" cy="46260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оговор – нови моменти</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действителност:</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гато е сключен без процедура, а е трябвало да има такава (чл. 41б, ал.1, т.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дробна уредба на обявлението за доброволна прозрачност – чл. 41в – когато не се прилага ЗОП/процеду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Много разширен обхват на хипотезите за изменение на догово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Изменение на договор</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резултат на непредвидени обстоятелства (чл. 43):</a:t>
            </a:r>
            <a:endParaRPr b="0" lang="en-US" sz="2000" spc="-1" strike="noStrike">
              <a:solidFill>
                <a:srgbClr val="000000"/>
              </a:solidFill>
              <a:latin typeface="Calibri"/>
            </a:endParaRPr>
          </a:p>
          <a:p>
            <a:pPr lvl="1" marL="990720" indent="-533520">
              <a:lnSpc>
                <a:spcPct val="9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Промяна в срока </a:t>
            </a:r>
            <a:endParaRPr b="0" lang="en-US" sz="2000" spc="-1" strike="noStrike">
              <a:solidFill>
                <a:srgbClr val="000000"/>
              </a:solidFill>
              <a:latin typeface="Calibri"/>
            </a:endParaRPr>
          </a:p>
          <a:p>
            <a:pPr lvl="1" marL="990720" indent="-533520">
              <a:lnSpc>
                <a:spcPct val="9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Частична замяна на дейности (строителство/услуги) без промяна в цената</a:t>
            </a:r>
            <a:endParaRPr b="0" lang="en-US" sz="2000" spc="-1" strike="noStrike">
              <a:solidFill>
                <a:srgbClr val="000000"/>
              </a:solidFill>
              <a:latin typeface="Calibri"/>
            </a:endParaRPr>
          </a:p>
          <a:p>
            <a:pPr lvl="1" marL="990720" indent="-533520">
              <a:lnSpc>
                <a:spcPct val="9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Намаление на общата стойност – поради намаляване на договорени цени или количества или отпадане на дейности - в интерес на възложителя</a:t>
            </a:r>
            <a:endParaRPr b="0" lang="en-US" sz="2000" spc="-1" strike="noStrike">
              <a:solidFill>
                <a:srgbClr val="000000"/>
              </a:solidFill>
              <a:latin typeface="Calibri"/>
            </a:endParaRPr>
          </a:p>
          <a:p>
            <a:pPr lvl="1" marL="990720" indent="-53352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държавно регулирана цена</a:t>
            </a:r>
            <a:endParaRPr b="0" lang="en-US" sz="2000" spc="-1" strike="noStrike">
              <a:solidFill>
                <a:srgbClr val="000000"/>
              </a:solidFill>
              <a:latin typeface="Calibri"/>
            </a:endParaRPr>
          </a:p>
          <a:p>
            <a:pPr lvl="1" marL="990720" indent="-53352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величение на цената – поради приет нормативен акт</a:t>
            </a:r>
            <a:endParaRPr b="0" lang="en-US" sz="2000" spc="-1" strike="noStrike">
              <a:solidFill>
                <a:srgbClr val="000000"/>
              </a:solidFill>
              <a:latin typeface="Calibri"/>
            </a:endParaRPr>
          </a:p>
          <a:p>
            <a:pPr lvl="1" marL="990720" indent="-53352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дължаване на срока – до 6 месец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457200" y="1285560"/>
            <a:ext cx="8229600" cy="48402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бжалване – основни промени</a:t>
            </a:r>
            <a:endParaRPr b="0" lang="en-US" sz="2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Могат да се обжалват действия и бездействия на Възложителя (чл.120, </a:t>
            </a:r>
            <a:r>
              <a:rPr b="0" lang="bg-BG" sz="2000" spc="-1" strike="noStrike">
                <a:solidFill>
                  <a:srgbClr val="ff0000"/>
                </a:solidFill>
                <a:latin typeface="Times New Roman"/>
                <a:ea typeface="Times New Roman"/>
              </a:rPr>
              <a:t>ал.4</a:t>
            </a:r>
            <a:r>
              <a:rPr b="0" lang="bg-BG" sz="2000" spc="-1" strike="noStrike">
                <a:solidFill>
                  <a:srgbClr val="000000"/>
                </a:solidFill>
                <a:latin typeface="Times New Roman"/>
                <a:ea typeface="Times New Roman"/>
              </a:rPr>
              <a:t>), например:</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каз на документация;</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яснения;</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каз на оферт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държане на гаранция;</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каз на протокол;</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правилно съхранение на документация</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Хипотеза, при която срокът на обжалване тече от получаване на документацията (</a:t>
            </a:r>
            <a:r>
              <a:rPr b="0" lang="bg-BG" sz="2000" spc="-1" strike="noStrike">
                <a:solidFill>
                  <a:srgbClr val="ff0000"/>
                </a:solidFill>
                <a:latin typeface="Times New Roman"/>
                <a:ea typeface="Times New Roman"/>
              </a:rPr>
              <a:t>ал. 6</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даване на жалба от професионални сдружения и организаци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Обжалване</a:t>
            </a:r>
            <a:endParaRPr b="0" lang="en-US" sz="28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частна жалба срещу допускане на предв. изпълнение – срокът за произнасяне на ВАС – удължен от 7 на 14 дн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мпетентност на КЗК – може не само да отмени Решение/Действие, а и да върне за:</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дължаване на процедурата;</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Times New Roman"/>
                <a:ea typeface="Times New Roman"/>
              </a:rPr>
              <a:t>Прекратяване на процедурат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новен критерий във връзка с правните последици остава – дали е засегната възможността на жалбоподател да участва в процедур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57200" y="1428840"/>
            <a:ext cx="8229600" cy="469728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едварителен контрол – АОП</a:t>
            </a:r>
            <a:endParaRPr b="0" lang="en-US" sz="28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едмет на контрол – процедури за ОП, финансирани напълно или частично със средства от ЕФ;</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ростяване на процедур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по отношение на праговете – над 2.</a:t>
            </a:r>
            <a:r>
              <a:rPr b="0" lang="en-US" sz="2000" spc="-1" strike="noStrike">
                <a:solidFill>
                  <a:srgbClr val="000000"/>
                </a:solidFill>
                <a:latin typeface="Times New Roman"/>
                <a:ea typeface="Times New Roman"/>
              </a:rPr>
              <a:t>640</a:t>
            </a:r>
            <a:r>
              <a:rPr b="0" lang="bg-BG" sz="2000" spc="-1" strike="noStrike">
                <a:solidFill>
                  <a:srgbClr val="000000"/>
                </a:solidFill>
                <a:latin typeface="Times New Roman"/>
                <a:ea typeface="Times New Roman"/>
              </a:rPr>
              <a:t> млн. лева за строителство; 2</a:t>
            </a:r>
            <a:r>
              <a:rPr b="0" lang="en-US" sz="2000" spc="-1" strike="noStrike">
                <a:solidFill>
                  <a:srgbClr val="000000"/>
                </a:solidFill>
                <a:latin typeface="Times New Roman"/>
                <a:ea typeface="Times New Roman"/>
              </a:rPr>
              <a:t>5</a:t>
            </a:r>
            <a:r>
              <a:rPr b="0" lang="bg-BG" sz="2000" spc="-1" strike="noStrike">
                <a:solidFill>
                  <a:srgbClr val="000000"/>
                </a:solidFill>
                <a:latin typeface="Times New Roman"/>
                <a:ea typeface="Times New Roman"/>
              </a:rPr>
              <a:t>4/3</a:t>
            </a:r>
            <a:r>
              <a:rPr b="0" lang="en-US" sz="2000" spc="-1" strike="noStrike">
                <a:solidFill>
                  <a:srgbClr val="000000"/>
                </a:solidFill>
                <a:latin typeface="Times New Roman"/>
                <a:ea typeface="Times New Roman"/>
              </a:rPr>
              <a:t>91</a:t>
            </a:r>
            <a:r>
              <a:rPr b="0" lang="bg-BG" sz="2000" spc="-1" strike="noStrike">
                <a:solidFill>
                  <a:srgbClr val="000000"/>
                </a:solidFill>
                <a:latin typeface="Times New Roman"/>
                <a:ea typeface="Times New Roman"/>
              </a:rPr>
              <a:t> хил. лева за доставки/услуг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съдържанието на контрола: Обявление, Решение за откриване, Методика за оценк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457200" y="1413000"/>
            <a:ext cx="8229600" cy="42480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едварителен контрол – процедура</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ложителят изпраща проекти на посочените документ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a:t>
            </a:r>
            <a:r>
              <a:rPr b="0" lang="bg-BG" sz="2000" spc="-1" strike="noStrike">
                <a:solidFill>
                  <a:srgbClr val="ff0000"/>
                </a:solidFill>
                <a:latin typeface="Times New Roman"/>
                <a:ea typeface="Times New Roman"/>
              </a:rPr>
              <a:t>14</a:t>
            </a:r>
            <a:r>
              <a:rPr b="0" lang="bg-BG" sz="2000" spc="-1" strike="noStrike">
                <a:solidFill>
                  <a:srgbClr val="000000"/>
                </a:solidFill>
                <a:latin typeface="Times New Roman"/>
                <a:ea typeface="Times New Roman"/>
              </a:rPr>
              <a:t>-дневен срок – становище на АОП (с препорък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ложителят може да пренебрегне препоръките – изпраща писмени мотиви до АОП;</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10-дневен срок от публикуване на документите – АОП прави сравнение и излиза с окончателен доклад за законосъобразност, който изпраща на Възложителя и съответните орга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кументите за предварителен контрол – по утвърден образец;</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пращат се по електронен път с електронен подпис;</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ОП не следи служебно, дали е осъществена процедурата за предварителен контрол</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4842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Публична покана</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Глава 8а – Публична покана – замества процедурата с три офер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ферти се събират с публикуване на покана:</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а Портала за обществени поръчки;</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 публичен достъп за поне 7 дни;</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ъщо и в профила на продавача;</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Може и в печатни изда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каната може да бъде изпратена и до определени от Възложителя лиц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ът за получаване на офертите не може да бъде по-кратък от 7 дн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50920" y="1413000"/>
            <a:ext cx="8229600" cy="42480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езпечаване на своевременна идентификация на потенциални проблеми и трудности при изпълнението на проек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помагане на екипите за изпълнение на проектите чрез предложения, препоръки и предприемане на корективни мерки при необходимос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арантиране активното участие на заинтересованите страни в проекта, изпълнение на договореностите за партньорство и предоставянето на информация за финансираните дейности на партньорите;</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нос за устойчивостта на резултатите и въздействието от проекта и идентифициране на най-добрите практики с оглед тяхното разпространение и гарантиране на по-широкообхватно въздействие на проек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на съблюдаването на изискванията за информация и публичнос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на изпълнението на задължителните предписания или изисквания, дадени от Управляващия орган за отстраняване на констатирани при проверките пропуски или слабости по управление на проект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000000"/>
                </a:solidFill>
                <a:uFillTx/>
                <a:latin typeface="Times New Roman"/>
                <a:ea typeface="Times New Roman"/>
              </a:rPr>
              <a:t>Публична покана</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фертите се подават в запечатани пликов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яма оценителна комисия, а лица, които съставят протокол;</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статъчно е да е подадена само една офер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ключва се писмен догово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пълнителят представя документи по чл.47, ал. 1, т.1 и декларация по ал. 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кументите се съхраняват 3 години след изпълнение на догово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ово изискване за публикуване на информация за хода на процедурата при производство по обжалване – чл.22, ал.1, т.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менение на изискванията за съдържанието на решението за откриване и обявлението – чл. 25 ЗОП</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искване за оборот не повече от три пъти прогнозната стойност на поръчк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ритериите за подбор по ал. 2, т. 6, които възложителят определя, трябва да са еднакви за всички участници в процедур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казателите за комплексна оценка по ал. 2, т. 10 трябва да са свързани с предмета на обществената поръчк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Задължително посочване на </a:t>
            </a:r>
            <a:r>
              <a:rPr b="1" lang="en-US" sz="2000" spc="-1" strike="noStrike" u="sng">
                <a:solidFill>
                  <a:srgbClr val="000000"/>
                </a:solidFill>
                <a:uFillTx/>
                <a:latin typeface="Times New Roman"/>
                <a:ea typeface="Times New Roman"/>
              </a:rPr>
              <a:t>CPV </a:t>
            </a:r>
            <a:r>
              <a:rPr b="1" lang="bg-BG" sz="2000" spc="-1" strike="noStrike" u="sng">
                <a:solidFill>
                  <a:srgbClr val="000000"/>
                </a:solidFill>
                <a:uFillTx/>
                <a:latin typeface="Times New Roman"/>
                <a:ea typeface="Times New Roman"/>
              </a:rPr>
              <a:t>код</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кументите могат да се закупуват до 3 дни преди изтичане на срока и участниците имат право да се запознаят на място с условията на документацията преди закупуване – чл.28 ЗОП</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ГЛАВА </a:t>
            </a:r>
            <a:r>
              <a:rPr b="1" lang="en-US" sz="2000" spc="-1" strike="noStrike">
                <a:solidFill>
                  <a:srgbClr val="000000"/>
                </a:solidFill>
                <a:latin typeface="Times New Roman"/>
                <a:ea typeface="Times New Roman"/>
              </a:rPr>
              <a:t>VIII “a” (</a:t>
            </a:r>
            <a:r>
              <a:rPr b="1" lang="bg-BG" sz="2000" spc="-1" strike="noStrike">
                <a:solidFill>
                  <a:srgbClr val="000000"/>
                </a:solidFill>
                <a:latin typeface="Times New Roman"/>
                <a:ea typeface="Times New Roman"/>
              </a:rPr>
              <a:t>отменена НВМОП</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Чл. 101б. (1) Поканата се изготвя по образец, утвърден от изпълнителния директор на агенция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ъзложителят публикува поканата на Портала за обществени поръчки по ред, определен с правилника за прилагане на закона, и посочва срок за публичен достъп до нея, който не може да е по-кратък от 7 дни. Едновременно с това поканата се публикува и в профила на купувач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95280" y="1341360"/>
            <a:ext cx="8229600" cy="462600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СТРУКТУРИРАНЕ НА ОБЩИТЕ УСЛОВИЯ ПО ДОКУМЕНТАЦ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шени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явл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ект и обхват на поръчката (чл.28,ал.1, т.3) – съгласно проектното предложение и заложените индикатор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словия за участ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МИНИМАЛНИ ИЗИСКВАНИЯ ЗА ИКОНОМИЧЕСКИ, ФИНАНСОВИ И ТЕХНИЧЕСКИ ВЪЗМОЖНОСТ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орот – не повече от 3 пъти прогнозната стойност на поръчк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ложителен финансов резулта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ходни договори – ясна формулиров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95280" y="14130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зчисляване на срокове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ачалният ден на 52-дневния срок за получаване на оферти е денят, следващ датата на изпращане на обявлението в “Държавен вестник”</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гато последният ден от един срок съвпада с официален празник или почивен ден, на който трябва да се извърши конкретно действие, счита се, че срокът изтича в края на първия работен ден, следващ почивния</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Цена и начин на плащан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 банков път, с платежно нареждане по сметка, посочена от участника след представяне на оригинална фактура от изпълнителя по договора за възлагане на обществена поръчка, изготвени междинни и окончателен доклади и приемателно-предавателен протокол и съобразно договорения график на проек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КРИТЕРИЙ ЗА ОЦЕНЯВАНЕ НА ОФЕРТИТ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кономически най-изгодна оферт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оказатели за оценк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Цена – максимално възможна оценка</a:t>
            </a:r>
            <a:r>
              <a:rPr b="0" i="1" lang="bg-BG" sz="2000" spc="-1" strike="noStrike">
                <a:solidFill>
                  <a:srgbClr val="000000"/>
                </a:solidFill>
                <a:latin typeface="Times New Roman"/>
                <a:ea typeface="Times New Roman"/>
              </a:rPr>
              <a:t> – </a:t>
            </a:r>
            <a:r>
              <a:rPr b="0" lang="bg-BG" sz="2000" spc="-1" strike="noStrike">
                <a:solidFill>
                  <a:srgbClr val="000000"/>
                </a:solidFill>
                <a:latin typeface="Times New Roman"/>
                <a:ea typeface="Times New Roman"/>
              </a:rPr>
              <a:t>30 точк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ехническа оферта – максимално възможна оценка</a:t>
            </a:r>
            <a:r>
              <a:rPr b="0" i="1" lang="bg-BG" sz="2000" spc="-1" strike="noStrike">
                <a:solidFill>
                  <a:srgbClr val="000000"/>
                </a:solidFill>
                <a:latin typeface="Times New Roman"/>
                <a:ea typeface="Times New Roman"/>
              </a:rPr>
              <a:t> – </a:t>
            </a:r>
            <a:r>
              <a:rPr b="0" lang="bg-BG" sz="2000" spc="-1" strike="noStrike">
                <a:solidFill>
                  <a:srgbClr val="000000"/>
                </a:solidFill>
                <a:latin typeface="Times New Roman"/>
                <a:ea typeface="Times New Roman"/>
              </a:rPr>
              <a:t>60 точк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Times New Roman"/>
                <a:ea typeface="Times New Roman"/>
              </a:rPr>
              <a:t>Срок за изпълнение </a:t>
            </a:r>
            <a:r>
              <a:rPr b="0" lang="bg-BG" sz="2000" spc="-1" strike="noStrike">
                <a:solidFill>
                  <a:srgbClr val="000000"/>
                </a:solidFill>
                <a:latin typeface="Times New Roman"/>
                <a:ea typeface="Times New Roman"/>
              </a:rPr>
              <a:t>– максимална възможна оценка – 10 точки (вече задължително услови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репоръчителн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очкова схема за оценка, подпоказатели с минимални и максимални точки, без коефициент за теже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РОЕКТ НА  ДОГОВО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омер на договор (съгласно изискванията в насоките по ОПР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ове – съобразно проектния график</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лащане – съобразно отчетните период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предвидените разходи задължително се упоменава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четност – период и вид на документит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пълнителят представя, в срок от 5 дни от подписването, списък на лицата, отговорни за административното отчитан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токоли от срещи – минимум две през периода на договора (извършени проверки на мяст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ключване на задължение за спазване на изискванията за “Информация и публично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539640" y="1412640"/>
            <a:ext cx="8229600" cy="4125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токол 1 – след оценка на съответствиет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токол 2 – оценка на техническите предложения</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токол 3 – цени и обобщаване на резултатит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Практика на КЗК – Решение 1741/2011 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римерен диспозити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a:t>
            </a:r>
            <a:r>
              <a:rPr b="0" i="1" lang="bg-BG" sz="2000" spc="-1" strike="noStrike">
                <a:solidFill>
                  <a:srgbClr val="000000"/>
                </a:solidFill>
                <a:latin typeface="Times New Roman"/>
                <a:ea typeface="Times New Roman"/>
              </a:rPr>
              <a:t>След приключване работата на комисията и обработка и оценка на представените от участниците документи, комисията единодушно/ с мнозинство от..... предлага участниците в процедура......... да бъдат класирани в следния  низходящ ред:</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На първо място, на второ място и т.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дължително се подписва от възложителя</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дължително се инкорпорират Протоколите (настоящото решение ведно с протокол 1, 2 , 3 и т.н.)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римерен текст след диспозити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a:t>
            </a:r>
            <a:r>
              <a:rPr b="0" i="1" lang="bg-BG" sz="2000" spc="-1" strike="noStrike">
                <a:solidFill>
                  <a:srgbClr val="000000"/>
                </a:solidFill>
                <a:latin typeface="Times New Roman"/>
                <a:ea typeface="Times New Roman"/>
              </a:rPr>
              <a:t>След запознаване с протоколите от работата на комисията и изложените в тях мотиви, реших:</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Приемам изцяло работата на комисията по оценка, назначена със заповед....и възприемам направените от тях мотивирани заключения, от което следв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повторение на класирането)”</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468360" y="1557360"/>
            <a:ext cx="8229600" cy="4268880"/>
          </a:xfrm>
          <a:prstGeom prst="rect">
            <a:avLst/>
          </a:prstGeom>
          <a:noFill/>
          <a:ln w="0">
            <a:noFill/>
          </a:ln>
        </p:spPr>
        <p:txBody>
          <a:bodyPr lIns="90000" rIns="90000" tIns="46800" bIns="46800" anchor="t">
            <a:norm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Изпълнителния  Директор  на  АОП</a:t>
            </a:r>
            <a:endParaRPr b="0" lang="en-US" sz="2800" spc="-1" strike="noStrike">
              <a:solidFill>
                <a:srgbClr val="000000"/>
              </a:solidFill>
              <a:latin typeface="Calibri"/>
            </a:endParaRPr>
          </a:p>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ецизиране на правомощия </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ва становища на възложители</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жалва пред КЗК само по сигнал на ЕК;</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граничаване на предварителния контрол, упражняван по поръчки, финансирани от Европейски фондове  (чл.19, 20а)</a:t>
            </a:r>
            <a:endParaRPr b="0" lang="en-US" sz="2000" spc="-1" strike="noStrike">
              <a:solidFill>
                <a:srgbClr val="000000"/>
              </a:solidFill>
              <a:latin typeface="Calibri"/>
            </a:endParaRPr>
          </a:p>
          <a:p>
            <a:pPr lvl="2" marL="131436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 отношение на стойностни прагове;</a:t>
            </a:r>
            <a:endParaRPr b="0" lang="en-US" sz="2000" spc="-1" strike="noStrike">
              <a:solidFill>
                <a:srgbClr val="000000"/>
              </a:solidFill>
              <a:latin typeface="Calibri"/>
            </a:endParaRPr>
          </a:p>
          <a:p>
            <a:pPr lvl="2" marL="131436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 отношение на обхват;</a:t>
            </a:r>
            <a:endParaRPr b="0" lang="en-US" sz="2000" spc="-1" strike="noStrike">
              <a:solidFill>
                <a:srgbClr val="000000"/>
              </a:solidFill>
              <a:latin typeface="Calibri"/>
            </a:endParaRPr>
          </a:p>
          <a:p>
            <a:pPr lvl="2" marL="131436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тпада общото правомощие за обжалване пред КЗК по сигнал</a:t>
            </a:r>
            <a:endParaRPr b="0" lang="en-US" sz="20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24000" y="1485720"/>
            <a:ext cx="8640720" cy="4174920"/>
          </a:xfrm>
          <a:prstGeom prst="rect">
            <a:avLst/>
          </a:prstGeom>
          <a:noFill/>
          <a:ln w="0">
            <a:noFill/>
          </a:ln>
        </p:spPr>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пределянето на служители в екипи за управление и изпълнение на проекти, както и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читането на извършената работа от членовете на екипите по проекти се извършва при спазване на разпоредбите на </a:t>
            </a:r>
            <a:r>
              <a:rPr b="1" lang="ru-RU" sz="1600" spc="-1" strike="noStrike">
                <a:solidFill>
                  <a:srgbClr val="000000"/>
                </a:solidFill>
                <a:latin typeface="Times New Roman"/>
                <a:ea typeface="Times New Roman"/>
              </a:rPr>
              <a:t>ПМС 330 от 05.12.2011 г. за допълнение на ПМС 62 от 2007 г</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за приемане на национални правила за допустимост на разходите по Оперативните програми, съфинансирани от Структурните фондове и Кохезионния фонд на Европейския съюз, за финансовата рамка 2007-2013 г.</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Изисквания към служителите в екипите по управление и изпълнение на  проекти по ОПРР</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говорите на членовете на екипите за управление и изпълнение на проекти следва да бъдат изготвени на базата на </a:t>
            </a:r>
            <a:r>
              <a:rPr b="0" lang="ru-RU" sz="1600" spc="-1" strike="noStrike" u="sng">
                <a:solidFill>
                  <a:srgbClr val="000000"/>
                </a:solidFill>
                <a:uFillTx/>
                <a:latin typeface="Times New Roman"/>
                <a:ea typeface="Times New Roman"/>
              </a:rPr>
              <a:t>Заповед за сформиране на екипа на проекта</a:t>
            </a:r>
            <a:r>
              <a:rPr b="0" lang="ru-RU" sz="1600" spc="-1" strike="noStrike">
                <a:solidFill>
                  <a:srgbClr val="000000"/>
                </a:solidFill>
                <a:latin typeface="Times New Roman"/>
                <a:ea typeface="Times New Roman"/>
              </a:rPr>
              <a:t>, като заповедта следва да е </a:t>
            </a:r>
            <a:r>
              <a:rPr b="1" lang="ru-RU" sz="1600" spc="-1" strike="noStrike">
                <a:solidFill>
                  <a:srgbClr val="000000"/>
                </a:solidFill>
                <a:latin typeface="Times New Roman"/>
                <a:ea typeface="Times New Roman"/>
              </a:rPr>
              <a:t>поименна и подписана от представляващия организацията</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Съгласно чл. 5 ал.1 от ПМС 330/05.12.2011 г. при определяне състава на екипа се описват точно:</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задълженията на членовете, които трябва недвусмислено да произтичат от дейностите по проектното предложение;</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зискванията, на които трябва да отговарят членовете с оглед на функциите и задълженията, определени за  съответната позиция в екип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1341000"/>
            <a:ext cx="75438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ени от 01.07.2012</a:t>
            </a:r>
            <a:endParaRPr b="0" lang="en-US" sz="2800" spc="-1" strike="noStrike">
              <a:solidFill>
                <a:srgbClr val="000000"/>
              </a:solidFill>
              <a:latin typeface="Calibri"/>
            </a:endParaRPr>
          </a:p>
        </p:txBody>
      </p:sp>
      <p:sp>
        <p:nvSpPr>
          <p:cNvPr id="722" name=""/>
          <p:cNvSpPr txBox="1"/>
          <p:nvPr/>
        </p:nvSpPr>
        <p:spPr>
          <a:xfrm>
            <a:off x="324000" y="1988640"/>
            <a:ext cx="8424720" cy="3311640"/>
          </a:xfrm>
          <a:prstGeom prst="rect">
            <a:avLst/>
          </a:prstGeom>
          <a:noFill/>
          <a:ln w="0">
            <a:noFill/>
          </a:ln>
        </p:spPr>
        <p:txBody>
          <a:bodyPr lIns="90000" rIns="90000" tIns="46800" bIns="46800" anchor="t">
            <a:normAutofit fontScale="92000"/>
          </a:bodyPr>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ъс ЗАКОНА ЗА ИЗМЕНЕНИЕ И ДОПЪЛНЕНИЕ НА ЗАКОНА ЗА ДЪРЖАВНИЯ СЛУЖИТЕЛ (ДВ, БР. 67 ОТ 1999 Г.),в сила от 01.07.2012 г., обн. ДВ. бр.38 от 18 Май 201</a:t>
            </a:r>
            <a:endParaRPr b="0" lang="en-US" sz="2000" spc="-1" strike="noStrike">
              <a:solidFill>
                <a:srgbClr val="000000"/>
              </a:solidFill>
              <a:latin typeface="Calibri"/>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55. В Закона за обществените поръчки - в чл. 18 ал. 4 и 5 се отменят : те касаят допълнителното материално стимулиране на служителите в АОП, които имат право на допълнително материално стимулиране към основната заплата за работа в агенцията, както и индивидуалния му размер въз основа на вътрешни правила, одобрени от министъра на икономиката, енергетиката и туризма, свързани с общият размер на средствата за допълнително материално стимулиране</a:t>
            </a:r>
            <a:endParaRPr b="0" lang="en-US" sz="2000" spc="-1" strike="noStrike">
              <a:solidFill>
                <a:srgbClr val="000000"/>
              </a:solidFill>
              <a:latin typeface="Calibri"/>
            </a:endParaRPr>
          </a:p>
        </p:txBody>
      </p:sp>
      <p:sp>
        <p:nvSpPr>
          <p:cNvPr id="7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EEAC-1524-4075-9662-C5707F5CC8F6}" type="slidenum">
              <a:rPr b="0" lang="bg-BG"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428760" y="1267920"/>
            <a:ext cx="8572320" cy="42325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000000"/>
                </a:solidFill>
                <a:uFillTx/>
                <a:latin typeface="Times New Roman"/>
                <a:ea typeface="Times New Roman"/>
              </a:rPr>
              <a:t>Основни правила</a:t>
            </a:r>
            <a:endParaRPr b="0" lang="en-US" sz="2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ъстав на комисията – брой членов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мисията е колегиален орган – работи в пълен състав!</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u="sng">
                <a:solidFill>
                  <a:srgbClr val="000000"/>
                </a:solidFill>
                <a:uFillTx/>
                <a:latin typeface="Times New Roman"/>
                <a:ea typeface="Times New Roman"/>
              </a:rPr>
              <a:t>Може</a:t>
            </a:r>
            <a:r>
              <a:rPr b="0" lang="bg-BG" sz="2000" spc="-1" strike="noStrike">
                <a:solidFill>
                  <a:srgbClr val="000000"/>
                </a:solidFill>
                <a:latin typeface="Times New Roman"/>
                <a:ea typeface="Times New Roman"/>
              </a:rPr>
              <a:t> да се привлича външен експерт – правил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га се назначава комисията и какъв е срокът за нейната работа? (Вътрешни правил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ак се взимат решения от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457200" y="1196640"/>
            <a:ext cx="8229600" cy="4768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Контрол на Възложителя</a:t>
            </a:r>
            <a:endParaRPr b="0" lang="en-US" sz="28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ови текстов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га? - Преди Възложителят да издаде реш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акво се проверява? – Протоколи от работата на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установяване на нарушения:</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екратяване на процедурат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ръщане с писмени и </a:t>
            </a:r>
            <a:r>
              <a:rPr b="0" lang="bg-BG" sz="2000" spc="-1" strike="noStrike" u="sng">
                <a:solidFill>
                  <a:srgbClr val="000000"/>
                </a:solidFill>
                <a:uFillTx/>
                <a:latin typeface="Times New Roman"/>
                <a:ea typeface="Times New Roman"/>
              </a:rPr>
              <a:t>задължителни</a:t>
            </a:r>
            <a:r>
              <a:rPr b="0" lang="bg-BG" sz="2000" spc="-1" strike="noStrike">
                <a:solidFill>
                  <a:srgbClr val="000000"/>
                </a:solidFill>
                <a:latin typeface="Times New Roman"/>
                <a:ea typeface="Times New Roman"/>
              </a:rPr>
              <a:t> указания (Право на особено мнен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КРИТЕРИИ ЗА ОЦЕНК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акви могат да бъда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га комисията стига до тяхното прилаган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глеждане на варианти на оферт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лагане на методиката за оцен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468360" y="1247400"/>
            <a:ext cx="8229600" cy="419724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РАБОТА НА КОМИСИЯТА</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тваряне на офертите:</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лед предоставяне на списък с участниците и подадените оферти;</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ублично;</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дписи, отваряне на пликове - №3, №2, №1;</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отокол на комисията – наличие на документите в плик № 1;</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скане и представяне на информация – протокол, 5 работни дни, само каквото е поискано;</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и липса на документи – не се разглежда плик № 2;</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ово – при възникване на съмнения за споразумения, решения или съгласувани практики – уведомяване на Възложителя, Възложителя уведомява КЗК. Процедурата продължав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АБОТА НА КОМИСИЯТА (2)</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лед разглеждане на плик №1 и № 2;</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страняване на участници;</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вършване на оценка по всички критерии без “цена” (т.е. Оценка на офертата в плик № 2);</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ределяне на дата за отваряне на ценови оферти;</a:t>
            </a:r>
            <a:endParaRPr b="0" lang="en-US" sz="2000" spc="-1" strike="noStrike">
              <a:solidFill>
                <a:srgbClr val="000000"/>
              </a:solidFill>
              <a:latin typeface="Calibri"/>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ублично отваряне на ценовите оферти;</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й може да присъства – канят се участниците в процедурата;</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овестяване на цените;</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овестяване на резултатите от оценката на плик №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АБОТА НА КОМИСИЯТА (3)</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ово</a:t>
            </a:r>
            <a:r>
              <a:rPr b="0" lang="bg-BG" sz="2000" spc="-1" strike="noStrike">
                <a:solidFill>
                  <a:srgbClr val="000000"/>
                </a:solidFill>
                <a:latin typeface="Times New Roman"/>
                <a:ea typeface="Times New Roman"/>
              </a:rPr>
              <a:t> – при отклонение с повече от 20% на предложение на кандидата, което има количествен израз – искане на обосновка (задължително);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лика от предишните две решения в закон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основката трябва мотивирано да се приеме или отхвърли от комисия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мисията решава по целесъобразност, но задължително излага мотив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Липсата на мотиви е нарушение – може да доведе до отмяна на последващото Решение на Възложителя (практика на КЗК);</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456840" y="1268280"/>
            <a:ext cx="8115480" cy="414360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ЦЕНЯВАНЕ НА ОФЕРТ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лагане на Методиката за оценка и оферти на кандидати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731" name=""/>
          <p:cNvGraphicFramePr/>
          <p:nvPr/>
        </p:nvGraphicFramePr>
        <p:xfrm>
          <a:off x="852480" y="2100240"/>
          <a:ext cx="6527880" cy="3200400"/>
        </p:xfrm>
        <a:graphic>
          <a:graphicData uri="http://schemas.openxmlformats.org/drawingml/2006/table">
            <a:tbl>
              <a:tblPr/>
              <a:tblGrid>
                <a:gridCol w="2376360"/>
                <a:gridCol w="1511280"/>
                <a:gridCol w="1297080"/>
                <a:gridCol w="1343160"/>
              </a:tblGrid>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imes New Roman"/>
                          <a:ea typeface="Times New Roman"/>
                        </a:rPr>
                        <a:t>Показател</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imes New Roman"/>
                          <a:ea typeface="Times New Roman"/>
                        </a:rPr>
                        <a:t>Кандидат 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imes New Roman"/>
                          <a:ea typeface="Times New Roman"/>
                        </a:rPr>
                        <a:t>Кандидат 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imes New Roman"/>
                          <a:ea typeface="Times New Roman"/>
                        </a:rPr>
                        <a:t>Кандидат 3</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гар. Обслужван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2 месе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8 месец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6 месец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реакция при повред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дни</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0.5 дни</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ден</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цент извънредни разходи</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изпълне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6 месец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5 месец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60 дни</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663480" y="1108080"/>
            <a:ext cx="8229600" cy="469728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ПРИКЛЮЧВАНЕ РАБОТАТА НА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Класиране в резултат на направената оценка – протокол от работата на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Всички членове на комисията задължително подписват протокол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Протоколът следва да бъде приет от Възложителя (виж правото му на контрол на работата на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Times New Roman"/>
                <a:ea typeface="Times New Roman"/>
              </a:rPr>
              <a:t>ПРИ РАВЕН РЕЗУЛТА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ниската цен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казателят с най-голяма тежес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Жребий;</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285840" y="1197000"/>
            <a:ext cx="8400960" cy="462600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ДРУГИ КАЗУС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фериране в различни мерни единици, по различни стандарти и др.</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рху плика липсват – фирма на участника, адрес за кореспонденция, телефон...</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Ценова оферта – офериране по артикули, които са много на брой – кандидат не оферира всички артикул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ясна методика – хипотези, при които се присъждат 10/5/1 точки – налагат комисията да обоснове оценката си по всеки показател и за всеки кандида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Методиката има показатели – Комисията въвежда подпоказатели с различна тежест – Недопустимо!</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ът на валидност на офертата е изтекъл, а Комисията още работ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324000" y="1523880"/>
            <a:ext cx="8640720" cy="464184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ъководителят на инфраструктурен проект</a:t>
            </a:r>
            <a:r>
              <a:rPr b="0" lang="ru-RU" sz="2000" spc="-1" strike="noStrike">
                <a:solidFill>
                  <a:srgbClr val="000000"/>
                </a:solidFill>
                <a:latin typeface="Times New Roman"/>
                <a:ea typeface="Times New Roman"/>
              </a:rPr>
              <a:t>, финансиран по Оперативна програма „Регионално развитие” трябва да отговаря на следните изисквания: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има висше образование с образователно-квалификационна степен бакалавър или магистър 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е по-малко от 3 години професионален опит в управлението и/или изпълнението, координацията, контрола и администрирането на инфраструктурни проекти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ли</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има средно специално образование и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й-малко 5 години професионален опит в управлението и/или изпълнението, координацията, контрола и администрирането на инфраструктурни проект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23640" y="1414080"/>
            <a:ext cx="8445240" cy="453564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000000"/>
                </a:solidFill>
                <a:latin typeface="Times New Roman"/>
                <a:ea typeface="Times New Roman"/>
              </a:rPr>
              <a:t>Практика на КЗК и ВАС  при обжалване на процедури по ЗОП</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идове нарушен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u="sng">
                <a:solidFill>
                  <a:srgbClr val="000000"/>
                </a:solidFill>
                <a:uFillTx/>
                <a:latin typeface="Times New Roman"/>
                <a:ea typeface="Times New Roman"/>
              </a:rPr>
              <a:t>Съществено нарушение </a:t>
            </a:r>
            <a:r>
              <a:rPr b="0" lang="bg-BG" sz="1800" spc="-1" strike="noStrike">
                <a:solidFill>
                  <a:srgbClr val="000000"/>
                </a:solidFill>
                <a:latin typeface="Times New Roman"/>
                <a:ea typeface="Times New Roman"/>
              </a:rPr>
              <a:t>Съществено нарушение има само тогава, когато то е повлияло или е могло да повлияе върху съдържанието на индивидуалия административен акт и волята на административния орган.</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актика на ВАС Решение № 827/2005, Решение № 9756/2002, Решение № 692/2004г., Решение № 6784/2005 г. и др.</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Несъществено нарушение</a:t>
            </a:r>
            <a:r>
              <a:rPr b="1" lang="en-US" sz="1800" spc="-1" strike="noStrike" u="sng">
                <a:solidFill>
                  <a:srgbClr val="000000"/>
                </a:solidFill>
                <a:uFillTx/>
                <a:latin typeface="Times New Roman"/>
                <a:ea typeface="Times New Roman"/>
              </a:rPr>
              <a:t>- </a:t>
            </a:r>
            <a:r>
              <a:rPr b="0" lang="ru-RU" sz="1800" spc="-1" strike="noStrike">
                <a:solidFill>
                  <a:srgbClr val="000000"/>
                </a:solidFill>
                <a:latin typeface="Times New Roman"/>
                <a:ea typeface="Times New Roman"/>
              </a:rPr>
              <a:t>Съгласно практиката на КЗК за несъществено се счита нарушение, което е допуснато при оценяване на участниците или кандидатите и то по никакъв начин не би се отразило на резултатите от класирането.</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шение 33/2007 г.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 това Решение КЗК приема, че независимо от неизпълнението на фактическия състав на чл. 59, ал. 2 от АПК то допуснатото нарушение е несъществено и не следва да се отменя акта на възложител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457200" y="1600200"/>
            <a:ext cx="8229600" cy="37735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Съществени нарушения съгласно практиката на КЗК</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Чл. 25, ал. 5 и ал.6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ъзложителите нямат право да включват в решението, обявлението или документацията условия или изисквания, които дават предимство или необосновано ограничават участието на лица в обществените поръчки.</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итериите за подбор по ал. 2, т. 6 и документите, които се изискват за изпълнението им, трябва да са съобразени и да съответстват на стойността, сложността и обема на обществената поръчка. </a:t>
            </a:r>
            <a:r>
              <a:rPr b="0" lang="bg-BG"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23640" y="1557360"/>
            <a:ext cx="8569080" cy="4392720"/>
          </a:xfrm>
          <a:prstGeom prst="rect">
            <a:avLst/>
          </a:prstGeom>
          <a:noFill/>
          <a:ln w="0">
            <a:noFill/>
          </a:ln>
        </p:spPr>
        <p:txBody>
          <a:bodyPr lIns="90000" rIns="90000" tIns="46800" bIns="46800" anchor="t">
            <a:no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гато избраният критерий е икономически най-изгодна оферта, възложителите нямат право да включват критерии за подбор като показатели за оценка на офертите.</a:t>
            </a:r>
            <a:br>
              <a:rPr sz="1800"/>
            </a:br>
            <a:r>
              <a:rPr b="0" lang="ru-RU" sz="1800" spc="-1" strike="noStrike">
                <a:solidFill>
                  <a:srgbClr val="000000"/>
                </a:solidFill>
                <a:latin typeface="Times New Roman"/>
                <a:ea typeface="Times New Roman"/>
              </a:rPr>
              <a:t> Притежаването на сертификат за качество, съответствие, изискване на определен оборот, което в последствие се оценява, брои изпълнени договори и т.н.</a:t>
            </a:r>
            <a:br>
              <a:rPr sz="1800"/>
            </a:br>
            <a:r>
              <a:rPr b="0" lang="ru-RU" sz="1800" spc="-1" strike="noStrike">
                <a:solidFill>
                  <a:srgbClr val="000000"/>
                </a:solidFill>
                <a:latin typeface="Times New Roman"/>
                <a:ea typeface="Times New Roman"/>
              </a:rPr>
              <a:t>ВАС е приел, че Решението на КЗК е незаконосъобразно, при допуснати нарушения на материалния закон и на административно производствените правила, тъй като така уредена процедурата от възложителя в документацията не е спазена от помощния му орган. Съда е констатирал, че съставената таблица с оценките на всеки участник съдържаща подписите на членовете на комисията, но не може да замести таблицата във вида предвидена в документацията на участие. Създава се съмнение в работата на помощния орган за нарушение на правилата за прозрачност и равнопоставеност в процедурата което нарушение не може да бъде поправено с изложените мотиви в протоколите за работата на помощния орган. </a:t>
            </a:r>
            <a:br>
              <a:rPr sz="1800"/>
            </a:br>
            <a:r>
              <a:rPr b="0" lang="ru-RU" sz="1800" spc="-1" strike="noStrike">
                <a:solidFill>
                  <a:srgbClr val="000000"/>
                </a:solidFill>
                <a:latin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395280" y="1395360"/>
            <a:ext cx="8229600" cy="4626000"/>
          </a:xfrm>
          <a:prstGeom prst="rect">
            <a:avLst/>
          </a:prstGeom>
          <a:noFill/>
          <a:ln w="0">
            <a:noFill/>
          </a:ln>
        </p:spPr>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ешение 1062 от 30.08.2010 г</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л.25, ал.2 т.10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тановената незаконосъобразност на методиката за определяне на комплексната оценка не дава възможност процедурата за възлагане на обществената поръчка да бъде продължена на етап утвърждаване на нова методика, така както е посочено в диспозитива на Решение № 5646/21.04.2011 г. на ВАС, тъй като методиката е част от документацията, а тя се утвърждава с решението за откриване на процедурата.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ешение № 878 от 22.07.2010 г</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 изложеното жалбоподателят прави извода, че цената на документацията е по груби сметки около 20 пъти по-висока от действителните разходи за нейното копиране, което противоречи на разпоредбата на чл. 28, ал. 4 от ЗОП.</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108000" y="1483920"/>
            <a:ext cx="8445600" cy="4840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лице са множество съществени нарушения на установените с императивни норми процедурни правила за работата на комисията за разглеждане, оценяване и класиране на офертите на участниците в процедур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лучая комисията за провеждане на процедурата не е спазила текстовете на </a:t>
            </a:r>
            <a:r>
              <a:rPr b="0" lang="ru-RU" sz="2000" spc="-1" strike="noStrike" u="sng">
                <a:solidFill>
                  <a:srgbClr val="0000ff"/>
                </a:solidFill>
                <a:uFillTx/>
                <a:latin typeface="Times New Roman"/>
                <a:ea typeface="Times New Roman"/>
                <a:hlinkClick r:id="rId1"/>
              </a:rPr>
              <a:t>чл. 68, ал. 7, ал. 8 и ал. 10 от ЗОП</a:t>
            </a:r>
            <a:r>
              <a:rPr b="0" lang="ru-RU" sz="2000" spc="-1" strike="noStrike">
                <a:solidFill>
                  <a:srgbClr val="000000"/>
                </a:solidFill>
                <a:latin typeface="Times New Roman"/>
                <a:ea typeface="Times New Roman"/>
              </a:rPr>
              <a:t>,  допуснала е, класирала и предложила за изпълнител участник, който не е представил доказателства за изпълнение на минималните изисквания, посочени от възложителя. Възложителят от своя страна в решението си е възприел изцяло констатациите на комисията и се е позовал на протоколите от нейната работа, с което е допуснал нарушение на </a:t>
            </a:r>
            <a:r>
              <a:rPr b="0" lang="ru-RU" sz="2000" spc="-1" strike="noStrike" u="sng">
                <a:solidFill>
                  <a:srgbClr val="0000ff"/>
                </a:solidFill>
                <a:uFillTx/>
                <a:latin typeface="Times New Roman"/>
                <a:ea typeface="Times New Roman"/>
                <a:hlinkClick r:id="rId2"/>
              </a:rPr>
              <a:t>чл. 68, ал. 7, ал. 8 и ал. 10 от ЗОП</a:t>
            </a:r>
            <a:r>
              <a:rPr b="0" lang="ru-RU" sz="2000" spc="-1" strike="noStrike">
                <a:solidFill>
                  <a:srgbClr val="000000"/>
                </a:solidFill>
                <a:latin typeface="Times New Roman"/>
                <a:ea typeface="Times New Roman"/>
              </a:rPr>
              <a:t>, което се явява съществено и представлява самостоятелно основание за отмяна на обжалваното реш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457200" y="1600200"/>
            <a:ext cx="8229600" cy="355752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протокола не се и съдържат конкретни изложения по отношение мнението на отделните членове на комисията, как се е стигнало до формирането на оценките по всеки показател, а е посочено, че комплексната оценка е резултатна величина от сбора на оценките по показателите.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рушение от такъв характер следва да бъде прието за съществено и водещо до незаконосъобразност на решението на възложителя в обжалваната ча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250920" y="1412640"/>
            <a:ext cx="8229600" cy="465300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идно от Заповед № * за назначаване на комисия за провеждане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роцедурата, за неин член е назначен г-н (*), посочен в Заповедта като „главен експерт”, но без отбелязване на точната му месторабота.</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Жалбоподателят твърди, че главният експерт е в трудовоправни отношения с * (НИНКН), който е част от административната структура на (МК), което е едноличен собственик на капитала на участника „*” *. Видно е, че работодателят на г-н (*)и лицето, което контролира участника „*” са едно и също лице. Следователно г-н (*) се намира в икономическа зависимост от участник в процедурата, т.е. той е в състояние на конфликт на интереси по смисъла на чл. 35, ал. 1, т. 2 от ЗОП с този участник в процедурата и не може да взима участие в дейността на комисията за преглед и оценка на офертите, без да наруши по този начин законосъобразността на дейността 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684000" y="1413000"/>
            <a:ext cx="7931160" cy="4248000"/>
          </a:xfrm>
          <a:prstGeom prst="rect">
            <a:avLst/>
          </a:prstGeom>
          <a:noFill/>
          <a:ln w="0">
            <a:noFill/>
          </a:ln>
        </p:spPr>
        <p:txBody>
          <a:bodyPr lIns="90000" rIns="90000" tIns="46800" bIns="46800" anchor="t">
            <a:norm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u="sng">
                <a:solidFill>
                  <a:srgbClr val="000000"/>
                </a:solidFill>
                <a:uFillTx/>
                <a:latin typeface="Times New Roman"/>
                <a:ea typeface="Times New Roman"/>
              </a:rPr>
              <a:t>УКАЗАНИЯ ЗА ПРОЦЕДУРА ЗА</a:t>
            </a:r>
            <a:endParaRPr b="0" lang="en-US" sz="2200" spc="-1" strike="noStrike">
              <a:solidFill>
                <a:srgbClr val="000000"/>
              </a:solidFill>
              <a:latin typeface="Calibri"/>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u="sng">
                <a:solidFill>
                  <a:srgbClr val="000000"/>
                </a:solidFill>
                <a:uFillTx/>
                <a:latin typeface="Times New Roman"/>
                <a:ea typeface="Times New Roman"/>
              </a:rPr>
              <a:t>ИЗПЪЛНЕНИЕ НА ПРОВЕРКИ НА МЯСТО</a:t>
            </a:r>
            <a:endParaRPr b="0" lang="en-US" sz="22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верки на място се извършват за всички проекти по сключените договори за предоставяне на безвъзмездна финансова помощ</a:t>
            </a:r>
            <a:r>
              <a:rPr b="1" lang="bg-BG" sz="2000" spc="-1" strike="noStrike">
                <a:solidFill>
                  <a:srgbClr val="000000"/>
                </a:solidFill>
                <a:latin typeface="Times New Roman"/>
                <a:ea typeface="Times New Roman"/>
              </a:rPr>
              <a:t>. За всички проекти с по-висока степен на риск се осъществява засилен контрол.</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верките на място се разделят на следните основни груп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ланови проверки на мяст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Внезапни проверк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оверки след приключване на проектит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250560" y="1196640"/>
            <a:ext cx="8893080" cy="4537080"/>
          </a:xfrm>
          <a:prstGeom prst="rect">
            <a:avLst/>
          </a:prstGeom>
          <a:noFill/>
          <a:ln w="0">
            <a:noFill/>
          </a:ln>
        </p:spPr>
        <p:txBody>
          <a:bodyPr lIns="90000" rIns="90000" tIns="46800" bIns="46800" anchor="t">
            <a:normAutofit fontScale="99000"/>
          </a:bodyPr>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u="sng">
                <a:solidFill>
                  <a:srgbClr val="000000"/>
                </a:solidFill>
                <a:uFillTx/>
                <a:latin typeface="Times New Roman"/>
                <a:ea typeface="Times New Roman"/>
              </a:rPr>
              <a:t>При сключване на договор с изпълнител</a:t>
            </a:r>
            <a:endParaRPr b="0" lang="en-US" sz="1400" spc="-1" strike="noStrike">
              <a:solidFill>
                <a:srgbClr val="000000"/>
              </a:solidFill>
              <a:latin typeface="Calibri"/>
            </a:endParaRPr>
          </a:p>
          <a:p>
            <a:pPr marL="339480" indent="-3394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Бенефициентът е длъжен да ползва следната сигнатура на възложените от него договори за строителство/доставки/услуги на изпълнители – (номер на договора за предоставяне на безвъзмездна финансова помощ) - (сигнатура за вида на договора за изпълнение) – </a:t>
            </a:r>
            <a:r>
              <a:rPr b="0" i="1" lang="bg-BG" sz="1400" spc="-1" strike="noStrike">
                <a:solidFill>
                  <a:srgbClr val="000000"/>
                </a:solidFill>
                <a:latin typeface="Times New Roman"/>
                <a:ea typeface="Times New Roman"/>
              </a:rPr>
              <a:t>D (доставки), U (услуги), S (строителство)</a:t>
            </a:r>
            <a:r>
              <a:rPr b="0" lang="bg-BG" sz="1400" spc="-1" strike="noStrike">
                <a:solidFill>
                  <a:srgbClr val="000000"/>
                </a:solidFill>
                <a:latin typeface="Times New Roman"/>
                <a:ea typeface="Times New Roman"/>
              </a:rPr>
              <a:t> – пореден номер на сключения договор с изпълнител в рамките на договора за безвъзмездна помощ</a:t>
            </a:r>
            <a:endParaRPr b="0" lang="en-US" sz="1400" spc="-1" strike="noStrike">
              <a:solidFill>
                <a:srgbClr val="000000"/>
              </a:solidFill>
              <a:latin typeface="Calibri"/>
            </a:endParaRPr>
          </a:p>
          <a:p>
            <a:pPr marL="339480" indent="-3394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Бенефициентът е длъжен да предвиди в договорите за възлагане на обществени поръчки следните задължения към изпълнителя:</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спазва изискванията за изпълнение на мерките за информация и публичност, определени в договора за безвъзмездна помощ</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осигурява достъп за извършване на проверки на място и одити</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изпълнява мерките и препоръките, съдържащи се в докладите от проверки на място</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докладва за възникнали нередности</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за възстановяване на суми по нередности, заедно с дължимата лихва и други неправомерно получени средства</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информира Бенефициента-Възложител за възникнали проблеми при изпълнението на проекта и за предприетите мерки за тяхното разрешаване</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спазва изискванията за съхранение на документацията за проекта, определени в договора за безвъзмездна помощ</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539640" y="2133720"/>
            <a:ext cx="7777440" cy="2984400"/>
          </a:xfrm>
          <a:prstGeom prst="rect">
            <a:avLst/>
          </a:prstGeom>
          <a:noFill/>
          <a:ln w="0">
            <a:noFill/>
          </a:ln>
        </p:spPr>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БЛАГОДАРЯ</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ЗА</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ВНИМАНИЕТО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456840" y="1600200"/>
            <a:ext cx="785988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Членовете на екипи </a:t>
            </a:r>
            <a:r>
              <a:rPr b="0" lang="ru-RU" sz="2400" spc="-1" strike="noStrike">
                <a:solidFill>
                  <a:srgbClr val="000000"/>
                </a:solidFill>
                <a:latin typeface="Times New Roman"/>
                <a:ea typeface="Times New Roman"/>
              </a:rPr>
              <a:t>за управление на инфраструктурни проекти, финансирани по Оперативна програма „Регионално развитие” </a:t>
            </a:r>
            <a:r>
              <a:rPr b="0" lang="ru-RU" sz="2400" spc="-1" strike="noStrike" u="sng">
                <a:solidFill>
                  <a:srgbClr val="000000"/>
                </a:solidFill>
                <a:uFillTx/>
                <a:latin typeface="Times New Roman"/>
                <a:ea typeface="Times New Roman"/>
              </a:rPr>
              <a:t>трябва </a:t>
            </a:r>
            <a:r>
              <a:rPr b="0" lang="ru-RU" sz="2400" spc="-1" strike="noStrike">
                <a:solidFill>
                  <a:srgbClr val="000000"/>
                </a:solidFill>
                <a:latin typeface="Times New Roman"/>
                <a:ea typeface="Times New Roman"/>
              </a:rPr>
              <a:t>да имат:</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й-малко 3 години професионален опит в областта на съответната позиция в екипа за управлен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9520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Н</a:t>
            </a:r>
            <a:r>
              <a:rPr b="1" lang="ru-RU" sz="3200" spc="-1" strike="noStrike">
                <a:solidFill>
                  <a:srgbClr val="000000"/>
                </a:solidFill>
                <a:latin typeface="Times New Roman"/>
                <a:ea typeface="Times New Roman"/>
              </a:rPr>
              <a:t>аемането на лица за управление</a:t>
            </a:r>
            <a:br>
              <a:rPr sz="3200"/>
            </a:br>
            <a:r>
              <a:rPr b="1" lang="ru-RU" sz="3200" spc="-1" strike="noStrike">
                <a:solidFill>
                  <a:srgbClr val="000000"/>
                </a:solidFill>
                <a:latin typeface="Times New Roman"/>
                <a:ea typeface="Times New Roman"/>
              </a:rPr>
              <a:t>и изпълнение на проекти </a:t>
            </a:r>
            <a:endParaRPr b="0" lang="en-US" sz="3200" spc="-1" strike="noStrike">
              <a:solidFill>
                <a:srgbClr val="000000"/>
              </a:solidFill>
              <a:latin typeface="Calibri"/>
            </a:endParaRPr>
          </a:p>
        </p:txBody>
      </p:sp>
      <p:sp>
        <p:nvSpPr>
          <p:cNvPr id="657" name=""/>
          <p:cNvSpPr txBox="1"/>
          <p:nvPr/>
        </p:nvSpPr>
        <p:spPr>
          <a:xfrm>
            <a:off x="250560" y="2316240"/>
            <a:ext cx="8569080" cy="39924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 регламентира, планира в бюджета на проекта и отчита в хода на изпълнение на проектит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ъзлагането на задължения и/или дейности по проекти по ОПРР на служителите в администрацията се извършва със:</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Заповед на органа по назначаване – за държавните служители, или с допълнително споразумение към трудов договор – за служители по трудово правоотношение. </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Сключване на договор за услуга по смисъла на ЗЗД</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Сключване на трудов договор с лице, което се назначава единствено и специално за целите на управление на конкретен проек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Militsa</cp:lastModifiedBy>
  <cp:lastPrinted>2013-01-08T14:34:00Z</cp:lastPrinted>
  <dcterms:modified xsi:type="dcterms:W3CDTF">2013-01-08T14:46:47Z</dcterms:modified>
  <cp:revision>55</cp:revision>
  <dc:subject/>
  <dc:title>Слайд 1</dc:title>
</cp:coreProperties>
</file>