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7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5" name="PlaceHolder 2"/>
          <p:cNvSpPr>
            <a:spLocks noGrp="1"/>
          </p:cNvSpPr>
          <p:nvPr>
            <p:ph type="dt" idx="3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2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8" name="PlaceHolder 5"/>
          <p:cNvSpPr>
            <a:spLocks noGrp="1"/>
          </p:cNvSpPr>
          <p:nvPr>
            <p:ph type="ftr" idx="35"/>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9" name="PlaceHolder 6"/>
          <p:cNvSpPr>
            <a:spLocks noGrp="1"/>
          </p:cNvSpPr>
          <p:nvPr>
            <p:ph type="sldNum" idx="3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4156-0477-49FF-9EDC-362AC8836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17640" y="744480"/>
            <a:ext cx="4962600" cy="3722760"/>
          </a:xfrm>
          <a:prstGeom prst="rect">
            <a:avLst/>
          </a:prstGeom>
          <a:ln w="0">
            <a:noFill/>
          </a:ln>
        </p:spPr>
      </p:sp>
      <p:sp>
        <p:nvSpPr>
          <p:cNvPr id="74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Calibri"/>
              </a:rPr>
              <a:t>Бенефициентът следва да уведоми писмено УО чрез съответния РО относно необходимостта от извършване на промяна в количествата на отделни видове СМР преди тяхното извършване. При искане за възстановяване на средства за тези промени, бенефициентът задължително представя копие </a:t>
            </a:r>
            <a:r>
              <a:rPr b="0" lang="bg-BG" sz="1200" spc="-1" strike="noStrike">
                <a:solidFill>
                  <a:srgbClr val="000000"/>
                </a:solidFill>
                <a:latin typeface="Calibri"/>
              </a:rPr>
              <a:t>на подкрепящи исканите промени документи – заменителна таблица, констативни протоколи, становища на компетентни органи, заповедна книга, актове за приемане на СМР, анализи на единичните цени на СМР и др. Заменителната таблица се представя и на електронен носите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Calibri"/>
              </a:rPr>
              <a:t>За възстановяване на разходи за СМР Бенефициентите следва да ползват публикувания унифициран образец на Протокол за приемане на извършени СМР (бивш образец акт 19) – подава се на електронен носител във формат “xls.” (MS Office Excel, а не в “pdf.”), както и на хартиен такъв. При съставяне на протоколите трябва ясно да се разграничат приетите СМР по вида разход – безвъзмездна финансова помощ, задължителен собствен принос, допълнителен собствен принос и/или непредвидени разходи. Към искането за плащане се представят всички съставени Протоколи за приемане на извършени СМР на електронен носител, включително представените към предходните искания за плаща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9721-800A-4D54-92E4-8B506159E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17640" y="744480"/>
            <a:ext cx="4962600" cy="3722760"/>
          </a:xfrm>
          <a:prstGeom prst="rect">
            <a:avLst/>
          </a:prstGeom>
          <a:ln w="0">
            <a:noFill/>
          </a:ln>
        </p:spPr>
      </p:sp>
      <p:sp>
        <p:nvSpPr>
          <p:cNvPr id="74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нефициентът следва да има предви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ерифициране на искане за междинно плащане УО проверява изпълнението на следните усло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След поисканата промяна общата стойност на КСС към договора за строителство не се увелича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Промяната в количеството на всяка конкретна позиция в КСС не може да надвишава с повече от 15% първоначално определеното количество както в посока увеличаване, така и в посока намаляване на количество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Не са налице отпаднали или нови позиции в КСС към договора за строител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ерифициране на искане за окончателно плащане УО проверява изпълнението на следните усло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След поисканата/ите промяна/и общата стойност на КСС към договора за строителство не се увелича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Промяната/те в количеството на всяка конкретна позиция в КСС не могат да надвишава с повече от 15% първоначално определеното количество както в посока увеличаване, така и в посока намаляване на количество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Не са налице отпаднали или нови позиции в КСС към договора за строител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4E49-6764-44D6-B8AB-1883B9241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17640" y="744480"/>
            <a:ext cx="4962600" cy="3722760"/>
          </a:xfrm>
          <a:prstGeom prst="rect">
            <a:avLst/>
          </a:prstGeom>
          <a:ln w="0">
            <a:noFill/>
          </a:ln>
        </p:spPr>
      </p:sp>
      <p:sp>
        <p:nvSpPr>
          <p:cNvPr id="75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ите, при които в договора с изпълнителя на СМР има включена клауза, касаеща третирането на непредвидени разходи (в размер до 10% от стойността на КСС по договора с изпълнителя), тези разходи се отчитат на окончателно плащане. С цел верифициране на непредвидените разходи бенефициентът следва да представи отделен протокол за приемането им, придружен от необходимите документи, обосноваващи изпълнението им. Следва да се има предвид, че ще бъдат верифицирани само разходи, които попадат в следната хипоте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Непредвидени разходи за строителни и монтажни работи са разходите, свързани с увеличаване на заложени количества строителни и монтажни работи и/или добавяне на нови количества или видове строителни и монтажни работи, които към момента на разработване и одобряване на технически или работен инвестиционен проект обективно не са могли да бъдат предвидени, но при изпълнение на дейностите са обективно необходими за въвеждане на обекта в експлоатация. Разходите, които биха могли да бъдат верифицирани като непредвидени, следва да отговарят на условията за допустимост на разходите по схемата, в рамките на която е сключен договоръ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реразпределение на средствата между бюджетни пера в рамките на един бюджетен раздел – преразпределение в рамките на разходи за СМР или в рамките на разходи за строителен надзор или в рамките на разходи за авторски надзор между обекти на интервенция, към Искането за промяна, изискваща одобрение от страна на УО, се представя Образец на искане за промяна на бюджета, както и копие на бюджета по договора с УО и нов бюджет, включително и на електронен носител, съгласно настъпилите промени. Следва да се приложат и КСС по договор с УО и нови КСС (в случай на преразпределение на разходи за СМР), съгласно настъпилите промени, в това число и на електронен носите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77915-AC42-49B2-B78C-860C4AB22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917640" y="744480"/>
            <a:ext cx="4962600" cy="3722760"/>
          </a:xfrm>
          <a:prstGeom prst="rect">
            <a:avLst/>
          </a:prstGeom>
          <a:ln w="0">
            <a:noFill/>
          </a:ln>
        </p:spPr>
      </p:sp>
      <p:sp>
        <p:nvSpPr>
          <p:cNvPr id="75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Изменение на договор, изискващ подписване на допълнително споразумение (анекс)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кането за изменение на договора чрез анекс се изготвя от бенефициента съгласно приложения образец. Искането се представя официално от бенефициента (включително от конкретен бенефициент-община) до Ръководителя на УО чрез съответния регионален отдел на ГД „ПР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нефициент изготвя в 2 оригинални екземпляра анекса, който следва да влезне в сила в съответствие с Искането за изменение, като не попълва „дата на сключване”, „дата на влизане в сила” „регистрационен номер на договора от ИСУН” и „регистрационен номер на анекса от ИСУН”, подписва го на всяка страница и го подпечатва. В случай че се изисква, бенефициентът изготвя в 2 оригинални екземпляра всички необходими приложения към анекса, подписва ги на всяка страница и ги подпечатва. Бенефициентът прилага двата оригинални екземпляра на анекс и съответните приложения към Искането за измен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й на конкретен бенефициент-държавна администрация и конкретен бенефициент по проект за интегриран градски транспорт, Искането за изменение на договора, придружено от подкрепящи документи, се подава в 1 екземпляр в отдел „Мониторинг” на ГД „ПР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ромяна на срока за изпълнение на договора към Искането се представя и обяснителна записка, посочваща настъпилите промени и причините, довели до тях, както и копие от план-график за изпълнение на дейностите по договора с УО и нов план график. Към Искането следва да се представи нова банкова гаранция /запис на заповед, придружена с ново Решение на Общинския съвет с новия срок, който да покрива периода до два месеца след приключване на новата продължителност на проек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ромяна в правния статут на бенефициента/партньора към Искането се прилагат и копия на административни актове/закони/ правилници/ съдебни решения и други, доказващи извършената законодателна промя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яна в договорените дейности по проекта, която води до въвеждане на нови дейности/нови бюджетни пера/ нови видове и/или количества СМР/нови видове и/или количества в ТС. Освен в случаите на непреодолима сила, въвеждането на нови дейности е недопустимо за финансиране от безвъзмездна финансова помощ и следва да се отрази като собствен принос на бенефициента по бюджета на проекта. При промяна в договорените дейности по проекта към Искането се прилага и обяснителна записка, посочваща необходимостта от изисканата промяна и други подкрепящи исканото изменение документи - технически/работни проекти, становища на компетентни органи, констативни протоколи и др. При условие, че въвеждането на нови дейности/нови бюджетни пера/нови видове и/или количества СМР/нови видове и/или количества в ТС има финансово изражение, към документацията следва да се приложат копие на бюджета, КСС, ТС по договор, както и нов бюджет, КСС, ТС, в това число и на електронен носител. В допълнение към Искането се прилага и план-график на изпълнение на дейностите по договора с УО и нов план график съгласно предлаганите промени. При условие, че въвеждането има финансово изражение и се увеличава собственият принос на бенефициента, следва да се представи Решение на Общинския съвет за увеличената сума. Новият бюджет, КСС, ТС се прилагат и към анек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амаляване на размера на предоставената безвъзмездна финансова помощ по договора в резултат на констатирано от страна на ДО двойно финансиране на дейности/обекти на интервенция или част от дейности по проекта, към Искането се прилага и обяснителна записка, посочваща необходимостта от изисканата промяна, и други подкрепящи исканото изменение документи – копие на бюджета, КСС, ТС по договор, както и нов бюджет, КСС и ТС, сравнителни КСС/ТС таблици, посочващи предлаганите промени, разработени в образеца, публикуван към пакета документи по схемата за предоставяне на безвъзмездна финансова помощ, в това число и на електронен носител.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амаляване на размера на безвъзмездната финансова помощ по договора с повече от 15 %, но не по-малко от 500 000 лв. в резултат на проведени от бенефициента процедури за възлагане на обществени поръчки към Искането се прилага и обяснителна записка, посочваща необходимостта от исканата промяна, и други подкрепящи исканото изменение документи – договор с изпълнител, копие на бюджет и КСС по договор, както и нов бюджет и КСС, включително на електронен носител.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 извършва преглед на подкрепящите документи. При констатиране на липса на документи и/или некоректно попълнени документи, РО извършва писмена кореспонденция с бенефициента, в която указва липсващите документи и сроковете за представянето им. Бенефициентът е длъжен да предостави допълнителните документи в срок до 5 работни дни или да предостави обосновка за необходимостта от удължаване на този ср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писаният Анекс е неразделна част от Договора за безвъзмездна финансова помощ.</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ички референции в анекса към членове и/или приложения от договора, които се модифицират, трябва да съответстват на тези от първоначалния договор. Всеки анекс, модифициращ бюджета трябва да включва и нов бюджет, и/или нова КСС и/или ТС, ако е приложимо. Нов план-график се прилага към изготвения анекс само в случай на въвеждане на нови дей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85D0-56CF-43B6-B6A4-D105A14D6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917640" y="744480"/>
            <a:ext cx="4962600" cy="3722760"/>
          </a:xfrm>
          <a:prstGeom prst="rect">
            <a:avLst/>
          </a:prstGeom>
          <a:ln w="0">
            <a:noFill/>
          </a:ln>
        </p:spPr>
      </p:sp>
      <p:sp>
        <p:nvSpPr>
          <p:cNvPr id="75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й, че в писмото за временно спиране до бенефициента не е определена крайната дата на периода на спирането, поради невъзможност за първоначално определяне на такава, в срок до 5 календарни дни от настъпване на обстоятелствата, които обуславят възобновяване на изпълнението на дейностите/договора бенефициентът изпраща на съответния Регионален отдел писмо, съдържащо информация относно горепосочените обстоятелства, подкрепено със съответните документи и опис на тези документи. Към писмото бенефициентът представ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линеен график за изпълнението на дейностите за приключване на прое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запис на заповед/ банкова гаранция, съобразени с новата дата на приключване на прое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тговор Управляващият орган изпраща писмо до бенефициента, съдържащо информация относн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основанието (съгласно Общите условия към Договора за БФП) за възобновяване на изпълнение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дейността/дейностите, чието изпълнение се възобновява (в това число дейностите, чието изпълнение е пряко свързано със спрените дей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началната дата на възобновяване на изпълнение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периода на удължаване на срока на изпълнението на съответните дейности по проекта (този период е равен на периода на прекъсване на изпълнението в календарни д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	</a:t>
            </a:r>
            <a:r>
              <a:rPr b="0" lang="ru-RU" sz="1200" spc="-1" strike="noStrike">
                <a:solidFill>
                  <a:srgbClr val="000000"/>
                </a:solidFill>
                <a:latin typeface="Calibri"/>
              </a:rPr>
              <a:t>новата крайна дата за приключване на проекта по договора за предоставяне на БФ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029F-D857-4B45-ABA9-0DCE46FBA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17640" y="744480"/>
            <a:ext cx="4962600" cy="3722760"/>
          </a:xfrm>
          <a:prstGeom prst="rect">
            <a:avLst/>
          </a:prstGeom>
          <a:ln w="0">
            <a:noFill/>
          </a:ln>
        </p:spPr>
      </p:sp>
      <p:sp>
        <p:nvSpPr>
          <p:cNvPr id="7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EA80-8BBB-4E57-A894-95D220316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14DC4A-88CA-47DA-820E-8E701336C7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0C2874-E5F6-4C69-844E-9931ED4E8D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6D5D6B-66E9-4A7E-9A7C-DBE2473444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8DB901-799B-4AF4-9599-34E49CFE1E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1A6DB8-02E4-4EE7-9CD8-4EB82F46F5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A998FB-4742-4580-B13F-DEF356C2CD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E7352F-090F-42ED-B194-7B2B55579D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B0691F-2BBD-4788-BB39-7AA0761C05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CCFC85-638E-416F-A041-DB7CE1C73E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C0410B-0865-42D6-906C-0B17901C51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B620D1-2E16-41B1-8B0C-816BF2B52E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B2F24B-AE41-491B-830B-55393B0A63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D85DA1-F55A-4ED3-9F68-3DBADAE4D9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47B5CE-0DE5-4E40-97DC-3A1F613B5D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3DF32C-02AB-480E-88B1-B0D87734F7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C1E124-595B-4812-AED1-6A13118FCF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B2FF6E-0B28-4891-AB90-9284AC454E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C8A783-101A-4CD9-86E7-13ACF3B46E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79E223-42E1-4ECC-882C-16EEC395AA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4CE157-00F4-4DFE-A145-506EFCBB6D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187473-39E2-4262-9280-528B44ABAB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30EA6DC-AB81-47C0-A49D-3E68D858635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1BDF4F-7A0F-4AA3-8B74-7333218EBF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C7C86F-0F61-4F89-A022-E820A1CF79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0ECE56-5CFA-454E-843B-6BB6CCF173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780D4A-1DA7-4971-AD93-C1116B07F5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D6AB8A-0A77-45ED-AD7F-974BE17060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DD668E-7558-44E3-80A0-846714484D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48D630-C662-4FDE-ACFE-115791A50D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447C4D-3C37-4C4A-B238-2016902A9B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EA981-6BE4-4669-A83F-F78A58626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EDF800-85D5-42C6-AF40-1055F15D3C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9C810CA-AD27-4A17-9D8C-1FC07A1B9F6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EBAFF12-E657-4247-91AA-31F9AD65B2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B97005-70AA-473C-A4D4-0CD581AA982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4AD2467-8037-43DB-968A-58A82A1AD8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B00F00E-9F03-48BC-9443-00F8579F2F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32A259B-5E26-4931-8B35-E6DEDE7C5FA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E2E86E-D6C2-4C43-8220-780A8D3685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11A380-4CCF-4184-9050-525C6B2F31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43F53C-8871-4AE3-8710-066F6DD20F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80C89-06EC-466C-89C8-70BDD6058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E85E10-2E70-494F-8DA0-CFABF078E9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0BDB6A-C0A9-41F8-A48D-199E265E64C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73C8CC-580F-44A0-B337-4188EC69C8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DBE737B-698C-4403-8622-6FAA45A429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EDBDD63-3082-4219-B29F-788A52F97B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19E00-3C3E-42E3-853C-DEC6EE291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EADDF-333B-4567-9FF8-7CFB8347C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52D22-2B2D-487C-8C67-E986E913A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85C69-CDA5-4D69-A106-540E15923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D6120-0297-4662-8C43-FFCDBDD05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0EE3F-1BF1-46BE-994A-D832C8CE7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55F27-6DA6-491D-920C-C9EB43B06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20F09-0AF6-428D-AF77-747353E0F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A562F-470E-4F11-82D2-9B4D50A35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9A738-BECA-4284-87CC-8B5E2DF41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02251-2DDE-4293-9D5C-C82F4F542A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F1FAA-F868-444B-AA31-1CCFE88D2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F1F58-8B93-48DA-BA93-B2803916A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A57E8-2858-46AE-A9A8-9E1E895AC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25575-1DB9-4E5C-9E02-9C66FABDA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CAAB9-8260-4B9E-9344-FC6B1CA79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75BED-85AE-4248-A459-93B701251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9CC41-10A0-4AB8-BCAC-04ED253AF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BFFCC-8C1A-4D09-8B5E-F43EE0187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A7314-9059-4A5C-860F-D85E76CF4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A9662-FCF2-40E7-8985-EC8DA65C3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C1B9A8-8D54-452D-908D-767074E924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D3C44A-FF0D-4DCB-8BB7-B621E21F21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D6A4CF-D7D9-41E1-AC1F-BA962B648A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31972B-646F-4EFF-9115-1233C9D8E2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5930BC-1E20-4B66-B2E8-7FE47D2429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A05CD8-4795-41C6-84A1-985A82AD4B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2D22FC-FBA4-4086-88A2-16AA643B16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24B46D-50EF-44D2-A49B-2889BBBB7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E0146C-C6C3-496C-9529-04CBE26A1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B54F26-8ED9-4547-A14F-ABCC80BCC6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BB0AAA-6AB3-43AC-9484-7C3D948933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FDD5BC-C404-4425-9E2C-16C8060081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9D8D77-6D57-473B-BA2B-1B69A249A5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2CE355-9EE6-4929-8D6F-653B303462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F11AEB-D65E-4E03-8589-D0CED26B0E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D3AAB6-A5BF-4DCA-B0D2-5B4FC3797C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E3D026-9AE2-4ACE-8E47-DD0315DB28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7B9226-7BF3-4624-BE2F-B9E5BFD41A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FDC99B-1C41-4438-9EAF-E298E5ABCC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5E0A7A-5DD7-4AA7-8717-375E5D94F4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007FE3-983F-4BFE-A0A5-D63E743A0B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7C7BF2-1666-4F81-BF04-1E8BF5DEFC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719944-0133-46B3-B89E-389D1DBE3C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372A18-1455-4EF4-BF90-1DE3375ED6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1D54E6-3767-451C-9322-C312677C1E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7FABD3-D1BE-44F9-BEBA-8A7F658800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8E3B95-2EF6-4380-9ED4-9CE1A215ED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77A3A3-A034-45B1-869D-DDCCBDF2B0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EE1F7F-1985-4D80-86F6-8B55BBB3EB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A8DFD3-7386-40D8-B932-AD701AF62C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C06286-DE6D-472C-A26E-25B72AEADB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1400A9-802B-4961-9C15-E3F296C94E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751C27-7790-4D30-9E60-FE13E5C560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1A120E-71C2-49AB-B908-697829857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B4FE37-E6DA-44F4-A437-012794DE0F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A40C74-1512-4706-8034-67A67D9D78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C09B74-D405-4819-9628-44EB457F4F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4982D4-C41A-4F14-B1A1-DA4C07D168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D81E84-14D6-473A-8CD5-F5FAC4CA06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9F3C15-5475-4138-8A59-CE01F6E550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65E36E-CC12-4C4F-920E-137424BADD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C25B61-5F83-467D-A23C-5E2B8403D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789CCA-3554-4A7B-B5FA-F882CEEC6D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DFDD73-86F3-40E7-8DD6-5BB814605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B90E06-5C87-42CF-8CFC-3579687B75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E5FC7C-45CF-492A-B2F8-B85476AF95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C3181C-59D4-45C7-987E-FAFB2877C9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A78A8F-EC93-4C4F-A6BF-4BEA35F7C8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0D9697-0B13-4E36-8805-1A3DD16007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8F1495-7F4D-45B8-8474-FDF6C6E9FA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3A2BC1-1D52-4330-9E80-F9C433F7B3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A06A47-8945-4DA6-9B7C-9946C5047A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62FC0E-8E9C-4A77-B70F-E88724105F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B2B797-42F1-4600-BDEA-E650A8B69D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EE0588-120C-4AA4-A356-DBC0A36AAF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A70195-D484-4F00-A56B-A1AFD77B8F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4CB756-684B-4ECB-A37C-72AB1FA1FA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7B1929-3946-4708-8EF7-870271A7EC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3A0B76-EA42-4A15-B2F3-B8ACEB5F4A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17D7BF-27A5-4E42-9952-BDD640DF05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D892BB-44CD-42A3-8684-41F95E163A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31C053-BD48-4EE6-B675-E4D513D36D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4AE4DB-4DF2-423C-84EC-44C05C2B46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02A4F6-0FA8-4773-B23E-C2D954EB58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3.xml"/><Relationship Id="rId9" Type="http://schemas.openxmlformats.org/officeDocument/2006/relationships/slideLayout" Target="../slideLayouts/slideLayout134.xml"/><Relationship Id="rId10" Type="http://schemas.openxmlformats.org/officeDocument/2006/relationships/slideLayout" Target="../slideLayouts/slideLayout135.xml"/><Relationship Id="rId11" Type="http://schemas.openxmlformats.org/officeDocument/2006/relationships/slideLayout" Target="../slideLayouts/slideLayout136.xml"/><Relationship Id="rId12" Type="http://schemas.openxmlformats.org/officeDocument/2006/relationships/slideLayout" Target="../slideLayouts/slideLayout137.xml"/><Relationship Id="rId13" Type="http://schemas.openxmlformats.org/officeDocument/2006/relationships/slideLayout" Target="../slideLayouts/slideLayout138.xml"/><Relationship Id="rId14" Type="http://schemas.openxmlformats.org/officeDocument/2006/relationships/slideLayout" Target="../slideLayouts/slideLayout139.xml"/><Relationship Id="rId15" Type="http://schemas.openxmlformats.org/officeDocument/2006/relationships/slideLayout" Target="../slideLayouts/slideLayout140.xml"/><Relationship Id="rId16" Type="http://schemas.openxmlformats.org/officeDocument/2006/relationships/slideLayout" Target="../slideLayouts/slideLayout141.xml"/><Relationship Id="rId17" Type="http://schemas.openxmlformats.org/officeDocument/2006/relationships/slideLayout" Target="../slideLayouts/slideLayout142.xml"/><Relationship Id="rId18" Type="http://schemas.openxmlformats.org/officeDocument/2006/relationships/slideLayout" Target="../slideLayouts/slideLayout143.xml"/><Relationship Id="rId19"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97.xml"/><Relationship Id="rId9" Type="http://schemas.openxmlformats.org/officeDocument/2006/relationships/slideLayout" Target="../slideLayouts/slideLayout98.xml"/><Relationship Id="rId10" Type="http://schemas.openxmlformats.org/officeDocument/2006/relationships/slideLayout" Target="../slideLayouts/slideLayout99.xml"/><Relationship Id="rId11" Type="http://schemas.openxmlformats.org/officeDocument/2006/relationships/slideLayout" Target="../slideLayouts/slideLayout100.xml"/><Relationship Id="rId12" Type="http://schemas.openxmlformats.org/officeDocument/2006/relationships/slideLayout" Target="../slideLayouts/slideLayout101.xml"/><Relationship Id="rId13" Type="http://schemas.openxmlformats.org/officeDocument/2006/relationships/slideLayout" Target="../slideLayouts/slideLayout102.xml"/><Relationship Id="rId14" Type="http://schemas.openxmlformats.org/officeDocument/2006/relationships/slideLayout" Target="../slideLayouts/slideLayout103.xml"/><Relationship Id="rId15" Type="http://schemas.openxmlformats.org/officeDocument/2006/relationships/slideLayout" Target="../slideLayouts/slideLayout104.xml"/><Relationship Id="rId16" Type="http://schemas.openxmlformats.org/officeDocument/2006/relationships/slideLayout" Target="../slideLayouts/slideLayout105.xml"/><Relationship Id="rId17" Type="http://schemas.openxmlformats.org/officeDocument/2006/relationships/slideLayout" Target="../slideLayouts/slideLayout106.xml"/><Relationship Id="rId18" Type="http://schemas.openxmlformats.org/officeDocument/2006/relationships/slideLayout" Target="../slideLayouts/slideLayout107.xml"/><Relationship Id="rId19"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3"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6"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7"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9"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0" name="Group 15"/>
          <p:cNvGrpSpPr/>
          <p:nvPr/>
        </p:nvGrpSpPr>
        <p:grpSpPr>
          <a:xfrm>
            <a:off x="250920" y="189000"/>
            <a:ext cx="1009440" cy="685800"/>
            <a:chOff x="250920" y="189000"/>
            <a:chExt cx="1009440" cy="685800"/>
          </a:xfrm>
        </p:grpSpPr>
        <p:sp>
          <p:nvSpPr>
            <p:cNvPr id="11"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 name="Picture 16" descr=""/>
            <p:cNvPicPr/>
            <p:nvPr/>
          </p:nvPicPr>
          <p:blipFill>
            <a:blip r:embed="rId7"/>
            <a:stretch/>
          </p:blipFill>
          <p:spPr>
            <a:xfrm>
              <a:off x="250920" y="189000"/>
              <a:ext cx="1009440" cy="685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6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6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47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7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72"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473"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47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7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77" name="Group 15"/>
          <p:cNvGrpSpPr/>
          <p:nvPr/>
        </p:nvGrpSpPr>
        <p:grpSpPr>
          <a:xfrm>
            <a:off x="250920" y="189000"/>
            <a:ext cx="1009440" cy="685800"/>
            <a:chOff x="250920" y="189000"/>
            <a:chExt cx="1009440" cy="685800"/>
          </a:xfrm>
        </p:grpSpPr>
        <p:sp>
          <p:nvSpPr>
            <p:cNvPr id="47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9" name="Picture 16" descr=""/>
            <p:cNvPicPr/>
            <p:nvPr/>
          </p:nvPicPr>
          <p:blipFill>
            <a:blip r:embed="rId7"/>
            <a:stretch/>
          </p:blipFill>
          <p:spPr>
            <a:xfrm>
              <a:off x="250920" y="189000"/>
              <a:ext cx="1009440" cy="685800"/>
            </a:xfrm>
            <a:prstGeom prst="rect">
              <a:avLst/>
            </a:prstGeom>
            <a:ln w="0">
              <a:noFill/>
            </a:ln>
          </p:spPr>
        </p:pic>
      </p:grpSp>
      <p:sp>
        <p:nvSpPr>
          <p:cNvPr id="48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341D-6D5B-40F6-8089-2038CF9C3602}"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2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2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52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2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2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52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52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2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29" name="Group 15"/>
          <p:cNvGrpSpPr/>
          <p:nvPr/>
        </p:nvGrpSpPr>
        <p:grpSpPr>
          <a:xfrm>
            <a:off x="250920" y="189000"/>
            <a:ext cx="1009440" cy="685800"/>
            <a:chOff x="250920" y="189000"/>
            <a:chExt cx="1009440" cy="685800"/>
          </a:xfrm>
        </p:grpSpPr>
        <p:sp>
          <p:nvSpPr>
            <p:cNvPr id="53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Picture 16" descr=""/>
            <p:cNvPicPr/>
            <p:nvPr/>
          </p:nvPicPr>
          <p:blipFill>
            <a:blip r:embed="rId7"/>
            <a:stretch/>
          </p:blipFill>
          <p:spPr>
            <a:xfrm>
              <a:off x="250920" y="189000"/>
              <a:ext cx="1009440" cy="685800"/>
            </a:xfrm>
            <a:prstGeom prst="rect">
              <a:avLst/>
            </a:prstGeom>
            <a:ln w="0">
              <a:noFill/>
            </a:ln>
          </p:spPr>
        </p:pic>
      </p:grpSp>
      <p:sp>
        <p:nvSpPr>
          <p:cNvPr id="53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3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D288-790B-4359-A0F0-A9B678A0DCF5}"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7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7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57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7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76"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577"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57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81" name="Group 15"/>
          <p:cNvGrpSpPr/>
          <p:nvPr/>
        </p:nvGrpSpPr>
        <p:grpSpPr>
          <a:xfrm>
            <a:off x="250920" y="189000"/>
            <a:ext cx="1009440" cy="685800"/>
            <a:chOff x="250920" y="189000"/>
            <a:chExt cx="1009440" cy="685800"/>
          </a:xfrm>
        </p:grpSpPr>
        <p:sp>
          <p:nvSpPr>
            <p:cNvPr id="58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3" name="Picture 16" descr=""/>
            <p:cNvPicPr/>
            <p:nvPr/>
          </p:nvPicPr>
          <p:blipFill>
            <a:blip r:embed="rId7"/>
            <a:stretch/>
          </p:blipFill>
          <p:spPr>
            <a:xfrm>
              <a:off x="250920" y="189000"/>
              <a:ext cx="1009440" cy="685800"/>
            </a:xfrm>
            <a:prstGeom prst="rect">
              <a:avLst/>
            </a:prstGeom>
            <a:ln w="0">
              <a:noFill/>
            </a:ln>
          </p:spPr>
        </p:pic>
      </p:grpSp>
      <p:sp>
        <p:nvSpPr>
          <p:cNvPr id="58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14DF-343D-414F-B191-A716114E16D5}"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8"/>
    <p:sldLayoutId id="2147483793" r:id="rId9"/>
    <p:sldLayoutId id="2147483794" r:id="rId10"/>
    <p:sldLayoutId id="2147483795" r:id="rId11"/>
    <p:sldLayoutId id="2147483796" r:id="rId12"/>
    <p:sldLayoutId id="2147483797" r:id="rId13"/>
    <p:sldLayoutId id="2147483798" r:id="rId14"/>
    <p:sldLayoutId id="2147483799" r:id="rId15"/>
    <p:sldLayoutId id="2147483800" r:id="rId16"/>
    <p:sldLayoutId id="2147483801" r:id="rId17"/>
    <p:sldLayoutId id="2147483802" r:id="rId18"/>
    <p:sldLayoutId id="2147483803"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5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5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5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9" name="Group 15"/>
          <p:cNvGrpSpPr/>
          <p:nvPr/>
        </p:nvGrpSpPr>
        <p:grpSpPr>
          <a:xfrm>
            <a:off x="250920" y="189000"/>
            <a:ext cx="1009440" cy="685800"/>
            <a:chOff x="250920" y="189000"/>
            <a:chExt cx="1009440" cy="685800"/>
          </a:xfrm>
        </p:grpSpPr>
        <p:sp>
          <p:nvSpPr>
            <p:cNvPr id="6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16" descr=""/>
            <p:cNvPicPr/>
            <p:nvPr/>
          </p:nvPicPr>
          <p:blipFill>
            <a:blip r:embed="rId7"/>
            <a:stretch/>
          </p:blipFill>
          <p:spPr>
            <a:xfrm>
              <a:off x="250920" y="189000"/>
              <a:ext cx="1009440" cy="685800"/>
            </a:xfrm>
            <a:prstGeom prst="rect">
              <a:avLst/>
            </a:prstGeom>
            <a:ln w="0">
              <a:noFill/>
            </a:ln>
          </p:spPr>
        </p:pic>
      </p:grpSp>
      <p:sp>
        <p:nvSpPr>
          <p:cNvPr id="6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F04E-94E4-4E23-8269-17CE7732732B}"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0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0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10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0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06"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107"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10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1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11" name="Group 15"/>
          <p:cNvGrpSpPr/>
          <p:nvPr/>
        </p:nvGrpSpPr>
        <p:grpSpPr>
          <a:xfrm>
            <a:off x="250920" y="189000"/>
            <a:ext cx="1009440" cy="685800"/>
            <a:chOff x="250920" y="189000"/>
            <a:chExt cx="1009440" cy="685800"/>
          </a:xfrm>
        </p:grpSpPr>
        <p:sp>
          <p:nvSpPr>
            <p:cNvPr id="11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 name="Picture 16" descr=""/>
            <p:cNvPicPr/>
            <p:nvPr/>
          </p:nvPicPr>
          <p:blipFill>
            <a:blip r:embed="rId7"/>
            <a:stretch/>
          </p:blipFill>
          <p:spPr>
            <a:xfrm>
              <a:off x="250920" y="189000"/>
              <a:ext cx="1009440" cy="685800"/>
            </a:xfrm>
            <a:prstGeom prst="rect">
              <a:avLst/>
            </a:prstGeom>
            <a:ln w="0">
              <a:noFill/>
            </a:ln>
          </p:spPr>
        </p:pic>
      </p:grpSp>
      <p:sp>
        <p:nvSpPr>
          <p:cNvPr id="114"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5"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3A02-39C6-47F0-824B-19A62AB5E109}"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5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5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15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5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60"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161"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16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6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65" name="Group 15"/>
          <p:cNvGrpSpPr/>
          <p:nvPr/>
        </p:nvGrpSpPr>
        <p:grpSpPr>
          <a:xfrm>
            <a:off x="250920" y="189000"/>
            <a:ext cx="1009440" cy="685800"/>
            <a:chOff x="250920" y="189000"/>
            <a:chExt cx="1009440" cy="685800"/>
          </a:xfrm>
        </p:grpSpPr>
        <p:sp>
          <p:nvSpPr>
            <p:cNvPr id="16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16" descr=""/>
            <p:cNvPicPr/>
            <p:nvPr/>
          </p:nvPicPr>
          <p:blipFill>
            <a:blip r:embed="rId7"/>
            <a:stretch/>
          </p:blipFill>
          <p:spPr>
            <a:xfrm>
              <a:off x="250920" y="189000"/>
              <a:ext cx="1009440" cy="685800"/>
            </a:xfrm>
            <a:prstGeom prst="rect">
              <a:avLst/>
            </a:prstGeom>
            <a:ln w="0">
              <a:noFill/>
            </a:ln>
          </p:spPr>
        </p:pic>
      </p:grpSp>
      <p:sp>
        <p:nvSpPr>
          <p:cNvPr id="16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9723-0AA4-4C8F-A96B-22BA394E81DD}"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0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0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21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1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12"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213"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21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1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17" name="Group 15"/>
          <p:cNvGrpSpPr/>
          <p:nvPr/>
        </p:nvGrpSpPr>
        <p:grpSpPr>
          <a:xfrm>
            <a:off x="250920" y="189000"/>
            <a:ext cx="1009440" cy="685800"/>
            <a:chOff x="250920" y="189000"/>
            <a:chExt cx="1009440" cy="685800"/>
          </a:xfrm>
        </p:grpSpPr>
        <p:sp>
          <p:nvSpPr>
            <p:cNvPr id="21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16" descr=""/>
            <p:cNvPicPr/>
            <p:nvPr/>
          </p:nvPicPr>
          <p:blipFill>
            <a:blip r:embed="rId7"/>
            <a:stretch/>
          </p:blipFill>
          <p:spPr>
            <a:xfrm>
              <a:off x="250920" y="189000"/>
              <a:ext cx="1009440" cy="685800"/>
            </a:xfrm>
            <a:prstGeom prst="rect">
              <a:avLst/>
            </a:prstGeom>
            <a:ln w="0">
              <a:noFill/>
            </a:ln>
          </p:spPr>
        </p:pic>
      </p:grpSp>
      <p:sp>
        <p:nvSpPr>
          <p:cNvPr id="22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CA4F-34C2-44B9-87B9-62E2840AA647}"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6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6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26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6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6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26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26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6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69" name="Group 15"/>
          <p:cNvGrpSpPr/>
          <p:nvPr/>
        </p:nvGrpSpPr>
        <p:grpSpPr>
          <a:xfrm>
            <a:off x="250920" y="189000"/>
            <a:ext cx="1009440" cy="685800"/>
            <a:chOff x="250920" y="189000"/>
            <a:chExt cx="1009440" cy="685800"/>
          </a:xfrm>
        </p:grpSpPr>
        <p:sp>
          <p:nvSpPr>
            <p:cNvPr id="27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Picture 16" descr=""/>
            <p:cNvPicPr/>
            <p:nvPr/>
          </p:nvPicPr>
          <p:blipFill>
            <a:blip r:embed="rId7"/>
            <a:stretch/>
          </p:blipFill>
          <p:spPr>
            <a:xfrm>
              <a:off x="250920" y="189000"/>
              <a:ext cx="1009440" cy="685800"/>
            </a:xfrm>
            <a:prstGeom prst="rect">
              <a:avLst/>
            </a:prstGeom>
            <a:ln w="0">
              <a:noFill/>
            </a:ln>
          </p:spPr>
        </p:pic>
      </p:grpSp>
      <p:sp>
        <p:nvSpPr>
          <p:cNvPr id="27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B018-06E5-42C7-A0D5-2C70AA014B88}"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1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1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31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1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16"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317"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31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2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21" name="Group 15"/>
          <p:cNvGrpSpPr/>
          <p:nvPr/>
        </p:nvGrpSpPr>
        <p:grpSpPr>
          <a:xfrm>
            <a:off x="250920" y="189000"/>
            <a:ext cx="1009440" cy="685800"/>
            <a:chOff x="250920" y="189000"/>
            <a:chExt cx="1009440" cy="685800"/>
          </a:xfrm>
        </p:grpSpPr>
        <p:sp>
          <p:nvSpPr>
            <p:cNvPr id="32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16" descr=""/>
            <p:cNvPicPr/>
            <p:nvPr/>
          </p:nvPicPr>
          <p:blipFill>
            <a:blip r:embed="rId7"/>
            <a:stretch/>
          </p:blipFill>
          <p:spPr>
            <a:xfrm>
              <a:off x="250920" y="189000"/>
              <a:ext cx="1009440" cy="685800"/>
            </a:xfrm>
            <a:prstGeom prst="rect">
              <a:avLst/>
            </a:prstGeom>
            <a:ln w="0">
              <a:noFill/>
            </a:ln>
          </p:spPr>
        </p:pic>
      </p:grpSp>
      <p:sp>
        <p:nvSpPr>
          <p:cNvPr id="324"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5"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CFDD-7A4D-478B-9678-11FE9AF121C3}"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6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6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366"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6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68"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369"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37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7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73" name="Group 15"/>
          <p:cNvGrpSpPr/>
          <p:nvPr/>
        </p:nvGrpSpPr>
        <p:grpSpPr>
          <a:xfrm>
            <a:off x="250920" y="189000"/>
            <a:ext cx="1009440" cy="685800"/>
            <a:chOff x="250920" y="189000"/>
            <a:chExt cx="1009440" cy="685800"/>
          </a:xfrm>
        </p:grpSpPr>
        <p:sp>
          <p:nvSpPr>
            <p:cNvPr id="37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Picture 16" descr=""/>
            <p:cNvPicPr/>
            <p:nvPr/>
          </p:nvPicPr>
          <p:blipFill>
            <a:blip r:embed="rId7"/>
            <a:stretch/>
          </p:blipFill>
          <p:spPr>
            <a:xfrm>
              <a:off x="250920" y="189000"/>
              <a:ext cx="1009440" cy="685800"/>
            </a:xfrm>
            <a:prstGeom prst="rect">
              <a:avLst/>
            </a:prstGeom>
            <a:ln w="0">
              <a:noFill/>
            </a:ln>
          </p:spPr>
        </p:pic>
      </p:grpSp>
      <p:sp>
        <p:nvSpPr>
          <p:cNvPr id="37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1B10-7A4C-44CE-9BB8-FB2500CEB2CF}"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1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41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1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20"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421"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2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25" name="Group 15"/>
          <p:cNvGrpSpPr/>
          <p:nvPr/>
        </p:nvGrpSpPr>
        <p:grpSpPr>
          <a:xfrm>
            <a:off x="250920" y="189000"/>
            <a:ext cx="1009440" cy="685800"/>
            <a:chOff x="250920" y="189000"/>
            <a:chExt cx="1009440" cy="685800"/>
          </a:xfrm>
        </p:grpSpPr>
        <p:sp>
          <p:nvSpPr>
            <p:cNvPr id="42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16" descr=""/>
            <p:cNvPicPr/>
            <p:nvPr/>
          </p:nvPicPr>
          <p:blipFill>
            <a:blip r:embed="rId7"/>
            <a:stretch/>
          </p:blipFill>
          <p:spPr>
            <a:xfrm>
              <a:off x="250920" y="189000"/>
              <a:ext cx="1009440" cy="685800"/>
            </a:xfrm>
            <a:prstGeom prst="rect">
              <a:avLst/>
            </a:prstGeom>
            <a:ln w="0">
              <a:noFill/>
            </a:ln>
          </p:spPr>
        </p:pic>
      </p:grpSp>
      <p:sp>
        <p:nvSpPr>
          <p:cNvPr id="42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9"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958A-E4B0-4F74-956C-BB4B4947A330}"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8"/>
    <p:sldLayoutId id="2147483754" r:id="rId9"/>
    <p:sldLayoutId id="2147483755" r:id="rId10"/>
    <p:sldLayoutId id="2147483756" r:id="rId11"/>
    <p:sldLayoutId id="2147483757" r:id="rId12"/>
    <p:sldLayoutId id="2147483758" r:id="rId13"/>
    <p:sldLayoutId id="2147483759" r:id="rId14"/>
    <p:sldLayoutId id="2147483760" r:id="rId15"/>
    <p:sldLayoutId id="2147483761" r:id="rId16"/>
    <p:sldLayoutId id="2147483762" r:id="rId17"/>
    <p:sldLayoutId id="2147483763" r:id="rId18"/>
    <p:sldLayoutId id="2147483764"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hyperlink" Target="http://web.apis.bg/p.php?i=9663#p6225789" TargetMode="External"/><Relationship Id="rId2" Type="http://schemas.openxmlformats.org/officeDocument/2006/relationships/hyperlink" Target="http://web.apis.bg/p.php?i=9663#p6225789" TargetMode="External"/><Relationship Id="rId3"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468360" y="1822320"/>
            <a:ext cx="806436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000000"/>
                </a:solidFill>
                <a:latin typeface="Times New Roman"/>
                <a:ea typeface="Times New Roman"/>
              </a:rPr>
              <a:t>ОБУЧЕНИЕ</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000000"/>
                </a:solidFill>
                <a:latin typeface="Times New Roman"/>
                <a:ea typeface="Times New Roman"/>
              </a:rPr>
              <a:t>за</a:t>
            </a:r>
            <a:r>
              <a:rPr b="1" i="1" lang="en-US" sz="3200" spc="-1" strike="noStrike">
                <a:solidFill>
                  <a:srgbClr val="000000"/>
                </a:solidFill>
                <a:latin typeface="Times New Roman"/>
                <a:ea typeface="Times New Roman"/>
              </a:rPr>
              <a:t> </a:t>
            </a:r>
            <a:r>
              <a:rPr b="1" i="1" lang="ru-RU" sz="3200" spc="-1" strike="noStrike">
                <a:solidFill>
                  <a:srgbClr val="000000"/>
                </a:solidFill>
                <a:latin typeface="Times New Roman"/>
                <a:ea typeface="Times New Roman"/>
              </a:rPr>
              <a:t>изпълнение и управление на проект по</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BG161PO001/2.2-01/2011</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a:t>
            </a:r>
            <a:r>
              <a:rPr b="1" i="1" lang="ru-RU" sz="3200" spc="-1" strike="noStrike">
                <a:solidFill>
                  <a:srgbClr val="000000"/>
                </a:solidFill>
                <a:latin typeface="Times New Roman"/>
                <a:ea typeface="Times New Roman"/>
              </a:rPr>
              <a:t>Подкрепа за развитие на критична,</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защитена, сигурна и надеждна обществена ИКТ инфраструкту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74760" y="1413000"/>
            <a:ext cx="8229600" cy="1295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УКАЗАНИЯ ОТНОСНО ПРОМЯНА НА ДОГОВОР</a:t>
            </a:r>
            <a:br>
              <a:rPr sz="2400"/>
            </a:br>
            <a:r>
              <a:rPr b="1" lang="ru-RU" sz="2400" spc="-1" strike="noStrike">
                <a:solidFill>
                  <a:srgbClr val="000000"/>
                </a:solidFill>
                <a:latin typeface="Times New Roman"/>
                <a:ea typeface="Times New Roman"/>
              </a:rPr>
              <a:t>ЗА ПРЕДОСТАВЯНЕ НА БЕЗВЪЗМЕЗДНА</a:t>
            </a:r>
            <a:br>
              <a:rPr sz="2400"/>
            </a:br>
            <a:r>
              <a:rPr b="1" lang="ru-RU" sz="2400" spc="-1" strike="noStrike">
                <a:solidFill>
                  <a:srgbClr val="000000"/>
                </a:solidFill>
                <a:latin typeface="Times New Roman"/>
                <a:ea typeface="Times New Roman"/>
              </a:rPr>
              <a:t>ФИНАНСОВА ПОМОЩ ПО ОПРР</a:t>
            </a:r>
            <a:br>
              <a:rPr sz="2400"/>
            </a:br>
            <a:endParaRPr b="0" lang="en-US" sz="2400" spc="-1" strike="noStrike">
              <a:solidFill>
                <a:srgbClr val="000000"/>
              </a:solidFill>
              <a:latin typeface="Calibri"/>
            </a:endParaRPr>
          </a:p>
        </p:txBody>
      </p:sp>
      <p:sp>
        <p:nvSpPr>
          <p:cNvPr id="659" name=""/>
          <p:cNvSpPr txBox="1"/>
          <p:nvPr/>
        </p:nvSpPr>
        <p:spPr>
          <a:xfrm>
            <a:off x="457200" y="2707920"/>
            <a:ext cx="8229600" cy="3025800"/>
          </a:xfrm>
          <a:prstGeom prst="rect">
            <a:avLst/>
          </a:prstGeom>
          <a:noFill/>
          <a:ln w="0">
            <a:noFill/>
          </a:ln>
        </p:spPr>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енефициентите следва да имат предвид, че в зависимост от начина, по който се изменя характерът на договора, промените биват: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ведомления;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мени, изискващи одобрение от страна на УО;</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зменения (сключване на допълнително споразумение/анекс)</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0" name=""/>
          <p:cNvGraphicFramePr/>
          <p:nvPr/>
        </p:nvGraphicFramePr>
        <p:xfrm>
          <a:off x="179280" y="1557360"/>
          <a:ext cx="8713800" cy="4024440"/>
        </p:xfrm>
        <a:graphic>
          <a:graphicData uri="http://schemas.openxmlformats.org/drawingml/2006/table">
            <a:tbl>
              <a:tblPr/>
              <a:tblGrid>
                <a:gridCol w="8713800"/>
              </a:tblGrid>
              <a:tr h="487440">
                <a:tc>
                  <a:txBody>
                    <a:bodyPr lIns="68760" rIns="68760" tIns="0" bIns="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0000"/>
                          </a:solidFill>
                          <a:latin typeface="Times New Roman"/>
                          <a:ea typeface="Times New Roman"/>
                        </a:rPr>
                        <a:t>Важно</a:t>
                      </a:r>
                      <a:endParaRPr b="0" lang="en-US" sz="3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3537000">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Бенефициентът е длъжен да уведоми УО за всяка промяна в дейностите по договора, която смята да предприеме и която изисква одобрение от УО или сключване на анекс. В случай че такива действия са предприети без да бъде уведомен УО, бенефициентът поема всички разходи със собствени средства. </a:t>
                      </a:r>
                      <a:endParaRPr b="0" lang="en-US" sz="20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случай че УО е уведомен своевременно, бенефициентът може да предприеме съответните действия, като УО си запазва правото да не одобри тези действия, ако те не са изпълнени съгласно изискванията на националната нормативна уредба, не са основателни или са в противоречие с условията на договора. В случай на неодобрение на предприетите от бенефициента промени, разходите за тях се включват като собствен принос на бенефициента.</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97000"/>
            <a:ext cx="8229600" cy="1008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Times New Roman"/>
                <a:ea typeface="Times New Roman"/>
              </a:rPr>
              <a:t>ВАЖНО</a:t>
            </a:r>
            <a:endParaRPr b="0" lang="en-US" sz="3200" spc="-1" strike="noStrike">
              <a:solidFill>
                <a:srgbClr val="000000"/>
              </a:solidFill>
              <a:latin typeface="Calibri"/>
            </a:endParaRPr>
          </a:p>
        </p:txBody>
      </p:sp>
      <p:sp>
        <p:nvSpPr>
          <p:cNvPr id="662" name=""/>
          <p:cNvSpPr txBox="1"/>
          <p:nvPr/>
        </p:nvSpPr>
        <p:spPr>
          <a:xfrm>
            <a:off x="178920" y="1700280"/>
            <a:ext cx="8713800" cy="413712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Общата стойност на промените за целия период на изпълнение при намаляване на количествата на СМР не трябва да надвишава 10% от стойността на КСС към договора за строителство;</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Общата стойност на промените за целия период на изпълнение при увеличаване на количествата на СМР не трябва да надвишава 10% от стойността на КСС към договора за строителство в случаите, когато се компенсира с намаляване на други количества.</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000" spc="-1" strike="noStrike">
                <a:solidFill>
                  <a:srgbClr val="000000"/>
                </a:solidFill>
                <a:latin typeface="Times New Roman"/>
                <a:ea typeface="Times New Roman"/>
              </a:rPr>
              <a:t>Забележка: В случай че в договора за строителство са включени СМР, които се покриват със собствени средства на бенефициента горните условия се отнасят до безвъзмездната финансова помощ, предоставена от УО на ОПРР.</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485720"/>
            <a:ext cx="8229600" cy="647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омени, класифицирани като уведомления</a:t>
            </a:r>
            <a:r>
              <a:rPr b="0" lang="ru-RU" sz="2800" spc="-1" strike="noStrike">
                <a:solidFill>
                  <a:srgbClr val="000000"/>
                </a:solidFill>
                <a:latin typeface="Times New Roman"/>
                <a:ea typeface="Times New Roman"/>
              </a:rPr>
              <a:t>:</a:t>
            </a:r>
            <a:br>
              <a:rPr sz="2800"/>
            </a:br>
            <a:endParaRPr b="0" lang="en-US" sz="2800" spc="-1" strike="noStrike">
              <a:solidFill>
                <a:srgbClr val="000000"/>
              </a:solidFill>
              <a:latin typeface="Calibri"/>
            </a:endParaRPr>
          </a:p>
        </p:txBody>
      </p:sp>
      <p:sp>
        <p:nvSpPr>
          <p:cNvPr id="664" name=""/>
          <p:cNvSpPr txBox="1"/>
          <p:nvPr/>
        </p:nvSpPr>
        <p:spPr>
          <a:xfrm>
            <a:off x="457200" y="2100240"/>
            <a:ext cx="8229600" cy="41371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на банковата сметка или подсметка, посочена в Искането за авансово   плащан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на пощенски адрес, телефони, електронен адрес;</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в наименованието на бенефициента/партньор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на законния представител на бенефициента/партньор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пределяне/ промяна на членовете на екипа по проекта (при проекти, различни от инфраструктур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95280" y="1485720"/>
            <a:ext cx="8229600" cy="502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Промени, изискващи одобрение от страна на УО:</a:t>
            </a:r>
            <a:endParaRPr b="0" lang="en-US" sz="2800" spc="-1" strike="noStrike">
              <a:solidFill>
                <a:srgbClr val="000000"/>
              </a:solidFill>
              <a:latin typeface="Calibri"/>
            </a:endParaRPr>
          </a:p>
        </p:txBody>
      </p:sp>
      <p:sp>
        <p:nvSpPr>
          <p:cNvPr id="666" name=""/>
          <p:cNvSpPr txBox="1"/>
          <p:nvPr/>
        </p:nvSpPr>
        <p:spPr>
          <a:xfrm>
            <a:off x="250920" y="1989000"/>
            <a:ext cx="8642160" cy="41040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аложително разместване в графика за изпълнение на проекта, което не води до отпадане на част от договорените дейност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на регистрирания одитор или на фирмата за одит, които следва да осъществят независимия оди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мяна на ръководителя на проекта, одобрен на етап оценка на проектното предложен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пределяне и смяна на членове от екипа по изпълнението на проекта (само за инфраструктурни проект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в КСС преди провеждане на процедури за избор на изпълнител преди сключване на договор с изпълнител на СМР – само в резултат на разработване/актуализация на технически или работен проект;</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4920" y="1341000"/>
            <a:ext cx="8229600" cy="5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Промени, изискващи одобрение от страна на УО:</a:t>
            </a:r>
            <a:endParaRPr b="0" lang="en-US" sz="2800" spc="-1" strike="noStrike">
              <a:solidFill>
                <a:srgbClr val="000000"/>
              </a:solidFill>
              <a:latin typeface="Calibri"/>
            </a:endParaRPr>
          </a:p>
        </p:txBody>
      </p:sp>
      <p:sp>
        <p:nvSpPr>
          <p:cNvPr id="668" name=""/>
          <p:cNvSpPr txBox="1"/>
          <p:nvPr/>
        </p:nvSpPr>
        <p:spPr>
          <a:xfrm>
            <a:off x="179280" y="1628280"/>
            <a:ext cx="8640720" cy="4210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в КСС след сключване на договор с изпълнител на СМР чрез заменителна таблица при установени по време на строителството разлики в предвидените количества на отделните видове СМР вследствие направени точни измервания на мястото на изпълнение – промяната се одобрява при верифициране на искане за плащане;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еразпределение на средствата между бюджетни пера в рамките на един бюджетен раздел. Такова преразпределение е допустимо единствено при преразпределение между обектите на интервенция на: средства/разходи за СМР, средства/разходи за строителен надзор, средства/разходи за авторски надзор след  извършване на процедурите за възлагане на обществени поръчки по съответните бюджетни пера и при условие, че не се променя общият размер на безвъзмездната финансова помощ за СМР, съответно за строителен надзор или за авторски надзор.</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0" y="1339920"/>
            <a:ext cx="9144000" cy="50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Промени, класифицирани като изменения (анекс):</a:t>
            </a:r>
            <a:endParaRPr b="0" lang="en-US" sz="2800" spc="-1" strike="noStrike">
              <a:solidFill>
                <a:srgbClr val="000000"/>
              </a:solidFill>
              <a:latin typeface="Calibri"/>
            </a:endParaRPr>
          </a:p>
        </p:txBody>
      </p:sp>
      <p:sp>
        <p:nvSpPr>
          <p:cNvPr id="670" name=""/>
          <p:cNvSpPr txBox="1"/>
          <p:nvPr/>
        </p:nvSpPr>
        <p:spPr>
          <a:xfrm>
            <a:off x="107640" y="1773000"/>
            <a:ext cx="8713800" cy="4352760"/>
          </a:xfrm>
          <a:prstGeom prst="rect">
            <a:avLst/>
          </a:prstGeom>
          <a:noFill/>
          <a:ln w="0">
            <a:noFill/>
          </a:ln>
        </p:spPr>
        <p:txBody>
          <a:bodyPr lIns="90000" rIns="90000" tIns="46800" bIns="46800"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цедурата по сключване на допълнително споразумение (анекс) към подписан договор за предоставяне на безвъзмездна финансова помощ по Оперативна програма "Регионално развитие" 2007-2013 г. /ОПРР/ задължително се провежда само в следните случаи:</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мяна на срока за изпълнение на договора за безвъзмездна финансова помощ</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мяна в правния статут на бенефициент/ партньор;</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Промяна в договорените дейности по проекта, която води до въвеждане на нови дейности/нови бюджетни пера/нови видове и/или количества СМР/нови видове и/или количества в ТС. Освен в случаите на непреодолима сила, въвеждането на нови дейности/нови бюджетни пера/нови видове и/или количества е недопустимо за финансиране от безвъзмездна финансова помощ и следва да се отрази като собствен принос на бенефициента по бюджета на проекта;</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Намаляване размера на предоставената безвъзмездна финансова помощ по договора в резултат на констатирано от страна на ДО двойно финансиране на дейности/обекти на интервенция или част от дейности по проекта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Намаляване размера на безвъзмездната финансова помощ по договора за предоставяне на безвъзмездна финансова помощ с повече от 15 %, но не по-малко от 500 000 лв  в резултат на проведени от бенефициенти процедури за възлагане на обществени поръчки. В този случай допълнителното споразумение следва да се сключи </a:t>
            </a:r>
            <a:r>
              <a:rPr b="0" lang="bg-BG" sz="1400" spc="-1" strike="noStrike" u="sng">
                <a:solidFill>
                  <a:srgbClr val="000000"/>
                </a:solidFill>
                <a:uFillTx/>
                <a:latin typeface="Times New Roman"/>
                <a:ea typeface="Times New Roman"/>
              </a:rPr>
              <a:t>задължително</a:t>
            </a:r>
            <a:r>
              <a:rPr b="0" lang="bg-BG" sz="1400" spc="-1" strike="noStrike">
                <a:solidFill>
                  <a:srgbClr val="000000"/>
                </a:solidFill>
                <a:latin typeface="Times New Roman"/>
                <a:ea typeface="Times New Roman"/>
              </a:rPr>
              <a:t> преди подаване на искане за авансово плащане.</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1" name=""/>
          <p:cNvGraphicFramePr/>
          <p:nvPr/>
        </p:nvGraphicFramePr>
        <p:xfrm>
          <a:off x="324000" y="1484280"/>
          <a:ext cx="8496000" cy="4295880"/>
        </p:xfrm>
        <a:graphic>
          <a:graphicData uri="http://schemas.openxmlformats.org/drawingml/2006/table">
            <a:tbl>
              <a:tblPr/>
              <a:tblGrid>
                <a:gridCol w="8496000"/>
              </a:tblGrid>
              <a:tr h="487440">
                <a:tc>
                  <a:txBody>
                    <a:bodyPr lIns="68400" rIns="68400" tIns="0" bIns="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ff0000"/>
                          </a:solidFill>
                          <a:latin typeface="Times New Roman"/>
                          <a:ea typeface="Times New Roman"/>
                        </a:rPr>
                        <a:t>Важно</a:t>
                      </a:r>
                      <a:endParaRPr b="0" lang="en-US" sz="3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r>
              <a:tr h="3808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Всяка документация, която се изпраща до Управляващия орган на Оперативна програма „Регионално развитие” 2007-2013 г., трябва да е окомплектована по надлежен начин в класьор с твърди корици с подробен опис, всички документи трябва да са перфорирани и приложени вътре! Не се допуска използването на папки с меки корици /освен в случаите, когато документацията е по-малко от 10 листа/, джоб пликове и друг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Всички документи трябва да бъдат номерирани с уникален номер започвайки от едно. В подробния опис трябва да бъдат посочени номерата на страниците на документите, съгласно извършената номерация. При предоставяне на допълнителни или коригирани документи същите трябва да бъдат представени с подробен опис и номерирани с уникален номер. Когато се представят документи и в електронен вариант (компакт диск - CD), съдържанието на електронните носители следва да бъде описано в Приложение- Декларация - Опис на електронния носител.</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Times New Roman"/>
                          <a:ea typeface="Times New Roman"/>
                        </a:rPr>
                        <a:t>При неспазване на тези изисквания УО си запазва правото да не разглежда представената документация!!!</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519120" y="1197000"/>
            <a:ext cx="822960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u="sng">
                <a:solidFill>
                  <a:srgbClr val="000000"/>
                </a:solidFill>
                <a:uFillTx/>
                <a:latin typeface="Times New Roman"/>
                <a:ea typeface="Times New Roman"/>
              </a:rPr>
              <a:t>УКАЗАНИЯ ЗА ВРЕМЕННО СПИРАНЕ</a:t>
            </a:r>
            <a:br>
              <a:rPr sz="2400"/>
            </a:br>
            <a:r>
              <a:rPr b="1" lang="bg-BG" sz="2400" spc="-1" strike="noStrike" u="sng">
                <a:solidFill>
                  <a:srgbClr val="000000"/>
                </a:solidFill>
                <a:uFillTx/>
                <a:latin typeface="Times New Roman"/>
                <a:ea typeface="Times New Roman"/>
              </a:rPr>
              <a:t>И ВЪЗОБНОВЯВАНЕ НА ДОГОВОР</a:t>
            </a:r>
            <a:br>
              <a:rPr sz="2800"/>
            </a:br>
            <a:endParaRPr b="0" lang="en-US" sz="2400" spc="-1" strike="noStrike">
              <a:solidFill>
                <a:srgbClr val="000000"/>
              </a:solidFill>
              <a:latin typeface="Calibri"/>
            </a:endParaRPr>
          </a:p>
        </p:txBody>
      </p:sp>
      <p:sp>
        <p:nvSpPr>
          <p:cNvPr id="673" name=""/>
          <p:cNvSpPr txBox="1"/>
          <p:nvPr/>
        </p:nvSpPr>
        <p:spPr>
          <a:xfrm>
            <a:off x="250920" y="1955880"/>
            <a:ext cx="8642160" cy="3921120"/>
          </a:xfrm>
          <a:prstGeom prst="rect">
            <a:avLst/>
          </a:prstGeom>
          <a:noFill/>
          <a:ln w="0">
            <a:noFill/>
          </a:ln>
        </p:spPr>
        <p:txBody>
          <a:bodyPr lIns="90000" rIns="90000" tIns="46800" bIns="46800" anchor="t">
            <a:norm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1. Временно спиране на дейности по проект</a:t>
            </a:r>
            <a:endParaRPr b="0" lang="en-US" sz="1700" spc="-1" strike="noStrike">
              <a:solidFill>
                <a:srgbClr val="000000"/>
              </a:solidFill>
              <a:latin typeface="Calibri"/>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Изпълнението на дейности по Проекта може да бъде временно спряно изцяло или отчасти на основание Общите условия към Договора за безвъзмездна финансова помощ. Бенефициентът е длъжен да информира Договарящия орган </a:t>
            </a:r>
            <a:r>
              <a:rPr b="1" lang="bg-BG" sz="1700" spc="-1" strike="noStrike">
                <a:solidFill>
                  <a:srgbClr val="000000"/>
                </a:solidFill>
                <a:latin typeface="Times New Roman"/>
                <a:ea typeface="Times New Roman"/>
              </a:rPr>
              <a:t>незабавно</a:t>
            </a:r>
            <a:r>
              <a:rPr b="0" lang="bg-BG" sz="1700" spc="-1" strike="noStrike">
                <a:solidFill>
                  <a:srgbClr val="000000"/>
                </a:solidFill>
                <a:latin typeface="Times New Roman"/>
                <a:ea typeface="Times New Roman"/>
              </a:rPr>
              <a:t> за възникването на всякакви обстоятелства, които биха могли да попречат или да забавят изпълнението на Проекта.</a:t>
            </a:r>
            <a:endParaRPr b="0" lang="en-US" sz="1700" spc="-1" strike="noStrike">
              <a:solidFill>
                <a:srgbClr val="000000"/>
              </a:solidFill>
              <a:latin typeface="Calibri"/>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При необходимост от временно спиране на изпълнението на дейности по Проекта:</a:t>
            </a:r>
            <a:endParaRPr b="0" lang="en-US" sz="1700" spc="-1" strike="noStrike">
              <a:solidFill>
                <a:srgbClr val="000000"/>
              </a:solidFill>
              <a:latin typeface="Calibri"/>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 Бенефициентът изпраща на съответния Регионален отдел писмо-искане, съдържащо информация относно обстоятелствата, на които се основава необходимостта от спиране на дейностите, подкрепена с доказващи я документи и опис на тези документи. </a:t>
            </a:r>
            <a:endParaRPr b="0" lang="en-US" sz="1700" spc="-1" strike="noStrike">
              <a:solidFill>
                <a:srgbClr val="000000"/>
              </a:solidFill>
              <a:latin typeface="Calibri"/>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 Регионалният отдел извършва проверка дали искането е мотивирано и подкрепено с необходимите документи. При липса на необходими документи, Регионалният отдел осъществява кореспонденция с бенефициента за комплектоване на преписката. </a:t>
            </a:r>
            <a:endParaRPr b="0" lang="en-US" sz="1700" spc="-1" strike="noStrike">
              <a:solidFill>
                <a:srgbClr val="000000"/>
              </a:solidFill>
              <a:latin typeface="Calibri"/>
            </a:endParaRPr>
          </a:p>
          <a:p>
            <a:pPr>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539280" y="1267920"/>
            <a:ext cx="8147160" cy="576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Писмото за временно спиране до бенефициента </a:t>
            </a:r>
            <a:br>
              <a:rPr sz="2400"/>
            </a:br>
            <a:r>
              <a:rPr b="1" lang="bg-BG" sz="2400" spc="-1" strike="noStrike">
                <a:solidFill>
                  <a:srgbClr val="000000"/>
                </a:solidFill>
                <a:latin typeface="Times New Roman"/>
                <a:ea typeface="Times New Roman"/>
              </a:rPr>
              <a:t>съдържа информация за следното: </a:t>
            </a:r>
            <a:br>
              <a:rPr sz="2400"/>
            </a:br>
            <a:endParaRPr b="0" lang="en-US" sz="2400" spc="-1" strike="noStrike">
              <a:solidFill>
                <a:srgbClr val="000000"/>
              </a:solidFill>
              <a:latin typeface="Calibri"/>
            </a:endParaRPr>
          </a:p>
        </p:txBody>
      </p:sp>
      <p:sp>
        <p:nvSpPr>
          <p:cNvPr id="675" name=""/>
          <p:cNvSpPr txBox="1"/>
          <p:nvPr/>
        </p:nvSpPr>
        <p:spPr>
          <a:xfrm>
            <a:off x="250560" y="2060640"/>
            <a:ext cx="8713800" cy="36720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основанието (съгласно Общите условия към Договора за БФП) за временното спиране;</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дейността/дейностите, чието изпълнение е спряно;</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при спиране на част от дейностите, се съобразяват и всички свързани дейности, които не могат да приключат преди изпълнението им;</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начална и крайна дата на периода на спирането и продължителността му в календарни дни, ако е възможно да се определи точната продължителност;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задължение на бенефициента да уведоми УО за обстоятелствата, обуславящи възобновяване на временно спряното изпълнение (ако е приложимо);</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нова крайна дата за приключване на проекта по договора за предоставяне на БФП, в случай че е възможно да се определи крайна дата;</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информацията за актуализираните документи, които следва да бъдат представени с възобновяване на дейностите по проекта и срокът за тяхното представяне;</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опис на документацията по преписката.</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219320" y="981000"/>
            <a:ext cx="666576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Times New Roman"/>
                <a:ea typeface="Times New Roman"/>
              </a:rPr>
              <a:t>Проектен цикъл</a:t>
            </a:r>
            <a:endParaRPr b="0" lang="en-US" sz="3200" spc="-1" strike="noStrike">
              <a:solidFill>
                <a:srgbClr val="000000"/>
              </a:solidFill>
              <a:latin typeface="Calibri"/>
            </a:endParaRPr>
          </a:p>
        </p:txBody>
      </p:sp>
      <p:grpSp>
        <p:nvGrpSpPr>
          <p:cNvPr id="632" name="Group 3"/>
          <p:cNvGrpSpPr/>
          <p:nvPr/>
        </p:nvGrpSpPr>
        <p:grpSpPr>
          <a:xfrm>
            <a:off x="673200" y="1557360"/>
            <a:ext cx="8291520" cy="4211640"/>
            <a:chOff x="673200" y="1557360"/>
            <a:chExt cx="8291520" cy="4211640"/>
          </a:xfrm>
        </p:grpSpPr>
        <p:sp>
          <p:nvSpPr>
            <p:cNvPr id="633" name="AutoShape 4"/>
            <p:cNvSpPr/>
            <p:nvPr/>
          </p:nvSpPr>
          <p:spPr>
            <a:xfrm>
              <a:off x="673200" y="1557360"/>
              <a:ext cx="8291520" cy="4211640"/>
            </a:xfrm>
            <a:prstGeom prst="rect">
              <a:avLst/>
            </a:prstGeom>
            <a:noFill/>
            <a:ln w="9360">
              <a:solidFill>
                <a:srgbClr val="3333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 Box 5"/>
            <p:cNvSpPr/>
            <p:nvPr/>
          </p:nvSpPr>
          <p:spPr>
            <a:xfrm>
              <a:off x="1833840" y="2820600"/>
              <a:ext cx="1824120" cy="56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Arial"/>
                </a:rPr>
                <a:t>Оценка </a:t>
              </a:r>
              <a:endParaRPr b="0" lang="en-US" sz="1600" spc="-1" strike="noStrike">
                <a:solidFill>
                  <a:srgbClr val="000000"/>
                </a:solidFill>
                <a:latin typeface="Arial"/>
              </a:endParaRPr>
            </a:p>
          </p:txBody>
        </p:sp>
        <p:sp>
          <p:nvSpPr>
            <p:cNvPr id="635" name="Text Box 6"/>
            <p:cNvSpPr/>
            <p:nvPr/>
          </p:nvSpPr>
          <p:spPr>
            <a:xfrm>
              <a:off x="5482080" y="2820600"/>
              <a:ext cx="2155680" cy="56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Идентифициране</a:t>
              </a:r>
              <a:endParaRPr b="0" lang="en-US" sz="1300" spc="-1" strike="noStrike">
                <a:solidFill>
                  <a:srgbClr val="000000"/>
                </a:solidFill>
                <a:latin typeface="Arial"/>
              </a:endParaRPr>
            </a:p>
          </p:txBody>
        </p:sp>
        <p:sp>
          <p:nvSpPr>
            <p:cNvPr id="636" name="Text Box 7"/>
            <p:cNvSpPr/>
            <p:nvPr/>
          </p:nvSpPr>
          <p:spPr>
            <a:xfrm>
              <a:off x="1833840" y="4084200"/>
              <a:ext cx="1824120" cy="56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Изпълнение</a:t>
              </a:r>
              <a:endParaRPr b="0" lang="en-US" sz="1400" spc="-1" strike="noStrike">
                <a:solidFill>
                  <a:srgbClr val="000000"/>
                </a:solidFill>
                <a:latin typeface="Arial"/>
              </a:endParaRPr>
            </a:p>
          </p:txBody>
        </p:sp>
        <p:sp>
          <p:nvSpPr>
            <p:cNvPr id="637" name="Text Box 8"/>
            <p:cNvSpPr/>
            <p:nvPr/>
          </p:nvSpPr>
          <p:spPr>
            <a:xfrm>
              <a:off x="5482080" y="4084200"/>
              <a:ext cx="1989720" cy="56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Планиране</a:t>
              </a:r>
              <a:endParaRPr b="0" lang="en-US" sz="1400" spc="-1" strike="noStrike">
                <a:solidFill>
                  <a:srgbClr val="000000"/>
                </a:solidFill>
                <a:latin typeface="Arial"/>
              </a:endParaRPr>
            </a:p>
          </p:txBody>
        </p:sp>
        <p:sp>
          <p:nvSpPr>
            <p:cNvPr id="638" name="Text Box 9"/>
            <p:cNvSpPr/>
            <p:nvPr/>
          </p:nvSpPr>
          <p:spPr>
            <a:xfrm>
              <a:off x="3657960" y="5067000"/>
              <a:ext cx="1824120" cy="56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Финансиране</a:t>
              </a:r>
              <a:endParaRPr b="0" lang="en-US" sz="1400" spc="-1" strike="noStrike">
                <a:solidFill>
                  <a:srgbClr val="000000"/>
                </a:solidFill>
                <a:latin typeface="Arial"/>
              </a:endParaRPr>
            </a:p>
          </p:txBody>
        </p:sp>
        <p:sp>
          <p:nvSpPr>
            <p:cNvPr id="639" name="Text Box 10"/>
            <p:cNvSpPr/>
            <p:nvPr/>
          </p:nvSpPr>
          <p:spPr>
            <a:xfrm>
              <a:off x="3657960" y="1837800"/>
              <a:ext cx="1824120" cy="56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rPr>
                <a:t>Програмиране</a:t>
              </a:r>
              <a:endParaRPr b="0" lang="en-US" sz="1300" spc="-1" strike="noStrike">
                <a:solidFill>
                  <a:srgbClr val="000000"/>
                </a:solidFill>
                <a:latin typeface="Arial"/>
              </a:endParaRPr>
            </a:p>
          </p:txBody>
        </p:sp>
        <p:sp>
          <p:nvSpPr>
            <p:cNvPr id="640" name="Line 11"/>
            <p:cNvSpPr/>
            <p:nvPr/>
          </p:nvSpPr>
          <p:spPr>
            <a:xfrm flipV="1">
              <a:off x="2662920" y="3381840"/>
              <a:ext cx="720" cy="701640"/>
            </a:xfrm>
            <a:prstGeom prst="line">
              <a:avLst/>
            </a:prstGeom>
            <a:ln w="19080">
              <a:solidFill>
                <a:srgbClr val="000000"/>
              </a:solidFill>
              <a:miter/>
              <a:headEnd len="lg" type="diamond"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12"/>
            <p:cNvSpPr/>
            <p:nvPr/>
          </p:nvSpPr>
          <p:spPr>
            <a:xfrm flipH="1" flipV="1">
              <a:off x="2828520" y="4645440"/>
              <a:ext cx="829080" cy="701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13"/>
            <p:cNvSpPr/>
            <p:nvPr/>
          </p:nvSpPr>
          <p:spPr>
            <a:xfrm flipH="1">
              <a:off x="5481720" y="4645800"/>
              <a:ext cx="994680" cy="701640"/>
            </a:xfrm>
            <a:prstGeom prst="line">
              <a:avLst/>
            </a:prstGeom>
            <a:ln w="28440">
              <a:solidFill>
                <a:srgbClr val="000000"/>
              </a:solidFill>
              <a:miter/>
              <a:headEnd len="med" type="triangle" w="me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14"/>
            <p:cNvSpPr/>
            <p:nvPr/>
          </p:nvSpPr>
          <p:spPr>
            <a:xfrm>
              <a:off x="6643080" y="3382200"/>
              <a:ext cx="0" cy="701640"/>
            </a:xfrm>
            <a:prstGeom prst="line">
              <a:avLst/>
            </a:prstGeom>
            <a:ln w="28440">
              <a:solidFill>
                <a:srgbClr val="000000"/>
              </a:solidFill>
              <a:miter/>
              <a:headEnd len="med" type="triangle" w="me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15"/>
            <p:cNvSpPr/>
            <p:nvPr/>
          </p:nvSpPr>
          <p:spPr>
            <a:xfrm>
              <a:off x="5482080" y="2118600"/>
              <a:ext cx="1160640" cy="701640"/>
            </a:xfrm>
            <a:prstGeom prst="line">
              <a:avLst/>
            </a:prstGeom>
            <a:ln w="28440">
              <a:solidFill>
                <a:srgbClr val="000000"/>
              </a:solidFill>
              <a:miter/>
              <a:headEnd len="med" type="triangle" w="me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16"/>
            <p:cNvSpPr/>
            <p:nvPr/>
          </p:nvSpPr>
          <p:spPr>
            <a:xfrm flipV="1">
              <a:off x="2662920" y="2118240"/>
              <a:ext cx="994680" cy="701640"/>
            </a:xfrm>
            <a:prstGeom prst="line">
              <a:avLst/>
            </a:prstGeom>
            <a:ln w="28440">
              <a:solidFill>
                <a:srgbClr val="000000"/>
              </a:solidFill>
              <a:miter/>
              <a:headEnd len="med" type="triangle" w="me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7"/>
            <p:cNvSpPr/>
            <p:nvPr/>
          </p:nvSpPr>
          <p:spPr>
            <a:xfrm>
              <a:off x="2331360" y="1978200"/>
              <a:ext cx="66312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18"/>
            <p:cNvSpPr/>
            <p:nvPr/>
          </p:nvSpPr>
          <p:spPr>
            <a:xfrm>
              <a:off x="4321440" y="3101400"/>
              <a:ext cx="663120" cy="1080"/>
            </a:xfrm>
            <a:prstGeom prst="line">
              <a:avLst/>
            </a:prstGeom>
            <a:ln w="28440">
              <a:solidFill>
                <a:srgbClr val="000000"/>
              </a:solidFill>
              <a:miter/>
              <a:tailEnd len="lg" type="triangle" w="lg"/>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125000"/>
            <a:ext cx="8229600" cy="574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Крайната дата на договора </a:t>
            </a:r>
            <a:br>
              <a:rPr sz="2800"/>
            </a:br>
            <a:r>
              <a:rPr b="1" lang="bg-BG" sz="2800" spc="-1" strike="noStrike">
                <a:solidFill>
                  <a:srgbClr val="000000"/>
                </a:solidFill>
                <a:latin typeface="Times New Roman"/>
                <a:ea typeface="Times New Roman"/>
              </a:rPr>
              <a:t>за предоставяне на БФП</a:t>
            </a:r>
            <a:r>
              <a:rPr b="0" lang="bg-BG"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
        <p:nvSpPr>
          <p:cNvPr id="677" name=""/>
          <p:cNvSpPr txBox="1"/>
          <p:nvPr/>
        </p:nvSpPr>
        <p:spPr>
          <a:xfrm>
            <a:off x="457200" y="2098800"/>
            <a:ext cx="8229600" cy="420984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е определя от периода на временно спиране /изчислява се като към настоящата дата за приключване на договора се прибави продължителността на спирането в календарни дни/, като това не променя общата продължителност на проекта.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u="sng">
                <a:solidFill>
                  <a:srgbClr val="000000"/>
                </a:solidFill>
                <a:uFillTx/>
                <a:latin typeface="Times New Roman"/>
                <a:ea typeface="Times New Roman"/>
              </a:rPr>
              <a:t>При частично спиране: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сички дейности, които не се засягат от спирането следва да приключат на първоначално определената крайна да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амо дейностите, които са били временно спрени могат да приключат на новата крайна дата, определена съгласно периода на прекъсване. Като за същите не трябва да има изпълнение през периода на спиран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78920" y="1268280"/>
            <a:ext cx="8713800" cy="8654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Възобновяване на </a:t>
            </a:r>
            <a:br>
              <a:rPr sz="2800"/>
            </a:br>
            <a:r>
              <a:rPr b="1" lang="ru-RU" sz="2800" spc="-1" strike="noStrike">
                <a:solidFill>
                  <a:srgbClr val="000000"/>
                </a:solidFill>
                <a:latin typeface="Times New Roman"/>
                <a:ea typeface="Times New Roman"/>
              </a:rPr>
              <a:t>временно спрени дейности по проект</a:t>
            </a:r>
            <a:br>
              <a:rPr sz="2800"/>
            </a:br>
            <a:endParaRPr b="0" lang="en-US" sz="2800" spc="-1" strike="noStrike">
              <a:solidFill>
                <a:srgbClr val="000000"/>
              </a:solidFill>
              <a:latin typeface="Calibri"/>
            </a:endParaRPr>
          </a:p>
        </p:txBody>
      </p:sp>
      <p:sp>
        <p:nvSpPr>
          <p:cNvPr id="679" name=""/>
          <p:cNvSpPr txBox="1"/>
          <p:nvPr/>
        </p:nvSpPr>
        <p:spPr>
          <a:xfrm>
            <a:off x="324000" y="2460240"/>
            <a:ext cx="8640720" cy="399276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ВАЖНО! </a:t>
            </a:r>
            <a:r>
              <a:rPr b="0" lang="ru-RU" sz="2000" spc="-1" strike="noStrike">
                <a:solidFill>
                  <a:srgbClr val="000000"/>
                </a:solidFill>
                <a:latin typeface="Times New Roman"/>
                <a:ea typeface="Times New Roman"/>
              </a:rPr>
              <a:t>Договорът възобновява автоматично своето действие при отпадане на обстоятелствата, довели до временно спиране на договора и посочени в писмото за временно спиране. Бенефициентът следва да възобнови изпълнението на спрените дейности по проекта (строителство, доставки, услуги и други) от датата на отпадане на обстоятелствата за временно спиране съгласно писмото за временно спиране. Управляващият орган допълнително ще уведоми бенефициента за новата крайна дата на договор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178920" y="1125000"/>
            <a:ext cx="8643960" cy="4286520"/>
          </a:xfrm>
          <a:prstGeom prst="rect">
            <a:avLst/>
          </a:prstGeom>
          <a:noFill/>
          <a:ln w="0">
            <a:noFill/>
          </a:ln>
        </p:spPr>
        <p:txBody>
          <a:bodyPr lIns="90000" rIns="90000" tIns="46800" bIns="46800" anchor="t">
            <a:normAutofit fontScale="98000"/>
          </a:bodyPr>
          <a:p>
            <a:pPr marL="335880" indent="-335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УКАЗАНИЯ ЗА ПРОВЕЖДАНЕ НА</a:t>
            </a:r>
            <a:endParaRPr b="0" lang="en-US" sz="2000" spc="-1" strike="noStrike">
              <a:solidFill>
                <a:srgbClr val="000000"/>
              </a:solidFill>
              <a:latin typeface="Calibri"/>
            </a:endParaRPr>
          </a:p>
          <a:p>
            <a:pPr marL="335880" indent="-335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ПРОЦЕДУРИ ЗА ИЗБОР НА ИЗПЪЛНИТЕЛИ ЗОП </a:t>
            </a:r>
            <a:endParaRPr b="0" lang="en-US" sz="2000" spc="-1" strike="noStrike">
              <a:solidFill>
                <a:srgbClr val="000000"/>
              </a:solidFill>
              <a:latin typeface="Calibri"/>
            </a:endParaRPr>
          </a:p>
          <a:p>
            <a:pPr marL="335880" indent="-335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Бенефициентът е длъжен </a:t>
            </a:r>
            <a:r>
              <a:rPr b="1" i="1" lang="bg-BG" sz="1800" spc="-1" strike="noStrike">
                <a:solidFill>
                  <a:srgbClr val="000000"/>
                </a:solidFill>
                <a:latin typeface="Times New Roman"/>
                <a:ea typeface="Times New Roman"/>
              </a:rPr>
              <a:t>до 10 работни дни след сключване на договора за безвъзмездна финансова помощ да представи </a:t>
            </a:r>
            <a:r>
              <a:rPr b="0" i="1" lang="bg-BG" sz="1800" spc="-1" strike="noStrike">
                <a:solidFill>
                  <a:srgbClr val="000000"/>
                </a:solidFill>
                <a:latin typeface="Times New Roman"/>
                <a:ea typeface="Times New Roman"/>
              </a:rPr>
              <a:t>актуализиран график за провеждане на тръжни процедури</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Изпращане на покана до УО на ОПРР за наблюдатели в комисиите за избор на изпълнители – </a:t>
            </a:r>
            <a:r>
              <a:rPr b="1" i="1" lang="bg-BG" sz="1800" spc="-1" strike="noStrike">
                <a:solidFill>
                  <a:srgbClr val="000000"/>
                </a:solidFill>
                <a:latin typeface="Times New Roman"/>
                <a:ea typeface="Times New Roman"/>
              </a:rPr>
              <a:t>не по-късно от 15 календарни дни преди дата на изтичане на срока за кандидатстване</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Бенефициентът е длъжен да уведоми УО на ОПРР в срок </a:t>
            </a:r>
            <a:r>
              <a:rPr b="1" i="1" lang="bg-BG" sz="1800" spc="-1" strike="noStrike">
                <a:solidFill>
                  <a:srgbClr val="000000"/>
                </a:solidFill>
                <a:latin typeface="Times New Roman"/>
                <a:ea typeface="Times New Roman"/>
              </a:rPr>
              <a:t>до 10 работни дни от датата на подписване с изпълнителя </a:t>
            </a:r>
            <a:r>
              <a:rPr b="0" i="1" lang="bg-BG" sz="1800" spc="-1" strike="noStrike">
                <a:solidFill>
                  <a:srgbClr val="000000"/>
                </a:solidFill>
                <a:latin typeface="Times New Roman"/>
                <a:ea typeface="Times New Roman"/>
              </a:rPr>
              <a:t>за сключен договор за възлагане на обществена поръчка</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и възлагане на обществени поръчки, финансирани със средства на ОПРР, бенефициентите следва да спазват и изискванията на Общите насоки за избягване на конфликт на интереси и за спазване принципа на безпристрастност и независимос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456840" y="1600200"/>
            <a:ext cx="7427880" cy="4525920"/>
          </a:xfrm>
          <a:prstGeom prst="rect">
            <a:avLst/>
          </a:prstGeom>
          <a:noFill/>
          <a:ln w="0">
            <a:noFill/>
          </a:ln>
        </p:spPr>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2.</a:t>
            </a:r>
            <a:r>
              <a:rPr b="0" lang="bg-BG" sz="2000" spc="-1" strike="noStrike">
                <a:solidFill>
                  <a:srgbClr val="000000"/>
                </a:solidFill>
                <a:latin typeface="Times New Roman"/>
                <a:ea typeface="Times New Roman"/>
              </a:rPr>
              <a:t> (1) Обществените поръчки се възлагат по процедурите, предвидени в този закон, в съответствие със следните принципи:</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 публичност и прозрачност;</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свободна и лоялна конкуренция;</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3. равнопоставеност и недопускане на дискриминация.</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324000" y="1267920"/>
            <a:ext cx="8572320" cy="42325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ГРАФИК НА ПОРЪЧКИТЕ. ПЛАНИРАНЕ.</a:t>
            </a:r>
            <a:endParaRPr b="0" lang="en-US" sz="24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 зависимост от подготвените технически спецификации и технически задани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Необходимо ли е време за извършване на допълнително проучване, за да се формират прецизно техническите изисквания към кандидатите?</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реме за изготвяне на документацията и обявяване на процедурата. Структуриране на отделни поръчки/обособени позиции.</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рок за подаване на оферти – в съответствие с процедурата и разпоредбите на ЗОП.</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ключени ли са процедурите в предварителното обявление по чл. 23 от ЗОП – поръчки, които Възложителят е планирал за следващите 12 месеца.</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рок за оценка (Важно от гледна точка на планирането).</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ключване на договор и изпълнение.</a:t>
            </a:r>
            <a:endParaRPr b="0" lang="en-US" sz="1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6840" y="1413000"/>
            <a:ext cx="7467480" cy="792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ПРИМЕРЕН ОБРАЗЕЦ НА ГРАФИК ЗА ТРЪЖНИТЕ ПРОЦЕДУРИ - ДЕКЛАРАЦИЯ</a:t>
            </a:r>
            <a:endParaRPr b="0" lang="en-US" sz="2400" spc="-1" strike="noStrike">
              <a:solidFill>
                <a:srgbClr val="000000"/>
              </a:solidFill>
              <a:latin typeface="Calibri"/>
            </a:endParaRPr>
          </a:p>
        </p:txBody>
      </p:sp>
      <p:graphicFrame>
        <p:nvGraphicFramePr>
          <p:cNvPr id="684" name=""/>
          <p:cNvGraphicFramePr/>
          <p:nvPr/>
        </p:nvGraphicFramePr>
        <p:xfrm>
          <a:off x="457200" y="2349360"/>
          <a:ext cx="7931160" cy="3384720"/>
        </p:xfrm>
        <a:graphic>
          <a:graphicData uri="http://schemas.openxmlformats.org/drawingml/2006/table">
            <a:tbl>
              <a:tblPr/>
              <a:tblGrid>
                <a:gridCol w="7931160"/>
              </a:tblGrid>
              <a:tr h="29206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Долуподписаният, ……………………………………………………………………. …..,                               /име и длъжност/ в качеството си на представляващ  …………………………………….. , съгласно ………………………………………………. с настоящото декларирам, че:</a:t>
                      </a:r>
                      <a:br>
                        <a:rPr sz="1600"/>
                      </a:br>
                      <a:r>
                        <a:rPr b="0" lang="bg-BG" sz="1600" spc="-1" strike="noStrike">
                          <a:solidFill>
                            <a:srgbClr val="000000"/>
                          </a:solidFill>
                          <a:latin typeface="Times New Roman"/>
                          <a:ea typeface="Times New Roman"/>
                        </a:rPr>
                        <a:t> са обединени всички идентични и сходни дейности или ще бъдат проведени отделни процедури, които са определени по вид на база общата им стойност, по всички договори за предоставяне на безвъзмездна финансова помощ по Оперативна Програма …………………………………………………………….с бенефициент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u="sng">
                          <a:solidFill>
                            <a:srgbClr val="000000"/>
                          </a:solidFill>
                          <a:uFillTx/>
                          <a:latin typeface="Times New Roman"/>
                          <a:ea typeface="Times New Roman"/>
                        </a:rPr>
                        <a:t>Известна ми е наказателната отговорност по чл. 313 от Наказателния кодекс за деклариране на неверни обстоятелства!</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r>
              <a:tr h="4870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Декларатор:</a:t>
                      </a:r>
                      <a:br>
                        <a:rPr sz="1600"/>
                      </a:br>
                      <a:r>
                        <a:rPr b="0" lang="bg-BG" sz="1600" spc="-1" strike="noStrike">
                          <a:solidFill>
                            <a:srgbClr val="000000"/>
                          </a:solidFill>
                          <a:latin typeface="Times New Roman"/>
                          <a:ea typeface="Times New Roman"/>
                        </a:rPr>
                        <a:t>      (подпис и печат)  </a:t>
                      </a:r>
                      <a:endParaRPr b="0" lang="en-US" sz="1600" spc="-1" strike="noStrike">
                        <a:solidFill>
                          <a:srgbClr val="000000"/>
                        </a:solidFill>
                        <a:latin typeface="Arial"/>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5" name=""/>
          <p:cNvGraphicFramePr/>
          <p:nvPr/>
        </p:nvGraphicFramePr>
        <p:xfrm>
          <a:off x="755640" y="1557360"/>
          <a:ext cx="7632720" cy="3779640"/>
        </p:xfrm>
        <a:graphic>
          <a:graphicData uri="http://schemas.openxmlformats.org/drawingml/2006/table">
            <a:tbl>
              <a:tblPr/>
              <a:tblGrid>
                <a:gridCol w="7632720"/>
              </a:tblGrid>
              <a:tr h="615960">
                <a:tc>
                  <a:txBody>
                    <a:bodyPr lIns="68400" rIns="68400" tIns="0" bIns="0" anchor="t">
                      <a:no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00"/>
                          </a:solidFill>
                          <a:latin typeface="Calibri"/>
                        </a:rPr>
                        <a:t> </a:t>
                      </a:r>
                      <a:endParaRPr b="0" lang="en-US" sz="11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Calibri"/>
                        </a:rPr>
                        <a:t> </a:t>
                      </a:r>
                      <a:r>
                        <a:rPr b="1" lang="bg-BG" sz="2400" spc="-1" strike="noStrike">
                          <a:solidFill>
                            <a:srgbClr val="000000"/>
                          </a:solidFill>
                          <a:latin typeface="Times New Roman"/>
                          <a:ea typeface="Times New Roman"/>
                        </a:rPr>
                        <a:t>ВИДОВЕ ПРОЦЕДУРИ ПО  НОВИЯ ЗОП</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noFill/>
                  </a:tcPr>
                </a:tc>
              </a:tr>
              <a:tr h="3163680">
                <a:tc>
                  <a:txBody>
                    <a:bodyPr lIns="68400" rIns="68400" tIns="0" bIns="0" anchor="t">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Открита</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Ограничена</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Състезателен диалог</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роцедура на договаряне с обявление</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роцедура на договаряне без обявление</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Конкурс за проект  </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о чл. 14, ал.2</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о чл. 14, ал.3</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о чл. 14, ал.4</a:t>
                      </a:r>
                      <a:endParaRPr b="0" lang="en-US" sz="20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6" name=""/>
          <p:cNvGraphicFramePr/>
          <p:nvPr/>
        </p:nvGraphicFramePr>
        <p:xfrm>
          <a:off x="1523880" y="3527280"/>
          <a:ext cx="6096240" cy="669960"/>
        </p:xfrm>
        <a:graphic>
          <a:graphicData uri="http://schemas.openxmlformats.org/drawingml/2006/table">
            <a:tbl>
              <a:tblPr/>
              <a:tblGrid>
                <a:gridCol w="2133720"/>
                <a:gridCol w="3962520"/>
              </a:tblGrid>
              <a:tr h="167760">
                <a:tc>
                  <a:txBody>
                    <a:bodyPr lIns="68760" rIns="6876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Calibri"/>
                        </a:rPr>
                        <a:t>№ </a:t>
                      </a:r>
                      <a:r>
                        <a:rPr b="0" lang="bg-BG" sz="1100" spc="-1" strike="noStrike">
                          <a:solidFill>
                            <a:srgbClr val="000000"/>
                          </a:solidFill>
                          <a:latin typeface="Calibri"/>
                        </a:rPr>
                        <a:t>на Договора</a:t>
                      </a:r>
                      <a:r>
                        <a:rPr b="0" lang="en-GB" sz="1100" spc="-1" strike="noStrike">
                          <a:solidFill>
                            <a:srgbClr val="000000"/>
                          </a:solidFill>
                          <a:latin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7760">
                <a:tc>
                  <a:txBody>
                    <a:bodyPr lIns="68760" rIns="6876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Calibri"/>
                        </a:rPr>
                        <a:t>Наименование на проекта</a:t>
                      </a:r>
                      <a:r>
                        <a:rPr b="0" lang="en-GB" sz="1100" spc="-1" strike="noStrike">
                          <a:solidFill>
                            <a:srgbClr val="000000"/>
                          </a:solidFill>
                          <a:latin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Calibri"/>
                        </a:rPr>
                        <a:t>Продължителност на проекта</a:t>
                      </a:r>
                      <a:r>
                        <a:rPr b="0" lang="en-GB" sz="1100" spc="-1" strike="noStrike">
                          <a:solidFill>
                            <a:srgbClr val="000000"/>
                          </a:solidFill>
                          <a:latin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Calibri"/>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6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Calibri"/>
                        </a:rPr>
                        <a:t>Бенефициент</a:t>
                      </a:r>
                      <a:r>
                        <a:rPr b="0" lang="en-GB" sz="1100" spc="-1" strike="noStrike">
                          <a:solidFill>
                            <a:srgbClr val="000000"/>
                          </a:solidFill>
                          <a:latin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Calibri"/>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87" name=""/>
          <p:cNvGraphicFramePr/>
          <p:nvPr/>
        </p:nvGraphicFramePr>
        <p:xfrm>
          <a:off x="250920" y="1709640"/>
          <a:ext cx="8496360" cy="3880080"/>
        </p:xfrm>
        <a:graphic>
          <a:graphicData uri="http://schemas.openxmlformats.org/drawingml/2006/table">
            <a:tbl>
              <a:tblPr/>
              <a:tblGrid>
                <a:gridCol w="282600"/>
                <a:gridCol w="284040"/>
                <a:gridCol w="285840"/>
                <a:gridCol w="287280"/>
                <a:gridCol w="284040"/>
                <a:gridCol w="284400"/>
                <a:gridCol w="284040"/>
                <a:gridCol w="285840"/>
                <a:gridCol w="287280"/>
                <a:gridCol w="282600"/>
                <a:gridCol w="282600"/>
                <a:gridCol w="282600"/>
                <a:gridCol w="258480"/>
                <a:gridCol w="360360"/>
                <a:gridCol w="1944720"/>
                <a:gridCol w="1366920"/>
                <a:gridCol w="1152720"/>
              </a:tblGrid>
              <a:tr h="182520">
                <a:tc rowSpan="3">
                  <a:txBody>
                    <a:bodyPr lIns="60120" rIns="60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N</a:t>
                      </a:r>
                      <a:endParaRPr b="0" lang="en-US" sz="1000" spc="-1" strike="noStrike">
                        <a:solidFill>
                          <a:srgbClr val="000000"/>
                        </a:solidFill>
                        <a:latin typeface="Arial"/>
                      </a:endParaRPr>
                    </a:p>
                  </a:txBody>
                  <a:tcPr anchor="ctr" marL="60120" marR="60120">
                    <a:lnL w="5760">
                      <a:solidFill>
                        <a:srgbClr val="ffffff"/>
                      </a:solidFill>
                    </a:lnL>
                    <a:lnR w="18720">
                      <a:solidFill>
                        <a:srgbClr val="ffffff"/>
                      </a:solidFill>
                    </a:lnR>
                    <a:lnT w="5760">
                      <a:solidFill>
                        <a:srgbClr val="ffffff"/>
                      </a:solidFill>
                    </a:lnT>
                    <a:lnB w="18720">
                      <a:solidFill>
                        <a:srgbClr val="ffffff"/>
                      </a:solidFill>
                    </a:lnB>
                    <a:solidFill>
                      <a:srgbClr val="4f81bd"/>
                    </a:solidFill>
                  </a:tcPr>
                </a:tc>
                <a:tc gridSpan="13">
                  <a:txBody>
                    <a:bodyPr lIns="60120" rIns="60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000000"/>
                          </a:solidFill>
                          <a:latin typeface="Times New Roman"/>
                          <a:ea typeface="Times New Roman"/>
                        </a:rPr>
                        <a:t>Тип процедура</a:t>
                      </a:r>
                      <a:endParaRPr b="0" lang="en-US" sz="1000" spc="-1" strike="noStrike">
                        <a:solidFill>
                          <a:srgbClr val="000000"/>
                        </a:solidFill>
                        <a:latin typeface="Arial"/>
                      </a:endParaRPr>
                    </a:p>
                  </a:txBody>
                  <a:tcPr anchor="ctr" marL="60120" marR="60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0120" rIns="60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000000"/>
                          </a:solidFill>
                          <a:latin typeface="Times New Roman"/>
                          <a:ea typeface="Times New Roman"/>
                        </a:rPr>
                        <a:t>Разпределение на бюджетни средства (по обособени позиции, ако е приложимо)</a:t>
                      </a:r>
                      <a:endParaRPr b="0" lang="en-US" sz="1000" spc="-1" strike="noStrike">
                        <a:solidFill>
                          <a:srgbClr val="000000"/>
                        </a:solidFill>
                        <a:latin typeface="Arial"/>
                      </a:endParaRPr>
                    </a:p>
                  </a:txBody>
                  <a:tcPr anchor="ctr" marL="60120" marR="60120">
                    <a:lnL w="18720">
                      <a:solidFill>
                        <a:srgbClr val="ffffff"/>
                      </a:solidFill>
                    </a:lnL>
                    <a:lnR w="5760">
                      <a:solidFill>
                        <a:srgbClr val="ffffff"/>
                      </a:solidFill>
                    </a:lnR>
                    <a:lnT w="5760">
                      <a:solidFill>
                        <a:srgbClr val="ffffff"/>
                      </a:solidFill>
                    </a:lnT>
                    <a:lnB w="18720">
                      <a:solidFill>
                        <a:srgbClr val="ffffff"/>
                      </a:solidFill>
                    </a:lnB>
                    <a:solidFill>
                      <a:srgbClr val="4f81bd"/>
                    </a:solidFill>
                  </a:tcPr>
                </a:tc>
                <a:tc rowSpan="2">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000000"/>
                          </a:solidFill>
                          <a:latin typeface="Times New Roman"/>
                          <a:ea typeface="Times New Roman"/>
                        </a:rPr>
                        <a:t>Планирана дата за обявяване на процедурата - индикативна</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rowSpan="2">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000000"/>
                          </a:solidFill>
                          <a:latin typeface="Times New Roman"/>
                          <a:ea typeface="Times New Roman"/>
                        </a:rPr>
                        <a:t>Планирана дата за отваряне на процедурата - индикативна</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0120" rIns="60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60120" marR="60120">
                    <a:lnL w="18720">
                      <a:solidFill>
                        <a:srgbClr val="ffffff"/>
                      </a:solidFill>
                    </a:lnL>
                    <a:lnR w="576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10">
                  <a:txBody>
                    <a:bodyPr lIns="60120" rIns="601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ЗОП</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60120" marR="60120">
                    <a:lnL w="5760">
                      <a:solidFill>
                        <a:srgbClr val="ffffff"/>
                      </a:solidFill>
                    </a:lnL>
                    <a:lnR w="18720">
                      <a:solidFill>
                        <a:srgbClr val="ffffff"/>
                      </a:solidFill>
                    </a:lnR>
                    <a:lnT w="1872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2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Д</a:t>
                      </a:r>
                      <a:endParaRPr b="0" lang="en-US" sz="1000" spc="-1" strike="noStrike">
                        <a:solidFill>
                          <a:srgbClr val="000000"/>
                        </a:solidFill>
                        <a:latin typeface="Arial"/>
                      </a:endParaRPr>
                    </a:p>
                  </a:txBody>
                  <a:tcPr anchor="t" marL="60120" marR="60120">
                    <a:lnL w="1872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У</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С</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5</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6</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gridSpan="2">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e9edf4"/>
                    </a:solid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Дата/Месе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Година</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000000"/>
                          </a:solidFill>
                          <a:latin typeface="Times New Roman"/>
                          <a:ea typeface="Times New Roman"/>
                        </a:rPr>
                        <a:t>Дата/Месе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000000"/>
                          </a:solidFill>
                          <a:latin typeface="Times New Roman"/>
                          <a:ea typeface="Times New Roman"/>
                        </a:rPr>
                        <a:t>Година</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r h="124920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gridSpan="2">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Об.Поз. 1 Бюджетно перо/пера </a:t>
                      </a:r>
                      <a:r>
                        <a:rPr b="0" lang="ru-RU" sz="1000" spc="-1" strike="noStrike">
                          <a:solidFill>
                            <a:srgbClr val="000000"/>
                          </a:solidFill>
                          <a:latin typeface="Times New Roman"/>
                          <a:ea typeface="Times New Roman"/>
                        </a:rPr>
                        <a:t>“</a:t>
                      </a:r>
                      <a:r>
                        <a:rPr b="0" lang="bg-BG" sz="1000" spc="-1" strike="noStrike">
                          <a:solidFill>
                            <a:srgbClr val="000000"/>
                          </a:solidFill>
                          <a:latin typeface="Times New Roman"/>
                          <a:ea typeface="Times New Roman"/>
                        </a:rPr>
                        <a:t>………</a:t>
                      </a:r>
                      <a:r>
                        <a:rPr b="0" lang="ru-RU" sz="1000" spc="-1" strike="noStrike">
                          <a:solidFill>
                            <a:srgbClr val="000000"/>
                          </a:solidFill>
                          <a:latin typeface="Times New Roman"/>
                          <a:ea typeface="Times New Roman"/>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Стойност - ……… л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Об.Поз. 2 Бюджетно перо/пера </a:t>
                      </a:r>
                      <a:r>
                        <a:rPr b="0" lang="ru-RU" sz="1000" spc="-1" strike="noStrike">
                          <a:solidFill>
                            <a:srgbClr val="000000"/>
                          </a:solidFill>
                          <a:latin typeface="Times New Roman"/>
                          <a:ea typeface="Times New Roman"/>
                        </a:rPr>
                        <a:t>“</a:t>
                      </a:r>
                      <a:r>
                        <a:rPr b="0" lang="bg-BG" sz="1000" spc="-1" strike="noStrike">
                          <a:solidFill>
                            <a:srgbClr val="000000"/>
                          </a:solidFill>
                          <a:latin typeface="Times New Roman"/>
                          <a:ea typeface="Times New Roman"/>
                        </a:rPr>
                        <a:t>………</a:t>
                      </a: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Стойност - ……… лв.</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Обща сума    - ……… лв.</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22716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d0d8e8"/>
                    </a:solidFill>
                  </a:tcPr>
                </a:tc>
                <a:tc gridSpan="2">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e9edf4"/>
                    </a:solid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65240">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gridSpan="2">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0120" rIns="601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0120" rIns="601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0120" marR="601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txBox="1"/>
          <p:nvPr/>
        </p:nvSpPr>
        <p:spPr>
          <a:xfrm>
            <a:off x="457200" y="1428840"/>
            <a:ext cx="8229600" cy="4697280"/>
          </a:xfrm>
          <a:prstGeom prst="rect">
            <a:avLst/>
          </a:prstGeom>
          <a:noFill/>
          <a:ln w="0">
            <a:noFill/>
          </a:ln>
        </p:spPr>
        <p:txBody>
          <a:bodyPr lIns="90000" rIns="90000" tIns="46800" bIns="46800"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graphicFrame>
        <p:nvGraphicFramePr>
          <p:cNvPr id="689" name=""/>
          <p:cNvGraphicFramePr/>
          <p:nvPr/>
        </p:nvGraphicFramePr>
        <p:xfrm>
          <a:off x="250920" y="1197000"/>
          <a:ext cx="8588160" cy="4424400"/>
        </p:xfrm>
        <a:graphic>
          <a:graphicData uri="http://schemas.openxmlformats.org/drawingml/2006/table">
            <a:tbl>
              <a:tblPr/>
              <a:tblGrid>
                <a:gridCol w="4321080"/>
                <a:gridCol w="1655640"/>
                <a:gridCol w="2611440"/>
              </a:tblGrid>
              <a:tr h="420840">
                <a:tc>
                  <a:txBody>
                    <a:bodyPr lIns="43920" rIns="439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Times New Roman"/>
                          <a:ea typeface="Times New Roman"/>
                        </a:rPr>
                        <a:t>Новия ЗОП</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3920" rIns="439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Times New Roman"/>
                          <a:ea typeface="Times New Roman"/>
                        </a:rPr>
                        <a:t>строителство</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43920" rIns="4392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доставки, услуги и конкурс за проект</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3972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Чл. 14</a:t>
                      </a:r>
                      <a:r>
                        <a:rPr b="1" lang="bg-BG" sz="1200" spc="-1" strike="noStrike">
                          <a:solidFill>
                            <a:srgbClr val="ffffff"/>
                          </a:solidFill>
                          <a:latin typeface="Times New Roman"/>
                          <a:ea typeface="Times New Roman"/>
                        </a:rPr>
                        <a:t> (1) Процедурите по закона се прилагат задължително при възлагане на обществени поръчки, които имат следните стойности без ДДС</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авни или по-високи от 2</a:t>
                      </a:r>
                      <a:r>
                        <a:rPr b="0" lang="bg-BG" sz="1200" spc="-1" strike="noStrike">
                          <a:solidFill>
                            <a:srgbClr val="000000"/>
                          </a:solidFill>
                          <a:latin typeface="Times New Roman"/>
                          <a:ea typeface="Times New Roman"/>
                        </a:rPr>
                        <a:t>64</a:t>
                      </a:r>
                      <a:r>
                        <a:rPr b="0" lang="en-US" sz="1200" spc="-1" strike="noStrike">
                          <a:solidFill>
                            <a:srgbClr val="000000"/>
                          </a:solidFill>
                          <a:latin typeface="Times New Roman"/>
                          <a:ea typeface="Times New Roman"/>
                        </a:rPr>
                        <a:t> 000 лв</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равни или по-високи от 6</a:t>
                      </a:r>
                      <a:r>
                        <a:rPr b="0" lang="bg-BG" sz="1200" spc="-1" strike="noStrike">
                          <a:solidFill>
                            <a:srgbClr val="000000"/>
                          </a:solidFill>
                          <a:latin typeface="Times New Roman"/>
                          <a:ea typeface="Times New Roman"/>
                        </a:rPr>
                        <a:t>6</a:t>
                      </a:r>
                      <a:r>
                        <a:rPr b="0" lang="en-US" sz="1200" spc="-1" strike="noStrike">
                          <a:solidFill>
                            <a:srgbClr val="000000"/>
                          </a:solidFill>
                          <a:latin typeface="Times New Roman"/>
                          <a:ea typeface="Times New Roman"/>
                        </a:rPr>
                        <a:t> 000 лв</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1576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Times New Roman"/>
                          <a:ea typeface="Times New Roman"/>
                        </a:rPr>
                        <a:t>Чл.14 </a:t>
                      </a:r>
                      <a:r>
                        <a:rPr b="1" lang="en-US" sz="1200" spc="-1" strike="noStrike">
                          <a:solidFill>
                            <a:srgbClr val="ffffff"/>
                          </a:solidFill>
                          <a:latin typeface="Times New Roman"/>
                          <a:ea typeface="Times New Roman"/>
                        </a:rPr>
                        <a:t>(2) Възложителите могат да прилагат предвидените в този закон опростени правила, когато обществените поръчки имат следните стойности без ДДС</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т 2</a:t>
                      </a:r>
                      <a:r>
                        <a:rPr b="0" lang="bg-BG" sz="1200" spc="-1" strike="noStrike">
                          <a:solidFill>
                            <a:srgbClr val="000000"/>
                          </a:solidFill>
                          <a:latin typeface="Times New Roman"/>
                          <a:ea typeface="Times New Roman"/>
                        </a:rPr>
                        <a:t>64 </a:t>
                      </a:r>
                      <a:r>
                        <a:rPr b="0" lang="en-US" sz="1200" spc="-1" strike="noStrike">
                          <a:solidFill>
                            <a:srgbClr val="000000"/>
                          </a:solidFill>
                          <a:latin typeface="Times New Roman"/>
                          <a:ea typeface="Times New Roman"/>
                        </a:rPr>
                        <a:t>000 до 2 </a:t>
                      </a:r>
                      <a:r>
                        <a:rPr b="0" lang="bg-BG" sz="1200" spc="-1" strike="noStrike">
                          <a:solidFill>
                            <a:srgbClr val="000000"/>
                          </a:solidFill>
                          <a:latin typeface="Times New Roman"/>
                          <a:ea typeface="Times New Roman"/>
                        </a:rPr>
                        <a:t>640</a:t>
                      </a:r>
                      <a:r>
                        <a:rPr b="0" lang="en-US" sz="1200" spc="-1" strike="noStrike">
                          <a:solidFill>
                            <a:srgbClr val="000000"/>
                          </a:solidFill>
                          <a:latin typeface="Times New Roman"/>
                          <a:ea typeface="Times New Roman"/>
                        </a:rPr>
                        <a:t> 000 лв</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т 6</a:t>
                      </a:r>
                      <a:r>
                        <a:rPr b="0" lang="bg-BG" sz="1200" spc="-1" strike="noStrike">
                          <a:solidFill>
                            <a:srgbClr val="000000"/>
                          </a:solidFill>
                          <a:latin typeface="Times New Roman"/>
                          <a:ea typeface="Times New Roman"/>
                        </a:rPr>
                        <a:t>6</a:t>
                      </a:r>
                      <a:r>
                        <a:rPr b="0" lang="en-US" sz="1200" spc="-1" strike="noStrike">
                          <a:solidFill>
                            <a:srgbClr val="000000"/>
                          </a:solidFill>
                          <a:latin typeface="Times New Roman"/>
                          <a:ea typeface="Times New Roman"/>
                        </a:rPr>
                        <a:t> 000 лв</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050840">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Times New Roman"/>
                          <a:ea typeface="Times New Roman"/>
                        </a:rPr>
                        <a:t>Чл.14 </a:t>
                      </a:r>
                      <a:r>
                        <a:rPr b="1" lang="en-US" sz="1200" spc="-1" strike="noStrike">
                          <a:solidFill>
                            <a:srgbClr val="ffffff"/>
                          </a:solidFill>
                          <a:latin typeface="Times New Roman"/>
                          <a:ea typeface="Times New Roman"/>
                        </a:rPr>
                        <a:t>(3) Възложителите могат да не провеждат процедурите по закона, но са длъжни да прилагат условията и реда на глава осма "а" при обществени поръчки на стойност без ДДС</a:t>
                      </a:r>
                      <a:r>
                        <a:rPr b="1" lang="bg-BG" sz="1200" spc="-1" strike="noStrike">
                          <a:solidFill>
                            <a:srgbClr val="ffffff"/>
                          </a:solidFill>
                          <a:latin typeface="Times New Roman"/>
                          <a:ea typeface="Times New Roman"/>
                        </a:rPr>
                        <a:t> (възложителят събира оферти с публикуване на покана)</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т </a:t>
                      </a:r>
                      <a:r>
                        <a:rPr b="0" lang="bg-BG" sz="1200" spc="-1" strike="noStrike">
                          <a:solidFill>
                            <a:srgbClr val="000000"/>
                          </a:solidFill>
                          <a:latin typeface="Times New Roman"/>
                          <a:ea typeface="Times New Roman"/>
                        </a:rPr>
                        <a:t>66</a:t>
                      </a:r>
                      <a:r>
                        <a:rPr b="0" lang="en-US" sz="1200" spc="-1" strike="noStrike">
                          <a:solidFill>
                            <a:srgbClr val="000000"/>
                          </a:solidFill>
                          <a:latin typeface="Times New Roman"/>
                          <a:ea typeface="Times New Roman"/>
                        </a:rPr>
                        <a:t> 000 до 240 000 лв</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от </a:t>
                      </a:r>
                      <a:r>
                        <a:rPr b="0" lang="bg-BG" sz="1200" spc="-1" strike="noStrike">
                          <a:solidFill>
                            <a:srgbClr val="000000"/>
                          </a:solidFill>
                          <a:latin typeface="Times New Roman"/>
                          <a:ea typeface="Times New Roman"/>
                        </a:rPr>
                        <a:t>20 </a:t>
                      </a:r>
                      <a:r>
                        <a:rPr b="0" lang="en-US" sz="1200" spc="-1" strike="noStrike">
                          <a:solidFill>
                            <a:srgbClr val="000000"/>
                          </a:solidFill>
                          <a:latin typeface="Times New Roman"/>
                          <a:ea typeface="Times New Roman"/>
                        </a:rPr>
                        <a:t> 000 до</a:t>
                      </a:r>
                      <a:r>
                        <a:rPr b="0" lang="bg-BG"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6</a:t>
                      </a:r>
                      <a:r>
                        <a:rPr b="0" lang="bg-BG" sz="1200" spc="-1" strike="noStrike">
                          <a:solidFill>
                            <a:srgbClr val="000000"/>
                          </a:solidFill>
                          <a:latin typeface="Times New Roman"/>
                          <a:ea typeface="Times New Roman"/>
                        </a:rPr>
                        <a:t>6</a:t>
                      </a:r>
                      <a:r>
                        <a:rPr b="0" lang="en-US" sz="1200" spc="-1" strike="noStrike">
                          <a:solidFill>
                            <a:srgbClr val="000000"/>
                          </a:solidFill>
                          <a:latin typeface="Times New Roman"/>
                          <a:ea typeface="Times New Roman"/>
                        </a:rPr>
                        <a:t> 000 лв</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97240">
                <a:tc>
                  <a:txBody>
                    <a:bodyPr lIns="43920" rIns="4392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ffffff"/>
                          </a:solidFill>
                          <a:latin typeface="Times New Roman"/>
                          <a:ea typeface="Times New Roman"/>
                        </a:rPr>
                        <a:t>Чл.14 </a:t>
                      </a:r>
                      <a:r>
                        <a:rPr b="1" lang="en-US" sz="1200" spc="-1" strike="noStrike">
                          <a:solidFill>
                            <a:srgbClr val="ffffff"/>
                          </a:solidFill>
                          <a:latin typeface="Times New Roman"/>
                          <a:ea typeface="Times New Roman"/>
                        </a:rPr>
                        <a:t>(4) Възложителите не са длъжни да прилагат процедурите по закона или условията и реда на глава осма "а" при разход на средства на следните стойности без ДДС:</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од 45 000 лв</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43920" rIns="4392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под </a:t>
                      </a:r>
                      <a:r>
                        <a:rPr b="0" lang="bg-BG" sz="1200" spc="-1" strike="noStrike">
                          <a:solidFill>
                            <a:srgbClr val="000000"/>
                          </a:solidFill>
                          <a:latin typeface="Times New Roman"/>
                          <a:ea typeface="Times New Roman"/>
                        </a:rPr>
                        <a:t>20 </a:t>
                      </a:r>
                      <a:r>
                        <a:rPr b="0" lang="en-US" sz="1200" spc="-1" strike="noStrike">
                          <a:solidFill>
                            <a:srgbClr val="000000"/>
                          </a:solidFill>
                          <a:latin typeface="Times New Roman"/>
                          <a:ea typeface="Times New Roman"/>
                        </a:rPr>
                        <a:t> 000 лв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за конкурс за проект - под 60 000 лв </a:t>
                      </a:r>
                      <a:endParaRPr b="0" lang="en-US" sz="1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ea typeface="Times New Roman"/>
                        </a:rPr>
                        <a:t> </a:t>
                      </a:r>
                      <a:r>
                        <a:rPr b="0" lang="bg-BG" sz="1200" spc="-1" strike="noStrike">
                          <a:solidFill>
                            <a:srgbClr val="000000"/>
                          </a:solidFill>
                          <a:latin typeface="Times New Roman"/>
                          <a:ea typeface="Times New Roman"/>
                        </a:rPr>
                        <a:t>В тези случаи </a:t>
                      </a:r>
                      <a:r>
                        <a:rPr b="0" lang="en-US" sz="1200" spc="-1" strike="noStrike">
                          <a:solidFill>
                            <a:srgbClr val="000000"/>
                          </a:solidFill>
                          <a:latin typeface="Times New Roman"/>
                          <a:ea typeface="Times New Roman"/>
                        </a:rPr>
                        <a:t>възложителите могат да не сключват писмен договор, като доказват разхода чрез първични платежни документи.</a:t>
                      </a:r>
                      <a:endParaRPr b="0" lang="en-US" sz="1200" spc="-1" strike="noStrike">
                        <a:solidFill>
                          <a:srgbClr val="000000"/>
                        </a:solidFill>
                        <a:latin typeface="Arial"/>
                      </a:endParaRPr>
                    </a:p>
                  </a:txBody>
                  <a:tcPr anchor="t" marL="43920" marR="439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457200" y="1341000"/>
            <a:ext cx="8229600" cy="478476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u="sng">
                <a:solidFill>
                  <a:srgbClr val="000000"/>
                </a:solidFill>
                <a:uFillTx/>
                <a:latin typeface="Times New Roman"/>
                <a:ea typeface="Times New Roman"/>
              </a:rPr>
              <a:t>Прагове по чл. 45а</a:t>
            </a:r>
            <a:endParaRPr b="0" lang="en-US" sz="32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Изпращане на информация до ЕК – уредени са по-голям брой специфични хипотези:</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 оглед на категорията на Възложителя (отделно за ТО на ИВ, отбрана и сигурност и др.);</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 оглед на предмета – най-често са обособени по категории услуги</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Основни прагове: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троителство – 9 779 хил. лева;</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оставки – 254 хил. лева;</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Услуги – 391 хил. лева или приравнени на доставките;</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ИНАГИ – проверявайте точната стойност!</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и секторни възложители:</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За доставки и услуги – 782 хил. лев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052640"/>
            <a:ext cx="8229600" cy="576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Мониторинг</a:t>
            </a:r>
            <a:r>
              <a:rPr b="1" lang="ru-RU" sz="3600" spc="-1" strike="noStrike">
                <a:solidFill>
                  <a:srgbClr val="000000"/>
                </a:solidFill>
                <a:latin typeface="Times New Roman"/>
                <a:ea typeface="Times New Roman"/>
              </a:rPr>
              <a:t> </a:t>
            </a:r>
            <a:br>
              <a:rPr sz="3600"/>
            </a:br>
            <a:endParaRPr b="0" lang="en-US" sz="3600" spc="-1" strike="noStrike">
              <a:solidFill>
                <a:srgbClr val="000000"/>
              </a:solidFill>
              <a:latin typeface="Calibri"/>
            </a:endParaRPr>
          </a:p>
        </p:txBody>
      </p:sp>
      <p:sp>
        <p:nvSpPr>
          <p:cNvPr id="649" name=""/>
          <p:cNvSpPr txBox="1"/>
          <p:nvPr/>
        </p:nvSpPr>
        <p:spPr>
          <a:xfrm>
            <a:off x="457200" y="1700280"/>
            <a:ext cx="8229600" cy="3744720"/>
          </a:xfrm>
          <a:prstGeom prst="rect">
            <a:avLst/>
          </a:prstGeom>
          <a:noFill/>
          <a:ln w="0">
            <a:noFill/>
          </a:ln>
        </p:spPr>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ониторингът е непрекъснат процес на събиране на информация, с цел наблюдение изпълнението на проектите и осигуряване на съответствие с договора и ненарушаване на правилата на Структурните фондове и законодателството на Република България и ЕС. С оглед изпълнението на дейностите по даден проект, мониторингът е текущо и систематично набиране и анализ на информация (доказателства), която се използва в процеса на понататъшно управление, контрол и вземане на решение. Дейността по мониторинга позволява да се направи оценка дали планираните и одобрени по проекта дейности водят до постигане на очакваните резултати и цели на съответния проект. Това позволява своевременно да се идентифицират възможни проблеми и да се предприемат съответните корективни действия.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txBox="1"/>
          <p:nvPr/>
        </p:nvSpPr>
        <p:spPr>
          <a:xfrm>
            <a:off x="457200" y="1125000"/>
            <a:ext cx="8229600" cy="4086360"/>
          </a:xfrm>
          <a:prstGeom prst="rect">
            <a:avLst/>
          </a:prstGeom>
          <a:noFill/>
          <a:ln w="0">
            <a:noFill/>
          </a:ln>
        </p:spPr>
        <p:txBody>
          <a:bodyPr lIns="90000" rIns="90000" tIns="46800" bIns="46800" anchor="t">
            <a:normAutofit fontScale="75000"/>
          </a:bodyPr>
          <a:p>
            <a:pPr marL="257040" indent="-257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Етап на изпълнение</a:t>
            </a:r>
            <a:endParaRPr b="0" lang="en-US" sz="2800" spc="-1" strike="noStrike">
              <a:solidFill>
                <a:srgbClr val="000000"/>
              </a:solidFill>
              <a:latin typeface="Calibri"/>
            </a:endParaRPr>
          </a:p>
          <a:p>
            <a:pPr marL="257040" indent="-25704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57040" indent="-2570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лучаване на офертите – регистър на офертите;</a:t>
            </a:r>
            <a:endParaRPr b="0" lang="en-US" sz="2000" spc="-1" strike="noStrike">
              <a:solidFill>
                <a:srgbClr val="000000"/>
              </a:solidFill>
              <a:latin typeface="Calibri"/>
            </a:endParaRPr>
          </a:p>
          <a:p>
            <a:pPr marL="257040" indent="-2570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ъстав на комисията – формиране;</a:t>
            </a:r>
            <a:endParaRPr b="0" lang="en-US" sz="2000" spc="-1" strike="noStrike">
              <a:solidFill>
                <a:srgbClr val="000000"/>
              </a:solidFill>
              <a:latin typeface="Calibri"/>
            </a:endParaRPr>
          </a:p>
          <a:p>
            <a:pPr lvl="1" marL="557280" indent="-214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Участие на заинтересованите страни;</a:t>
            </a:r>
            <a:endParaRPr b="0" lang="en-US" sz="2000" spc="-1" strike="noStrike">
              <a:solidFill>
                <a:srgbClr val="000000"/>
              </a:solidFill>
              <a:latin typeface="Calibri"/>
            </a:endParaRPr>
          </a:p>
          <a:p>
            <a:pPr lvl="1" marL="557280" indent="-2142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Брой комисии (в зависимост от броя процедури)</a:t>
            </a:r>
            <a:endParaRPr b="0" lang="en-US" sz="2000" spc="-1" strike="noStrike">
              <a:solidFill>
                <a:srgbClr val="000000"/>
              </a:solidFill>
              <a:latin typeface="Calibri"/>
            </a:endParaRPr>
          </a:p>
          <a:p>
            <a:pPr marL="257040" indent="-2570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нтрол, упражняван от Възложителя – отношение към Вътрешните правила – отговорни лица;</a:t>
            </a:r>
            <a:endParaRPr b="0" lang="en-US" sz="2000" spc="-1" strike="noStrike">
              <a:solidFill>
                <a:srgbClr val="000000"/>
              </a:solidFill>
              <a:latin typeface="Calibri"/>
            </a:endParaRPr>
          </a:p>
          <a:p>
            <a:pPr marL="257040" indent="-2570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ключване и изпълнение на договори</a:t>
            </a:r>
            <a:endParaRPr b="0" lang="en-US" sz="2000" spc="-1" strike="noStrike">
              <a:solidFill>
                <a:srgbClr val="000000"/>
              </a:solidFill>
              <a:latin typeface="Calibri"/>
            </a:endParaRPr>
          </a:p>
          <a:p>
            <a:pPr marL="257040" indent="-2570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нтрол на изпълнението на сключените договори:</a:t>
            </a:r>
            <a:endParaRPr b="0" lang="en-US" sz="2000" spc="-1" strike="noStrike">
              <a:solidFill>
                <a:srgbClr val="000000"/>
              </a:solidFill>
              <a:latin typeface="Calibri"/>
            </a:endParaRPr>
          </a:p>
          <a:p>
            <a:pPr marL="257040" indent="-2570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ношение към контрола, осъществяван от финансиращата институция и изискванията в тази връзка.</a:t>
            </a:r>
            <a:endParaRPr b="0" lang="en-US" sz="2000" spc="-1" strike="noStrike">
              <a:solidFill>
                <a:srgbClr val="000000"/>
              </a:solidFill>
              <a:latin typeface="Calibri"/>
            </a:endParaRPr>
          </a:p>
          <a:p>
            <a:pPr marL="257040" indent="-2570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57040" indent="-257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57040" indent="-257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5704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456840" y="1483920"/>
            <a:ext cx="8115480" cy="414324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Подготовка на документацията (тръжното досие)</a:t>
            </a:r>
            <a:endParaRPr b="0" lang="en-US" sz="2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шение на Възложителя за откриване на процедура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явление за обществена поръчка ! (водещо като съдържани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ълно описание на обекта/обособени позици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Технически спецификаци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пции – варианти на офертата; При строителство – инвестиционен проект;</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ритерий за оценка/Показатели с тежест/Методика за оценк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разци на документи (Техническа, Ценова оферта, Декларации) с Указания за подготовка и проект на Договор</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250560" y="1600200"/>
            <a:ext cx="8435880" cy="37735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u="sng">
                <a:solidFill>
                  <a:srgbClr val="000000"/>
                </a:solidFill>
                <a:uFillTx/>
                <a:latin typeface="Times New Roman"/>
                <a:ea typeface="Times New Roman"/>
              </a:rPr>
              <a:t>Промени, свързани с подготовка на документация</a:t>
            </a:r>
            <a:endParaRPr b="0" lang="en-US" sz="28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нкорпориране на досегашна практика (чл.25, ал. 6-10);</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веждане на възможност за коригендум (чл.27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Хипотеза: закъснение при предоставяне на разяснения – в рамките на 6/3 дни от крайния срок (чл.29, ал.2);</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457200" y="1179000"/>
            <a:ext cx="8229600" cy="469764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u="sng">
                <a:solidFill>
                  <a:srgbClr val="000000"/>
                </a:solidFill>
                <a:uFillTx/>
                <a:latin typeface="Times New Roman"/>
                <a:ea typeface="Times New Roman"/>
              </a:rPr>
              <a:t>ОБЯВЛЕНИЕ</a:t>
            </a:r>
            <a:endParaRPr b="0" lang="en-US" sz="2400" spc="-1" strike="noStrike">
              <a:solidFill>
                <a:srgbClr val="000000"/>
              </a:solidFill>
              <a:latin typeface="Calibri"/>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Данни на възложителя; Лице за контакт (значение за предоставянето на допълнителна информация по реда на ЗОП);</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Вид на поръчката:</a:t>
            </a:r>
            <a:endParaRPr b="0" lang="en-US" sz="16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Строителство (подвид);</a:t>
            </a:r>
            <a:endParaRPr b="0" lang="en-US" sz="16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Доставки (подвид);</a:t>
            </a:r>
            <a:endParaRPr b="0" lang="en-US" sz="16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Услуги (посочва се категорията услуга);</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Кратко описание на поръчката;</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Код на поръчката по общ терминологичен речник – избира се в редактора на форми;</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Предвиждат ли се обособени позиции;</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Количество/обем на поръчката и прогнозна стойност;</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Срок за изпълнение – в месеци или дни;</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Гаранция за участие – размер, банкова сметка, реквизити;</a:t>
            </a:r>
            <a:endParaRPr b="0" lang="en-US" sz="16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457200" y="134136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u="sng">
                <a:solidFill>
                  <a:srgbClr val="000000"/>
                </a:solidFill>
                <a:uFillTx/>
                <a:latin typeface="Times New Roman"/>
                <a:ea typeface="Times New Roman"/>
              </a:rPr>
              <a:t>ОБЯВЛЕНИЕ (2)</a:t>
            </a:r>
            <a:endParaRPr b="0" lang="en-US" sz="24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Гаранция за изпълнение – до 3% - урежда се подробно в договора</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Основни финансови условия и начин на плащане (описват се с оглед и на изискванията на финансиращата институция)</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Изискуеми документи от кандидатите:</a:t>
            </a:r>
            <a:endParaRPr b="0" lang="en-US" sz="16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Документи, които се изискват в процедурата и са посочени и в документацията;</a:t>
            </a:r>
            <a:endParaRPr b="0" lang="en-US" sz="16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Документи във връзка с правния статус на кандидата;</a:t>
            </a:r>
            <a:endParaRPr b="0" lang="en-US" sz="1600" spc="-1" strike="noStrike">
              <a:solidFill>
                <a:srgbClr val="000000"/>
              </a:solidFill>
              <a:latin typeface="Calibri"/>
            </a:endParaRPr>
          </a:p>
          <a:p>
            <a:pPr lvl="1" marL="743040" indent="-2858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Документи във връзка с критериите за подбор</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Критерии за икономически и финансови възможности (</a:t>
            </a:r>
            <a:r>
              <a:rPr b="0" i="1" lang="bg-BG" sz="1600" spc="-1" strike="noStrike">
                <a:solidFill>
                  <a:srgbClr val="000000"/>
                </a:solidFill>
                <a:latin typeface="Times New Roman"/>
                <a:ea typeface="Times New Roman"/>
              </a:rPr>
              <a:t>ЗОП отразява досегашната практика във връзка с формулирането им</a:t>
            </a:r>
            <a:r>
              <a:rPr b="0" lang="bg-BG"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Критерии за технически възможности</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Вид на процедурата – съгласно ЗОП</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000000"/>
                </a:solidFill>
                <a:latin typeface="Times New Roman"/>
                <a:ea typeface="Times New Roman"/>
              </a:rPr>
              <a:t>Критерии за възлагане и тежест</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457200" y="134136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u="sng">
                <a:solidFill>
                  <a:srgbClr val="000000"/>
                </a:solidFill>
                <a:uFillTx/>
                <a:latin typeface="Times New Roman"/>
                <a:ea typeface="Times New Roman"/>
              </a:rPr>
              <a:t>ОБЯВЛЕНИЕ (3)</a:t>
            </a:r>
            <a:endParaRPr b="0" lang="en-US" sz="24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Закупуване на документацията – начин, цен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 за получаване на оферт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Език на който трябва да бъдат офертит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алидност на офертит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Условия за отваряне на офертит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ръчка във връзка с проект или програм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опълнителна информация – напр. ползване на съкратени срокове на основание в ЗОП;</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цедура по обжалване – стандартна информация за КЗК.</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285840" y="1500120"/>
            <a:ext cx="8400960" cy="462600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РЕШЕНИЕ</a:t>
            </a:r>
            <a:endParaRPr b="0" lang="en-US" sz="24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омер на заповед на Възложителя и партида на Възложителя;</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сочва се вида на решението (за откриване на процедура) и вида на Възложителя (тук класически възложител по чл. 7, т.1-4)</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нни за Възложителя</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ид на процедура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писани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д за обжалване – стандартни данни за КЗК</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468360" y="134136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ДОКУМЕНТАЦИЯ</a:t>
            </a:r>
            <a:endParaRPr b="0" lang="en-US" sz="24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работване на методиката за оценка – основни параметри от </a:t>
            </a:r>
            <a:r>
              <a:rPr b="0" lang="bg-BG" sz="2000" spc="-1" strike="noStrike" u="sng">
                <a:solidFill>
                  <a:srgbClr val="000000"/>
                </a:solidFill>
                <a:uFillTx/>
                <a:latin typeface="Times New Roman"/>
                <a:ea typeface="Times New Roman"/>
              </a:rPr>
              <a:t>Техническата офер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разци на документи – оферта и декларации; проект на договор</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ъответствие със заложеното в обявлението, в изискванията и в методиката;</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Залагане на контролни механизми по отношение на изпълнението;</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Times New Roman"/>
                <a:ea typeface="Times New Roman"/>
              </a:rPr>
              <a:t>Критерии за подбор на кандидатите</a:t>
            </a:r>
            <a:endParaRPr b="0" lang="en-US" sz="32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чл. 25, ал. 6 - 10</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оротът не може да надвишава повече от три пъти стойността на поръчка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искването се съобразява със стойността на обособените позици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и обединения – изискването е за обединението, с изключение на регистрация/сертификат или друго услов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ритерии за подбор не могат да се използват като показатели за оценка;</a:t>
            </a:r>
            <a:endParaRPr b="0" lang="en-US" sz="2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txBox="1"/>
          <p:nvPr/>
        </p:nvSpPr>
        <p:spPr>
          <a:xfrm>
            <a:off x="250920" y="1197000"/>
            <a:ext cx="8642160" cy="4857840"/>
          </a:xfrm>
          <a:prstGeom prst="rect">
            <a:avLst/>
          </a:prstGeom>
          <a:noFill/>
          <a:ln w="0">
            <a:noFill/>
          </a:ln>
        </p:spPr>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Промяна на публикувано обявление</a:t>
            </a:r>
            <a:endParaRPr b="0" lang="en-US" sz="2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Може да се променя еднократно:</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о собствена инициатива;</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о предложение на заинтересовано лице;</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алидно е и за документацията към обявлението;</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Цел – законосъобразност, отстраняване на пропуски или фактически грешки;</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Заинтересованите лица могат да правят предложения в 10-дневен срок от публикуване на обявлението</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ъзложителят изготвя Решение за промяна;</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Трябва да се публикува в РОП – в 14-дневен срок от публикуването на Обявлението;</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Не могат да се променят дейности или доставки;</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Определя се нов срок за подаване на оферти/заявления;</a:t>
            </a:r>
            <a:endParaRPr b="0" lang="en-US" sz="18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руги промени – само удължаване на сроковете за подаване на оферт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85560" y="1198080"/>
            <a:ext cx="7931160" cy="574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Непосредствени цели на наблюдението</a:t>
            </a:r>
            <a:endParaRPr b="0" lang="en-US" sz="3200" spc="-1" strike="noStrike">
              <a:solidFill>
                <a:srgbClr val="000000"/>
              </a:solidFill>
              <a:latin typeface="Calibri"/>
            </a:endParaRPr>
          </a:p>
        </p:txBody>
      </p:sp>
      <p:sp>
        <p:nvSpPr>
          <p:cNvPr id="651" name=""/>
          <p:cNvSpPr txBox="1"/>
          <p:nvPr/>
        </p:nvSpPr>
        <p:spPr>
          <a:xfrm>
            <a:off x="395280" y="1773360"/>
            <a:ext cx="8229600" cy="395928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верка на техническа и финансова отчетност по финансирания проект;</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верка и гарантиране на стриктното спазване на правилата и процедурите по ЗОП </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НВМОП</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и Постановление на МС No.55/2007г.;</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арантиране, че одобреният проект се реализира с необходимите човешки ресурси;</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верка за коректност, валидност и надеждност на представената в докладите информация, както и степен на изпълнение на дейностите и постигнати резултати по проекта;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верка на използването на ресурсите за постигане на предвидените резултати и техния принос за изпълнението на целите на проект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арантиране, че извършените дейности за изпълнение на проекта са надлежно документирани и при поискване са на разположение на националните и европейските контролни орган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468360" y="1125000"/>
            <a:ext cx="8229600" cy="4526280"/>
          </a:xfrm>
          <a:prstGeom prst="rect">
            <a:avLst/>
          </a:prstGeom>
          <a:noFill/>
          <a:ln w="0">
            <a:noFill/>
          </a:ln>
        </p:spPr>
        <p:txBody>
          <a:bodyPr lIns="90000" rIns="90000" tIns="46800" bIns="46800" anchor="t">
            <a:normAutofit fontScale="98000"/>
          </a:bodyPr>
          <a:p>
            <a:pPr marL="335880" indent="-335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Работа на комисията</a:t>
            </a:r>
            <a:endParaRPr b="0" lang="en-US" sz="2800" spc="-1" strike="noStrike">
              <a:solidFill>
                <a:srgbClr val="000000"/>
              </a:solidFill>
              <a:latin typeface="Calibri"/>
            </a:endParaRPr>
          </a:p>
          <a:p>
            <a:pPr marL="335880" indent="-335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ово</a:t>
            </a:r>
            <a:r>
              <a:rPr b="0" lang="bg-BG" sz="2000" spc="-1" strike="noStrike">
                <a:solidFill>
                  <a:srgbClr val="000000"/>
                </a:solidFill>
                <a:latin typeface="Times New Roman"/>
                <a:ea typeface="Times New Roman"/>
              </a:rPr>
              <a:t> – при отклонение с повече от 20% на предложение на кандидата, което има количествен израз – искане на обосновка (задължително)</a:t>
            </a:r>
            <a:r>
              <a:rPr b="0" lang="en-US" sz="2000" spc="-1" strike="noStrike">
                <a:solidFill>
                  <a:srgbClr val="000000"/>
                </a:solidFill>
                <a:latin typeface="Times New Roman"/>
                <a:ea typeface="Times New Roman"/>
              </a:rPr>
              <a:t> – </a:t>
            </a:r>
            <a:r>
              <a:rPr b="0" lang="bg-BG" sz="2000" spc="-1" strike="noStrike">
                <a:solidFill>
                  <a:srgbClr val="000000"/>
                </a:solidFill>
                <a:latin typeface="Times New Roman"/>
                <a:ea typeface="Times New Roman"/>
              </a:rPr>
              <a:t>чл.</a:t>
            </a:r>
            <a:r>
              <a:rPr b="0" lang="en-US" sz="2000" spc="-1" strike="noStrike">
                <a:solidFill>
                  <a:srgbClr val="000000"/>
                </a:solidFill>
                <a:latin typeface="Times New Roman"/>
                <a:ea typeface="Times New Roman"/>
              </a:rPr>
              <a:t> 70</a:t>
            </a:r>
            <a:r>
              <a:rPr b="0" lang="bg-BG" sz="2000" spc="-1" strike="noStrike">
                <a:solidFill>
                  <a:srgbClr val="000000"/>
                </a:solidFill>
                <a:latin typeface="Times New Roman"/>
                <a:ea typeface="Times New Roman"/>
              </a:rPr>
              <a:t>, ал.1; </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лика от предишните две решения в закона;</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ажи и при договаряне с/без обявление</a:t>
            </a:r>
            <a:r>
              <a:rPr b="0" lang="en-US" sz="2000" spc="-1" strike="noStrike">
                <a:solidFill>
                  <a:srgbClr val="000000"/>
                </a:solidFill>
                <a:latin typeface="Times New Roman"/>
                <a:ea typeface="Times New Roman"/>
              </a:rPr>
              <a:t>-</a:t>
            </a:r>
            <a:r>
              <a:rPr b="0" lang="bg-BG" sz="2000" spc="-1" strike="noStrike">
                <a:solidFill>
                  <a:srgbClr val="000000"/>
                </a:solidFill>
                <a:latin typeface="Times New Roman"/>
                <a:ea typeface="Times New Roman"/>
              </a:rPr>
              <a:t>Чл. 89, ал. 4</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основката трябва мотивирано да се приеме или отхвърли от комисията;</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мисията решава по целесъобразност, но задължително излага мотиви;</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Липсата на мотиви е нарушение – може да доведе до отмяна на последващото Решение на Възложителя (практика на КЗК);</a:t>
            </a:r>
            <a:endParaRPr b="0" lang="en-US" sz="2000" spc="-1" strike="noStrike">
              <a:solidFill>
                <a:srgbClr val="000000"/>
              </a:solidFill>
              <a:latin typeface="Calibri"/>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457200" y="126828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u="sng">
                <a:solidFill>
                  <a:srgbClr val="000000"/>
                </a:solidFill>
                <a:uFillTx/>
                <a:latin typeface="Times New Roman"/>
                <a:ea typeface="Times New Roman"/>
              </a:rPr>
              <a:t>Комисия – възможни казуси от практиката</a:t>
            </a:r>
            <a:endParaRPr b="0" lang="en-US" sz="24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фериране в различни мерни единици, по различни стандарти и др.</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рху плика липсват – фирма на участника, адрес за кореспонденция, телефон...</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Ценова оферта – офериране по артикули, които са много на брой – кандидат не оферира всички артикул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ясна методика – хипотези, при които се присъждат 10/5/1 точки – налагат комисията да обоснове оценката си по всеки показател и за всеки кандидат;</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Методиката има показатели – Комисията въвежда подпоказатели с различна тежест – Недопустимо!</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ът на валидност на офертата е изтекъл, а Комисията още работ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3200" spc="-1" strike="noStrike">
                <a:solidFill>
                  <a:srgbClr val="000000"/>
                </a:solidFill>
                <a:latin typeface="Times New Roman"/>
                <a:ea typeface="Times New Roman"/>
              </a:rPr>
              <a:t>Методика за оценка - примери</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 за изпълнен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 за гаранционно обслужван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реме за реакция при повред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Такса за обслужване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95280" y="1341360"/>
            <a:ext cx="8229600" cy="462600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оговор – нови моменти</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действителност:</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гато е сключен без процедура, а е трябвало да има такава (чл. 41б, ал.1, т.1)</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дробна уредба на обявлението за доброволна прозрачност – чл. 41в – когато не се прилага ЗОП/процедур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Много разширен обхват на хипотезите за изменение на догово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457200" y="1341360"/>
            <a:ext cx="8229600" cy="45259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Изменение на договор</a:t>
            </a:r>
            <a:endParaRPr b="0" lang="en-US" sz="2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резултат на непредвидени обстоятелства (чл. 43):</a:t>
            </a:r>
            <a:endParaRPr b="0" lang="en-US" sz="2000" spc="-1" strike="noStrike">
              <a:solidFill>
                <a:srgbClr val="000000"/>
              </a:solidFill>
              <a:latin typeface="Calibri"/>
            </a:endParaRPr>
          </a:p>
          <a:p>
            <a:pPr lvl="1" marL="990720" indent="-533520">
              <a:lnSpc>
                <a:spcPct val="9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Промяна в срока </a:t>
            </a:r>
            <a:endParaRPr b="0" lang="en-US" sz="2000" spc="-1" strike="noStrike">
              <a:solidFill>
                <a:srgbClr val="000000"/>
              </a:solidFill>
              <a:latin typeface="Calibri"/>
            </a:endParaRPr>
          </a:p>
          <a:p>
            <a:pPr lvl="1" marL="990720" indent="-533520">
              <a:lnSpc>
                <a:spcPct val="9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Частична замяна на дейности (строителство/услуги) без промяна в цената</a:t>
            </a:r>
            <a:endParaRPr b="0" lang="en-US" sz="2000" spc="-1" strike="noStrike">
              <a:solidFill>
                <a:srgbClr val="000000"/>
              </a:solidFill>
              <a:latin typeface="Calibri"/>
            </a:endParaRPr>
          </a:p>
          <a:p>
            <a:pPr lvl="1" marL="990720" indent="-533520">
              <a:lnSpc>
                <a:spcPct val="90000"/>
              </a:lnSpc>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Намаление на общата стойност – поради намаляване на договорени цени или количества или отпадане на дейности - в интерес на възложителя</a:t>
            </a:r>
            <a:endParaRPr b="0" lang="en-US" sz="2000" spc="-1" strike="noStrike">
              <a:solidFill>
                <a:srgbClr val="000000"/>
              </a:solidFill>
              <a:latin typeface="Calibri"/>
            </a:endParaRPr>
          </a:p>
          <a:p>
            <a:pPr lvl="1" marL="990720" indent="-533520">
              <a:lnSpc>
                <a:spcPct val="90000"/>
              </a:lnSpc>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в държавно регулирана цена</a:t>
            </a:r>
            <a:endParaRPr b="0" lang="en-US" sz="2000" spc="-1" strike="noStrike">
              <a:solidFill>
                <a:srgbClr val="000000"/>
              </a:solidFill>
              <a:latin typeface="Calibri"/>
            </a:endParaRPr>
          </a:p>
          <a:p>
            <a:pPr lvl="1" marL="990720" indent="-533520">
              <a:lnSpc>
                <a:spcPct val="90000"/>
              </a:lnSpc>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Увеличение на цената – поради приет нормативен акт</a:t>
            </a:r>
            <a:endParaRPr b="0" lang="en-US" sz="2000" spc="-1" strike="noStrike">
              <a:solidFill>
                <a:srgbClr val="000000"/>
              </a:solidFill>
              <a:latin typeface="Calibri"/>
            </a:endParaRPr>
          </a:p>
          <a:p>
            <a:pPr lvl="1" marL="990720" indent="-533520">
              <a:lnSpc>
                <a:spcPct val="90000"/>
              </a:lnSpc>
              <a:spcBef>
                <a:spcPts val="499"/>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Удължаване на срока – до 6 месец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457200" y="1285560"/>
            <a:ext cx="8229600" cy="484020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бжалване – основни промени</a:t>
            </a:r>
            <a:endParaRPr b="0" lang="en-US" sz="2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Могат да се обжалват действия и бездействия на Възложителя (чл.120, </a:t>
            </a:r>
            <a:r>
              <a:rPr b="0" lang="bg-BG" sz="2000" spc="-1" strike="noStrike">
                <a:solidFill>
                  <a:srgbClr val="ff0000"/>
                </a:solidFill>
                <a:latin typeface="Times New Roman"/>
                <a:ea typeface="Times New Roman"/>
              </a:rPr>
              <a:t>ал.4</a:t>
            </a:r>
            <a:r>
              <a:rPr b="0" lang="bg-BG" sz="2000" spc="-1" strike="noStrike">
                <a:solidFill>
                  <a:srgbClr val="000000"/>
                </a:solidFill>
                <a:latin typeface="Times New Roman"/>
                <a:ea typeface="Times New Roman"/>
              </a:rPr>
              <a:t>), например:</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тказ на документация;</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яснения;</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тказ на оферта;</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Задържане на гаранция;</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тказ на протокол;</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правилно съхранение на документация</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Хипотеза, при която срокът на обжалване тече от получаване на документацията (</a:t>
            </a:r>
            <a:r>
              <a:rPr b="0" lang="bg-BG" sz="2000" spc="-1" strike="noStrike">
                <a:solidFill>
                  <a:srgbClr val="ff0000"/>
                </a:solidFill>
                <a:latin typeface="Times New Roman"/>
                <a:ea typeface="Times New Roman"/>
              </a:rPr>
              <a:t>ал. 6</a:t>
            </a:r>
            <a:r>
              <a:rPr b="0" lang="bg-BG"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даване на жалба от професионални сдружения и организаци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Обжалване</a:t>
            </a:r>
            <a:endParaRPr b="0" lang="en-US" sz="28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и частна жалба срещу допускане на предв. изпълнение – срокът за произнасяне на ВАС – удължен от 7 на 14 дн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мпетентност на КЗК – може не само да отмени Решение/Действие, а и да върне за:</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дължаване на процедурата;</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u="sng">
                <a:solidFill>
                  <a:srgbClr val="000000"/>
                </a:solidFill>
                <a:uFillTx/>
                <a:latin typeface="Times New Roman"/>
                <a:ea typeface="Times New Roman"/>
              </a:rPr>
              <a:t>Прекратяване на процедурат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сновен критерий във връзка с правните последици остава – дали е засегната възможността на жалбоподател да участва в процедура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457200" y="1428840"/>
            <a:ext cx="8229600" cy="469728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едварителен контрол – АОП</a:t>
            </a:r>
            <a:endParaRPr b="0" lang="en-US" sz="28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едмет на контрол – процедури за ОП, финансирани напълно или частично със средства от ЕФ;</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простяване на процедура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по отношение на праговете – над 2.</a:t>
            </a:r>
            <a:r>
              <a:rPr b="0" lang="en-US" sz="2000" spc="-1" strike="noStrike">
                <a:solidFill>
                  <a:srgbClr val="000000"/>
                </a:solidFill>
                <a:latin typeface="Times New Roman"/>
                <a:ea typeface="Times New Roman"/>
              </a:rPr>
              <a:t>640</a:t>
            </a:r>
            <a:r>
              <a:rPr b="0" lang="bg-BG" sz="2000" spc="-1" strike="noStrike">
                <a:solidFill>
                  <a:srgbClr val="000000"/>
                </a:solidFill>
                <a:latin typeface="Times New Roman"/>
                <a:ea typeface="Times New Roman"/>
              </a:rPr>
              <a:t> млн. лева за строителство; 2</a:t>
            </a:r>
            <a:r>
              <a:rPr b="0" lang="en-US" sz="2000" spc="-1" strike="noStrike">
                <a:solidFill>
                  <a:srgbClr val="000000"/>
                </a:solidFill>
                <a:latin typeface="Times New Roman"/>
                <a:ea typeface="Times New Roman"/>
              </a:rPr>
              <a:t>5</a:t>
            </a:r>
            <a:r>
              <a:rPr b="0" lang="bg-BG" sz="2000" spc="-1" strike="noStrike">
                <a:solidFill>
                  <a:srgbClr val="000000"/>
                </a:solidFill>
                <a:latin typeface="Times New Roman"/>
                <a:ea typeface="Times New Roman"/>
              </a:rPr>
              <a:t>4/3</a:t>
            </a:r>
            <a:r>
              <a:rPr b="0" lang="en-US" sz="2000" spc="-1" strike="noStrike">
                <a:solidFill>
                  <a:srgbClr val="000000"/>
                </a:solidFill>
                <a:latin typeface="Times New Roman"/>
                <a:ea typeface="Times New Roman"/>
              </a:rPr>
              <a:t>91</a:t>
            </a:r>
            <a:r>
              <a:rPr b="0" lang="bg-BG" sz="2000" spc="-1" strike="noStrike">
                <a:solidFill>
                  <a:srgbClr val="000000"/>
                </a:solidFill>
                <a:latin typeface="Times New Roman"/>
                <a:ea typeface="Times New Roman"/>
              </a:rPr>
              <a:t> хил. лева за доставки/услуг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мяна в съдържанието на контрола: Обявление, Решение за откриване, Методика за оценк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457200" y="1413000"/>
            <a:ext cx="8229600" cy="424800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Предварителен контрол – процедура</a:t>
            </a:r>
            <a:endParaRPr b="0" lang="en-US" sz="2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зложителят изпраща проекти на посочените документ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a:t>
            </a:r>
            <a:r>
              <a:rPr b="0" lang="bg-BG" sz="2000" spc="-1" strike="noStrike">
                <a:solidFill>
                  <a:srgbClr val="ff0000"/>
                </a:solidFill>
                <a:latin typeface="Times New Roman"/>
                <a:ea typeface="Times New Roman"/>
              </a:rPr>
              <a:t>14</a:t>
            </a:r>
            <a:r>
              <a:rPr b="0" lang="bg-BG" sz="2000" spc="-1" strike="noStrike">
                <a:solidFill>
                  <a:srgbClr val="000000"/>
                </a:solidFill>
                <a:latin typeface="Times New Roman"/>
                <a:ea typeface="Times New Roman"/>
              </a:rPr>
              <a:t>-дневен срок – становище на АОП (с препорък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зложителят може да пренебрегне препоръките – изпраща писмени мотиви до АОП;</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10-дневен срок от публикуване на документите – АОП прави сравнение и излиза с окончателен доклад за законосъобразност, който изпраща на Възложителя и съответните орган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окументите за предварителен контрол – по утвърден образец;</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пращат се по електронен път с електронен подпис;</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АОП не следи служебно, дали е осъществена процедурата за предварителен контрол</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457200" y="148428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u="sng">
                <a:solidFill>
                  <a:srgbClr val="000000"/>
                </a:solidFill>
                <a:uFillTx/>
                <a:latin typeface="Times New Roman"/>
                <a:ea typeface="Times New Roman"/>
              </a:rPr>
              <a:t>Публична покана</a:t>
            </a: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Глава 8а – Публична покана – замества процедурата с три оферт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ферти се събират с публикуване на покана:</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а Портала за обществени поръчки;</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 публичен достъп за поне 7 дни;</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ъщо и в профила на продавача;</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Може и в печатни издания</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каната може да бъде изпратена и до определени от Възложителя лица;</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ът за получаване на офертите не може да бъде по-кратък от 7 дн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250920" y="1413000"/>
            <a:ext cx="8229600" cy="42480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езпечаване на своевременна идентификация на потенциални проблеми и трудности при изпълнението на проект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дпомагане на екипите за изпълнение на проектите чрез предложения, препоръки и предприемане на корективни мерки при необходимост;</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арантиране активното участие на заинтересованите страни в проекта, изпълнение на договореностите за партньорство и предоставянето на информация за финансираните дейности на партньорите;</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нос за устойчивостта на резултатите и въздействието от проекта и идентифициране на най-добрите практики с оглед тяхното разпространение и гарантиране на по-широкообхватно въздействие на проект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верка на съблюдаването на изискванията за информация и публичност;</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верка на изпълнението на задължителните предписания или изисквания, дадени от Управляващия орган за отстраняване на констатирани при проверките пропуски или слабости по управление на проект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u="sng">
                <a:solidFill>
                  <a:srgbClr val="000000"/>
                </a:solidFill>
                <a:uFillTx/>
                <a:latin typeface="Times New Roman"/>
                <a:ea typeface="Times New Roman"/>
              </a:rPr>
              <a:t>Публична покана</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фертите се подават в запечатани пликов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яма оценителна комисия, а лица, които съставят протокол;</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остатъчно е да е подадена само една офер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ключва се писмен договор;</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пълнителят представя документи по чл.47, ал. 1, т.1 и декларация по ал. 5</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окументите се съхраняват 3 години след изпълнение на договор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ово изискване за публикуване на информация за хода на процедурата при производство по обжалване – чл.22, ал.1, т.5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менение на изискванията за съдържанието на решението за откриване и обявлението – чл. 25 ЗОП</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искване за оборот не повече от три пъти прогнозната стойност на поръчка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ритериите за подбор по ал. 2, т. 6, които възложителят определя, трябва да са еднакви за всички участници в процедура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казателите за комплексна оценка по ал. 2, т. 10 трябва да са свързани с предмета на обществената поръчк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Задължително посочване на </a:t>
            </a:r>
            <a:r>
              <a:rPr b="1" lang="en-US" sz="2000" spc="-1" strike="noStrike" u="sng">
                <a:solidFill>
                  <a:srgbClr val="000000"/>
                </a:solidFill>
                <a:uFillTx/>
                <a:latin typeface="Times New Roman"/>
                <a:ea typeface="Times New Roman"/>
              </a:rPr>
              <a:t>CPV </a:t>
            </a:r>
            <a:r>
              <a:rPr b="1" lang="bg-BG" sz="2000" spc="-1" strike="noStrike" u="sng">
                <a:solidFill>
                  <a:srgbClr val="000000"/>
                </a:solidFill>
                <a:uFillTx/>
                <a:latin typeface="Times New Roman"/>
                <a:ea typeface="Times New Roman"/>
              </a:rPr>
              <a:t>код</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окументите могат да се закупуват до 3 дни преди изтичане на срока и участниците имат право да се запознаят на място с условията на документацията преди закупуване – чл.28 ЗОП</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ГЛАВА </a:t>
            </a:r>
            <a:r>
              <a:rPr b="1" lang="en-US" sz="2000" spc="-1" strike="noStrike">
                <a:solidFill>
                  <a:srgbClr val="000000"/>
                </a:solidFill>
                <a:latin typeface="Times New Roman"/>
                <a:ea typeface="Times New Roman"/>
              </a:rPr>
              <a:t>VIII “a” (</a:t>
            </a:r>
            <a:r>
              <a:rPr b="1" lang="bg-BG" sz="2000" spc="-1" strike="noStrike">
                <a:solidFill>
                  <a:srgbClr val="000000"/>
                </a:solidFill>
                <a:latin typeface="Times New Roman"/>
                <a:ea typeface="Times New Roman"/>
              </a:rPr>
              <a:t>отменена НВМОП</a:t>
            </a:r>
            <a:r>
              <a:rPr b="1"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Чл. 101б. (1) Поканата се изготвя по образец, утвърден от изпълнителния директор на агенция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ъзложителят публикува поканата на Портала за обществени поръчки по ред, определен с правилника за прилагане на закона, и посочва срок за публичен достъп до нея, който не може да е по-кратък от 7 дни. Едновременно с това поканата се публикува и в профила на купувач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txBox="1"/>
          <p:nvPr/>
        </p:nvSpPr>
        <p:spPr>
          <a:xfrm>
            <a:off x="395280" y="1341360"/>
            <a:ext cx="8229600" cy="462600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СТРУКТУРИРАНЕ НА ОБЩИТЕ УСЛОВИЯ ПО ДОКУМЕНТАЦИЯ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шение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явлен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ект и обхват на поръчката (чл.28,ал.1, т.3) – съгласно проектното предложение и заложените индикатор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Условия за участ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МИНИМАЛНИ ИЗИСКВАНИЯ ЗА ИКОНОМИЧЕСКИ, ФИНАНСОВИ И ТЕХНИЧЕСКИ ВЪЗМОЖНОСТ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орот – не повече от 3 пъти прогнозната стойност на поръчка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ложителен финансов резулта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ходни договори – ясна формулировк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395280" y="14130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зчисляване на сроковет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ачалният ден на 52-дневния срок за получаване на оферти е денят, следващ датата на изпращане на обявлението в “Държавен вестник”</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гато последният ден от един срок съвпада с официален празник или почивен ден, на който трябва да се извърши конкретно действие, счита се, че срокът изтича в края на първия работен ден, следващ почивния</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Цена и начин на плащан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 банков път, с платежно нареждане по сметка, посочена от участника след представяне на оригинална фактура от изпълнителя по договора за възлагане на обществена поръчка, изготвени междинни и окончателен доклади и приемателно-предавателен протокол и съобразно договорения график на проект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КРИТЕРИЙ ЗА ОЦЕНЯВАНЕ НА ОФЕРТИТ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кономически най-изгодна оферта</a:t>
            </a:r>
            <a:r>
              <a:rPr b="0" lang="bg-BG"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Показатели за оценка: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Цена – максимално възможна оценка</a:t>
            </a:r>
            <a:r>
              <a:rPr b="0" i="1" lang="bg-BG" sz="2000" spc="-1" strike="noStrike">
                <a:solidFill>
                  <a:srgbClr val="000000"/>
                </a:solidFill>
                <a:latin typeface="Times New Roman"/>
                <a:ea typeface="Times New Roman"/>
              </a:rPr>
              <a:t> – </a:t>
            </a:r>
            <a:r>
              <a:rPr b="0" lang="bg-BG" sz="2000" spc="-1" strike="noStrike">
                <a:solidFill>
                  <a:srgbClr val="000000"/>
                </a:solidFill>
                <a:latin typeface="Times New Roman"/>
                <a:ea typeface="Times New Roman"/>
              </a:rPr>
              <a:t>30 точк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Техническа оферта – максимално възможна оценка</a:t>
            </a:r>
            <a:r>
              <a:rPr b="0" i="1" lang="bg-BG" sz="2000" spc="-1" strike="noStrike">
                <a:solidFill>
                  <a:srgbClr val="000000"/>
                </a:solidFill>
                <a:latin typeface="Times New Roman"/>
                <a:ea typeface="Times New Roman"/>
              </a:rPr>
              <a:t> – </a:t>
            </a:r>
            <a:r>
              <a:rPr b="0" lang="bg-BG" sz="2000" spc="-1" strike="noStrike">
                <a:solidFill>
                  <a:srgbClr val="000000"/>
                </a:solidFill>
                <a:latin typeface="Times New Roman"/>
                <a:ea typeface="Times New Roman"/>
              </a:rPr>
              <a:t>60 точк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u="sng">
                <a:solidFill>
                  <a:srgbClr val="000000"/>
                </a:solidFill>
                <a:uFillTx/>
                <a:latin typeface="Times New Roman"/>
                <a:ea typeface="Times New Roman"/>
              </a:rPr>
              <a:t>Срок за изпълнение </a:t>
            </a:r>
            <a:r>
              <a:rPr b="0" lang="bg-BG" sz="2000" spc="-1" strike="noStrike">
                <a:solidFill>
                  <a:srgbClr val="000000"/>
                </a:solidFill>
                <a:latin typeface="Times New Roman"/>
                <a:ea typeface="Times New Roman"/>
              </a:rPr>
              <a:t>– максимална възможна оценка – 10 точки (вече задължително услови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Препоръчително:</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Точкова схема за оценка, подпоказатели с минимални и максимални точки, без коефициент за тежес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468360" y="14130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ПРОЕКТ НА  ДОГОВОР</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омер на договор (съгласно изискванията в насоките по ОПРР)</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ове – съобразно проектния график</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лащане – съобразно отчетните период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предвидените разходи задължително се упоменава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тчетност – период и вид на документит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пълнителят представя, в срок от 5 дни от подписването, списък на лицата, отговорни за административното отчитан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токоли от срещи – минимум две през периода на договора (извършени проверки на място)</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ключване на задължение за спазване на изискванията за “Информация и публичнос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539640" y="1412640"/>
            <a:ext cx="8229600" cy="4125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токол 1 – след оценка на съответствието</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токол 2 – оценка на техническите предложения</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токол 3 – цени и обобщаване на резултатит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000" spc="-1" strike="noStrike">
                <a:solidFill>
                  <a:srgbClr val="000000"/>
                </a:solidFill>
                <a:latin typeface="Times New Roman"/>
                <a:ea typeface="Times New Roman"/>
              </a:rPr>
              <a:t>Практика на КЗК – Решение 1741/2011 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Примерен диспозитив:</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000" spc="-1" strike="noStrike">
                <a:solidFill>
                  <a:srgbClr val="000000"/>
                </a:solidFill>
                <a:latin typeface="Times New Roman"/>
                <a:ea typeface="Times New Roman"/>
              </a:rPr>
              <a:t>	</a:t>
            </a:r>
            <a:r>
              <a:rPr b="0" i="1" lang="bg-BG" sz="2000" spc="-1" strike="noStrike">
                <a:solidFill>
                  <a:srgbClr val="000000"/>
                </a:solidFill>
                <a:latin typeface="Times New Roman"/>
                <a:ea typeface="Times New Roman"/>
              </a:rPr>
              <a:t>“</a:t>
            </a:r>
            <a:r>
              <a:rPr b="0" i="1" lang="bg-BG" sz="2000" spc="-1" strike="noStrike">
                <a:solidFill>
                  <a:srgbClr val="000000"/>
                </a:solidFill>
                <a:latin typeface="Times New Roman"/>
                <a:ea typeface="Times New Roman"/>
              </a:rPr>
              <a:t>След приключване работата на комисията и обработка и оценка на представените от участниците документи, комисията единодушно/ с мнозинство от..... предлага участниците в процедура......... да бъдат класирани в следния  низходящ ред:</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000" spc="-1" strike="noStrike">
                <a:solidFill>
                  <a:srgbClr val="000000"/>
                </a:solidFill>
                <a:latin typeface="Times New Roman"/>
                <a:ea typeface="Times New Roman"/>
              </a:rPr>
              <a:t>	</a:t>
            </a:r>
            <a:r>
              <a:rPr b="0" i="1" lang="bg-BG" sz="2000" spc="-1" strike="noStrike">
                <a:solidFill>
                  <a:srgbClr val="000000"/>
                </a:solidFill>
                <a:latin typeface="Times New Roman"/>
                <a:ea typeface="Times New Roman"/>
              </a:rPr>
              <a:t>На първо място, на второ място и т.н.”</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РЕШЕН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Задължително се подписва от възложителя</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Задължително се инкорпорират Протоколите (настоящото решение ведно с протокол 1, 2 , 3 и т.н.)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Примерен текст след диспозитив:</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i="1" lang="bg-BG" sz="2000" spc="-1" strike="noStrike">
                <a:solidFill>
                  <a:srgbClr val="000000"/>
                </a:solidFill>
                <a:latin typeface="Times New Roman"/>
                <a:ea typeface="Times New Roman"/>
              </a:rPr>
              <a:t>“</a:t>
            </a:r>
            <a:r>
              <a:rPr b="0" i="1" lang="bg-BG" sz="2000" spc="-1" strike="noStrike">
                <a:solidFill>
                  <a:srgbClr val="000000"/>
                </a:solidFill>
                <a:latin typeface="Times New Roman"/>
                <a:ea typeface="Times New Roman"/>
              </a:rPr>
              <a:t>След запознаване с протоколите от работата на комисията и изложените в тях мотиви, реших:</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000" spc="-1" strike="noStrike">
                <a:solidFill>
                  <a:srgbClr val="000000"/>
                </a:solidFill>
                <a:latin typeface="Times New Roman"/>
                <a:ea typeface="Times New Roman"/>
              </a:rPr>
              <a:t>	</a:t>
            </a:r>
            <a:r>
              <a:rPr b="0" i="1" lang="bg-BG" sz="2000" spc="-1" strike="noStrike">
                <a:solidFill>
                  <a:srgbClr val="000000"/>
                </a:solidFill>
                <a:latin typeface="Times New Roman"/>
                <a:ea typeface="Times New Roman"/>
              </a:rPr>
              <a:t>Приемам изцяло работата на комисията по оценка, назначена със заповед....и възприемам направените от тях мотивирани заключения, от което следва:</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000" spc="-1" strike="noStrike">
                <a:solidFill>
                  <a:srgbClr val="000000"/>
                </a:solidFill>
                <a:latin typeface="Times New Roman"/>
                <a:ea typeface="Times New Roman"/>
              </a:rPr>
              <a:t>	</a:t>
            </a:r>
            <a:r>
              <a:rPr b="0" i="1" lang="bg-BG" sz="2000" spc="-1" strike="noStrike">
                <a:solidFill>
                  <a:srgbClr val="000000"/>
                </a:solidFill>
                <a:latin typeface="Times New Roman"/>
                <a:ea typeface="Times New Roman"/>
              </a:rPr>
              <a:t>(повторение на класирането)”</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txBox="1"/>
          <p:nvPr/>
        </p:nvSpPr>
        <p:spPr>
          <a:xfrm>
            <a:off x="468360" y="1557360"/>
            <a:ext cx="8229600" cy="4268880"/>
          </a:xfrm>
          <a:prstGeom prst="rect">
            <a:avLst/>
          </a:prstGeom>
          <a:noFill/>
          <a:ln w="0">
            <a:noFill/>
          </a:ln>
        </p:spPr>
        <p:txBody>
          <a:bodyPr lIns="90000" rIns="90000" tIns="46800" bIns="46800" anchor="t">
            <a:norm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Изпълнителния  Директор  на  АОП</a:t>
            </a:r>
            <a:endParaRPr b="0" lang="en-US" sz="2800" spc="-1" strike="noStrike">
              <a:solidFill>
                <a:srgbClr val="000000"/>
              </a:solidFill>
              <a:latin typeface="Calibri"/>
            </a:endParaRPr>
          </a:p>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рецизиране на правомощия </a:t>
            </a:r>
            <a:endParaRPr b="0" lang="en-US" sz="20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ва становища на възложители</a:t>
            </a:r>
            <a:endParaRPr b="0" lang="en-US" sz="20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жалва пред КЗК само по сигнал на ЕК;</a:t>
            </a:r>
            <a:endParaRPr b="0" lang="en-US" sz="2000" spc="-1" strike="noStrike">
              <a:solidFill>
                <a:srgbClr val="000000"/>
              </a:solidFill>
              <a:latin typeface="Calibri"/>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граничаване на предварителния контрол, упражняван по поръчки, финансирани от Европейски фондове  (чл.19, 20а)</a:t>
            </a:r>
            <a:endParaRPr b="0" lang="en-US" sz="2000" spc="-1" strike="noStrike">
              <a:solidFill>
                <a:srgbClr val="000000"/>
              </a:solidFill>
              <a:latin typeface="Calibri"/>
            </a:endParaRPr>
          </a:p>
          <a:p>
            <a:pPr lvl="2" marL="131436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 отношение на стойностни прагове;</a:t>
            </a:r>
            <a:endParaRPr b="0" lang="en-US" sz="2000" spc="-1" strike="noStrike">
              <a:solidFill>
                <a:srgbClr val="000000"/>
              </a:solidFill>
              <a:latin typeface="Calibri"/>
            </a:endParaRPr>
          </a:p>
          <a:p>
            <a:pPr lvl="2" marL="131436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 отношение на обхват;</a:t>
            </a:r>
            <a:endParaRPr b="0" lang="en-US" sz="2000" spc="-1" strike="noStrike">
              <a:solidFill>
                <a:srgbClr val="000000"/>
              </a:solidFill>
              <a:latin typeface="Calibri"/>
            </a:endParaRPr>
          </a:p>
          <a:p>
            <a:pPr lvl="2" marL="1314360" indent="-4572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Отпада общото правомощие за обжалване пред КЗК по сигнал</a:t>
            </a:r>
            <a:endParaRPr b="0" lang="en-US" sz="20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324000" y="1485720"/>
            <a:ext cx="8640720" cy="4174920"/>
          </a:xfrm>
          <a:prstGeom prst="rect">
            <a:avLst/>
          </a:prstGeom>
          <a:noFill/>
          <a:ln w="0">
            <a:noFill/>
          </a:ln>
        </p:spPr>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пределянето на служители в екипи за управление и изпълнение на проекти, както и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читането на извършената работа от членовете на екипите по проекти се извършва при спазване на разпоредбите на </a:t>
            </a:r>
            <a:r>
              <a:rPr b="1" lang="ru-RU" sz="1600" spc="-1" strike="noStrike">
                <a:solidFill>
                  <a:srgbClr val="000000"/>
                </a:solidFill>
                <a:latin typeface="Times New Roman"/>
                <a:ea typeface="Times New Roman"/>
              </a:rPr>
              <a:t>ПМС 330 от 05.12.2011 г. за допълнение на ПМС 62 от 2007 г</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за приемане на национални правила за допустимост на разходите по Оперативните програми, съфинансирани от Структурните фондове и Кохезионния фонд на Европейския съюз, за финансовата рамка 2007-2013 г.</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Изисквания към служителите в екипите по управление и изпълнение на  проекти по ОПРР</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говорите на членовете на екипите за управление и изпълнение на проекти следва да бъдат изготвени на базата на </a:t>
            </a:r>
            <a:r>
              <a:rPr b="0" lang="ru-RU" sz="1600" spc="-1" strike="noStrike" u="sng">
                <a:solidFill>
                  <a:srgbClr val="000000"/>
                </a:solidFill>
                <a:uFillTx/>
                <a:latin typeface="Times New Roman"/>
                <a:ea typeface="Times New Roman"/>
              </a:rPr>
              <a:t>Заповед за сформиране на екипа на проекта</a:t>
            </a:r>
            <a:r>
              <a:rPr b="0" lang="ru-RU" sz="1600" spc="-1" strike="noStrike">
                <a:solidFill>
                  <a:srgbClr val="000000"/>
                </a:solidFill>
                <a:latin typeface="Times New Roman"/>
                <a:ea typeface="Times New Roman"/>
              </a:rPr>
              <a:t>, като заповедта следва да е </a:t>
            </a:r>
            <a:r>
              <a:rPr b="1" lang="ru-RU" sz="1600" spc="-1" strike="noStrike">
                <a:solidFill>
                  <a:srgbClr val="000000"/>
                </a:solidFill>
                <a:latin typeface="Times New Roman"/>
                <a:ea typeface="Times New Roman"/>
              </a:rPr>
              <a:t>поименна и подписана от представляващия организацията</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ea typeface="Times New Roman"/>
              </a:rPr>
              <a:t>Съгласно чл. 5 ал.1 от ПМС 330/05.12.2011 г. при определяне състава на екипа се описват точно:</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задълженията на членовете, които трябва недвусмислено да произтичат от дейностите по проектното предложение;</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изискванията, на които трябва да отговарят членовете с оглед на функциите и задълженията, определени за  съответната позиция в екипа.</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6840" y="1341000"/>
            <a:ext cx="75438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Промени от 01.07.2012</a:t>
            </a:r>
            <a:endParaRPr b="0" lang="en-US" sz="2800" spc="-1" strike="noStrike">
              <a:solidFill>
                <a:srgbClr val="000000"/>
              </a:solidFill>
              <a:latin typeface="Calibri"/>
            </a:endParaRPr>
          </a:p>
        </p:txBody>
      </p:sp>
      <p:sp>
        <p:nvSpPr>
          <p:cNvPr id="722" name=""/>
          <p:cNvSpPr txBox="1"/>
          <p:nvPr/>
        </p:nvSpPr>
        <p:spPr>
          <a:xfrm>
            <a:off x="324000" y="1988640"/>
            <a:ext cx="8424720" cy="3311640"/>
          </a:xfrm>
          <a:prstGeom prst="rect">
            <a:avLst/>
          </a:prstGeom>
          <a:noFill/>
          <a:ln w="0">
            <a:noFill/>
          </a:ln>
        </p:spPr>
        <p:txBody>
          <a:bodyPr lIns="90000" rIns="90000" tIns="46800" bIns="46800" anchor="t">
            <a:normAutofit fontScale="92000"/>
          </a:bodyPr>
          <a:p>
            <a:pPr marL="315360" indent="-315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Със ЗАКОНА ЗА ИЗМЕНЕНИЕ И ДОПЪЛНЕНИЕ НА ЗАКОНА ЗА ДЪРЖАВНИЯ СЛУЖИТЕЛ (ДВ, БР. 67 ОТ 1999 Г.),в сила от 01.07.2012 г., обн. ДВ. бр.38 от 18 Май 201</a:t>
            </a:r>
            <a:endParaRPr b="0" lang="en-US" sz="2000" spc="-1" strike="noStrike">
              <a:solidFill>
                <a:srgbClr val="000000"/>
              </a:solidFill>
              <a:latin typeface="Calibri"/>
            </a:endParaRPr>
          </a:p>
          <a:p>
            <a:pPr marL="315360" indent="-315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15360" indent="-315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55. В Закона за обществените поръчки - в чл. 18 ал. 4 и 5 се отменят : те касаят допълнителното материално стимулиране на служителите в АОП, които имат право на допълнително материално стимулиране към основната заплата за работа в агенцията, както и индивидуалния му размер въз основа на вътрешни правила, одобрени от министъра на икономиката, енергетиката и туризма, свързани с общият размер на средствата за допълнително материално стимулиране</a:t>
            </a:r>
            <a:endParaRPr b="0" lang="en-US" sz="2000" spc="-1" strike="noStrike">
              <a:solidFill>
                <a:srgbClr val="000000"/>
              </a:solidFill>
              <a:latin typeface="Calibri"/>
            </a:endParaRPr>
          </a:p>
        </p:txBody>
      </p:sp>
      <p:sp>
        <p:nvSpPr>
          <p:cNvPr id="7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BB26-26FA-4090-A0CC-7E72B9BC8E69}" type="slidenum">
              <a:rPr b="0" lang="bg-BG"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428760" y="1267920"/>
            <a:ext cx="8572320" cy="42325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u="sng">
                <a:solidFill>
                  <a:srgbClr val="000000"/>
                </a:solidFill>
                <a:uFillTx/>
                <a:latin typeface="Times New Roman"/>
                <a:ea typeface="Times New Roman"/>
              </a:rPr>
              <a:t>Основни правила</a:t>
            </a:r>
            <a:endParaRPr b="0" lang="en-US" sz="28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ъстав на комисията – брой членов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мисията е колегиален орган – работи в пълен състав!</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000" spc="-1" strike="noStrike" u="sng">
                <a:solidFill>
                  <a:srgbClr val="000000"/>
                </a:solidFill>
                <a:uFillTx/>
                <a:latin typeface="Times New Roman"/>
                <a:ea typeface="Times New Roman"/>
              </a:rPr>
              <a:t>Може</a:t>
            </a:r>
            <a:r>
              <a:rPr b="0" lang="bg-BG" sz="2000" spc="-1" strike="noStrike">
                <a:solidFill>
                  <a:srgbClr val="000000"/>
                </a:solidFill>
                <a:latin typeface="Times New Roman"/>
                <a:ea typeface="Times New Roman"/>
              </a:rPr>
              <a:t> да се привлича външен експерт – правил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га се назначава комисията и какъв е срокът за нейната работа? (Вътрешни правил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ак се взимат решения от Комисия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457200" y="1196640"/>
            <a:ext cx="8229600" cy="4768920"/>
          </a:xfrm>
          <a:prstGeom prst="rect">
            <a:avLst/>
          </a:prstGeom>
          <a:noFill/>
          <a:ln w="0">
            <a:noFill/>
          </a:ln>
        </p:spPr>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Times New Roman"/>
                <a:ea typeface="Times New Roman"/>
              </a:rPr>
              <a:t>Контрол на Възложителя</a:t>
            </a:r>
            <a:endParaRPr b="0" lang="en-US" sz="28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ови текстов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га? - Преди Възложителят да издаде решен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акво се проверява? – Протоколи от работата на комисия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и установяване на нарушения:</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екратяване на процедурата;</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ръщане с писмени и </a:t>
            </a:r>
            <a:r>
              <a:rPr b="0" lang="bg-BG" sz="2000" spc="-1" strike="noStrike" u="sng">
                <a:solidFill>
                  <a:srgbClr val="000000"/>
                </a:solidFill>
                <a:uFillTx/>
                <a:latin typeface="Times New Roman"/>
                <a:ea typeface="Times New Roman"/>
              </a:rPr>
              <a:t>задължителни</a:t>
            </a:r>
            <a:r>
              <a:rPr b="0" lang="bg-BG" sz="2000" spc="-1" strike="noStrike">
                <a:solidFill>
                  <a:srgbClr val="000000"/>
                </a:solidFill>
                <a:latin typeface="Times New Roman"/>
                <a:ea typeface="Times New Roman"/>
              </a:rPr>
              <a:t> указания (Право на особено мнени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КРИТЕРИИ ЗА ОЦЕНК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акви могат да бъдат?</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га комисията стига до тяхното прилаган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глеждане на варианти на оферта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илагане на методиката за оценк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468360" y="1247400"/>
            <a:ext cx="8229600" cy="419724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РАБОТА НА КОМИСИЯТА</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Отваряне на офертите:</a:t>
            </a:r>
            <a:endParaRPr b="0" lang="en-US" sz="1800" spc="-1" strike="noStrike">
              <a:solidFill>
                <a:srgbClr val="000000"/>
              </a:solidFill>
              <a:latin typeface="Calibri"/>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лед предоставяне на списък с участниците и подадените оферти;</a:t>
            </a:r>
            <a:endParaRPr b="0" lang="en-US" sz="1800" spc="-1" strike="noStrike">
              <a:solidFill>
                <a:srgbClr val="000000"/>
              </a:solidFill>
              <a:latin typeface="Calibri"/>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ублично;</a:t>
            </a:r>
            <a:endParaRPr b="0" lang="en-US" sz="1800" spc="-1" strike="noStrike">
              <a:solidFill>
                <a:srgbClr val="000000"/>
              </a:solidFill>
              <a:latin typeface="Calibri"/>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одписи, отваряне на пликове - №3, №2, №1;</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отокол на комисията – наличие на документите в плик № 1;</a:t>
            </a:r>
            <a:endParaRPr b="0" lang="en-US" sz="1800" spc="-1" strike="noStrike">
              <a:solidFill>
                <a:srgbClr val="000000"/>
              </a:solidFill>
              <a:latin typeface="Calibri"/>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Искане и представяне на информация – протокол, 5 работни дни, само каквото е поискано;</a:t>
            </a:r>
            <a:endParaRPr b="0" lang="en-US" sz="1800" spc="-1" strike="noStrike">
              <a:solidFill>
                <a:srgbClr val="000000"/>
              </a:solidFill>
              <a:latin typeface="Calibri"/>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и липса на документи – не се разглежда плик № 2;</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Ново – при възникване на съмнения за споразумения, решения или съгласувани практики – уведомяване на Възложителя, Възложителя уведомява КЗК. Процедурата продължав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457200" y="1341360"/>
            <a:ext cx="8229600" cy="452592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РАБОТА НА КОМИСИЯТА (2)</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лед разглеждане на плик №1 и № 2;</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тстраняване на участници;</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вършване на оценка по всички критерии без “цена” (т.е. Оценка на офертата в плик № 2);</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пределяне на дата за отваряне на ценови оферти;</a:t>
            </a:r>
            <a:endParaRPr b="0" lang="en-US" sz="2000" spc="-1" strike="noStrike">
              <a:solidFill>
                <a:srgbClr val="000000"/>
              </a:solidFill>
              <a:latin typeface="Calibri"/>
            </a:endParaRPr>
          </a:p>
          <a:p>
            <a:pPr lvl="1" marL="743040" indent="-28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ублично отваряне на ценовите оферти;</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й може да присъства – канят се участниците в процедурата;</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повестяване на цените;</a:t>
            </a:r>
            <a:endParaRPr b="0" lang="en-US" sz="2000" spc="-1" strike="noStrike">
              <a:solidFill>
                <a:srgbClr val="000000"/>
              </a:solidFill>
              <a:latin typeface="Calibri"/>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повестяване на резултатите от оценката на плик № 2;</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РАБОТА НА КОМИСИЯТА (3)</a:t>
            </a: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ово</a:t>
            </a:r>
            <a:r>
              <a:rPr b="0" lang="bg-BG" sz="2000" spc="-1" strike="noStrike">
                <a:solidFill>
                  <a:srgbClr val="000000"/>
                </a:solidFill>
                <a:latin typeface="Times New Roman"/>
                <a:ea typeface="Times New Roman"/>
              </a:rPr>
              <a:t> – при отклонение с повече от 20% на предложение на кандидата, което има количествен израз – искане на обосновка (задължително);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лика от предишните две решения в закон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босновката трябва мотивирано да се приеме или отхвърли от комисия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Комисията решава по целесъобразност, но задължително излага мотив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Липсата на мотиви е нарушение – може да доведе до отмяна на последващото Решение на Възложителя (практика на КЗК);</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456840" y="1268280"/>
            <a:ext cx="8115480" cy="414360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ОЦЕНЯВАНЕ НА ОФЕРТ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илагане на Методиката за оценка и оферти на кандидатите</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731" name=""/>
          <p:cNvGraphicFramePr/>
          <p:nvPr/>
        </p:nvGraphicFramePr>
        <p:xfrm>
          <a:off x="852480" y="2100240"/>
          <a:ext cx="6527880" cy="3200400"/>
        </p:xfrm>
        <a:graphic>
          <a:graphicData uri="http://schemas.openxmlformats.org/drawingml/2006/table">
            <a:tbl>
              <a:tblPr/>
              <a:tblGrid>
                <a:gridCol w="2376360"/>
                <a:gridCol w="1511280"/>
                <a:gridCol w="1297080"/>
                <a:gridCol w="1343160"/>
              </a:tblGrid>
              <a:tr h="703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Times New Roman"/>
                          <a:ea typeface="Times New Roman"/>
                        </a:rPr>
                        <a:t>Показател</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Times New Roman"/>
                          <a:ea typeface="Times New Roman"/>
                        </a:rPr>
                        <a:t>Кандидат 1</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Times New Roman"/>
                          <a:ea typeface="Times New Roman"/>
                        </a:rPr>
                        <a:t>Кандидат 2</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Times New Roman"/>
                          <a:ea typeface="Times New Roman"/>
                        </a:rPr>
                        <a:t>Кандидат 3</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03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 за гар. Обслужване</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2 месец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8 месец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36 месец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3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 за реакция при повред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дни</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0.5 дни</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 ден</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3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цент извънредни разходи</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0%</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 за изпълнение</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6 месец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5 месеца</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60 дни</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663480" y="1108080"/>
            <a:ext cx="8229600" cy="469728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ПРИКЛЮЧВАНЕ РАБОТАТА НА КОМИСИЯ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Класиране в резултат на направената оценка – протокол от работата на комисия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Всички членове на комисията задължително подписват протокол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Протоколът следва да бъде приет от Възложителя (виж правото му на контрол на работата на комисията)</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u="sng">
                <a:solidFill>
                  <a:srgbClr val="000000"/>
                </a:solidFill>
                <a:uFillTx/>
                <a:latin typeface="Times New Roman"/>
                <a:ea typeface="Times New Roman"/>
              </a:rPr>
              <a:t>ПРИ РАВЕН РЕЗУЛТАТ:</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ниската цен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казателят с най-голяма тежест;</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Жребий;</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285840" y="1197000"/>
            <a:ext cx="8400960" cy="462600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ДРУГИ КАЗУС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фериране в различни мерни единици, по различни стандарти и др.</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рху плика липсват – фирма на участника, адрес за кореспонденция, телефон...</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Ценова оферта – офериране по артикули, които са много на брой – кандидат не оферира всички артикул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ясна методика – хипотези, при които се присъждат 10/5/1 точки – налагат комисията да обоснове оценката си по всеки показател и за всеки кандидат;</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Методиката има показатели – Комисията въвежда подпоказатели с различна тежест – Недопустимо!</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окът на валидност на офертата е изтекъл, а Комисията още работи;</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324000" y="1523880"/>
            <a:ext cx="8640720" cy="4641840"/>
          </a:xfrm>
          <a:prstGeom prst="rect">
            <a:avLst/>
          </a:prstGeom>
          <a:noFill/>
          <a:ln w="0">
            <a:noFill/>
          </a:ln>
        </p:spPr>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Ръководителят на инфраструктурен проект</a:t>
            </a:r>
            <a:r>
              <a:rPr b="0" lang="ru-RU" sz="2000" spc="-1" strike="noStrike">
                <a:solidFill>
                  <a:srgbClr val="000000"/>
                </a:solidFill>
                <a:latin typeface="Times New Roman"/>
                <a:ea typeface="Times New Roman"/>
              </a:rPr>
              <a:t>, финансиран по Оперативна програма „Регионално развитие” трябва да отговаря на следните изисквания: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има висше образование с образователно-квалификационна степен бакалавър или магистър 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е по-малко от 3 години професионален опит в управлението и/или изпълнението, координацията, контрола и администрирането на инфраструктурни проекти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или</a:t>
            </a:r>
            <a:r>
              <a:rPr b="0"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 има средно специално образование и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й-малко 5 години професионален опит в управлението и/или изпълнението, координацията, контрола и администрирането на инфраструктурни проекти.</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23640" y="1414080"/>
            <a:ext cx="8445240" cy="453564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800" spc="-1" strike="noStrike">
                <a:solidFill>
                  <a:srgbClr val="000000"/>
                </a:solidFill>
                <a:latin typeface="Times New Roman"/>
                <a:ea typeface="Times New Roman"/>
              </a:rPr>
              <a:t>Практика на КЗК и ВАС  при обжалване на процедури по ЗОП</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идове нарушения</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800" spc="-1" strike="noStrike" u="sng">
                <a:solidFill>
                  <a:srgbClr val="000000"/>
                </a:solidFill>
                <a:uFillTx/>
                <a:latin typeface="Times New Roman"/>
                <a:ea typeface="Times New Roman"/>
              </a:rPr>
              <a:t>Съществено нарушение </a:t>
            </a:r>
            <a:r>
              <a:rPr b="0" lang="bg-BG" sz="1800" spc="-1" strike="noStrike">
                <a:solidFill>
                  <a:srgbClr val="000000"/>
                </a:solidFill>
                <a:latin typeface="Times New Roman"/>
                <a:ea typeface="Times New Roman"/>
              </a:rPr>
              <a:t>Съществено нарушение има само тогава, когато то е повлияло или е могло да повлияе върху съдържанието на индивидуалия административен акт и волята на административния орган.</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актика на ВАС Решение № 827/2005, Решение № 9756/2002, Решение № 692/2004г., Решение № 6784/2005 г. и др.</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Несъществено нарушение</a:t>
            </a:r>
            <a:r>
              <a:rPr b="1" lang="en-US" sz="1800" spc="-1" strike="noStrike" u="sng">
                <a:solidFill>
                  <a:srgbClr val="000000"/>
                </a:solidFill>
                <a:uFillTx/>
                <a:latin typeface="Times New Roman"/>
                <a:ea typeface="Times New Roman"/>
              </a:rPr>
              <a:t>- </a:t>
            </a:r>
            <a:r>
              <a:rPr b="0" lang="ru-RU" sz="1800" spc="-1" strike="noStrike">
                <a:solidFill>
                  <a:srgbClr val="000000"/>
                </a:solidFill>
                <a:latin typeface="Times New Roman"/>
                <a:ea typeface="Times New Roman"/>
              </a:rPr>
              <a:t>Съгласно практиката на КЗК за несъществено се счита нарушение, което е допуснато при оценяване на участниците или кандидатите и то по никакъв начин не би се отразило на резултатите от класирането.</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шение 33/2007 г. </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 това Решение КЗК приема, че независимо от неизпълнението на фактическия състав на чл. 59, ал. 2 от АПК то допуснатото нарушение е несъществено и не следва да се отменя акта на възложител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
          <p:cNvSpPr txBox="1"/>
          <p:nvPr/>
        </p:nvSpPr>
        <p:spPr>
          <a:xfrm>
            <a:off x="457200" y="1600200"/>
            <a:ext cx="8229600" cy="377352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Съществени нарушения съгласно практиката на КЗК</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Чл. 25, ал. 5 и ал.6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ъзложителите нямат право да включват в решението, обявлението или документацията условия или изисквания, които дават предимство или необосновано ограничават участието на лица в обществените поръчки.</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ритериите за подбор по ал. 2, т. 6 и документите, които се изискват за изпълнението им, трябва да са съобразени и да съответстват на стойността, сложността и обема на обществената поръчка. </a:t>
            </a:r>
            <a:r>
              <a:rPr b="0" lang="bg-BG"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23640" y="1557360"/>
            <a:ext cx="8569080" cy="4392720"/>
          </a:xfrm>
          <a:prstGeom prst="rect">
            <a:avLst/>
          </a:prstGeom>
          <a:noFill/>
          <a:ln w="0">
            <a:noFill/>
          </a:ln>
        </p:spPr>
        <p:txBody>
          <a:bodyPr lIns="90000" rIns="90000" tIns="46800" bIns="46800" anchor="t">
            <a:no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гато избраният критерий е икономически най-изгодна оферта, възложителите нямат право да включват критерии за подбор като показатели за оценка на офертите.</a:t>
            </a:r>
            <a:br>
              <a:rPr sz="1800"/>
            </a:br>
            <a:r>
              <a:rPr b="0" lang="ru-RU" sz="1800" spc="-1" strike="noStrike">
                <a:solidFill>
                  <a:srgbClr val="000000"/>
                </a:solidFill>
                <a:latin typeface="Times New Roman"/>
                <a:ea typeface="Times New Roman"/>
              </a:rPr>
              <a:t> Притежаването на сертификат за качество, съответствие, изискване на определен оборот, което в последствие се оценява, брои изпълнени договори и т.н.</a:t>
            </a:r>
            <a:br>
              <a:rPr sz="1800"/>
            </a:br>
            <a:r>
              <a:rPr b="0" lang="ru-RU" sz="1800" spc="-1" strike="noStrike">
                <a:solidFill>
                  <a:srgbClr val="000000"/>
                </a:solidFill>
                <a:latin typeface="Times New Roman"/>
                <a:ea typeface="Times New Roman"/>
              </a:rPr>
              <a:t>ВАС е приел, че Решението на КЗК е незаконосъобразно, при допуснати нарушения на материалния закон и на административно производствените правила, тъй като така уредена процедурата от възложителя в документацията не е спазена от помощния му орган. Съда е констатирал, че съставената таблица с оценките на всеки участник съдържаща подписите на членовете на комисията, но не може да замести таблицата във вида предвидена в документацията на участие. Създава се съмнение в работата на помощния орган за нарушение на правилата за прозрачност и равнопоставеност в процедурата което нарушение не може да бъде поправено с изложените мотиви в протоколите за работата на помощния орган. </a:t>
            </a:r>
            <a:br>
              <a:rPr sz="1800"/>
            </a:br>
            <a:r>
              <a:rPr b="0" lang="ru-RU" sz="1800" spc="-1" strike="noStrike">
                <a:solidFill>
                  <a:srgbClr val="000000"/>
                </a:solidFill>
                <a:latin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395280" y="1395360"/>
            <a:ext cx="8229600" cy="4626000"/>
          </a:xfrm>
          <a:prstGeom prst="rect">
            <a:avLst/>
          </a:prstGeom>
          <a:noFill/>
          <a:ln w="0">
            <a:noFill/>
          </a:ln>
        </p:spPr>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ешение 1062 от 30.08.2010 г</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л.25, ал.2 т.10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становената незаконосъобразност на методиката за определяне на комплексната оценка не дава възможност процедурата за възлагане на обществената поръчка да бъде продължена на етап утвърждаване на нова методика, така както е посочено в диспозитива на Решение № 5646/21.04.2011 г. на ВАС, тъй като методиката е част от документацията, а тя се утвърждава с решението за откриване на процедурата.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Решение № 878 от 22.07.2010 г</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 изложеното жалбоподателят прави извода, че цената на документацията е по груби сметки около 20 пъти по-висока от действителните разходи за нейното копиране, което противоречи на разпоредбата на чл. 28, ал. 4 от ЗОП.</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txBox="1"/>
          <p:nvPr/>
        </p:nvSpPr>
        <p:spPr>
          <a:xfrm>
            <a:off x="108000" y="1483920"/>
            <a:ext cx="8445600" cy="4840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лице са множество съществени нарушения на установените с императивни норми процедурни правила за работата на комисията за разглеждане, оценяване и класиране на офертите на участниците в процедурат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случая комисията за провеждане на процедурата не е спазила текстовете на </a:t>
            </a:r>
            <a:r>
              <a:rPr b="0" lang="ru-RU" sz="2000" spc="-1" strike="noStrike" u="sng">
                <a:solidFill>
                  <a:srgbClr val="0000ff"/>
                </a:solidFill>
                <a:uFillTx/>
                <a:latin typeface="Times New Roman"/>
                <a:ea typeface="Times New Roman"/>
                <a:hlinkClick r:id="rId1"/>
              </a:rPr>
              <a:t>чл. 68, ал. 7, ал. 8 и ал. 10 от ЗОП</a:t>
            </a:r>
            <a:r>
              <a:rPr b="0" lang="ru-RU" sz="2000" spc="-1" strike="noStrike">
                <a:solidFill>
                  <a:srgbClr val="000000"/>
                </a:solidFill>
                <a:latin typeface="Times New Roman"/>
                <a:ea typeface="Times New Roman"/>
              </a:rPr>
              <a:t>,  допуснала е, класирала и предложила за изпълнител участник, който не е представил доказателства за изпълнение на минималните изисквания, посочени от възложителя. Възложителят от своя страна в решението си е възприел изцяло констатациите на комисията и се е позовал на протоколите от нейната работа, с което е допуснал нарушение на </a:t>
            </a:r>
            <a:r>
              <a:rPr b="0" lang="ru-RU" sz="2000" spc="-1" strike="noStrike" u="sng">
                <a:solidFill>
                  <a:srgbClr val="0000ff"/>
                </a:solidFill>
                <a:uFillTx/>
                <a:latin typeface="Times New Roman"/>
                <a:ea typeface="Times New Roman"/>
                <a:hlinkClick r:id="rId2"/>
              </a:rPr>
              <a:t>чл. 68, ал. 7, ал. 8 и ал. 10 от ЗОП</a:t>
            </a:r>
            <a:r>
              <a:rPr b="0" lang="ru-RU" sz="2000" spc="-1" strike="noStrike">
                <a:solidFill>
                  <a:srgbClr val="000000"/>
                </a:solidFill>
                <a:latin typeface="Times New Roman"/>
                <a:ea typeface="Times New Roman"/>
              </a:rPr>
              <a:t>, което се явява съществено и представлява самостоятелно основание за отмяна на обжалваното решени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457200" y="1600200"/>
            <a:ext cx="8229600" cy="3557520"/>
          </a:xfrm>
          <a:prstGeom prst="rect">
            <a:avLst/>
          </a:prstGeom>
          <a:noFill/>
          <a:ln w="0">
            <a:noFill/>
          </a:ln>
        </p:spPr>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a:t>
            </a:r>
            <a:r>
              <a:rPr b="0" lang="ru-RU" sz="2000" spc="-1" strike="noStrike">
                <a:solidFill>
                  <a:srgbClr val="000000"/>
                </a:solidFill>
                <a:latin typeface="Times New Roman"/>
                <a:ea typeface="Times New Roman"/>
              </a:rPr>
              <a:t> протокола не се и съдържат конкретни изложения по отношение мнението на отделните членове на комисията, как се е стигнало до формирането на оценките по всеки показател, а е посочено, че комплексната оценка е резултатна величина от сбора на оценките по показателите.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рушение от такъв характер следва да бъде прието за съществено и водещо до незаконосъобразност на решението на възложителя в обжалваната час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250920" y="1412640"/>
            <a:ext cx="8229600" cy="4653000"/>
          </a:xfrm>
          <a:prstGeom prst="rect">
            <a:avLst/>
          </a:prstGeom>
          <a:noFill/>
          <a:ln w="0">
            <a:noFill/>
          </a:ln>
        </p:spPr>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идно от Заповед № * за назначаване на комисия за провеждане </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процедурата, за неин член е назначен г-н (*), посочен в Заповедта като „главен експерт”, но без отбелязване на точната му месторабота.</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Жалбоподателят твърди, че главният експерт е в трудовоправни отношения с * (НИНКН), който е част от административната структура на (МК), което е едноличен собственик на капитала на участника „*” *. Видно е, че работодателят на г-н (*)и лицето, което контролира участника „*” са едно и също лице. Следователно г-н (*) се намира в икономическа зависимост от участник в процедурата, т.е. той е в състояние на конфликт на интереси по смисъла на чл. 35, ал. 1, т. 2 от ЗОП с този участник в процедурата и не може да взима участие в дейността на комисията за преглед и оценка на офертите, без да наруши по този начин законосъобразността на дейността 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txBox="1"/>
          <p:nvPr/>
        </p:nvSpPr>
        <p:spPr>
          <a:xfrm>
            <a:off x="684000" y="1413000"/>
            <a:ext cx="7931160" cy="4248000"/>
          </a:xfrm>
          <a:prstGeom prst="rect">
            <a:avLst/>
          </a:prstGeom>
          <a:noFill/>
          <a:ln w="0">
            <a:noFill/>
          </a:ln>
        </p:spPr>
        <p:txBody>
          <a:bodyPr lIns="90000" rIns="90000" tIns="46800" bIns="46800" anchor="t">
            <a:norm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u="sng">
                <a:solidFill>
                  <a:srgbClr val="000000"/>
                </a:solidFill>
                <a:uFillTx/>
                <a:latin typeface="Times New Roman"/>
                <a:ea typeface="Times New Roman"/>
              </a:rPr>
              <a:t>УКАЗАНИЯ ЗА ПРОЦЕДУРА ЗА</a:t>
            </a:r>
            <a:endParaRPr b="0" lang="en-US" sz="2200" spc="-1" strike="noStrike">
              <a:solidFill>
                <a:srgbClr val="000000"/>
              </a:solidFill>
              <a:latin typeface="Calibri"/>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u="sng">
                <a:solidFill>
                  <a:srgbClr val="000000"/>
                </a:solidFill>
                <a:uFillTx/>
                <a:latin typeface="Times New Roman"/>
                <a:ea typeface="Times New Roman"/>
              </a:rPr>
              <a:t>ИЗПЪЛНЕНИЕ НА ПРОВЕРКИ НА МЯСТО</a:t>
            </a:r>
            <a:endParaRPr b="0" lang="en-US" sz="2200" spc="-1" strike="noStrike">
              <a:solidFill>
                <a:srgbClr val="000000"/>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верки на място се извършват за всички проекти по сключените договори за предоставяне на безвъзмездна финансова помощ</a:t>
            </a:r>
            <a:r>
              <a:rPr b="1" lang="bg-BG" sz="2000" spc="-1" strike="noStrike">
                <a:solidFill>
                  <a:srgbClr val="000000"/>
                </a:solidFill>
                <a:latin typeface="Times New Roman"/>
                <a:ea typeface="Times New Roman"/>
              </a:rPr>
              <a:t>. За всички проекти с по-висока степен на риск се осъществява засилен контрол.</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оверките на място се разделят на следните основни групи: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ланови проверки на място</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Внезапни проверки</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роверки след приключване на проектит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250560" y="1196640"/>
            <a:ext cx="8893080" cy="4537080"/>
          </a:xfrm>
          <a:prstGeom prst="rect">
            <a:avLst/>
          </a:prstGeom>
          <a:noFill/>
          <a:ln w="0">
            <a:noFill/>
          </a:ln>
        </p:spPr>
        <p:txBody>
          <a:bodyPr lIns="90000" rIns="90000" tIns="46800" bIns="46800" anchor="t">
            <a:normAutofit fontScale="99000"/>
          </a:bodyPr>
          <a:p>
            <a:pPr marL="339480" indent="-3394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1400" spc="-1" strike="noStrike" u="sng">
                <a:solidFill>
                  <a:srgbClr val="000000"/>
                </a:solidFill>
                <a:uFillTx/>
                <a:latin typeface="Times New Roman"/>
                <a:ea typeface="Times New Roman"/>
              </a:rPr>
              <a:t>При сключване на договор с изпълнител</a:t>
            </a:r>
            <a:endParaRPr b="0" lang="en-US" sz="1400" spc="-1" strike="noStrike">
              <a:solidFill>
                <a:srgbClr val="000000"/>
              </a:solidFill>
              <a:latin typeface="Calibri"/>
            </a:endParaRPr>
          </a:p>
          <a:p>
            <a:pPr marL="339480" indent="-3394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Бенефициентът е длъжен да ползва следната сигнатура на възложените от него договори за строителство/доставки/услуги на изпълнители – (номер на договора за предоставяне на безвъзмездна финансова помощ) - (сигнатура за вида на договора за изпълнение) – </a:t>
            </a:r>
            <a:r>
              <a:rPr b="0" i="1" lang="bg-BG" sz="1400" spc="-1" strike="noStrike">
                <a:solidFill>
                  <a:srgbClr val="000000"/>
                </a:solidFill>
                <a:latin typeface="Times New Roman"/>
                <a:ea typeface="Times New Roman"/>
              </a:rPr>
              <a:t>D (доставки), U (услуги), S (строителство)</a:t>
            </a:r>
            <a:r>
              <a:rPr b="0" lang="bg-BG" sz="1400" spc="-1" strike="noStrike">
                <a:solidFill>
                  <a:srgbClr val="000000"/>
                </a:solidFill>
                <a:latin typeface="Times New Roman"/>
                <a:ea typeface="Times New Roman"/>
              </a:rPr>
              <a:t> – пореден номер на сключения договор с изпълнител в рамките на договора за безвъзмездна помощ</a:t>
            </a:r>
            <a:endParaRPr b="0" lang="en-US" sz="1400" spc="-1" strike="noStrike">
              <a:solidFill>
                <a:srgbClr val="000000"/>
              </a:solidFill>
              <a:latin typeface="Calibri"/>
            </a:endParaRPr>
          </a:p>
          <a:p>
            <a:pPr marL="339480" indent="-3394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Бенефициентът е длъжен да предвиди в договорите за възлагане на обществени поръчки следните задължения към изпълнителя:</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дължение да спазва изискванията за изпълнение на мерките за информация и публичност, определени в договора за безвъзмездна помощ</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дължение да осигурява достъп за извършване на проверки на място и одити</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дължение да изпълнява мерките и препоръките, съдържащи се в докладите от проверки на място</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дължение да докладва за възникнали нередности</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дължение за възстановяване на суми по нередности, заедно с дължимата лихва и други неправомерно получени средства</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дължение да информира Бенефициента-Възложител за възникнали проблеми при изпълнението на проекта и за предприетите мерки за тяхното разрешаване</a:t>
            </a:r>
            <a:endParaRPr b="0" lang="en-US" sz="1400" spc="-1" strike="noStrike">
              <a:solidFill>
                <a:srgbClr val="000000"/>
              </a:solidFill>
              <a:latin typeface="Calibri"/>
            </a:endParaRPr>
          </a:p>
          <a:p>
            <a:pPr lvl="1" marL="735480" indent="-28296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Times New Roman"/>
                <a:ea typeface="Times New Roman"/>
              </a:rPr>
              <a:t>задължение да спазва изискванията за съхранение на документацията за проекта, определени в договора за безвъзмездна помощ</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txBox="1"/>
          <p:nvPr/>
        </p:nvSpPr>
        <p:spPr>
          <a:xfrm>
            <a:off x="539640" y="2133720"/>
            <a:ext cx="7777440" cy="2984400"/>
          </a:xfrm>
          <a:prstGeom prst="rect">
            <a:avLst/>
          </a:prstGeom>
          <a:noFill/>
          <a:ln w="0">
            <a:noFill/>
          </a:ln>
        </p:spPr>
        <p:txBody>
          <a:bodyPr lIns="90000" rIns="90000" tIns="46800" bIns="4680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БЛАГОДАРЯ</a:t>
            </a:r>
            <a:endParaRPr b="0" lang="en-US" sz="40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ЗА</a:t>
            </a:r>
            <a:endParaRPr b="0" lang="en-US" sz="40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ВНИМАНИЕТО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456840" y="1600200"/>
            <a:ext cx="7859880" cy="45259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Членовете на екипи </a:t>
            </a:r>
            <a:r>
              <a:rPr b="0" lang="ru-RU" sz="2400" spc="-1" strike="noStrike">
                <a:solidFill>
                  <a:srgbClr val="000000"/>
                </a:solidFill>
                <a:latin typeface="Times New Roman"/>
                <a:ea typeface="Times New Roman"/>
              </a:rPr>
              <a:t>за управление на инфраструктурни проекти, финансирани по Оперативна програма „Регионално развитие” </a:t>
            </a:r>
            <a:r>
              <a:rPr b="0" lang="ru-RU" sz="2400" spc="-1" strike="noStrike" u="sng">
                <a:solidFill>
                  <a:srgbClr val="000000"/>
                </a:solidFill>
                <a:uFillTx/>
                <a:latin typeface="Times New Roman"/>
                <a:ea typeface="Times New Roman"/>
              </a:rPr>
              <a:t>трябва </a:t>
            </a:r>
            <a:r>
              <a:rPr b="0" lang="ru-RU" sz="2400" spc="-1" strike="noStrike">
                <a:solidFill>
                  <a:srgbClr val="000000"/>
                </a:solidFill>
                <a:latin typeface="Times New Roman"/>
                <a:ea typeface="Times New Roman"/>
              </a:rPr>
              <a:t>да имат:</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най-малко 3 години професионален опит в областта на съответната позиция в екипа за управлени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95200"/>
            <a:ext cx="8229600" cy="865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Times New Roman"/>
                <a:ea typeface="Times New Roman"/>
              </a:rPr>
              <a:t>Н</a:t>
            </a:r>
            <a:r>
              <a:rPr b="1" lang="ru-RU" sz="3200" spc="-1" strike="noStrike">
                <a:solidFill>
                  <a:srgbClr val="000000"/>
                </a:solidFill>
                <a:latin typeface="Times New Roman"/>
                <a:ea typeface="Times New Roman"/>
              </a:rPr>
              <a:t>аемането на лица за управление</a:t>
            </a:r>
            <a:br>
              <a:rPr sz="3200"/>
            </a:br>
            <a:r>
              <a:rPr b="1" lang="ru-RU" sz="3200" spc="-1" strike="noStrike">
                <a:solidFill>
                  <a:srgbClr val="000000"/>
                </a:solidFill>
                <a:latin typeface="Times New Roman"/>
                <a:ea typeface="Times New Roman"/>
              </a:rPr>
              <a:t>и изпълнение на проекти </a:t>
            </a:r>
            <a:endParaRPr b="0" lang="en-US" sz="3200" spc="-1" strike="noStrike">
              <a:solidFill>
                <a:srgbClr val="000000"/>
              </a:solidFill>
              <a:latin typeface="Calibri"/>
            </a:endParaRPr>
          </a:p>
        </p:txBody>
      </p:sp>
      <p:sp>
        <p:nvSpPr>
          <p:cNvPr id="657" name=""/>
          <p:cNvSpPr txBox="1"/>
          <p:nvPr/>
        </p:nvSpPr>
        <p:spPr>
          <a:xfrm>
            <a:off x="250560" y="2316240"/>
            <a:ext cx="8569080" cy="39924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е регламентира, планира в бюджета на проекта и отчита в хода на изпълнение на проектите.</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ъзлагането на задължения и/или дейности по проекти по ОПРР на служителите в администрацията се извършва със:</a:t>
            </a:r>
            <a:endParaRPr b="0" lang="en-US" sz="2000" spc="-1" strike="noStrike">
              <a:solidFill>
                <a:srgbClr val="000000"/>
              </a:solidFill>
              <a:latin typeface="Calibri"/>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Заповед на органа по назначаване – за държавните служители, или с допълнително споразумение към трудов договор – за служители по трудово правоотношение. </a:t>
            </a:r>
            <a:endParaRPr b="0" lang="en-US" sz="2000" spc="-1" strike="noStrike">
              <a:solidFill>
                <a:srgbClr val="000000"/>
              </a:solidFill>
              <a:latin typeface="Calibri"/>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Сключване на договор за услуга по смисъла на ЗЗД</a:t>
            </a:r>
            <a:endParaRPr b="0" lang="en-US" sz="2000" spc="-1" strike="noStrike">
              <a:solidFill>
                <a:srgbClr val="000000"/>
              </a:solidFill>
              <a:latin typeface="Calibri"/>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Сключване на трудов договор с лице, което се назначава единствено и специално за целите на управление на конкретен проек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Militsa</cp:lastModifiedBy>
  <cp:lastPrinted>2013-01-08T14:34:00Z</cp:lastPrinted>
  <dcterms:modified xsi:type="dcterms:W3CDTF">2013-01-08T14:46:47Z</dcterms:modified>
  <cp:revision>55</cp:revision>
  <dc:subject/>
  <dc:title>Слайд 1</dc:title>
</cp:coreProperties>
</file>