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02D9F-0655-4DC2-B810-0F18D4F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9DC3-A8ED-47D4-8CC4-3B4FBCFE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2F86C-AEC9-4DC6-805F-F1F07F91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932D3-0EA1-4372-8320-625C96A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5D312-FC1D-4E93-B0BB-AC51918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58BB-9F85-4DEB-95D8-58629BF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0234-AF49-4976-A45E-68ECE05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231D5-520A-43AA-A0A8-24AA0B7E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61AE3-F565-4C3E-8401-FA5498F1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D26C-8266-481A-9BF3-C52C1B97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4C892-2928-494E-B1C8-E3A10803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16EDC-24C4-422E-87BF-D5BAED1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0C559-FD79-4334-ADF7-2DC17BB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08ECC-C4CE-49E9-82A0-15D638F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3407A-3781-4036-A922-4C311BD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307EB-0798-4B97-AE54-84CEEF8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F38B1-CA94-40C6-BF43-3DA16B0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0650A-D65D-4842-AE83-F2FDFD30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C978E-5A02-4E65-A693-A861FEA2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17E0A-45BB-4947-848A-ED36C2F9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83F74-48DC-4439-A948-8A40777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2CF63-EA02-4D8C-829C-BB15D9B5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9FE67-7898-49D8-8E01-E25B500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09A93-441C-4985-B3FD-BCF30F2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09945-F8A2-4892-86BD-C2EE60E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32C6D-7C79-4E67-925C-7EC1E6E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5665-DC6F-40EF-AB40-FFE15DAD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233C5-8DED-4C04-BE1D-BD66FF5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0804D-3CDD-44E3-907A-6572186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8F5A9-44F7-4867-8BD4-FA32F617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13A-B668-40C9-8EA0-7C0C21FD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960C5-4922-40C7-86CB-6309D78C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92FEB-4032-4CF5-A8CE-67A654AB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FC6FF-242E-42C2-9E38-EBA2CD54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BC78D-D52F-4A27-9CC0-052E1673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DF770-6338-4CA8-BF37-B52F3E4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8BEF-A72A-4835-9B64-0FADF0A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E4380-2D98-44C4-8552-138E8DCF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CF51-91C0-4699-9438-72C499C7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96A68-8601-4636-A3BE-DBE304E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CFA26-5A49-4787-8DA3-6DB5766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24C-1AE4-4F72-BCAF-5AD87A7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ECAA-F613-4100-860F-515E71E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05662-DDDF-41CC-80FD-EA20AB0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625AA-497B-40AD-B37D-050B3D48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CB1E2-9452-4FFC-B1B2-C7AE2350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5DB3B-19A8-493A-B179-3B49487E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49C-5FB3-4C44-8816-AF2180E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F55-0BFC-48A7-85B9-D537782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87B-7DC0-4DF5-A1FD-D631F87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B82-8EA7-43CD-A5ED-A265B637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2F1-D1ED-4795-AAD2-61F64E0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563-EB98-4A36-B1C3-DFE613F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072-9194-4BB4-9BB5-AC00652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F85-5D61-4FEB-BA0E-875C1CE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BD6-5063-4877-94F1-AF3F5ED2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1A7-B967-4D7B-80E2-853D8CF3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ED3-CAEE-4CFE-8546-BED118B6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142F-A81D-489E-9F1E-8F428C43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EE4-6F23-4AE2-8702-C127923D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645-D060-4179-8B4F-C79A7F11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2440-814F-4D6E-902E-82D82BE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310C-475C-486B-8E88-C394B7C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6BB-21F9-4AFB-BFE3-E734CC4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486C-9268-464B-8CA9-4A1ACF9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B383-941B-4A97-9585-E5A82DB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A523-9F28-439A-BAF7-70B7B26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FCDA-EC1F-4669-BB59-400F145C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362-1BF0-4150-8FFC-B543A645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2F9A-F328-48EF-BFC4-BA3FCD55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CD1C-AE17-472E-A054-49B6814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10FC-4FB1-4950-9EE2-1C8601F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4DEE7-DF1C-4C52-A1A5-91153B86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631E-1F64-47D7-8AAD-B6C90375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4DC2-8B57-435C-9D88-FBAB5205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7323-78E6-4DFE-AC53-C9152356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3EDE-1A90-4649-A7FA-5CEBEEA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D6AC-2783-461A-B82A-C2CE385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BEAD-B390-476E-A8F2-BF15E32F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2613-3FFA-4B96-982D-EA3658F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9FB3-58BC-4C74-B81B-1E58F46A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14FC-A69D-42AE-8B3F-9CF3A4AC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F585-B6ED-49F4-9D75-C6D3E3C7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A612-2C5E-4844-A517-6536314E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2CD0-6074-4F58-89E4-ED8AAE2B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6488E-D350-4B69-BB30-5A6D551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5D3E-D61B-4026-9D0E-AC35A318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9FC9-E028-4538-A365-C600BC3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051A-564E-4750-9D1F-D3F946B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C892-F07F-4E72-B815-2EF82DC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CF88-1C69-4673-A550-F1C642F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925E-D606-4F01-AA67-69DBAB18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41C6-6CBE-4E62-BD75-00A86DC7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DC52-2BEB-49A6-9A93-EE1C895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BDE89-619C-4C5D-B055-131EA66C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38C6D-0539-4044-927E-E1B97B3F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2689-3577-4160-B5E9-D2FA97ED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138D-7628-4EB6-8847-4425CB1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23241-965B-48E7-89C0-189F49B5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FBD4-46F3-4037-B677-CAF3D43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E11C-486B-4CCF-A549-AAE0629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955D-0C7F-4BCF-A978-F60FE2C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12FAE-A990-4E3B-9776-F98C6B3D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1F40-FAF5-4F0D-9C24-5EEF33E4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0A5E-B81A-4AA9-9084-4996D306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469F-F380-4A3C-B461-315A7044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4006-6E2C-4230-97F1-01D42C30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883A-00A7-483A-A51C-3F52F05C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CA00-18D3-4D33-BE75-A7D4AE0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B393-E42B-4E33-8A6D-BA16AED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9C41-B3DE-44E0-A28D-2EF30D2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C979-7142-4A92-9059-61D1D87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315D-5FE9-4EBD-A93C-F598C46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EA6C-3E1C-45CE-BBBC-AFD939C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7FA6-AAB5-40FE-B6A2-9A00DCFE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478B-6F25-4860-9686-0439B9A8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934B-8055-4660-A0B8-EDBE0F00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C9C6-E6AA-4CE0-87AC-945AA8B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4EFE-621B-4835-904E-00D02DF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0A87-D37D-4DC4-82DE-4574123F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D9836-441B-433B-8387-88337C88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D34E-AC15-485E-9BD1-355DE855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8C9F-71D3-455C-A485-5DD857A4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EA5B-BBB7-4086-8070-4CB2A0B4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66B1F-84EA-4A75-8AA1-E4C90A8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9884-5A87-41BF-8A15-1C45851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5D5F-946E-4377-A1CC-4487799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3F39-11AA-47A3-ACC1-903FE9D7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78FF-6C3B-4FEA-9AA1-C547733F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D914B-5D8F-4BB7-ACBE-FABE92D6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452BA-075B-4312-8D22-40CFB59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28BE-9A8E-4F6C-B16E-AF242246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BC52-B333-4F2B-B5E1-7BB0B8C01E5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2180-2790-4C6D-BDC4-743D498738D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E18-34BC-465F-A161-5E79AB9798C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6E1-F690-455E-B8CD-85A869BB868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8F3-7EC0-4968-8435-37BCDEA3734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0E7-DCC7-4EE5-8020-D1F22BE6AAA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744-7B5F-420E-B009-5B9978E05A4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ED3-6344-47B3-A26A-1F9C452E80D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CED4-CEC1-44BE-87FC-1421CF3B3A1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EB11-3A98-468A-9DAF-E3A604131EB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9477-A7FE-42F4-BA88-7A29B837743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перация 1.5: „Системи за устойчив градски транспо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безвъзмездна финансова помо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5-03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324000" y="24922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ИТЕЛНИ ЕЛЕМЕНТИ НА СИСТЕМ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ПРОЦЕСА НА ПОДГОТОВКА И ПЛАНИРАНЕ Н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ИЗПЪЛНЕНИЕ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ПОДГОТОВКАТА И ПРОВЕЖДАНЕТО НА ТРЪЖНИ ПРОЦЕДУРИ - формулиране на стандарти за качество на етап дефиниране и определяне обхвата и спецификацията за възлагане на обществена поръч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еждане на аргументирани и специфични модели за комплексна оценка на постъпилите оферти при провеждане на тръжни процеду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324000" y="263700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ИТЕЛНИ ЕЛЕМЕНТИ НА СИСТЕМ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И УПРАВЛЕНИЕ НА КАЧЕСТВОТО НА ЕТАП ИЗПЪЛНЕНИЕ НА ДОГОВ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 И БЕЗПРИСТРАСТНА ОЦЕНКА НА КАЧЕСТВОТО НА ПРИДОБИТИТЕ В РАМКИТЕ НА ПРОЕКТА ПРОДУКТИ СЪОБРАЗНО ГЕНЕРАЛНАТА ВИЗИЯ НА ОБЩИНАТА ЗА КАЧ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И ЗА ПОСЛЕДВАЩА ОЦЕНКА НА УДОВЛЕТВОРЕНОСТТА ОТ ПРЕДОСТАВЯНИЯ ПРОДУКТ ИЛИ УСЛ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324000" y="263700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И УПРАВЛЕНИЕ НА КАЧЕСТВОТО НА ЕТАП ИЗПЪЛНЕНИЕ НА ДОГОВО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ЪТ Е ОБЩА ЗАДАЧА НА ЕКИПА ЗА ИЗПЪЛНЕНИЕ НА ПРОЕКТА, ИНВЕСТИТОРСКИЯ КОНТРОЛ И НАДЗ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ИТЕ ЗА КОНТРОЛ НА ДОГОВОРИ ТРЯБВА ДА БЪДАТ ЕЛЕМЕНТ НА САМИТЕ ДОГОВ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ЯЩИ ИНСТРУМЕНТИ – ДОКУМЕНТАЛНИ ПРОВЕРКИ; ПРОВЕРКА НА МЯСТО; НЕЗАВИСИМИ ЕКСПЕРТИ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32400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И УПРАВЛЕНИЕ НА КАЧЕСТВОТО НА ЕТАП ИЗПЪЛНЕНИЕ НА ДОГОВО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АКТУАЛИЗИРА ПРОЦЕДУРИТЕ ПО «ВЪТРЕШЕН МОНИТОРИНГ», КАТО ВЪВЕЖДА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ТО ОТ БЕНЕФИЦИЕНТА НА ПРОВЕРКА НА МЯСТОТО НА ИЗПЪЛНЕНИЕ НА СЪОТВЕТНАТА ДЕЙНОСТ, КОЕТО ЩЕ БЪДЕ УДОСТОВЕРЕНО С ПОДПИСВАНЕТО НА ДВУСТРАНЕН КОНСТАТИВЕН ПРОТОКОЛ, УДОСТОВЕРЯВАЩ СЪОТВЕТСТВИЕТО МЕЖДУ ЗАЛОЖЕНИ, АКТУВАНИ И РЕАЛНО ИЗПЪЛНЕНИ СТРОИТЕЛНО-МОНТАЖНИ РАБОТИ (СМ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ДУЛ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И С ИЗПЪЛН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324000" y="2637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НА ДОГОВОРИТЕ ЗА ИЗПЪЛНЕНИЕ НА С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НА ПЪ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32400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ПРЕДСТАВЯ СЕ ПРИ ПЪРВО ИСКАНЕ ЗА ПЛАЩАНЕ ОТ СТРАНА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ЧЕСТО ТРЯБВА ДА БЪДЕ АДАПТИРАНА ЗА ЦЕЛИТЕ НА ИЗПЪЛНЕНИЕТО НА ДОГОВОРИ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32400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 Е ПЪРВИ ЕТАП ОТ ПРОЦЕСА НА СЕРТИФИЦИРАНЕ И ПРЕДСТАВЛЯВА ПРОЦЕС НА НАБЛЮДЕНИЕ И КОНТРОЛ ВЪРХУ ФИНАНСОВИЯ И ФИЗИЧЕСКИЯ НАПРЕДЪК ПО ПРОЕКТИТЕ ЗА ПОТВЪРЖДАВАНЕ НА ПРИЕМЛИВОСТТА НА РАЗХОДИТЕ ЗА ИЗПЪЛНЕНИЕ НА ОДОБРЕНИЯ ПО ОПЕРАТИВНАТА ПРОГРАМА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324000" y="263700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 СЛЕДВА ДА ГАРАНТИРА, 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ФИНАНСИРАНИТЕ ПРОДУКТИ И УСЛУГИ СА ДОСТАВЕНИ И ЧЕ ДЕКЛАРИРАНИТЕ ОТ НЕГО РАЗХОДИ ПО ПРОЕКТА СА ДЕЙСТВИТЕЛНО ИЗВЪРШ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ОЛЗВА СИСТЕМА ЗА ЗАПИСВАНЕ И СЪХРАНЯВАНЕ В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ЮТЪРИЗИРАНА ФОРМА НА СЧЕТОВОДНИТЕ ЗАПИСИ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УМЕНТИ ОТНОСНО РАЗХОДИТЕ И ОДИТИТЕ, НЕОБХОДИМИ ЗА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ПРОСЛЕДЯВАНЕ НА ДОКУМЕНТИТЕ, СЕ СЪХРАНЯВАТ В СЪОТВЕТСТВИЕ С ИЗИСКВАНИ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324000" y="2637000"/>
            <a:ext cx="849780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 СЛЕДВА ДА ГАРАНТИРА, 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ОТЧЕТИ ЗА РАЗХОДИ ПО ПРОЕКТА ВКЛЮЧВАТ ОБЩИЯ РАЗМЕР НА ДОПУСТИМИТЕ РАЗХОДИ, ДЕЙСТВИТЕЛНО ПЛАТЕНИ ОТ НЕГО ПРИ ИЗПЪЛНЕНИЕ НА ПРОЕКТА И СЪОТВЕТНОТО ПУБЛИЧНО УЧАСТИЕ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ЪЗСТАНОВИ ИЗВЪРШЕНИ РАЗХОДИ ПРИ КОНСТАТИРАНЕ НА НЕДОПУСТИМОСТ ИЛИ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ЪОТВЕТСТВИЕ НА ИЗВЪРШВАНЕТО ИМ С НАЦИОНАЛНОТО И НА ОБЩНОСТНОТО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ЗГОТВЯ И ПОДАВА ПЕРИОДИЧНИ ДОКЛАДИ ЗА ИЗПЪЛНЕНИЕТО НА ПРОЕКТА (ДОКЛАДЪТ ТРЯБВА ДА ВЕР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ЦИРА РАЗХОДИТЕ ВЪЗ ОСНОВА НА ФАКТУРИ И/ИЛИ ДРУГИ ДОКУМЕНТИ С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А ДОКАЗАТЕЛСТВЕНА СТОЙ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32400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 СЛЕДВА ДА ГАРАНТИРА, 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ЪЗСТАНОВИ ИЗВЪРШЕНИ РАЗХОДИ ПРИ КОНСТАТИРАНЕ НА НЕДОПУСТИМОСТ ИЛИ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ЪОТВЕТСТВИЕ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ЗГОТВЯ И ПОДАВА ПЕРИОДИЧНИ ДОКЛАДИ ЗА ИЗПЪЛНЕНИЕТО НА ПРОЕКТА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ГАРАНТИРА, ЧЕ ДЕКЛАРИРАНИТЕ РАЗХОДИ НЕ СЪДЪРЖАТ НЕДОПУСТИМ ДАНЪК ДОБАВЕНА СТОЙНОСТ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32400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ИТНА ПЪТЕКА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СЛЕДОВАТЕЛНОСТ НА ДЕЙНОС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ТА, УЧАСТВАЩИ В ДЕЙНОС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Я СРОК/ПЕРИОДА ЗА ИЗВЪРШВАНЕ НА ДЕЙНОС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ЪТ – Т.Е. КОЙ ИЗПРАЩА ДОКУМЕНТ И КАК, КЪДЕ СЕ СЪХРАНЯВАТ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Н ФОРМАТ ОТ СВЪРЗАНИ ФОРМИ ЗА КАНДИДАТСТВАНЕ/ИСКАНИЯ, УВЕДОМЛЕНИЯ, ДОКЛАДИ,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А НА ИНФОРМАЦИЯ, ДОКУМЕНТИ, ДОКЛАДИ И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2:19:06Z</dcterms:modified>
  <cp:revision>351</cp:revision>
  <dc:subject/>
  <dc:title>Слайд 1</dc:title>
</cp:coreProperties>
</file>