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5982F-7790-4DEF-9A7F-9A4AF4A9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8EB57-D22C-417D-9992-BA7B7BF1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3C653-0F12-457B-8656-20F52877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9191C-DA06-457C-85A6-4714E190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7A219-D268-40C5-9862-D100EA41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96B1A-3409-42BD-B819-82332843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3C3FE-6845-4DDA-8F93-19E35837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96B22-24ED-418B-BC95-872D4C62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16170-206B-42F2-B262-9788D7F4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29C8B-37A8-4639-957D-2729C598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BA9B4-5224-4A53-A45F-AB859C0A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FD5B9-D6B9-4228-BBEA-20386BD5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C9952-D842-41AC-838C-1B3D1CAE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729E1-0401-4B4A-9656-6196ACE6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DF522-AE68-40B1-9DC8-64E4BD80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C03C6-7B18-4AAD-AF0B-C7121DE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D6A33-A07F-43B5-AF3A-95B83E54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D23C2-A5E2-453C-AA27-8BC0E534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2AF67-B411-4DBF-8D70-161D0C97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6F3B7-EE9E-4AFB-8EDB-09CF37E3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EF1C3-9A61-4825-AF21-A5C3C856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811D4-28D1-4091-9CE7-DD582D6A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CAC10-0E1A-4453-ACA9-C95E2018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E9E0D-C933-46BE-AD3C-C2362396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09457-DB6D-4EC1-B112-1AF9354A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E9E90-BD6F-4D90-96C0-985A6730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5C9F4-AA99-46A4-8AC5-03D928F1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4551F-07CC-4F1F-96F9-EB7284F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832A8-A3CD-41DC-879E-630DCE35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01802-D4B5-4400-AA3A-AAC1B10A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C99D-EBB5-4D59-9C15-6B3A212D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CE11B-DAE3-4FA9-A3B0-3FFBB653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792F0-606F-402F-8F24-7D7951336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E1C5C-D89B-4C76-9681-10A3D6C3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786FA-B77A-4CC7-88B4-8EA62D5B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504C4-F48B-4A39-9803-C5F7DA44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E69E3-6EDF-42F2-85F2-BA797287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B566C-9348-4271-A9D1-1A674E71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660B3-3A4E-427C-BC48-01BCA18B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0BCD6-A0CE-4647-91BE-80402C4A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52521-E50F-42FE-AE1F-6BF9E8D1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333-DDC2-4238-8A4F-89B43FCD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0E122-81C1-46AB-8D55-8B22C9BA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8E4E7-E695-4C65-9399-25D65434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FE38C-8AB4-4A1E-86C2-E78E08FE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6F65F-11B1-427C-AE0A-02683484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0AD6B-5AB7-4049-AD57-A59FB8B6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B24-83D3-4003-B452-ECED103E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6B5-355C-4F48-9B90-61518919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CE4-EFA2-4929-9DC5-BD709E6E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3C8-C388-4A74-BD9F-743E455A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25A-D11C-4F97-8318-4DDD22BB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2BC-3338-49B1-A433-C4305B4D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FE3-26E9-4532-A2D3-4C59EE94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100-B3B9-438C-8962-748321C8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7CF-0363-48CC-8450-8255A909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552-AF0C-43E1-A985-6DB873F6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9391-115B-4D00-B7BE-0B590897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DB1A-0DED-4E4F-88EB-C388BA00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711B-D198-469D-AB71-8D735728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97B3-F9EA-4F2C-800F-5332C5FE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8355-3805-49A8-85B8-00E63823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EF42-AB3E-4A34-A0FC-422C74F9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4755-89EC-4A33-BBAE-5ED0D22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F876-B868-42D0-B088-1FC665EE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400C-2A7E-4F38-85A8-45DC622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97D4-18A6-44F0-8872-ED430A7B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47BF-11F7-43D4-A389-819F535C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0AFC-A2A2-4E1C-AEAE-CE537A1F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B17B8-4BBA-4F2E-BFB7-B537581B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0ED6-24BF-4AF8-9AEE-02E02C1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FD25-ED39-44DE-83F9-F938C611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19F99-A084-4E3A-88EC-3BECD355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92D5-E16D-4727-8A33-431706C3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404C1-5461-4DCF-AD05-6B27AC97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AABF-575D-447F-B28E-DED03C97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9FC2-E1DF-4A93-BC51-912B38DA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39BA1-DB34-4D1D-87FA-795CB151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B5A3-F26B-4C51-816D-6C0E935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9DE3B-6570-46AB-8206-8F1227F3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0509-5B6C-4DBE-9549-7354FFD1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5CCA7-EB25-49AE-9EF5-B983741F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A16F0-946B-4952-AF9B-4D9DBC9E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00D33-9AC8-480B-A26F-B0DBD258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3A15-6728-4861-B436-3ED03EB0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16D85-035A-4268-A231-15F7ADF1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BC82-6DDF-40E3-830E-0605B09F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617A0-9191-4BD5-89F1-66C216D3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0CE6E-5471-418B-8F22-79F0C013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7D5F8-CC5C-4A5D-B716-71F079B2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A815F-3CDF-44CE-9A4E-8A6ABC26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B2BB2-C95B-42BA-B62A-1E6E0D1F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FF906-F7FF-475D-AF19-7529CBFA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04027-A273-4BA4-B159-C30EF677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F4483-ADF3-495C-B017-26CE2958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C0354-AA9C-4426-BC98-A48A930C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0551-B52B-4852-8A85-C35E704B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3D1AA-CD96-48CD-9B1C-88FE99FA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3ADB-3C61-482C-99E1-BC55ACE8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05AE-BEF5-421C-96E3-9D0A3A30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2DA4C-52BA-4259-A03B-2C30B34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3492-43CE-4C3C-BF83-BEDBBE95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6BDC3-ED9B-4920-A330-5AB1A005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E11A-9C82-45F4-8E93-75612369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545BE-107D-4908-A3A5-1E645D1B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6C47C-730F-4733-B9C5-A7A33AAA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92AF0-1098-4B4C-BC63-542857B1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B150E-B93A-41BE-8ACA-2105A95B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D6460-B7F0-4E03-B3D4-857312B9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FD77B-051B-4D85-AB6E-414489FB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BF5DD-8E17-4337-A588-03C0BB6E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2C068-358F-493E-8E3C-EC3D4EA0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D9F7D-ACA9-4FB9-9E87-209C0367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42B89-33F0-4E78-BCAB-CDFAA28D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65E70-B07E-4D87-A4F7-67AD3B96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1E3D-3D02-4D90-B9E3-41A8A348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FE76-0466-4F24-AF74-2E764947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2E066-68B8-49C5-A7EF-5D83A4E0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508CF-F905-4810-A317-18A3307F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B647-3CAA-4932-9537-8127E0C7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C7B6E-E915-408A-A701-252DA4F8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5EDF-C62D-480E-9258-7A839F95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AEEE-8A8E-4434-B15E-B266C91F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5E1FA-8D9E-4FE0-8703-A2C3C6E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2A727-F054-4B59-8791-014B032B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6B8A1-FE74-4B3B-927B-B7F896B6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CFB7-B896-48B6-A17D-E588C2BA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22C83-530B-44A3-89C0-70896248D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EFAFE-9CFF-444F-A227-AF5B8C6E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18B6B-206E-4F69-8AB3-A05C6193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7C392-7847-47D1-BD4D-46BB555A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B3639-9709-4C2A-B731-503BB3FA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E552-895B-47DB-96DC-52CF2158A98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C890-71CE-4028-A31E-382166AA24A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8C47-0455-4F7A-8F26-3D70151EE69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71AB-8E61-4E06-AD3B-87F64841678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CD66-6240-4CC8-9DED-69DD2270024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EC0C-6768-4C95-9B76-65BCC539E00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A68B-6C0F-4C7C-800D-78BE99A2975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8626-CD83-4FD1-9CC2-82AFC290ABA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AA9B-BE99-4216-9DB6-40946FF0F80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65A9-D352-4582-9DB1-9D283DB6DA65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6EC9-190E-4C3F-9B43-22DC48E82F7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и управление на проек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68360" y="2421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перация 1.5: „Системи за устойчив градски транспор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безвъзмездна финансова помо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5-03/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324000" y="249228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ИТЕЛНИ ЕЛЕМЕНТИ НА СИСТЕМ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ПРОЦЕСА НА ПОДГОТОВКА И ПЛАНИРАНЕ Н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ИЗПЪЛНЕНИЕ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ПОДГОТОВКАТА И ПРОВЕЖДАНЕТО НА ТРЪЖНИ ПРОЦЕДУРИ - формулиране на стандарти за качество на етап дефиниране и определяне обхвата и спецификацията за възлагане на обществена поръч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веждане на аргументирани и специфични модели за комплексна оценка на постъпилите оферти при провеждане на тръжни процеду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КАЧЕСТВОТО ПРИ ПРОЕКТИ ЗА ИНТЕГРИРАН ГРАДСКИ ТРАНСПОР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8"/>
          <p:cNvSpPr/>
          <p:nvPr/>
        </p:nvSpPr>
        <p:spPr>
          <a:xfrm>
            <a:off x="324000" y="263700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ИТЕЛНИ ЕЛЕМЕНТИ НА СИСТЕМ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И УПРАВЛЕНИЕ НА КАЧЕСТВОТО НА ЕТАП ИЗПЪЛНЕНИЕ НА ДОГОВ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 И БЕЗПРИСТРАСТНА ОЦЕНКА НА КАЧЕСТВОТО НА ПРИДОБИТИТЕ В РАМКИТЕ НА ПРОЕКТА ПРОДУКТИ СЪОБРАЗНО ГЕНЕРАЛНАТА ВИЗИЯ НА ОБЩИНАТА ЗА КАЧЕ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И ЗА ПОСЛЕДВАЩА ОЦЕНКА НА УДОВЛЕТВОРЕНОСТТА ОТ ПРЕДОСТАВЯНИЯ ПРОДУКТ ИЛИ УСЛ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КАЧЕСТВОТО ПРИ ПРОЕКТИ ЗА ИНТЕГРИРАН ГРАДСКИ ТРАНСПОР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324000" y="263700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 И УПРАВЛЕНИЕ НА КАЧЕСТВОТО НА ЕТАП ИЗПЪЛНЕНИЕ НА ДОГОВО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ЪТ Е ОБЩА ЗАДАЧА НА ЕКИПА ЗА ИЗПЪЛНЕНИЕ НА ПРОЕКТА, ИНВЕСТИТОРСКИЯ КОНТРОЛ И НАДЗО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ИТЕ ЗА КОНТРОЛ НА ДОГОВОРИ ТРЯБВА ДА БЪДАТ ЕЛЕМЕНТ НА САМИТЕ ДОГОВ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ХОДЯЩИ ИНСТРУМЕНТИ – ДОКУМЕНТАЛНИ ПРОВЕРКИ; ПРОВЕРКА НА МЯСТО; НЕЗАВИСИМИ ЕКСПЕРТИ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КАЧЕСТВОТО ПРИ ПРОЕКТИ ЗА ИНТЕГРИРАН ГРАДСКИ ТРАНСПОР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32400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ТРОЛ И УПРАВЛЕНИЕ НА КАЧЕСТВОТО НА ЕТАП ИЗПЪЛНЕНИЕ НА ДОГОВО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 НА ОПРР АКТУАЛИЗИРА ПРОЦЕДУРИТЕ ПО «ВЪТРЕШЕН МОНИТОРИНГ», КАТО ВЪВЕЖДА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ЖДАНЕТО ОТ БЕНЕФИЦИЕНТА НА ПРОВЕРКА НА МЯСТОТО НА ИЗПЪЛНЕНИЕ НА СЪОТВЕТНАТА ДЕЙНОСТ, КОЕТО ЩЕ БЪДЕ УДОСТОВЕРЕНО С ПОДПИСВАНЕТО НА ДВУСТРАНЕН КОНСТАТИВЕН ПРОТОКОЛ, УДОСТОВЕРЯВАЩ СЪОТВЕТСТВИЕТО МЕЖДУ ЗАЛОЖЕНИ, АКТУВАНИ И РЕАЛНО ИЗПЪЛНЕНИ СТРОИТЕЛНО-МОНТАЖНИ РАБОТИ (СМ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КАЧЕСТВОТО ПРИ ПРОЕКТИ ЗА ИНТЕГРИРАН ГРАДСКИ ТРАНСПОР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250920" y="26370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ДУЛ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И С ИЗПЪЛН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324000" y="2637000"/>
            <a:ext cx="8497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НА ДОГОВОРИТЕ ЗА ИЗПЪЛНЕНИЕ НА СМ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ТНА ПЪ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32400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ФУК НА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ПРЕДСТАВЯ СЕ ПРИ ПЪРВО ИСКАНЕ ЗА ПЛАЩАНЕ ОТ СТРАНА НА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ЧЕСТО ТРЯБВА ДА БЪДЕ АДАПТИРАНА ЗА ЦЕЛИТЕ НА ИЗПЪЛНЕНИЕТО НА ДОГОВОРИ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32400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 Е ПЪРВИ ЕТАП ОТ ПРОЦЕСА НА СЕРТИФИЦИРАНЕ И ПРЕДСТАВЛЯВА ПРОЦЕС НА НАБЛЮДЕНИЕ И КОНТРОЛ ВЪРХУ ФИНАНСОВИЯ И ФИЗИЧЕСКИЯ НАПРЕДЪК ПО ПРОЕКТИТЕ ЗА ПОТВЪРЖДАВАНЕ НА ПРИЕМЛИВОСТТА НА РАЗХОДИТЕ ЗА ИЗПЪЛНЕНИЕ НА ОДОБРЕНИЯ ПО ОПЕРАТИВНАТА ПРОГРАМА ПРОЕ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324000" y="263700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 СЛЕДВА ДА ГАРАНТИРА, 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ФИНАНСИРАНИТЕ ПРОДУКТИ И УСЛУГИ СА ДОСТАВЕНИ И ЧЕ ДЕКЛАРИРАНИТЕ ОТ НЕГО РАЗХОДИ ПО ПРОЕКТА СА ДЕЙСТВИТЕЛНО ИЗВЪРШ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ОЛЗВА СИСТЕМА ЗА ЗАПИСВАНЕ И СЪХРАНЯВАНЕ В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ПЮТЪРИЗИРАНА ФОРМА НА СЧЕТОВОДНИТЕ ЗАПИСИ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ДОКУМЕНТИ ОТНОСНО РАЗХОДИТЕ И ОДИТИТЕ, НЕОБХОДИМИ ЗА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ПРОСЛЕДЯВАНЕ НА ДОКУМЕНТИТЕ, СЕ СЪХРАНЯВАТ В СЪОТВЕТСТВИЕ С ИЗИСКВАНИ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324000" y="2637000"/>
            <a:ext cx="849780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 СЛЕДВА ДА ГАРАНТИРА, 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ОТЧЕТИ ЗА РАЗХОДИ ПО ПРОЕКТА ВКЛЮЧВАТ ОБЩИЯ РАЗМЕР НА ДОПУСТИМИТЕ РАЗХОДИ, ДЕЙСТВИТЕЛНО ПЛАТЕНИ ОТ НЕГО ПРИ ИЗПЪЛНЕНИЕ НА ПРОЕКТА И СЪОТВЕТНОТО ПУБЛИЧНО УЧАСТИЕ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ЪЗСТАНОВИ ИЗВЪРШЕНИ РАЗХОДИ ПРИ КОНСТАТИРАНЕ НА НЕДОПУСТИМОСТ ИЛИ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ЪОТВЕТСТВИЕ НА ИЗВЪРШВАНЕТО ИМ С НАЦИОНАЛНОТО И НА ОБЩНОСТНОТО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СТВ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ЗГОТВЯ И ПОДАВА ПЕРИОДИЧНИ ДОКЛАДИ ЗА ИЗПЪЛНЕНИЕТО НА ПРОЕКТА (ДОКЛАДЪТ ТРЯБВА ДА ВЕР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ЦИРА РАЗХОДИТЕ ВЪЗ ОСНОВА НА ФАКТУРИ И/ИЛИ ДРУГИ ДОКУМЕНТИ С</a:t>
            </a:r>
            <a:r>
              <a:rPr b="1" lang="bg-B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ВИВАЛЕНТНА ДОКАЗАТЕЛСТВЕНА СТОЙ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32400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ИФИКАЦИЯ НА РАЗХОДИТЕ СЛЕДВА ДА ГАРАНТИРА, 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ЪЗСТАНОВИ ИЗВЪРШЕНИ РАЗХОДИ ПРИ КОНСТАТИРАНЕ НА НЕДОПУСТИМОСТ ИЛИ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ЪОТВЕТСТВИЕ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ИЗГОТВЯ И ПОДАВА ПЕРИОДИЧНИ ДОКЛАДИ ЗА ИЗПЪЛНЕНИЕТО НА ПРОЕКТА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ГАРАНТИРА, ЧЕ ДЕКЛАРИРАНИТЕ РАЗХОДИ НЕ СЪДЪРЖАТ НЕДОПУСТИМ ДАНЪК ДОБАВЕНА СТОЙНОСТ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ЗА УПРАВЛЕНИЕ НА КАЧЕ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32400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ИТНА ПЪТЕКА НА БЕНЕФИЦИ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И ПОСЛЕДОВАТЕЛНОСТ НА ДЕЙНОС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ТА, УЧАСТВАЩИ В ДЕЙНОС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ЙНИЯ СРОК/ПЕРИОДА ЗА ИЗВЪРШВАНЕ НА ДЕЙНОС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ЪТ – Т.Е. КОЙ ИЗПРАЩА ДОКУМЕНТ И КАК, КЪДЕ СЕ СЪХРАНЯВАТ ДОКУМ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Н ФОРМАТ ОТ СВЪРЗАНИ ФОРМИ ЗА КАНДИДАТСТВАНЕ/ИСКАНИЯ, УВЕДОМЛЕНИЯ, ДОКЛАДИ,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КА НА ИНФОРМАЦИЯ, ДОКУМЕНТИ, ДОКЛАДИ И Т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ЗИСКВАНИЯ НА ОП ОТНОШЕНИЕ НА УПРАВЛЕНИЕ НА КАЧЕСТВО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13T12:19:06Z</dcterms:modified>
  <cp:revision>351</cp:revision>
  <dc:subject/>
  <dc:title>Слайд 1</dc:title>
</cp:coreProperties>
</file>