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4EA37B-BE39-4615-B301-3940D3016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A29E70-C54A-498F-A3F9-BE50E97A0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EFE805-171C-4C6D-8B98-88AD48DD8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EF3A01-8695-457A-95B1-DB726FB60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2B95F5-8976-41BB-B8DB-B9535B645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717A85-7356-4056-9AC3-84992128C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CB4D2A-D4F2-4E38-96F4-555FAE888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ED323A-F6BB-4015-AA21-1BF340A0B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625BAD-A502-4882-91C9-492B5775D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165F69-2297-49A3-B66A-ED2AB604D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B25B50-F2DE-4132-848B-C3892DD0F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0F150E-D186-4048-9234-25ABA1277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B76436-E5C1-46D4-9212-BAABF01A8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886785-2E38-46AF-82FF-E6FFBC61D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5C6F20-08C5-4715-AF40-DBA7BDC75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9F8812-64A4-4BDA-8254-6911741BD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71F272-460B-4DB5-869E-D6755147E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D15EEE-83C3-474C-97AD-EE4739FBB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9A6558-1316-44A1-9C45-F2949E1AA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0AA2BA-0DF4-4F67-9474-0444701C0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D1BAAB-4213-4080-8E2C-BE474F9E0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4E7049-BBBC-4EFE-8246-616A34527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73D2BD-616D-4787-B57E-977A06688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02D652-DDF9-40B3-9F7D-F07DFBC05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DD22C5-618F-4381-B283-1914CEAC7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D05CAF-00FF-466D-B9C4-6B96FD9D7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333492-84E1-483E-B9AD-D8CDE5330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18FECC-A2F2-4067-ADFC-A3E764226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607A77-5F67-4327-A107-49D547058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CD83A2-9CEE-4E64-B67E-100106F93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5B0AD-8B76-4614-B87D-0D5791D2A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367305-6278-4469-9B82-89CB30FEC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3D0872-C5E6-40A4-A3BA-770868C51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2B72D0-5D1F-40F5-BA38-A1D1BC7C9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581B70-9187-447E-9E97-951E03511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538E61-E3AD-412A-8A3B-664211CA0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234918-2855-480B-A640-D349403B0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68145C-C318-41D0-A759-F975E6F9E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8668BA-E6E0-4A41-9B23-823B25A10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E184F3-68E4-4CD7-9B38-A60E19DA5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C30E91-156C-442E-B231-6E4F5B11E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9C132-932A-4F4D-BDED-EAD116BFA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DE286C-3FC9-4884-BCEE-1CA587BE3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5EDA17-A3D3-4235-AF10-728E6BE47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0C32E2-2A58-4939-9607-F2AD97302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874CD4-6263-4DA2-A9CD-329DD9FBF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A8947B-8048-41B2-8956-63A7665F0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E7359-90C8-477A-96D4-E6B33E481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4830F-D13C-4DC2-B6B7-2AA3BE074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61A8D-8CF7-4FAE-AFC7-A4F4435CA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4DE0C-D984-486F-BB8E-2C2833B09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A1417-0385-4BCE-A22D-BA1FB32BC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BEB3B-8243-4B13-95A1-E98694861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89BF2-DB8E-44F0-ADD3-6D0905141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7A731-5F09-48A8-B868-D2F1EAD2B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DBF62-7D9D-42AB-B2F0-FBA1D88E4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9FF85-12ED-4859-83B0-EF0B6E602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7E588-230F-4036-A011-794A1805D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ABBFB-1AC6-42B0-8B56-16AFF40C7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94CF4-D940-4468-AEB1-545F0124E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A5049-6C4D-41F2-95A4-8DB5A23B0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427EA-BBDD-4409-84E4-395DEA1A9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1F114-0D25-47D7-A476-5DFEBBCEE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8FBFD-02F5-4873-954F-032278E2E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F6FBD-7083-4AC8-A860-D94593BB6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CDB26-47B2-40CF-A9B1-90800F4BC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9BB33-1E2F-46C6-A0C8-013DA8E49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1E4B1-C906-4845-B1F2-5E42B8D73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58ADD-D2D8-4B2E-8E82-8288167F5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6BB936-D16E-4E5A-B587-2589850CF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068DF8-6056-44BA-AA24-D99C00234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6E72CF-5128-4B97-A330-DEDE12476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791575-4682-45C6-BEF1-7D016DEE1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2129B9-2EAB-46F6-AFF4-382B65933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09548A-C795-4B5F-854F-BBCDCD660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C6A4A8-F487-43EE-B446-5AE61B671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C07511-E205-4FEB-9E94-A8F5C4E8B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D63647-5A18-4D12-B3B8-8DC48793C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ABDE73-FAA5-4C2F-B301-8C0614CF0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F0CF5E-FC9F-4692-AB8B-626025494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0C659D-F8C8-48E8-82E4-F437BB117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9F9E20-904D-4238-9072-530356ECE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9F96FE-905E-44EF-A7BA-BDD31B10E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CE5B46-8328-4C6B-8588-23F4FA99B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FC4CDB-93B8-46A2-882A-BE228AA17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4DC78D-A299-4082-988B-49F688A29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D69274-252B-40B7-BF33-5409C58F4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F28B9A-6512-4702-959A-A0A4B9223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CF0C8D-E4B0-465C-A4C2-C3D36A63F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2C6032-F649-4FEE-9505-4E6B57CA6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ADCA7B-D1F4-4648-A307-AECE970EE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7EEF43-0FFE-4C07-A908-71036BB5A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D221B6-4E10-447C-AF78-497926DDF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320340-F77C-4AA9-B373-0D98E7A29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7FBFDA-DDBB-46C9-945B-F1B970E7D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DF9CB1-8E46-4919-BA83-798D55208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BDFE01-2113-4F36-823E-205440F21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7F01D7-FE74-4197-82D9-7B154B8DA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B81070-CE42-4D7D-BF19-3D8AF0B9B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8A7F5B-1D0D-49FA-AAA6-9873B4DBC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C7A809-60DE-4897-8062-97698BF2A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15903C-23CB-443E-9616-1E1B8301A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3E4404-EFBC-4C39-AF41-139528E28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CB9D7E-37EB-4A10-844B-3EC54F717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5C637F-39F4-462E-9232-6F2680984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8A6786-2F93-4ACB-A76F-2B28F922B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B4C239-5DA9-41A7-A96B-9AB568A65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5ED20E-1197-49D9-ADB2-D29B6516C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8D7821-E00C-4EC1-857A-83E229EB5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A8991C-CF5D-4578-8910-55D5A22AB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8A8AC4-F481-42AE-A9B3-570E564DC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04E952-16B1-4A80-9964-7F08DD9C0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5E5B88-4352-4509-B09F-B9FAD9BDD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0A3E26-272A-4ACB-9E04-74C9A6E0E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ECFB9E-560B-428D-B97E-DC778D21C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EF474A-3280-44E1-A663-44BEAB33B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1DF96F-ED9E-4724-B9A0-1E7286119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6F774B-62E4-4E45-A826-9019ED1FD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EDB272-B510-40C1-A51A-8A3D08A68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B581E9-1486-4CB4-B42B-F63306DDD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63DC36-DB0D-4E95-B011-7B37196B5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E6D4C2-8D1B-4211-A87E-7553D1FC1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10499E-C8A5-40AB-8213-49776657D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6CD513-4E19-40FD-8F79-1945EF612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982E55-4B53-4E84-9865-6F85D3D37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E2BDCE-91E0-4D22-96B9-DAFFC8EEF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4E9CC8-D5EB-4385-A8C5-6A6281CEF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0FDB64-4882-4C7D-AB0F-4CD215E17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D33797-EAC1-42B2-A5FB-751A542A0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20B7DD-2C08-4556-83E0-F11187408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468795-862A-46B0-8D71-B872595EA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6424BC-C4B0-4D0D-BC1D-41093B42B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hyperlink" Target="http://www.bgregio.eu/" TargetMode="External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5.jpe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09.xml"/><Relationship Id="rId8" Type="http://schemas.openxmlformats.org/officeDocument/2006/relationships/slideLayout" Target="../slideLayouts/slideLayout110.xml"/><Relationship Id="rId9" Type="http://schemas.openxmlformats.org/officeDocument/2006/relationships/slideLayout" Target="../slideLayouts/slideLayout111.xml"/><Relationship Id="rId10" Type="http://schemas.openxmlformats.org/officeDocument/2006/relationships/slideLayout" Target="../slideLayouts/slideLayout112.xml"/><Relationship Id="rId11" Type="http://schemas.openxmlformats.org/officeDocument/2006/relationships/slideLayout" Target="../slideLayouts/slideLayout113.xml"/><Relationship Id="rId12" Type="http://schemas.openxmlformats.org/officeDocument/2006/relationships/slideLayout" Target="../slideLayouts/slideLayout114.xml"/><Relationship Id="rId13" Type="http://schemas.openxmlformats.org/officeDocument/2006/relationships/slideLayout" Target="../slideLayouts/slideLayout115.xml"/><Relationship Id="rId14" Type="http://schemas.openxmlformats.org/officeDocument/2006/relationships/slideLayout" Target="../slideLayouts/slideLayout116.xml"/><Relationship Id="rId15" Type="http://schemas.openxmlformats.org/officeDocument/2006/relationships/slideLayout" Target="../slideLayouts/slideLayout117.xml"/><Relationship Id="rId16" Type="http://schemas.openxmlformats.org/officeDocument/2006/relationships/slideLayout" Target="../slideLayouts/slideLayout118.xml"/><Relationship Id="rId17" Type="http://schemas.openxmlformats.org/officeDocument/2006/relationships/slideLayout" Target="../slideLayouts/slideLayout119.xml"/><Relationship Id="rId18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5.jpe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5.jpe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33.xml"/><Relationship Id="rId8" Type="http://schemas.openxmlformats.org/officeDocument/2006/relationships/slideLayout" Target="../slideLayouts/slideLayout134.xml"/><Relationship Id="rId9" Type="http://schemas.openxmlformats.org/officeDocument/2006/relationships/slideLayout" Target="../slideLayouts/slideLayout135.xml"/><Relationship Id="rId10" Type="http://schemas.openxmlformats.org/officeDocument/2006/relationships/slideLayout" Target="../slideLayouts/slideLayout136.xml"/><Relationship Id="rId11" Type="http://schemas.openxmlformats.org/officeDocument/2006/relationships/slideLayout" Target="../slideLayouts/slideLayout137.xml"/><Relationship Id="rId12" Type="http://schemas.openxmlformats.org/officeDocument/2006/relationships/slideLayout" Target="../slideLayouts/slideLayout138.xml"/><Relationship Id="rId13" Type="http://schemas.openxmlformats.org/officeDocument/2006/relationships/slideLayout" Target="../slideLayouts/slideLayout139.xml"/><Relationship Id="rId14" Type="http://schemas.openxmlformats.org/officeDocument/2006/relationships/slideLayout" Target="../slideLayouts/slideLayout140.xml"/><Relationship Id="rId15" Type="http://schemas.openxmlformats.org/officeDocument/2006/relationships/slideLayout" Target="../slideLayouts/slideLayout141.xml"/><Relationship Id="rId16" Type="http://schemas.openxmlformats.org/officeDocument/2006/relationships/slideLayout" Target="../slideLayouts/slideLayout142.xml"/><Relationship Id="rId17" Type="http://schemas.openxmlformats.org/officeDocument/2006/relationships/slideLayout" Target="../slideLayouts/slideLayout143.xml"/><Relationship Id="rId18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5.jpe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5.jpe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5.jpe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5.jpe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5.jpe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73.xml"/><Relationship Id="rId8" Type="http://schemas.openxmlformats.org/officeDocument/2006/relationships/slideLayout" Target="../slideLayouts/slideLayout74.xml"/><Relationship Id="rId9" Type="http://schemas.openxmlformats.org/officeDocument/2006/relationships/slideLayout" Target="../slideLayouts/slideLayout75.xml"/><Relationship Id="rId10" Type="http://schemas.openxmlformats.org/officeDocument/2006/relationships/slideLayout" Target="../slideLayouts/slideLayout76.xml"/><Relationship Id="rId11" Type="http://schemas.openxmlformats.org/officeDocument/2006/relationships/slideLayout" Target="../slideLayouts/slideLayout77.xml"/><Relationship Id="rId12" Type="http://schemas.openxmlformats.org/officeDocument/2006/relationships/slideLayout" Target="../slideLayouts/slideLayout78.xml"/><Relationship Id="rId13" Type="http://schemas.openxmlformats.org/officeDocument/2006/relationships/slideLayout" Target="../slideLayouts/slideLayout79.xml"/><Relationship Id="rId14" Type="http://schemas.openxmlformats.org/officeDocument/2006/relationships/slideLayout" Target="../slideLayouts/slideLayout80.xml"/><Relationship Id="rId15" Type="http://schemas.openxmlformats.org/officeDocument/2006/relationships/slideLayout" Target="../slideLayouts/slideLayout81.xml"/><Relationship Id="rId16" Type="http://schemas.openxmlformats.org/officeDocument/2006/relationships/slideLayout" Target="../slideLayouts/slideLayout82.xml"/><Relationship Id="rId17" Type="http://schemas.openxmlformats.org/officeDocument/2006/relationships/slideLayout" Target="../slideLayouts/slideLayout83.xml"/><Relationship Id="rId18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5.jpe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85.xml"/><Relationship Id="rId8" Type="http://schemas.openxmlformats.org/officeDocument/2006/relationships/slideLayout" Target="../slideLayouts/slideLayout86.xml"/><Relationship Id="rId9" Type="http://schemas.openxmlformats.org/officeDocument/2006/relationships/slideLayout" Target="../slideLayouts/slideLayout87.xml"/><Relationship Id="rId10" Type="http://schemas.openxmlformats.org/officeDocument/2006/relationships/slideLayout" Target="../slideLayouts/slideLayout88.xml"/><Relationship Id="rId11" Type="http://schemas.openxmlformats.org/officeDocument/2006/relationships/slideLayout" Target="../slideLayouts/slideLayout89.xml"/><Relationship Id="rId12" Type="http://schemas.openxmlformats.org/officeDocument/2006/relationships/slideLayout" Target="../slideLayouts/slideLayout90.xml"/><Relationship Id="rId13" Type="http://schemas.openxmlformats.org/officeDocument/2006/relationships/slideLayout" Target="../slideLayouts/slideLayout91.xml"/><Relationship Id="rId14" Type="http://schemas.openxmlformats.org/officeDocument/2006/relationships/slideLayout" Target="../slideLayouts/slideLayout92.xml"/><Relationship Id="rId15" Type="http://schemas.openxmlformats.org/officeDocument/2006/relationships/slideLayout" Target="../slideLayouts/slideLayout93.xml"/><Relationship Id="rId16" Type="http://schemas.openxmlformats.org/officeDocument/2006/relationships/slideLayout" Target="../slideLayouts/slideLayout94.xml"/><Relationship Id="rId17" Type="http://schemas.openxmlformats.org/officeDocument/2006/relationships/slideLayout" Target="../slideLayouts/slideLayout95.xml"/><Relationship Id="rId18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5.jpe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Z:\MRRB_obuchenie_beneficienti_25.10.2010\Izpulnenie\Templat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7" descr="http://www.bgregio.eu/FCKeditor/UserFiles/File/OPRR_bg.JPG"/>
          <p:cNvPicPr/>
          <p:nvPr/>
        </p:nvPicPr>
        <p:blipFill>
          <a:blip r:embed=""/>
          <a:stretch/>
        </p:blipFill>
        <p:spPr>
          <a:xfrm>
            <a:off x="7956720" y="189000"/>
            <a:ext cx="733320" cy="971640"/>
          </a:xfrm>
          <a:prstGeom prst="rect">
            <a:avLst/>
          </a:prstGeom>
          <a:ln w="0">
            <a:noFill/>
          </a:ln>
        </p:spPr>
      </p:pic>
      <p:sp>
        <p:nvSpPr>
          <p:cNvPr id="2" name="TextBox 10"/>
          <p:cNvSpPr/>
          <p:nvPr/>
        </p:nvSpPr>
        <p:spPr>
          <a:xfrm>
            <a:off x="3059280" y="379440"/>
            <a:ext cx="2960640" cy="8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ектът се осъществява с финансовата подкрепа н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 “Регионално развитие”2007-2013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съфинансирана от Европейския съюз чре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я фонд за регионално развити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 u="sng">
                <a:solidFill>
                  <a:srgbClr val="0000ff"/>
                </a:solidFill>
                <a:uFillTx/>
                <a:latin typeface="Times New Roman"/>
                <a:ea typeface="ArialMT"/>
                <a:hlinkClick r:id="rId3"/>
              </a:rPr>
              <a:t>www.bgregio.e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Box 11"/>
          <p:cNvSpPr/>
          <p:nvPr/>
        </p:nvSpPr>
        <p:spPr>
          <a:xfrm>
            <a:off x="177480" y="907920"/>
            <a:ext cx="16466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ЕВРОПЕЙСКИ ФОНД З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РЕГИОНАЛНО РАЗВИТИ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Инвестираме във Вашето бъдещ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Box 12"/>
          <p:cNvSpPr/>
          <p:nvPr/>
        </p:nvSpPr>
        <p:spPr>
          <a:xfrm>
            <a:off x="7739640" y="1197000"/>
            <a:ext cx="11912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“</a:t>
            </a: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гионално развитие”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2007 – 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11" descr="Европейска емблема"/>
          <p:cNvPicPr/>
          <p:nvPr/>
        </p:nvPicPr>
        <p:blipFill>
          <a:blip r:embed="rId4"/>
          <a:stretch/>
        </p:blipFill>
        <p:spPr>
          <a:xfrm>
            <a:off x="250920" y="5661000"/>
            <a:ext cx="1152360" cy="771480"/>
          </a:xfrm>
          <a:prstGeom prst="rect">
            <a:avLst/>
          </a:prstGeom>
          <a:ln w="0">
            <a:noFill/>
          </a:ln>
        </p:spPr>
      </p:pic>
      <p:pic>
        <p:nvPicPr>
          <p:cNvPr id="6" name="il_fi" descr="http://ecoline.hit.bg/BG-flag.gif"/>
          <p:cNvPicPr/>
          <p:nvPr/>
        </p:nvPicPr>
        <p:blipFill>
          <a:blip r:embed="rId5"/>
          <a:stretch/>
        </p:blipFill>
        <p:spPr>
          <a:xfrm>
            <a:off x="7740720" y="5661000"/>
            <a:ext cx="1143000" cy="752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TextBox 18"/>
          <p:cNvSpPr/>
          <p:nvPr/>
        </p:nvSpPr>
        <p:spPr>
          <a:xfrm>
            <a:off x="186120" y="6453360"/>
            <a:ext cx="130392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 СЪЮ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TextBox 20"/>
          <p:cNvSpPr/>
          <p:nvPr/>
        </p:nvSpPr>
        <p:spPr>
          <a:xfrm>
            <a:off x="1942560" y="5589720"/>
            <a:ext cx="522684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говор № РД-02-29-16/21.01.2011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„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работване на специфично обучение по операции за бенефициенти и консултиране по разработван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и изпълнение на проекти по ОПРР”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проект BG161PO001/5-01/2008/014, финансиран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 Оперативна програма „Регионално развитие” 2007-2013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нсорциум „С.И.Ц.И. Доминус ООД и Българска консултантска организация ООД”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" name="Group 15"/>
          <p:cNvGrpSpPr/>
          <p:nvPr/>
        </p:nvGrpSpPr>
        <p:grpSpPr>
          <a:xfrm>
            <a:off x="250920" y="189000"/>
            <a:ext cx="1009440" cy="685800"/>
            <a:chOff x="250920" y="189000"/>
            <a:chExt cx="1009440" cy="685800"/>
          </a:xfrm>
        </p:grpSpPr>
        <p:sp>
          <p:nvSpPr>
            <p:cNvPr id="11" name="AutoShape 14"/>
            <p:cNvSpPr/>
            <p:nvPr/>
          </p:nvSpPr>
          <p:spPr>
            <a:xfrm>
              <a:off x="250920" y="189000"/>
              <a:ext cx="1004400" cy="67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" name="Picture 16" descr=""/>
            <p:cNvPicPr/>
            <p:nvPr/>
          </p:nvPicPr>
          <p:blipFill>
            <a:blip r:embed="rId6"/>
            <a:stretch/>
          </p:blipFill>
          <p:spPr>
            <a:xfrm>
              <a:off x="250920" y="189000"/>
              <a:ext cx="1009440" cy="6858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5" name="Picture 2" descr="Z:\MRRB_obuchenie_beneficienti_25.10.2010\Izpulnenie\Templat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66" name="Picture 7" descr="http://www.bgregio.eu/FCKeditor/UserFiles/File/OPRR_bg.JPG"/>
          <p:cNvPicPr/>
          <p:nvPr/>
        </p:nvPicPr>
        <p:blipFill>
          <a:blip r:embed="rId3"/>
          <a:stretch/>
        </p:blipFill>
        <p:spPr>
          <a:xfrm>
            <a:off x="7956720" y="189000"/>
            <a:ext cx="733320" cy="971640"/>
          </a:xfrm>
          <a:prstGeom prst="rect">
            <a:avLst/>
          </a:prstGeom>
          <a:ln w="0">
            <a:noFill/>
          </a:ln>
        </p:spPr>
      </p:pic>
      <p:sp>
        <p:nvSpPr>
          <p:cNvPr id="467" name="TextBox 10"/>
          <p:cNvSpPr/>
          <p:nvPr/>
        </p:nvSpPr>
        <p:spPr>
          <a:xfrm>
            <a:off x="3059280" y="379440"/>
            <a:ext cx="2960640" cy="8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ектът се осъществява с финансовата подкрепа н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 “Регионално развитие”2007-2013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съфинансирана от Европейския съюз чре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я фонд за регионално развити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 u="sng">
                <a:solidFill>
                  <a:srgbClr val="0000ff"/>
                </a:solidFill>
                <a:uFillTx/>
                <a:latin typeface="Times New Roman"/>
                <a:ea typeface="ArialMT"/>
              </a:rPr>
              <a:t>www.bgregio.e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Box 11"/>
          <p:cNvSpPr/>
          <p:nvPr/>
        </p:nvSpPr>
        <p:spPr>
          <a:xfrm>
            <a:off x="177480" y="907920"/>
            <a:ext cx="16466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ЕВРОПЕЙСКИ ФОНД З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РЕГИОНАЛНО РАЗВИТИ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Инвестираме във Вашето бъдещ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Box 12"/>
          <p:cNvSpPr/>
          <p:nvPr/>
        </p:nvSpPr>
        <p:spPr>
          <a:xfrm>
            <a:off x="7739640" y="1197000"/>
            <a:ext cx="11912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“</a:t>
            </a: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гионално развитие”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2007 – 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0" name="Picture 11" descr="Европейска емблема"/>
          <p:cNvPicPr/>
          <p:nvPr/>
        </p:nvPicPr>
        <p:blipFill>
          <a:blip r:embed="rId4"/>
          <a:stretch/>
        </p:blipFill>
        <p:spPr>
          <a:xfrm>
            <a:off x="250920" y="5661000"/>
            <a:ext cx="1152360" cy="771480"/>
          </a:xfrm>
          <a:prstGeom prst="rect">
            <a:avLst/>
          </a:prstGeom>
          <a:ln w="0">
            <a:noFill/>
          </a:ln>
        </p:spPr>
      </p:pic>
      <p:pic>
        <p:nvPicPr>
          <p:cNvPr id="471" name="il_fi" descr="http://ecoline.hit.bg/BG-flag.gif"/>
          <p:cNvPicPr/>
          <p:nvPr/>
        </p:nvPicPr>
        <p:blipFill>
          <a:blip r:embed="rId5"/>
          <a:stretch/>
        </p:blipFill>
        <p:spPr>
          <a:xfrm>
            <a:off x="7740720" y="5661000"/>
            <a:ext cx="1143000" cy="752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72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Box 18"/>
          <p:cNvSpPr/>
          <p:nvPr/>
        </p:nvSpPr>
        <p:spPr>
          <a:xfrm>
            <a:off x="186120" y="6453360"/>
            <a:ext cx="130392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 СЪЮ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Box 20"/>
          <p:cNvSpPr/>
          <p:nvPr/>
        </p:nvSpPr>
        <p:spPr>
          <a:xfrm>
            <a:off x="1942560" y="5589720"/>
            <a:ext cx="522684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говор № РД-02-29-16/21.01.2011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„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работване на специфично обучение по операции за бенефициенти и консултиране по разработван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и изпълнение на проекти по ОПРР”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проект BG161PO001/5-01/2008/014, финансиран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 Оперативна програма „Регионално развитие” 2007-2013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нсорциум „С.И.Ц.И. Доминус ООД и Българска консултантска организация ООД”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" name="Group 15"/>
          <p:cNvGrpSpPr/>
          <p:nvPr/>
        </p:nvGrpSpPr>
        <p:grpSpPr>
          <a:xfrm>
            <a:off x="250920" y="189000"/>
            <a:ext cx="1009440" cy="685800"/>
            <a:chOff x="250920" y="189000"/>
            <a:chExt cx="1009440" cy="685800"/>
          </a:xfrm>
        </p:grpSpPr>
        <p:sp>
          <p:nvSpPr>
            <p:cNvPr id="476" name="AutoShape 14"/>
            <p:cNvSpPr/>
            <p:nvPr/>
          </p:nvSpPr>
          <p:spPr>
            <a:xfrm>
              <a:off x="250920" y="189000"/>
              <a:ext cx="1004400" cy="67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77" name="Picture 16" descr=""/>
            <p:cNvPicPr/>
            <p:nvPr/>
          </p:nvPicPr>
          <p:blipFill>
            <a:blip r:embed="rId6"/>
            <a:stretch/>
          </p:blipFill>
          <p:spPr>
            <a:xfrm>
              <a:off x="250920" y="189000"/>
              <a:ext cx="100944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8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8B059-CEEF-40FC-A143-1A94D24BF987}" type="slidenum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7"/>
    <p:sldLayoutId id="2147483767" r:id="rId8"/>
    <p:sldLayoutId id="2147483768" r:id="rId9"/>
    <p:sldLayoutId id="2147483769" r:id="rId10"/>
    <p:sldLayoutId id="2147483770" r:id="rId11"/>
    <p:sldLayoutId id="2147483771" r:id="rId12"/>
    <p:sldLayoutId id="2147483772" r:id="rId13"/>
    <p:sldLayoutId id="2147483773" r:id="rId14"/>
    <p:sldLayoutId id="2147483774" r:id="rId15"/>
    <p:sldLayoutId id="2147483775" r:id="rId16"/>
    <p:sldLayoutId id="2147483776" r:id="rId17"/>
    <p:sldLayoutId id="2147483777" r:id="rId18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7" name="Picture 2" descr="Z:\MRRB_obuchenie_beneficienti_25.10.2010\Izpulnenie\Templat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18" name="Picture 7" descr="http://www.bgregio.eu/FCKeditor/UserFiles/File/OPRR_bg.JPG"/>
          <p:cNvPicPr/>
          <p:nvPr/>
        </p:nvPicPr>
        <p:blipFill>
          <a:blip r:embed="rId3"/>
          <a:stretch/>
        </p:blipFill>
        <p:spPr>
          <a:xfrm>
            <a:off x="7956720" y="189000"/>
            <a:ext cx="733320" cy="971640"/>
          </a:xfrm>
          <a:prstGeom prst="rect">
            <a:avLst/>
          </a:prstGeom>
          <a:ln w="0">
            <a:noFill/>
          </a:ln>
        </p:spPr>
      </p:pic>
      <p:sp>
        <p:nvSpPr>
          <p:cNvPr id="519" name="TextBox 10"/>
          <p:cNvSpPr/>
          <p:nvPr/>
        </p:nvSpPr>
        <p:spPr>
          <a:xfrm>
            <a:off x="3059280" y="379440"/>
            <a:ext cx="2960640" cy="8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ектът се осъществява с финансовата подкрепа н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 “Регионално развитие”2007-2013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съфинансирана от Европейския съюз чре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я фонд за регионално развити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 u="sng">
                <a:solidFill>
                  <a:srgbClr val="0000ff"/>
                </a:solidFill>
                <a:uFillTx/>
                <a:latin typeface="Times New Roman"/>
                <a:ea typeface="ArialMT"/>
              </a:rPr>
              <a:t>www.bgregio.e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Box 11"/>
          <p:cNvSpPr/>
          <p:nvPr/>
        </p:nvSpPr>
        <p:spPr>
          <a:xfrm>
            <a:off x="177480" y="907920"/>
            <a:ext cx="16466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ЕВРОПЕЙСКИ ФОНД З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РЕГИОНАЛНО РАЗВИТИ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Инвестираме във Вашето бъдещ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extBox 12"/>
          <p:cNvSpPr/>
          <p:nvPr/>
        </p:nvSpPr>
        <p:spPr>
          <a:xfrm>
            <a:off x="7739640" y="1197000"/>
            <a:ext cx="11912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“</a:t>
            </a: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гионално развитие”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2007 – 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2" name="Picture 11" descr="Европейска емблема"/>
          <p:cNvPicPr/>
          <p:nvPr/>
        </p:nvPicPr>
        <p:blipFill>
          <a:blip r:embed="rId4"/>
          <a:stretch/>
        </p:blipFill>
        <p:spPr>
          <a:xfrm>
            <a:off x="250920" y="5661000"/>
            <a:ext cx="1152360" cy="771480"/>
          </a:xfrm>
          <a:prstGeom prst="rect">
            <a:avLst/>
          </a:prstGeom>
          <a:ln w="0">
            <a:noFill/>
          </a:ln>
        </p:spPr>
      </p:pic>
      <p:pic>
        <p:nvPicPr>
          <p:cNvPr id="523" name="il_fi" descr="http://ecoline.hit.bg/BG-flag.gif"/>
          <p:cNvPicPr/>
          <p:nvPr/>
        </p:nvPicPr>
        <p:blipFill>
          <a:blip r:embed="rId5"/>
          <a:stretch/>
        </p:blipFill>
        <p:spPr>
          <a:xfrm>
            <a:off x="7740720" y="5661000"/>
            <a:ext cx="1143000" cy="752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24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TextBox 18"/>
          <p:cNvSpPr/>
          <p:nvPr/>
        </p:nvSpPr>
        <p:spPr>
          <a:xfrm>
            <a:off x="186120" y="6453360"/>
            <a:ext cx="130392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 СЪЮ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TextBox 20"/>
          <p:cNvSpPr/>
          <p:nvPr/>
        </p:nvSpPr>
        <p:spPr>
          <a:xfrm>
            <a:off x="1942560" y="5589720"/>
            <a:ext cx="522684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говор № РД-02-29-16/21.01.2011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„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работване на специфично обучение по операции за бенефициенти и консултиране по разработван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и изпълнение на проекти по ОПРР”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проект BG161PO001/5-01/2008/014, финансиран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 Оперативна програма „Регионално развитие” 2007-2013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нсорциум „С.И.Ц.И. Доминус ООД и Българска консултантска организация ООД”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7" name="Group 15"/>
          <p:cNvGrpSpPr/>
          <p:nvPr/>
        </p:nvGrpSpPr>
        <p:grpSpPr>
          <a:xfrm>
            <a:off x="250920" y="189000"/>
            <a:ext cx="1009440" cy="685800"/>
            <a:chOff x="250920" y="189000"/>
            <a:chExt cx="1009440" cy="685800"/>
          </a:xfrm>
        </p:grpSpPr>
        <p:sp>
          <p:nvSpPr>
            <p:cNvPr id="528" name="AutoShape 14"/>
            <p:cNvSpPr/>
            <p:nvPr/>
          </p:nvSpPr>
          <p:spPr>
            <a:xfrm>
              <a:off x="250920" y="189000"/>
              <a:ext cx="1004400" cy="67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29" name="Picture 16" descr=""/>
            <p:cNvPicPr/>
            <p:nvPr/>
          </p:nvPicPr>
          <p:blipFill>
            <a:blip r:embed="rId6"/>
            <a:stretch/>
          </p:blipFill>
          <p:spPr>
            <a:xfrm>
              <a:off x="250920" y="189000"/>
              <a:ext cx="100944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0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38B7F-1276-439C-BF59-3A189F88A281}" type="slidenum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9" name="Picture 2" descr="Z:\MRRB_obuchenie_beneficienti_25.10.2010\Izpulnenie\Templat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70" name="Picture 7" descr="http://www.bgregio.eu/FCKeditor/UserFiles/File/OPRR_bg.JPG"/>
          <p:cNvPicPr/>
          <p:nvPr/>
        </p:nvPicPr>
        <p:blipFill>
          <a:blip r:embed="rId3"/>
          <a:stretch/>
        </p:blipFill>
        <p:spPr>
          <a:xfrm>
            <a:off x="7956720" y="189000"/>
            <a:ext cx="733320" cy="971640"/>
          </a:xfrm>
          <a:prstGeom prst="rect">
            <a:avLst/>
          </a:prstGeom>
          <a:ln w="0">
            <a:noFill/>
          </a:ln>
        </p:spPr>
      </p:pic>
      <p:sp>
        <p:nvSpPr>
          <p:cNvPr id="571" name="TextBox 10"/>
          <p:cNvSpPr/>
          <p:nvPr/>
        </p:nvSpPr>
        <p:spPr>
          <a:xfrm>
            <a:off x="3059280" y="379440"/>
            <a:ext cx="2960640" cy="8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ектът се осъществява с финансовата подкрепа н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 “Регионално развитие”2007-2013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съфинансирана от Европейския съюз чре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я фонд за регионално развити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 u="sng">
                <a:solidFill>
                  <a:srgbClr val="0000ff"/>
                </a:solidFill>
                <a:uFillTx/>
                <a:latin typeface="Times New Roman"/>
                <a:ea typeface="ArialMT"/>
              </a:rPr>
              <a:t>www.bgregio.e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Box 11"/>
          <p:cNvSpPr/>
          <p:nvPr/>
        </p:nvSpPr>
        <p:spPr>
          <a:xfrm>
            <a:off x="177480" y="907920"/>
            <a:ext cx="16466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ЕВРОПЕЙСКИ ФОНД З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РЕГИОНАЛНО РАЗВИТИ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Инвестираме във Вашето бъдещ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Box 12"/>
          <p:cNvSpPr/>
          <p:nvPr/>
        </p:nvSpPr>
        <p:spPr>
          <a:xfrm>
            <a:off x="7739640" y="1197000"/>
            <a:ext cx="11912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“</a:t>
            </a: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гионално развитие”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2007 – 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4" name="Picture 11" descr="Европейска емблема"/>
          <p:cNvPicPr/>
          <p:nvPr/>
        </p:nvPicPr>
        <p:blipFill>
          <a:blip r:embed="rId4"/>
          <a:stretch/>
        </p:blipFill>
        <p:spPr>
          <a:xfrm>
            <a:off x="250920" y="5661000"/>
            <a:ext cx="1152360" cy="771480"/>
          </a:xfrm>
          <a:prstGeom prst="rect">
            <a:avLst/>
          </a:prstGeom>
          <a:ln w="0">
            <a:noFill/>
          </a:ln>
        </p:spPr>
      </p:pic>
      <p:pic>
        <p:nvPicPr>
          <p:cNvPr id="575" name="il_fi" descr="http://ecoline.hit.bg/BG-flag.gif"/>
          <p:cNvPicPr/>
          <p:nvPr/>
        </p:nvPicPr>
        <p:blipFill>
          <a:blip r:embed="rId5"/>
          <a:stretch/>
        </p:blipFill>
        <p:spPr>
          <a:xfrm>
            <a:off x="7740720" y="5661000"/>
            <a:ext cx="1143000" cy="752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76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Box 18"/>
          <p:cNvSpPr/>
          <p:nvPr/>
        </p:nvSpPr>
        <p:spPr>
          <a:xfrm>
            <a:off x="186120" y="6453360"/>
            <a:ext cx="130392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 СЪЮ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TextBox 20"/>
          <p:cNvSpPr/>
          <p:nvPr/>
        </p:nvSpPr>
        <p:spPr>
          <a:xfrm>
            <a:off x="1942560" y="5589720"/>
            <a:ext cx="522684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говор № РД-02-29-16/21.01.2011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„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работване на специфично обучение по операции за бенефициенти и консултиране по разработван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и изпълнение на проекти по ОПРР”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проект BG161PO001/5-01/2008/014, финансиран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 Оперативна програма „Регионално развитие” 2007-2013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нсорциум „С.И.Ц.И. Доминус ООД и Българска консултантска организация ООД”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9" name="Group 15"/>
          <p:cNvGrpSpPr/>
          <p:nvPr/>
        </p:nvGrpSpPr>
        <p:grpSpPr>
          <a:xfrm>
            <a:off x="250920" y="189000"/>
            <a:ext cx="1009440" cy="685800"/>
            <a:chOff x="250920" y="189000"/>
            <a:chExt cx="1009440" cy="685800"/>
          </a:xfrm>
        </p:grpSpPr>
        <p:sp>
          <p:nvSpPr>
            <p:cNvPr id="580" name="AutoShape 14"/>
            <p:cNvSpPr/>
            <p:nvPr/>
          </p:nvSpPr>
          <p:spPr>
            <a:xfrm>
              <a:off x="250920" y="189000"/>
              <a:ext cx="1004400" cy="67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81" name="Picture 16" descr=""/>
            <p:cNvPicPr/>
            <p:nvPr/>
          </p:nvPicPr>
          <p:blipFill>
            <a:blip r:embed="rId6"/>
            <a:stretch/>
          </p:blipFill>
          <p:spPr>
            <a:xfrm>
              <a:off x="250920" y="189000"/>
              <a:ext cx="100944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2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107CD-18C5-49BC-981A-6528BB6A3F1A}" type="slidenum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7"/>
    <p:sldLayoutId id="2147483793" r:id="rId8"/>
    <p:sldLayoutId id="2147483794" r:id="rId9"/>
    <p:sldLayoutId id="2147483795" r:id="rId10"/>
    <p:sldLayoutId id="2147483796" r:id="rId11"/>
    <p:sldLayoutId id="2147483797" r:id="rId12"/>
    <p:sldLayoutId id="2147483798" r:id="rId13"/>
    <p:sldLayoutId id="2147483799" r:id="rId14"/>
    <p:sldLayoutId id="2147483800" r:id="rId15"/>
    <p:sldLayoutId id="2147483801" r:id="rId16"/>
    <p:sldLayoutId id="2147483802" r:id="rId17"/>
    <p:sldLayoutId id="2147483803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Z:\MRRB_obuchenie_beneficienti_25.10.2010\Izpulnenie\Templat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http://www.bgregio.eu/FCKeditor/UserFiles/File/OPRR_bg.JPG"/>
          <p:cNvPicPr/>
          <p:nvPr/>
        </p:nvPicPr>
        <p:blipFill>
          <a:blip r:embed="rId3"/>
          <a:stretch/>
        </p:blipFill>
        <p:spPr>
          <a:xfrm>
            <a:off x="7956720" y="189000"/>
            <a:ext cx="733320" cy="971640"/>
          </a:xfrm>
          <a:prstGeom prst="rect">
            <a:avLst/>
          </a:prstGeom>
          <a:ln w="0">
            <a:noFill/>
          </a:ln>
        </p:spPr>
      </p:pic>
      <p:sp>
        <p:nvSpPr>
          <p:cNvPr id="51" name="TextBox 16"/>
          <p:cNvSpPr/>
          <p:nvPr/>
        </p:nvSpPr>
        <p:spPr>
          <a:xfrm>
            <a:off x="3059280" y="379440"/>
            <a:ext cx="2960640" cy="8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ектът се осъществява с финансовата подкрепа н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 “Регионално развитие”2007-2013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съфинансирана от Европейския съюз чре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я фонд за регионално развити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 u="sng">
                <a:solidFill>
                  <a:srgbClr val="0000ff"/>
                </a:solidFill>
                <a:uFillTx/>
                <a:latin typeface="Times New Roman"/>
                <a:ea typeface="ArialMT"/>
              </a:rPr>
              <a:t>www.bgregio.e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17"/>
          <p:cNvSpPr/>
          <p:nvPr/>
        </p:nvSpPr>
        <p:spPr>
          <a:xfrm>
            <a:off x="262440" y="907920"/>
            <a:ext cx="16466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ЕВРОПЕЙСКИ ФОНД З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РЕГИОНАЛНО РАЗВИТИ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Инвестираме във Вашето бъдещ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19"/>
          <p:cNvSpPr/>
          <p:nvPr/>
        </p:nvSpPr>
        <p:spPr>
          <a:xfrm>
            <a:off x="7739640" y="1197000"/>
            <a:ext cx="11912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“</a:t>
            </a: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гионално развитие”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2007 – 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24"/>
          <p:cNvSpPr/>
          <p:nvPr/>
        </p:nvSpPr>
        <p:spPr>
          <a:xfrm>
            <a:off x="186840" y="6453360"/>
            <a:ext cx="130392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 СЪЮ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25"/>
          <p:cNvSpPr/>
          <p:nvPr/>
        </p:nvSpPr>
        <p:spPr>
          <a:xfrm>
            <a:off x="1942560" y="5589720"/>
            <a:ext cx="522684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говор № РД-02-29-16/21.01.2011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„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работване на специфично обучение по операции за бенефициенти и консултиране по разработван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и изпълнение на проекти по ОПРР”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проект BG161PO001/5-01/2008/014, финансиран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 Оперативна програма „Регионално развитие” 2007-2013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нсорциум „С.И.Ц.И. Доминус ООД и Българска консултантска организация ООД”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Group 15"/>
          <p:cNvGrpSpPr/>
          <p:nvPr/>
        </p:nvGrpSpPr>
        <p:grpSpPr>
          <a:xfrm>
            <a:off x="250920" y="189000"/>
            <a:ext cx="1009440" cy="685800"/>
            <a:chOff x="250920" y="189000"/>
            <a:chExt cx="1009440" cy="685800"/>
          </a:xfrm>
        </p:grpSpPr>
        <p:sp>
          <p:nvSpPr>
            <p:cNvPr id="58" name="AutoShape 14"/>
            <p:cNvSpPr/>
            <p:nvPr/>
          </p:nvSpPr>
          <p:spPr>
            <a:xfrm>
              <a:off x="250920" y="189000"/>
              <a:ext cx="1004400" cy="67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9" name="Picture 16" descr=""/>
            <p:cNvPicPr/>
            <p:nvPr/>
          </p:nvPicPr>
          <p:blipFill>
            <a:blip r:embed="rId4"/>
            <a:stretch/>
          </p:blipFill>
          <p:spPr>
            <a:xfrm>
              <a:off x="250920" y="189000"/>
              <a:ext cx="100944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D4F61-EC25-4B9D-A76A-7932C1500E8B}" type="slidenum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Z:\MRRB_obuchenie_beneficienti_25.10.2010\Izpulnenie\Templat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7" descr="http://www.bgregio.eu/FCKeditor/UserFiles/File/OPRR_bg.JPG"/>
          <p:cNvPicPr/>
          <p:nvPr/>
        </p:nvPicPr>
        <p:blipFill>
          <a:blip r:embed="rId3"/>
          <a:stretch/>
        </p:blipFill>
        <p:spPr>
          <a:xfrm>
            <a:off x="7956720" y="189000"/>
            <a:ext cx="733320" cy="971640"/>
          </a:xfrm>
          <a:prstGeom prst="rect">
            <a:avLst/>
          </a:prstGeom>
          <a:ln w="0">
            <a:noFill/>
          </a:ln>
        </p:spPr>
      </p:pic>
      <p:sp>
        <p:nvSpPr>
          <p:cNvPr id="101" name="TextBox 16"/>
          <p:cNvSpPr/>
          <p:nvPr/>
        </p:nvSpPr>
        <p:spPr>
          <a:xfrm>
            <a:off x="3059280" y="379440"/>
            <a:ext cx="2960640" cy="8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ектът се осъществява с финансовата подкрепа н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 “Регионално развитие”2007-2013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съфинансирана от Европейския съюз чре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я фонд за регионално развити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 u="sng">
                <a:solidFill>
                  <a:srgbClr val="0000ff"/>
                </a:solidFill>
                <a:uFillTx/>
                <a:latin typeface="Times New Roman"/>
                <a:ea typeface="ArialMT"/>
              </a:rPr>
              <a:t>www.bgregio.e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7"/>
          <p:cNvSpPr/>
          <p:nvPr/>
        </p:nvSpPr>
        <p:spPr>
          <a:xfrm>
            <a:off x="262440" y="907920"/>
            <a:ext cx="16466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ЕВРОПЕЙСКИ ФОНД З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РЕГИОНАЛНО РАЗВИТИ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Инвестираме във Вашето бъдещ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19"/>
          <p:cNvSpPr/>
          <p:nvPr/>
        </p:nvSpPr>
        <p:spPr>
          <a:xfrm>
            <a:off x="7739640" y="1197000"/>
            <a:ext cx="11912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“</a:t>
            </a: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гионално развитие”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2007 – 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11" descr="Европейска емблема"/>
          <p:cNvPicPr/>
          <p:nvPr/>
        </p:nvPicPr>
        <p:blipFill>
          <a:blip r:embed="rId4"/>
          <a:stretch/>
        </p:blipFill>
        <p:spPr>
          <a:xfrm>
            <a:off x="250920" y="5661000"/>
            <a:ext cx="1152360" cy="771480"/>
          </a:xfrm>
          <a:prstGeom prst="rect">
            <a:avLst/>
          </a:prstGeom>
          <a:ln w="0">
            <a:noFill/>
          </a:ln>
        </p:spPr>
      </p:pic>
      <p:pic>
        <p:nvPicPr>
          <p:cNvPr id="105" name="il_fi" descr="http://ecoline.hit.bg/BG-flag.gif"/>
          <p:cNvPicPr/>
          <p:nvPr/>
        </p:nvPicPr>
        <p:blipFill>
          <a:blip r:embed="rId5"/>
          <a:stretch/>
        </p:blipFill>
        <p:spPr>
          <a:xfrm>
            <a:off x="7740720" y="5661000"/>
            <a:ext cx="1143000" cy="752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06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24"/>
          <p:cNvSpPr/>
          <p:nvPr/>
        </p:nvSpPr>
        <p:spPr>
          <a:xfrm>
            <a:off x="186840" y="6453360"/>
            <a:ext cx="130392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 СЪЮ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25"/>
          <p:cNvSpPr/>
          <p:nvPr/>
        </p:nvSpPr>
        <p:spPr>
          <a:xfrm>
            <a:off x="1942560" y="5589720"/>
            <a:ext cx="522684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говор № РД-02-29-16/21.01.2011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„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работване на специфично обучение по операции за бенефициенти и консултиране по разработван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и изпълнение на проекти по ОПРР”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проект BG161PO001/5-01/2008/014, финансиран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 Оперативна програма „Регионално развитие” 2007-2013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нсорциум „С.И.Ц.И. Доминус ООД и Българска консултантска организация ООД”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Group 15"/>
          <p:cNvGrpSpPr/>
          <p:nvPr/>
        </p:nvGrpSpPr>
        <p:grpSpPr>
          <a:xfrm>
            <a:off x="250920" y="189000"/>
            <a:ext cx="1009440" cy="685800"/>
            <a:chOff x="250920" y="189000"/>
            <a:chExt cx="1009440" cy="685800"/>
          </a:xfrm>
        </p:grpSpPr>
        <p:sp>
          <p:nvSpPr>
            <p:cNvPr id="110" name="AutoShape 14"/>
            <p:cNvSpPr/>
            <p:nvPr/>
          </p:nvSpPr>
          <p:spPr>
            <a:xfrm>
              <a:off x="250920" y="189000"/>
              <a:ext cx="1004400" cy="67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1" name="Picture 16" descr=""/>
            <p:cNvPicPr/>
            <p:nvPr/>
          </p:nvPicPr>
          <p:blipFill>
            <a:blip r:embed="rId6"/>
            <a:stretch/>
          </p:blipFill>
          <p:spPr>
            <a:xfrm>
              <a:off x="250920" y="189000"/>
              <a:ext cx="100944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2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E330F-7B88-490C-9A98-98C788462AE2}" type="slidenum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2" descr="Z:\MRRB_obuchenie_beneficienti_25.10.2010\Izpulnenie\Templat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7" descr="http://www.bgregio.eu/FCKeditor/UserFiles/File/OPRR_bg.JPG"/>
          <p:cNvPicPr/>
          <p:nvPr/>
        </p:nvPicPr>
        <p:blipFill>
          <a:blip r:embed="rId3"/>
          <a:stretch/>
        </p:blipFill>
        <p:spPr>
          <a:xfrm>
            <a:off x="7956720" y="189000"/>
            <a:ext cx="733320" cy="971640"/>
          </a:xfrm>
          <a:prstGeom prst="rect">
            <a:avLst/>
          </a:prstGeom>
          <a:ln w="0">
            <a:noFill/>
          </a:ln>
        </p:spPr>
      </p:pic>
      <p:sp>
        <p:nvSpPr>
          <p:cNvPr id="155" name="TextBox 10"/>
          <p:cNvSpPr/>
          <p:nvPr/>
        </p:nvSpPr>
        <p:spPr>
          <a:xfrm>
            <a:off x="3059280" y="379440"/>
            <a:ext cx="2960640" cy="8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ектът се осъществява с финансовата подкрепа н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 “Регионално развитие”2007-2013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съфинансирана от Европейския съюз чре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я фонд за регионално развити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 u="sng">
                <a:solidFill>
                  <a:srgbClr val="0000ff"/>
                </a:solidFill>
                <a:uFillTx/>
                <a:latin typeface="Times New Roman"/>
                <a:ea typeface="ArialMT"/>
              </a:rPr>
              <a:t>www.bgregio.e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11"/>
          <p:cNvSpPr/>
          <p:nvPr/>
        </p:nvSpPr>
        <p:spPr>
          <a:xfrm>
            <a:off x="177480" y="907920"/>
            <a:ext cx="16466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ЕВРОПЕЙСКИ ФОНД З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РЕГИОНАЛНО РАЗВИТИ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Инвестираме във Вашето бъдещ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12"/>
          <p:cNvSpPr/>
          <p:nvPr/>
        </p:nvSpPr>
        <p:spPr>
          <a:xfrm>
            <a:off x="7739640" y="1197000"/>
            <a:ext cx="11912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“</a:t>
            </a: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гионално развитие”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2007 – 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11" descr="Европейска емблема"/>
          <p:cNvPicPr/>
          <p:nvPr/>
        </p:nvPicPr>
        <p:blipFill>
          <a:blip r:embed="rId4"/>
          <a:stretch/>
        </p:blipFill>
        <p:spPr>
          <a:xfrm>
            <a:off x="250920" y="5661000"/>
            <a:ext cx="1152360" cy="771480"/>
          </a:xfrm>
          <a:prstGeom prst="rect">
            <a:avLst/>
          </a:prstGeom>
          <a:ln w="0">
            <a:noFill/>
          </a:ln>
        </p:spPr>
      </p:pic>
      <p:pic>
        <p:nvPicPr>
          <p:cNvPr id="159" name="il_fi" descr="http://ecoline.hit.bg/BG-flag.gif"/>
          <p:cNvPicPr/>
          <p:nvPr/>
        </p:nvPicPr>
        <p:blipFill>
          <a:blip r:embed="rId5"/>
          <a:stretch/>
        </p:blipFill>
        <p:spPr>
          <a:xfrm>
            <a:off x="7740720" y="5661000"/>
            <a:ext cx="1143000" cy="752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60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18"/>
          <p:cNvSpPr/>
          <p:nvPr/>
        </p:nvSpPr>
        <p:spPr>
          <a:xfrm>
            <a:off x="186120" y="6453360"/>
            <a:ext cx="130392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 СЪЮ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20"/>
          <p:cNvSpPr/>
          <p:nvPr/>
        </p:nvSpPr>
        <p:spPr>
          <a:xfrm>
            <a:off x="1942560" y="5589720"/>
            <a:ext cx="522684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говор № РД-02-29-16/21.01.2011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„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работване на специфично обучение по операции за бенефициенти и консултиране по разработван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и изпълнение на проекти по ОПРР”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проект BG161PO001/5-01/2008/014, финансиран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 Оперативна програма „Регионално развитие” 2007-2013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нсорциум „С.И.Ц.И. Доминус ООД и Българска консултантска организация ООД”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Group 15"/>
          <p:cNvGrpSpPr/>
          <p:nvPr/>
        </p:nvGrpSpPr>
        <p:grpSpPr>
          <a:xfrm>
            <a:off x="250920" y="189000"/>
            <a:ext cx="1009440" cy="685800"/>
            <a:chOff x="250920" y="189000"/>
            <a:chExt cx="1009440" cy="685800"/>
          </a:xfrm>
        </p:grpSpPr>
        <p:sp>
          <p:nvSpPr>
            <p:cNvPr id="164" name="AutoShape 14"/>
            <p:cNvSpPr/>
            <p:nvPr/>
          </p:nvSpPr>
          <p:spPr>
            <a:xfrm>
              <a:off x="250920" y="189000"/>
              <a:ext cx="1004400" cy="67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5" name="Picture 16" descr=""/>
            <p:cNvPicPr/>
            <p:nvPr/>
          </p:nvPicPr>
          <p:blipFill>
            <a:blip r:embed="rId6"/>
            <a:stretch/>
          </p:blipFill>
          <p:spPr>
            <a:xfrm>
              <a:off x="250920" y="189000"/>
              <a:ext cx="100944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6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22283-D6DE-498F-95B1-72C4ADA1A475}" type="slidenum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2" descr="Z:\MRRB_obuchenie_beneficienti_25.10.2010\Izpulnenie\Templat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7" descr="http://www.bgregio.eu/FCKeditor/UserFiles/File/OPRR_bg.JPG"/>
          <p:cNvPicPr/>
          <p:nvPr/>
        </p:nvPicPr>
        <p:blipFill>
          <a:blip r:embed="rId3"/>
          <a:stretch/>
        </p:blipFill>
        <p:spPr>
          <a:xfrm>
            <a:off x="7956720" y="189000"/>
            <a:ext cx="733320" cy="971640"/>
          </a:xfrm>
          <a:prstGeom prst="rect">
            <a:avLst/>
          </a:prstGeom>
          <a:ln w="0">
            <a:noFill/>
          </a:ln>
        </p:spPr>
      </p:pic>
      <p:sp>
        <p:nvSpPr>
          <p:cNvPr id="207" name="TextBox 10"/>
          <p:cNvSpPr/>
          <p:nvPr/>
        </p:nvSpPr>
        <p:spPr>
          <a:xfrm>
            <a:off x="3059280" y="379440"/>
            <a:ext cx="2960640" cy="8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ектът се осъществява с финансовата подкрепа н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 “Регионално развитие”2007-2013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съфинансирана от Европейския съюз чре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я фонд за регионално развити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 u="sng">
                <a:solidFill>
                  <a:srgbClr val="0000ff"/>
                </a:solidFill>
                <a:uFillTx/>
                <a:latin typeface="Times New Roman"/>
                <a:ea typeface="ArialMT"/>
              </a:rPr>
              <a:t>www.bgregio.e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11"/>
          <p:cNvSpPr/>
          <p:nvPr/>
        </p:nvSpPr>
        <p:spPr>
          <a:xfrm>
            <a:off x="177480" y="907920"/>
            <a:ext cx="16466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ЕВРОПЕЙСКИ ФОНД З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РЕГИОНАЛНО РАЗВИТИ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Инвестираме във Вашето бъдещ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Box 12"/>
          <p:cNvSpPr/>
          <p:nvPr/>
        </p:nvSpPr>
        <p:spPr>
          <a:xfrm>
            <a:off x="7739640" y="1197000"/>
            <a:ext cx="11912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“</a:t>
            </a: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гионално развитие”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2007 – 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11" descr="Европейска емблема"/>
          <p:cNvPicPr/>
          <p:nvPr/>
        </p:nvPicPr>
        <p:blipFill>
          <a:blip r:embed="rId4"/>
          <a:stretch/>
        </p:blipFill>
        <p:spPr>
          <a:xfrm>
            <a:off x="250920" y="5661000"/>
            <a:ext cx="1152360" cy="771480"/>
          </a:xfrm>
          <a:prstGeom prst="rect">
            <a:avLst/>
          </a:prstGeom>
          <a:ln w="0">
            <a:noFill/>
          </a:ln>
        </p:spPr>
      </p:pic>
      <p:pic>
        <p:nvPicPr>
          <p:cNvPr id="211" name="il_fi" descr="http://ecoline.hit.bg/BG-flag.gif"/>
          <p:cNvPicPr/>
          <p:nvPr/>
        </p:nvPicPr>
        <p:blipFill>
          <a:blip r:embed="rId5"/>
          <a:stretch/>
        </p:blipFill>
        <p:spPr>
          <a:xfrm>
            <a:off x="7740720" y="5661000"/>
            <a:ext cx="1143000" cy="752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12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Box 18"/>
          <p:cNvSpPr/>
          <p:nvPr/>
        </p:nvSpPr>
        <p:spPr>
          <a:xfrm>
            <a:off x="186120" y="6453360"/>
            <a:ext cx="130392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 СЪЮ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Box 20"/>
          <p:cNvSpPr/>
          <p:nvPr/>
        </p:nvSpPr>
        <p:spPr>
          <a:xfrm>
            <a:off x="1942560" y="5589720"/>
            <a:ext cx="522684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говор № РД-02-29-16/21.01.2011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„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работване на специфично обучение по операции за бенефициенти и консултиране по разработван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и изпълнение на проекти по ОПРР”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проект BG161PO001/5-01/2008/014, финансиран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 Оперативна програма „Регионално развитие” 2007-2013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нсорциум „С.И.Ц.И. Доминус ООД и Българска консултантска организация ООД”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Group 15"/>
          <p:cNvGrpSpPr/>
          <p:nvPr/>
        </p:nvGrpSpPr>
        <p:grpSpPr>
          <a:xfrm>
            <a:off x="250920" y="189000"/>
            <a:ext cx="1009440" cy="685800"/>
            <a:chOff x="250920" y="189000"/>
            <a:chExt cx="1009440" cy="685800"/>
          </a:xfrm>
        </p:grpSpPr>
        <p:sp>
          <p:nvSpPr>
            <p:cNvPr id="216" name="AutoShape 14"/>
            <p:cNvSpPr/>
            <p:nvPr/>
          </p:nvSpPr>
          <p:spPr>
            <a:xfrm>
              <a:off x="250920" y="189000"/>
              <a:ext cx="1004400" cy="67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7" name="Picture 16" descr=""/>
            <p:cNvPicPr/>
            <p:nvPr/>
          </p:nvPicPr>
          <p:blipFill>
            <a:blip r:embed="rId6"/>
            <a:stretch/>
          </p:blipFill>
          <p:spPr>
            <a:xfrm>
              <a:off x="250920" y="189000"/>
              <a:ext cx="100944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8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B2E01-C82C-4581-8380-819EEB54B94F}" type="slidenum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2" descr="Z:\MRRB_obuchenie_beneficienti_25.10.2010\Izpulnenie\Templat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7" descr="http://www.bgregio.eu/FCKeditor/UserFiles/File/OPRR_bg.JPG"/>
          <p:cNvPicPr/>
          <p:nvPr/>
        </p:nvPicPr>
        <p:blipFill>
          <a:blip r:embed="rId3"/>
          <a:stretch/>
        </p:blipFill>
        <p:spPr>
          <a:xfrm>
            <a:off x="7956720" y="189000"/>
            <a:ext cx="733320" cy="971640"/>
          </a:xfrm>
          <a:prstGeom prst="rect">
            <a:avLst/>
          </a:prstGeom>
          <a:ln w="0">
            <a:noFill/>
          </a:ln>
        </p:spPr>
      </p:pic>
      <p:sp>
        <p:nvSpPr>
          <p:cNvPr id="259" name="TextBox 10"/>
          <p:cNvSpPr/>
          <p:nvPr/>
        </p:nvSpPr>
        <p:spPr>
          <a:xfrm>
            <a:off x="3059280" y="379440"/>
            <a:ext cx="2960640" cy="8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ектът се осъществява с финансовата подкрепа н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 “Регионално развитие”2007-2013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съфинансирана от Европейския съюз чре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я фонд за регионално развити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 u="sng">
                <a:solidFill>
                  <a:srgbClr val="0000ff"/>
                </a:solidFill>
                <a:uFillTx/>
                <a:latin typeface="Times New Roman"/>
                <a:ea typeface="ArialMT"/>
              </a:rPr>
              <a:t>www.bgregio.e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Box 11"/>
          <p:cNvSpPr/>
          <p:nvPr/>
        </p:nvSpPr>
        <p:spPr>
          <a:xfrm>
            <a:off x="177480" y="907920"/>
            <a:ext cx="16466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ЕВРОПЕЙСКИ ФОНД З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РЕГИОНАЛНО РАЗВИТИ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Инвестираме във Вашето бъдещ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12"/>
          <p:cNvSpPr/>
          <p:nvPr/>
        </p:nvSpPr>
        <p:spPr>
          <a:xfrm>
            <a:off x="7739640" y="1197000"/>
            <a:ext cx="11912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“</a:t>
            </a: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гионално развитие”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2007 – 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11" descr="Европейска емблема"/>
          <p:cNvPicPr/>
          <p:nvPr/>
        </p:nvPicPr>
        <p:blipFill>
          <a:blip r:embed="rId4"/>
          <a:stretch/>
        </p:blipFill>
        <p:spPr>
          <a:xfrm>
            <a:off x="250920" y="5661000"/>
            <a:ext cx="1152360" cy="771480"/>
          </a:xfrm>
          <a:prstGeom prst="rect">
            <a:avLst/>
          </a:prstGeom>
          <a:ln w="0">
            <a:noFill/>
          </a:ln>
        </p:spPr>
      </p:pic>
      <p:pic>
        <p:nvPicPr>
          <p:cNvPr id="263" name="il_fi" descr="http://ecoline.hit.bg/BG-flag.gif"/>
          <p:cNvPicPr/>
          <p:nvPr/>
        </p:nvPicPr>
        <p:blipFill>
          <a:blip r:embed="rId5"/>
          <a:stretch/>
        </p:blipFill>
        <p:spPr>
          <a:xfrm>
            <a:off x="7740720" y="5661000"/>
            <a:ext cx="1143000" cy="752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64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Box 18"/>
          <p:cNvSpPr/>
          <p:nvPr/>
        </p:nvSpPr>
        <p:spPr>
          <a:xfrm>
            <a:off x="186120" y="6453360"/>
            <a:ext cx="130392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 СЪЮ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Box 20"/>
          <p:cNvSpPr/>
          <p:nvPr/>
        </p:nvSpPr>
        <p:spPr>
          <a:xfrm>
            <a:off x="1942560" y="5589720"/>
            <a:ext cx="522684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говор № РД-02-29-16/21.01.2011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„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работване на специфично обучение по операции за бенефициенти и консултиране по разработван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и изпълнение на проекти по ОПРР”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проект BG161PO001/5-01/2008/014, финансиран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 Оперативна програма „Регионално развитие” 2007-2013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нсорциум „С.И.Ц.И. Доминус ООД и Българска консултантска организация ООД”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7" name="Group 15"/>
          <p:cNvGrpSpPr/>
          <p:nvPr/>
        </p:nvGrpSpPr>
        <p:grpSpPr>
          <a:xfrm>
            <a:off x="250920" y="189000"/>
            <a:ext cx="1009440" cy="685800"/>
            <a:chOff x="250920" y="189000"/>
            <a:chExt cx="1009440" cy="685800"/>
          </a:xfrm>
        </p:grpSpPr>
        <p:sp>
          <p:nvSpPr>
            <p:cNvPr id="268" name="AutoShape 14"/>
            <p:cNvSpPr/>
            <p:nvPr/>
          </p:nvSpPr>
          <p:spPr>
            <a:xfrm>
              <a:off x="250920" y="189000"/>
              <a:ext cx="1004400" cy="67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69" name="Picture 16" descr=""/>
            <p:cNvPicPr/>
            <p:nvPr/>
          </p:nvPicPr>
          <p:blipFill>
            <a:blip r:embed="rId6"/>
            <a:stretch/>
          </p:blipFill>
          <p:spPr>
            <a:xfrm>
              <a:off x="250920" y="189000"/>
              <a:ext cx="100944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0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C4700-91A1-44DC-B093-EF1BEBDB9008}" type="slidenum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Picture 2" descr="Z:\MRRB_obuchenie_beneficienti_25.10.2010\Izpulnenie\Templat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7" descr="http://www.bgregio.eu/FCKeditor/UserFiles/File/OPRR_bg.JPG"/>
          <p:cNvPicPr/>
          <p:nvPr/>
        </p:nvPicPr>
        <p:blipFill>
          <a:blip r:embed="rId3"/>
          <a:stretch/>
        </p:blipFill>
        <p:spPr>
          <a:xfrm>
            <a:off x="7956720" y="189000"/>
            <a:ext cx="733320" cy="971640"/>
          </a:xfrm>
          <a:prstGeom prst="rect">
            <a:avLst/>
          </a:prstGeom>
          <a:ln w="0">
            <a:noFill/>
          </a:ln>
        </p:spPr>
      </p:pic>
      <p:sp>
        <p:nvSpPr>
          <p:cNvPr id="311" name="TextBox 10"/>
          <p:cNvSpPr/>
          <p:nvPr/>
        </p:nvSpPr>
        <p:spPr>
          <a:xfrm>
            <a:off x="3059280" y="379440"/>
            <a:ext cx="2960640" cy="8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ектът се осъществява с финансовата подкрепа н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 “Регионално развитие”2007-2013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съфинансирана от Европейския съюз чре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я фонд за регионално развити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 u="sng">
                <a:solidFill>
                  <a:srgbClr val="0000ff"/>
                </a:solidFill>
                <a:uFillTx/>
                <a:latin typeface="Times New Roman"/>
                <a:ea typeface="ArialMT"/>
              </a:rPr>
              <a:t>www.bgregio.e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Box 11"/>
          <p:cNvSpPr/>
          <p:nvPr/>
        </p:nvSpPr>
        <p:spPr>
          <a:xfrm>
            <a:off x="177480" y="907920"/>
            <a:ext cx="16466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ЕВРОПЕЙСКИ ФОНД З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РЕГИОНАЛНО РАЗВИТИ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Инвестираме във Вашето бъдещ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Box 12"/>
          <p:cNvSpPr/>
          <p:nvPr/>
        </p:nvSpPr>
        <p:spPr>
          <a:xfrm>
            <a:off x="7739640" y="1197000"/>
            <a:ext cx="11912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“</a:t>
            </a: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гионално развитие”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2007 – 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Picture 11" descr="Европейска емблема"/>
          <p:cNvPicPr/>
          <p:nvPr/>
        </p:nvPicPr>
        <p:blipFill>
          <a:blip r:embed="rId4"/>
          <a:stretch/>
        </p:blipFill>
        <p:spPr>
          <a:xfrm>
            <a:off x="250920" y="5661000"/>
            <a:ext cx="1152360" cy="771480"/>
          </a:xfrm>
          <a:prstGeom prst="rect">
            <a:avLst/>
          </a:prstGeom>
          <a:ln w="0">
            <a:noFill/>
          </a:ln>
        </p:spPr>
      </p:pic>
      <p:pic>
        <p:nvPicPr>
          <p:cNvPr id="315" name="il_fi" descr="http://ecoline.hit.bg/BG-flag.gif"/>
          <p:cNvPicPr/>
          <p:nvPr/>
        </p:nvPicPr>
        <p:blipFill>
          <a:blip r:embed="rId5"/>
          <a:stretch/>
        </p:blipFill>
        <p:spPr>
          <a:xfrm>
            <a:off x="7740720" y="5661000"/>
            <a:ext cx="1143000" cy="752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16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Box 18"/>
          <p:cNvSpPr/>
          <p:nvPr/>
        </p:nvSpPr>
        <p:spPr>
          <a:xfrm>
            <a:off x="186120" y="6453360"/>
            <a:ext cx="130392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 СЪЮ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Box 20"/>
          <p:cNvSpPr/>
          <p:nvPr/>
        </p:nvSpPr>
        <p:spPr>
          <a:xfrm>
            <a:off x="1942560" y="5589720"/>
            <a:ext cx="522684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говор № РД-02-29-16/21.01.2011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„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работване на специфично обучение по операции за бенефициенти и консултиране по разработван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и изпълнение на проекти по ОПРР”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проект BG161PO001/5-01/2008/014, финансиран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 Оперативна програма „Регионално развитие” 2007-2013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нсорциум „С.И.Ц.И. Доминус ООД и Българска консултантска организация ООД”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9" name="Group 15"/>
          <p:cNvGrpSpPr/>
          <p:nvPr/>
        </p:nvGrpSpPr>
        <p:grpSpPr>
          <a:xfrm>
            <a:off x="250920" y="189000"/>
            <a:ext cx="1009440" cy="685800"/>
            <a:chOff x="250920" y="189000"/>
            <a:chExt cx="1009440" cy="685800"/>
          </a:xfrm>
        </p:grpSpPr>
        <p:sp>
          <p:nvSpPr>
            <p:cNvPr id="320" name="AutoShape 14"/>
            <p:cNvSpPr/>
            <p:nvPr/>
          </p:nvSpPr>
          <p:spPr>
            <a:xfrm>
              <a:off x="250920" y="189000"/>
              <a:ext cx="1004400" cy="67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21" name="Picture 16" descr=""/>
            <p:cNvPicPr/>
            <p:nvPr/>
          </p:nvPicPr>
          <p:blipFill>
            <a:blip r:embed="rId6"/>
            <a:stretch/>
          </p:blipFill>
          <p:spPr>
            <a:xfrm>
              <a:off x="250920" y="189000"/>
              <a:ext cx="100944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2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15470-BC4A-4A87-A2C2-3EC5A006C89C}" type="slidenum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7"/>
    <p:sldLayoutId id="2147483728" r:id="rId8"/>
    <p:sldLayoutId id="2147483729" r:id="rId9"/>
    <p:sldLayoutId id="2147483730" r:id="rId10"/>
    <p:sldLayoutId id="2147483731" r:id="rId11"/>
    <p:sldLayoutId id="2147483732" r:id="rId12"/>
    <p:sldLayoutId id="2147483733" r:id="rId13"/>
    <p:sldLayoutId id="2147483734" r:id="rId14"/>
    <p:sldLayoutId id="2147483735" r:id="rId15"/>
    <p:sldLayoutId id="2147483736" r:id="rId16"/>
    <p:sldLayoutId id="2147483737" r:id="rId17"/>
    <p:sldLayoutId id="2147483738" r:id="rId18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Picture 2" descr="Z:\MRRB_obuchenie_beneficienti_25.10.2010\Izpulnenie\Templat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7" descr="http://www.bgregio.eu/FCKeditor/UserFiles/File/OPRR_bg.JPG"/>
          <p:cNvPicPr/>
          <p:nvPr/>
        </p:nvPicPr>
        <p:blipFill>
          <a:blip r:embed="rId3"/>
          <a:stretch/>
        </p:blipFill>
        <p:spPr>
          <a:xfrm>
            <a:off x="7956720" y="189000"/>
            <a:ext cx="733320" cy="971640"/>
          </a:xfrm>
          <a:prstGeom prst="rect">
            <a:avLst/>
          </a:prstGeom>
          <a:ln w="0">
            <a:noFill/>
          </a:ln>
        </p:spPr>
      </p:pic>
      <p:sp>
        <p:nvSpPr>
          <p:cNvPr id="363" name="TextBox 16"/>
          <p:cNvSpPr/>
          <p:nvPr/>
        </p:nvSpPr>
        <p:spPr>
          <a:xfrm>
            <a:off x="3059280" y="379440"/>
            <a:ext cx="2960640" cy="8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ектът се осъществява с финансовата подкрепа н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 “Регионално развитие”2007-2013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съфинансирана от Европейския съюз чре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я фонд за регионално развити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 u="sng">
                <a:solidFill>
                  <a:srgbClr val="0000ff"/>
                </a:solidFill>
                <a:uFillTx/>
                <a:latin typeface="Times New Roman"/>
                <a:ea typeface="ArialMT"/>
              </a:rPr>
              <a:t>www.bgregio.e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Box 17"/>
          <p:cNvSpPr/>
          <p:nvPr/>
        </p:nvSpPr>
        <p:spPr>
          <a:xfrm>
            <a:off x="262440" y="907920"/>
            <a:ext cx="16466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ЕВРОПЕЙСКИ ФОНД З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РЕГИОНАЛНО РАЗВИТИ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Инвестираме във Вашето бъдещ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Box 19"/>
          <p:cNvSpPr/>
          <p:nvPr/>
        </p:nvSpPr>
        <p:spPr>
          <a:xfrm>
            <a:off x="7739640" y="1197000"/>
            <a:ext cx="11912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“</a:t>
            </a: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гионално развитие”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2007 – 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6" name="Picture 11" descr="Европейска емблема"/>
          <p:cNvPicPr/>
          <p:nvPr/>
        </p:nvPicPr>
        <p:blipFill>
          <a:blip r:embed="rId4"/>
          <a:stretch/>
        </p:blipFill>
        <p:spPr>
          <a:xfrm>
            <a:off x="250920" y="5661000"/>
            <a:ext cx="1152360" cy="771480"/>
          </a:xfrm>
          <a:prstGeom prst="rect">
            <a:avLst/>
          </a:prstGeom>
          <a:ln w="0">
            <a:noFill/>
          </a:ln>
        </p:spPr>
      </p:pic>
      <p:pic>
        <p:nvPicPr>
          <p:cNvPr id="367" name="il_fi" descr="http://ecoline.hit.bg/BG-flag.gif"/>
          <p:cNvPicPr/>
          <p:nvPr/>
        </p:nvPicPr>
        <p:blipFill>
          <a:blip r:embed="rId5"/>
          <a:stretch/>
        </p:blipFill>
        <p:spPr>
          <a:xfrm>
            <a:off x="7740720" y="5661000"/>
            <a:ext cx="1143000" cy="752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68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Box 24"/>
          <p:cNvSpPr/>
          <p:nvPr/>
        </p:nvSpPr>
        <p:spPr>
          <a:xfrm>
            <a:off x="186840" y="6453360"/>
            <a:ext cx="130392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 СЪЮ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Box 25"/>
          <p:cNvSpPr/>
          <p:nvPr/>
        </p:nvSpPr>
        <p:spPr>
          <a:xfrm>
            <a:off x="1942560" y="5589720"/>
            <a:ext cx="522684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говор № РД-02-29-16/21.01.2011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„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работване на специфично обучение по операции за бенефициенти и консултиране по разработван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и изпълнение на проекти по ОПРР”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проект BG161PO001/5-01/2008/014, финансиран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 Оперативна програма „Регионално развитие” 2007-2013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нсорциум „С.И.Ц.И. Доминус ООД и Българска консултантска организация ООД”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1" name="Group 15"/>
          <p:cNvGrpSpPr/>
          <p:nvPr/>
        </p:nvGrpSpPr>
        <p:grpSpPr>
          <a:xfrm>
            <a:off x="250920" y="189000"/>
            <a:ext cx="1009440" cy="685800"/>
            <a:chOff x="250920" y="189000"/>
            <a:chExt cx="1009440" cy="685800"/>
          </a:xfrm>
        </p:grpSpPr>
        <p:sp>
          <p:nvSpPr>
            <p:cNvPr id="372" name="AutoShape 14"/>
            <p:cNvSpPr/>
            <p:nvPr/>
          </p:nvSpPr>
          <p:spPr>
            <a:xfrm>
              <a:off x="250920" y="189000"/>
              <a:ext cx="1004400" cy="67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73" name="Picture 16" descr=""/>
            <p:cNvPicPr/>
            <p:nvPr/>
          </p:nvPicPr>
          <p:blipFill>
            <a:blip r:embed="rId6"/>
            <a:stretch/>
          </p:blipFill>
          <p:spPr>
            <a:xfrm>
              <a:off x="250920" y="189000"/>
              <a:ext cx="100944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4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F0E26-F511-435C-B16B-0FD8FBC2F6B1}" type="slidenum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7"/>
    <p:sldLayoutId id="2147483741" r:id="rId8"/>
    <p:sldLayoutId id="2147483742" r:id="rId9"/>
    <p:sldLayoutId id="2147483743" r:id="rId10"/>
    <p:sldLayoutId id="2147483744" r:id="rId11"/>
    <p:sldLayoutId id="2147483745" r:id="rId12"/>
    <p:sldLayoutId id="2147483746" r:id="rId13"/>
    <p:sldLayoutId id="2147483747" r:id="rId14"/>
    <p:sldLayoutId id="2147483748" r:id="rId15"/>
    <p:sldLayoutId id="2147483749" r:id="rId16"/>
    <p:sldLayoutId id="2147483750" r:id="rId17"/>
    <p:sldLayoutId id="2147483751" r:id="rId18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Picture 2" descr="Z:\MRRB_obuchenie_beneficienti_25.10.2010\Izpulnenie\Templat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7" descr="http://www.bgregio.eu/FCKeditor/UserFiles/File/OPRR_bg.JPG"/>
          <p:cNvPicPr/>
          <p:nvPr/>
        </p:nvPicPr>
        <p:blipFill>
          <a:blip r:embed="rId3"/>
          <a:stretch/>
        </p:blipFill>
        <p:spPr>
          <a:xfrm>
            <a:off x="7956720" y="189000"/>
            <a:ext cx="733320" cy="971640"/>
          </a:xfrm>
          <a:prstGeom prst="rect">
            <a:avLst/>
          </a:prstGeom>
          <a:ln w="0">
            <a:noFill/>
          </a:ln>
        </p:spPr>
      </p:pic>
      <p:sp>
        <p:nvSpPr>
          <p:cNvPr id="415" name="TextBox 10"/>
          <p:cNvSpPr/>
          <p:nvPr/>
        </p:nvSpPr>
        <p:spPr>
          <a:xfrm>
            <a:off x="3059280" y="379440"/>
            <a:ext cx="2960640" cy="8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ектът се осъществява с финансовата подкрепа н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 “Регионално развитие”2007-2013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съфинансирана от Европейския съюз чре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я фонд за регионално развити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 u="sng">
                <a:solidFill>
                  <a:srgbClr val="0000ff"/>
                </a:solidFill>
                <a:uFillTx/>
                <a:latin typeface="Times New Roman"/>
                <a:ea typeface="ArialMT"/>
              </a:rPr>
              <a:t>www.bgregio.e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Box 11"/>
          <p:cNvSpPr/>
          <p:nvPr/>
        </p:nvSpPr>
        <p:spPr>
          <a:xfrm>
            <a:off x="177480" y="907920"/>
            <a:ext cx="16466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ЕВРОПЕЙСКИ ФОНД З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РЕГИОНАЛНО РАЗВИТИ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Инвестираме във Вашето бъдещ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Box 12"/>
          <p:cNvSpPr/>
          <p:nvPr/>
        </p:nvSpPr>
        <p:spPr>
          <a:xfrm>
            <a:off x="7739640" y="1197000"/>
            <a:ext cx="11912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“</a:t>
            </a: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гионално развитие”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2007 – 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8" name="Picture 11" descr="Европейска емблема"/>
          <p:cNvPicPr/>
          <p:nvPr/>
        </p:nvPicPr>
        <p:blipFill>
          <a:blip r:embed="rId4"/>
          <a:stretch/>
        </p:blipFill>
        <p:spPr>
          <a:xfrm>
            <a:off x="250920" y="5661000"/>
            <a:ext cx="1152360" cy="771480"/>
          </a:xfrm>
          <a:prstGeom prst="rect">
            <a:avLst/>
          </a:prstGeom>
          <a:ln w="0">
            <a:noFill/>
          </a:ln>
        </p:spPr>
      </p:pic>
      <p:pic>
        <p:nvPicPr>
          <p:cNvPr id="419" name="il_fi" descr="http://ecoline.hit.bg/BG-flag.gif"/>
          <p:cNvPicPr/>
          <p:nvPr/>
        </p:nvPicPr>
        <p:blipFill>
          <a:blip r:embed="rId5"/>
          <a:stretch/>
        </p:blipFill>
        <p:spPr>
          <a:xfrm>
            <a:off x="7740720" y="5661000"/>
            <a:ext cx="1143000" cy="752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20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Box 18"/>
          <p:cNvSpPr/>
          <p:nvPr/>
        </p:nvSpPr>
        <p:spPr>
          <a:xfrm>
            <a:off x="186120" y="6453360"/>
            <a:ext cx="130392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 СЪЮ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Box 20"/>
          <p:cNvSpPr/>
          <p:nvPr/>
        </p:nvSpPr>
        <p:spPr>
          <a:xfrm>
            <a:off x="1942560" y="5589720"/>
            <a:ext cx="522684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говор № РД-02-29-16/21.01.2011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„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работване на специфично обучение по операции за бенефициенти и консултиране по разработван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и изпълнение на проекти по ОПРР”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проект BG161PO001/5-01/2008/014, финансиран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 Оперативна програма „Регионално развитие” 2007-2013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нсорциум „С.И.Ц.И. Доминус ООД и Българска консултантска организация ООД”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3" name="Group 15"/>
          <p:cNvGrpSpPr/>
          <p:nvPr/>
        </p:nvGrpSpPr>
        <p:grpSpPr>
          <a:xfrm>
            <a:off x="250920" y="189000"/>
            <a:ext cx="1009440" cy="685800"/>
            <a:chOff x="250920" y="189000"/>
            <a:chExt cx="1009440" cy="685800"/>
          </a:xfrm>
        </p:grpSpPr>
        <p:sp>
          <p:nvSpPr>
            <p:cNvPr id="424" name="AutoShape 14"/>
            <p:cNvSpPr/>
            <p:nvPr/>
          </p:nvSpPr>
          <p:spPr>
            <a:xfrm>
              <a:off x="250920" y="189000"/>
              <a:ext cx="1004400" cy="67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25" name="Picture 16" descr=""/>
            <p:cNvPicPr/>
            <p:nvPr/>
          </p:nvPicPr>
          <p:blipFill>
            <a:blip r:embed="rId6"/>
            <a:stretch/>
          </p:blipFill>
          <p:spPr>
            <a:xfrm>
              <a:off x="250920" y="189000"/>
              <a:ext cx="100944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6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A0B7C-DA92-4455-9219-AAA831E8221C}" type="slidenum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Rectangle 1"/>
          <p:cNvSpPr/>
          <p:nvPr/>
        </p:nvSpPr>
        <p:spPr>
          <a:xfrm>
            <a:off x="468360" y="1557360"/>
            <a:ext cx="83516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Ч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bg-BG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bg-BG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пълнение и управление на проект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Rectangle 2"/>
          <p:cNvSpPr/>
          <p:nvPr/>
        </p:nvSpPr>
        <p:spPr>
          <a:xfrm>
            <a:off x="468360" y="2421000"/>
            <a:ext cx="82803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перация 1.5: „Системи за устойчив градски транспор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хема за безвъзмездна финансова помощ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G161PO001/1.5-03/2011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крепа за интегриран градски транспорт в петте големи града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TextBox 4"/>
          <p:cNvSpPr/>
          <p:nvPr/>
        </p:nvSpPr>
        <p:spPr>
          <a:xfrm>
            <a:off x="179280" y="1341360"/>
            <a:ext cx="856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ХНИЧЕСКО УПРАВЛЕНИЕ И ОТЧИТА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Straight Connector 6"/>
          <p:cNvSpPr/>
          <p:nvPr/>
        </p:nvSpPr>
        <p:spPr>
          <a:xfrm>
            <a:off x="250920" y="1773360"/>
            <a:ext cx="8353440" cy="0"/>
          </a:xfrm>
          <a:prstGeom prst="line">
            <a:avLst/>
          </a:prstGeom>
          <a:ln w="3492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TextBox 8"/>
          <p:cNvSpPr/>
          <p:nvPr/>
        </p:nvSpPr>
        <p:spPr>
          <a:xfrm>
            <a:off x="250920" y="2643120"/>
            <a:ext cx="8497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ИДОВЕ ИНДИКАТОРИ ЗА УСПЕШНО ИЗПЪЛНЕНИЕ НА ПРОЕКТИ ЗА ИНТЕГРИРАН ГРАДСКИ ТРАНСПОР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ПРОДУКТ: КМ. ИЗГРАДЕНИ УЛИЦИ, ВЕЛОСИПЕДНИ АЛЕИ, БР. ДОСТАВЕН ПОДВИЖЕН СЪСТАВ, БР. ВНЕДРЕНИ СИСТЕМИ ЗА УПРАВЛЕНИЕ И Д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РЕЗУЛТАТ: БРОЙ ПЪТУВАНИЯ С ОБЩЕСТВЕНИЯ ТРАНСПОРТ; ПАЗАРЕН ДЯЛ НА ОБЩЕСТВЕНИЯ ТРАНСПОРТ; НАМАЛЕНИЕ НА ПАРНИКОВИТЕ ГАЗОВ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TextBox 5"/>
          <p:cNvSpPr/>
          <p:nvPr/>
        </p:nvSpPr>
        <p:spPr>
          <a:xfrm>
            <a:off x="250920" y="1773360"/>
            <a:ext cx="8569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ИНДИКАТОР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Straight Connector 9"/>
          <p:cNvSpPr/>
          <p:nvPr/>
        </p:nvSpPr>
        <p:spPr>
          <a:xfrm flipV="1">
            <a:off x="250920" y="1773000"/>
            <a:ext cx="0" cy="3816360"/>
          </a:xfrm>
          <a:prstGeom prst="line">
            <a:avLst/>
          </a:prstGeom>
          <a:ln w="3492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TextBox 4"/>
          <p:cNvSpPr/>
          <p:nvPr/>
        </p:nvSpPr>
        <p:spPr>
          <a:xfrm>
            <a:off x="179280" y="1341360"/>
            <a:ext cx="856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ХНИЧЕСКО УПРАВЛЕНИЕ И ОТЧИТА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Straight Connector 6"/>
          <p:cNvSpPr/>
          <p:nvPr/>
        </p:nvSpPr>
        <p:spPr>
          <a:xfrm>
            <a:off x="250920" y="1773360"/>
            <a:ext cx="8353440" cy="0"/>
          </a:xfrm>
          <a:prstGeom prst="line">
            <a:avLst/>
          </a:prstGeom>
          <a:ln w="3492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TextBox 8"/>
          <p:cNvSpPr/>
          <p:nvPr/>
        </p:nvSpPr>
        <p:spPr>
          <a:xfrm>
            <a:off x="250920" y="2643120"/>
            <a:ext cx="8497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ИНДИКАТОРИТЕ С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СТРУМЕНТ ЗА ВЪТРЕШЕН МОНИТОРИНГ НА ПРОЕКТНИТЕ ДЕЙНОСТИ И ЧАСТ ОТ СИСТЕМАТА ЗА КОНТРОЛ И УПРАВЛЕНИЕ НА КАЧЕСТВОТО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СТРУМЕНТ ЗА УПРАВЛЕНИЕ НА ЦЕЛИТЕ НА ПРОЕКТ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ЪРВОТО НЕЩО, ЗА КОЕТО ТРЯБВА ДА СЕ ЗАМИСЛИТЕ КОГАТО ПОДГОТВЯТЕ ОКОНЧАТЕЛНИЯ ТЕХНИЧЕСКИ ДОКЛА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TextBox 5"/>
          <p:cNvSpPr/>
          <p:nvPr/>
        </p:nvSpPr>
        <p:spPr>
          <a:xfrm>
            <a:off x="250920" y="1773360"/>
            <a:ext cx="8569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ИНДИКАТОР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Straight Connector 9"/>
          <p:cNvSpPr/>
          <p:nvPr/>
        </p:nvSpPr>
        <p:spPr>
          <a:xfrm flipV="1">
            <a:off x="250920" y="1773000"/>
            <a:ext cx="0" cy="3816360"/>
          </a:xfrm>
          <a:prstGeom prst="line">
            <a:avLst/>
          </a:prstGeom>
          <a:ln w="3492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TextBox 4"/>
          <p:cNvSpPr/>
          <p:nvPr/>
        </p:nvSpPr>
        <p:spPr>
          <a:xfrm>
            <a:off x="179280" y="1341360"/>
            <a:ext cx="856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ХНИЧЕСКО УПРАВЛЕНИЕ И ОТЧИТА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Straight Connector 6"/>
          <p:cNvSpPr/>
          <p:nvPr/>
        </p:nvSpPr>
        <p:spPr>
          <a:xfrm>
            <a:off x="250920" y="1773360"/>
            <a:ext cx="8353440" cy="0"/>
          </a:xfrm>
          <a:prstGeom prst="line">
            <a:avLst/>
          </a:prstGeom>
          <a:ln w="3492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TextBox 8"/>
          <p:cNvSpPr/>
          <p:nvPr/>
        </p:nvSpPr>
        <p:spPr>
          <a:xfrm>
            <a:off x="250920" y="2276640"/>
            <a:ext cx="8497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ИЗМЕРВАНЕ НА ИНДИКАТОР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ТОЧНИК НА ИНФОРМАЦИЯ ЗА ИНДИКАТОРИТЕ МОЖЕ БЪД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КИ ДОКУМЕНТ, КОЙТО ГЕНЕРИРАМЕ ПРИ ИЗПЪЛНЕНИЕТО НА ПРОЕКТ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ОЧНО ОРГАНИЗИРАНИ И ПРОВЕЖДАНИ ИЗСЛЕДВАНИЯ И ПРОУЧВА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ГРИРАНАТА БИЛЕТНА СИСТЕМ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АТА ЗА УПРАВЛЕНИЕ НА ПРЕВОЗНИТЕ СРЕДСТВ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TextBox 5"/>
          <p:cNvSpPr/>
          <p:nvPr/>
        </p:nvSpPr>
        <p:spPr>
          <a:xfrm>
            <a:off x="250920" y="1773360"/>
            <a:ext cx="8569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ИНДИКАТОР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Straight Connector 9"/>
          <p:cNvSpPr/>
          <p:nvPr/>
        </p:nvSpPr>
        <p:spPr>
          <a:xfrm flipV="1">
            <a:off x="250920" y="1773000"/>
            <a:ext cx="0" cy="3816360"/>
          </a:xfrm>
          <a:prstGeom prst="line">
            <a:avLst/>
          </a:prstGeom>
          <a:ln w="3492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TextBox 4"/>
          <p:cNvSpPr/>
          <p:nvPr/>
        </p:nvSpPr>
        <p:spPr>
          <a:xfrm>
            <a:off x="179280" y="1341360"/>
            <a:ext cx="856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ХНИЧЕСКО УПРАВЛЕНИЕ И ОТЧИТА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Straight Connector 6"/>
          <p:cNvSpPr/>
          <p:nvPr/>
        </p:nvSpPr>
        <p:spPr>
          <a:xfrm>
            <a:off x="250920" y="1773360"/>
            <a:ext cx="8353440" cy="0"/>
          </a:xfrm>
          <a:prstGeom prst="line">
            <a:avLst/>
          </a:prstGeom>
          <a:ln w="3492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TextBox 8"/>
          <p:cNvSpPr/>
          <p:nvPr/>
        </p:nvSpPr>
        <p:spPr>
          <a:xfrm>
            <a:off x="324000" y="2924280"/>
            <a:ext cx="849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!ИНДИКАТОРИТЕ СА ТЕЗИ, КОИТО ТРЯБВА ДА ИМАМЕ ПРЕДВИД ВИНАГИ, КОГАТО РЕШИМ ДА НАПРАВИМ ПРОМЯНА НА ДОГОВОРА ЗА БЕЗВЪЗМЕЗДНА ФИНАНСОВА ПОМО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TextBox 5"/>
          <p:cNvSpPr/>
          <p:nvPr/>
        </p:nvSpPr>
        <p:spPr>
          <a:xfrm>
            <a:off x="250920" y="1773360"/>
            <a:ext cx="8569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ИНДИКАТОР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Straight Connector 9"/>
          <p:cNvSpPr/>
          <p:nvPr/>
        </p:nvSpPr>
        <p:spPr>
          <a:xfrm flipV="1">
            <a:off x="250920" y="1773000"/>
            <a:ext cx="0" cy="3816360"/>
          </a:xfrm>
          <a:prstGeom prst="line">
            <a:avLst/>
          </a:prstGeom>
          <a:ln w="3492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"/>
          <p:cNvSpPr txBox="1"/>
          <p:nvPr/>
        </p:nvSpPr>
        <p:spPr>
          <a:xfrm>
            <a:off x="539640" y="2133720"/>
            <a:ext cx="7777440" cy="29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АГОДАР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ИМАНИЕТО 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Straight Connector 6"/>
          <p:cNvSpPr/>
          <p:nvPr/>
        </p:nvSpPr>
        <p:spPr>
          <a:xfrm>
            <a:off x="250920" y="1773360"/>
            <a:ext cx="8353440" cy="0"/>
          </a:xfrm>
          <a:prstGeom prst="line">
            <a:avLst/>
          </a:prstGeom>
          <a:ln w="3492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TextBox 8"/>
          <p:cNvSpPr/>
          <p:nvPr/>
        </p:nvSpPr>
        <p:spPr>
          <a:xfrm>
            <a:off x="250920" y="2637000"/>
            <a:ext cx="84978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МОДУЛ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ТЕХНИЧЕСКО УПРАВЛЕНИЕ И ОТЧИТАНЕ НА ПРОЕКТИ ЗА ИНТЕГРИРАН ГРАДСКИ ТРАНСПОР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Straight Connector 9"/>
          <p:cNvSpPr/>
          <p:nvPr/>
        </p:nvSpPr>
        <p:spPr>
          <a:xfrm flipV="1">
            <a:off x="250920" y="1773000"/>
            <a:ext cx="0" cy="3816360"/>
          </a:xfrm>
          <a:prstGeom prst="line">
            <a:avLst/>
          </a:prstGeom>
          <a:ln w="3492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TextBox 4"/>
          <p:cNvSpPr/>
          <p:nvPr/>
        </p:nvSpPr>
        <p:spPr>
          <a:xfrm>
            <a:off x="179280" y="1341360"/>
            <a:ext cx="856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ХНИЧЕСКО УПРАВЛЕНИЕ И ОТЧИТА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Straight Connector 6"/>
          <p:cNvSpPr/>
          <p:nvPr/>
        </p:nvSpPr>
        <p:spPr>
          <a:xfrm>
            <a:off x="250920" y="1773360"/>
            <a:ext cx="8353440" cy="0"/>
          </a:xfrm>
          <a:prstGeom prst="line">
            <a:avLst/>
          </a:prstGeom>
          <a:ln w="3492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TextBox 8"/>
          <p:cNvSpPr/>
          <p:nvPr/>
        </p:nvSpPr>
        <p:spPr>
          <a:xfrm>
            <a:off x="250920" y="2349360"/>
            <a:ext cx="84978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ТРИМЕСЕЧНИ ТЕХНИЧЕСКИ ДОКЛАД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СТАВЯТ СЕ ДО 15 ЧИСЛО НА МЕСЕЦА СЛЕД ОТЧЕТНИЯ ПЕРИОД (OТЧЕТНИ ПЕРИОДИ: ЯНУАРИ-МАРТ; АПРИЛ-ЮНИ; ЮЛИ-СЕПТЕМВРИ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ОРМАЦИЯТА В ДОКЛАДИТЕ СЕ ПРЕДСТАВЯ С НАТРУПВАНЕ ОТ НАЧАЛОТО НА ИЗПЪЛНЕНИЕ НА ДОГОВОРА ЗА ПРЕДОСТАВЯНЕ НА БЕЗВЪЗМЕЗДНА ФИНАНСОВА ПОМОЩ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СЕ ПРЕДСТАВЯТ ПРИЛОЖЕНИЯ КЪМ ТРИМЕСЕЧНИТЕ ТЕХНИЧЕСКИ ДОКЛАД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TextBox 5"/>
          <p:cNvSpPr/>
          <p:nvPr/>
        </p:nvSpPr>
        <p:spPr>
          <a:xfrm>
            <a:off x="250920" y="1773360"/>
            <a:ext cx="8569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ВИДОВЕ ТЕХНИЧЕСКИ ДОКЛАД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Straight Connector 9"/>
          <p:cNvSpPr/>
          <p:nvPr/>
        </p:nvSpPr>
        <p:spPr>
          <a:xfrm flipV="1">
            <a:off x="250920" y="1773000"/>
            <a:ext cx="0" cy="3816360"/>
          </a:xfrm>
          <a:prstGeom prst="line">
            <a:avLst/>
          </a:prstGeom>
          <a:ln w="3492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TextBox 4"/>
          <p:cNvSpPr/>
          <p:nvPr/>
        </p:nvSpPr>
        <p:spPr>
          <a:xfrm>
            <a:off x="179280" y="1341360"/>
            <a:ext cx="856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ХНИЧЕСКО УПРАВЛЕНИЕ И ОТЧИТА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Straight Connector 6"/>
          <p:cNvSpPr/>
          <p:nvPr/>
        </p:nvSpPr>
        <p:spPr>
          <a:xfrm>
            <a:off x="250920" y="1773360"/>
            <a:ext cx="8353440" cy="0"/>
          </a:xfrm>
          <a:prstGeom prst="line">
            <a:avLst/>
          </a:prstGeom>
          <a:ln w="3492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TextBox 8"/>
          <p:cNvSpPr/>
          <p:nvPr/>
        </p:nvSpPr>
        <p:spPr>
          <a:xfrm>
            <a:off x="250920" y="2708280"/>
            <a:ext cx="8497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!ТЕХНИЧЕСКИЯТ ДОКЛАД ОБХВАЩА ВСИЧКИ ПРОЕКТНИ ДЕЙНОСТИ, НЕЗАВИСИМО КАКВА ЧАСТ ОТ ТЯХ СЕ ФИНАНСИРАТ ПО ДОГОВОРА ЗА БФ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!ФОРМАТЪТ НА ТРИМЕСЕЧНИТЕ ТЕХНИЧЕСКИ ДОКЛАДИ Е ПРОМЕНЕН СЧИТАНО ОТ 1 НОЕМВРИ 2012Г. КЪМ ДОКЛАДА Е ПРИБАВЕН МОДУЛ ЗА ОТЧИТАНЕ НА ПОСТИГАНЕТО НА ХОРИЗОНТАЛНИТЕ ПОЛИТИКИ НА ЕВРОПЕЙСКИЯ СЪЮЗ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TextBox 5"/>
          <p:cNvSpPr/>
          <p:nvPr/>
        </p:nvSpPr>
        <p:spPr>
          <a:xfrm>
            <a:off x="250920" y="1773360"/>
            <a:ext cx="8569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ВИДОВЕ ТЕХНИЧЕСКИ ДОКЛАД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Straight Connector 9"/>
          <p:cNvSpPr/>
          <p:nvPr/>
        </p:nvSpPr>
        <p:spPr>
          <a:xfrm flipV="1">
            <a:off x="250920" y="1773000"/>
            <a:ext cx="0" cy="3816360"/>
          </a:xfrm>
          <a:prstGeom prst="line">
            <a:avLst/>
          </a:prstGeom>
          <a:ln w="3492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TextBox 4"/>
          <p:cNvSpPr/>
          <p:nvPr/>
        </p:nvSpPr>
        <p:spPr>
          <a:xfrm>
            <a:off x="179280" y="1341360"/>
            <a:ext cx="856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ХНИЧЕСКО УПРАВЛЕНИЕ И ОТЧИТА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Straight Connector 6"/>
          <p:cNvSpPr/>
          <p:nvPr/>
        </p:nvSpPr>
        <p:spPr>
          <a:xfrm>
            <a:off x="250920" y="1773360"/>
            <a:ext cx="8353440" cy="0"/>
          </a:xfrm>
          <a:prstGeom prst="line">
            <a:avLst/>
          </a:prstGeom>
          <a:ln w="3492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TextBox 8"/>
          <p:cNvSpPr/>
          <p:nvPr/>
        </p:nvSpPr>
        <p:spPr>
          <a:xfrm>
            <a:off x="250920" y="2349360"/>
            <a:ext cx="84978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ГОДИШНИ ТЕХНИЧЕСКИ ДОКЛАД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СТАВЯТ СЕ ДО 30 ЯНУАРИ НА ГОДИНАТА, СЛЕД ОТЧЕТНАТА ГОДИН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ХВАЩАТ ИЗПЪЛНЕНИЕТО НА ДОГОВОРА ЗА СЪОТВЕТНАТА ГОДИНА, КАТО ВКЛЮЧВАТ ВСИЧКИ ОТЧЕТНИ ПЕРИОДИ, ОБХВАНАТИ ОТ ТРИМЕСЕЧНИТЕ ТЕХНИЧЕСКИ ДОКЛАДИ, И ПОСЛЕДНОТО ТРИМЕСЕЧИЕ НА ГОДИНАТА, ЗА КОЯТО СЕ ОТНАСЯТ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СЕ ПРЕДСТАВЯТ ПРИЛОЖЕНИЯ КЪМ ГОДИШНИТЕ ТЕХНИЧЕСКИ ДОКЛАД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TextBox 5"/>
          <p:cNvSpPr/>
          <p:nvPr/>
        </p:nvSpPr>
        <p:spPr>
          <a:xfrm>
            <a:off x="250920" y="1773360"/>
            <a:ext cx="8569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ВИДОВЕ ТЕХНИЧЕСКИ ДОКЛАД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Straight Connector 9"/>
          <p:cNvSpPr/>
          <p:nvPr/>
        </p:nvSpPr>
        <p:spPr>
          <a:xfrm flipV="1">
            <a:off x="250920" y="1773000"/>
            <a:ext cx="0" cy="3816360"/>
          </a:xfrm>
          <a:prstGeom prst="line">
            <a:avLst/>
          </a:prstGeom>
          <a:ln w="3492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TextBox 4"/>
          <p:cNvSpPr/>
          <p:nvPr/>
        </p:nvSpPr>
        <p:spPr>
          <a:xfrm>
            <a:off x="179280" y="1341360"/>
            <a:ext cx="856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ХНИЧЕСКО УПРАВЛЕНИЕ И ОТЧИТА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Straight Connector 6"/>
          <p:cNvSpPr/>
          <p:nvPr/>
        </p:nvSpPr>
        <p:spPr>
          <a:xfrm>
            <a:off x="250920" y="1773360"/>
            <a:ext cx="8353440" cy="0"/>
          </a:xfrm>
          <a:prstGeom prst="line">
            <a:avLst/>
          </a:prstGeom>
          <a:ln w="3492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TextBox 8"/>
          <p:cNvSpPr/>
          <p:nvPr/>
        </p:nvSpPr>
        <p:spPr>
          <a:xfrm>
            <a:off x="250920" y="2349360"/>
            <a:ext cx="84978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КОНЧАТЕЛЕН ТЕХНИЧЕСКИ ДОКЛАД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СТАВЯ СЕ, ПРИДРУЖЕНИ С ФИНАНСОВ ОТЧЕТ И ИСКАНЕ ЗА ОКОНЧАТЕЛНО ПЛАЩАНЕ ДО 2 МЕСЕЦА СЛЕД ПРИКЛЮЧВАНЕ НА ДЕЙНОСТИТЕ ПО ПРОЕКТА, НО В РАМКИТЕ НА СРОКА ЗА ИЗПЪЛНЕНИЕ НА ДОГОВОР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ЪДЪРЖА ИНФОРМАЦИЯ ЗА ВСИЧКИ ИЗПЪЛНЕНИ ПО ПРОЕКТА ДЕЙНОСТИ, ВКЛЮЧИТЕЛНО И ПРИЛОЖЕНИЯТА ПРЕДОСТАВЯНИ ДО МОМЕН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TextBox 5"/>
          <p:cNvSpPr/>
          <p:nvPr/>
        </p:nvSpPr>
        <p:spPr>
          <a:xfrm>
            <a:off x="250920" y="1773360"/>
            <a:ext cx="8569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ВИДОВЕ ТЕХНИЧЕСКИ ДОКЛАД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Straight Connector 9"/>
          <p:cNvSpPr/>
          <p:nvPr/>
        </p:nvSpPr>
        <p:spPr>
          <a:xfrm flipV="1">
            <a:off x="250920" y="1773000"/>
            <a:ext cx="0" cy="3816360"/>
          </a:xfrm>
          <a:prstGeom prst="line">
            <a:avLst/>
          </a:prstGeom>
          <a:ln w="3492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TextBox 4"/>
          <p:cNvSpPr/>
          <p:nvPr/>
        </p:nvSpPr>
        <p:spPr>
          <a:xfrm>
            <a:off x="179280" y="1341360"/>
            <a:ext cx="856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ХНИЧЕСКО УПРАВЛЕНИЕ И ОТЧИТА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Straight Connector 6"/>
          <p:cNvSpPr/>
          <p:nvPr/>
        </p:nvSpPr>
        <p:spPr>
          <a:xfrm>
            <a:off x="250920" y="1773360"/>
            <a:ext cx="8353440" cy="0"/>
          </a:xfrm>
          <a:prstGeom prst="line">
            <a:avLst/>
          </a:prstGeom>
          <a:ln w="3492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TextBox 8"/>
          <p:cNvSpPr/>
          <p:nvPr/>
        </p:nvSpPr>
        <p:spPr>
          <a:xfrm>
            <a:off x="250920" y="2643120"/>
            <a:ext cx="84978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ИЧКИ БЕНЕФИЦИЕНТИ</a:t>
            </a: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ОБЩИНИ,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АВАТ НЕОБХОДИМИТЕ ДОКУМЕНТИ В СЪОТВЕТНИЯ РЕГИОНАЛЕН ОТДЕЛ, </a:t>
            </a: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ОМПЛЕКТОВАНА ПО НАДЛЕЖЕН НАЧИН В КЛАСЬОР С ТВЪРДИ КОРИЦИ С ПОДРОБЕН ОПИС, ВСИЧКИ ДОКУМЕНТИ ТРЯБВА ДА СА ПЕРФОРИРАНИ И ПРИЛОЖЕНИ ВЪТРЕ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СЕ ДОПУСКА ИЗПОЛЗВАНЕТО НА ПАПКИ С МЕКИ КОРИЦИ /ОСВЕН В СЛУЧАЙТЕ, КОГАТО ДОКУМЕНТАЦИЯТА Е ПО-МАЛКО ОТ 10 ЛИСТА/, ДЖОБ ПЛИКОВЕ И ДРУГИ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TextBox 5"/>
          <p:cNvSpPr/>
          <p:nvPr/>
        </p:nvSpPr>
        <p:spPr>
          <a:xfrm>
            <a:off x="250920" y="1773360"/>
            <a:ext cx="85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ТЕХНИЧЕСКИ ИЗИСКВАНИЯ КЪМ ОТЧЕТНАТА ДОКУМЕНТАЦ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Straight Connector 9"/>
          <p:cNvSpPr/>
          <p:nvPr/>
        </p:nvSpPr>
        <p:spPr>
          <a:xfrm flipV="1">
            <a:off x="250920" y="1773000"/>
            <a:ext cx="0" cy="3816360"/>
          </a:xfrm>
          <a:prstGeom prst="line">
            <a:avLst/>
          </a:prstGeom>
          <a:ln w="3492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TextBox 4"/>
          <p:cNvSpPr/>
          <p:nvPr/>
        </p:nvSpPr>
        <p:spPr>
          <a:xfrm>
            <a:off x="179280" y="1341360"/>
            <a:ext cx="856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ХНИЧЕСКО УПРАВЛЕНИЕ И ОТЧИТА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Straight Connector 6"/>
          <p:cNvSpPr/>
          <p:nvPr/>
        </p:nvSpPr>
        <p:spPr>
          <a:xfrm>
            <a:off x="250920" y="1773360"/>
            <a:ext cx="8353440" cy="0"/>
          </a:xfrm>
          <a:prstGeom prst="line">
            <a:avLst/>
          </a:prstGeom>
          <a:ln w="3492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TextBox 8"/>
          <p:cNvSpPr/>
          <p:nvPr/>
        </p:nvSpPr>
        <p:spPr>
          <a:xfrm>
            <a:off x="250920" y="2643120"/>
            <a:ext cx="8497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</a:t>
            </a: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ЧКИ ДОКЛАДИ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ПРИЛОЖЕНИТЕ ДОКУМЕНТИ КЪМ </a:t>
            </a: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ЯХ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РЯБВА ДА БЪДАТ ПОДПИСАНИ ОТ ПРЕДСТАВЛЯВА</a:t>
            </a: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Щ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О ОРГАНИЗАЦИЯТА ЛИЦЕ И ПОДПЕЧАТАНИ С ПЕЧАТ НА БЕНЕФИЦИЕНТА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ИЧКИ ДОКЛАДИ И ПРИЛОЖЕНИТЕ ДОКУМЕНТИ КЪМ ТЯХ СЕ ПРЕДСТАВЯТ НА ЕЛЕКТРОНЕН НОСИТЕЛ, ПРИДРУЖЕНИ С ДЕКЛАРАЦИЯ – ОПИС НА СЪДЪРЖАНИЕТО НА ЕЛЕКТРОННИЯ НОСИТЕЛ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TextBox 5"/>
          <p:cNvSpPr/>
          <p:nvPr/>
        </p:nvSpPr>
        <p:spPr>
          <a:xfrm>
            <a:off x="250920" y="1773360"/>
            <a:ext cx="85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ТЕХНИЧЕСКИ ИЗИСКВАНИЯ КЪМ ОТЧЕТНАТА ДОКУМЕНТАЦ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Straight Connector 9"/>
          <p:cNvSpPr/>
          <p:nvPr/>
        </p:nvSpPr>
        <p:spPr>
          <a:xfrm flipV="1">
            <a:off x="250920" y="1773000"/>
            <a:ext cx="0" cy="3816360"/>
          </a:xfrm>
          <a:prstGeom prst="line">
            <a:avLst/>
          </a:prstGeom>
          <a:ln w="3492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TextBox 4"/>
          <p:cNvSpPr/>
          <p:nvPr/>
        </p:nvSpPr>
        <p:spPr>
          <a:xfrm>
            <a:off x="179280" y="1341360"/>
            <a:ext cx="856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ХНИЧЕСКО УПРАВЛЕНИЕ И ОТЧИТА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Straight Connector 6"/>
          <p:cNvSpPr/>
          <p:nvPr/>
        </p:nvSpPr>
        <p:spPr>
          <a:xfrm>
            <a:off x="250920" y="1773360"/>
            <a:ext cx="8353440" cy="0"/>
          </a:xfrm>
          <a:prstGeom prst="line">
            <a:avLst/>
          </a:prstGeom>
          <a:ln w="3492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TextBox 8"/>
          <p:cNvSpPr/>
          <p:nvPr/>
        </p:nvSpPr>
        <p:spPr>
          <a:xfrm>
            <a:off x="250920" y="2643120"/>
            <a:ext cx="8497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ИЧКИ ДОКУМЕНТИ ТРЯБВА ДА БЪДАТ НОМЕРИРАНИ С УНИКАЛЕН НОМЕР ЗАПОЧВАЙКИ ОТ ЕДН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ОДРОБНИЯ ОПИС ТРЯБВА ДА БЪДАТ ПОСОЧЕНИ НОМЕРАТА НА СТРАНИЦИТЕ НА ДОКУМЕНТИТЕ, СЪГЛАСНО ИЗВЪРШЕНАТА НОМЕРАЦ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ПРЕДОСТАВЯНЕ НА ДОПЪЛНИТЕЛНИ ИЛИ КОРИГИРАНИ ДОКУМЕНТИ СЪЩИТЕ ТРЯБВА ДА БЪДАТ ПРЕДСТАВЕНИ С ПОДРОБЕН ОПИС И НОМЕРИРАНИ С УНИКАЛЕН НОМЕ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TextBox 5"/>
          <p:cNvSpPr/>
          <p:nvPr/>
        </p:nvSpPr>
        <p:spPr>
          <a:xfrm>
            <a:off x="250920" y="1773360"/>
            <a:ext cx="85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ТЕХНИЧЕСКИ ИЗИСКВАНИЯ КЪМ ОТЧЕТНАТА ДОКУМЕНТАЦ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Straight Connector 9"/>
          <p:cNvSpPr/>
          <p:nvPr/>
        </p:nvSpPr>
        <p:spPr>
          <a:xfrm flipV="1">
            <a:off x="250920" y="1773000"/>
            <a:ext cx="0" cy="3816360"/>
          </a:xfrm>
          <a:prstGeom prst="line">
            <a:avLst/>
          </a:prstGeom>
          <a:ln w="3492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0T14:32:57Z</dcterms:created>
  <dc:creator>maria.mihovska</dc:creator>
  <dc:description/>
  <dc:language>en-US</dc:language>
  <cp:lastModifiedBy>Militsa</cp:lastModifiedBy>
  <dcterms:modified xsi:type="dcterms:W3CDTF">2012-11-13T12:28:01Z</dcterms:modified>
  <cp:revision>345</cp:revision>
  <dc:subject/>
  <dc:title>Слайд 1</dc:title>
</cp:coreProperties>
</file>