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C854A-F15C-4D16-9558-AEE18E7D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07FE3-84B9-47DD-81FE-B511B450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0CFFC-F5A8-49A8-96B0-4AC1C2F2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9DB62-A04A-4BCD-BB31-30DBFAB8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AD3D5-D900-439D-9E38-FDCD13F4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ECD74-CC63-49B1-8A23-A37BA9FE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77C37-CFA6-4BB3-8A5D-AF2E6E8D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34709-63C4-4881-A868-96F48BCA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02646-F9D2-462D-80F8-B6571D6D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777BC-A807-43E4-8700-CE02ED0D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1092A-0F57-4DFB-AF1D-120D8B07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71B47-92FF-40C4-9D38-AB2EE6BC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453D4-FB32-4752-B6C6-2F9F8787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5925A-AFC5-4958-B165-B9806822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A1D30-84B6-4FC4-923B-88B9A90C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CFCA7-5A3F-459E-BD5D-702FFBB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CE3FF-4DC7-4023-B3AF-39D0A43B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71F4F-7845-4557-8028-7A11AA4C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68BF0-3944-46A3-BA0A-BB56F798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236E6-2015-4EA2-8BA2-2148587A7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EE946-6099-4833-8BE9-19583A5E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A186D-0F1D-4102-943A-44514C58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35616-34CA-418C-A87C-D1EFAE6E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3929D-8196-4351-926F-56E96508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09512-381E-4D38-ACFC-0EF9604A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1DD11-28FB-4E7A-9E74-6001E932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04BA0-C107-461D-AD56-8BA2F8CB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D11C9-CDAF-4A42-AFAA-B59247D8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81869-BB59-41C3-B753-C3ECD7C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BCA2F-6AB3-461E-B83A-D45F9E96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2B3-978C-4F74-9CFA-9E99A055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63A6C-D88C-4987-8908-1AA91C51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36B65-FFEB-4481-AB96-6C499EAC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E279A-C06C-4CEF-8F1D-0271E7C5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E68B3-AC51-4E3C-8406-F7968BC0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AABF9-BC4B-4BEF-AE1C-C8928142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9B45B-6307-43F5-84E6-852CDFAD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17877-4490-4AF3-AC2F-15A811D8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5011C-4521-4C89-96CF-7EFD365F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6793F-5134-4237-AFAF-E25EFE81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0941C-AA78-466D-A72E-10198E13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C2F-8A20-4EE6-8C76-D6269B70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9980B-DEBA-4C35-9A62-58E48D01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F800E-E541-4FED-84BE-544ECC0E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3A9C4-3B1A-40A9-9123-7E664C7F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D5C8D-207C-4F62-8A3D-8FF48E66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C7F17-9C56-4AFA-99E1-4CEC5B40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5DE-8DAF-476F-B772-17D0B1DD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6CD-507F-44FD-A92D-3B5453F3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E97-CCE0-4D66-BEF3-60AAE715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D51-7C38-45BC-81E3-9B46D0CF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28F-473B-4993-8E96-FB144C9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378-61EF-4995-9BBC-119D9BD9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4A4-9D45-472B-A615-3038C686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C496-4AF1-4973-A516-E9CF9D07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07C-EEB0-44E4-81F8-8D441C7C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F681-A0D4-4C31-9945-FA39DDD4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3C57-A848-4097-A3C6-807853E2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D98B-370F-4CE9-AA22-54ECEBC0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5BF5-51D0-4003-B102-3A2205EC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19C6-EDC8-4745-95B8-947E8228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5400-CA55-4297-8DBC-45807DDB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75D9-22D7-4FC8-89D0-D01A5A6F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8E28-6A97-4D50-9F6B-D49276DF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1C0B-FD38-465A-BC45-CB300600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9C27-F304-419C-AC56-930BDA1C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0852-E143-45A6-B011-7292FAA3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0992-27EC-465E-AB15-8614650F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FE77-5BF0-493D-8BF0-3700B3AD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18229-8A0E-47E3-AD09-AE4D0C5D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8E22-EFEC-4C63-A694-48969C51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3C92E-214C-4A8A-966E-7B2975E8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84BD-331F-4D0F-B13B-0FB0B7A5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31E37-CA22-41BC-A7C3-5110D528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FF958-02FA-4E39-8F2C-C8B17A4A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B9EA-2502-44EA-8AB0-F6F56132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4F546-8DE3-4722-82A1-51737C5F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B55D-DE0A-4675-849B-7E7E8473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19E1B-50AE-4B0C-81CE-7BB954A9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1195B-0F2A-4A2D-8934-1E7EFDC0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E77C7-402A-45DE-AE08-6FA5170B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5802-D705-4AD8-9E89-F1526AED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CFEA1-FB98-450D-ADC3-AF9FC6A8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86ED1-5AF1-47E6-AFB9-7C4BB5CB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0FCA8-10FF-4E8F-BD10-D5D8C8E6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F27B-F1BE-44AC-B139-F72E761B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D3693-D4F9-423B-95A1-40CB848C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BC375-5A40-42F5-9982-7A09B3AB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0ACCF-EFED-4389-BDAE-860ACBCC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2B026-BCF1-4D40-9483-10FD2663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8EDF9-0E28-4309-9AE8-79C6F7E9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B39CF-E94F-45B0-9146-F51E3275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E5610-3285-40FB-91C7-427897E5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303E0-378B-435A-B3B1-FEB8443A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CDD62-77FB-4D37-8B7C-6CCF18E4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76250-3AA8-4003-8642-AE83F2F5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A2311-200A-40A9-80E6-89C8E4D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0BB5E-C4D1-4A87-B239-AE3F3236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27BC5-519F-4DF9-BA92-962379EA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D3C07-8952-4880-86BE-0C9ED6F0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FAB35-9D83-4FA9-B4B0-848C9DA1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C11A2-9509-48CC-B9F0-668A844A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612B0-765B-4BF4-9E17-CE4D1B65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7CB1-BFC6-4E6F-BB72-A8A06F1C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5419D-465A-4F35-BD4B-7F600A10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F7DCE-E80E-47C6-8D60-6AAED57E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90955-945E-4F30-9483-954C9E67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144AB-27CA-43FE-B4EB-C62D56A8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9EA80-B790-44A7-9EAD-B0CCBB7B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EFC2F-B43B-4A2A-B8ED-1DE738FF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0A530-231A-463A-8C9F-4FA0A849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CCD55-CAB9-4040-88C6-1FAB6000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2A852-3333-4B9F-9C4A-9A40FAB8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A6446-EAD2-4FBE-91AF-8D535F3F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DAF4B-AE48-469A-B84D-76BB50F2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77DE6-1C5F-4DD4-8486-F3BE4B33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AAF79-A63E-41CF-9DEB-CFBAB02E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07115-2F77-491D-8563-112BB558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D55D8-9C36-4D92-BA0B-BDCA4D2B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6A6EC-4517-4FC0-B7D5-84FF52C3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B12C5-6A39-416D-A50E-AB39627A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FB9A6-434B-4807-8677-EC4B3160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8F56B-9A8A-4195-93B5-A10B4CBF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D1C9C-4A35-4D69-AEE4-3E2ABA3E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36B42-9966-49EC-8049-66CD792C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698B8-E6EE-460D-BC32-021B3955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58C73-B41E-4064-9462-6EE722A7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BFA91-A24C-4CF2-8064-3BC26E86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D895F-4DE0-48CC-8473-429BC4E4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87C5A-B5E1-4FEE-BD7E-BA9F9040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3928A-7D56-4252-B3A7-A1F24BF0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C79FC-F24A-4A56-AF06-464DB2A2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gregio.eu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3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1D5A-C155-4C87-BA1D-AAFFFC0E996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2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19FA-EFDD-4546-9AE9-E33F27CF92B6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38AB-5AAC-4BBF-AAE3-898A4769F05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949E-1B13-4441-B605-F114664CB4D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BAFD-CEA2-4060-9414-06AFF39BEB2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507A-8F60-4CAA-A3A2-18CFF663E1B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822C-0140-4409-B21B-D80773F5A3E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6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1518-B30F-4C5D-8E07-0EF18D2BC86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F7E2-B55B-44BE-8EF3-72475E347DF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7738-6FB8-44C8-9545-7753C1DF1B9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1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6862-99EC-4018-8545-65230619FE5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"/>
          <p:cNvSpPr/>
          <p:nvPr/>
        </p:nvSpPr>
        <p:spPr>
          <a:xfrm>
            <a:off x="468360" y="1557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и управление на проек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468360" y="2421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перация 1.5: „Системи за устойчив градски транспор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за безвъзмездна финансова помо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161PO001/1.5-03/20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 за интегриран градски транспорт в петте големи град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250920" y="26431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ИНДИКАТОРИ ЗА УСПЕШНО ИЗПЪЛНЕНИЕ НА ПРОЕКТИ ЗА ИНТЕГРИРАН ГРАДСКИ ТРАНСПОР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ОДУКТ: КМ. ИЗГРАДЕНИ УЛИЦИ, ВЕЛОСИПЕДНИ АЛЕИ, БР. ДОСТАВЕН ПОДВИЖЕН СЪСТАВ, БР. ВНЕДРЕНИ СИСТЕМИ ЗА УПРАВЛЕН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ЗУЛТАТ: БРОЙ ПЪТУВАНИЯ С ОБЩЕСТВЕНИЯ ТРАНСПОРТ; ПАЗАРЕН ДЯЛ НА ОБЩЕСТВЕНИЯ ТРАНСПОРТ; НАМАЛЕНИЕ НА ПАРНИКОВИТЕ ГАЗ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ДИКАТО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8"/>
          <p:cNvSpPr/>
          <p:nvPr/>
        </p:nvSpPr>
        <p:spPr>
          <a:xfrm>
            <a:off x="250920" y="26431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ДИКАТОРИТЕ 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 ЗА ВЪТРЕШЕН МОНИТОРИНГ НА ПРОЕКТНИТЕ ДЕЙНОСТИ И ЧАСТ ОТ СИСТЕМАТА ЗА КОНТРОЛ И УПРАВЛЕНИЕ НА КАЧЕСТВО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 ЗА УПРАВЛЕНИЕ НА ЦЕЛИТЕ Н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ЪРВОТО НЕЩО, ЗА КОЕТО ТРЯБВА ДА СЕ ЗАМИСЛИТЕ КОГАТО ПОДГОТВЯТЕ ОКОНЧАТЕЛНИЯ ТЕХНИЧЕСКИ ДОКЛ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ДИКАТО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250920" y="227664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МЕРВАНЕ НА ИНДИКАТО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ТОЧНИК НА ИНФОРМАЦИЯ ЗА ИНДИКАТОРИТЕ МОЖЕ БЪ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КИ ДОКУМЕНТ, КОЙТО ГЕНЕРИРАМЕ ПРИ ИЗПЪЛНЕНИЕТО Н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ЧНО ОРГАНИЗИРАНИ И ПРОВЕЖДАНИ ИЗСЛЕДВАНИЯ И ПРОУЧ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АТА БИЛЕТНА СИСТ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А ЗА УПРАВЛЕНИЕ НА ПРЕВОЗНИТЕ СРЕД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ДИКАТО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8"/>
          <p:cNvSpPr/>
          <p:nvPr/>
        </p:nvSpPr>
        <p:spPr>
          <a:xfrm>
            <a:off x="324000" y="2924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ИНДИКАТОРИТЕ СА ТЕЗИ, КОИТО ТРЯБВА ДА ИМАМЕ ПРЕДВИД ВИНАГИ, КОГАТО РЕШИМ ДА НАПРАВИМ ПРОМЯНА НА ДОГОВОРА ЗА БЕЗВЪЗМЕЗДНА ФИНАНСОВА ПОМО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ДИКАТО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539640" y="2133720"/>
            <a:ext cx="777744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ТО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250920" y="2637000"/>
            <a:ext cx="849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ДУЛ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ХНИЧЕСКО УПРАВЛЕНИЕ И ОТЧИТАНЕ НА ПРОЕКТИ ЗА ИНТЕГРИРАН ГРАДСКИ 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250920" y="234936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ИМЕСЕЧНИ ТЕХНИЧЕСКИ ДОКЛА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ЯТ СЕ ДО 15 ЧИСЛО НА МЕСЕЦА СЛЕД ОТЧЕТНИЯ ПЕРИОД (OТЧЕТНИ ПЕРИОДИ: ЯНУАРИ-МАРТ; АПРИЛ-ЮНИ; ЮЛИ-СЕПТЕМВР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ТА В ДОКЛАДИТЕ СЕ ПРЕДСТАВЯ С НАТРУПВАНЕ ОТ НАЧАЛОТО НА ИЗПЪЛНЕНИЕ НА ДОГОВОРА ЗА ПРЕДОСТАВЯНЕ НА БЕЗВЪЗМЕЗДНА ФИНАНСОВА ПОМОЩ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Е ПРЕДСТАВЯТ ПРИЛОЖЕНИЯ КЪМ ТРИМЕСЕЧНИТЕ ТЕХНИЧЕСКИ ДОКЛ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ИДОВЕ ТЕХНИЧЕСКИ ДОКЛ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250920" y="270828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ТЕХНИЧЕСКИЯТ ДОКЛАД ОБХВАЩА ВСИЧКИ ПРОЕКТНИ ДЕЙНОСТИ, НЕЗАВИСИМО КАКВА ЧАСТ ОТ ТЯХ СЕ ФИНАНСИРАТ ПО ДОГОВОРА ЗА БФ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ФОРМАТЪТ НА ТРИМЕСЕЧНИТЕ ТЕХНИЧЕСКИ ДОКЛАДИ Е ПРОМЕНЕН СЧИТАНО ОТ 1 НОЕМВРИ 2012Г. КЪМ ДОКЛАДА Е ПРИБАВЕН МОДУЛ ЗА ОТЧИТАНЕ НА ПОСТИГАНЕТО НА ХОРИЗОНТАЛНИТЕ ПОЛИТИКИ НА ЕВРОПЕЙСКИЯ СЪЮ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ИДОВЕ ТЕХНИЧЕСКИ ДОКЛ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250920" y="234936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ОДИШНИ ТЕХНИЧЕСКИ ДОКЛАД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ЯТ СЕ ДО 30 ЯНУАРИ НА ГОДИНАТА, СЛЕД ОТЧЕТНАТА ГОД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ВАЩАТ ИЗПЪЛНЕНИЕТО НА ДОГОВОРА ЗА СЪОТВЕТНАТА ГОДИНА, КАТО ВКЛЮЧВАТ ВСИЧКИ ОТЧЕТНИ ПЕРИОДИ, ОБХВАНАТИ ОТ ТРИМЕСЕЧНИТЕ ТЕХНИЧЕСКИ ДОКЛАДИ, И ПОСЛЕДНОТО ТРИМЕСЕЧИЕ НА ГОДИНАТА, ЗА КОЯТО СЕ ОТНАСЯ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Е ПРЕДСТАВЯТ ПРИЛОЖЕНИЯ КЪМ ГОДИШНИТЕ ТЕХНИЧЕСКИ ДОКЛАД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ИДОВЕ ТЕХНИЧЕСКИ ДОКЛ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250920" y="234936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КОНЧАТЕЛЕН ТЕХНИЧЕСКИ ДОКЛА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Я СЕ, ПРИДРУЖЕНИ С ФИНАНСОВ ОТЧЕТ И ИСКАНЕ ЗА ОКОНЧАТЕЛНО ПЛАЩАНЕ ДО 2 МЕСЕЦА СЛЕД ПРИКЛЮЧВАНЕ НА ДЕЙНОСТИТЕ ПО ПРОЕКТА, НО В РАМКИТЕ НА СРОКА ЗА ИЗПЪЛНЕНИЕ НА ДОГОВ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ДЪРЖА ИНФОРМАЦИЯ ЗА ВСИЧКИ ИЗПЪЛНЕНИ ПО ПРОЕКТА ДЕЙНОСТИ, ВКЛЮЧИТЕЛНО И ПРИЛОЖЕНИЯТА ПРЕДОСТАВЯНИ ДО МО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ИДОВЕ ТЕХНИЧЕСКИ ДОКЛ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8"/>
          <p:cNvSpPr/>
          <p:nvPr/>
        </p:nvSpPr>
        <p:spPr>
          <a:xfrm>
            <a:off x="250920" y="264312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БЕНЕФИЦИЕНТИ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ЩИНИ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ВАТ НЕОБХОДИМИТЕ ДОКУМЕНТИ В СЪОТВЕТНИЯ РЕГИОНАЛЕН ОТДЕЛ,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МПЛЕКТОВАНА ПО НАДЛЕЖЕН НАЧИН В КЛАСЬОР С ТВЪРДИ КОРИЦИ С ПОДРОБЕН ОПИС, ВСИЧКИ ДОКУМЕНТИ ТРЯБВА ДА СА ПЕРФОРИРАНИ И ПРИЛОЖЕНИ ВЪТР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Е ДОПУСКА ИЗПОЛЗВАНЕТО НА ПАПКИ С МЕКИ КОРИЦИ /ОСВЕН В СЛУЧАЙТЕ, КОГАТО ДОКУМЕНТАЦИЯТА Е ПО-МАЛКО ОТ 10 ЛИСТА/, ДЖОБ ПЛИКОВЕ И ДРУГ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ХНИЧЕСКИ ИЗИСКВАНИЯ КЪМ ОТЧЕ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8"/>
          <p:cNvSpPr/>
          <p:nvPr/>
        </p:nvSpPr>
        <p:spPr>
          <a:xfrm>
            <a:off x="250920" y="264312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ЧКИ ДОКЛАД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ЛОЖЕНИТЕ ДОКУМЕНТИ КЪМ 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Х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ЯБВА ДА БЪДАТ ПОДПИСАНИ ОТ ПРЕДСТАВЛЯВА</a:t>
            </a: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О ОРГАНИЗАЦИЯТА ЛИЦЕ И ПОДПЕЧАТАНИ С ПЕЧАТ НА БЕНЕФИЦИЕНТА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ДОКЛАДИ И ПРИЛОЖЕНИТЕ ДОКУМЕНТИ КЪМ ТЯХ СЕ ПРЕДСТАВЯТ НА ЕЛЕКТРОНЕН НОСИТЕЛ, ПРИДРУЖЕНИ С ДЕКЛАРАЦИЯ – ОПИС НА СЪДЪРЖАНИЕТО НА ЕЛЕКТРОННИЯ НОСИТЕЛ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ХНИЧЕСКИ ИЗИСКВАНИЯ КЪМ ОТЧЕ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 УПРАВЛЕНИЕ И ОТЧИТ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8"/>
          <p:cNvSpPr/>
          <p:nvPr/>
        </p:nvSpPr>
        <p:spPr>
          <a:xfrm>
            <a:off x="250920" y="26431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ДОКУМЕНТИ ТРЯБВА ДА БЪДАТ НОМЕРИРАНИ С УНИКАЛЕН НОМЕР ЗАПОЧВАЙКИ ОТ ЕД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ДРОБНИЯ ОПИС ТРЯБВА ДА БЪДАТ ПОСОЧЕНИ НОМЕРАТА НА СТРАНИЦИТЕ НА ДОКУМЕНТИТЕ, СЪГЛАСНО ИЗВЪРШЕНАТА НОМЕРАЦ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ДОСТАВЯНЕ НА ДОПЪЛНИТЕЛНИ ИЛИ КОРИГИРАНИ ДОКУМЕНТИ СЪЩИТЕ ТРЯБВА ДА БЪДАТ ПРЕДСТАВЕНИ С ПОДРОБЕН ОПИС И НОМЕРИРАНИ С УНИКАЛЕН НО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ТЕХНИЧЕСКИ ИЗИСКВАНИЯ КЪМ ОТЧЕ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dcterms:modified xsi:type="dcterms:W3CDTF">2012-11-13T12:28:01Z</dcterms:modified>
  <cp:revision>345</cp:revision>
  <dc:subject/>
  <dc:title>Слайд 1</dc:title>
</cp:coreProperties>
</file>