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70F0-7B4B-41C9-ABBB-653A7FF1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8B337-5EC6-4042-8330-09F0577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4E01-C291-4C3D-93D8-0C93A2D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83D1-5180-4C3E-9BBE-4E7FF0D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0D77D-9730-4F67-BDDD-4C1A15F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BA4B-B2E9-407A-B831-DFAB006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3BD6-FF71-416B-89E8-D229E02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7F98-53A3-47B8-ACD5-3B594127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315A2-E4B3-4528-A9EE-BD70F509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B51EB-52B3-4B3E-AB8B-579A9F10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39BC-3003-4E37-92D2-5465730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3AAB-09C6-4751-BFF5-9538812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58A1F-1480-4908-A7D4-D91AB300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ACB0-0011-4D93-9C00-1F54E8B2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E4C0A-CABB-443A-819A-6E7E040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9E7D4-9032-4604-9E31-3E368D4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72958-E239-4862-A57E-800C035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0E04B-43B5-4F8E-92D3-C195D02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6662-3FD6-488E-8EE3-B3E05939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0371-7760-4DDF-8FB8-8075F4B9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0641C-B36B-46E7-9E50-A661F2A4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27AA3-1F6D-4E36-BACD-0E94988D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7467F-F9D3-48B9-9DCA-6365128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3D4B4-929B-430E-8096-D8FEED80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534CF-3FC2-46AC-B41E-B6A2311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E29D7-F3A2-4B64-AC7C-5B01A6D2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8CDBC-5E3F-47E4-87CB-24C344C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D847A-4B9A-4305-8B4A-69748F3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44A30-7772-48F8-939D-D092972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F3BA0-F2B4-4AB6-A372-78085D9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524-0AF6-4F08-BD29-3D6E2C2E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C2A1D-8ED9-4EB1-87D4-AABEDDA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675E0-583A-4291-BDAD-66004ED4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98326-E61E-43AB-B44A-7E54432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3BEC8-5558-451B-876A-3B3BC147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1F0A-ADB5-47A9-83C8-152A47D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FC858-304A-4118-AA6B-1D27B31A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5C023-0FC1-4048-A75B-341FDE1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AF962-CC28-445C-A2FD-011A5169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7C2F7-C6BC-450B-AD5B-4DC5B1C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15CA5-E7F4-460F-9550-0231870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229-C4EB-40CA-A6D7-67073216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64C8A-64C6-4298-BF7E-B76A739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B925F-A302-49B3-A9C1-E15EED0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A1121-ED9E-425A-B8C0-FF7F91F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113E1-9360-4FD4-9DE0-8E586058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54A89-DBFA-4E4E-B1A5-5E297F1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48D-4A11-499A-8D6F-1FA10C93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14F-5357-40CD-AA52-7B30929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62A-5408-4FC5-BF81-CB8F692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6DB-C396-4302-8DE6-5E088D31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AE0-26E2-4005-A8C6-651B1F8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530-2A13-45A1-9DF8-D5B4C1D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948-D8BA-4D1B-9955-5CEA91E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D5E-ACDB-4946-90C6-8CAD60DD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8DD-445C-40AB-8D8D-0ED15555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63E-ED60-4C94-B8BF-36D84E6A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4FA-C5A4-46A6-AD50-85820CC9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0D0F-2C5C-4DD0-94E6-0CA6F252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190-9A33-4AC7-AA68-8EA8605A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4071-382D-44A9-94FD-F13BDAF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B78A-15DF-4EB0-9428-C87CB87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F3E-6CA9-4DAB-A24C-E3531B0E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5BD-65C0-4530-8BEC-37A3A0F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07D2-B252-4FE1-AF24-58D7ECB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E5F-1791-4DF8-BEA3-3635C5B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08C2-4A34-4A73-B4C4-4CB428F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2347-398F-406E-9475-ECDC24AE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61E-A29B-4289-95FB-3DC31CBE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46E-74FB-4F3A-A171-CE5A3205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A2BB-C670-4181-907F-5F93204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4C9C-89AA-4E46-B113-D98A18A6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09FB-3C24-4468-BC06-1CE1CFDB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5D64-E987-413F-8620-C148E5A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4B52-8089-4802-8E59-6CF0FC9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6675-C6A4-4630-9816-FA998AE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2F1D-B3D4-4F25-823D-0177575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9E5A-4BC8-436B-AF60-13EC69B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AF83-97CD-4062-85CA-09F985D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532C-8A45-4AAF-9282-972F9586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620C-F4B9-4903-8AA8-8D14DDB8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345E-8BD5-42B8-9CB2-C9DF079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2EC3-F44D-45DE-AA82-2770D77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87DE-3CED-404C-B313-DC9C3DB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94B4-B861-430C-A4A1-BE39AF93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F36B-2578-4919-A2C3-F83E5FAB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E62B-2883-4A14-97DD-3135E48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7C5A-F9A6-42B8-8C54-6B423DC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4AD9-CAD6-4EC1-86CC-A1CE6B15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ABF5-57CF-43A1-A4AC-BA41252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5A13-5AA8-4538-84CF-302E113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3B85-A11F-4B82-897A-ECEF1114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1724-3C97-4C15-ABEC-C41DA6A9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0F6C-7CCB-4F54-9CBD-6C26B3B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63B1-93A8-4642-B0A1-7DACFE5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10A6-8378-4CED-B478-5C13328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4DE1-5F9A-40CD-8A01-7669DE8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A636-E80B-49A1-8B6B-2A0AB6A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6F33-4C31-4A01-B52F-D5EA706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26BC-EA84-476E-BA33-C4D853B4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03BF-22B3-43C5-A874-3AE14D2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C18F-97AA-4BFF-988A-6AEEEF1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FCA6-6123-45A7-A47E-3B207926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634D-00BB-4590-9C68-0164BEB9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4A94-92E7-43FD-94EC-8243B57E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B559-8907-4AB8-9C00-09FD03A2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3B229-815E-4FE7-9A21-415C7494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BACA-0C58-4F36-9117-8E72761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2751-FA95-40A8-B2E3-F7671B4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6BAD-472A-4BF9-8F1F-DCA3D22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E918-A3CD-4E40-9BE2-0DD82645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F100-BEE0-4D12-9CA2-C81056E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6CF6-C08C-41EF-B3F4-A86C813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F0F0-424D-4DE7-AD38-970C2E5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879A-1924-4062-9E4D-DC6B6F4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CE85-FDE6-42C8-B90A-1975FBEE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2B02-AB0A-4381-9D70-B915A14C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D7EE-BE61-4C91-956B-3A6D7A98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1EB6-35ED-49DA-8584-6901032F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FCC9-3DF2-485A-9594-ECE2ECC6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1B484-8C9F-4137-8B15-F7BADDC9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AC65-691B-49DC-BB1F-6B8E901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34D8-96F7-4B42-A737-3BD15F6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A0334-3C5B-4548-9291-9696447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D830-A2E7-421C-8C0A-A7E141C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AF20-420F-420C-8EA9-73E4032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FE16-2EA4-4099-B259-F193FC39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4E57-6EE4-4781-9574-59A0672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80F4-47D7-4D86-9CA4-6DB75596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C66A-08D0-4878-8975-BA988349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34185-5E99-43AE-832E-43A1391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0F29-11EF-4B9B-BF41-AA641D0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02E-A0CE-45CC-834F-D6BC0CA1C99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02F9-EC51-4A64-B833-59B67D8D984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F1F-A010-40B6-8744-6D7E4CBE189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5732-6D93-4EB0-9F71-93F68A9A55C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D99-D065-4C14-984F-711A91F042C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9B5-4247-4073-BCF7-41231C6B845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FC3-D729-4C65-B7ED-06F2A9B70BD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F18-F0B3-4028-BE29-E5832BC2491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2B52-E7AB-4187-B281-6FCEA936504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74B-62EB-43AF-A304-6E8C0E8471C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EF8-90CF-4BE6-9BF7-F3CC2F25BEB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-МАЛКО ОТ 3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ТИРАЙТЕ Р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ЪС ЗВЕНОТО ПО ИНТЕГРИРАН ГРАДСКИ ТРАНСПОРТ В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ЛЕНДАР НА БЕНЕФИЦИ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http://t2.gstatic.com/images?q=tbn:ANd9GcTSX32tzlNn952M811zcrWSAf3t4uyg2A2q7DpR6Ageoq_ZoPW1"/>
          <p:cNvPicPr/>
          <p:nvPr/>
        </p:nvPicPr>
        <p:blipFill>
          <a:blip r:embed="rId1"/>
          <a:stretch/>
        </p:blipFill>
        <p:spPr>
          <a:xfrm>
            <a:off x="5076720" y="1844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 ЗА ИНТЕГРИРАН ГРАДСКИ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ЕКИПИ ЗА ИЗПЪЛНЕНИЕ НА ПРОЕКТИ ЗА ИНТЕГРИРАН ГРАДСКИ ТРАН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Е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НШЕ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421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Я НА ЕКИ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eft Arrow 10"/>
          <p:cNvSpPr/>
          <p:nvPr/>
        </p:nvSpPr>
        <p:spPr>
          <a:xfrm>
            <a:off x="395280" y="3645000"/>
            <a:ext cx="4105440" cy="863640"/>
          </a:xfrm>
          <a:prstGeom prst="lef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alibri"/>
              </a:rPr>
              <a:t>ОПЕРА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ight Arrow 12"/>
          <p:cNvSpPr/>
          <p:nvPr/>
        </p:nvSpPr>
        <p:spPr>
          <a:xfrm>
            <a:off x="4500720" y="3645000"/>
            <a:ext cx="4248000" cy="86364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alibri"/>
              </a:rPr>
              <a:t>СТРАТЕГИЧЕ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24000" y="3213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ИП ЗА ИЗПЪЛНЕНИЕ        РЪКОВОДИТЕЛ           ЕКИП ЗА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395280" y="2209680"/>
          <a:ext cx="8497800" cy="3368880"/>
        </p:xfrm>
        <a:graphic>
          <a:graphicData uri="http://schemas.openxmlformats.org/drawingml/2006/table">
            <a:tbl>
              <a:tblPr/>
              <a:tblGrid>
                <a:gridCol w="4248000"/>
                <a:gridCol w="4249800"/>
              </a:tblGrid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на проектния ръководите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на Ръководителя на проект „Интегриран градски транспорт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проектните дей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интегрите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репа и супервизия при осъществяване дейността на отделните експерти от екипа по изпълнение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ждане на обща платформа и обединяване на конкретните цели в обща проектна ц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та на действията на всички заинтересовани стра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ценностите и взаимодействия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глед и съгласуване на проектната докумен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качеството на продукта/ резулта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ване и въвеждане на система за вътрешен мониторинг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дългосрочните цели. Краткосрочните цели са ангажимент на самоуправляващите се екип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ане и управление на финансовите и времевите ресур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критичните точки и ресурса в бъдеще врем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на процеса на отчетност по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институционалната памет, гарантиране на интегритет с общата ви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човешкия ресурс и осигуряване на капацитет за изпълнение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или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50920" y="24922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 В СУБОРДИНАЦИОНЕН ПОРЯДЪ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38:17Z</dcterms:modified>
  <cp:revision>339</cp:revision>
  <dc:subject/>
  <dc:title>Слайд 1</dc:title>
</cp:coreProperties>
</file>