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2390-E24A-4329-AB7C-31AD3D3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26938-3030-414D-A7BD-F5A9FC6F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6AD07-6BA9-402D-BC37-6DFB186E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6354-9759-499D-BA21-365A1E2B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0CB8B-7E60-4610-BB7F-1A67E62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317EA-0B1C-4CD8-B96D-CA924310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11D8-C432-4BEA-9B6B-C26E62C2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61C9-CFE6-465D-B394-9EA7EE1F3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37749-E65E-495B-9C76-6F2971456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C6A49-6106-4779-9EED-C87F8A41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68417-8752-4658-B623-9B20203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87AF0-9695-422F-A732-C76A04D5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3D972-0293-4E3D-AD49-72D1581B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A13E8-D406-49EC-8016-B3B1F542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F6F56-4B3F-46C1-A427-41AB5589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2567-B124-40C0-B6CC-50C5AE5E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FAC54-254F-4875-B32B-1DE7027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DD939-302A-445C-8080-BA68C2E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DEBFE-C948-4BB6-8A14-3DE2350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4C1C9-12AF-4AEE-8C23-442426C9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183D-EAB0-473B-A049-A72D4264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CC10B-7ED7-4572-A7A1-C924EF5F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4D188-AED6-4B56-99D6-52E2A91D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D62B1-6D93-4155-B040-92DEDA76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1DE01-2827-47B9-84CB-3A0A012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F0D00-1951-40EC-84EF-6F0E966E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7228-BE35-41D1-B648-B7004EA6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14697-8DC5-4289-848D-896375AB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DE989-7BCA-4463-9FCB-61C6428D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8036B-D8EB-416B-8E5E-677FACE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02E-4E70-4AB5-8136-2468BCB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E2519-9523-4AF6-B19C-9B48854F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22BD7-DB1A-46E1-AA0F-96E1EB96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AD5F87-4CF9-45BB-8319-91040F45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30F6A-6BFF-46A1-8E4F-A8901282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61456-D0A8-4B8C-B762-A4375BB6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7348E-C15D-4614-B932-AE291592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AE7C3-82B5-447A-B8CF-BA919076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CCC3-2EC0-4AFE-958F-CF66D88E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CF85D-3B74-41C3-A8BC-4E35E61F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03EA9-C114-4827-B5FB-DC800AE6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0E8-774F-4DD7-900D-E27220E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80FFF-3723-4E7E-89A0-FC2BF386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6ADE7-9DC7-481E-81A0-1B1CA1F6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DB4E7-AD36-4C11-8C9B-C41E3209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E4F41-5EC7-4BE2-A359-096CD465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1F618-B6B6-4345-A815-C60771D3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9E4-1D89-42AE-8412-790CD4BB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C71-C9D9-465A-A927-E59D876B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6C8-67C0-49FC-812E-AF653BB3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C09E-1F08-49EB-B3C6-6909C8D2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717-4C1E-4912-B2B2-D3951FF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E12-A8D2-491F-B776-40A9563D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A20-6C8E-4863-8DF9-3398F97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8BE-69BC-471F-8287-C5289998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45E-69A3-471B-AAF5-69620F9C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3B9-0F2B-4609-930D-2620833A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F616-6304-40E7-8D82-18166AEE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0A2C-D30E-49B8-BD05-D96C8B59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250A-A6C8-4420-9D2D-0BCD8A1C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4DFF-5DC6-4F1D-98E9-E34C5C3B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069A-7A5C-43A6-8A3C-F1FEA63D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4D6-D696-499C-910A-55D26C4D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EB3-FAB6-42EB-A506-1840913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5E24-5C72-484E-9561-CEC1FB3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1BF2-2752-4862-AD98-5BBEFBD9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9940-F3A9-4DF0-A631-390A7E77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75D4-3EDC-4BAD-B054-1D037F6C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1FD-5AB7-4D57-960E-6DC95D5B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30FF0-864E-4EAA-A7C3-79D4425C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38099-26A9-4BFD-A729-0A74AC0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A1B2-23BF-4498-BAF7-82BE0FB4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55407-EC3F-476A-AF07-A160DD19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81DD-8C56-448A-A82E-95F5D34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BF0AF-0E1B-482D-BEBA-70F00648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DCEF3-9BB0-445D-9EDA-4C9D124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71845-6278-4190-A69D-F07BCC47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2B4A-D307-4FF5-8F08-92DD2A2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F37F0-42B8-49E8-A59E-23C969B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00C5E-AE05-4373-9BAE-8FC9406C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CD15-F60D-4681-ABF4-AD9DD1F7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E3CB5-6DA5-4B96-947B-EF88FF15C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FC9D2-E137-42C6-8581-64B3D301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BDF80-8A91-41B7-9908-EF86572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D966-699C-43D2-946C-2A3DA1C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79F9-B2E1-4ECA-B06D-33C96265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005C3-35F5-4355-BC36-A20DDE64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B868-2D43-4020-88F9-E7A5541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CE773-6F1C-4E4F-8675-8DCC1194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04AA-F853-4FF8-A109-C3C7F80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7B0CB-445B-4D88-90CD-EAD7235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35C46-7953-489A-BB1A-BA1CAB1F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5DA2-99E9-4AD2-B41C-0545AFC6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99398-52EF-4AD2-AF29-F7C0650A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E2973-EC3E-4A50-A47C-124CA985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2E1E4-19D2-4061-B0CC-9AF332A7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CDCF2-9376-401D-B8FE-E02563BF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3DE2B-A588-4DC5-B982-B6F50273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53DB-DA7D-449F-8E37-90ADA2C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25A8D-EEF5-49FC-9D8F-12AA22D4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B1CE-11DE-4737-8655-6D4E0C94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84064-73A2-498B-A7C4-55CC0DAC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7B2DD-F791-477C-B420-A09703CA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0847C-315C-458F-82FD-C2B7A89F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244EB-6F2D-4FD1-9D95-A510F170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0E083-B208-4E12-8536-3DF7DF4C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33778-7464-4466-8E52-1319D0BD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D5A4-6741-497D-A3DB-54E5C61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8567-4BD5-49CF-B6FF-FFD6EDAC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17A5D-2247-40CA-B32E-DA50BCA9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48195-0262-4009-A187-BE88ED76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F0D6-E198-45F7-84EF-4F4CECD5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284D3-0F1A-4EEE-AE93-BAC4964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BA838-0787-4991-9315-9D8061EE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D99F3-4442-4148-9010-0F1A0BA7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9BEC0-368C-460B-A0C1-19F4C43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CA38C-918F-4A38-A99D-55AE165E9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D3EE-9835-4EE1-AF4A-D0A10391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4515D-6E36-4760-8BEA-7D691A6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427B-CA33-4F0A-8125-F6762E68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7D056-C9F6-4BDC-9893-F80E3B06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D4610-DD04-4462-9788-66D5C3B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BBC9-2229-4A77-B196-B7ACF5FC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490AE-AF51-483F-BE29-4295BE7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615DC-3149-44BD-9781-D946B0E7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55EF-2CBE-4993-B755-B57DA0BF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3AA4B-D832-4FA2-9B80-5F3BCC2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D1C1-8909-40B0-8A39-6354A238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41FFE-89B3-4830-BFF0-7C21CCD5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4144A-C05D-4951-B1B4-35DB6079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D499-88D1-4FF7-8F7B-62282D3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13386-E4EB-4EB9-9EEF-B61218BE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AB06-0352-4053-820C-9C8284F4CD2F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2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8CBB-CCC2-44C8-96F8-D969FDD18174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B88-0568-41E2-9EB4-21C5A356055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6" descr=""/>
            <p:cNvPicPr/>
            <p:nvPr/>
          </p:nvPicPr>
          <p:blipFill>
            <a:blip r:embed="rId4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EB14-BB44-49FC-8D7C-C4A081BFB13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FC43-33D4-4F28-B04C-9819AE5AE41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5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A268-2B0D-4736-88DE-2A5FF646041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198-2208-41D9-971A-EB8DE9852C8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6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3C0F-AA74-40DF-8C4D-4EF1F8AC802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EF20-B295-4836-8057-B2250CFA8411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3" name="TextBox 16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26244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9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4"/>
          <p:cNvSpPr/>
          <p:nvPr/>
        </p:nvSpPr>
        <p:spPr>
          <a:xfrm>
            <a:off x="18684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5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FA5C-2C54-46C6-B310-FAEB387576F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1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38F-649D-4B9B-8EC3-AF670DEF056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468360" y="1557360"/>
            <a:ext cx="835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и управление на проек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2"/>
          <p:cNvSpPr/>
          <p:nvPr/>
        </p:nvSpPr>
        <p:spPr>
          <a:xfrm>
            <a:off x="468360" y="242100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перация 1.5: „Системи за устойчив градски транспор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за безвъзмездна финансова помо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161PO001/1.5-03/20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крепа за интегриран градски транспорт в петте големи град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СЪХРАНЯВА НА БЕЗОПАСНО И ДОСТЪПНО МЯС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-МАЛКО ОТ 3 ГОДИНИ СЛЕД ПРИКЛЮЧВАНЕ НА ОПЕРАТИВНАТА ПРОГРА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ОСИГУРЯВА ДОСТЪП ДО ПРОЕКТНОТО ДОСИЕ ЗА ОДИТИРАЩИ ОРГА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ДЕКЛАРИРА СЪГЛАСИЕ КОМПЕТЕНТНИЯТ ОРГАН ПО ПРИХОДИТЕ ПО МЕСТОРЕГИСТРАЦИЯ ДА ПРЕДОСТАВЯ ИНФОРМАЦИЯ НА ДОГОВАРЯЩИЯ ОР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8"/>
          <p:cNvSpPr/>
          <p:nvPr/>
        </p:nvSpPr>
        <p:spPr>
          <a:xfrm>
            <a:off x="250920" y="2637000"/>
            <a:ext cx="84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ЪЛЖЕНИЕ НА БЕНЕФИЦИЕНТИТЕ ПО ОТНОШЕНИЕ НА ПРОЕКТНОТО ДОС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ДДЪРЖА АКТУАЛЕН РЕГИСТЪР НА ДОКУМЕТООБОРО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ДВИЖЕНИЕТО НА ДОКУМЕН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УПРАВЛЯВА ПРОЕКТНОТО ДОСИЕ И СЛЕД ПРИКЛЮЧВАНЕ НА ПРОЕКТНИТЕ ДЕЙ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ПОСТИГНЕ СЪВМЕСТИМОСТ МЕЖДУ СИСТЕМАТА ЗА ДОКУМЕТООБОРОТ НА БЕНЕФИЦИЕНТА И ИЗИСКВАНИЯТА НА ОП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ГАРАНТИРА ПРИЕМСТВЕНОСТ И ИНСТИТУЦИОНАЛНА ПАМ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ЕТОВОДНИТЕ ДОКУММЕТИ ПО ПРОЕКТА ПРИ ВЪЗМОЖНОСТ ДА СЕ СЪХРАНЯВАТ ОТДЕ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АРХИВИРАНЕ И СЪХРАНЕНИЕ НА ПРОЕКТНАТА ДОКУМЕНТА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ОМ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ИЗИСКВАЩИ ОДОБРЕНИЕ ОТ СТРАНА НА У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(СКЛЮЧВАНЕ НА ДОПЪЛНИТЕЛНО СПОРАЗУМЕНИЕ/ИЗДАВАНЕ НА ЗАПОВЕД ЗА ИЗМЕН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, КЛАСИФИЦИРАНИ КАТО УВЕДОМ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БАНКОВАТА СМЕТКА ИЛИ ПОДСМЕТКА, ПОСОЧЕНА В ИСКАНЕТО ЗА АВАНСОВО ПЛАЩА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ПОЩЕНСКИ АДРЕС, ТЕЛЕФОНИ, ЕЛЕКТРОНЕН АДРЕС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НАИМЕНОВАНИЕТО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ЗАКОННИЯ ПРЕДСТАВИТЕЛ НА БЕНЕФИЦИЕНТА/ПАРТНЬО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/ ПРОМЯНА НА ЧЛЕНОВЕТЕ НА ЕКИПА ПО ПРОЕКТА (ПРИ ПРОЕКТИ, РАЗЛИЧНИ ОТ ИНФРАСТРУКТУРН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8"/>
          <p:cNvSpPr/>
          <p:nvPr/>
        </p:nvSpPr>
        <p:spPr>
          <a:xfrm>
            <a:off x="250920" y="2637000"/>
            <a:ext cx="849780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ИТЕЛНО РАЗМЕСТВАНЕ В ГРАФИКА ЗА ИЗПЪЛНЕНИЕ НА ПРОЕКТА, КОЕТО НЕ ВОДИ ДО ОТПАДАНЕ НА ЧАСТ ОТ ПРОЕКТНИТЕ ДЕЙ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РЕГИСТРИРАНИЯ ОДИТОР ИЛИ НА ФИРМАТА ЗА ОДИТ, КОИТО СЛЕДВА ДА ОСЪЩЕСТВЯТ НЕЗАВИСИМИЯ ОДИ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, ОДОБРЕН НА ЕТАП ОЦЕНКА НА ПРОЕКТНОТО ПРЕДЛО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НЕ И СМЯНА НА ЧЛЕНОВЕ ОТ ЕКИПА ПО ИЗПЪЛНЕНИЕТО НА ПРОЕКТА (САМО ЗА ИНФРАСТРУКТУРНИ ПРОЕКТИ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"/>
          <p:cNvSpPr/>
          <p:nvPr/>
        </p:nvSpPr>
        <p:spPr>
          <a:xfrm>
            <a:off x="250920" y="2637000"/>
            <a:ext cx="84978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ПРЕДИ ПРОВЕЖДАНЕ НА ПРОЦЕДУРИ ЗА ИЗБОР НА ИЗПЪЛНИТЕЛ ПРЕДИ СКЛЮЧВАНЕ НА ДОГОВОР С ИЗПЪЛНИТЕЛ НА СМР – САМО В РЕЗУЛТАТ НА РАЗРАБОТВАНЕ/АКТУАЛИЗАЦИЯ НА ТЕХНИЧЕСКИ ИЛИ РАБОТ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КСС СЛЕД СКЛЮЧВАНЕ НА ДОГОВОР С ИЗПЪЛНИТЕЛ НА СМР ЧРЕЗ ЗАМЕНИТЕЛНА ТАБЛИЦА ПРИ УСТАНОВЕНИ ПО ВРЕМЕ НА СТРОИТЕЛСТВОТО РАЗЛИКИ В ПРЕДВИДЕНИТЕ КОЛИЧЕСТВА НА ОТДЕЛНИТЕ ВИДОВЕ СМР ВСЛЕДСТВИЕ НАПРАВЕНИ ТОЧНИ ИЗМЕРВАНИЯ НА МЯСТОТО НА ИЗПЪЛНЕНИЕ – ПРОМЯНАТА СЕ ОДОБРЯВА ПРИ ВЕРИФИЦИРАНЕ НА ИСКАНЕ ЗА ПЛАЩА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8"/>
          <p:cNvSpPr/>
          <p:nvPr/>
        </p:nvSpPr>
        <p:spPr>
          <a:xfrm>
            <a:off x="250920" y="2637000"/>
            <a:ext cx="84978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ОДОБ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АЗПРЕДЕЛЕНИЕ НА СРЕДСТВАТА МЕЖДУ БЮДЖЕТНИ ПЕРА В РАМКИТЕ НА ЕДИН БЮДЖЕТЕН РАЗДЕЛ. ТАКОВА ПРЕРАЗПРЕДЕЛЕНИЕ Е ДОПУСТИМО ЕДИНСТВЕНО ПРИ ПРЕРАЗПРЕДЕЛЕНИЕ МЕЖДУ ОБЕКТИТЕ НА ИНТЕРВЕНЦИЯ НА: СРЕДСТВА/РАЗХОДИ ЗА СМР, СРЕДСТВА/РАЗХОДИ ЗА СТРОИТЕЛЕН НАДЗОР, СРЕДСТВА/РАЗХОДИ ЗА АВТОРСКИ НАДЗОР СЛЕД  ИЗВЪРШВАНЕ НА ПРОЦЕДУРИТЕ ЗА ВЪЗЛАГАНЕ НА ОБЩЕСТВЕНИ ПОРЪЧКИ ПО СЪОТВЕТНИТЕ БЮДЖЕТНИ ПЕРА И ПРИ УСЛОВИЕ, ЧЕ НЕ СЕ ПРОМЕНЯ ОБЩИЯТ РАЗМЕР НА БЕЗВЪЗМЕЗДНАТА ФИНАНСОВА ПОМОЩ ЗА СМР, СЪОТВЕТНО ЗА СТРОИТЕЛЕН НАДЗОР ИЛИ ЗА АВТОРСКИ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250920" y="2637000"/>
            <a:ext cx="849780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МЕНИ НА ДБФП С АНЕКС ЗА ИЗМЕ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НА СРОКА ЗА ИЗПЪЛНЕНИЕ НА ДОГОВОРА/ЗАПОВЕДТА ЗА БЕЗВЪЗМЕЗДНА ФИНАНСОВА ПОМОЩ (ЕДНОКРАТНО УВЕЛИЧАВАНЕ ДО МАКСИМАЛНО ДОПУСТИМАТА ПРОДЪЛЖИТЕЛНОСТ НА ПРОЕКТ СЪГЛАСНО НАСОКИТЕ ЗА КАНДИДАТСТВАНЕ ПО СЪОТВЕТНАТА СХЕМА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ПРАВНИЯ СТАТУТ НА БЕНЕФИЦИЕНТ/ ПАРТНЬ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ЯНА В ДОГОВОРЕНИТЕ ДЕЙНОСТИ ПО ПРОЕКТА, КОЯТО ВОДИ ДО ВЪВЕЖДАНЕ НА НОВИ ДЕЙНОСТИ/НОВИ БЮДЖЕТНИ ПЕРА/НОВИ ВИДОВЕ И/ИЛИ КОЛИЧЕСТВА СМР/НОВИ ВИДОВЕ И/ИЛИ КОЛИЧЕСТВА В ТС. ОСВЕН В СЛУЧАИТЕ НА НЕПРЕОДОЛИМА СИЛА, ВЪВЕЖДАНЕТО НА НОВИ ДЕЙНОСТИ/НОВИ БЮДЖЕТНИ ПЕРА/НОВИ ВИДОВЕ И/ИЛИ КОЛИЧЕСТВА Е НЕДОПУСТИМО ЗА ФИНАНСИРАНЕ ОТ БЕЗВЪЗМЕЗДНА ФИНАНСОВА ПОМОЩ И СЛЕДВА ДА СЕ ОТРАЗИ КАТО СОБСТВЕН ПРИНОС НА БЕНЕФИЦИЕНТА ПО БЮДЖЕТА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СА РЕЗУЛТАТ ОТ  НЕДОБРОТО ИЗПЪЛНЕНИЕ НА ДОГОВОР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ВИТО И ДА БИЛО ПРОМЕНИ, КОИТО СЪЩЕСТВЕНО ПРОМЕНЯТ ХАРАКТЕРА НА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ЯНА НА РЪКОВОДИТЕЛЯ НА ПРОЕКТА С ДРУГ, КОЙТО НЕ ОТГОВАРЯ НА ИЗИСКВАНИЯТА НА УПРАВЛЯВАЩИЯ ОРГАН ЗА РЪКОВОДИТЕЛ НА ИНФРАСТРУКТУРЕН ПРОЕКТ; СМЯНА НА ЧЛЕН НА ЕКИПА С ДРУГ, КОЙТО НЕ ОТГОВАРЯ НА ИЗИСКВАНИЯТА НА УПРАВЛЯВАЩИЯ ОРГАН ЗА ЧЛЕН НА ЕКИПА НА ИНФРАСТРУКТУРЕН ПРОЕК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О ИЛИ ЗАКЪСНЯЛО ПИСМЕНО УВЕДОМЛЕНИЕ ЗА ИЗВЪРШВАНЕТО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ВАЩА ИЛИ НЕУБЕДИТЕЛНА АРГУМЕНТАЦИЯ ЗА ИЗВЪРШВАНЕ НА ПРОМЯН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ТА ОТ ИЗВЪРШВАНЕ НА ПРОМЯНАТА Е НЕДОСТАТЪЧНА ИЛИ НЕУБЕДИТЕ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8"/>
          <p:cNvSpPr/>
          <p:nvPr/>
        </p:nvSpPr>
        <p:spPr>
          <a:xfrm>
            <a:off x="250920" y="263700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ОДУЛ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ЛАНИРАНЕ И АДМИНИСТРИРАНЕ НА ПРОЕКТНИТЕ ДЕЙ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8"/>
          <p:cNvSpPr/>
          <p:nvPr/>
        </p:nvSpPr>
        <p:spPr>
          <a:xfrm>
            <a:off x="250920" y="2637000"/>
            <a:ext cx="849780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ПУСТИМИ ПРОМЕНИ НА ДБФ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ТАТ НА ПРОМЯНАТА Е ЗАСТРАШЕНО ПОСТИГАНЕТО НА ПЛАНИРАНИТЕ РЕЗУЛТАТИ ИЛИ УСПЕШНОТО ИЗПЪЛНЕНИЕ НА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КОИТО ПОСТАВЯТ ПОД СЪМНЕНИЕ РЕШЕНИЕТО ЗА ОТПУСКАНЕ НА БЕЗВЪЗМЕЗДНАТА ПОМО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 В РАЗХОДИ ЗА „ОРГАНИЗАЦИЯ И УПРАВЛЕНИЕ”, ВОДЕЩИ ДО УВЕЛИЧАВАНЕ В РАЗМЕРА НА ОПРЕДЕЛЕНИТЕ В ДОГОВОРА ВЪЗНАГРАЖДЕНИЯ ЗА ПОЛОЖЕН ТРУД, БРОЙ ЕДИНИЦИ И ЕДИНИЧНА МЯРКА, КАКТО И ПРЕРАЗПРЕДЕЛЕНИЕ НА ВЪЗНАГРАЖДЕНИЯ МЕЖДУ ЧЛЕНОВЕТЕ НА ЕКИПА ПО ПРОЕК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, ВОДЕЩИ ДО УВЕЛИЧАВАНЕ НА РАЗМЕРА НА ОТПУСНАТАТА БЕЗВЪЗМЕЗДНАТА ФИНАНСОВА ПОМОЩ ПО ПРОЕКТА, С ИЗКЛЮЧЕНИЕ НА ПРОЕКТИ ПО ПРОЦЕДУРИ ЗА ДИРЕКТНО ПРЕДОСТАВЯНЕ НА БЕЗВЪЗМЕЗДНА ФИНАНСОВА ПОМОЩ С ЕДИН ЕДИНСТВЕН КОНКРЕТЕН БЕНЕФИЦИЕН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ПРАВЛЕНИЕ НА ДОГОВОРА ЗА БЕЗВЪЗМЕЗДНА ФИНАНСОВА ПОМОЩ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9"/>
          <p:cNvSpPr/>
          <p:nvPr/>
        </p:nvSpPr>
        <p:spPr>
          <a:xfrm flipV="1">
            <a:off x="250920" y="1773000"/>
            <a:ext cx="0" cy="388764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ДБФП – ТОЙ Е НАЙ-ДОБРОТО СРЕДСТВО ЗА КОМУНИКАЦИЯ С У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ТИРАЙТЕ Р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ЪРЖАЙТЕ РЕГУЛЯРНА КОМУНИКАЦИЯ СЪС ЗВЕНОТО ПО ИНТЕГРИРАН ГРАДСКИ ТРАНСПОРТ В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ЕТЕ РЕДОВНО СТРАНИЦАТА НА УО НА ОПР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МУНИКАЦИЯ С УО НА ОПР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АЛЕНДАР НА БЕНЕФИЦИЕН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http://t2.gstatic.com/images?q=tbn:ANd9GcTSX32tzlNn952M811zcrWSAf3t4uyg2A2q7DpR6Ageoq_ZoPW1"/>
          <p:cNvPicPr/>
          <p:nvPr/>
        </p:nvPicPr>
        <p:blipFill>
          <a:blip r:embed="rId1"/>
          <a:stretch/>
        </p:blipFill>
        <p:spPr>
          <a:xfrm>
            <a:off x="5076720" y="184464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539640" y="2133720"/>
            <a:ext cx="777744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8"/>
          <p:cNvSpPr/>
          <p:nvPr/>
        </p:nvSpPr>
        <p:spPr>
          <a:xfrm>
            <a:off x="250920" y="263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ТО УПРАВЛЕНИЕ СЕ ОПРЕДЕЛЯ КАТО ПРОЦЕС НА РАЗРАБОТВАНЕ, ПЛАНИРАНЕ, МОНИТОРИНГ, РЕАЛИЗАЦИЯ  И КОНТРОЛ НА ПРОЕКТА, ТАКА, ЧЕ ДА БЪДАТ ПОСТИГНАТИ ОПРЕДЕЛЕНИ РЕЗУЛТАТИ И ЕФЕК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 НА ДОБРОТО ПРОЕКТНО УПРАВ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КЪМ РЕЗУЛ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И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ОЕКТЕН ЦИКЪЛ И ЕФЕКТИВНО УПРАВЛЕНИЕ НА ПРОЕКТИ ЗА ИНТЕГРИРАН ГРАДСКИ ТРАНСПОР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ХВАТА НА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ЦЕЛИТЕ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ВРЕМЕВИЯ ГРАФИК НА ПРОЕК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АЧЕСТВО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 УПР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КОМУНИКАЦИОННИТЕ ПРОЦ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ОБЩЕСТВЕНИТЕ ПОРЪЧКИ И ДОГОВОРИТЕ С ИЗПЪЛН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АКТИЧЕСКИ ОБЛАСТИ НА ПРОЕКТНИЯ МЕНИДЖМЪН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8"/>
          <p:cNvSpPr/>
          <p:nvPr/>
        </p:nvSpPr>
        <p:spPr>
          <a:xfrm>
            <a:off x="250920" y="2637000"/>
            <a:ext cx="84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ИСКВАНИЯ НА ОПРР ЗА ИЗБОР НА ЕКИ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С  330 ОТ 05.12.2011 Г. ЗА ДОПЪЛНЕНИЕ НА ПМС 62 ОТ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ЗАНИЯ НА УО НА 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ЕКИПИ ЗА ИЗПЪЛНЕНИЕ НА ПРОЕКТИ ЗА ИНТЕГРИРАН ГРАДСКИ ТРАНСПОР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ТРЕШЕ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НШЕ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АН ЕК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"/>
          <p:cNvSpPr/>
          <p:nvPr/>
        </p:nvSpPr>
        <p:spPr>
          <a:xfrm>
            <a:off x="250920" y="2421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Я НА ЕКИ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eft Arrow 10"/>
          <p:cNvSpPr/>
          <p:nvPr/>
        </p:nvSpPr>
        <p:spPr>
          <a:xfrm>
            <a:off x="395280" y="3645000"/>
            <a:ext cx="4105440" cy="863640"/>
          </a:xfrm>
          <a:prstGeom prst="leftArrow">
            <a:avLst>
              <a:gd name="adj1" fmla="val 50000"/>
              <a:gd name="adj2" fmla="val 50001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alibri"/>
              </a:rPr>
              <a:t>ОПЕРАТИ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ight Arrow 12"/>
          <p:cNvSpPr/>
          <p:nvPr/>
        </p:nvSpPr>
        <p:spPr>
          <a:xfrm>
            <a:off x="4500720" y="3645000"/>
            <a:ext cx="4248000" cy="863640"/>
          </a:xfrm>
          <a:prstGeom prst="rightArrow">
            <a:avLst>
              <a:gd name="adj1" fmla="val 50000"/>
              <a:gd name="adj2" fmla="val 50007"/>
            </a:avLst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Calibri"/>
              </a:rPr>
              <a:t>СТРАТЕГИЧЕС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3"/>
          <p:cNvSpPr/>
          <p:nvPr/>
        </p:nvSpPr>
        <p:spPr>
          <a:xfrm>
            <a:off x="324000" y="321300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КИП ЗА ИЗПЪЛНЕНИЕ        РЪКОВОДИТЕЛ           ЕКИП ЗА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ЕКИП ЗА УПРАВЛЕНИЕ/ ИЗПЪЛНЕНИ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9"/>
          <p:cNvSpPr/>
          <p:nvPr/>
        </p:nvSpPr>
        <p:spPr>
          <a:xfrm flipV="1">
            <a:off x="250920" y="1773360"/>
            <a:ext cx="0" cy="374328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395280" y="2209680"/>
          <a:ext cx="8497800" cy="3368880"/>
        </p:xfrm>
        <a:graphic>
          <a:graphicData uri="http://schemas.openxmlformats.org/drawingml/2006/table">
            <a:tbl>
              <a:tblPr/>
              <a:tblGrid>
                <a:gridCol w="4248000"/>
                <a:gridCol w="4249800"/>
              </a:tblGrid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на проектния ръководите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и на Ръководителя на проект „Интегриран градски транспорт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проектните дей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интегрите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крепа и супервизия при осъществяване дейността на отделните експерти от екипа по изпълнение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граждане на обща платформа и обединяване на конкретните цели в обща проектна це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та на действията на всички заинтересовани стра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ценностите и взаимодействия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глед и съгласуване на проектната докумен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качеството на продукта/ резулта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ване и въвеждане на система за вътрешен мониторинг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и управление на дългосрочните цели. Краткосрочните цели са ангажимент на самоуправляващите се екип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ане и управление на финансовите и времевите ресурс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критичните точки и ресурса в бъдеще врем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на процеса на отчетност по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институционалната памет, гарантиране на интегритет с общата виз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на човешкия ресурс и осигуряване на капацитет за изпълнение на проек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илитац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8"/>
          <p:cNvSpPr/>
          <p:nvPr/>
        </p:nvSpPr>
        <p:spPr>
          <a:xfrm>
            <a:off x="250920" y="249228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ДОВЕ РЕСУР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ОВЕ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ЕКТУ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728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НА РЕСУРСИТЕ, КОЕТО ДА ГАРАНТИРА ЕФЕКТИВНА ИНВЕСТИЦИЯ С МИСЪЛ ЗА НЕЙНОТО БЪДЕЩО 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250920" y="1773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УПРАВЛЕНИЕ НА РЕСУРСИ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4"/>
          <p:cNvSpPr/>
          <p:nvPr/>
        </p:nvSpPr>
        <p:spPr>
          <a:xfrm>
            <a:off x="179280" y="1341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И АДМИНИСТРИРАНЕ НА ПРОЕКТНИТЕ ДЕ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6"/>
          <p:cNvSpPr/>
          <p:nvPr/>
        </p:nvSpPr>
        <p:spPr>
          <a:xfrm>
            <a:off x="250920" y="1773360"/>
            <a:ext cx="8353440" cy="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8"/>
          <p:cNvSpPr/>
          <p:nvPr/>
        </p:nvSpPr>
        <p:spPr>
          <a:xfrm>
            <a:off x="250920" y="263700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А ЗА ВЪТРЕШНО ОТЧИТАНЕ И МОНИТОРИНГ Е ПРЯКА ФУНКЦИЯ ОТ ИНСТИТУЦИОНАЛНАТА ОРГАНИЗАЦИЯ НА ПРОЕКТА И ВКЛЮЧ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БИРАНЕ И АНАЛИЗ НА ИНФОРМАЦИЯ ЗА НАПРЕДЪКА ПО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НА ОТЧЕТИ В СУБОРДИНАЦИОНЕН ПОРЯДЪ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ПОСТИГАНЕ НА ПРОЕКТНИТЕ ИНДИКАТОР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 ВЪРХУ КАЧЕСТВО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 НА ВЗИМАНЕ НА РЕ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5"/>
          <p:cNvSpPr/>
          <p:nvPr/>
        </p:nvSpPr>
        <p:spPr>
          <a:xfrm>
            <a:off x="250920" y="1773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 ЗА ВЪТРЕШНО ОТЧИТАНЕ И МОНИТОРИНГ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9"/>
          <p:cNvSpPr/>
          <p:nvPr/>
        </p:nvSpPr>
        <p:spPr>
          <a:xfrm flipV="1">
            <a:off x="250920" y="1773000"/>
            <a:ext cx="0" cy="3816360"/>
          </a:xfrm>
          <a:prstGeom prst="line">
            <a:avLst/>
          </a:prstGeom>
          <a:ln w="3492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2:38:17Z</dcterms:modified>
  <cp:revision>339</cp:revision>
  <dc:subject/>
  <dc:title>Слайд 1</dc:title>
</cp:coreProperties>
</file>