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74911-8215-4D78-98DD-03E30EF9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D8C7F-2633-433A-8A00-9197DDCC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45241-5BB3-476C-B42A-B3048C12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E4097-0FB6-4321-A43E-892D8567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A7724-29B8-407B-B399-80C9C32D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17353-4B3F-4793-9754-7FAE16DD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29755-712F-430B-AEB1-BA4C0150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655D6-ED89-4359-B631-5C9DDC72B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40386-6B25-4C5B-B239-FD7BDA70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E520F-367D-4B07-8145-F718A4B6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58198-04DA-4B62-A6D1-05781896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CB4E2-CBB9-4E07-8F62-E9560809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ECC4D-99EF-4BD9-AE27-80596A41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151E9-4E5E-4D70-9E98-2048AC3E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79AF6-5A8C-4DCE-ACAF-5516C965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CA924-1DB1-4759-8B56-59D957FC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03B74-50B0-41A7-B746-22C033C6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830C7-2232-4B4C-9AA0-B45D7567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D3292-6999-4F7F-8CAB-E12B7600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155DF-BEE7-4389-8F23-A3356766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37D75-32C9-4CED-96A2-7B3AC098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600553-8591-40C8-8F34-020922CF9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D4819-562E-472A-B70F-6FCDE175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E880D-392B-4508-B107-243D7140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B9017-718B-4CCF-B401-659F5460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DBC08A-A2A8-4A11-8854-DCCE54E6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9F9D4-33E2-4021-8B69-BFBF764A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8CEB3-4C4F-4B34-B073-E22269C9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F7EB12-C185-4679-BB32-54E213E2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F68EA-1B68-4A83-BF68-DFC6D2CD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F17B-1392-4388-9D00-C94777E5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A366C-954A-4892-A667-32C18198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B23840-F508-4BAE-BBC8-FA8DE2A34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2D9B3-6AFC-4B7B-B143-09CF3327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23ABB-A6F5-43A6-AB69-78495130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3DF81-CE62-471C-9535-05505F86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75F7A-D651-41DF-BD11-9F11062A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8D1A3-BB3D-4F67-A214-36767A4E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95B0D-8BC8-415D-AEAF-4EA5152E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DD514-AA1D-464D-BE2E-3B2A3565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3C443-C7DD-4802-B8F6-8E630D8E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FBC7-E612-4980-9A4B-5CDE9A4D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A2466-DC25-4C47-992E-571FB01F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58B40-A285-4B1E-B479-D31FD32D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2DBA2-6B3E-4DEC-BA34-B94B312E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C526A-A68B-4B45-99A7-5AE758BF4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AD761-4823-453D-8B0A-66F7D420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DCAB-2964-4C18-A4E8-500A8FE3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F3D0-F959-4441-9D9D-0A0C19BA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42E9-0FCE-4A81-89A4-82E80B74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2AAE-5279-4E6F-A438-730161D2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610B-AAF4-46E3-8B90-9A328543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FE6D-3411-4FE7-887E-32AAF248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F9D2-ACF1-41A7-BA2D-FA33722B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0F1E-EE00-465F-9E11-0CF70EEF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0D77-BB39-4F50-B69F-6FCC337D4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B34C-2508-4B34-83DB-40752568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0202-0E86-4BFF-B855-3B310391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5E7B-9B5A-4C70-9D2B-EF9F228C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EF19-BCA1-4254-A97F-BB3AF403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EF73-593F-4FF8-B7CA-A8B8DFEF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98B6-FE05-4CCE-B1A2-B870A0F8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B337-E7F7-4984-9385-D2B729B7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C423-9259-497B-AA3D-F3CCE39E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E27C-BF0B-4334-996F-939B82C9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DEDB-F0E9-40CD-8839-B4566C5B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58C9-F9C2-40B8-93E7-F4571D4A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53AD-976D-4B75-92F3-6B70AD0B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4A01-475D-4689-B5F2-7AD3B49F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AEA0B-6391-4D38-A798-E5FE9BD3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02848-1E47-4B0E-8F5D-17BE5BB1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11CA0-1EFC-4E93-AAA1-5B52BDB2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418CC-D003-4D6F-99D0-617E384B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5CD7F-BAEF-48E4-9F30-4DEE129C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5890E-8B12-43A9-9FD1-FA435885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1BA56-58F9-46D1-8741-CA4D883D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7652E-7E16-4478-9783-90C283BE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03A12-1962-44B8-AC98-6A9EAB8B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4FC75-E199-476F-96F7-8E3A4985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AC180-9424-4B64-9134-B9804D062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355D8-3FBD-4938-AFA2-A4E99504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6FA2E-B9C5-47EE-8159-1BDA6B704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B02EF-AA08-4B47-8ED8-75600AA9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875DF-E09B-4530-862C-8312A383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3C527-9C4B-4E81-B4D6-F50E0EA2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88ACD-3FF1-43D4-900E-E485842A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F02FB-F3D3-4AF7-AC09-979DB274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C5E98-E0DD-4B87-993F-004F54F0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81F7E-B075-4CF7-8D96-DD031FB3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0CD02-792C-43EF-AF51-13D8940C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51E0D-1168-4932-90F5-3F35B1CB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DFC63-7AE2-4518-9CFF-0FA8BB84F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206E5-0BD4-4114-8B8A-77A4CFF60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D002F-2AC9-46D7-8A06-60B801F9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81B41-6841-4762-8B37-1073A3BD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957A0-3C9A-4D4F-881A-0E2FD27B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4D033-8F08-43D1-BB91-D424D81A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AE07F-3C91-4BD4-B628-098A34EF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1BC55-FC7F-4ACF-9D61-44CD809C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D600A-91A8-4F66-94D3-5EDBD3DF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D7B25-B1EB-4304-ADCF-A4A46C96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A6FE1-A92A-4876-ACA0-867C1982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48B27-0BFF-40D4-B6EC-62D996C9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C204A-F2E4-4F42-9E81-2F50FB266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3CC25-EA65-4F86-B823-D1D4B97D6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714FE-E356-455C-87A6-7E773DD7C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E841A-4E6D-4AB7-AF8F-9BE2AC2C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CEDAE-D8D7-4A9A-9CBD-608331E9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56CC8-23A5-4D19-AB96-A375617E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21A98-91D3-4882-8D84-F8D162A0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E1259-756A-4E29-8FFA-A3B0CDEC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E31D5-CD01-43C3-93D8-D54A93CC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CE059-2911-4BAF-AA1C-7927073E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EB641-B403-410B-93E0-BC734522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721C9-F99A-490B-BA5E-261DEDE9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3B88F-1D0A-4D37-8560-59885BE7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C62D1-D8ED-498F-8979-473196AB0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46B1C-1A8B-42DC-841F-A36EFE5C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FA784-BEAE-4023-9A60-23E7DD79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A0481-3990-489A-9300-9A562662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BACCA-A04A-402D-9A12-0154BDF4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A8683-8643-40A1-8AB1-E0782488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A7CA7-0C8C-41A2-A2F5-ACF540DC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0FE72-F11B-48A7-8E8B-D4677500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6D726-0D8E-4058-93C8-75CC91D5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84E8F-8208-4A08-9D5B-CFC72DA1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EFB9F-1F65-4F16-9F0B-E230A2A3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7F36E-AD02-42AE-811B-C2AFDEB4C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FBB0E-DCD4-4D9A-8DA0-07D8698B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B9149-7091-4058-BD81-4B0AA6131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725FB-9E73-40D6-8CE8-BFDA818A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301A3-3AD5-4AE6-B665-BFEC376F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6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6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7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7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A65A-F0C7-4D31-A9DB-CB6FC5726AD7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2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2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3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EFD5-644B-453E-8436-445BD38AC0F3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7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7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8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846F-8070-4BCB-B870-9E47A211F32A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6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4CB6-237C-4E53-A8F6-C8BE1A698B4C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0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35EF-09ED-473E-9420-F6FD8FDDD618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6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6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102E-F516-4DB3-B7CF-1BBFD1C24211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1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1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CA14-32DF-47E4-B182-9BB67125ED41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6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7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4E47-3D0F-4FD5-89C2-E8336C3EBC4D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1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2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F97B-4E8D-49AF-9C81-22662113B7E5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6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69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7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6203-A9EB-4FEA-A04B-B4FEFDCB27D0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1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2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2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A5F5-82EA-44AF-9154-A2CEAD96BCAC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5"/>
          <p:cNvSpPr/>
          <p:nvPr/>
        </p:nvSpPr>
        <p:spPr>
          <a:xfrm>
            <a:off x="468360" y="1484280"/>
            <a:ext cx="842472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Calibri"/>
              </a:rPr>
              <a:t>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Calibri"/>
              </a:rPr>
              <a:t>за разработване и изпълнение на проекти по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bg-BG" sz="2800" spc="-1" strike="noStrike">
                <a:solidFill>
                  <a:srgbClr val="000000"/>
                </a:solidFill>
                <a:latin typeface="Calibri"/>
              </a:rPr>
              <a:t>Съвместна европейска инициатива за устойчиви инвестиции в градските райо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Calibri"/>
              </a:rPr>
              <a:t>JES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Calibri"/>
              </a:rPr>
              <a:t>за представители на 6-те гра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Calibri"/>
              </a:rPr>
              <a:t>Бургас, Варна, Русе, Стара Загора, Плевен, Пловд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200" spc="-1" strike="noStrike">
                <a:solidFill>
                  <a:srgbClr val="000000"/>
                </a:solidFill>
                <a:latin typeface="Calibri"/>
              </a:rPr>
              <a:t>14 – 15 януари 2013 г., гр. София, хотел Сити Авен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Критерии за допустимост на проекти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539640" y="1989000"/>
            <a:ext cx="8229600" cy="39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ъответствие с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зискванията за предоставяне на държавна помощ, съгласно приложимите разпоредби на българското законодателство и законодателството на  Европейския Съюз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Недопустими инвести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ъздаването на финансови инструменти, подпомагане на експортно-ориентирани дейности, инвестиции в сферата на корабостроене, въгледобив, производство на синтетични влакна, стоманодобив, риболов и земеделие, извеждане от експлоатация на ядрени електроцентрал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Лихви по дълг и ДДС, който подлежи на възстановяван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нвестиции в дейности / проекти, за които има заповед за възстановяване на средства по предоставена държавна помощ, издадена въз основа на предходни решения на ЕК, определящи тази помощ като незаконна и несъвместима с пазарните принципи на Общностт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новни параметри на финансирания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68360" y="1628640"/>
            <a:ext cx="822960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рок на кредитите: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не може да надхвърля 30.06.20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г., т.е. кредитите не могат да са по-дългосрочни от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г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Цел: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финансиране до 80% от общите проектни разходи (освен при финансиране при условията на общински дълг), в т.ч. капиталови разходи, разходи за развойна дейност, разходи за правни, проектантски и финансови услуги, строителни разходи, както и първоначални оборотни средств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огасителен план: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вноски по главницата, съобразени с прогнозните парични потоци на финансирания проект; не се допуска еднократно погасяване на главницата на падеж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Лихвени услов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финансирането от Фонда ще бъде при лихви значително по-ниски от пазарнит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ъ-финансирането от  Societe Generale Експресбанк – при пазарни лихв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Такси и комисион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върху финансирането от Фонда не се начисляват такси за оценка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82296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новни параметри на финансирания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95280" y="16282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42920" indent="-3427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правление или мониторинг на финансираните проек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427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за частта на своето съ-финансиране СЖЕБ прилага собствената си политика по отношение на таксите и комисионит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42920" indent="-34272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в зависимост о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Решението на Европейската комисия (ЕК) относно наличието на държавна помощ при финансиране 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ESSICA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оекти в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България, вероятно от инвеститорите ще се изисква да осигурят становище на Независим експерт относно Справедливата норма на възвръщаемост по проектите. Разходите по изготвянето на становището са за сметка на инвеститор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безпеч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огато проектът е обособен в отделно дружество – активи на дружеството; евентуална гаранция от страна на съответната общин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огато проектът се финансира при условията на общински дълг – активи на самия проект и/или вземания на общината по собствени приход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331640" y="1267920"/>
            <a:ext cx="65530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ндикативни етапи на процеса по разглеждане и решение за финансиране на проект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68360" y="1989000"/>
            <a:ext cx="82296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ърви етап – установяване на контакт с инвеститор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атко описание на проекта, снимки на мястото и визуализация на предложените подобре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чаквани източници на финансиране на проекта и тяхното използван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базов финансов моде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Втори етап –  предоставяне на допълнителна информац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одробни данни за проекта, вкл. времева рам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функционален финансов модел с обосновка на основни допуска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я за инвеститор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я относно ангажиментите и подкрепата на община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вкл. потвърждение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страна на кмет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 съответствието на проекта със стратегическите документи на съответната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бщи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архитектурни проекти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нализи и доклади от външни експер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арта на мобилността и др. 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и необходимост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02920" y="1267920"/>
            <a:ext cx="6481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ндикативни етапи на процеса по разглеждане и решение за финансиране на проек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57200" y="1916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Трети етап – представяне на подробен бизнес план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, съдържащ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равна форма на проекта и организационна структур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нвестиционен бюдже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азарно проучван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търсене, предлагане, цени, конкуренц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рогнозни приходи, разход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баланс и паричен поток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одробно описание на присъщите рисков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риложими предпроектни проучвания (въздействието върху околната среда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строително-инженерингово проучване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задания за външна и вътрешна архитектура, възможни решения за мобилността, въпросник за проучване на общественото мнение и др.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Четвърти етап – оценка на проекта и инвестиционно решение: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ъгласно критерии и процедури в съответствие с международните практики за управление на инвестиции и кредитна дейност, с вътрешните правила и политики на Фонда, както и с приложимите външни регулации (вкл. относно Държавната помощ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03280" y="1413000"/>
            <a:ext cx="633744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ндикативни етапи на процеса по разглеждане и решение за финансиране на проек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68360" y="2349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Всеки предложен за одобрение проект се разглежда от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нвестиционния комитет на Фонда, в който с право на глас участват представители на акционерите, а като Наблюдатели без право на глас участват представители на ЕИБ и МРРБ; Инвестиционният комитет одобрява частта от финансирането, предоставяна от Фонда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дитен съвет на СЖЕБ, който одобрява частта от финансирането, предоставяна от банка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ри одобрение на проекта се подписва тристранен договор за финансиране между инвеститора, Фонда и СЖЕ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692360" y="1197000"/>
            <a:ext cx="568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ценка на проектни предло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68360" y="1628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500" spc="-1" strike="noStrike">
                <a:solidFill>
                  <a:srgbClr val="595959"/>
                </a:solidFill>
                <a:latin typeface="Arial"/>
                <a:ea typeface="Arial"/>
              </a:rPr>
              <a:t>ВАЖНО! Проектните предложения ще бъдат разглеждани по реда на постъпването им, до изчерпване на разполагаемия финансов ресурс. Крайният срок за инвестиране на средствата на Фонда в одобрени проекти е 30 юни 2015 г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Съответствие с целите на Приоритетна ос 1 „Устойчиво и интегрирано градско развитие” на ОПРР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Постигане на количествените резултати, заложени в ОПРР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Съответствие с целите н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HFB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Фонда, както и на други стратегически документи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Част от Интегриран план / Общински план за развитие и други местни стратегии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Степен на проектна готовност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Способност за генериране на приходи: вътрешна норма на възвръщаемост (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IRR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) на капитала, коефициент за обслужване на дълга (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DSCR</a:t>
            </a: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), съотношение „дълг / собствен капитал”, съотношение „дълг / печалба преди лихви, данъци и амортизации” и др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Рентабилност -  прогнозната рентабилност на проектите, без подкрепа от страна на Фонда, следва да е по-ниска от нормално изискуемата от пазара при сходни проекти, така че при обичайните форми и условия на финансиране те не би следвало да бъдат реализиран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бщи насоки за разработване на бизнес план и финансов анализ</a:t>
            </a:r>
            <a:r>
              <a:rPr b="1" i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68000" y="1989000"/>
            <a:ext cx="828036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писание на проекта - сегашно състояние, планирани подобрения и очакваният от тях икономически и социален ефект, обща стойност на проекта, етапи и срок на изпълнени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оглед в бъдещето” – как можем да усъвършенстваме проекта на етапа на подготовката и реализацията му, като предвидим в него възможност за лесно бъдещо изграждане на необходимата инфраструктура за новите технологии в управлението и облагородяването на градската среда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art cities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, зареждане на електромобили и др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ъпътстващи документи: за собственост на земя / сграда / право на строеж, идеен / архитектурен проект, строителен бюджет, необходими разрешителни, оценка на обезпечения и др.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ДДС по проекта – възстановимо или не (дава отражение както върху размера на търсеното финансиране, така и върху размера на оперативните приходи и разходи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784872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бщи насоки за разработване на бизнес план и финансов анализ</a:t>
            </a:r>
            <a:r>
              <a:rPr b="1" i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68360" y="1699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равен субект – общинско предприятие, общинско дружество, ПЧП, частно дружество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я за управленския екип на предприятието / дружеството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я за изпълнителите / доставчиците по проекта и за условията по договорите с тях (на етапа, на който тази информация е налична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роучване на пазара, на който ще се реализира проекта – търсене, предлагане, цени, конкуренти, тенденции, вече настъпили или предстоящи събития, които биха довели до съществени промени на пазара, вкл. промяна в нормативната уредб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одробен финансов модел с обосновка на допусканията по приходната и разходната част на проект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зчерпателен подход както към потенциалните източници на приходи, така и към присъщите за проекта разходи (работна заплата, консумативи, поддръжка, охрана, реклама, данъци и такси; разграничение между фиксирани и плаващи разходи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784872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бщи насоки за разработване на бизнес план и финансов анализ</a:t>
            </a:r>
            <a:r>
              <a:rPr b="1" i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68360" y="177300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люстриране на допусканията като “количество х цена” (например “брой посетители х цена на билет”, “разход на ток х единична цена”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необходимост от първоначален оборотен капитал за стартиране на проекта – натрупване на стоково-материални запаси, условия на плащане с клиенти и доставчици (авансово / при покупка / отсрочено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ъобразяване на сезоннос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ланиране на бъдещи инвестиции за поддържане конкурентоспособността на проект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зчисляване на нетна настояща стойнос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NPV)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и вътрешна норма на възвръщаемост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RR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) по проекта и др. финансови показате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Финансови отчети и др. данни за общината (кредитен рейтинг, безработица, средна заплата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5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я за одобрените Европейски проекти на общината и осигуряването на тяхното финансиране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Box 5"/>
          <p:cNvSpPr/>
          <p:nvPr/>
        </p:nvSpPr>
        <p:spPr>
          <a:xfrm>
            <a:off x="468360" y="242100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РЕГИОНАЛЕН ФОНД ЗА ГРАДСКО РАЗВИТИЕ” 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6"/>
          <p:cNvSpPr/>
          <p:nvPr/>
        </p:nvSpPr>
        <p:spPr>
          <a:xfrm>
            <a:off x="1763640" y="3213000"/>
            <a:ext cx="57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Финансиран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о инициатив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SSICA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на проекти за градско развитие в Пловдив, Варна, Бургас, Стара Загора, Русе и Плев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68360" y="182700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697fa"/>
                </a:solidFill>
                <a:latin typeface="Arial"/>
                <a:ea typeface="Arial"/>
              </a:rPr>
              <a:t>Инвестираме</a:t>
            </a:r>
            <a:r>
              <a:rPr b="1" lang="en-US" sz="4000" spc="-1" strike="noStrike">
                <a:solidFill>
                  <a:srgbClr val="0697fa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0697fa"/>
                </a:solidFill>
                <a:latin typeface="Arial"/>
                <a:ea typeface="Arial"/>
              </a:rPr>
              <a:t>във</a:t>
            </a:r>
            <a:r>
              <a:rPr b="1" lang="en-US" sz="4000" spc="-1" strike="noStrike">
                <a:solidFill>
                  <a:srgbClr val="0697fa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0697fa"/>
                </a:solidFill>
                <a:latin typeface="Arial"/>
                <a:ea typeface="Arial"/>
              </a:rPr>
              <a:t>вашето</a:t>
            </a:r>
            <a:r>
              <a:rPr b="1" lang="en-US" sz="4000" spc="-1" strike="noStrike">
                <a:solidFill>
                  <a:srgbClr val="0697fa"/>
                </a:solidFill>
                <a:latin typeface="Arial"/>
                <a:ea typeface="Arial"/>
              </a:rPr>
              <a:t> </a:t>
            </a:r>
            <a:r>
              <a:rPr b="1" lang="bg-BG" sz="4000" spc="-1" strike="noStrike">
                <a:solidFill>
                  <a:srgbClr val="0697fa"/>
                </a:solidFill>
                <a:latin typeface="Arial"/>
                <a:ea typeface="Arial"/>
              </a:rPr>
              <a:t>бъдещ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95280" y="3429000"/>
            <a:ext cx="822960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algn="ctr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300" spc="-1" strike="noStrike">
                <a:solidFill>
                  <a:srgbClr val="000000"/>
                </a:solidFill>
                <a:latin typeface="Arial"/>
                <a:ea typeface="Arial"/>
              </a:rPr>
              <a:t>Този документ е създаден в рамките на инициатива JESSICA, която се осъществява с финансовата подкрепа на Оперативна програма Регионално развитие 2007-2013 г., съфинансирана от Европейския съюз чрез Европейския фонд за регионално развитие. Цялата отговорност за съдържанието на публикацията се носи от “Регионален фонд за градско развитие” АД и при никакви обстоятелства не може да се счита, че този документ отразява официалното становище на Европейския съюз и Договарящия орган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 Box 36"/>
          <p:cNvSpPr/>
          <p:nvPr/>
        </p:nvSpPr>
        <p:spPr>
          <a:xfrm>
            <a:off x="2195640" y="4941720"/>
            <a:ext cx="5016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www.jessicafund.bg</a:t>
            </a:r>
            <a:r>
              <a:rPr b="1" lang="bg-BG" sz="20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www.sgeb.b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979640" y="1412640"/>
            <a:ext cx="5184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  <a:ea typeface="Arial"/>
              </a:rPr>
              <a:t>Съдърж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68360" y="191628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нституции, участващи в проце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Цел. Субек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риоритетни сфер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Критерии за допустимост на проекти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новни параметри на финансирания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ндикативни етапи на процеса по разглеждане и решение за финансиране на проек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ценка на проектни предло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бщи насоки за разработване на бизнес план и финансов анализ</a:t>
            </a:r>
            <a:r>
              <a:rPr b="1" i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нституции, участващи в проце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68360" y="1989000"/>
            <a:ext cx="83628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Министерство на регионалното развитие и благоустройството (МРРБ)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- Управляващ орган на Оперативна програма „Регионално развитие” (ОПРР);  финансовият ресурс на JESSICA идва от Европейския фонд за регионално развитие в рамките на Приоритетна ос 1 „Устойчиво и интегрирано градско развитие” на ОПРР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Европейска инвестиционна банка (ЕИБ)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– водеща роля при разработването на инициативат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ESSICA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и последващото й практическо осъществяване; управител на Холдингов фонд JESSICA за България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FJB)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ен  фонд за градско развитие” АД  (Фонда)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– организира и администрира процеса по набиране и оценка на проектни предложения; основните рамки на дейността на Фонда са зададени в подписаното на 28.12.2011 г. Оперативно споразумение с ЕИБ; Фондът осигурява 1/3 от финансирането по всеки одобрен проект, като разполага с ресурс в размер на 36.9 млн.лв.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468360" y="234936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Societe Generale Експресбанк АД (СЖЕБ)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– мажоритарен акционер във Фонд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игурява останалите 2/3 от финансирането по одобрените проек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допълва предоставения на Фонда ресурс с още 73.8 млн.лв., с което общият разполагаем ресурс за финансиране 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ESSICA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проекти за шестте града възлиза на приблизително 111 млн.  лв.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одпомага оперативната дейност на Фонда чрез своите структури, включително чрез изготвяне на становища за управление на риска по проектите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не се изисква  провеждане на процедура по  ЗОП за съ-финансирането, предоставяно от страна на СЖЕБ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1476360" y="177336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Институции, участващи в проц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476360" y="1412640"/>
            <a:ext cx="6191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Цел. Субек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68360" y="206064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та цел на Фонда е да подпомогне устойчивото и балансирано развитие на 6-те града за повишаване качеството на живот и благополучието на техните жители чрез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одкрепа на местните власти в идентифицирането на устойчиви решения за решаване на градски въпроси и задоволяване на социални потребно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новативност в развиването на публични, публично-частни и изцяло частни проекти, които генерират приход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Да действа в подкрепа на интегрираното градско развити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Да действа по социално отговорен начин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Намаляване на негативното влияние върху околната среда и подобряване интеграцията на градовете с природат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2"/>
          <p:cNvSpPr/>
          <p:nvPr/>
        </p:nvSpPr>
        <p:spPr>
          <a:xfrm>
            <a:off x="324000" y="1792800"/>
            <a:ext cx="8496000" cy="36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■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ъзстановяване или създаване на социална инфраструктура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зователни институ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Лечебни, профилактични и здравни завед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нституции, предоставящи социални услуг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ста за култура и развле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ртна инфраструкту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■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нженерна инфраструктур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 превенция на риск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ъзстановяване или създаване на зони за обществен отди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и, водещи до подобряване на физическата сре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и, свързани с предоставянето на комунални услуги и изграждане на инфраструктура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о инвестициите в сметопочистване, водоснабдяване и канализация и/или енергия трябва да са част от интегриран градски проек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зграждане на нови 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хабилитация на съществуващи физически и морално остарели индустриални, бизнес, търговски и други градски зони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1403280" y="134136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иоритетни сф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9640" y="170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риоритетни сфер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68360" y="2420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■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обряване на градската мобилност и транспорт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истеми за управление на автомобилния трафик и изграждане на паркинг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работване и подобряване на системи за управление на транспорт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Услуги, превозни средства или инфраструктура, водещи до намаляване на вредните емис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■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Устойчива енергия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като част от интегрирани градски проек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рки за подобряване на енергийния мениджмънт и енергийната ефективнос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сърчаване използването на възобновяеми енергийни източници (ВЕИ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30360"/>
                <a:tab algn="l" pos="67788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Критерии за допустимост на проектите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57200" y="1988640"/>
            <a:ext cx="82296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ъответствие с целите и обхвата н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опустимите дейности п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риоритетна ос 1 „Устойчиво и интегрирано градско развитие” на ОПРР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ъответствие с приоритетите и стратегическите планове за развитие на съответната община, както и с устройствените й планове, а в последствие след тяхното изготвяне и с Интегрираните планове за устойчиво градско възстановяване и развити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змерим социален ефект и широка обществена подкреп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Потенциал за реализиране на приходи и цялостна жизнеспособнос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Мотивиран и компетентен лидер на проект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Не могат да бъдат рефинансирани проекти, които вече са изпълнени / завършени; проекти, чието осъществяване е започнало преди представянето им пред Фонда, могат да бъдат финансирани при спазване на определени услов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4:32:57Z</dcterms:created>
  <dc:creator>maria.mihovska</dc:creator>
  <dc:description/>
  <dc:language>en-US</dc:language>
  <cp:lastModifiedBy>User</cp:lastModifiedBy>
  <dcterms:modified xsi:type="dcterms:W3CDTF">2013-01-02T15:52:41Z</dcterms:modified>
  <cp:revision>225</cp:revision>
  <dc:subject/>
  <dc:title>Слайд 1</dc:title>
</cp:coreProperties>
</file>