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8EAC2-BF15-4DC9-812E-324A2BCF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0815A-42CE-4A14-BA08-E0D1648B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BE263-001E-4E62-B382-786EE798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104EA-0D3E-43DA-B68D-0B900E1D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F4298-23C0-475C-954E-06E8F8A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902C3-CF86-4E02-8C69-F929E328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5C5AF-78DE-489F-A537-8A2D5546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5771B-5D7E-4868-84CA-94008CBE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F0453-FDC0-4F3B-BC74-77626EA0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84201-A589-4155-B800-6AD771A5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DB80C-1572-4E56-B45D-035DB7BA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E9FE4-7783-4260-AE44-A8ECA00B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0826D-460F-417E-BC18-26D992E4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6DF7B-AF94-4006-8E00-100A87F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5EDA7-5337-45A9-92D1-C149E01A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8969C-76AA-40A9-B601-1A01C91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51B61-653A-4CBD-BABA-4412D1DD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A0C72-82EB-498B-AF68-60899E4C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A39F9-E9BF-45AE-B6E8-0D8F655D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9D62C-03BF-443C-BC56-A6264A11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BFDDA-7B2F-46EF-973C-A299A3A3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EEDFF-B4DD-42DB-B417-4C5CC6B4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4E243-0497-43CD-89A5-6DCAB72D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F2FD6-99D2-449B-BA50-C8E6B37E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43F2F-0B23-40FD-93F8-3CE7CF16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442F0-8AF2-4405-963E-EEFB1BB0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DD8E4-29FB-4D48-9D55-25910C1C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7EF22-C5E4-4C7E-9D44-77E0082F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5F882-3D89-49A2-8288-26CC4F4A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C688B-7E0F-404F-81AE-0F13120F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BD1-BA77-4ED4-8E22-5B874ED6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3BA50-EA57-4F2A-9944-C4C48E87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E44B1-F008-4ACB-92D0-066E5E97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3F816-DB5A-4C6A-A1A2-CC1FBB9F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0058B-8734-435A-AAC9-07ACB652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0019E-8B4C-4390-BBFB-B10AABE6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B32E4-2E07-4736-B81B-2370C3AB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DC926-A767-42B8-B67F-E060A8B8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586A3-7454-4810-A071-DC84D74D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CB64B-AD41-4D03-B97B-D10617BC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03183-739F-4003-8DDA-6084487B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81F-80C4-4A44-B1E2-AE3E486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EA60F-EF8F-464F-9E85-3CF4AE1C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236AA-C5B0-4B5C-9717-2AF49FE1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62910-104C-49BB-933A-1C330F28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1CAEA-EE31-4868-A830-494763F5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FCAAD-C0B9-42B6-BC54-C6BD6190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A28-D41D-4F46-B535-8CE935EB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A33-A38A-4715-8A2B-F3E08018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1A8-B2C5-42EF-98D0-6A563CBF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B1F-46A4-4AA2-BA56-8E6E9738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6D3-F174-46D3-B5D8-49CB4CA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409-44ED-4AA4-8762-DC0140AF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E89-FABF-4038-9943-8C7A2A95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1B6-00EA-467D-A712-5B226F8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F1B-69D2-4C50-AD5E-BBBC8DF7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781-949F-49D5-8B1F-C4D5CA42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24A1-94EB-46F3-9F2F-107A83F0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4634-88E4-4EFB-84B9-E65E03DD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0FD0-862B-4EBF-8239-A631DEE7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9472-2A3F-4D76-A46C-025A4EEF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8793-E533-4FC3-9507-CED5C3EE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EFFC-9BE3-428A-B66F-02BD5058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9B23-483C-4598-B1EC-7C4B2E6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2B34-6D65-487A-9D2E-63E587D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919C-3359-4BE1-9E61-4F11C971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9094-A8B7-4BBE-A098-C1D197B3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365C-EABF-4FE9-8C98-8D15298A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2417-CE24-4AFA-ADD5-F8622F89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FA64-927A-4A8E-87C3-CE15CE73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0DDB-BB04-4AAB-B3B9-984FC355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73E3-4522-4D4B-A364-BDF2A7BE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40DF-1DDC-4CF3-A93E-104165FF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E07E-715C-4F43-A99E-210749AA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F76B-AF1E-4101-B790-848D213A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5FDE-EA3E-457C-8061-107695F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69B5-7901-40B4-9094-561A42A1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658A-5DDA-4F29-BC2D-5EF83303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F7C3-CDDB-4979-B4D3-CC2BA0DA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52B9-F696-4801-8497-1E5A49E8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1329-FC87-469D-8306-21F781F6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1F73-5599-4D50-A931-CF17F5CD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EADE-52A7-4498-AF6C-0F563F5A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6D3B-26DD-4EBD-8675-9EA811D2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5EC85-4874-408C-B7D8-8D9EE9D6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0A4C5-B9EB-4419-883E-E92233C9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3A98-AA7E-4966-B21D-557F141B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E6C0-28A7-462C-AEAC-274F6375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6742A-2D23-430E-A034-250B50F9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3B123-2DCC-4612-A020-379171B8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35340-702F-4421-87D1-C197F55E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8D9F-67CB-49E2-BBE3-3746C0AF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A3F2-2FC2-4BC0-8AA8-72CF88B0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732F6-46A1-45D2-AE20-42AF9225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D449F-30FF-42E7-96F8-E48D84E8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9EF8-6731-44CB-8FC7-D96E0B14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502FE-F372-4D60-BFAB-BCD5C86A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8A8E-84B2-4A00-9113-44877D0A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FE6D-A8C7-4937-9729-E0108C7A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A682-9AD8-436D-9405-B4A6CB1F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7A9AB-BBC4-4A74-9B73-A46CB64B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0624B-4EDD-4E21-BFDC-2A1D370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CED8D-38F9-4911-A208-217918EE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D4CAA-E4EB-427F-BEF3-B42AA66B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ED43-C29A-4C16-8B08-A681CE70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78314-7836-4266-954F-80ECABDA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25AFD-C63C-4C64-9C8D-44844652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0E93C-1C8A-438A-A8B8-432C9D3B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D20A-2838-4474-97B0-1FF6F964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32DA5-8D46-4108-9E08-CE9A5F7B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2DB6A-EF88-45A3-A20A-40FD1AC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AD973-71A9-4DBF-AAC1-8EFD13B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D9370-3BB7-43C0-9E3D-B54AD8D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6540E-EB9A-4CEC-BBD6-E64439F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0C33-4737-48A7-9899-1B7106D2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B135-4738-4B96-BB78-72E5899D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2927F-8285-4188-A3BD-A5CF6E9F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1B732-86C5-45D2-80E1-CD294925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C6344-88AC-424E-BCA0-A41BB3E2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437D-4C82-4594-8C38-1927B6C1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407B0-9478-4606-BEB8-CFC22026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20CAB-0507-4379-B889-BBF89C66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1C8A0-9F01-448F-B32E-44A24A9F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38A57-8B63-4867-9ACA-A12D944E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F307B-DBDD-466E-BB58-7529BE27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63E2F-C065-49E9-9331-68A6B421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597A9-0AD0-4676-B26E-B20E8636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03A18-5578-4934-B534-6E97A3A3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F3342-C593-4C4D-9E10-E6A3300B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D558-51F0-4157-ACA9-0EED9E12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E1E9A-65B1-4CD1-ABCC-63BFBC00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7C2F7-FCDB-431E-8E6E-F121AC83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6674-10CE-4579-94A7-66522C434D1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2F23-FB83-44C0-BBFA-49F7FBACBE7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5B94-209D-439B-A89C-9990A44AAC7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94CF-2129-40A2-B039-3BFAFB4B4C1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B6E3-4521-437E-9C3C-A01DC1E2AC8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B20B-7434-4D54-8AB3-E0D70136788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6BB8-1742-463C-BE9C-88AD6CEF2E2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13EC-42E4-4984-9E0B-FEBF3D1298B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23E5-E918-4962-AFD6-9016C535DD2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705E-AE5D-4595-B341-80FB5EC8B68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229E-BC38-447E-8433-C8DC73F23D9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5"/>
          <p:cNvSpPr/>
          <p:nvPr/>
        </p:nvSpPr>
        <p:spPr>
          <a:xfrm>
            <a:off x="468360" y="1484280"/>
            <a:ext cx="8424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за разработване и изпълнение на проекти по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Съвместна европейска инициатива за устойчиви инвестиции в градските райо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JES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за представители на 6-те гра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Бургас, Варна, Русе, Стара Загора, Плевен, Пловд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0000"/>
                </a:solidFill>
                <a:latin typeface="Calibri"/>
              </a:rPr>
              <a:t>14 – 15 януари 2013 г., гр. София, хотел Сити Аве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39640" y="19890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искванията за предоставяне на държавна помощ, съгласно приложимите разпоредби на българското законодателство и законодателството на  Европейския Съюз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допустими инвести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то на финансови инструменти, подпомагане на експортно-ориентирани дейности, инвестиции в сферата на корабостроене, въгледобив, производство на синтетични влакна, стоманодобив, риболов и земеделие, извеждане от експлоатация на ядрени електроцентрал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ихви по дълг и ДДС, който подлежи на възстановя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дейности / проекти, за които има заповед за възстановяване на средства по предоставена държавна помощ, издадена въз основа на предходни решения на ЕК, определящи тази помощ като незаконна и несъвместима с пазарните принципи на Общност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8360" y="1628640"/>
            <a:ext cx="82296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рок на кредитите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може да надхвърля 30.06.2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г., т.е. кредитите не могат да са по-дългосрочни от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Цел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ане до 80% от общите проектни разходи (освен при финансиране при условията на общински дълг), в т.ч. капиталови разходи, разходи за развойна дейност, разходи за правни, проектантски и финансови услуги, строителни разходи, както и първоначални оборотни сред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гасителен план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носки по главницата, съобразени с прогнозните парични потоци на финансирания проект; не се допуска еднократно погасяване на главницата на падеж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ихвени усл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ането от Фонда ще бъде при лихви значително по-ниски от пазарн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-финансирането от  Societe Generale Експресбанк – при пазарни лихв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акси и комисио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ърху финансирането от Фонда не се начисляват такси за оценк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95280" y="1628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42920" indent="-342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или мониторинг на финансираните проек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427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 частта на своето съ-финансиране СЖЕБ прилага собствената си политика по отношение на таксите и комисион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427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 зависимост о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Решението на Европейската комисия (ЕК) относно наличието на държавна помощ при финансир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екти в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ългария, вероятно от инвеститорите ще се изисква да осигурят становище на Независим експерт относно Справедливата норма на възвръщаемост по проектите. Разходите по изготвянето на становището са за сметка на инвестит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пе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огато проектът е обособен в отделно дружество – активи на дружеството; евентуална гаранция от страна на съответната общи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огато проектът се финансира при условията на общински дълг – активи на самия проект и/или вземания на общината по собствени приход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31640" y="1267920"/>
            <a:ext cx="6553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6836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ърви етап – установяване на контакт с инвестито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атко описание на проекта, снимки на мястото и визуализация на предложените подоб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чаквани източници на финансиране на проекта и тяхното използ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азов финансов мод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тори етап –  предоставяне на допълнителна информ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ни данни за проекта, вкл. времева рам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ен финансов модел с обосновка на основни допуск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инвестито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относно ангажиментите и подкрепата на община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вкл. потвържд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страна на кме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 съответствието на проекта със стратегическите документи на съответна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ни проекти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лизи и доклади от външни експер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арта на мобилността и др.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необходимост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02920" y="1267920"/>
            <a:ext cx="648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рети етап – представяне на подробен бизнес пла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съдържащ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на форма на проекта и организационна структу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онен бюдже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азарно проучва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ърсене, предлагане, цени, конкур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огнозни приходи, разход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аланс и паричен пот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но описание на присъщите риск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ложими предпроектни проучвания (въздействието върху околната сред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троително-инженерингово проучване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за външна и вътрешна архитектура, възможни решения за мобилността, въпросник за проучване на общественото мнение и др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Четвърти етап – оценка на проекта и инвестиционно решение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гласно критерии и процедури в съответствие с международните практики за управление на инвестиции и кредитна дейност, с вътрешните правила и политики на Фонда, както и с приложимите външни регулации (вкл. относно Държавната помощ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03280" y="1413000"/>
            <a:ext cx="63374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68360" y="2349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секи предложен за одобрение проект се разглежда о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онния комитет на Фонда, в който с право на глас участват представители на акционерите, а като Наблюдатели без право на глас участват представители на ЕИБ и МРРБ; Инвестиционният комитет одобрява частта от финансирането, предоставяна от Фонда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дитен съвет на СЖЕБ, който одобрява частта от финансирането, предоставяна от банк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одобрение на проекта се подписва тристранен договор за финансиране между инвеститора, Фонда и СЖЕ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92360" y="119700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 на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836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595959"/>
                </a:solidFill>
                <a:latin typeface="Arial"/>
                <a:ea typeface="Arial"/>
              </a:rPr>
              <a:t>ВАЖНО! Проектните предложения ще бъдат разглеждани по реда на постъпването им, до изчерпване на разполагаемия финансов ресурс. Крайният срок за инвестиране на средствата на Фонда в одобрени проекти е 30 юни 2015 г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на Приоритетна ос 1 „Устойчиво и интегрирано градско развитие” на ОПРР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Постигане на количествените резултати, заложени в ОПРР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HFB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Фонда, както и на други стратегически документ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Част от Интегриран план / Общински план за развитие и други местни стратеги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тепен на проектна готовност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 за генериране на приходи: вътрешна норма на възвръщаемост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RR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) на капитала, коефициент за обслужване на дълга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SCR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), съотношение „дълг / собствен капитал”, съотношение „дълг / печалба преди лихви, данъци и амортизации” и др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Рентабилност -  прогнозната рентабилност на проектите, без подкрепа от страна на Фонда, следва да е по-ниска от нормално изискуемата от пазара при сходни проекти, така че при обичайните форми и условия на финансиране те не би следвало да бъдат реализиран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68000" y="1989000"/>
            <a:ext cx="82803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на проекта - сегашно състояние, планирани подобрения и очакваният от тях икономически и социален ефект, обща стойност на проекта, етапи и срок на изпълн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глед в бъдещето” – как можем да усъвършенстваме проекта на етапа на подготовката и реализацията му, като предвидим в него възможност за лесно бъдещо изграждане на необходимата инфраструктура за новите технологии в управлението и облагородяването на градската сред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rt cities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зареждане на електромобили и др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пътстващи документи: за собственост на земя / сграда / право на строеж, идеен / архитектурен проект, строителен бюджет, необходими разрешителни, оценка на обезпечения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ДС по проекта – възстановимо или не (дава отражение както върху размера на търсеното финансиране, така и върху размера на оперативните приходи и разход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7848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8360" y="169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ен субект – общинско предприятие, общинско дружество, ПЧП, частно дружеств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управленския екип на предприятието / дружество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изпълнителите / доставчиците по проекта и за условията по договорите с тях (на етапа, на който тази информация е наличн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оучване на пазара, на който ще се реализира проекта – търсене, предлагане, цени, конкуренти, тенденции, вече настъпили или предстоящи събития, които биха довели до съществени промени на пазара, вкл. промяна в нормативната уредб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ен финансов модел с обосновка на допусканията по приходната и разходната част на про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черпателен подход както към потенциалните източници на приходи, така и към присъщите за проекта разходи (работна заплата, консумативи, поддръжка, охрана, реклама, данъци и такси; разграничение между фиксирани и плаващи разход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7848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68360" y="177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люстриране на допусканията като “количество х цена” (например “брой посетители х цена на билет”, “разход на ток х единична цена”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 от първоначален оборотен капитал за стартиране на проекта – натрупване на стоково-материални запаси, условия на плащане с клиенти и доставчици (авансово / при покупка / отсрочено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бразяване на сезон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ланиране на бъдещи инвестиции за поддържане конкурентоспособността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числяване на нетна настояща стойнос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NPV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и вътрешна норма на възвръщаемост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R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) по проекта и др. финансови показа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отчети и др. данни за общината (кредитен рейтинг, безработица, средна заплат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одобрените Европейски проекти на общината и осигуряването на тяхното финансиран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5"/>
          <p:cNvSpPr/>
          <p:nvPr/>
        </p:nvSpPr>
        <p:spPr>
          <a:xfrm>
            <a:off x="468360" y="2421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РЕГИОНАЛЕН ФОНД ЗА ГРАДСКО РАЗВИТИЕ” 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6"/>
          <p:cNvSpPr/>
          <p:nvPr/>
        </p:nvSpPr>
        <p:spPr>
          <a:xfrm>
            <a:off x="1763640" y="321300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инансиран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 инициати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SSICA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на проекти за градско развитие в Пловдив, Варна, Бургас, Стара Загора, Русе и Пле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82700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Инвестираме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във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вашето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бъдещ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95280" y="34290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300" spc="-1" strike="noStrike">
                <a:solidFill>
                  <a:srgbClr val="000000"/>
                </a:solidFill>
                <a:latin typeface="Arial"/>
                <a:ea typeface="Arial"/>
              </a:rPr>
              <a:t>Този документ е създаден в рамките на инициатива JESSICA, която се осъществява с финансовата подкрепа на Оперативна програма Регионално развитие 2007-2013 г., съфинансирана от Европейския съюз чрез Европейския фонд за регионално развитие. Цялата отговорност за съдържанието на публикацията се носи от “Регионален фонд за градско развитие” АД и при никакви обстоятелства не може да се счита, че този документ отразява официалното становище на Европейския съюз и Договарящия орган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2195640" y="4941720"/>
            <a:ext cx="501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ww.jessicafund.bg</a:t>
            </a:r>
            <a:r>
              <a:rPr b="1" lang="bg-BG" sz="20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ww.sgeb.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79640" y="1412640"/>
            <a:ext cx="518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Съдъ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836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Цел. Суб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 на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68360" y="1989000"/>
            <a:ext cx="8362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 (МРР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- Управляващ орган на Оперативна програма „Регионално развитие” (ОПРР);  финансовият ресурс на JESSICA идва от Европейския фонд за регионално развитие в рамките на Приоритетна ос 1 „Устойчиво и интегрирано градско развитие” на ОПР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Европейска инвестиционна банка (ЕИ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водеща роля при разработването на инициатива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и последващото й практическо осъществяване; управител на Холдингов фонд JESSICA за България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FJB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ен  фонд за градско развитие” АД  (Фонда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организира и администрира процеса по набиране и оценка на проектни предложения; основните рамки на дейността на Фонда са зададени в подписаното на 28.12.2011 г. Оперативно споразумение с ЕИБ; Фондът осигурява 1/3 от финансирането по всеки одобрен проект, като разполага с ресурс в размер на 36.9 млн.лв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68360" y="2349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Societe Generale Експресбанк АД (СЖЕ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мажоритарен акционер във Фон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игурява останалите 2/3 от финансирането по одобрените проек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опълва предоставения на Фонда ресурс с още 73.8 млн.лв., с което общият разполагаем ресурс за финансир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проекти за шестте града възлиза на приблизително 111 млн.  лв.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 оперативната дейност на Фонда чрез своите структури, включително чрез изготвяне на становища за управление на риска по проектит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се изисква  провеждане на процедура по  ЗОП за съ-финансирането, предоставяно от страна на СЖЕБ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476360" y="1773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76360" y="1412640"/>
            <a:ext cx="6191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Цел. Суб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68360" y="2060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та цел на Фонда е да подпомогне устойчивото и балансирано развитие на 6-те града за повишаване качеството на живот и благополучието на техните жители чрез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на местните власти в идентифицирането на устойчиви решения за решаване на градски въпроси и задоволяване на социални потреб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овативност в развиването на публични, публично-частни и изцяло частни проекти, които генерират приход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а действа в подкрепа на интегрираното градско развит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а действа по социално отговорен начи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маляване на негативното влияние върху околната среда и подобряване интеграцията на градовете с природ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324000" y="1792800"/>
            <a:ext cx="849600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становяване или създаване на социал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ни институ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чебни, профилактични и здравни за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итуции, предоставящи социални услу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а за култура и развле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ртна инфраструк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женерна инфраструктур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евенция на рис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становяване или създаване на зони за обществен отди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, водещи до подобряване на физическата с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, свързани с предоставянето на комунални услуги и изграждане на инфраструктура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 инвестициите в сметопочистване, водоснабдяване и канализация и/или енергия трябва да са част от интегриран градски проек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граждане на нови 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хабилитация на съществуващи физически и морално остарели индустриални, бизнес, търговски и други градски зо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1403280" y="1341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8360" y="242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бряване на градската мобилност и транспор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и за управление на автомобилния трафик и изграждане на паркинг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ване и подобряване на системи за управление на транспорт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евозни средства или инфраструктура, водещи до намаляване на вредните емис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ойчива енерг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като част от интегрирани градски проек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ки за подобряване на енергийния мениджмънт и енергийната ефектив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ърчаване използването на възобновяеми енергийни източници (ВЕ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988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и обхвата 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устимите дейности п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а ос 1 „Устойчиво и интегрирано градско развитие” на ОПР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приоритетите и стратегическите планове за развитие на съответната община, както и с устройствените й планове, а в последствие след тяхното изготвяне и с Интегрираните планове за устойчиво градско възстановяване и развит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мерим социален ефект и широка обществена подкреп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тенциал за реализиране на приходи и цялостна жизнеспособ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отивиран и компетентен лидер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могат да бъдат рефинансирани проекти, които вече са изпълнени / завършени; проекти, чието осъществяване е започнало преди представянето им пред Фонда, могат да бъдат финансирани при спазване на определени услов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3-01-02T15:52:41Z</dcterms:modified>
  <cp:revision>225</cp:revision>
  <dc:subject/>
  <dc:title>Слайд 1</dc:title>
</cp:coreProperties>
</file>