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B51ED-8BD9-4B24-91C1-C0CCD14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604F-41C0-4EED-91DD-F8265C6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AF75-FF36-4990-91AB-2636DFF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FF51-1A10-472F-80AB-55A9F2C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1674E-80A4-44E9-A43A-8161056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4437-C774-495F-890F-531EF5B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8746-30C5-469E-B28E-8642E729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FCFA-F5E8-454E-BBF3-7E37BF66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40BD-FB72-4C73-878F-A152CABF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89CF-6F53-4715-BCEB-AC05ED91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DB058-59D6-4AA1-8EB9-F374B9F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23C35-8C4F-4D3F-A372-F64C2D8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D9788-7C69-4A22-9878-222ADC08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BDF76-9B0C-465D-92AA-ED34C5AF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CC8AA-744A-46F0-8C98-99EB8887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7DC15-CDA1-4A85-B572-0B4EDF0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696C9-4C61-4CA9-B772-AC17238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DACAD-7E26-4A29-9271-F675072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53576-3229-40F7-80CB-FDD7BD7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C0BB9-E8FC-4B5C-802A-36A9DD14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25EA0-2830-46DE-9981-D6883698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2B4F9-3CBE-4DD3-A8F3-E438F92D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6C2ED-F4F0-4885-9D5F-010BC1B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F577C-F192-428C-B1D8-035C796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D8845-1CA3-4261-A2C6-E69AC4D4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29C26-8F50-43B7-8149-0E1E4F2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75B4-52B5-4B4E-A895-F959CBE3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8198C-28D6-41BC-B666-D4D7196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75C0F-0C95-42AF-A1EB-40230DB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99C00-4336-4EFF-9964-58B051B5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3B8-1A47-432E-88DD-563A831F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DDCD7-E816-4038-BA35-973EFA7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70395-B284-4688-B4B7-2A98DFF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39867-4C39-4602-9E5B-976C4CF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DD5B-C431-48C5-BC9F-88AB780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C037-6E77-4553-A15F-053E63E3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108B-2508-4356-BA6D-1E1B527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EA1EB-65AF-48E6-94C7-6CE2B6D7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97EC2-0EB8-4D92-A27D-FFA17D7A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7D4A1-41DC-4F09-94F5-4AB63CA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C8B18-A327-4D9A-BA1D-4E4866D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0F8-EED6-47F1-8596-FE4E2A7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8129-F68A-4EE9-B787-4759EBD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40DC-9169-42C9-A97E-586E318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6416-59C3-4337-9CBD-E19691E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2CFAF-2A94-4804-BB3C-CC67BC7E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B5A0-67ED-4388-9A37-B6147A95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3AC-18E3-4822-8572-254C7A9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AB9-AB4C-48B4-9919-55CEACDB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381-A1A4-46AE-97A5-8802190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BEB-B4D4-408E-9EAE-0922422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FE6-2288-424B-B5A8-B11A66F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06F-9627-4514-87B7-4872A29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D98-5BA4-4180-B17E-1CB628D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1B3-A1C4-4757-8405-6651869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649-3811-4239-8171-71E1701C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887-F812-4C39-B467-FE61591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AAC-ECD2-4BD3-A1A0-1081D2DD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46A9-9ABE-4072-A725-A63A74BF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D20-F86D-4AC1-BD0D-0AF841B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40A-9EAE-471E-8881-B025151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7F4C-31CA-47FF-B81E-811B3A3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5B58-2469-43CE-AD4F-6A9B75A5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8F28-0F83-4DC5-A0F5-9A93E52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C03-1178-4EF0-9D3C-91CB794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338C-20C8-4F71-B95D-C583292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21CB-C413-43DF-A6F6-D395F10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5856-8CE8-4D59-A642-D65088F9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8FAE-9F2E-47CC-9F16-DDFBB9B9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FAAE-7BE4-4FF4-B5BD-BD8D1B23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D307-590E-4CFF-B364-7C64908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C357-20D6-40C1-8AEB-5F536D1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3611-64F9-4FB1-BDC3-3C4D225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1E44-90C6-479B-8504-75D1E7C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FCB3-E3B8-463B-AE2D-B94B0F2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FAE5-A3D7-4244-BDA5-36BF02C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386D-8D3B-46C8-9E53-EEC0056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C1E2-718D-4A40-8774-B0F7521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1BC0-F510-4D6A-8EB2-D01B797C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F8BE-8738-4621-9291-74E899A7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B880-C2CA-4A09-9235-B58EEB2D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BAC0-908C-450D-8D19-1261F6A0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677C-8ABC-4731-BB9B-4D3735B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8567-81A8-48D7-B69E-7F07222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A85C-B182-4A8B-A2B7-8529CB3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9707-BEAA-4080-89FC-7AAF8D0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62C1-5B7A-4027-AC5B-57E7E6AF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0832-1046-4E0C-B474-D41316D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C819-44C7-4824-85C4-5C645D0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0F91-4974-4D00-9C66-67B5255D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743F-470D-4244-B3C3-9BA91FF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CCC3-306B-4103-B06E-96A029F6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4A46-91DD-4C63-9520-FD3B2826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D158-CCC2-4CB0-A2B4-E89B08AF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DC02B-68B5-4CE1-9F3C-861F68E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34C4-A401-4D5C-9740-D42B6E50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1737-5681-4255-B147-08A0B0D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14E1-EF0D-4E6E-A605-EEBC521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88A5-6BBE-4B97-B5B1-3E8EDD5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D5A0-2057-4486-BB95-7351473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BAA4-9907-4798-8CDE-8E9E542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CEE6-C6B0-4590-A380-664C3A8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0645-AE23-4CB1-8B01-7CB9801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4B0C-1F67-4890-B12E-540639E3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2518-E8AC-4EDF-A6D2-16517C4D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0172-2702-4182-8A53-AD58E6A8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FDCEA-7FF0-4C76-84F7-2CBBFD37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B2EF1-8C40-4F1D-9790-3442D86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CFF6D-78B7-45DB-B174-84D39D8E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13BB-BE6B-4357-9DAA-B28A9AD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C013-1D87-4F53-A008-03F21EE5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0B11-A885-419D-9416-B68574F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1279-9985-41EB-B805-0947884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C712-D7C6-4B83-B3CD-7EA9C81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8F6A-FBCB-423E-A730-4095638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57D27-B8AD-4800-A5D2-ED5B0558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C20D2-A5A3-4AA0-A767-9DB1D574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553D-3B53-4140-8CC8-E763E55C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709F4-40D8-4DA8-B5CF-90C38FB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C6279-C05E-4540-A54D-90618FB9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E707-1490-42DA-BDE2-B6169AA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14A4-BAC8-473F-B614-C9D29E67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B443-DCF8-4E4F-A749-C36CA5A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0951-954E-4CD5-9A90-43771CD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8FB1-72C7-49BF-A18D-C85084D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A9DE-90F9-455A-A81A-12294B8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4C60-2FA9-4952-9CBA-F58CE5BF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1EB8-C79B-4FBC-BDB0-A6FCE20F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4809-7E63-4F1E-9B1C-D636072F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0837-E70A-408E-9D6C-B1C89647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DDFA-F5E8-45A8-95C2-80A6D16E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49C7-F26A-4185-AF50-1FFA5D6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1C9-D738-43B1-BE3D-C3BA071C4AF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214F-E43F-453C-BD23-A79F2EACBF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73A-84B1-4E2E-9F2E-FC6585404B4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BDB-D5A5-45CB-A79E-CC43364E78A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C5FD-B0A9-4A25-80A0-4277EA0D3A3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D909-B480-41BD-BC03-C0DB6D4598C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FCE-D3A7-4DED-BB6D-9FD696A572E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6F4-C1D4-49DE-9657-839AE64B6C4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F92-0B7E-43CC-AAB3-1FED3396204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491-69EB-4214-B65D-8173F3E2D90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2D4-C83E-4622-8995-D047205648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468360" y="1484280"/>
            <a:ext cx="8424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ъвместна европейска инициатива за устойчиви инвестиции в градските рай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представители на 6-те гр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Бургас, Варна, Русе, Стара Загора, Плевен,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00"/>
                </a:solidFill>
                <a:latin typeface="Calibri"/>
              </a:rPr>
              <a:t>14 – 15 януари 2013 г., гр. София, хотел Сити Ав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9640" y="19890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искванията за предоставяне на държавна помощ, съгласно приложимите разпоредби на българското законодателство и законодателството на  Европейския Съю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пустими инве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то на финансови инструменти, подпомагане на експортно-ориентирани дейности, инвестиции в сферата на корабостроене, въгледобив, производство на синтетични влакна, стоманодобив, риболов и земеделие, извеждане от експлоатация на ядрени електроцентра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и по дълг и ДДС, който подлежи на възстановя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дейности / проекти, за които има заповед за възстановяване на средства по предоставена държавна помощ, издадена въз основа на предходни решения на ЕК, определящи тази помощ като незаконна и несъвместима с пазарните принципи на Общност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2864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ит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же да надхвърля 30.06.2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г., т.е. кредитите не могат да са по-дългосрочни от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 до 80% от общите проектни разходи (освен при финансиране при условията на общински дълг), в т.ч. капиталови разходи, разходи за развойна дейност, разходи за правни, проектантски и финансови услуги, строителни разходи, както и първоначални оборотни сре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асителен план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носки по главницата, съобразени с прогнозните парични потоци на финансирания проект; не се допуска еднократно погасяване на главницата на паде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то от Фонда ще бъде при лихви значително по-ниски от пазар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-финансирането от  Societe Generale Експресбанк – при пазарни лихв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ърху финансирането от Фонда не се начисляват такси за оценк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5280" y="1628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42920" indent="-342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ли мониторинг на финансира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 частта на своето съ-финансиране СЖЕБ прилага собствената си политика по отношение на таксите и комисио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 о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ешението на Европейската комисия (ЕК) относно наличието на държавна помощ при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екти 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ългария, вероятно от инвеститорите ще се изисква да осигурят становище на Независим експерт относно Справедливата норма на възвръщаемост по проектите. Разходите по изготвянето на становището са за сметка на инвести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е обособен в отделно дружество – активи на дружеството; евентуална гаранция от страна на съответната общ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553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ърви етап – установяване на контакт с инвестит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атко описание на проекта, снимки на мястото и визуализация на предложените подоб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чаквани източници на финансиране на проекта и тяхното използ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зов финансов мод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тори етап –  предоставяне на допълнителна информ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и данни за проекта, вкл. времева рам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ен финансов модел с обосновка на основни допуск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нвестито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относно ангажиментите и подкрепата на община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кл. потвържд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страна на км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ъответствието на проекта със стратегическите документи на съответн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ни проект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лизи и доклади от външни експер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арта на мобилността и др.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обходимос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48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рети етап – представяне на подробен бизнес пла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съдържащ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на форма на проекта и организационна структу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ен бюдж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азарно проучва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ърсене, предлагане, цени, конкур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ни приходи, разхо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ланс и паричен пот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о описание на присъщите риск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ложими предпроектни проучвания (въздействието върху околната сре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троително-инженерингово проучване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за външна и вътрешна архитектура, възможни решения за мобилността, въпросник за проучване на общественото мнение и др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Четвърти етап – оценка на проекта и инвестиционно решени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гласно критерии и процедури в съответствие с международните практики за управление на инвестиции и кредитна дейност, с вътрешните правила и политики на Фонда, както и с приложимите външни регулации (вкл. относно Държавната помощ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337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349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секи предложен за одобрение проект се разглежда о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ния комитет на Фонда, в който с право на глас участват представители на акционерите, а като Наблюдатели без право на глас участват представители на ЕИБ и МРРБ; Инвестиционният комитет одобрява частта от финансирането, предоставяна от Фонда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дитен съвет на СЖЕБ, който одобрява частта от финансирането, предоставяна от банк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одобрение на проекта се подписва тристранен договор за финансиране между инвеститора, Фонда и СЖЕ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92360" y="119700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836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595959"/>
                </a:solidFill>
                <a:latin typeface="Arial"/>
                <a:ea typeface="Arial"/>
              </a:rPr>
              <a:t>ВАЖНО! Проектните предложения ще бъдат разглеждани по реда на постъпването им, до изчерпване на разполагаемия финансов ресурс. Крайният срок за инвестиране на средствата на Фонда в одобрени проекти е 30 юни 2015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Приоритетна ос 1 „Устойчиво и интегрирано градско развитие” на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стигане на количествените резултати, заложени в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HFB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онда, както и на други стратегически документ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Част от Интегриран план / Общински план за развитие и други местни стратег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тепен на проектна готовнос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за генериране на приходи: вътрешна норма на възвръщаемост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 на капитала, коефициент за обслужване на дълга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SC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, съотношение „дълг / собствен капитал”, съотношение „дълг / печалба преди лихви, данъци и амортизации”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Рентабилност -  прогнозната рентабилност на проектите, без подкрепа от страна на Фонда, следва да е по-ниска от нормално изискуемата от пазара при сходни проекти, така че при обичайните форми и условия на финансиране те не би следвало да бъдат реализира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8000" y="1989000"/>
            <a:ext cx="8280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на проекта - сегашно състояние, планирани подобрения и очакваният от тях икономически и социален ефект, обща стойност на проекта, етапи и срок на изпъл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лед в бъдещето” – как можем да усъвършенстваме проекта на етапа на подготовката и реализацията му, като предвидим в него възможност за лесно бъдещо изграждане на необходимата инфраструктура за новите технологии в управлението и облагородяването на градската сред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citi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зареждане на електромобили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и документи: за собственост на земя / сграда / право на строеж, идеен / архитектурен проект, строителен бюджет, необходими разрешителни, оценка на обезпечения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ДС по проекта – възстановимо или не (дава отражение както върху размера на търсеното финансиране, така и върху размера на оперативните приходи 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848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ен субект – общинско предприятие, общинско дружество, ПЧП, частно друже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управленския екип на предприятието / дружество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зпълнителите / доставчиците по проекта и за условията по договорите с тях (на етапа, на който тази информация е наличн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учване на пазара, на който ще се реализира проекта – търсене, предлагане, цени, конкуренти, тенденции, вече настъпили или предстоящи събития, които биха довели до съществени промени на пазара, вкл. промяна в нормативната уредб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ен финансов модел с обосновка на допусканията по приходната и разходната част на про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ерпателен подход както към потенциалните източници на приходи, така и към присъщите за проекта разходи (работна заплата, консумативи, поддръжка, охрана, реклама, данъци и такси; разграничение между фиксирани и плаващ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848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люстриране на допусканията като “количество х цена” (например “брой посетители х цена на билет”, “разход на ток х единична цена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 от първоначален оборотен капитал за стартиране на проекта – натрупване на стоково-материални запаси, условия на плащане с клиенти и доставчици (авансово / при покупка / отсрочено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бразяване на сезон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ланиране на бъдещи инвестиции за поддържане конкурентоспособността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исляване на нетна настояща стойнос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PV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вътрешна норма на възвръщаемост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) по проекта и др. финансови показ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отчети и др. данни за общината (кредитен рейтинг, безработица, средна заплат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одобрените Европейски проекти на общината и осигуряването на тяхното финансиран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5"/>
          <p:cNvSpPr/>
          <p:nvPr/>
        </p:nvSpPr>
        <p:spPr>
          <a:xfrm>
            <a:off x="468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”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1763640" y="3213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инансира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 инициати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SSICA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на проекти за градско развитие в Пловдив, Варна, Бургас, Стара Загора, Русе и 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82700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Инвестираме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ъв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ашето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бъдещ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5280" y="34290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300" spc="-1" strike="noStrike">
                <a:solidFill>
                  <a:srgbClr val="000000"/>
                </a:solidFill>
                <a:latin typeface="Arial"/>
                <a:ea typeface="Arial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2195640" y="494172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sgeb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79640" y="141264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дъ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68360" y="1989000"/>
            <a:ext cx="836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 (МРР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- Управляващ орган на Оперативна програма „Регионално развитие” (ОПРР);  финансовият ресурс на JESSICA идва от Европейския фонд за регионално развитие в рамките на 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 инвестиционна банка (ЕИ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водеща роля при разработването на инициатив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последващото й практическо осъществяване; управител на Холдингов фонд JESSICA за България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JB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ен  фонд за градско развитие” АД  (Фонда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рганизира и администрира процеса по набиране и оценка на проектни предложения; основните рамки на дейността на Фонда са зададени в подписаното на 28.12.2011 г. Оперативно споразумение с ЕИБ; Фондът осигурява 1/3 от финансирането по всеки одобрен проект, като разполага с ресурс в размер на 36.9 млн.лв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68360" y="2349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Societe Generale Експресбанк АД (СЖЕ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мажоритарен акционер във Фон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 останалите 2/3 от финансирането по одобре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опълва предоставения на Фонда ресурс с още 73.8 млн.лв., с което общият разполагаем ресурс за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проекти за шестте града възлиза на приблизително 111 млн.  лв.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оперативната дейност на Фонда чрез своите структури, включително чрез изготвяне на становища за управление на риска по проектит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се изисква  провеждане на процедура по  ЗОП за съ-финансирането, предоставяно от страна на СЖЕБ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476360" y="177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6191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та цел на Фонда е да подпомогне устойчивото и балансирано развитие на 6-те града за повишаване качеството на живот и благополучието на техните жители чрез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на местните власти в идентифицирането на устойчиви решения за решаване на градски въпроси и задоволяване на социални потреб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овативност в развиването на публични, публично-частни и изцяло частни проекти, които генерират приход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в подкрепа на интегрираното градско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по социално отговорен начи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на негативното влияние върху околната среда и подобряване интеграцията на градовете с природ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24000" y="1792800"/>
            <a:ext cx="849600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ни институ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чебни, профилактични и здравни за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итуции, предоставящи социални усл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а за култура и развле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на инфраструк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женерна инфраструктур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евенция на рис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зони за обществен отди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водещи до подобряване на физическ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раждане на нови 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хабилитация на съществуващи физически и морално остарели индустриални, бизнес, търговски и други градски зо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403280" y="134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градската мобилност и транспор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и за управление на автомобилния трафик и изграждане на паркин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подобряване на системи за управление на транспор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евозни средства или инфраструктура, водещи до намаляване на вредните еми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ойчива енерг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то част от интегрирани градски проек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ки за подобряване на енергийния мениджмънт и енергийната ефектив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ърчаване използването на възобновяеми енергийни източници (ВЕ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и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приоритетите и стратегическите планове за развитие на съответната община, както и с устройствените й планове, а в последствие след тяхното изготвяне и с Интегрираните планове за устойчиво градско възстановяване и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мерим социален ефект и широка обществена подкреп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 за реализиране на приходи и цялостна жизнеспособ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отивиран и компетентен лидер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гат да бъдат рефинансирани проекти, които вече са изпълнени / завършени; проекти, чието осъществяване е започнало преди представянето им пред Фонда, могат да бъдат финансирани при спазване на определени услов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13T10:38:31Z</dcterms:modified>
  <cp:revision>225</cp:revision>
  <dc:subject/>
  <dc:title>Слайд 1</dc:title>
</cp:coreProperties>
</file>