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F0578-F84E-4D3A-905F-D334891B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805A2-89C2-4086-9FE5-12806BB1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8AD9-9086-4BB5-8D10-6E5BC9A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4B595-B183-4184-A307-2EF1FDAD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FAEB-2DDB-40C4-B550-5AA109C2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3389-0D59-42DF-8355-EA72A8A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F6200-4179-4F55-80EE-561945D2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6BA57-6BDA-43E3-A8A3-479D81EC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77D9-131F-450F-B050-9697DAD8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CBF4A-B886-4B3F-9D82-45ED7992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B52FB-7BE6-48D3-9510-355DAD6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ADE6E-F47C-46D8-87BD-CE3FE9F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D12C6-7DF3-4E26-971C-4F0D9FF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FAD7D-BB22-4C32-A2EA-2E03599C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DFDB4-896B-48C6-B821-B0FA5F8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9F628-934F-45EF-972E-B2E15792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71BC9-9C10-4878-9021-EFF3D7D4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AF8A2-B888-4901-8250-86BCB37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3D13-F3EA-4E72-BB0C-E8A1860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B0EB2-5147-46AF-A32C-C2BB7C6CB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87F62-B50C-4D9E-8A89-D80A7A3A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A3EBE-24A4-450C-B371-A660AD68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4D419-F463-4445-8394-D57B9DD3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089C3-6139-4C17-A8A5-FF818540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D9636-CD10-4DA4-A099-D9CFCC08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06570-7A34-480C-89DC-D037765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89C26-7AF0-48E0-AE90-52DDB24E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8D710-D40F-4429-9F83-3E8F49B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54837-ED60-4588-B8CB-6C5EF4F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0EEBA-817F-44A5-BE5C-57FD49F1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01B-3050-4759-811F-FBD66DB4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BA20D-C4C5-4586-BE81-B457B54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BAA02-A76E-4922-8700-1A72D6C1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2894-0122-409C-B01E-43C98AA8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8ED3B-046D-4631-9983-989DE70C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832C4-5AC8-4417-8921-924552D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53D57-A4AC-4482-919C-1CD7D91E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BB074-C2F9-42E5-AEDB-7EE9886D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E8EC-92E0-43C8-905C-AC81E204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766A1-5283-48A1-884A-BF847B68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686D7-8825-453E-8949-B56A2E1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8B5B-C3D7-483E-BA89-D4B660A2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6C255-C389-4E5E-ADA8-1685B38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2EB2-CE75-4396-994D-199A903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DDC56-B17D-48A7-A0F6-63220F38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D46A-42DA-45EE-8E0E-8FC2B239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F777B-237A-4715-A398-5E4AE35A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34A-2C30-4381-94CE-2D630F8F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1FD-2934-4FE1-800C-98E5647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D9B-8986-4C0E-A0B3-9FFAA45E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13B-97A8-4BF7-900D-5505742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B48-81DE-4C99-A718-8862FDEE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4E17-A771-4CED-9D30-F3DC127F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F1A-9E8E-4F1E-B66A-D3C9AA78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1C2-A952-4589-9191-CD4292F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349-B3DA-4337-977D-9EE474F1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078-6088-4EE6-A92C-CB9ACD76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2D35-45BD-444D-9EC6-06753E01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A760-A394-4573-9640-3F94B6D9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663-C5A8-4503-B79A-0948DAA9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939-4816-43D3-9323-23BF889D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9FAB-AF60-43CF-9373-786E23FF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36C5-9526-438A-9580-A76FC319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87E8-21F2-4742-9DD3-73E15BA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03F4-9BAD-4523-A3D4-39DB48B4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E50E-380E-4FBD-AE0D-D522D87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002-2EB6-4E60-AE86-71D81059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9BED-C11B-4E3F-8E8B-E24B60F8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7A26-57D1-45B8-A735-19CECE8D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32CC-0631-443B-A3F7-C1677327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4F6E-5A18-4AA7-A370-7AFD2FCA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A3660-2D72-4B4C-AE9C-7D272082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6ADC9-1E61-4378-BA6E-4332E3C1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A4D9-D9B1-43F9-8680-7C3C7FD0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4CE49-C40A-4C2B-88DE-D2A186C6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B80A-F269-4BA3-AC7D-36C645E4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6057C-6CD5-45F5-8D8D-63DD169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F0D9-264C-4853-AAAD-68FA8FC1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8E2B-1381-4021-BDD1-0B6F9DDE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49BEF-5124-4933-89FD-19FCD082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806F-878D-453B-8B5A-95984E29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2CCFC-B765-49C7-A3CC-EC6AC955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0FD4E-FAAC-4232-8C61-CCD59723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8F06F-5BB3-4935-A16E-FB2AE33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C245-B02F-480C-BA0F-FA2B78C1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496D1-CD92-4A87-B102-F54A5B83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EDFED-E1CC-4204-BD29-AE9BFA35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EDEE-7A70-4E35-9C5A-5389B839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4AAA-A41C-4DA5-B004-B80148E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99E5-AB79-45EF-B26F-BFD6B58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1FDCB-A978-421D-828D-925251C3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ADF5-61C2-4500-BDDC-66FCD9F5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D9F2-C1AD-4102-8ABE-452813BDF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DC49-720F-4F8A-BC83-4AB0B0E4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C24A-982B-47B5-BC3C-83E8FCED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9FF00-0156-45B7-B745-36B2815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C953-F30C-4718-BDAC-D5A49434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F7AE4-7DD2-4548-AA99-AE0C85D4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E0E6C-FC3C-4BFB-A47F-C7775EF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F7E9B-2378-4E72-ABFB-C93031FD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2570-2D72-4F4C-A1DA-99FABC7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F7B1A-9EF3-4AD8-AE0C-1EF96C98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D46B-D516-4F8C-BF81-B28EBA4F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B790-5B29-44C5-B83D-9B4F8D6F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CB44-A496-4751-B2E5-F7FC68FA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DDEA-9F0F-4710-870B-BFA8B340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2DE81-622D-4417-A7FF-B13F19C8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9E9E3-FC52-49A2-8EC6-9BD2032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DECD-4CD2-483E-B992-715D72B2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A3F30-CBC3-4BE8-8944-5B881C46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7E722-00C2-4781-9E47-EEB61BBC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FDFB-7BE7-40E2-978D-5E56CA30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47CCD-A0A4-4391-B98C-87CD5766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46E7-0602-42AB-84EC-6E0991C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9F7A-48C8-4C91-A81B-04BBACFF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C986B-1C0B-4396-B4E1-DDF5678F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D5519-3AAF-4823-8C7F-6FA0520E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AD773-7CC6-470E-9C13-AFE4E527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2506A-349C-4CCB-9D29-4E73BA57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6FEE-FBDD-4574-BA61-ED716905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329F7-39EA-4ED0-A755-B630AC33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98822-A1A8-47F7-8F02-E1EA100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AE5CA-C4F6-47F9-8DA7-F380F6AA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C6054-E73F-4B60-84B8-A3F0306C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1FEA-C620-48C6-9A68-7BF3D30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AF50C-673E-4311-B3E5-7B4AF46E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51E27-054A-4946-B4FA-9E3F8A21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340A-39E5-44DC-AEB5-34FABD54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E09F-EE3D-4E3B-B522-82D8D648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A4921-74C7-4D91-B6BC-9018ECE0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D94D9-F481-451E-8C2C-8C32D77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47673-121C-4D0A-914C-7E1BC664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CEDC-09C9-4A2F-BECE-05BBC562208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A97D-3256-4775-8551-DC1062E9909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853-688F-4EEA-A509-17529BE0ACA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E325-980C-49B1-9924-F9E7C8767FE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89DF-0032-400A-916A-220E93D0398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C2A-A189-4A3E-9391-7140120A2CD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74FC-8E2F-4D66-89B9-00771166D6D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9CEA-B271-4561-AACC-957B8A9A77A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087-289D-4F95-865A-7B8D16DA8EF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0A9-CDA8-4822-BEC9-152C2A28EC0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F131-A601-425B-B5E4-82BBF15311A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468360" y="1484280"/>
            <a:ext cx="8424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ъвместна европейска инициатива за устойчиви инвестиции в градските рай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представители на 6-те гр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Бургас, Варна, Русе, Стара Загора, Плевен,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00"/>
                </a:solidFill>
                <a:latin typeface="Calibri"/>
              </a:rPr>
              <a:t>14 – 15 януари 2013 г., гр. София, хотел Сити Ав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9640" y="19890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искванията за предоставяне на държавна помощ, съгласно приложимите разпоредби на българското законодателство и законодателството на  Европейския Съю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пустими инве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то на финансови инструменти, подпомагане на експортно-ориентирани дейности, инвестиции в сферата на корабостроене, въгледобив, производство на синтетични влакна, стоманодобив, риболов и земеделие, извеждане от експлоатация на ядрени електроцентра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и по дълг и ДДС, който подлежи на възстановя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дейности / проекти, за които има заповед за възстановяване на средства по предоставена държавна помощ, издадена въз основа на предходни решения на ЕК, определящи тази помощ като незаконна и несъвместима с пазарните принципи на Общност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2864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ит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же да надхвърля 30.06.2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г., т.е. кредитите не могат да са по-дългосрочни от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 до 80% от общите проектни разходи (освен при финансиране при условията на общински дълг), в т.ч. капиталови разходи, разходи за развойна дейност, разходи за правни, проектантски и финансови услуги, строителни разходи, както и първоначални оборотни сре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асителен план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носки по главницата, съобразени с прогнозните парични потоци на финансирания проект; не се допуска еднократно погасяване на главницата на паде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то от Фонда ще бъде при лихви значително по-ниски от пазар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-финансирането от  Societe Generale Експресбанк – при пазарни лихв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ърху финансирането от Фонда не се начисляват такси за оценк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5280" y="1628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42920" indent="-342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ли мониторинг на финансира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 частта на своето съ-финансиране СЖЕБ прилага собствената си политика по отношение на таксите и комисио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 о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ешението на Европейската комисия (ЕК) относно наличието на държавна помощ при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екти 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ългария, вероятно от инвеститорите ще се изисква да осигурят становище на Независим експерт относно Справедливата норма на възвръщаемост по проектите. Разходите по изготвянето на становището са за сметка на инвести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е обособен в отделно дружество – активи на дружеството; евентуална гаранция от страна на съответната общ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553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ърви етап – установяване на контакт с инвестит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атко описание на проекта, снимки на мястото и визуализация на предложените подоб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чаквани източници на финансиране на проекта и тяхното използ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зов финансов мод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тори етап –  предоставяне на допълнителна информ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и данни за проекта, вкл. времева рам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ен финансов модел с обосновка на основни допуск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нвестито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относно ангажиментите и подкрепата на община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кл. потвържд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страна на км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ъответствието на проекта със стратегическите документи на съответн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ни проект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лизи и доклади от външни експер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арта на мобилността и др.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обходимос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48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рети етап – представяне на подробен бизнес пла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съдържащ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на форма на проекта и организационна структу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ен бюдж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азарно проучва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ърсене, предлагане, цени, конкур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ни приходи, разхо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ланс и паричен пот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о описание на присъщите риск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ложими предпроектни проучвания (въздействието върху околната сре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троително-инженерингово проучване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за външна и вътрешна архитектура, възможни решения за мобилността, въпросник за проучване на общественото мнение и др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Четвърти етап – оценка на проекта и инвестиционно решени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гласно критерии и процедури в съответствие с международните практики за управление на инвестиции и кредитна дейност, с вътрешните правила и политики на Фонда, както и с приложимите външни регулации (вкл. относно Държавната помощ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337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349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секи предложен за одобрение проект се разглежда о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ния комитет на Фонда, в който с право на глас участват представители на акционерите, а като Наблюдатели без право на глас участват представители на ЕИБ и МРРБ; Инвестиционният комитет одобрява частта от финансирането, предоставяна от Фонда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дитен съвет на СЖЕБ, който одобрява частта от финансирането, предоставяна от банк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одобрение на проекта се подписва тристранен договор за финансиране между инвеститора, Фонда и СЖЕ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92360" y="119700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836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595959"/>
                </a:solidFill>
                <a:latin typeface="Arial"/>
                <a:ea typeface="Arial"/>
              </a:rPr>
              <a:t>ВАЖНО! Проектните предложения ще бъдат разглеждани по реда на постъпването им, до изчерпване на разполагаемия финансов ресурс. Крайният срок за инвестиране на средствата на Фонда в одобрени проекти е 30 юни 2015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Приоритетна ос 1 „Устойчиво и интегрирано градско развитие” на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стигане на количествените резултати, заложени в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HFB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онда, както и на други стратегически документ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Част от Интегриран план / Общински план за развитие и други местни стратег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тепен на проектна готовнос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за генериране на приходи: вътрешна норма на възвръщаемост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 на капитала, коефициент за обслужване на дълга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SC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, съотношение „дълг / собствен капитал”, съотношение „дълг / печалба преди лихви, данъци и амортизации”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Рентабилност -  прогнозната рентабилност на проектите, без подкрепа от страна на Фонда, следва да е по-ниска от нормално изискуемата от пазара при сходни проекти, така че при обичайните форми и условия на финансиране те не би следвало да бъдат реализира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8000" y="1989000"/>
            <a:ext cx="8280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на проекта - сегашно състояние, планирани подобрения и очакваният от тях икономически и социален ефект, обща стойност на проекта, етапи и срок на изпъл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лед в бъдещето” – как можем да усъвършенстваме проекта на етапа на подготовката и реализацията му, като предвидим в него възможност за лесно бъдещо изграждане на необходимата инфраструктура за новите технологии в управлението и облагородяването на градската сред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citi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зареждане на електромобили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и документи: за собственост на земя / сграда / право на строеж, идеен / архитектурен проект, строителен бюджет, необходими разрешителни, оценка на обезпечения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ДС по проекта – възстановимо или не (дава отражение както върху размера на търсеното финансиране, така и върху размера на оперативните приходи 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848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ен субект – общинско предприятие, общинско дружество, ПЧП, частно друже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управленския екип на предприятието / дружество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зпълнителите / доставчиците по проекта и за условията по договорите с тях (на етапа, на който тази информация е наличн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учване на пазара, на който ще се реализира проекта – търсене, предлагане, цени, конкуренти, тенденции, вече настъпили или предстоящи събития, които биха довели до съществени промени на пазара, вкл. промяна в нормативната уредб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ен финансов модел с обосновка на допусканията по приходната и разходната част на про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ерпателен подход както към потенциалните източници на приходи, така и към присъщите за проекта разходи (работна заплата, консумативи, поддръжка, охрана, реклама, данъци и такси; разграничение между фиксирани и плаващ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848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люстриране на допусканията като “количество х цена” (например “брой посетители х цена на билет”, “разход на ток х единична цена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 от първоначален оборотен капитал за стартиране на проекта – натрупване на стоково-материални запаси, условия на плащане с клиенти и доставчици (авансово / при покупка / отсрочено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бразяване на сезон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ланиране на бъдещи инвестиции за поддържане конкурентоспособността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исляване на нетна настояща стойнос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PV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вътрешна норма на възвръщаемост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) по проекта и др. финансови показ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отчети и др. данни за общината (кредитен рейтинг, безработица, средна заплат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одобрените Европейски проекти на общината и осигуряването на тяхното финансиран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5"/>
          <p:cNvSpPr/>
          <p:nvPr/>
        </p:nvSpPr>
        <p:spPr>
          <a:xfrm>
            <a:off x="468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”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1763640" y="3213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инансира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 инициати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SSICA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на проекти за градско развитие в Пловдив, Варна, Бургас, Стара Загора, Русе и 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82700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Инвестираме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ъв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ашето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бъдещ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5280" y="34290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300" spc="-1" strike="noStrike">
                <a:solidFill>
                  <a:srgbClr val="000000"/>
                </a:solidFill>
                <a:latin typeface="Arial"/>
                <a:ea typeface="Arial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2195640" y="494172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sgeb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79640" y="141264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дъ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68360" y="1989000"/>
            <a:ext cx="836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 (МРР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- Управляващ орган на Оперативна програма „Регионално развитие” (ОПРР);  финансовият ресурс на JESSICA идва от Европейския фонд за регионално развитие в рамките на 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 инвестиционна банка (ЕИ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водеща роля при разработването на инициатив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последващото й практическо осъществяване; управител на Холдингов фонд JESSICA за България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JB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ен  фонд за градско развитие” АД  (Фонда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рганизира и администрира процеса по набиране и оценка на проектни предложения; основните рамки на дейността на Фонда са зададени в подписаното на 28.12.2011 г. Оперативно споразумение с ЕИБ; Фондът осигурява 1/3 от финансирането по всеки одобрен проект, като разполага с ресурс в размер на 36.9 млн.лв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68360" y="2349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Societe Generale Експресбанк АД (СЖЕ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мажоритарен акционер във Фон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 останалите 2/3 от финансирането по одобре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опълва предоставения на Фонда ресурс с още 73.8 млн.лв., с което общият разполагаем ресурс за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проекти за шестте града възлиза на приблизително 111 млн.  лв.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оперативната дейност на Фонда чрез своите структури, включително чрез изготвяне на становища за управление на риска по проектит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се изисква  провеждане на процедура по  ЗОП за съ-финансирането, предоставяно от страна на СЖЕБ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476360" y="177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6191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та цел на Фонда е да подпомогне устойчивото и балансирано развитие на 6-те града за повишаване качеството на живот и благополучието на техните жители чрез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на местните власти в идентифицирането на устойчиви решения за решаване на градски въпроси и задоволяване на социални потреб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овативност в развиването на публични, публично-частни и изцяло частни проекти, които генерират приход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в подкрепа на интегрираното градско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по социално отговорен начи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на негативното влияние върху околната среда и подобряване интеграцията на градовете с природ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24000" y="1792800"/>
            <a:ext cx="849600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ни институ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чебни, профилактични и здравни за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итуции, предоставящи социални усл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а за култура и развле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на инфраструк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женерна инфраструктур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евенция на рис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зони за обществен отди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водещи до подобряване на физическ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раждане на нови 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хабилитация на съществуващи физически и морално остарели индустриални, бизнес, търговски и други градски зо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403280" y="134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градската мобилност и транспор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и за управление на автомобилния трафик и изграждане на паркин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подобряване на системи за управление на транспор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евозни средства или инфраструктура, водещи до намаляване на вредните еми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ойчива енерг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то част от интегрирани градски проек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ки за подобряване на енергийния мениджмънт и енергийната ефектив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ърчаване използването на възобновяеми енергийни източници (ВЕ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и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приоритетите и стратегическите планове за развитие на съответната община, както и с устройствените й планове, а в последствие след тяхното изготвяне и с Интегрираните планове за устойчиво градско възстановяване и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мерим социален ефект и широка обществена подкреп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 за реализиране на приходи и цялостна жизнеспособ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отивиран и компетентен лидер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гат да бъдат рефинансирани проекти, които вече са изпълнени / завършени; проекти, чието осъществяване е започнало преди представянето им пред Фонда, могат да бъдат финансирани при спазване на определени услов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13T10:38:31Z</dcterms:modified>
  <cp:revision>225</cp:revision>
  <dc:subject/>
  <dc:title>Слайд 1</dc:title>
</cp:coreProperties>
</file>