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49C69-052B-4BAD-8248-46F47021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6886F-14CC-4EC0-84F4-DA6752E0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1B1F0-BC08-4A9C-9B84-225E2864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CB875-B7CA-473D-BEC5-2B013364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0A311-24A2-4369-9732-E86CF07F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9B193-9E9A-4A31-AF82-A1BDAFFA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CE393-7DD5-4921-8048-A346170E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E4CB9-243D-4A31-9A40-569C4E0D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C5E81-7553-4415-BEBC-92A83196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ADBE2-AF40-4064-81E4-A17C08C8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99A19-E858-47DE-AFBD-5BDF93C6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EFDAF-378D-4D35-829F-CCC7C04D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670D7-BEC5-421B-9560-110D40C1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7D480-DFA9-43FD-8DA1-348D2333D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A48C8-E547-4109-8B31-4CE126B4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F7386-E35B-40D6-BF3E-32D5607E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EC9E0-9BF6-4C77-9E83-DEC7A442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51BF9-D53D-47EA-AC09-4E7C6082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D70FF-0C44-48F4-B314-F9027700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7DB8B-57BF-4049-91C8-0EC033A3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F0D08-0C35-4247-AEB1-F6E271E9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FE88C-D274-4758-9AF8-ED4A8C1C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63052-F299-47B5-BAA7-68C39038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98C46-B053-4466-9437-1209FF2F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F0AA0-FC8C-4C58-8529-2F7842EE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7A862-2FC3-47D1-92A9-764B5A60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6195B-26DE-406A-B2E9-1B02F738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04276-FC60-451B-BC26-4FAB8908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0D7AB-7C9D-43BD-B19F-763D8DB5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B8642-03BA-44DB-A16A-61701779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8D8-C2A1-4B7D-AE8E-9ED474B6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93ADC-D29E-4B37-A39F-358B3C4D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A76BD-C1C5-43DD-8CA0-AB5439290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CB8B4-C682-4EC6-A078-6D041D7B1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F92B8-24EB-4C09-B890-39EB66FF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811E1-298A-4FDA-B76E-AE90B823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BD1FE-15FB-4950-B09B-DD744B1F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0A88A-5B22-43FB-99E5-CAEFF67A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1039B-DD43-46F3-922B-AABE7352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536C5-005B-4D7B-A8F4-D1592CD4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91E5C-4654-4320-8A44-EBFBE394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2B9-0098-4F73-B7E6-26F4557F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99E4C-2EFA-4938-99BE-52DF3E1D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F725D-12F1-4D8E-B54A-8F42589A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ED293-B3E5-49C7-9245-7D8496BF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EF771-D962-44D7-8ABA-6167001D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AEF77-4A81-4C8C-9FD2-6EAF2BCD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EEE-C6B7-4D81-9C98-D63FBBC1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25F-D108-4AF2-9344-4535698D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BD9-EFD3-4585-9778-11D30BCB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C80-6A98-4642-B654-B7418E7C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58F-82B2-4EEA-949D-BCA59923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3D7-5123-4282-9936-DCF81645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255-82C7-4D2B-9D39-0674F761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AB4-5290-4CC7-9BC5-EE90A9BF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913-707D-439B-B8DB-AC5A96C9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01B-3017-4960-B7EB-B50C1FD7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854F-DFAB-4579-9B27-F350959C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D944-EEDA-42C1-9F3F-F60DDA42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74B9-169C-4019-9AE0-9D503ACE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5FCE-880D-46EF-9BA8-BC990705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080A-4150-4396-B02E-901C72CB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94F2-A5B4-46E6-AD59-E9534717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806D-84C6-438E-BD52-23BF635C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4908-AE03-4763-9459-D7821552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A7F3-9974-4886-9465-64944D36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587A-B325-44C8-855E-51AF9D8A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A678-AE67-425D-8001-06B18F79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0DA1-C7D2-4E46-AB54-2FD75CFB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5F90-345C-4446-B91C-1810DF4F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C8D9D-3BFD-4062-9C47-6C7AF17A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9F7FC-02DD-4E70-84FC-8BE1E42C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2706F-3B6C-47D6-8139-A3D6C39F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E5111-8DA1-4F86-B790-2A04341A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06FA7-9B0C-44AB-812C-6B4C36A3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E7E1-5FD5-494E-917A-5DBE935C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85031-56B4-4039-A167-ABC52E67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3349-D48E-4779-8DAB-B29AE9DF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0678-30F9-492E-8959-3D1250F5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9D18-3D21-465D-88A8-9E303C46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2690-D4C3-4D18-934B-9D0312DD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20EB0-1E0F-499F-B9DF-DD6E7CA5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720C6-9F9A-4D20-A342-5AC3A4C9E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D3828-0E61-4B95-B770-EEA0F8E2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D20E5-A384-4C25-BDDF-88FB2A0A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03F2A-0DB4-4FDA-8314-D984E8D7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324A2-AA54-46F7-98C3-E8C20DEA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9362F-7E65-43C1-BDB7-D4C64A9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FBB6B-A554-4931-BB3A-78AEF3C5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BEA70-688D-4131-A728-92FFA00D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8017F-F6E8-4774-BF71-51448C26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F61C9-DC29-43F8-8193-9FC98800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46B4F-A97E-47DF-A63D-30B13E03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715F8-90F1-4E75-BD67-BB4E9DFB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1765D-74DC-4AAC-91BC-759195E0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76795-CC35-4CF0-BC66-4096448A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DCD98-A342-4B3D-8CC4-365A2A0B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32741-1533-4A0A-8C29-493748C8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FB38C-ECF0-428C-9048-CD33996E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6B531-8FDE-42F7-9020-954D9E89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C6683-6C10-462E-A10B-AE2285C0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DD5F3-7B6D-4A34-B3F0-AD1E1F25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B0FBA-9F10-46E5-91AA-42AB1E24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53DB9-AD1A-47C1-B10F-3EE40A2F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B7122-FD0E-45BE-BDC0-41FA7967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0F3EE-1D97-48AF-A9C8-37036E76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69BD2-DC95-45AD-A0E6-5689CFC0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F3B3F-7165-4D4D-A648-B409A324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E7E4F-0B03-4171-8348-D4F18C1D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E1F36-517F-49FD-A930-D065CB1F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40E7F-C38E-42FC-8181-BA1BB8EB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7335D-E73B-41FD-BA46-E075F104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EA3FB-3771-414A-89E1-713DBDD5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57B7B-F860-46D4-8491-1EDD2564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9F7B8-B087-4004-BE80-48397953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12B51-1951-42D3-8480-A1244BCD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F5D10-E43C-4E65-A501-5CB3D5E2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C7D5E-32B8-4FAC-99FC-C3F51306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9D757-C6D2-4F62-B9BA-63712A5F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A4412-2D0A-4743-995C-4828A009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65C9E-D3DE-45E3-87BF-78CBAC40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0613E-9B82-45DD-9E11-C47D783D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1F8A6-BE4C-418C-8A53-80C397FE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C3B48-7ED1-4A48-BB1D-583EA4D6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E3E1D-AF75-47CD-8235-AFAA7BE0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0A425-ECA2-4E87-874A-3A603CFF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79DF8-1ECA-4FDE-B0F5-D32F1C98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EEAA5-6D79-4300-AA04-06254864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C2060-A8B6-410B-8E1B-3B30EA05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1219D-BCA1-4B7A-A21D-9EEFC8DE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70657-027C-460E-8B9D-B68A1281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6826D-C131-4975-A31D-C7CDA5E9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7EB3-81E3-441F-8272-72697362686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2A8D-CC56-4E63-9F42-501121A69D7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543A-D0E2-443B-B430-96CFC538FF7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6404-458C-4FC6-B2E1-D43C9D5E6F4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B1F8-3F49-4E08-9A1E-B0C2DCF9E0D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8250-3C71-4C0B-AE43-4DBEF3CC55C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A6FC-C8E1-4B8A-B6AB-D404807286F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09D8-23E5-4C25-981B-E733A544735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14B8-737F-48D3-BB38-5ED4D907638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A498-E465-4700-99EA-DA63BE6B773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FED2-446A-429F-8DBF-EC5B38A6BFF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1050840" y="2948040"/>
            <a:ext cx="6846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"/>
          <p:cNvSpPr/>
          <p:nvPr/>
        </p:nvSpPr>
        <p:spPr>
          <a:xfrm>
            <a:off x="179280" y="174780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за разработване и изпълнение на проекти по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Съвместна европейска инициатива за устойчиви инвестиции в градските рай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JES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за представители на 6-те гр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Бургас, Варна, Русе, Стара Загора, Плевен, Пловд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Arial"/>
              </a:rPr>
              <a:t>14 – 15 януари 2013 г., гр. София, хотел Сити Аве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кономически анализ – показатели за оценка на проек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кономическа нетна настояща стойност (ИННС, Е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PV</a:t>
            </a: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кономическа вътрешна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орма на възвръщаемост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ВНВ,Е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RR</a:t>
            </a: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ъотношение “Ползи/разходи” (П/Р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B/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47280" y="1412640"/>
            <a:ext cx="5257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кономически анализ – показатели за оценка на проек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41097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Финансов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ННС; ФВНВ; П/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азарни ц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читат външни въздей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4572000" y="1916280"/>
            <a:ext cx="45720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Икономически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НС; ИВНВ; П/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носителни цени или алтернативни цени на ст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тчитат максимално всички външни въз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324000" y="4221000"/>
            <a:ext cx="8229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В</a:t>
            </a:r>
            <a:r>
              <a:rPr b="0" lang="bg-BG" sz="20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1" lang="bg-BG" sz="20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резултат от икономическия анализ: Повечето проекти с ниска или отрицателна ФВНВ ще имат положителна ИВН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684000" y="1600200"/>
            <a:ext cx="80024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bg-BG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дин проект е икономически оправдан, когат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НС &gt;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ВНВ &gt;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/Р &gt;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и на анализа на чувствителността и анализа на рис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а се установят онези параметри на външна и вътрешна среда за проекта, които могат да окажат значително въздействие върху реализацията на проекта и представляват реален рис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езултат от тези анализи следва да се планират и предприемат мерки, които да елиминират или намалят влиянието на идентифицираните рискове върху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ализ на чувствителността - и</a:t>
            </a: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следват с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вестиционни разхо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еративни приходи – вариации в цените; равнище на събираем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перативни разходи – динамиката на разходите за някои стоки и услуги, които са от критично значение за определени проек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циални рискове, свързани с възможното отхвърляне на проекта от страна на населението поради потенциалното му въздействие върху качеството на живота. (Установяват се с качествени изследвания на базата на въпросници или директни контакти със заинтересованите лиц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нализ на чувствителностт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ценка на влиянието на промяната на отделни фактори върху финансовите и икономически показатели на проекта като ВНВ, ННС и съотношението приходи разходи (П/Р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оектът е по-чувствителен към този фактор, при който промените на съответните стойности оказват по–значимо влияние върху ВНВ, ННС и П/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ко променяме стойностите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величаване или намаляване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на дадени фактори с един и същ процент, промените върху ВНВ, ННС и П/Р ще са различни като проекта е по чувствителен към тези фактори, които ги променят с по–голяма величи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ъгласно Ръководството за ЕК за анализ на разходите и ползите</a:t>
            </a:r>
            <a:r>
              <a:rPr b="1" lang="bg-BG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ектът е чувствителен ак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1% изменение на съответния анализиран параметър води до повече от 1% промяна във ФВНВ и ФННС на проект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468000" y="1599840"/>
            <a:ext cx="821844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Анализ на рис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ед като се направи анализ на чувствителността и се определят онези фактори, спрямо които проекта е чувствителен т.е. силно зависим, трябва да се определят онези рискове, които могат да доведат до сбъдване на “лошите” сценарии за развит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днъж определени, за тези рискове се прави отделен анализ на вероятността те да се сбъднат, като за целта се търсят аргументи “за” и “против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пециализиран софтуер – Монте Карло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4"/>
          <p:cNvSpPr/>
          <p:nvPr/>
        </p:nvSpPr>
        <p:spPr>
          <a:xfrm>
            <a:off x="324000" y="1341360"/>
            <a:ext cx="835164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исковете се оценяват и от гледна точка на възможностите за въздействие и превенция за тяхното недопускане или намаляване на отрицателното им въздей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белязват се мерки, някои от които изискват и  допълнителни финансови ресурси, за да се предотвратят последиците от реализацията на определен ри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Приме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повишаване на капацитета на звена и институ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сключване на застраховк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Arial"/>
              </a:rPr>
              <a:t>Тези разходи следва да се включат в окончателният модел и изчисленията, свързани с финансовия и икономическия анализ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1042920" y="2706480"/>
            <a:ext cx="684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 u="sng">
                <a:solidFill>
                  <a:srgbClr val="000000"/>
                </a:solidFill>
                <a:uFillTx/>
                <a:latin typeface="Arial"/>
              </a:rPr>
              <a:t>Икономически анализ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r>
              <a:rPr b="1" lang="bg-BG" sz="3200" spc="-1" strike="noStrike" u="sng">
                <a:solidFill>
                  <a:srgbClr val="000000"/>
                </a:solidFill>
                <a:uFillTx/>
                <a:latin typeface="Arial"/>
              </a:rPr>
              <a:t>Анализ на чувствителността и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7"/>
          <p:cNvSpPr/>
          <p:nvPr/>
        </p:nvSpPr>
        <p:spPr>
          <a:xfrm>
            <a:off x="395280" y="1413000"/>
            <a:ext cx="788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Анализ на разходите и полз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Group 8"/>
          <p:cNvGrpSpPr/>
          <p:nvPr/>
        </p:nvGrpSpPr>
        <p:grpSpPr>
          <a:xfrm>
            <a:off x="971640" y="1844640"/>
            <a:ext cx="7068600" cy="3753000"/>
            <a:chOff x="971640" y="1844640"/>
            <a:chExt cx="7068600" cy="3753000"/>
          </a:xfrm>
        </p:grpSpPr>
        <p:sp>
          <p:nvSpPr>
            <p:cNvPr id="628" name="Rectangle 9"/>
            <p:cNvSpPr/>
            <p:nvPr/>
          </p:nvSpPr>
          <p:spPr>
            <a:xfrm>
              <a:off x="971640" y="2950920"/>
              <a:ext cx="2585880" cy="1364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0"/>
            <p:cNvSpPr/>
            <p:nvPr/>
          </p:nvSpPr>
          <p:spPr>
            <a:xfrm>
              <a:off x="5345640" y="1844640"/>
              <a:ext cx="2694600" cy="8683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1"/>
            <p:cNvSpPr/>
            <p:nvPr/>
          </p:nvSpPr>
          <p:spPr>
            <a:xfrm>
              <a:off x="5345640" y="3188520"/>
              <a:ext cx="2694600" cy="86832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2"/>
            <p:cNvSpPr/>
            <p:nvPr/>
          </p:nvSpPr>
          <p:spPr>
            <a:xfrm>
              <a:off x="5345640" y="4729320"/>
              <a:ext cx="2694600" cy="868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13"/>
            <p:cNvSpPr/>
            <p:nvPr/>
          </p:nvSpPr>
          <p:spPr>
            <a:xfrm>
              <a:off x="1140840" y="3396600"/>
              <a:ext cx="241668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Arial"/>
                </a:rPr>
                <a:t>Анализ на разходите и ползи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14"/>
            <p:cNvSpPr/>
            <p:nvPr/>
          </p:nvSpPr>
          <p:spPr>
            <a:xfrm>
              <a:off x="5345640" y="2142000"/>
              <a:ext cx="2694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Arial"/>
                </a:rPr>
                <a:t>Финансов анали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15"/>
            <p:cNvSpPr/>
            <p:nvPr/>
          </p:nvSpPr>
          <p:spPr>
            <a:xfrm>
              <a:off x="5551200" y="3398040"/>
              <a:ext cx="22590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2000" spc="-1" strike="noStrike">
                  <a:solidFill>
                    <a:srgbClr val="000000"/>
                  </a:solidFill>
                  <a:latin typeface="Arial"/>
                </a:rPr>
                <a:t>Икономически анали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16"/>
            <p:cNvSpPr/>
            <p:nvPr/>
          </p:nvSpPr>
          <p:spPr>
            <a:xfrm>
              <a:off x="5345640" y="4727520"/>
              <a:ext cx="24645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800" spc="-1" strike="noStrike">
                  <a:solidFill>
                    <a:srgbClr val="000000"/>
                  </a:solidFill>
                  <a:latin typeface="Arial"/>
                </a:rPr>
                <a:t>Анализ на чувствителността и рис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7"/>
            <p:cNvSpPr/>
            <p:nvPr/>
          </p:nvSpPr>
          <p:spPr>
            <a:xfrm flipV="1">
              <a:off x="3557520" y="2268000"/>
              <a:ext cx="1788120" cy="137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>
              <a:off x="3557520" y="3643560"/>
              <a:ext cx="1788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9"/>
            <p:cNvSpPr/>
            <p:nvPr/>
          </p:nvSpPr>
          <p:spPr>
            <a:xfrm>
              <a:off x="3557520" y="3643560"/>
              <a:ext cx="1788120" cy="149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7"/>
          <p:cNvGrpSpPr/>
          <p:nvPr/>
        </p:nvGrpSpPr>
        <p:grpSpPr>
          <a:xfrm>
            <a:off x="2843280" y="1916280"/>
            <a:ext cx="3449520" cy="3671640"/>
            <a:chOff x="2843280" y="1916280"/>
            <a:chExt cx="3449520" cy="3671640"/>
          </a:xfrm>
        </p:grpSpPr>
        <p:sp>
          <p:nvSpPr>
            <p:cNvPr id="640" name="AutoShape 8"/>
            <p:cNvSpPr/>
            <p:nvPr/>
          </p:nvSpPr>
          <p:spPr>
            <a:xfrm>
              <a:off x="2843280" y="1916280"/>
              <a:ext cx="344952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Group 9"/>
            <p:cNvGrpSpPr/>
            <p:nvPr/>
          </p:nvGrpSpPr>
          <p:grpSpPr>
            <a:xfrm>
              <a:off x="2843280" y="2027520"/>
              <a:ext cx="3449520" cy="3560400"/>
              <a:chOff x="2843280" y="2027520"/>
              <a:chExt cx="3449520" cy="3560400"/>
            </a:xfrm>
          </p:grpSpPr>
          <p:sp>
            <p:nvSpPr>
              <p:cNvPr id="642" name="_s1028"/>
              <p:cNvSpPr/>
              <p:nvPr/>
            </p:nvSpPr>
            <p:spPr>
              <a:xfrm flipV="1" rot="10800000">
                <a:off x="3733920" y="3918960"/>
                <a:ext cx="1668960" cy="1668960"/>
              </a:xfrm>
              <a:custGeom>
                <a:avLst/>
                <a:gdLst>
                  <a:gd name="textAreaLeft" fmla="*/ 556200 w 1668960"/>
                  <a:gd name="textAreaRight" fmla="*/ 1112760 w 1668960"/>
                  <a:gd name="textAreaTop" fmla="*/ 556200 h 1668960"/>
                  <a:gd name="textAreaBottom" fmla="*/ 1112760 h 166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_s1029"/>
              <p:cNvSpPr/>
              <p:nvPr/>
            </p:nvSpPr>
            <p:spPr>
              <a:xfrm flipV="1" rot="10800000">
                <a:off x="2843280" y="2027520"/>
                <a:ext cx="3449520" cy="1891440"/>
              </a:xfrm>
              <a:custGeom>
                <a:avLst/>
                <a:gdLst>
                  <a:gd name="textAreaLeft" fmla="*/ 718560 w 3449520"/>
                  <a:gd name="textAreaRight" fmla="*/ 2730960 w 3449520"/>
                  <a:gd name="textAreaTop" fmla="*/ 393840 h 1891440"/>
                  <a:gd name="textAreaBottom" fmla="*/ 1497600 h 189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4" name="Text Box 12"/>
          <p:cNvSpPr/>
          <p:nvPr/>
        </p:nvSpPr>
        <p:spPr>
          <a:xfrm>
            <a:off x="3492360" y="2421000"/>
            <a:ext cx="2408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кономически 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3851280" y="4076640"/>
            <a:ext cx="1349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инансов анал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4"/>
          <p:cNvSpPr/>
          <p:nvPr/>
        </p:nvSpPr>
        <p:spPr>
          <a:xfrm>
            <a:off x="2124000" y="1052640"/>
            <a:ext cx="519444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Финансов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s. </a:t>
            </a:r>
            <a:r>
              <a:rPr b="1" lang="bg-BG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кономически анализ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684360" y="1628640"/>
            <a:ext cx="7416720" cy="29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кономическият анали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дгражда финансовия анализ и показва пълната и социално обективна характеристика на съответния проект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ценява приноса на проекта към икономическото благосъстояние на региона или странат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кономическият анализ се прави от гледна точка на цялото общество (регион или страна), а не само за собственика на инфраструктурата, както при финансовия анализ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684360" y="1628640"/>
            <a:ext cx="741672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целта се използват различни техники и подходи: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рансформиране на пазарните цени в относителни цени (коригиране на цените, изкривени от пазарното несъвършенств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тчитане на  външни фактори, водещи до социалн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лзи и разход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е генериращи действителни парични разходи или доходи - въздействие върху околната среда, спестяване на време и др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684360" y="1413000"/>
            <a:ext cx="7416720" cy="25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оригиране на ценит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Цените на ресурсите и резултатите за анализа на ползите и разходите не трябва да съдържат ДДС и други косвени данъц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Чистите трансферни плащания на лица, като субсидии и социални осигуровки, трябва да бъдат изключен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684360" y="1413000"/>
            <a:ext cx="741672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т пазарни към относителни цен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кущите цени на ресурсите и резултатите </a:t>
            </a: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не винаг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отразяват тяхната социална стойност поради изкривявания на пазара, кат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- монопо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- търговски барие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- държавна политика, и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зи фактори следва да се премахнат при икономическата оценка на самият проек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числяване на стандартен фактор </a:t>
            </a: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(конверсионен коефициент)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за преобразуване на изкривявания на цените на ресурси и резулта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2"/>
          <p:cNvSpPr/>
          <p:nvPr/>
        </p:nvSpPr>
        <p:spPr>
          <a:xfrm>
            <a:off x="324000" y="1413000"/>
            <a:ext cx="85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Икономически/социални ползи и разх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Икономически ползи –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одобряване състоянието на околната среда – води, въздух, отпадъци; спестяване на време; намаляване на заболеваемостта сред населението; повишаване стойността на имотите в района на проекта и др. (остойностяван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Икономически разходи –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повишаване на шумовия фон по време на изграждането на проекта; замърсяване на въздуха в резултат от преминаване на камиони; понижаване стойността на имотите в района на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Arial"/>
              </a:rPr>
              <a:t>Общо правил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секи социален разход или полза, които се разпространяват от проекта към други лица без компенсация, трябва да бъдат отчетени при АРП в допълнение към финансовите разхо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User</cp:lastModifiedBy>
  <dcterms:modified xsi:type="dcterms:W3CDTF">2013-01-02T15:54:12Z</dcterms:modified>
  <cp:revision>100</cp:revision>
  <dc:subject/>
  <dc:title>Слайд 1</dc:title>
</cp:coreProperties>
</file>