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1064-8987-4233-AD9A-CAC57E4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958C-09C2-4F04-9FC5-924259F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B614-455D-4206-B9C1-78B993F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1F15-0562-4A62-87B7-3C0D2AA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3A43-9124-4B6D-9430-31F9521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C756B-99A4-4E3C-AF6C-3D8972F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8B30-F441-43A3-A778-B040161A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3B6E-B43C-44D3-B3B6-88C86E2D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06414-553D-4782-A2F7-FF6EA663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A2D0C-EF6F-434A-8052-FF4E5AC4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BEEE8-70E9-47C6-9BEA-1B905ED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927A5-F3A9-4278-9C3B-CA9E32B1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3A83B-65C3-4BE6-94A2-7F079FC4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3316-427B-4AFE-BA81-B3F4126E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56792-125B-4192-A535-2575B6A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6D6AC-EA8A-4A85-8EFE-3EAEC54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64400-2CEF-4BB3-86E4-0886DBE5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7BA5E-0E10-46EE-9696-612D5E4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CDF5A-6682-4300-92EF-F6AD816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EF30B-7A1E-4643-AF0E-C73BA8B4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E35CA-B0DC-4C1E-A82D-D6CC2DA5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3CB50-AABB-4DB9-A3CF-ED4CAA96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3B511-E8C9-4734-85B9-79E54A4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06BB0-23B2-446E-991D-51C6FEDC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20A75-C322-4884-ADAE-3CA7FEF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15FBF-482C-4E2F-9DA1-ED22483C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CF846-F892-4DAC-879E-3C9F0CF7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1B868-5570-42C8-A3BF-B08799B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CD3E3-0058-4B0A-9166-6D2EC4C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0217F-4FF4-47D8-A64F-5584BA60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376-E825-43F5-AF07-2F236DCB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4D59-3706-4449-99F6-12A6AE6E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2EA80-D7DE-4677-8B64-1876FF90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485AC-0FEF-4F3D-9632-BC8D6CE1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D3C6-8874-4AC0-9023-D01F3B6F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6D57A-2FCE-4019-92E5-27FC2E33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8072-2667-4B58-90A6-3EFA6607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9292-AD80-4DC0-8518-6C981DD5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425B7-CA35-4F55-BB6E-827CF166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051B9-60E5-4B02-A3C9-F4A4949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0880-407A-42F2-BF5A-719524A5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746-6584-4E2F-9A34-BFCF4B5D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679B6-AF45-4C9A-A949-E583665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2B4AD-9562-4DF8-BB02-9CDC2AB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AA6D-395C-4B19-A50A-6CE6CA4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FEB59-2160-4263-860C-453DD29E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B2E3A-B349-4D2E-83A6-7E8B7F10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9C6-6EC6-423A-90C9-7FD9E4D4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30A-FF25-4ECA-8E78-D465805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173-CDBB-45A6-84C9-232AC7ED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FAA-71C0-4319-A73C-7BD1F22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B90-3E09-4A94-B899-F198001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D28-3F00-4128-9DD3-93F1874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A6B-ED23-4A23-9956-B844900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3D4-4080-4AD0-9793-FC65ACC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756-F99C-4FAA-8342-E4ECD19D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2AF-5AC6-4B04-BAD4-A565D8CB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DB1F-1A8A-44DA-BA13-DC3F3BD6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1B3A-B2B5-40F4-83A4-72B5AC56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0C9-7B74-41EB-958C-D61EDAB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8961-FDF5-4FA3-B20A-5F907DB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978E-0E9D-4A04-B589-CCAB1EAB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950-CE0D-4986-833F-A4E0A4D9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3B98-B0EA-444C-958D-6C13B56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B9C-3493-4E7E-8B39-AC997970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A07B-1089-4D3F-B1B0-FBE7997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F183-050C-40DD-B192-ECFED93B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658E-273E-4044-9686-584F0ACF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43A7-2230-4530-9938-9A31D7B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1069-2D03-4982-94C7-6093F965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7244-4183-4DD4-8F43-50F601B2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4620-0DF2-4F11-BD12-EB5450C2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097C-D3E7-4099-9959-D2089F5B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B638-0497-4926-8A3F-5A3EBD0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6AC8-B418-4371-8249-7696949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081A-F532-4642-A4DD-CB18EA7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5D42-152F-484D-AC37-147D2F6D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7FC2-A9C0-4B7C-8B3E-AF810C50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2569-0C1B-421A-81A4-87943390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262F-8CD1-4B09-9C92-F6116BD4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26DE-61C5-4AC0-A958-1A94152A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7A80-5DBE-430B-994C-88F7C091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2357-9A71-41F8-AE2D-E9BED356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312B-5A84-48A8-B80A-E0CF2DE9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88DA-E88D-4E81-9EAB-BD16E1CA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F79D-C7AC-42B2-96B0-DCDE2A7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E910-3B10-48F5-BA61-A75D5FF8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610B-900A-4486-9959-ABA4D28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6988-C3AC-4987-BAC7-DBCBC3E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CABC-8850-45E6-B464-1A5DAD7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E750-0C8A-461B-AABA-1F28DC6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C82C-7763-47FC-ABC2-4C8970EC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BE250-236D-4531-9C40-4718E1DC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633EF-F87A-41D5-A964-DB305B24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F80C-3B14-4F74-B9C2-B26492B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DA15-E064-4988-9D80-330819BA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7097-6153-4962-93AE-F1D53E1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D67A-19D8-451B-BFE2-C89017EB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A7DD-AEDE-4AED-82C7-74198AE7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0C9C-816D-49D3-A877-AC1F761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6127-379C-48B4-BDF4-4A45DE2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F3E9-D209-4480-AD50-FF50F78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E0B2-A0ED-430F-81DC-C585A755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A589-2FDE-487A-9664-C997BC39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DE5D-101F-4B50-AE5E-3DB6BA31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6997-25C6-48CA-AFDE-12BFD479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F2CC6-BA10-4E5A-93B8-086C0A63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54CA-9FBF-46A3-81DE-ECB8A6E0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5955-30C8-4E9F-9973-6809B586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42C20-0473-4E91-A083-14DD033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8983-5ACA-476B-8069-77DF9F7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7A271-4350-4783-B160-C21DA2C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62F2-DBF6-48E3-8BC8-BFF5CC6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E919E-16A3-456B-A28E-2D5F902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9CFC-CF0C-413A-9EA8-2CA6EF0D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5C47-31F9-4CDF-AC3E-15BFE6B8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8E3C-C2F5-415A-905E-5F739089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7D4E-34ED-4B84-A639-0EEE79E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FEDC-8D1E-40C4-A26E-5D5DDC8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29CE-21B8-4EAD-9A4E-7C7A2CB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9F3F-5E2C-470B-90C7-F0E88C53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E00F-0827-47BB-9E5B-B5A9E69C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2795-91DC-4B72-8881-57DEF374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E18D-3CCF-437E-99A0-4AB11EC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51455-45D0-4B62-A6E1-8EEE9B04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4B51-EB4B-42DB-8862-E2A539A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2BB2-E6B5-47A5-8663-1FA2FCA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7917-6709-4DD2-A79D-C9DABB33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D37A-2817-4681-8750-5BA09F1A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8BDF-C1EB-427A-8FBD-14783CC7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39313-0CCF-4FAC-9FD1-DF94A181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5936-4734-4020-B069-DF190B98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47F-3BC1-4F84-ABE1-65026B10EE5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357-9F7D-42E6-A42B-144F937B061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0838-06EB-45D3-98B1-D47195AD74B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F0D6-5CE3-40F1-B1B6-693E9C69D60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A36-2C5D-4401-9C2E-285780E3113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11B-4DE4-491C-8841-757322FBA63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527-B33A-4D9A-A74D-0C65C41062E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A87-3440-47A4-A3DA-70CD3A01FF4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E27-B489-4129-BAB6-2289D022F6B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EE46-E0EF-4FAD-ABCB-C7DEA81A9C8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FDB5-3A45-407B-896C-F7E855E8E47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1050840" y="2948040"/>
            <a:ext cx="6846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"/>
          <p:cNvSpPr/>
          <p:nvPr/>
        </p:nvSpPr>
        <p:spPr>
          <a:xfrm>
            <a:off x="179280" y="174780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за разработване и изпълнение на проекти п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Съвместна европейска инициатива за устойчиви инвестиции в градските рай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за представители на 6-те 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Бургас, Варна, Русе, Стара Загора, Плевен, Пловд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14 – 15 януари 2013 г., гр. София, хотел Сити Ав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 – показатели за оценка на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а нетна настояща стойност (ИННС, 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PV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а вътрешн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рма на възвръщаемост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ВНВ,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RR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ъотношение “Ползи/разходи” (П/Р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B/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47280" y="1412640"/>
            <a:ext cx="525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 – показатели за оценка н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097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Финансов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ННС; ФВНВ; П/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зарни ц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читат външни въз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572000" y="1916280"/>
            <a:ext cx="45720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Икономически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НС; ИВНВ; П/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носителни цени или алтернативни цени на с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читат максимално всички външни въ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324000" y="4221000"/>
            <a:ext cx="8229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В</a:t>
            </a:r>
            <a:r>
              <a:rPr b="0" lang="bg-BG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1" lang="bg-BG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резултат от икономическия анализ: Повечето проекти с ниска или отрицателна ФВНВ ще имат положителна ИВН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дин проект е икономически оправдан, кога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НС &g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ВНВ &gt;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/Р &gt;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и на анализа на чувствителността и анализа на рис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 се установят онези параметри на външна и вътрешна среда за проекта, които могат да окажат значително въздействие върху реализацията на проекта и представляват реален рис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зултат от тези анализи следва да се планират и предприемат мерки, които да елиминират или намалят влиянието на идентифицираните рискове върху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ализ на чувствителността - и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следват с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вестиционни разх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еративни приходи – вариации в цените; равнище на събираем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еративни разходи – динамиката на разходите за някои стоки и услуги, които са от критично значение за определени проек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циални рискове, свързани с възможното отхвърляне на проекта от страна на населението поради потенциалното му въздействие върху качеството на живота. (Установяват се с качествени изследвания на базата на въпросници или директни контакти със заинтересованите лиц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 на чувствителност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ценка на влиянието на промяната на отделни фактори върху финансовите и икономически показатели на проекта като ВНВ, ННС и съотношението приходи разходи (П/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ектът е по-чувствителен към този фактор, при който промените на съответните стойности оказват по–значимо влияние върху ВНВ, ННС и П/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о променяме стойностит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величаване или намаляван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дадени фактори с един и същ процент, промените върху ВНВ, ННС и П/Р ще са различни като проекта е по чувствителен към тези фактори, които ги променят с по–голяма велич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ъгласно Ръководството за ЕК за анализ на разходите и ползите</a:t>
            </a: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ектът е чувствителен ак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% изменение на съответния анализиран параметър води до повече от 1% промяна във ФВНВ и ФННС на прое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 на р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 като се направи анализ на чувствителността и се определят онези фактори, спрямо които проекта е чувствителен т.е. силно зависим, трябва да се определят онези рискове, които могат да доведат до сбъдване на “лошите” сценарии за разви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днъж определени, за тези рискове се прави отделен анализ на вероятността те да се сбъднат, като за целта се търсят аргументи “за” и “против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ециализиран софтуер – Монте Карло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324000" y="1341360"/>
            <a:ext cx="83516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исковете се оценяват и от гледна точка на възможностите за въздействие и превенция за тяхното недопускане или намаляване на отрицателното им въз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белязват се мерки, някои от които изискват и  допълнителни финансови ресурси, за да се предотвратят последиците от реализацията на определен р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повишаване на капацитета на звена и институ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сключване на застраховк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Тези разходи следва да се включат в окончателният модел и изчисленията, свързани с финансовия и икономическия анали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1042920" y="2706480"/>
            <a:ext cx="684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 анализ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1" lang="bg-BG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 на чувствителността и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7"/>
          <p:cNvSpPr/>
          <p:nvPr/>
        </p:nvSpPr>
        <p:spPr>
          <a:xfrm>
            <a:off x="395280" y="1413000"/>
            <a:ext cx="788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Анализ на разходите и полз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8"/>
          <p:cNvGrpSpPr/>
          <p:nvPr/>
        </p:nvGrpSpPr>
        <p:grpSpPr>
          <a:xfrm>
            <a:off x="971640" y="1844640"/>
            <a:ext cx="7068600" cy="3753000"/>
            <a:chOff x="971640" y="1844640"/>
            <a:chExt cx="7068600" cy="3753000"/>
          </a:xfrm>
        </p:grpSpPr>
        <p:sp>
          <p:nvSpPr>
            <p:cNvPr id="628" name="Rectangle 9"/>
            <p:cNvSpPr/>
            <p:nvPr/>
          </p:nvSpPr>
          <p:spPr>
            <a:xfrm>
              <a:off x="971640" y="2950920"/>
              <a:ext cx="2585880" cy="136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0"/>
            <p:cNvSpPr/>
            <p:nvPr/>
          </p:nvSpPr>
          <p:spPr>
            <a:xfrm>
              <a:off x="5345640" y="1844640"/>
              <a:ext cx="2694600" cy="8683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5345640" y="3188520"/>
              <a:ext cx="2694600" cy="8683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5345640" y="4729320"/>
              <a:ext cx="2694600" cy="868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3"/>
            <p:cNvSpPr/>
            <p:nvPr/>
          </p:nvSpPr>
          <p:spPr>
            <a:xfrm>
              <a:off x="1140840" y="3396600"/>
              <a:ext cx="24166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Анализ на разходите и ползи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5345640" y="2142000"/>
              <a:ext cx="26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Финансов анали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5"/>
            <p:cNvSpPr/>
            <p:nvPr/>
          </p:nvSpPr>
          <p:spPr>
            <a:xfrm>
              <a:off x="5551200" y="3398040"/>
              <a:ext cx="2259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Икономически анали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6"/>
            <p:cNvSpPr/>
            <p:nvPr/>
          </p:nvSpPr>
          <p:spPr>
            <a:xfrm>
              <a:off x="5345640" y="4727520"/>
              <a:ext cx="24645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Анализ на чувствителността и ри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7"/>
            <p:cNvSpPr/>
            <p:nvPr/>
          </p:nvSpPr>
          <p:spPr>
            <a:xfrm flipV="1">
              <a:off x="3557520" y="2268000"/>
              <a:ext cx="1788120" cy="137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>
              <a:off x="3557520" y="3643560"/>
              <a:ext cx="178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9"/>
            <p:cNvSpPr/>
            <p:nvPr/>
          </p:nvSpPr>
          <p:spPr>
            <a:xfrm>
              <a:off x="3557520" y="3643560"/>
              <a:ext cx="1788120" cy="14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7"/>
          <p:cNvGrpSpPr/>
          <p:nvPr/>
        </p:nvGrpSpPr>
        <p:grpSpPr>
          <a:xfrm>
            <a:off x="2843280" y="1916280"/>
            <a:ext cx="3449520" cy="3671640"/>
            <a:chOff x="2843280" y="1916280"/>
            <a:chExt cx="3449520" cy="3671640"/>
          </a:xfrm>
        </p:grpSpPr>
        <p:sp>
          <p:nvSpPr>
            <p:cNvPr id="640" name="AutoShape 8"/>
            <p:cNvSpPr/>
            <p:nvPr/>
          </p:nvSpPr>
          <p:spPr>
            <a:xfrm>
              <a:off x="2843280" y="1916280"/>
              <a:ext cx="344952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9"/>
            <p:cNvGrpSpPr/>
            <p:nvPr/>
          </p:nvGrpSpPr>
          <p:grpSpPr>
            <a:xfrm>
              <a:off x="2843280" y="2027520"/>
              <a:ext cx="3449520" cy="3560400"/>
              <a:chOff x="2843280" y="2027520"/>
              <a:chExt cx="3449520" cy="3560400"/>
            </a:xfrm>
          </p:grpSpPr>
          <p:sp>
            <p:nvSpPr>
              <p:cNvPr id="642" name="_s1028"/>
              <p:cNvSpPr/>
              <p:nvPr/>
            </p:nvSpPr>
            <p:spPr>
              <a:xfrm flipV="1" rot="10800000">
                <a:off x="3733920" y="3918960"/>
                <a:ext cx="1668960" cy="1668960"/>
              </a:xfrm>
              <a:custGeom>
                <a:avLst/>
                <a:gdLst>
                  <a:gd name="textAreaLeft" fmla="*/ 556200 w 1668960"/>
                  <a:gd name="textAreaRight" fmla="*/ 1112760 w 1668960"/>
                  <a:gd name="textAreaTop" fmla="*/ 556200 h 1668960"/>
                  <a:gd name="textAreaBottom" fmla="*/ 1112760 h 166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_s1029"/>
              <p:cNvSpPr/>
              <p:nvPr/>
            </p:nvSpPr>
            <p:spPr>
              <a:xfrm flipV="1" rot="10800000">
                <a:off x="2843280" y="2027520"/>
                <a:ext cx="3449520" cy="1891440"/>
              </a:xfrm>
              <a:custGeom>
                <a:avLst/>
                <a:gdLst>
                  <a:gd name="textAreaLeft" fmla="*/ 718560 w 3449520"/>
                  <a:gd name="textAreaRight" fmla="*/ 2730960 w 3449520"/>
                  <a:gd name="textAreaTop" fmla="*/ 393840 h 1891440"/>
                  <a:gd name="textAreaBottom" fmla="*/ 1497600 h 189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Text Box 12"/>
          <p:cNvSpPr/>
          <p:nvPr/>
        </p:nvSpPr>
        <p:spPr>
          <a:xfrm>
            <a:off x="3492360" y="2421000"/>
            <a:ext cx="2408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3851280" y="4076640"/>
            <a:ext cx="1349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ансов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2124000" y="1052640"/>
            <a:ext cx="5194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ансов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</a:t>
            </a:r>
            <a:r>
              <a:rPr b="1" lang="bg-BG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684360" y="1628640"/>
            <a:ext cx="7416720" cy="29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кономическият анал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дгражда финансовия анализ и показва пълната и социално обективна характеристика на съответния проек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ценява приноса на проекта към икономическото благосъстояние на региона или странат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кономическият анализ се прави от гледна точка на цялото общество (регион или страна), а не само за собственика на инфраструктурата, както при финансовия анали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1628640"/>
            <a:ext cx="74167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целта се използват различни техники и подходи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ансформиране на пазарните цени в относителни цени (коригиране на цените, изкривени от пазарното несъвършен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читане на  външни фактори, водещи до социал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лзи и разход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генериращи действителни парични разходи или доходи - въздействие върху околната среда, спестяване на време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684360" y="1413000"/>
            <a:ext cx="74167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ригиране на цени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ените на ресурсите и резултатите за анализа на ползите и разходите не трябва да съдържат ДДС и други косвени данъц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Чистите трансферни плащания на лица, като субсидии и социални осигуровки, трябва да бъдат изключен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1413000"/>
            <a:ext cx="741672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т пазарни към относителни це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кущите цени на ресурсите и резултатите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 винаг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отразяват тяхната социална стойност поради изкривявания на пазара, кат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монопо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търговски бари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държавна политика, и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зи фактори следва да се премахнат при икономическата оценка на самият прое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числяване на стандартен фактор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(конверсионен коефициент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 преобразуване на изкривявания на цените на ресурси и резулт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24000" y="1413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/социални ползи и раз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 ползи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яване състоянието на околната среда – води, въздух, отпадъци; спестяване на време; намаляване на заболеваемостта сред населението; повишаване стойността на имотите в района на проекта и др. (остойностяван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 разходи –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овишаване на шумовия фон по време на изграждането на проекта; замърсяване на въздуха в резултат от преминаване на камиони; понижаване стойността на имотите в района н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бщо прави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еки социален разход или полза, които се разпространяват от проекта към други лица без компенсация, трябва да бъдат отчетени при АРП в допълнение към финансовите разх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02T15:54:12Z</dcterms:modified>
  <cp:revision>100</cp:revision>
  <dc:subject/>
  <dc:title>Слайд 1</dc:title>
</cp:coreProperties>
</file>