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EBA90-1BDA-4204-BA4D-D4A1C390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C32BF-EA02-4641-B02C-95E87E05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16F51-68F0-457F-B5E1-32C9E61D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4E9AF-C57B-4159-A7C0-7124E0CE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9710F-D3AD-4053-B471-C27E6F2C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E2646-5963-4F44-917F-3B508042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9767A-833C-4AD8-ADF8-FC71C8EE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85CF7-02E9-4856-A92E-816D8BF6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05A23-D972-4A82-AF2A-3B8BC826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7F2A9-9683-4660-A2C7-F19BA530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91067-3C71-4BBF-9922-29F74621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351F7-7F48-4054-B88D-CB6796A2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FB02B-046F-4BAE-9090-9FC3CED1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EC3FD-95A3-40FC-A3A7-D1F97D80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FBEF1-0556-4AFB-AFEE-579F9075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D36BD-C97B-49A6-8DF0-4EF2FEA9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1BEF7-644A-4127-A10A-59927F3F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F0827-D0BB-433B-B9CE-E6D2D42B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B2E52-CE33-43B5-8FD0-B49FD5FE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46816-859A-4AB6-B4E2-78B73B56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72A74-5200-4C46-B8C3-8E766027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A00DE-D680-40C0-8E74-F1E97BE6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D8846-1E11-47A6-AF93-8ED45724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1F9B7-5876-4729-99E8-4C815071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91CD8-6CC9-4CEC-937D-4BF72263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AA2BC-4DD0-48FE-B541-AF0F9516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8EBAB-B2F6-4BCF-9D85-D5D5921C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1B3C4-B8A1-4341-8001-43284A27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1A560-9153-48A9-855C-DAFD8E56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0164A-5387-4892-95E9-03A166CD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78B-A844-4F62-8A26-206FC79E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B46A6-287C-4197-890B-BBC1099E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73936-77F4-41B4-923B-F86AF88B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997E3-874D-43BE-9604-5A97C144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82FA4-D0B1-45A1-A795-225B0722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99646-4FD4-49F6-8D7A-9A7A089B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CC917-44D6-458D-884F-9FAB33C8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1918E-9309-45A2-82C6-BDEF9CC5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D53B6-FC37-4CFA-895D-E9CB9C58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BEF9D-D833-4EAE-A006-A850F626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696F8-BAB6-4F85-9657-E5EDFBFC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A22-5774-4044-9F38-09A7C756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14F63-1C79-4FF1-A466-B6D90975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C7669-82AD-4D96-A6BB-25C757CB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348F0-411B-4E1A-A85E-E5A39109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C3340-E672-46CC-8DA0-9FC0286C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89845-C1E1-46B8-8DE6-C7DA294B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A78-E0A2-4BC0-A939-54F128AD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098-45A9-49A5-81D9-3C761E62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76A-722B-46C6-BF15-C4E13963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36D-8F4A-4F95-B2BE-96BF2B18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5AF-CD26-4059-B18B-40066FDF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762-7A0F-4164-A2F4-988A20E4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EE1-3972-4333-9A50-70631E10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5CF-2745-46CC-9308-6B9540AD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0F1-D867-4E1D-81A5-3D2880C7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5BE-0FCC-4F91-8AF4-44A5504A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0F69-CCD3-4915-BDD7-E664D22D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6276-F601-4813-A175-7C7CA652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FA83-58E5-4AA9-8683-952F8199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B2B1-82A9-4BC9-93FD-89F7EB71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BA3A-25E9-4BEC-97CA-FB2D2C42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D527-80DD-4B47-9D44-A970CCB3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1461-696C-4ED1-850B-84105664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2243-5389-4689-8ECD-9C59BA57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52BB-C1BE-4A2F-9BDE-7B38FD0F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949A-D756-434A-92B4-CD15FC88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ED93-1C41-43B0-BE90-DC89EB7D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923F-1A51-48AD-A362-FCE5573D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3BE33-F020-48C8-B493-B58089C4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CA29E-D11E-488E-B166-1F2F16AC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193D-305C-40F5-812D-B491E70A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5D92B-FFFE-4662-9944-6A43B2DA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B06C-789E-424D-A921-37C135E4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BEE1-285F-4212-B4E6-8B33C794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F183F-3D6D-4E1E-AD45-60A928A0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DDD61-68BB-42BE-82D1-6CF6FA20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F1723-3538-4E17-AF5B-8BB607F4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7D4E-9CE2-4741-9AC9-59C62455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9117-CE3F-4A21-8646-41B08837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761BB-3A4A-4737-8AC9-A0573E65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DA900-B6F3-447B-A49B-A3EDB0DA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2EBE1-9394-44EE-9FDE-96F7D346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2B2E3-CA80-4924-AF05-827A2A2D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9F598-F3C5-4064-8101-C22FBF17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8E7E8-74B7-45F2-BEE2-1D132643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87B58-A23A-47A9-B3C7-52F37AEB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C38DC-0CEF-4F83-A8C4-8A10AD9A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88A26-0876-4225-B418-436A9AD7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CF9E8-B0CB-4ADC-B9C4-A0F3E5DA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0BA6-6492-4BD3-86AE-2FC96C2B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82F68-ED4B-4389-BE52-E8B299F4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78388-BF96-43F8-BFE4-EA4208CF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BA64D-F2D2-4C6C-B020-B9947735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24EC0-D80F-4CE3-8DCD-26A97C0E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25E19-6167-46CC-A8B7-91FF725F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B3A9C-99C7-4971-B745-25E2D554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5939E-F16B-419C-80B9-F0D287E6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B91AC-58F1-4EEF-B918-CCA27580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C394D-DEE0-44FA-A4B9-511BF188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E0E7C-5AD6-40BF-9E01-E7491F64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BE61D-94EE-429E-BDB0-B9B9E2D0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E0913-C4B9-4B49-87B7-52A73DDA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7CAA3-52D2-4D15-B67F-12CC1B42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E4D2F-3EA9-45FD-A64A-97E58447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27EC7-AC10-4822-886F-0059E302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3111A-8270-4B6F-A73F-9240BB29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4306D-AC5F-46B6-A14C-DCFEB39F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DF0F0-2202-4E84-89E5-5EAA9367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A7DEF-4E2D-4AAC-856E-EE0B6E0F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DA7AD-7901-47FF-9DB3-81AEF819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65D10-DD59-4BB7-BC65-00ABB04C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5B19F-5CCE-48F2-8307-E715D2F7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B09D5-032C-4A37-80F2-1259FB89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68D4D-61EB-4F66-8D30-26E77DCC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0706F-B023-4881-BFC4-46CEE649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D5483-85CA-4783-90BF-A7C07501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502BE-092F-47A3-8DCF-F8CAD2E0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E74C4-8D9D-4B2B-BC7A-550B09EA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89453-D769-4EF6-89B1-0148A131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110A2-3326-45A4-9E6F-EBE265B6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55A8F-A5F6-4B14-8EF7-A3C399DA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DCC86-C1C7-4E92-838A-5DA266AF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7D696-4AA7-4702-A493-BA405524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CE796-E442-48F3-B923-DC932E9B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F0981-203E-47DD-A987-9CA64E9E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78F50-7480-419F-A42A-F0508021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75C9B-49EE-44AD-9B8C-343CE2F5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E5F18-A5DD-4099-96B4-2928DBF4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63EE0-49E3-416B-9969-8E28A543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77913-8087-4972-ACE6-1161DC6A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2929C-870D-4A5D-93F9-4799E88D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F23F-70FA-4C96-B02A-EA9FBCBEE76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3CA1-A3D2-41F3-AB3F-BAAF480AC27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8918-18F8-43DB-8736-EB8B67F2850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7BC6-B98F-4C4D-AF88-A18BC5809AF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428A-498F-4E1B-8D4E-FCF119493DA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548A-A4F7-4550-9860-40B01CE56C1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3A9B-A029-4774-AAE8-7360DDB4857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6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4E6B-4FBD-4DEF-818D-901238D61EE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4255-EBE0-4410-BDEE-6D6765FFEFC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36ED-11BA-4EF3-9A43-E12971D3DEC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1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A3F5-028D-4042-9461-440FBA0BEE3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7" descr="hd.jpg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1368720"/>
          </a:xfrm>
          <a:prstGeom prst="rect">
            <a:avLst/>
          </a:prstGeom>
          <a:ln w="0">
            <a:noFill/>
          </a:ln>
        </p:spPr>
      </p:pic>
      <p:sp>
        <p:nvSpPr>
          <p:cNvPr id="624" name="Title 1"/>
          <p:cNvSpPr/>
          <p:nvPr/>
        </p:nvSpPr>
        <p:spPr>
          <a:xfrm>
            <a:off x="539640" y="364500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Фонд за устойчиво градско развитие на София (ФУГР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3"/>
          <p:cNvSpPr/>
          <p:nvPr/>
        </p:nvSpPr>
        <p:spPr>
          <a:xfrm>
            <a:off x="6084720" y="508464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1f497d"/>
                </a:solidFill>
                <a:latin typeface="Arial"/>
              </a:rPr>
              <a:t>Ива Петк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1f497d"/>
                </a:solidFill>
                <a:latin typeface="Arial"/>
              </a:rPr>
              <a:t>Декември 201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Допустими кандидати за финансиране от ФУГРС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толична общин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търговски дружества, в които Столична община има участие над 50 на сто от капитала на дружествот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други общински  публично-правни организации на Столична община по смисъла на Закона за публично-частното партньорство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публично-частни дружества, създадени по реда и при условията на Закона за публично-частното партньорство, или лица, сключили договор за публично-частно партньорство, в които страна по договора са Столична община или нейни общински  публично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-</a:t>
            </a: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правни организации по смисъла на Закона за публично-частното партньорств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други юридически лица, включително частни инвеститор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Не подлежат на финансиране със средствата на ФУГРС лицата: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които са в ликвидация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за които е подадена молба за откриване на производство по несъстоятелност или за които е открито производство по несъстоятелност и/или са обявени или се намират в процедура по обявяване на несъстоятелност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имат просрочени публично-правни задължения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имат просрочени задължения към банки и/или други финансови институци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се намират в състояние на свръхзадлъжнялост, според счетоводните си отче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са с неизяснен правен статут или непрозрачна структура на капитал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са с недоказан произход на средствата, с които участват в съответния проект или инвестиция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ФУГРС не предоставя финансиране на лица, които според становището на банката–партньор и/или на експертите на ФУГРС са с лоша заемоспособност и/или нестабилно финансово състояние и/или по друга причина са носители на висок финансов риск</a:t>
            </a: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Допустимите проекти за градско развитие трябва да отговарят кумулативно на следните условия: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Проектът е изпълним и реализуем според посочените в бизнес плана срокове, начин и необходими средств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2. Проектът е финансово устойчив, генерира във времето положителни нетни парични потоци, което му позволява да погасява в срок дължимите главници и лихви към ФУГРС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3. Проектът няма да може да привлече финансиране в необходимия размер от частни инвеститори, поради ниска възвръщаемост, която е под нормалното пазарно равнищ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4. Проектът предоставя ясна, обоснована и убедителна информация за разходите, бъдещите приходи и паричните потоци, собствения финансов принос на кандида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Изисквания за допустимост  на проект за градско развитие (1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целите и обхвата на допустимите дейности по приоритетна ос 1 „Устойчиво и интегрирано градско развитие” на ОПР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Регламентите за Структурните фондове на Е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целите и обхвата на Инвестиционната стратегия на Холдингов фонд по JESSICA за Българ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Интегрирания план за градско възстановяване и  развитие на град София или част от специалните общински планове (Общински план за развитие, Общ устройствен и Подробни устройствени планове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целите на местната власт и широка обществена подкреп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5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3" descr="Заснемане на цял екран 28.11.2012 142505.bmp.jpg"/>
          <p:cNvPicPr/>
          <p:nvPr/>
        </p:nvPicPr>
        <p:blipFill>
          <a:blip r:embed="rId1"/>
          <a:stretch/>
        </p:blipFill>
        <p:spPr>
          <a:xfrm>
            <a:off x="6012000" y="3357720"/>
            <a:ext cx="2662200" cy="21142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Изисквания за допустимост  на проект за градско развитие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45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структуриран по начин, по който устойчиво генерира приходи за възвръщане на инвестицията (с нетна настояща стойност 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&gt;0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)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5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невъзможност за реализация при чисто пазарни услов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JESSICA </a:t>
            </a:r>
            <a:r>
              <a:rPr b="1" lang="bg-BG" sz="1600" spc="-1" strike="noStrike">
                <a:solidFill>
                  <a:srgbClr val="1f497d"/>
                </a:solidFill>
                <a:latin typeface="Calibri"/>
              </a:rPr>
              <a:t>финансира проекти тип В</a:t>
            </a: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1f497d"/>
                </a:solidFill>
                <a:latin typeface="Calibri"/>
              </a:rPr>
              <a:t>Проекти тип А се финансират изцяло от паза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bg-BG" sz="1600" spc="-1" strike="noStrike">
                <a:solidFill>
                  <a:srgbClr val="1f497d"/>
                </a:solidFill>
                <a:latin typeface="Calibri"/>
              </a:rPr>
              <a:t>За финансирането на проекти тип С се използ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bg-BG" sz="1600" spc="-1" strike="noStrike">
                <a:solidFill>
                  <a:srgbClr val="1f497d"/>
                </a:solidFill>
                <a:latin typeface="Calibri"/>
              </a:rPr>
              <a:t>субсидия под формата на безвъзмездна финансова помощ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Не подлежи на финансиране проект, който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включва създаването и разработването на финансови инструменти, като фондове за рисков капитал, заеми и гаран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не разполага с жизнеспособен и реализуем бизнес план, свързан с използването на финансиране, осигурено чрез ФУГР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ако бъде финансиран от ФУГРС, ще доведе до нарушаване на националното законодателство в сферата на държавните помощи и Правилата на ЕС относно държавната помощ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е получил финансиране от други Структурни фондове на ЕС или друго финансиране, освен в случаите, когато са налице убедителни доказателства, че не се осъществява двойно финансира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е вече приключе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ФУГРС няма да предоставя средства за рефинансиране на дейности, придобивания или участия в проекти за градско развит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54061"/>
                </a:solidFill>
                <a:latin typeface="Calibri"/>
              </a:rPr>
              <a:t>Схема на цикъла на кандидатств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Content Placeholder 7" descr="Picture1.jpg"/>
          <p:cNvPicPr/>
          <p:nvPr/>
        </p:nvPicPr>
        <p:blipFill>
          <a:blip r:embed="rId1"/>
          <a:stretch/>
        </p:blipFill>
        <p:spPr>
          <a:xfrm>
            <a:off x="1116000" y="1484280"/>
            <a:ext cx="6886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Етапи на кандидатств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254061"/>
                </a:solidFill>
                <a:latin typeface="Calibri"/>
              </a:rPr>
              <a:t>1 етап – Подаване на попълнен формуляр за кандидатстване и придружаващите го документи в офиса на ФУГРС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254061"/>
                </a:solidFill>
                <a:latin typeface="Calibri"/>
              </a:rPr>
              <a:t>2 етап – Подаване на бизнес план</a:t>
            </a:r>
            <a:r>
              <a:rPr b="1" lang="en-US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При успешно преминаване на оценката на допустимостта на проекта, ФУГРС отправя покана до крайния получател да подаде актуален Бизнес план на проекта, както и информация за структурата на заема и предлаганите обезпечения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Picture 3" descr="collage2.jpg"/>
          <p:cNvPicPr/>
          <p:nvPr/>
        </p:nvPicPr>
        <p:blipFill>
          <a:blip r:embed="rId1"/>
          <a:stretch/>
        </p:blipFill>
        <p:spPr>
          <a:xfrm>
            <a:off x="1116000" y="3860640"/>
            <a:ext cx="7307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Формуляр за кандидатств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улярът за кандидатстване, съгласно образец, е наличен на интернет страницата на ФУГРС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jessicasofia.com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улярът включв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 сек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ИНФОРМАЦИЯ ЗА КАНДИДАТА И ПАРТНЬОРА/ ПАРТНЬОР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ИНФОРМАЦИЯ ЗА КРЕДИТ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(Общ бюджет  на проекта , Размер на искания кредит , Прогнозна дата за усвояване и за погасяван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ИНФОРМАЦИЯ ЗА ПРОЕКТА 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(Цели , Целева(и) група(и), Кратко описание , Очаквани резултати, Период за изпълнение,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ектна готовност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екущ етап на развитие на проекта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Собственост на проекта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, Проведени и предстоящи обществени поръчки по проекта, мерки, свързани с публичността и разпространението на информац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Формуляр за кандидатств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4.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ЪОТВЕТСТВИЕ НА ПРОЕКТ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проекта с конкретната операция на приоритетна ос 1, с ИПГВР, с хоризонталните политики на 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5.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АДМИНИСТРАТИВЕН КАПАЦИТЕТ НА КАНДИДАТА И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ПАРТНЬОРА/ИТЕ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Лица, ангажирани с проект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Осъществени проекти на кандидат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и н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артньорит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6. СЪВМЕСТИМОСТ С ПОЛИТИКИТЕ И ЗАКОНОДАТЕЛСТВОТО НА ОБЩНОСТ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7. ОБЕЗПЕЧЕНИЯ 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(със средства от общинския бюджет, други обезпече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8. ПОРЪЧИТЕЛСТВО ИЛИ ГАРАН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9. ДЕКЛАР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10. ПРИ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Иновациите на инициативата </a:t>
            </a:r>
            <a:r>
              <a:rPr b="1" lang="en-US" sz="2800" spc="-1" strike="noStrike">
                <a:solidFill>
                  <a:srgbClr val="254061"/>
                </a:solidFill>
                <a:latin typeface="Calibri"/>
              </a:rPr>
              <a:t>JESS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95280" y="2133720"/>
            <a:ext cx="8229600" cy="35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11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62626"/>
                </a:solidFill>
                <a:latin typeface="Calibri"/>
              </a:rPr>
              <a:t>Преход от финансиране чрез схеми за предоставяне на безвъзмездна финансова помощ към финансов инженеринг и револвиращи финансови инструмен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11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62626"/>
                </a:solidFill>
                <a:latin typeface="Calibri"/>
              </a:rPr>
              <a:t>Осигуряване на дългосрочна икономическа жизнеспособност на градските проекти чрез стимулиране развитието на публично-частни партньорства и частни инвестици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11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62626"/>
                </a:solidFill>
                <a:latin typeface="Calibri"/>
              </a:rPr>
              <a:t>Набавяне на допълнителни ресурси за предоставяне на заеми и публично-частни партньорства и други проекти за развитие на градската среда в регионите на ЕС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11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62626"/>
                </a:solidFill>
                <a:latin typeface="Calibri"/>
              </a:rPr>
              <a:t>Предоставяне на финансови и мениджърски умения от международни финансови институции като ЕИБ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11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62626"/>
                </a:solidFill>
                <a:latin typeface="Calibri"/>
              </a:rPr>
              <a:t>Осигуряване на устойчивост в дългосрочен аспект посредством револвиращия характер на финансовия ресур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ПРИЛОЖЕНИЯ </a:t>
            </a:r>
            <a:r>
              <a:rPr b="1" i="1" lang="bg-BG" sz="24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придружаващи докумен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ъм формуляра за кандидатстване се прилагат следните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дружаващи документ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решение на компетентния орган на крайния получател за ползване и обезпечаване на заем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документи относно правния статут на крайния получател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удостоверение за актуално правно състояние; копие от актуален устав, учредителен акт или дружествен договор;  декларация за свързаност с други лица (по образец на ФУГРС); годишна данъчна декларация, надлежно заверена от данъчните органи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декларация за липса на обстоятелствата по чл.11, ал.2 от Инвестиционната политика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по</a:t>
            </a: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разец на ФУГРС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копие от годишните финансови отчети на крайния получател за последните три годин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удостоверение за наличие/липса на публични задължения по ДОПК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декларация за наличие/липса на съдебни производства срещу крайния получате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референции от обслужващите бан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ПРИЛОЖЕНИЯ </a:t>
            </a:r>
            <a:r>
              <a:rPr b="1" i="1" lang="bg-BG" sz="24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придружаващи докумен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8. Протокол от обсъждане в Обществен съвет на Столична община, потвърждаващ обществената значимост на проек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9. Официално писмо от Столична община, потвърждаващо съответствие на проекта с ИПГВР на град София или част от специалните общински планове </a:t>
            </a:r>
            <a:r>
              <a:rPr b="0" i="1" lang="ru-RU" sz="1600" spc="-1" strike="noStrike">
                <a:solidFill>
                  <a:srgbClr val="262626"/>
                </a:solidFill>
                <a:latin typeface="Calibri"/>
              </a:rPr>
              <a:t>(Общински план за развитие, Общ устройствен план и Подробни устройствени планове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10. </a:t>
            </a:r>
            <a:r>
              <a:rPr b="1" lang="bg-BG" sz="1600" spc="-1" strike="noStrike">
                <a:solidFill>
                  <a:srgbClr val="1f497d"/>
                </a:solidFill>
                <a:latin typeface="Calibri"/>
              </a:rPr>
              <a:t>Приложение 3 (по образец) </a:t>
            </a:r>
            <a:r>
              <a:rPr b="0" lang="bg-BG" sz="1600" spc="-1" strike="noStrike">
                <a:solidFill>
                  <a:srgbClr val="262626"/>
                </a:solidFill>
                <a:latin typeface="Calibri"/>
              </a:rPr>
              <a:t>Контролен лист 1 Оценка на общата допустимост и Контролен лист 2 – Оценка на допустимостта – попълнена графа за Кандида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62626"/>
                </a:solidFill>
                <a:latin typeface="Calibri"/>
              </a:rPr>
              <a:t>К</a:t>
            </a:r>
            <a:r>
              <a:rPr b="0" lang="en-GB" sz="1600" spc="-1" strike="noStrike">
                <a:solidFill>
                  <a:srgbClr val="262626"/>
                </a:solidFill>
                <a:latin typeface="Calibri"/>
              </a:rPr>
              <a:t>опие от договора за публично-частно партньорство и приложенията към него относно всяко лице, страна по договора </a:t>
            </a:r>
            <a:r>
              <a:rPr b="0" i="1" lang="bg-BG" sz="1600" spc="-1" strike="noStrike">
                <a:solidFill>
                  <a:srgbClr val="262626"/>
                </a:solidFill>
                <a:latin typeface="Calibri"/>
              </a:rPr>
              <a:t>(ако е приложим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62626"/>
                </a:solidFill>
                <a:latin typeface="Calibri"/>
              </a:rPr>
              <a:t>Д</a:t>
            </a:r>
            <a:r>
              <a:rPr b="0" lang="en-GB" sz="1600" spc="-1" strike="noStrike">
                <a:solidFill>
                  <a:srgbClr val="262626"/>
                </a:solidFill>
                <a:latin typeface="Calibri"/>
              </a:rPr>
              <a:t>руги документи, изисквани за удостоверяване на финансовото състояние на </a:t>
            </a: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крайния получател </a:t>
            </a:r>
            <a:r>
              <a:rPr b="0" lang="en-GB" sz="1600" spc="-1" strike="noStrike">
                <a:solidFill>
                  <a:srgbClr val="262626"/>
                </a:solidFill>
                <a:latin typeface="Calibri"/>
              </a:rPr>
              <a:t>и на целта на исканото финансиран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Оценка на проектите  </a:t>
            </a:r>
            <a:r>
              <a:rPr b="0" lang="bg-BG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роцедурата по оценка на кандидатстващите проекти се извършва по следните  основни критер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1. Оценка на общата допустимос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, която включва: проверка на съответствието на проекта по отношение на критериите  за допустимост (териториален обхват, вид на проекта, допустими инструменти, инвестиционни лимити, допустими лица, други специфични изисквания на JESSICA и т.н.), съответствието и пълнотата на  апликационна форма и придружаващите я документи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2. Оценка на бизнес план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, включително: оценка на  финансовите параметри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структура на заема и на предлаганите обезпечения и оценка на социално-икономическата значимост на проекта и съответствието с целите на Приоритетна ос 1 по ОПРР, Инвестиционната стратегия на ХФДБ, Оперативното споразумение с ЕИБ и Инвестиционната политика на ФУГР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3. Оценка на кредитоспособността и финансовия рис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81565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Оценка на кредитоспособността и финансовия рис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Банката-партньор разглежда и оценява искането за финансиране по отношение на  заемоспособността и финансовия риск на лицето, както след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ценка на риска и финансовите показатели на проектите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, предмет на  искането за предоставяне на финансиране на проект за градско развитие на град Соф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проверка дали проектът изпълнява финансовите критерии за допустимост на финансирането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, а именно: проверка дали проектът е  структуриран по начин, по който генерира приходи, достатъчни за изплащане на финансирането в срок и оценка на финансовата рентабилност и предложената структура на финансиранет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ценка на кредитоспособността на лицата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, кандидатстващи за финансиране, включително на поръчителите, ако има таки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Процедура по оц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5720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Банката-партньор подготвя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мотивирано писмено предложение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до Инвестиционния комитет на ФУГРС за одобряване или отхвърляне на  искането за финансиране и за параметрите и условията, при които да се предостави финансиранет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Изпълнителният директор на ФУГРС изготвя мотивирано предложение, което съдържа предложението на банката 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ценката  за съответствието на проекта по отношение на общата допустимост </a:t>
            </a:r>
            <a:r>
              <a:rPr b="0" i="1" lang="bg-BG" sz="1800" spc="-1" strike="noStrike">
                <a:solidFill>
                  <a:srgbClr val="1f497d"/>
                </a:solidFill>
                <a:latin typeface="Calibri"/>
              </a:rPr>
              <a:t>(изготвено от ФУГРС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ценка на бизнес плана и финансово–икономическите показатели </a:t>
            </a:r>
            <a:r>
              <a:rPr b="0" i="1" lang="bg-BG" sz="1800" spc="-1" strike="noStrike">
                <a:solidFill>
                  <a:srgbClr val="1f497d"/>
                </a:solidFill>
                <a:latin typeface="Calibri"/>
              </a:rPr>
              <a:t>(изготвено от ФУГРС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Структура на заема и на предлаганите обезпечения</a:t>
            </a:r>
            <a:r>
              <a:rPr b="0" i="1" lang="bg-BG" sz="1800" spc="-1" strike="noStrike">
                <a:solidFill>
                  <a:srgbClr val="1f497d"/>
                </a:solidFill>
                <a:latin typeface="Calibri"/>
              </a:rPr>
              <a:t> (изготвено от ФУГРС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Мотивираното предложение се внася за разглеждане в Инвестиционен комитет на ФУГРС, който взема решение за финансиране или отказ от финансиране на всеки отделен проек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Често срещани заблуди за отпусканото финансиране по линия на JESSIC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По линия на JESSICA фондовете за градско развитие </a:t>
            </a:r>
            <a:r>
              <a:rPr b="1" lang="bg-BG" sz="1800" spc="-1" strike="noStrike">
                <a:solidFill>
                  <a:srgbClr val="262626"/>
                </a:solidFill>
                <a:latin typeface="Calibri"/>
              </a:rPr>
              <a:t>не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отпускат безвъзмездна помощ, а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безпечени нисколихвени заеми за изпълнение на градски проекти.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ФУГРС изисква от крайните получатели да осигурят обезпечения относно вземанията си във връзка с одобрено финансиране в размер не по-малко от 125% от размера на одобреното финансиран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Picture 3" descr="eugrantsupdateservice.jpg"/>
          <p:cNvPicPr/>
          <p:nvPr/>
        </p:nvPicPr>
        <p:blipFill>
          <a:blip r:embed="rId1"/>
          <a:stretch/>
        </p:blipFill>
        <p:spPr>
          <a:xfrm>
            <a:off x="3780000" y="2060640"/>
            <a:ext cx="4935240" cy="2035080"/>
          </a:xfrm>
          <a:prstGeom prst="rect">
            <a:avLst/>
          </a:prstGeom>
          <a:ln w="0">
            <a:noFill/>
          </a:ln>
        </p:spPr>
      </p:pic>
      <p:sp>
        <p:nvSpPr>
          <p:cNvPr id="718" name="TextBox 4"/>
          <p:cNvSpPr/>
          <p:nvPr/>
        </p:nvSpPr>
        <p:spPr>
          <a:xfrm>
            <a:off x="468360" y="2205000"/>
            <a:ext cx="32400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Финансова подкрепа на ЕС = безвъзмездна финансова помощ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Безлихвени креди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Необезпеченост на заема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O</a:t>
            </a:r>
            <a:r>
              <a:rPr b="1" lang="bg-BG" sz="3200" spc="-1" strike="noStrike">
                <a:solidFill>
                  <a:srgbClr val="1f497d"/>
                </a:solidFill>
                <a:latin typeface="Calibri"/>
              </a:rPr>
              <a:t>сновните преимущества на заемите по линия на J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SS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68360" y="2565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Дългосрочност -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до 23 години, но не по-късно от 30.06.20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f497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Благоприятни лихвени условия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Заемът включва финансиране със средства, предоставени от ОПРР чрез ЕИБ и съфинансиране със средства на ФУГРС или друга съфинансираща институц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f497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Възможност за кандидатстване на широк кръг субекти за реализацията на обществено-значими проек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f497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Подготовка за следващия програмен период 2014-2020 г. и неговите предизвикател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92360" y="3357720"/>
            <a:ext cx="54864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ww.jessicasofia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63640" y="436536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София, ул. “Солунска” 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02/ 988 23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Picture 8" descr="Jessica_logo_blanka.jpg"/>
          <p:cNvPicPr/>
          <p:nvPr/>
        </p:nvPicPr>
        <p:blipFill>
          <a:blip r:embed="rId1"/>
          <a:stretch/>
        </p:blipFill>
        <p:spPr>
          <a:xfrm>
            <a:off x="2050920" y="1989000"/>
            <a:ext cx="444528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54061"/>
                </a:solidFill>
                <a:latin typeface="Calibri"/>
              </a:rPr>
              <a:t>Институционална рамка на </a:t>
            </a: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JESSICA</a:t>
            </a:r>
            <a:r>
              <a:rPr b="1" lang="bg-BG" sz="2400" spc="-1" strike="noStrike">
                <a:solidFill>
                  <a:srgbClr val="254061"/>
                </a:solidFill>
                <a:latin typeface="Calibri"/>
              </a:rPr>
              <a:t> в Бълг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Group 49"/>
          <p:cNvGrpSpPr/>
          <p:nvPr/>
        </p:nvGrpSpPr>
        <p:grpSpPr>
          <a:xfrm>
            <a:off x="468360" y="1557360"/>
            <a:ext cx="8229240" cy="4032000"/>
            <a:chOff x="468360" y="1557360"/>
            <a:chExt cx="8229240" cy="4032000"/>
          </a:xfrm>
        </p:grpSpPr>
        <p:sp>
          <p:nvSpPr>
            <p:cNvPr id="630" name="Text Box 7"/>
            <p:cNvSpPr/>
            <p:nvPr/>
          </p:nvSpPr>
          <p:spPr>
            <a:xfrm>
              <a:off x="468360" y="1662840"/>
              <a:ext cx="1508760" cy="52920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254061"/>
                  </a:solidFill>
                  <a:latin typeface="Arial"/>
                </a:rPr>
                <a:t>Управляващ Орган</a:t>
              </a:r>
              <a:r>
                <a:rPr b="1" lang="en-US" sz="1200" spc="-1" strike="noStrike">
                  <a:solidFill>
                    <a:srgbClr val="254061"/>
                  </a:solidFill>
                  <a:latin typeface="Arial"/>
                </a:rPr>
                <a:t> (</a:t>
              </a:r>
              <a:r>
                <a:rPr b="1" lang="bg-BG" sz="1200" spc="-1" strike="noStrike">
                  <a:solidFill>
                    <a:srgbClr val="254061"/>
                  </a:solidFill>
                  <a:latin typeface="Arial"/>
                </a:rPr>
                <a:t>ОПРР</a:t>
              </a:r>
              <a:r>
                <a:rPr b="1" lang="en-US" sz="1200" spc="-1" strike="noStrike">
                  <a:solidFill>
                    <a:srgbClr val="254061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8"/>
            <p:cNvSpPr/>
            <p:nvPr/>
          </p:nvSpPr>
          <p:spPr>
            <a:xfrm>
              <a:off x="3373200" y="2720880"/>
              <a:ext cx="2096640" cy="621360"/>
            </a:xfrm>
            <a:prstGeom prst="rect">
              <a:avLst/>
            </a:prstGeom>
            <a:solidFill>
              <a:srgbClr val="e6b9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Холдингов фонд </a:t>
              </a:r>
              <a:r>
                <a:rPr b="1" lang="en-US" sz="1200" spc="-1" strike="noStrike">
                  <a:solidFill>
                    <a:srgbClr val="082d4c"/>
                  </a:solidFill>
                  <a:latin typeface="Arial"/>
                </a:rPr>
                <a:t>JESS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(управляван от ЕИБ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9"/>
            <p:cNvSpPr/>
            <p:nvPr/>
          </p:nvSpPr>
          <p:spPr>
            <a:xfrm>
              <a:off x="3140640" y="1662840"/>
              <a:ext cx="2556360" cy="529200"/>
            </a:xfrm>
            <a:prstGeom prst="rect">
              <a:avLst/>
            </a:prstGeom>
            <a:solidFill>
              <a:srgbClr val="c4bd9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254061"/>
                  </a:solidFill>
                  <a:latin typeface="Arial"/>
                </a:rPr>
                <a:t>Инвестиционен съвет </a:t>
              </a:r>
              <a:r>
                <a:rPr b="1" lang="en-US" sz="1200" spc="-1" strike="noStrike">
                  <a:solidFill>
                    <a:srgbClr val="254061"/>
                  </a:solidFill>
                  <a:latin typeface="Arial"/>
                </a:rPr>
                <a:t>JESS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10"/>
            <p:cNvSpPr/>
            <p:nvPr/>
          </p:nvSpPr>
          <p:spPr>
            <a:xfrm>
              <a:off x="5464800" y="3461760"/>
              <a:ext cx="1977120" cy="387000"/>
            </a:xfrm>
            <a:prstGeom prst="rect">
              <a:avLst/>
            </a:prstGeom>
            <a:solidFill>
              <a:srgbClr val="ddd9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ФГР Региона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36,7 млн. лв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11"/>
            <p:cNvSpPr/>
            <p:nvPr/>
          </p:nvSpPr>
          <p:spPr>
            <a:xfrm>
              <a:off x="1630080" y="3461760"/>
              <a:ext cx="1857240" cy="387000"/>
            </a:xfrm>
            <a:prstGeom prst="rect">
              <a:avLst/>
            </a:prstGeom>
            <a:solidFill>
              <a:srgbClr val="ddd9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ФГР Соф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24,5 млн. лв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12"/>
            <p:cNvSpPr/>
            <p:nvPr/>
          </p:nvSpPr>
          <p:spPr>
            <a:xfrm>
              <a:off x="1049040" y="4202280"/>
              <a:ext cx="1317240" cy="5011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Публични проек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13"/>
            <p:cNvSpPr/>
            <p:nvPr/>
          </p:nvSpPr>
          <p:spPr>
            <a:xfrm>
              <a:off x="5116320" y="4202280"/>
              <a:ext cx="1318680" cy="5011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2d4c"/>
                  </a:solidFill>
                  <a:latin typeface="Arial"/>
                </a:rPr>
                <a:t>Публични проек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14"/>
            <p:cNvSpPr/>
            <p:nvPr/>
          </p:nvSpPr>
          <p:spPr>
            <a:xfrm>
              <a:off x="6510960" y="4202280"/>
              <a:ext cx="1318680" cy="5011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ПЧ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15"/>
            <p:cNvSpPr/>
            <p:nvPr/>
          </p:nvSpPr>
          <p:spPr>
            <a:xfrm>
              <a:off x="2443680" y="4202280"/>
              <a:ext cx="1318680" cy="5011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ПЧ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16"/>
            <p:cNvSpPr/>
            <p:nvPr/>
          </p:nvSpPr>
          <p:spPr>
            <a:xfrm>
              <a:off x="1746360" y="5155920"/>
              <a:ext cx="1281600" cy="43344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Частни инвеститор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17"/>
            <p:cNvSpPr/>
            <p:nvPr/>
          </p:nvSpPr>
          <p:spPr>
            <a:xfrm>
              <a:off x="3140640" y="5155920"/>
              <a:ext cx="1281600" cy="43344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Общи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AutoShape 18"/>
            <p:cNvCxnSpPr>
              <a:stCxn id="632" idx="1"/>
              <a:endCxn id="630" idx="3"/>
            </p:cNvCxnSpPr>
            <p:nvPr/>
          </p:nvCxnSpPr>
          <p:spPr>
            <a:xfrm flipH="1">
              <a:off x="1976760" y="1927080"/>
              <a:ext cx="116424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42" name="AutoShape 19"/>
            <p:cNvSpPr/>
            <p:nvPr/>
          </p:nvSpPr>
          <p:spPr>
            <a:xfrm>
              <a:off x="2095200" y="1557360"/>
              <a:ext cx="926280" cy="423000"/>
            </a:xfrm>
            <a:prstGeom prst="rightArrow">
              <a:avLst>
                <a:gd name="adj1" fmla="val 50000"/>
                <a:gd name="adj2" fmla="val 54745"/>
              </a:avLst>
            </a:prstGeom>
            <a:solidFill>
              <a:srgbClr val="ffffff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82d4c"/>
                  </a:solidFill>
                  <a:latin typeface="Times New Roman"/>
                </a:rPr>
                <a:t>Контро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3" name="AutoShape 20"/>
            <p:cNvCxnSpPr>
              <a:stCxn id="630" idx="2"/>
              <a:endCxn id="631" idx="1"/>
            </p:cNvCxnSpPr>
            <p:nvPr/>
          </p:nvCxnSpPr>
          <p:spPr>
            <a:xfrm>
              <a:off x="1223640" y="2192040"/>
              <a:ext cx="2149920" cy="840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4" name="AutoShape 21"/>
            <p:cNvCxnSpPr>
              <a:stCxn id="632" idx="2"/>
              <a:endCxn id="631" idx="0"/>
            </p:cNvCxnSpPr>
            <p:nvPr/>
          </p:nvCxnSpPr>
          <p:spPr>
            <a:xfrm>
              <a:off x="4419000" y="2191680"/>
              <a:ext cx="3960" cy="52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45" name="AutoShape 22"/>
            <p:cNvCxnSpPr>
              <a:stCxn id="634" idx="2"/>
              <a:endCxn id="635" idx="0"/>
            </p:cNvCxnSpPr>
            <p:nvPr/>
          </p:nvCxnSpPr>
          <p:spPr>
            <a:xfrm flipH="1">
              <a:off x="1706760" y="3997440"/>
              <a:ext cx="85284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6" name="AutoShape 23"/>
            <p:cNvCxnSpPr>
              <a:stCxn id="634" idx="2"/>
              <a:endCxn id="638" idx="0"/>
            </p:cNvCxnSpPr>
            <p:nvPr/>
          </p:nvCxnSpPr>
          <p:spPr>
            <a:xfrm>
              <a:off x="2559960" y="3997440"/>
              <a:ext cx="54432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AutoShape 24"/>
            <p:cNvCxnSpPr>
              <a:stCxn id="633" idx="2"/>
              <a:endCxn id="636" idx="0"/>
            </p:cNvCxnSpPr>
            <p:nvPr/>
          </p:nvCxnSpPr>
          <p:spPr>
            <a:xfrm flipH="1">
              <a:off x="5776200" y="3997440"/>
              <a:ext cx="67788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AutoShape 25"/>
            <p:cNvCxnSpPr>
              <a:stCxn id="633" idx="2"/>
              <a:endCxn id="637" idx="0"/>
            </p:cNvCxnSpPr>
            <p:nvPr/>
          </p:nvCxnSpPr>
          <p:spPr>
            <a:xfrm>
              <a:off x="6454080" y="3997440"/>
              <a:ext cx="71712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9" name="AutoShape 26"/>
            <p:cNvCxnSpPr>
              <a:stCxn id="635" idx="1"/>
              <a:endCxn id="634" idx="1"/>
            </p:cNvCxnSpPr>
            <p:nvPr/>
          </p:nvCxnSpPr>
          <p:spPr>
            <a:xfrm flipH="1" rot="10800000">
              <a:off x="1049040" y="3719520"/>
              <a:ext cx="581400" cy="732240"/>
            </a:xfrm>
            <a:prstGeom prst="curvedConnector5">
              <a:avLst>
                <a:gd name="adj1" fmla="val -39962"/>
                <a:gd name="adj2" fmla="val 49975"/>
                <a:gd name="adj3" fmla="val -3996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AutoShape 27"/>
            <p:cNvCxnSpPr>
              <a:stCxn id="638" idx="3"/>
              <a:endCxn id="634" idx="3"/>
            </p:cNvCxnSpPr>
            <p:nvPr/>
          </p:nvCxnSpPr>
          <p:spPr>
            <a:xfrm flipH="1" flipV="1">
              <a:off x="3487320" y="3719880"/>
              <a:ext cx="275040" cy="732240"/>
            </a:xfrm>
            <a:prstGeom prst="curvedConnector5">
              <a:avLst>
                <a:gd name="adj1" fmla="val -84665"/>
                <a:gd name="adj2" fmla="val 49975"/>
                <a:gd name="adj3" fmla="val -8466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AutoShape 28"/>
            <p:cNvCxnSpPr>
              <a:stCxn id="636" idx="1"/>
              <a:endCxn id="633" idx="1"/>
            </p:cNvCxnSpPr>
            <p:nvPr/>
          </p:nvCxnSpPr>
          <p:spPr>
            <a:xfrm flipH="1" rot="10800000">
              <a:off x="5115240" y="3719520"/>
              <a:ext cx="348840" cy="732240"/>
            </a:xfrm>
            <a:prstGeom prst="curvedConnector5">
              <a:avLst>
                <a:gd name="adj1" fmla="val -66735"/>
                <a:gd name="adj2" fmla="val 49975"/>
                <a:gd name="adj3" fmla="val -667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2" name="AutoShape 29"/>
            <p:cNvCxnSpPr>
              <a:stCxn id="631" idx="2"/>
              <a:endCxn id="634" idx="0"/>
            </p:cNvCxnSpPr>
            <p:nvPr/>
          </p:nvCxnSpPr>
          <p:spPr>
            <a:xfrm flipH="1">
              <a:off x="2559240" y="3342240"/>
              <a:ext cx="1863000" cy="11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AutoShape 30"/>
            <p:cNvCxnSpPr>
              <a:stCxn id="631" idx="2"/>
              <a:endCxn id="633" idx="0"/>
            </p:cNvCxnSpPr>
            <p:nvPr/>
          </p:nvCxnSpPr>
          <p:spPr>
            <a:xfrm>
              <a:off x="4422240" y="3342240"/>
              <a:ext cx="2032200" cy="11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4" name="AutoShape 31"/>
            <p:cNvCxnSpPr>
              <a:stCxn id="639" idx="0"/>
              <a:endCxn id="638" idx="2"/>
            </p:cNvCxnSpPr>
            <p:nvPr/>
          </p:nvCxnSpPr>
          <p:spPr>
            <a:xfrm flipV="1">
              <a:off x="2387160" y="4702680"/>
              <a:ext cx="717120" cy="45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5" name="Text Box 32"/>
            <p:cNvSpPr/>
            <p:nvPr/>
          </p:nvSpPr>
          <p:spPr>
            <a:xfrm>
              <a:off x="4651560" y="5155920"/>
              <a:ext cx="1281240" cy="43344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Частни инвеститор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33"/>
            <p:cNvSpPr/>
            <p:nvPr/>
          </p:nvSpPr>
          <p:spPr>
            <a:xfrm>
              <a:off x="6046200" y="5155920"/>
              <a:ext cx="1281240" cy="43344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Общи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7" name="AutoShape 34"/>
            <p:cNvCxnSpPr>
              <a:stCxn id="640" idx="0"/>
              <a:endCxn id="638" idx="2"/>
            </p:cNvCxnSpPr>
            <p:nvPr/>
          </p:nvCxnSpPr>
          <p:spPr>
            <a:xfrm flipH="1" flipV="1">
              <a:off x="3101400" y="4702680"/>
              <a:ext cx="678600" cy="45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8" name="AutoShape 35"/>
            <p:cNvCxnSpPr>
              <a:stCxn id="655" idx="0"/>
              <a:endCxn id="636" idx="2"/>
            </p:cNvCxnSpPr>
            <p:nvPr/>
          </p:nvCxnSpPr>
          <p:spPr>
            <a:xfrm flipV="1">
              <a:off x="5291640" y="4702680"/>
              <a:ext cx="484920" cy="45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9" name="AutoShape 36"/>
            <p:cNvCxnSpPr>
              <a:stCxn id="656" idx="0"/>
              <a:endCxn id="636" idx="2"/>
            </p:cNvCxnSpPr>
            <p:nvPr/>
          </p:nvCxnSpPr>
          <p:spPr>
            <a:xfrm flipH="1" flipV="1">
              <a:off x="5775840" y="4702680"/>
              <a:ext cx="910800" cy="45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0" name="AutoShape 37"/>
            <p:cNvCxnSpPr>
              <a:stCxn id="632" idx="3"/>
              <a:endCxn id="633" idx="3"/>
            </p:cNvCxnSpPr>
            <p:nvPr/>
          </p:nvCxnSpPr>
          <p:spPr>
            <a:xfrm>
              <a:off x="5697360" y="1927440"/>
              <a:ext cx="1745280" cy="1793520"/>
            </a:xfrm>
            <a:prstGeom prst="curvedConnector5">
              <a:avLst>
                <a:gd name="adj1" fmla="val 113307"/>
                <a:gd name="adj2" fmla="val 49989"/>
                <a:gd name="adj3" fmla="val 113307"/>
              </a:avLst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</p:cxnSp>
        <p:cxnSp>
          <p:nvCxnSpPr>
            <p:cNvPr id="661" name="AutoShape 38"/>
            <p:cNvCxnSpPr>
              <a:stCxn id="632" idx="3"/>
              <a:endCxn id="637" idx="3"/>
            </p:cNvCxnSpPr>
            <p:nvPr/>
          </p:nvCxnSpPr>
          <p:spPr>
            <a:xfrm>
              <a:off x="5697000" y="1927080"/>
              <a:ext cx="2133000" cy="2525400"/>
            </a:xfrm>
            <a:prstGeom prst="curvedConnector5">
              <a:avLst>
                <a:gd name="adj1" fmla="val 110854"/>
                <a:gd name="adj2" fmla="val 50000"/>
                <a:gd name="adj3" fmla="val 110854"/>
              </a:avLst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662" name="Text Box 39"/>
            <p:cNvSpPr/>
            <p:nvPr/>
          </p:nvSpPr>
          <p:spPr>
            <a:xfrm>
              <a:off x="7673040" y="3355920"/>
              <a:ext cx="1024560" cy="42300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82d4c"/>
                  </a:solidFill>
                  <a:latin typeface="Times New Roman"/>
                </a:rPr>
                <a:t>Мониторин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40"/>
            <p:cNvSpPr/>
            <p:nvPr/>
          </p:nvSpPr>
          <p:spPr>
            <a:xfrm>
              <a:off x="1281600" y="2720880"/>
              <a:ext cx="928080" cy="42300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900" spc="-1" strike="noStrike">
                  <a:solidFill>
                    <a:srgbClr val="082d4c"/>
                  </a:solidFill>
                  <a:latin typeface="Arial"/>
                </a:rPr>
                <a:t>Общо средства</a:t>
              </a:r>
              <a:r>
                <a:rPr b="1" lang="en-US" sz="900" spc="-1" strike="noStrike">
                  <a:solidFill>
                    <a:srgbClr val="082d4c"/>
                  </a:solidFill>
                  <a:latin typeface="Arial"/>
                </a:rPr>
                <a:t> </a:t>
              </a:r>
              <a:r>
                <a:rPr b="1" lang="bg-BG" sz="900" spc="-1" strike="noStrike">
                  <a:solidFill>
                    <a:srgbClr val="082d4c"/>
                  </a:solidFill>
                  <a:latin typeface="Arial"/>
                </a:rPr>
                <a:t>61,5 млн. лв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4" name="AutoShape 41"/>
            <p:cNvCxnSpPr>
              <a:stCxn id="633" idx="3"/>
              <a:endCxn id="637" idx="3"/>
            </p:cNvCxnSpPr>
            <p:nvPr/>
          </p:nvCxnSpPr>
          <p:spPr>
            <a:xfrm>
              <a:off x="7441920" y="3720240"/>
              <a:ext cx="388080" cy="732240"/>
            </a:xfrm>
            <a:prstGeom prst="curvedConnector5">
              <a:avLst>
                <a:gd name="adj1" fmla="val 159888"/>
                <a:gd name="adj2" fmla="val 49975"/>
                <a:gd name="adj3" fmla="val 159888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665" name="Text Box 42"/>
            <p:cNvSpPr/>
            <p:nvPr/>
          </p:nvSpPr>
          <p:spPr>
            <a:xfrm>
              <a:off x="3837960" y="3569040"/>
              <a:ext cx="1276560" cy="42300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2d4c"/>
                  </a:solidFill>
                  <a:latin typeface="Times New Roman"/>
                </a:rPr>
                <a:t>Възвръщаем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43"/>
            <p:cNvSpPr/>
            <p:nvPr/>
          </p:nvSpPr>
          <p:spPr>
            <a:xfrm>
              <a:off x="1978560" y="1980360"/>
              <a:ext cx="1045800" cy="423000"/>
            </a:xfrm>
            <a:prstGeom prst="leftArrow">
              <a:avLst>
                <a:gd name="adj1" fmla="val 50000"/>
                <a:gd name="adj2" fmla="val 61809"/>
              </a:avLst>
            </a:prstGeom>
            <a:solidFill>
              <a:srgbClr val="ffffff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82d4c"/>
                  </a:solidFill>
                  <a:latin typeface="Times New Roman"/>
                </a:rPr>
                <a:t>Отчет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44"/>
            <p:cNvSpPr/>
            <p:nvPr/>
          </p:nvSpPr>
          <p:spPr>
            <a:xfrm>
              <a:off x="3140640" y="2297520"/>
              <a:ext cx="1394280" cy="31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82d4c"/>
                  </a:solidFill>
                  <a:latin typeface="Times New Roman"/>
                </a:rPr>
                <a:t>Контро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45"/>
            <p:cNvSpPr/>
            <p:nvPr/>
          </p:nvSpPr>
          <p:spPr>
            <a:xfrm>
              <a:off x="4302720" y="2297520"/>
              <a:ext cx="1394280" cy="317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82d4c"/>
                  </a:solidFill>
                  <a:latin typeface="Times New Roman"/>
                </a:rPr>
                <a:t>Отчет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Структура на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JESSICA </a:t>
            </a: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в Бълга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1f497d"/>
                </a:solidFill>
                <a:latin typeface="Calibri"/>
              </a:rPr>
              <a:t>Управляващ орган на ОПРР:</a:t>
            </a:r>
            <a:r>
              <a:rPr b="0" lang="bg-BG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отговаря за изпълнение, контрол и мониторинг  на инициатив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ESSIC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1f497d"/>
                </a:solidFill>
                <a:latin typeface="Calibri"/>
              </a:rPr>
              <a:t>Европейска инвестиционна банка:</a:t>
            </a:r>
            <a:r>
              <a:rPr b="0" lang="bg-BG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управляв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администрира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Холдинговия фонд по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ESSICA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изпълнява дейността по JESSICA за и от името на Управляващия орган на ОПРР;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подпомага създаването и инвестира във Фондове за градско развитие в Българ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както и съдейства при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идентифицирането на проект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1f497d"/>
                </a:solidFill>
                <a:latin typeface="Calibri"/>
              </a:rPr>
              <a:t>Инвестиционен съвет на Холдинговия фонд:</a:t>
            </a:r>
            <a:r>
              <a:rPr b="0" lang="bg-BG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включва представители на МРРБ, МФ, МИЕТ и МС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Осъществява контрол върху дейността на Холдинговия фон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Холдингов фонд JESSICA за България 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рганизиран  като „самостоятелен финансов ресурс" в рамките на ЕИБ, в който са внесени средства в размер на 33 млн.евро, предоставени от Управляващия орган на ОПР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Развитие на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JESSICA </a:t>
            </a: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в Бълга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29 юли 2010 г.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–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Министърът на регионалното развитие и благоустройството подписва Финансово споразумение с ЕИБ за създаване на Холдингов фонд по </a:t>
            </a: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JESSICA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7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ктомври 2010 г.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–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Народното събрание ратифицира Финансовото споразумение с ЕИБ за създаване на Холдингов фонд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19 октомври 2010 г.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–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влиза в сила Финансовото споразумение по </a:t>
            </a: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JESSICA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31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март 2011 г.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–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ЕИБ обявява Покана за заявяване на интерес за избиране на два Фонда за градско развитие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28 декември 2011 г.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–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подписано оперативно споразумение за предоставяне на целеви заем на „Регионален фонд за градско развитие” А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30 май 2012 г.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подписано оперативно споразумение за предоставяне на целеви заем на „Фонд за устойчиво градско развитите на София” Е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Фонд за устойчиво </a:t>
            </a:r>
            <a:br>
              <a:rPr sz="2800"/>
            </a:b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градско развитие на Соф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989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255600" algn="just">
              <a:spcBef>
                <a:spcPts val="1199"/>
              </a:spcBef>
              <a:buClr>
                <a:srgbClr val="40404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Ресурс на ФУГРС – 49.2 млн. лева, с възможност за увеличение на участието на фонда при наличие на готови за финансиране проек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255600" algn="just">
              <a:spcBef>
                <a:spcPts val="1199"/>
              </a:spcBef>
              <a:buClr>
                <a:srgbClr val="40404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Банка  партньор – Райфайзенбанк Българ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255600" algn="just">
              <a:spcBef>
                <a:spcPts val="1199"/>
              </a:spcBef>
              <a:buClr>
                <a:srgbClr val="262626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Срокове за инвестиране: 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50%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т средствата д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31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декември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2013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 г.;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80%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т средствата д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31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декември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2014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 г.;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100%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т средствата д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30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юни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2015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3" descr="collage1.jpg"/>
          <p:cNvPicPr/>
          <p:nvPr/>
        </p:nvPicPr>
        <p:blipFill>
          <a:blip r:embed="rId1"/>
          <a:stretch/>
        </p:blipFill>
        <p:spPr>
          <a:xfrm>
            <a:off x="1116000" y="3789360"/>
            <a:ext cx="727236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Инвестиционна политика на ФУГР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Инвестиционната стратегия на  ФУГРС с  фокус върх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1125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бщността и гражданската сигурност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чрез  иновации в образование, здравеопазване, свободно време и възстановяване и други аспекти, свързани с качеството на живо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1125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зеления растеж 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чрез</a:t>
            </a:r>
            <a:r>
              <a:rPr b="1" lang="bg-BG" sz="1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технологични решения за устойчив транспорт и комуникации, ефективна и незамърсяваща мобилност, възобновяема енергия, </a:t>
            </a: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“smart city”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 реш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1125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работната среда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чрез създаване на устойчиви възможности за работа, социален бизнес,  институции за преквалификация и развитие на умения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Инвестиционната политика е основният документ на ФУГРС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, който урежда изискванията и процедурата за осъществяване на дейността по финансиране на допустими проекти за градско развитие на територията на Столична общ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Структура на Инвестиционната политика на ФУГР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Глава  първа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БЩИ ПО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Глава втора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ПРАВИЛА   И КРИТЕРИИ ЗА ДОПУСТИМОСТ  НА ПРОЕКТИТЕ ЗА ГРАДСКО РАЗВИ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Глава трета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УСЛОВИЯ ЗА  ДОПУСТИМОСТ НА ПРОЕКТА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Глава четвърта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ЦИКЪЛ НА КАНДИДАТСТВАНЕ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Глава пета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ПРОЦЕДУРА ЗА РАЗГЛЕЖДАНЕ И ОЦЕНКА НА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Глава шеста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ПРОЦЕДУРА ЗА ПРЕДОСТАВЯНЕ НА ФИНАНСИРА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Глава седма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МОНИТОРИНГ НА ПРОЕКТИТЕ ФИНАНСИРАНИ СЪС СРЕДСТВАТА НА  ФУГР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0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Приоритетни области за финансиране </a:t>
            </a:r>
            <a:br>
              <a:rPr sz="2400"/>
            </a:b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на проектите за градско развит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68360" y="191628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bbb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Осигуряване на подходяща и рентабилна образователна, социална, здравна и културна инфраструктура и подобряване на енергийната й ефективност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9bbb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Изграждане на нова или възстановяване на деградирана или декапитализирана градска инфраструктур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9bbb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Модернизация и развитие на мрежите от инфраструктура за обществен транспорт и комуникаци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9bbb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Организация и подобряване на икономическите дейности чрез развитие и изграждане на нови институции на бизнес среда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3" descr="collage5.jpg"/>
          <p:cNvPicPr/>
          <p:nvPr/>
        </p:nvPicPr>
        <p:blipFill>
          <a:blip r:embed="rId1"/>
          <a:stretch/>
        </p:blipFill>
        <p:spPr>
          <a:xfrm>
            <a:off x="1258920" y="4076640"/>
            <a:ext cx="691344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 </cp:lastModifiedBy>
  <dcterms:modified xsi:type="dcterms:W3CDTF">2012-12-07T07:47:32Z</dcterms:modified>
  <cp:revision>78</cp:revision>
  <dc:subject/>
  <dc:title>Слайд 1</dc:title>
</cp:coreProperties>
</file>