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CB0C5-BA6E-4B10-8FFE-E89203EF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AFA54-6139-4D28-B0D1-BD80CAAE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5F156-64F1-4BF6-B024-D524B8D5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DC9C-BA90-4338-B1DD-BE925375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0987A-3636-4511-82D8-C3AE413C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AA9A2-1366-4F82-A715-E7572CE5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1F7B-71C3-41F3-B81F-07B90494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E3F3D-1498-4917-840F-71B50492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56A1C-9BF8-4E3B-B24F-C3915ED7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A33F-22B4-43F1-87CA-2B6839E4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D8024-6298-410B-84BA-F1238597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36BF3-30BA-4120-97F1-31EA3572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71194-BE3D-4717-B038-02323297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02B64-3033-4F99-A2D0-7294C2D7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E2CA4-E83B-4E4D-AA54-C487200C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1EBA6-D029-473F-AF02-3E47E60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BBC04-2B73-4ED5-A31F-EE4CB805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538809-8E1B-4466-93D1-B69F876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0385E-D07E-4AEB-8680-D450F413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862A2-81B1-43FE-BDF4-B8D7A0625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F404C-89D8-4338-9F78-99BBCFA1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2F58C-736F-4C0F-A5F4-D3F39A59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DBC04-F29D-4B65-B327-0E41D659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73E280-3ED9-47EF-B6AD-1FB9D058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10425-46A0-4650-8BA1-673BAC3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564C1-EB5C-4DAD-8215-EFB0288C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6BDF8-25AD-4B0B-BEC4-310EF865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7D82B-45A4-4A31-995F-9D56471D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79708-DA5A-4450-9374-E2B2257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753F2-D842-4383-AFCE-DD0F355A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52A-AB4D-46B6-9759-98598627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4802E-475F-4088-B35D-13399103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99F5-D5B3-491E-B6F5-C3E8720F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E4D6E-0EE0-4429-BC92-9F2DEFDA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ABCBB-9B48-4D7A-BB74-84FF04B8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C4E65-DAAF-48DF-A6C7-3CFFA7C2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275B6-4F01-40EB-ACA9-A7026259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2FBC1-3A65-4F0A-A5A4-AED2198C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526F6-5300-4177-8CCB-48C5D762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81892-D6F5-4DFE-A9E4-4A817B47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EC8A5-88FD-41DD-82FD-8A50D4CB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E85-7E66-477F-A25C-BB75EEC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B75D3E-484F-40BC-854A-B0B56500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F8CB8-47BD-44A8-91B3-BBD278B9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A8AA4-91A1-41CC-9E79-F6AA65C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39B0A-5566-482E-B1C0-0807ED9E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68BE7-73E0-4D39-88A8-E1798006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948E-916F-4063-867C-44F0E7B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644B-85F2-4B40-87E1-2D264C41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A5DA-08C1-4665-AA4C-810818D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EF2-4203-4A53-8D43-548AE47B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76E-2CF5-4E33-BB8F-7D7460D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E32-55B4-4AE1-BD4C-1E82B06F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3FD-4F15-4A2F-9F0D-E05D4009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EE2-C3E9-4658-AF33-57A1FE81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EF9-15A6-4023-BEA9-39669832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F0A5-84E0-4DEE-BC2E-B1C57338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3327-D207-4386-8C4C-00D44181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E5DE-30A0-4CAA-AF5F-3E25F3E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88EF-03E6-4C81-9AE2-C1FAE371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4C85-599B-45BD-93F7-7DA40CC9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A823-E175-4BC0-A0D4-18843CB9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1289-E245-49CE-A6C3-475728E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D16D-6898-47F0-B0A5-087CE496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6C5C-B99F-4EDE-A16B-89A9259E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8ECE-9B4E-46B9-9708-D36A252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8B5C-116C-4CF5-B543-0A080775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6DAF-0F94-4ABA-8B9B-149D9265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CF46-DB79-43D3-BFAC-B4D9505F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7D92-9D72-415E-9AB1-B5CAE94A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24AB-A0D1-4FAC-A66D-41ED5670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CB123-F7F5-4E77-8279-C5D6A51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597D-AC32-47FF-9E55-589E48D5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2136-81CF-4584-8CA1-E93A8374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4124-893B-4078-A555-1438C195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02E2-BAE9-470C-81E1-22FD2BDB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2A236-0D05-45A7-9F0B-2082B681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A6479-41CE-4E29-B855-4D952540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663F-6AA9-4394-905B-39EF2E6A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F004C-DBAD-431E-BBCC-3EECEF88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BE7F-F90C-4C96-AB52-7C2ECE81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B3CF6-D8EE-4B55-9231-D2F962B7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C0EB-7554-4465-9077-2086EB40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FF20-34C1-436D-91A6-97A58ED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CF56-897D-4D13-8904-407D8996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3934C-F952-46F5-8A8F-00C1E8B4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97FEE-2C1E-448F-A2FE-C6369573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8CABA-FCE8-4BFE-8792-AC78DE1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D768-72C5-4F80-BF54-88240C8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9AD39-39FF-41A2-B3D7-26550E16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776FB-8CAF-473C-8C79-A5669D66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54A7A-B97A-4220-BC6D-58EA4727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41DA5-FAC9-4D13-92AD-35BDC54F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110D5-3D11-4848-8551-1E7DDDDD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56DD-56CF-479E-B582-B4D04D5F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D634C-73D4-4C74-8C19-2EF28BDB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3202D-E492-4D07-BBEF-5157F4BF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84AA-A6AC-45D5-B47E-26CA8FB8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D1FE3-95A1-441F-895B-EF8F8F55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3A23-11CF-4886-AE59-E49DF4FB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D6C91-9203-49F5-99EE-7E849BC9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2A8F6-399D-47DE-98F1-06DBFB6C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D6961-BBC6-4BCA-9F16-1405A070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8366F-CE54-46C4-9774-4EB0C30A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EBAF-1FA5-4023-8D94-5BF90F38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BE14-8C3E-4E6B-A443-AF101F2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13F8C-DCA5-4C1D-98EE-15B89286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D66C3-9F1D-459D-9E97-BC9F7170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8A143-87DA-43DF-A122-3B0F9BEB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42DC4-8A26-43DE-A920-250B661A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2E2E-6552-466D-8D11-52B2DB85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2F74E-F389-4931-841F-9033FBC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3DB1B-A44A-4E97-9FCD-A85950C2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7059B-67AC-49B5-94DE-A59FB2E4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3220-02DD-40C2-8599-F32096E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68BE8-0373-4A56-9785-FF9392BA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81235-8100-42E0-A0FD-C5F98BB0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01B21-85F4-470A-A6DC-594514A9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0CE72-82B5-4AF6-9A9A-E217324F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6105-6B0B-429E-9A46-28C09B60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16B2-64D8-48CC-9F6D-27845A72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E2266-B7AB-4946-B4FD-3FD5DAB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C0006-B5C6-41B4-B307-0EA91FF8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CDFC6-4CE2-4019-BA8C-3DA88CD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30447-81F2-490A-9591-0101976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3FDF-DD77-4341-9443-A8C93DB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51CBD-AA73-4E75-9616-5891868B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AD4A2-630A-4D39-AFEC-3D26D8CE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12BD7-2C02-4789-9769-0CBA3556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60273-49EF-4BA5-95D5-B45A1502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C6B6-3DE0-4919-8FCB-DC5F9938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F378A-A25E-494D-9171-E3B6E2A0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BB2E-2C15-4033-9553-678E9070E26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FBA7-FEBF-4DE9-9619-7C7E8DCCA6E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83E9-C998-4DC2-9E65-74279309A07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7BEC-57A5-4705-BAAC-87D895A2189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90AE-4717-4F6C-8C61-93B8145EAD2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4321-6146-4E10-ABA6-18C486621D4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43A9-8207-4C09-8E50-9007E2C87ED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372A-C701-4C34-9F8D-D36453BD34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7CA-238C-421C-BCDD-AEC1AD5D895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048F-071A-429C-85A6-6868F28C842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3AC3-B85C-4D06-8745-82B42A85BE5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" descr="hd.jpg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1368720"/>
          </a:xfrm>
          <a:prstGeom prst="rect">
            <a:avLst/>
          </a:prstGeom>
          <a:ln w="0">
            <a:noFill/>
          </a:ln>
        </p:spPr>
      </p:pic>
      <p:sp>
        <p:nvSpPr>
          <p:cNvPr id="624" name="Title 1"/>
          <p:cNvSpPr/>
          <p:nvPr/>
        </p:nvSpPr>
        <p:spPr>
          <a:xfrm>
            <a:off x="539640" y="3645000"/>
            <a:ext cx="82296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Фонд за устойчиво градско развитие на София (ФУГ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3"/>
          <p:cNvSpPr/>
          <p:nvPr/>
        </p:nvSpPr>
        <p:spPr>
          <a:xfrm>
            <a:off x="6084720" y="5084640"/>
            <a:ext cx="28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1f497d"/>
                </a:solidFill>
                <a:latin typeface="Arial"/>
              </a:rPr>
              <a:t>Ива Петко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1f497d"/>
                </a:solidFill>
                <a:latin typeface="Arial"/>
              </a:rPr>
              <a:t>Декември 201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Допустими кандидати за финансиране от ФУГРС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толична общин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търговски дружества, в които Столична община има участие над 50 на сто от капитала на дружествот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руги общински  публично-правни организации на Столична община по смисъла на Закона за публично-частното партньорство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публично-частни дружества, създадени по реда и при условията на Закона за публично-частното партньорство, или лица, сключили договор за публично-частно партньорство, в които страна по договора са Столична община или нейни общински  публично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правни организации по смисъла на Закона за публично-частното партньорство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други юридически лица, включително частни инвеститор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Не подлежат на финансиране със средствата на ФУГРС лицата: 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които са в ликвидаци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за които е подадена молба за откриване на производство по несъстоятелност или за които е открито производство по несъстоятелност и/или са обявени или се намират в процедура по обявяване на несъстоятелност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имат просрочени публично-правни задължени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имат просрочени задължения към банки и/или други финансови институ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е намират в състояние на свръхзадлъжнялост, според счетоводните си отче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а с неизяснен правен статут или непрозрачна структура на капитал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са с недоказан произход на средствата, с които участват в съответния проект или инвестици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ФУГРС не предоставя финансиране на лица, които според становището на банката–партньор и/или на експертите на ФУГРС са с лоша заемоспособност и/или нестабилно финансово състояние и/или по друга причина са носители на висок финансов риск</a:t>
            </a:r>
            <a:r>
              <a:rPr b="1" lang="ru-RU" sz="1600" spc="-1" strike="noStrike">
                <a:solidFill>
                  <a:srgbClr val="262626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Допустимите проекти за градско развитие трябва да отговарят кумулативно на следните условия: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2205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Проектът е изпълним и реализуем според посочените в бизнес плана срокове, начин и необходими средств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2. Проектът е финансово устойчив, генерира във времето положителни нетни парични потоци, което му позволява да погасява в срок дължимите главници и лихви към ФУГРС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3. Проектът няма да може да привлече финансиране в необходимия размер от частни инвеститори, поради ниска възвръщаемост, която е под нормалното пазарно равнищ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4. Проектът предоставя ясна, обоснована и убедителна информация за разходите, бъдещите приходи и паричните потоци, собствения финансов принос на кандида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зисквания за допустимост  на проект за градско развитие (1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допустимите дейности по приоритетна ос 1 „Устойчиво и интегрирано градско развитие” на ОПРР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Регламентите за Структурните фондове на Е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и обхвата на Инвестиционната стратегия на Холдингов фонд по JESSICA за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Интегрирания план за градско възстановяване и  развитие на град София или част от специалните общински планове (Общински план за развитие, Общ устройствен и Подробни устройствени планов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съответствие с целите на местната власт и широка обществена подкреп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Заснемане на цял екран 28.11.2012 142505.bmp.jpg"/>
          <p:cNvPicPr/>
          <p:nvPr/>
        </p:nvPicPr>
        <p:blipFill>
          <a:blip r:embed="rId1"/>
          <a:stretch/>
        </p:blipFill>
        <p:spPr>
          <a:xfrm>
            <a:off x="6012000" y="3357720"/>
            <a:ext cx="2662200" cy="21142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зисквания за допустимост  на проект за градско развитие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труктуриран по начин, по който устойчиво генерира приходи за възвръщане на инвестицията (с нетна настояща стойност 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&gt;0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невъзможност за реализация при чисто пазарни услов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JESSICA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финансира проекти тип В</a:t>
            </a: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Проекти тип А се финансират изцяло от паза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За финансирането на проекти тип С се използв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субсидия под формата на безвъзмездна финансова помощ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Не подлежи на финансиране проект, който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включва създаването и разработването на финансови инструменти, като фондове за рисков капитал, заеми и гаран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не разполага с жизнеспособен и реализуем бизнес план, свързан с използването на финансиране, осигурено чрез ФУГР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ако бъде финансиран от ФУГРС, ще доведе до нарушаване на националното законодателство в сферата на държавните помощи и Правилата на ЕС относно държавната помощ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е получил финансиране от други Структурни фондове на ЕС или друго финансиране, освен в случаите, когато са налице убедителни доказателства, че не се осъществява двойно финансира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е вече приключе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ФУГРС няма да предоставя средства за рефинансиране на дейности, придобивания или участия в проекти за градско развит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54061"/>
                </a:solidFill>
                <a:latin typeface="Calibri"/>
              </a:rPr>
              <a:t>Схема на цикъла на кандидатств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1116000" y="1484280"/>
            <a:ext cx="6886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Етапи на кандидатст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54061"/>
                </a:solidFill>
                <a:latin typeface="Calibri"/>
              </a:rPr>
              <a:t>1 етап – Подаване на попълнен формуляр за кандидатстване и придружаващите го документи в офиса на ФУГРС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254061"/>
                </a:solidFill>
                <a:latin typeface="Calibri"/>
              </a:rPr>
              <a:t>2 етап – Подаване на бизнес план</a:t>
            </a: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ри успешно преминаване на оценката на допустимостта на проекта, ФУГРС отправя покана до крайния получател да подаде актуален Бизнес план на проекта, както и информация за структурата на заема и предлаганите обезпечения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0" name="Picture 3" descr="collage2.jpg"/>
          <p:cNvPicPr/>
          <p:nvPr/>
        </p:nvPicPr>
        <p:blipFill>
          <a:blip r:embed="rId1"/>
          <a:stretch/>
        </p:blipFill>
        <p:spPr>
          <a:xfrm>
            <a:off x="1116000" y="3860640"/>
            <a:ext cx="73072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Формуляр за кандидатст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ормулярът за кандидатстване, съгласно образец, е наличен на интернет страницата на ФУГРС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ww.jessicasofia.com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улярът включв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сек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ФОРМАЦИЯ ЗА КАНДИДАТА И ПАРТНЬОРА/ ПАРТНЬОР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ФОРМАЦИЯ ЗА КРЕДИТ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(Общ бюджет  на проекта , Размер на искания кредит , Прогнозна дата за усвояване и за погасяване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ФОРМАЦИЯ ЗА ПРОЕКТА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(Цели , Целева(и) група(и), Кратко описание , Очаквани резултати, Период за изпълнение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роектна готовност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екущ етап на развитие на проекта,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Собственост на проекта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, Проведени и предстоящи обществени поръчки по проекта, мерки, свързани с публичността и разпространението на информац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Формуляр за кандидатств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4.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ЪОТВЕТСТВИЕ НА ПРОЕКТ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проекта с конкретната операция на приоритетна ос 1, с ИПГВР, с хоризонталните политики на 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5.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АДМИНИСТРАТИВЕН КАПАЦИТЕТ НА КАНДИДАТА И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АРТНЬОРА/ИТЕ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Лица, ангажирани с проект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Осъществени проекти на кандидата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и на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артньорите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6. СЪВМЕСТИМОСТ С ПОЛИТИКИТЕ И ЗАКОНОДАТЕЛСТВОТО НА ОБЩНОСТ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7. ОБЕЗПЕЧЕНИЯ </a:t>
            </a: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(със средства от общинския бюджет, други обезпече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8. ПОРЪЧИТЕЛСТВО ИЛИ ГАР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9. ДЕКЛАР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10. ПРИ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новациите на инициативата </a:t>
            </a: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95280" y="2133720"/>
            <a:ext cx="822960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Преход от финансиране чрез схеми за предоставяне на безвъзмездна финансова помощ към финансов инженеринг и револвиращи финансови инструмен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Осигуряване на дългосрочна икономическа жизнеспособност на градските проекти чрез стимулиране развитието на публично-частни партньорства и частни инвестици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Набавяне на допълнителни ресурси за предоставяне на заеми и публично-частни партньорства и други проекти за развитие на градската среда в регионите на ЕС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Предоставяне на финансови и мениджърски умения от международни финансови институции като ЕИБ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spcBef>
                <a:spcPts val="1199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Осигуряване на устойчивост в дългосрочен аспект посредством револвиращия характер на финансовия ресур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ПРИЛОЖЕНИЯ </a:t>
            </a:r>
            <a:r>
              <a:rPr b="1" i="1" lang="bg-BG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придружаващи докумен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ъм формуляра за кандидатстване се прилагат следните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дружаващи документ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ешение на компетентния орган на крайния получател за ползване и обезпечаване на заем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окументи относно правния статут на крайния получате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удостоверение за актуално правно състояние; копие от актуален устав, учредителен акт или дружествен договор;  декларация за свързаност с други лица (по образец на ФУГРС); годишна данъчна декларация, надлежно заверена от данъчните органи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екларация за липса на обстоятелствата по чл.11, ал.2 от Инвестиционната политика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(по</a:t>
            </a: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образец на ФУГРС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копие от годишните финансови отчети на крайния получател за последните три годин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удостоверение за наличие/липса на публични задължения по ДОПК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декларация за наличие/липса на съдебни производства срещу крайния получател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референции от обслужващите банк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ПРИЛОЖЕНИЯ </a:t>
            </a:r>
            <a:r>
              <a:rPr b="1" i="1" lang="bg-BG" sz="24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придружаващи докумен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8. Протокол от обсъждане в Обществен съвет на Столична община, потвърждаващ обществената значимост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9. Официално писмо от Столична община, потвърждаващо съответствие на проекта с ИПГВР на град София или част от специалните общински планове </a:t>
            </a:r>
            <a:r>
              <a:rPr b="0" i="1" lang="ru-RU" sz="1600" spc="-1" strike="noStrike">
                <a:solidFill>
                  <a:srgbClr val="262626"/>
                </a:solidFill>
                <a:latin typeface="Calibri"/>
              </a:rPr>
              <a:t>(Общински план за развитие, Общ устройствен план и Подробни устройствени планове)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0. </a:t>
            </a: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Приложение 3 (по образец) </a:t>
            </a: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Контролен лист 1 Оценка на общата допустимост и Контролен лист 2 – Оценка на допустимостта – попълнена графа за Кандид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К</a:t>
            </a:r>
            <a:r>
              <a:rPr b="0" lang="en-GB" sz="1600" spc="-1" strike="noStrike">
                <a:solidFill>
                  <a:srgbClr val="262626"/>
                </a:solidFill>
                <a:latin typeface="Calibri"/>
              </a:rPr>
              <a:t>опие от договора за публично-частно партньорство и приложенията към него относно всяко лице, страна по договора </a:t>
            </a:r>
            <a:r>
              <a:rPr b="0" i="1" lang="bg-BG" sz="1600" spc="-1" strike="noStrike">
                <a:solidFill>
                  <a:srgbClr val="262626"/>
                </a:solidFill>
                <a:latin typeface="Calibri"/>
              </a:rPr>
              <a:t>(ако е приложим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262626"/>
                </a:solidFill>
                <a:latin typeface="Calibri"/>
              </a:rPr>
              <a:t>Д</a:t>
            </a:r>
            <a:r>
              <a:rPr b="0" lang="en-GB" sz="1600" spc="-1" strike="noStrike">
                <a:solidFill>
                  <a:srgbClr val="262626"/>
                </a:solidFill>
                <a:latin typeface="Calibri"/>
              </a:rPr>
              <a:t>руги документи, изисквани за удостоверяване на финансовото състояние на </a:t>
            </a:r>
            <a:r>
              <a:rPr b="0" lang="ru-RU" sz="1600" spc="-1" strike="noStrike">
                <a:solidFill>
                  <a:srgbClr val="262626"/>
                </a:solidFill>
                <a:latin typeface="Calibri"/>
              </a:rPr>
              <a:t>крайния получател </a:t>
            </a:r>
            <a:r>
              <a:rPr b="0" lang="en-GB" sz="1600" spc="-1" strike="noStrike">
                <a:solidFill>
                  <a:srgbClr val="262626"/>
                </a:solidFill>
                <a:latin typeface="Calibri"/>
              </a:rPr>
              <a:t>и на целта на исканото финансиран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Оценка на проектите  </a:t>
            </a:r>
            <a:r>
              <a:rPr b="0" lang="bg-BG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роцедурата по оценка на кандидатстващите проекти се извършва по следните  основни критер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1. Оценка на общата допустимос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която включва: проверка на съответствието на проекта по отношение на критериите  за допустимост (териториален обхват, вид на проекта, допустими инструменти, инвестиционни лимити, допустими лица, други специфични изисквания на JESSICA и т.н.), съответствието и пълнотата на  апликационна форма и придружаващите я документ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2. Оценка на бизнес план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включително: оценка на  финансовите параметри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труктура на заема и на предлаганите обезпечения и оценка на социално-икономическата значимост на проекта и съответствието с целите на Приоритетна ос 1 по ОПРР, Инвестиционната стратегия на ХФДБ, Оперативното споразумение с ЕИБ и Инвестиционната политика на ФУГР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3. Оценка на кредитоспособността и финансовия рис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81565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Оценка на кредитоспособността и финансовия рис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Банката-партньор разглежда и оценява искането за финансиране по отношение на  заемоспособността и финансовия риск на лицето, както следв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 на риска и финансовите показатели на проектите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предмет на  искането за предоставяне на финансиране на проект за градско развитие на град Соф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оверка дали проектът изпълнява финансовите критерии за допустимост на финансирането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а именно: проверка дали проектът е  структуриран по начин, по който генерира приходи, достатъчни за изплащане на финансирането в срок и оценка на финансовата рентабилност и предложената структура на финансиранет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 на кредитоспособността на лицата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кандидатстващи за финансиране, включително на поръчителите, ако има так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Процедура по оц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Банката-партньор подготвя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мотивирано писмено предложение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до Инвестиционния комитет на ФУГРС за одобряване или отхвърляне на  искането за финансиране и за параметрите и условията, при които да се предостави финансиранет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Изпълнителният директор на ФУГРС изготвя мотивирано предложение, което съдържа предложението на банката 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та  за съответствието на проекта по отношение на общата допустимост </a:t>
            </a:r>
            <a:r>
              <a:rPr b="0" i="1" lang="bg-BG" sz="1800" spc="-1" strike="noStrike">
                <a:solidFill>
                  <a:srgbClr val="1f497d"/>
                </a:solidFill>
                <a:latin typeface="Calibri"/>
              </a:rPr>
              <a:t>(изготвено от ФУГР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ценка на бизнес плана и финансово–икономическите показатели </a:t>
            </a:r>
            <a:r>
              <a:rPr b="0" i="1" lang="bg-BG" sz="1800" spc="-1" strike="noStrike">
                <a:solidFill>
                  <a:srgbClr val="1f497d"/>
                </a:solidFill>
                <a:latin typeface="Calibri"/>
              </a:rPr>
              <a:t>(изготвено от ФУГР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Структура на заема и на предлаганите обезпечения</a:t>
            </a:r>
            <a:r>
              <a:rPr b="0" i="1" lang="bg-BG" sz="1800" spc="-1" strike="noStrike">
                <a:solidFill>
                  <a:srgbClr val="1f497d"/>
                </a:solidFill>
                <a:latin typeface="Calibri"/>
              </a:rPr>
              <a:t> (изготвено от ФУГР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Мотивираното предложение се внася за разглеждане в Инвестиционен комитет на ФУГРС, който взема решение за финансиране или отказ от финансиране на всеки отделен проек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Често срещани заблуди за отпусканото финансиране по линия на JESS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 линия на JESSICA фондовете за градско развитие </a:t>
            </a:r>
            <a:r>
              <a:rPr b="1" lang="bg-BG" sz="1800" spc="-1" strike="noStrike">
                <a:solidFill>
                  <a:srgbClr val="262626"/>
                </a:solidFill>
                <a:latin typeface="Calibri"/>
              </a:rPr>
              <a:t>не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отпускат безвъзмездна помощ, а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безпечени нисколихвени заеми за изпълнение на градски проекти.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ФУГРС изисква от крайните получатели да осигурят обезпечения относно вземанията си във връзка с одобрено финансиране в размер не по-малко от 125% от размера на одобреното финансиран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3" descr="eugrantsupdateservice.jpg"/>
          <p:cNvPicPr/>
          <p:nvPr/>
        </p:nvPicPr>
        <p:blipFill>
          <a:blip r:embed="rId1"/>
          <a:stretch/>
        </p:blipFill>
        <p:spPr>
          <a:xfrm>
            <a:off x="3780000" y="2060640"/>
            <a:ext cx="4935240" cy="2035080"/>
          </a:xfrm>
          <a:prstGeom prst="rect">
            <a:avLst/>
          </a:prstGeom>
          <a:ln w="0">
            <a:noFill/>
          </a:ln>
        </p:spPr>
      </p:pic>
      <p:sp>
        <p:nvSpPr>
          <p:cNvPr id="718" name="TextBox 4"/>
          <p:cNvSpPr/>
          <p:nvPr/>
        </p:nvSpPr>
        <p:spPr>
          <a:xfrm>
            <a:off x="468360" y="2205000"/>
            <a:ext cx="32400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Финансова подкрепа на ЕС = безвъзмездна финансова помощ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Безлихвени кред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Необезпеченост на заема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O</a:t>
            </a:r>
            <a:r>
              <a:rPr b="1" lang="bg-BG" sz="3200" spc="-1" strike="noStrike">
                <a:solidFill>
                  <a:srgbClr val="1f497d"/>
                </a:solidFill>
                <a:latin typeface="Calibri"/>
              </a:rPr>
              <a:t>сновните преимущества на заемите по линия на J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ESSIC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68360" y="2565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Дългосрочност -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 23 години, но не по-късно от 30.06.20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Благоприятни лихвени условия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Заемът включва финансиране със средства, предоставени от ОПРР чрез ЕИБ и съфинансиране със средства на ФУГРС или друга съфинансираща институц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Възможност за кандидатстване на широк кръг субекти за реализацията на обществено-значими проек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f497d"/>
                </a:solidFill>
                <a:latin typeface="Calibri"/>
              </a:rPr>
              <a:t>Подготовка за следващия програмен период 2014-2020 г. и неговите предизвикател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92360" y="3357720"/>
            <a:ext cx="54864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www.jessicasofia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763640" y="436536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София, ул. “Солунска” 2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1f497d"/>
                </a:solidFill>
                <a:latin typeface="Calibri"/>
              </a:rPr>
              <a:t>02/ 988 23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Picture 8" descr="Jessica_logo_blanka.jpg"/>
          <p:cNvPicPr/>
          <p:nvPr/>
        </p:nvPicPr>
        <p:blipFill>
          <a:blip r:embed="rId1"/>
          <a:stretch/>
        </p:blipFill>
        <p:spPr>
          <a:xfrm>
            <a:off x="2050920" y="1989000"/>
            <a:ext cx="444528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54061"/>
                </a:solidFill>
                <a:latin typeface="Calibri"/>
              </a:rPr>
              <a:t>Институционална рамка на </a:t>
            </a:r>
            <a:r>
              <a:rPr b="1" lang="en-US" sz="2400" spc="-1" strike="noStrike">
                <a:solidFill>
                  <a:srgbClr val="254061"/>
                </a:solidFill>
                <a:latin typeface="Calibri"/>
              </a:rPr>
              <a:t>JESSICA</a:t>
            </a:r>
            <a:r>
              <a:rPr b="1" lang="bg-BG" sz="2400" spc="-1" strike="noStrike">
                <a:solidFill>
                  <a:srgbClr val="254061"/>
                </a:solidFill>
                <a:latin typeface="Calibri"/>
              </a:rPr>
              <a:t> в Бълг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49"/>
          <p:cNvGrpSpPr/>
          <p:nvPr/>
        </p:nvGrpSpPr>
        <p:grpSpPr>
          <a:xfrm>
            <a:off x="468360" y="1557360"/>
            <a:ext cx="8229240" cy="4032000"/>
            <a:chOff x="468360" y="1557360"/>
            <a:chExt cx="8229240" cy="4032000"/>
          </a:xfrm>
        </p:grpSpPr>
        <p:sp>
          <p:nvSpPr>
            <p:cNvPr id="630" name="Text Box 7"/>
            <p:cNvSpPr/>
            <p:nvPr/>
          </p:nvSpPr>
          <p:spPr>
            <a:xfrm>
              <a:off x="468360" y="1662840"/>
              <a:ext cx="1508760" cy="529200"/>
            </a:xfrm>
            <a:prstGeom prst="rect">
              <a:avLst/>
            </a:prstGeom>
            <a:solidFill>
              <a:srgbClr val="95b3d7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254061"/>
                  </a:solidFill>
                  <a:latin typeface="Arial"/>
                </a:rPr>
                <a:t>Управляващ Орган</a:t>
              </a:r>
              <a:r>
                <a:rPr b="1" lang="en-US" sz="1200" spc="-1" strike="noStrike">
                  <a:solidFill>
                    <a:srgbClr val="254061"/>
                  </a:solidFill>
                  <a:latin typeface="Arial"/>
                </a:rPr>
                <a:t> (</a:t>
              </a:r>
              <a:r>
                <a:rPr b="1" lang="bg-BG" sz="1200" spc="-1" strike="noStrike">
                  <a:solidFill>
                    <a:srgbClr val="254061"/>
                  </a:solidFill>
                  <a:latin typeface="Arial"/>
                </a:rPr>
                <a:t>ОПРР</a:t>
              </a:r>
              <a:r>
                <a:rPr b="1" lang="en-US" sz="1200" spc="-1" strike="noStrike">
                  <a:solidFill>
                    <a:srgbClr val="254061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 Box 8"/>
            <p:cNvSpPr/>
            <p:nvPr/>
          </p:nvSpPr>
          <p:spPr>
            <a:xfrm>
              <a:off x="3373200" y="2720880"/>
              <a:ext cx="2096640" cy="621360"/>
            </a:xfrm>
            <a:prstGeom prst="rect">
              <a:avLst/>
            </a:prstGeom>
            <a:solidFill>
              <a:srgbClr val="e6b9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Холдингов фонд </a:t>
              </a:r>
              <a:r>
                <a:rPr b="1" lang="en-US" sz="1200" spc="-1" strike="noStrike">
                  <a:solidFill>
                    <a:srgbClr val="082d4c"/>
                  </a:solidFill>
                  <a:latin typeface="Arial"/>
                </a:rPr>
                <a:t>JESS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(управляван от ЕИБ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9"/>
            <p:cNvSpPr/>
            <p:nvPr/>
          </p:nvSpPr>
          <p:spPr>
            <a:xfrm>
              <a:off x="3140640" y="1662840"/>
              <a:ext cx="2556360" cy="529200"/>
            </a:xfrm>
            <a:prstGeom prst="rect">
              <a:avLst/>
            </a:prstGeom>
            <a:solidFill>
              <a:srgbClr val="c4bd9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254061"/>
                  </a:solidFill>
                  <a:latin typeface="Arial"/>
                </a:rPr>
                <a:t>Инвестиционен съвет </a:t>
              </a:r>
              <a:r>
                <a:rPr b="1" lang="en-US" sz="1200" spc="-1" strike="noStrike">
                  <a:solidFill>
                    <a:srgbClr val="254061"/>
                  </a:solidFill>
                  <a:latin typeface="Arial"/>
                </a:rPr>
                <a:t>JESS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0"/>
            <p:cNvSpPr/>
            <p:nvPr/>
          </p:nvSpPr>
          <p:spPr>
            <a:xfrm>
              <a:off x="5464800" y="3461760"/>
              <a:ext cx="1977120" cy="387000"/>
            </a:xfrm>
            <a:prstGeom prst="rect">
              <a:avLst/>
            </a:prstGeom>
            <a:solidFill>
              <a:srgbClr val="ddd9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ФГР Региона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36,7 млн. л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1"/>
            <p:cNvSpPr/>
            <p:nvPr/>
          </p:nvSpPr>
          <p:spPr>
            <a:xfrm>
              <a:off x="1630080" y="3461760"/>
              <a:ext cx="1857240" cy="387000"/>
            </a:xfrm>
            <a:prstGeom prst="rect">
              <a:avLst/>
            </a:prstGeom>
            <a:solidFill>
              <a:srgbClr val="ddd9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ФГР Соф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24,5 млн. л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2"/>
            <p:cNvSpPr/>
            <p:nvPr/>
          </p:nvSpPr>
          <p:spPr>
            <a:xfrm>
              <a:off x="1049040" y="4202280"/>
              <a:ext cx="131724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Публични проек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 Box 13"/>
            <p:cNvSpPr/>
            <p:nvPr/>
          </p:nvSpPr>
          <p:spPr>
            <a:xfrm>
              <a:off x="5116320" y="4202280"/>
              <a:ext cx="131868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2d4c"/>
                  </a:solidFill>
                  <a:latin typeface="Arial"/>
                </a:rPr>
                <a:t>Публични проек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6510960" y="4202280"/>
              <a:ext cx="131868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ПЧ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 Box 15"/>
            <p:cNvSpPr/>
            <p:nvPr/>
          </p:nvSpPr>
          <p:spPr>
            <a:xfrm>
              <a:off x="2443680" y="4202280"/>
              <a:ext cx="1318680" cy="501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ПЧ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1746360" y="5155920"/>
              <a:ext cx="128160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Частни инвестито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17"/>
            <p:cNvSpPr/>
            <p:nvPr/>
          </p:nvSpPr>
          <p:spPr>
            <a:xfrm>
              <a:off x="3140640" y="5155920"/>
              <a:ext cx="128160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Общи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AutoShape 18"/>
            <p:cNvCxnSpPr>
              <a:stCxn id="632" idx="1"/>
              <a:endCxn id="630" idx="3"/>
            </p:cNvCxnSpPr>
            <p:nvPr/>
          </p:nvCxnSpPr>
          <p:spPr>
            <a:xfrm flipH="1">
              <a:off x="1976760" y="1927080"/>
              <a:ext cx="116424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642" name="AutoShape 19"/>
            <p:cNvSpPr/>
            <p:nvPr/>
          </p:nvSpPr>
          <p:spPr>
            <a:xfrm>
              <a:off x="2095200" y="1557360"/>
              <a:ext cx="926280" cy="423000"/>
            </a:xfrm>
            <a:prstGeom prst="rightArrow">
              <a:avLst>
                <a:gd name="adj1" fmla="val 50000"/>
                <a:gd name="adj2" fmla="val 54745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Контро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3" name="AutoShape 20"/>
            <p:cNvCxnSpPr>
              <a:stCxn id="630" idx="2"/>
              <a:endCxn id="631" idx="1"/>
            </p:cNvCxnSpPr>
            <p:nvPr/>
          </p:nvCxnSpPr>
          <p:spPr>
            <a:xfrm>
              <a:off x="1223640" y="2192040"/>
              <a:ext cx="2149920" cy="84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4" name="AutoShape 21"/>
            <p:cNvCxnSpPr>
              <a:stCxn id="632" idx="2"/>
              <a:endCxn id="631" idx="0"/>
            </p:cNvCxnSpPr>
            <p:nvPr/>
          </p:nvCxnSpPr>
          <p:spPr>
            <a:xfrm>
              <a:off x="4419000" y="2191680"/>
              <a:ext cx="3960" cy="529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45" name="AutoShape 22"/>
            <p:cNvCxnSpPr>
              <a:stCxn id="634" idx="2"/>
              <a:endCxn id="635" idx="0"/>
            </p:cNvCxnSpPr>
            <p:nvPr/>
          </p:nvCxnSpPr>
          <p:spPr>
            <a:xfrm flipH="1">
              <a:off x="1706760" y="3997440"/>
              <a:ext cx="85284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6" name="AutoShape 23"/>
            <p:cNvCxnSpPr>
              <a:stCxn id="634" idx="2"/>
              <a:endCxn id="638" idx="0"/>
            </p:cNvCxnSpPr>
            <p:nvPr/>
          </p:nvCxnSpPr>
          <p:spPr>
            <a:xfrm>
              <a:off x="2559960" y="3997440"/>
              <a:ext cx="54432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7" name="AutoShape 24"/>
            <p:cNvCxnSpPr>
              <a:stCxn id="633" idx="2"/>
              <a:endCxn id="636" idx="0"/>
            </p:cNvCxnSpPr>
            <p:nvPr/>
          </p:nvCxnSpPr>
          <p:spPr>
            <a:xfrm flipH="1">
              <a:off x="5776200" y="3997440"/>
              <a:ext cx="67788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AutoShape 25"/>
            <p:cNvCxnSpPr>
              <a:stCxn id="633" idx="2"/>
              <a:endCxn id="637" idx="0"/>
            </p:cNvCxnSpPr>
            <p:nvPr/>
          </p:nvCxnSpPr>
          <p:spPr>
            <a:xfrm>
              <a:off x="6454080" y="3997440"/>
              <a:ext cx="71712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9" name="AutoShape 26"/>
            <p:cNvCxnSpPr>
              <a:stCxn id="635" idx="1"/>
              <a:endCxn id="634" idx="1"/>
            </p:cNvCxnSpPr>
            <p:nvPr/>
          </p:nvCxnSpPr>
          <p:spPr>
            <a:xfrm flipH="1" rot="10800000">
              <a:off x="1049040" y="3719520"/>
              <a:ext cx="581400" cy="732240"/>
            </a:xfrm>
            <a:prstGeom prst="curvedConnector5">
              <a:avLst>
                <a:gd name="adj1" fmla="val -39962"/>
                <a:gd name="adj2" fmla="val 49975"/>
                <a:gd name="adj3" fmla="val -3996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AutoShape 27"/>
            <p:cNvCxnSpPr>
              <a:stCxn id="638" idx="3"/>
              <a:endCxn id="634" idx="3"/>
            </p:cNvCxnSpPr>
            <p:nvPr/>
          </p:nvCxnSpPr>
          <p:spPr>
            <a:xfrm flipH="1" flipV="1">
              <a:off x="3487320" y="3719880"/>
              <a:ext cx="275040" cy="732240"/>
            </a:xfrm>
            <a:prstGeom prst="curvedConnector5">
              <a:avLst>
                <a:gd name="adj1" fmla="val -84665"/>
                <a:gd name="adj2" fmla="val 49975"/>
                <a:gd name="adj3" fmla="val -8466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AutoShape 28"/>
            <p:cNvCxnSpPr>
              <a:stCxn id="636" idx="1"/>
              <a:endCxn id="633" idx="1"/>
            </p:cNvCxnSpPr>
            <p:nvPr/>
          </p:nvCxnSpPr>
          <p:spPr>
            <a:xfrm flipH="1" rot="10800000">
              <a:off x="5115240" y="3719520"/>
              <a:ext cx="348840" cy="732240"/>
            </a:xfrm>
            <a:prstGeom prst="curvedConnector5">
              <a:avLst>
                <a:gd name="adj1" fmla="val -66735"/>
                <a:gd name="adj2" fmla="val 49975"/>
                <a:gd name="adj3" fmla="val -667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AutoShape 29"/>
            <p:cNvCxnSpPr>
              <a:stCxn id="631" idx="2"/>
              <a:endCxn id="634" idx="0"/>
            </p:cNvCxnSpPr>
            <p:nvPr/>
          </p:nvCxnSpPr>
          <p:spPr>
            <a:xfrm flipH="1">
              <a:off x="2559240" y="3342240"/>
              <a:ext cx="18630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AutoShape 30"/>
            <p:cNvCxnSpPr>
              <a:stCxn id="631" idx="2"/>
              <a:endCxn id="633" idx="0"/>
            </p:cNvCxnSpPr>
            <p:nvPr/>
          </p:nvCxnSpPr>
          <p:spPr>
            <a:xfrm>
              <a:off x="4422240" y="3342240"/>
              <a:ext cx="20322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AutoShape 31"/>
            <p:cNvCxnSpPr>
              <a:stCxn id="639" idx="0"/>
              <a:endCxn id="638" idx="2"/>
            </p:cNvCxnSpPr>
            <p:nvPr/>
          </p:nvCxnSpPr>
          <p:spPr>
            <a:xfrm flipV="1">
              <a:off x="2387160" y="4702680"/>
              <a:ext cx="71712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5" name="Text Box 32"/>
            <p:cNvSpPr/>
            <p:nvPr/>
          </p:nvSpPr>
          <p:spPr>
            <a:xfrm>
              <a:off x="4651560" y="5155920"/>
              <a:ext cx="128124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Частни инвеститор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33"/>
            <p:cNvSpPr/>
            <p:nvPr/>
          </p:nvSpPr>
          <p:spPr>
            <a:xfrm>
              <a:off x="6046200" y="5155920"/>
              <a:ext cx="1281240" cy="43344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200" spc="-1" strike="noStrike">
                  <a:solidFill>
                    <a:srgbClr val="082d4c"/>
                  </a:solidFill>
                  <a:latin typeface="Arial"/>
                </a:rPr>
                <a:t>Общин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7" name="AutoShape 34"/>
            <p:cNvCxnSpPr>
              <a:stCxn id="640" idx="0"/>
              <a:endCxn id="638" idx="2"/>
            </p:cNvCxnSpPr>
            <p:nvPr/>
          </p:nvCxnSpPr>
          <p:spPr>
            <a:xfrm flipH="1" flipV="1">
              <a:off x="3101400" y="4702680"/>
              <a:ext cx="67860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AutoShape 35"/>
            <p:cNvCxnSpPr>
              <a:stCxn id="655" idx="0"/>
              <a:endCxn id="636" idx="2"/>
            </p:cNvCxnSpPr>
            <p:nvPr/>
          </p:nvCxnSpPr>
          <p:spPr>
            <a:xfrm flipV="1">
              <a:off x="5291640" y="4702680"/>
              <a:ext cx="48492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9" name="AutoShape 36"/>
            <p:cNvCxnSpPr>
              <a:stCxn id="656" idx="0"/>
              <a:endCxn id="636" idx="2"/>
            </p:cNvCxnSpPr>
            <p:nvPr/>
          </p:nvCxnSpPr>
          <p:spPr>
            <a:xfrm flipH="1" flipV="1">
              <a:off x="5775840" y="4702680"/>
              <a:ext cx="910800" cy="45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0" name="AutoShape 37"/>
            <p:cNvCxnSpPr>
              <a:stCxn id="632" idx="3"/>
              <a:endCxn id="633" idx="3"/>
            </p:cNvCxnSpPr>
            <p:nvPr/>
          </p:nvCxnSpPr>
          <p:spPr>
            <a:xfrm>
              <a:off x="5697360" y="1927440"/>
              <a:ext cx="1745280" cy="1793520"/>
            </a:xfrm>
            <a:prstGeom prst="curvedConnector5">
              <a:avLst>
                <a:gd name="adj1" fmla="val 113307"/>
                <a:gd name="adj2" fmla="val 49989"/>
                <a:gd name="adj3" fmla="val 113307"/>
              </a:avLst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cxnSp>
          <p:nvCxnSpPr>
            <p:cNvPr id="661" name="AutoShape 38"/>
            <p:cNvCxnSpPr>
              <a:stCxn id="632" idx="3"/>
              <a:endCxn id="637" idx="3"/>
            </p:cNvCxnSpPr>
            <p:nvPr/>
          </p:nvCxnSpPr>
          <p:spPr>
            <a:xfrm>
              <a:off x="5697000" y="1927080"/>
              <a:ext cx="2133000" cy="2525400"/>
            </a:xfrm>
            <a:prstGeom prst="curvedConnector5">
              <a:avLst>
                <a:gd name="adj1" fmla="val 110854"/>
                <a:gd name="adj2" fmla="val 50000"/>
                <a:gd name="adj3" fmla="val 110854"/>
              </a:avLst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</p:cxnSp>
        <p:sp>
          <p:nvSpPr>
            <p:cNvPr id="662" name="Text Box 39"/>
            <p:cNvSpPr/>
            <p:nvPr/>
          </p:nvSpPr>
          <p:spPr>
            <a:xfrm>
              <a:off x="7673040" y="3355920"/>
              <a:ext cx="1024560" cy="4230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Мониторин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40"/>
            <p:cNvSpPr/>
            <p:nvPr/>
          </p:nvSpPr>
          <p:spPr>
            <a:xfrm>
              <a:off x="1281600" y="2720880"/>
              <a:ext cx="928080" cy="4230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900" spc="-1" strike="noStrike">
                  <a:solidFill>
                    <a:srgbClr val="082d4c"/>
                  </a:solidFill>
                  <a:latin typeface="Arial"/>
                </a:rPr>
                <a:t>Общо средства</a:t>
              </a:r>
              <a:r>
                <a:rPr b="1" lang="en-US" sz="900" spc="-1" strike="noStrike">
                  <a:solidFill>
                    <a:srgbClr val="082d4c"/>
                  </a:solidFill>
                  <a:latin typeface="Arial"/>
                </a:rPr>
                <a:t> </a:t>
              </a:r>
              <a:r>
                <a:rPr b="1" lang="bg-BG" sz="900" spc="-1" strike="noStrike">
                  <a:solidFill>
                    <a:srgbClr val="082d4c"/>
                  </a:solidFill>
                  <a:latin typeface="Arial"/>
                </a:rPr>
                <a:t>61,5 млн. лв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4" name="AutoShape 41"/>
            <p:cNvCxnSpPr>
              <a:stCxn id="633" idx="3"/>
              <a:endCxn id="637" idx="3"/>
            </p:cNvCxnSpPr>
            <p:nvPr/>
          </p:nvCxnSpPr>
          <p:spPr>
            <a:xfrm>
              <a:off x="7441920" y="3720240"/>
              <a:ext cx="388080" cy="732240"/>
            </a:xfrm>
            <a:prstGeom prst="curvedConnector5">
              <a:avLst>
                <a:gd name="adj1" fmla="val 159888"/>
                <a:gd name="adj2" fmla="val 49975"/>
                <a:gd name="adj3" fmla="val 15988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65" name="Text Box 42"/>
            <p:cNvSpPr/>
            <p:nvPr/>
          </p:nvSpPr>
          <p:spPr>
            <a:xfrm>
              <a:off x="3837960" y="3569040"/>
              <a:ext cx="1276560" cy="42300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82d4c"/>
                  </a:solidFill>
                  <a:latin typeface="Times New Roman"/>
                </a:rPr>
                <a:t>Възвръщаем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43"/>
            <p:cNvSpPr/>
            <p:nvPr/>
          </p:nvSpPr>
          <p:spPr>
            <a:xfrm>
              <a:off x="1978560" y="1980360"/>
              <a:ext cx="1045800" cy="423000"/>
            </a:xfrm>
            <a:prstGeom prst="leftArrow">
              <a:avLst>
                <a:gd name="adj1" fmla="val 50000"/>
                <a:gd name="adj2" fmla="val 61809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Отчет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AutoShape 44"/>
            <p:cNvSpPr/>
            <p:nvPr/>
          </p:nvSpPr>
          <p:spPr>
            <a:xfrm>
              <a:off x="3140640" y="2297520"/>
              <a:ext cx="1394280" cy="31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Контро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AutoShape 45"/>
            <p:cNvSpPr/>
            <p:nvPr/>
          </p:nvSpPr>
          <p:spPr>
            <a:xfrm>
              <a:off x="4302720" y="2297520"/>
              <a:ext cx="1394280" cy="317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000" spc="-1" strike="noStrike">
                  <a:solidFill>
                    <a:srgbClr val="082d4c"/>
                  </a:solidFill>
                  <a:latin typeface="Times New Roman"/>
                </a:rPr>
                <a:t>Отчетнос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Структура на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JESSICA </a:t>
            </a: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в Бълга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Управляващ орган на ОПРР:</a:t>
            </a:r>
            <a:r>
              <a:rPr b="0" lang="bg-BG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отговаря за изпълнение, контрол и мониторинг  на инициатив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Европейска инвестиционна банка:</a:t>
            </a:r>
            <a:r>
              <a:rPr b="0" lang="bg-BG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управляв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администрира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Холдинговия фонд п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 изпълнява дейността по JESSICA за и от името на Управляващия орган на ОПРР;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подпомага създаването и инвестира във Фондове за градско развитие в Българ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както и съдейства при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идентифицирането на проек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1f497d"/>
                </a:solidFill>
                <a:latin typeface="Calibri"/>
              </a:rPr>
              <a:t>Инвестиционен съвет на Холдинговия фонд:</a:t>
            </a:r>
            <a:r>
              <a:rPr b="0" lang="bg-BG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включва представители на МРРБ, МФ, МИЕТ и М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Осъществява контрол върху дейността на Холдинговия фонд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Холдингов фонд JESSICA за България 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иран  като „самостоятелен финансов ресурс" в рамките на ЕИБ, в който са внесени средства в размер на 33 млн.евро, предоставени от Управляващия орган на ОПР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Развитие на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JESSICA </a:t>
            </a: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в Бълга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29 юли 2010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Министърът на регионалното развитие и благоустройството подписва Финансово споразумение с ЕИБ за създаване на Холдингов фонд по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JESSICA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7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ктомври 2010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Народното събрание ратифицира Финансовото споразумение с ЕИБ за създаване на Холдингов фонд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19 октомври 2010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влиза в сила Финансовото споразумение по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JESSICA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31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март 2011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ЕИБ обявява Покана за заявяване на интерес за избиране на два Фонда за градско развитие</a:t>
            </a:r>
            <a:r>
              <a:rPr b="0" lang="ru-RU" sz="1800" spc="-1" strike="noStrike">
                <a:solidFill>
                  <a:srgbClr val="262626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28 декември 2011 г.</a:t>
            </a: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–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дписано оперативно споразумение за предоставяне на целеви заем на „Регионален фонд за градско развитие” А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30 май 2012 г.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-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подписано оперативно споразумение за предоставяне на целеви заем на „Фонд за устойчиво градско развитите на София” Е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Фонд за устойчиво </a:t>
            </a:r>
            <a:br>
              <a:rPr sz="2800"/>
            </a:b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градско развитие на 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989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-255600" algn="just">
              <a:spcBef>
                <a:spcPts val="1199"/>
              </a:spcBef>
              <a:buClr>
                <a:srgbClr val="40404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Ресурс на ФУГРС – 49.2 млн. лева, с възможност за увеличение на участието на фонда при наличие на готови за финансиране проек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255600" algn="just">
              <a:spcBef>
                <a:spcPts val="1199"/>
              </a:spcBef>
              <a:buClr>
                <a:srgbClr val="40404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04040"/>
                </a:solidFill>
                <a:latin typeface="Calibri"/>
              </a:rPr>
              <a:t>Банка  партньор – Райфайзенбанк Българ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-255600" algn="just">
              <a:spcBef>
                <a:spcPts val="1199"/>
              </a:spcBef>
              <a:buClr>
                <a:srgbClr val="262626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Срокове за инвестиране: 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50%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т средствата д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31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декември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2013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г.;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80%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т средствата д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31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декември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2014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г.;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100%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т средствата д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30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юни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2015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Picture 3" descr="collage1.jpg"/>
          <p:cNvPicPr/>
          <p:nvPr/>
        </p:nvPicPr>
        <p:blipFill>
          <a:blip r:embed="rId1"/>
          <a:stretch/>
        </p:blipFill>
        <p:spPr>
          <a:xfrm>
            <a:off x="1116000" y="3789360"/>
            <a:ext cx="72723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254061"/>
                </a:solidFill>
                <a:latin typeface="Calibri"/>
              </a:rPr>
              <a:t>Инвестиционна политика на ФУГ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Инвестиционната стратегия на  ФУГРС с  фокус върх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1125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бщността и гражданската сигурност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чрез  иновации в образование, здравеопазване, свободно време и възстановяване и други аспекти, свързани с качеството на живо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1125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зеления растеж 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чрез</a:t>
            </a:r>
            <a:r>
              <a:rPr b="1" lang="bg-BG" sz="1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технологични решения за устойчив транспорт и комуникации, ефективна и незамърсяваща мобилност, възобновяема енергия, </a:t>
            </a: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“smart city”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 реш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1125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работната среда 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чрез създаване на устойчиви възможности за работа, социален бизнес,  институции за преквалификация и развитие на умения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Инвестиционната политика е основният документ на ФУГРС</a:t>
            </a:r>
            <a:r>
              <a:rPr b="0" lang="bg-BG" sz="1800" spc="-1" strike="noStrike">
                <a:solidFill>
                  <a:srgbClr val="262626"/>
                </a:solidFill>
                <a:latin typeface="Calibri"/>
              </a:rPr>
              <a:t>, който урежда изискванията и процедурата за осъществяване на дейността по финансиране на допустими проекти за градско развитие на територията на Столична общ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f497d"/>
                </a:solidFill>
                <a:latin typeface="Calibri"/>
              </a:rPr>
              <a:t>Структура на Инвестиционната политика на ФУГ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 първ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ОБЩИ ПО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втор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АВИЛА   И КРИТЕРИИ ЗА ДОПУСТИМОСТ  НА ПРОЕКТИТЕ ЗА ГРАДСКО РАЗВИ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тре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УСЛОВИЯ ЗА  ДОПУСТИМОСТ НА ПРОЕКТА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четвър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ЦИКЪЛ НА КАНДИДАТСТВАНЕ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пе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ОЦЕДУРА ЗА РАЗГЛЕЖДАНЕ И ОЦЕНКА Н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шест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ПРОЦЕДУРА ЗА ПРЕДОСТАВЯНЕ НА ФИНАНСИРАН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Глава седма</a:t>
            </a:r>
            <a:r>
              <a:rPr b="0" lang="bg-BG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f497d"/>
                </a:solidFill>
                <a:latin typeface="Calibri"/>
              </a:rPr>
              <a:t>МОНИТОРИНГ НА ПРОЕКТИТЕ ФИНАНСИРАНИ СЪС СРЕДСТВАТА НА  ФУГР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0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Приоритетни области за финансиране </a:t>
            </a:r>
            <a:br>
              <a:rPr sz="2400"/>
            </a:br>
            <a:r>
              <a:rPr b="1" lang="ru-RU" sz="2400" spc="-1" strike="noStrike">
                <a:solidFill>
                  <a:srgbClr val="254061"/>
                </a:solidFill>
                <a:latin typeface="Calibri"/>
              </a:rPr>
              <a:t>на проектите за градско развит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68360" y="191628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сигуряване на подходяща и рентабилна образователна, социална, здравна и културна инфраструктура и подобряване на енергийната й ефективност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Изграждане на нова или възстановяване на деградирана или декапитализирана градска инфраструктур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Модернизация и развитие на мрежите от инфраструктура за обществен транспорт и комуникаци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9bbb5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Организация и подобряване на икономическите дейности чрез развитие и изграждане на нови институции на бизнес сред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4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collage5.jpg"/>
          <p:cNvPicPr/>
          <p:nvPr/>
        </p:nvPicPr>
        <p:blipFill>
          <a:blip r:embed="rId1"/>
          <a:stretch/>
        </p:blipFill>
        <p:spPr>
          <a:xfrm>
            <a:off x="1258920" y="4076640"/>
            <a:ext cx="691344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 </cp:lastModifiedBy>
  <dcterms:modified xsi:type="dcterms:W3CDTF">2012-12-07T07:47:32Z</dcterms:modified>
  <cp:revision>78</cp:revision>
  <dc:subject/>
  <dc:title>Слайд 1</dc:title>
</cp:coreProperties>
</file>