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A951-CB48-4B5C-89B5-DA4CCDE1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23A5-8193-4C99-8BDE-CAF948A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274C-8551-4A94-8D66-8BEF3C9E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E2A6A-3877-4408-94DE-1F91CFB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5551-239C-4130-8974-9B01DF5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A5D3-46EE-46AE-ACAF-629D83EB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6CCD-AF4E-4D65-9105-6409202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8242-5738-4028-87DC-A5054B85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35F59-B6EC-44D6-87F6-88E7D656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E0A0D-8690-45BD-8676-704AB99C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5C2E9-0645-4932-9E23-669CB086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CEDE7-060C-4FCD-8AA0-7A3F389F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8BC9A-B815-4F48-A691-51052EF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4065F-8F97-4F21-A776-7AAC2FB6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4121C-167D-4547-8DC8-CF07291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6A712-5CA0-4C90-9AC2-A0A6E8F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FA322-839C-495D-9F89-3938B8B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61C7-3518-49A5-BF70-9DE9555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8F751-335B-4941-856F-85031824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BF11-CB74-47AF-B64D-D9A60792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03A0F-4F9E-4E95-B4AB-71C9DC17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13FC8-8F77-4AF0-80C0-8539ED68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E2E42-6FFE-4866-A4AA-2129A13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8D29B-B261-4BC7-A126-2057606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B5E56-BAE3-40B3-BAC5-F5A2DF4A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BDFD-A943-4484-A0A4-53822C93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28B98-5DF2-4850-9072-798EECA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1F5C0-44B8-448B-B4E0-188528A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F95F-A2C1-4659-BEA9-66D64C1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D6EC3-F752-4D8D-B00F-3DCF36F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837-4228-430C-A96F-86E60EC9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66619-51E2-418E-87A1-C395165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3D685-8D7D-417B-9135-E1120D8E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C5DAD-CAC7-4C58-8F7E-7FF3CA43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2551B-EDC6-4C8A-8D37-9557FE81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42E5-4868-4782-A97B-D627CCD7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3F02-4034-48A9-AB52-56F046C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A1F2B-A00F-4DA5-907E-7485B9B3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AB5A9-A9FE-499C-88A6-0F58E6D7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BBB52-64BE-474C-85F3-E167E92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1FD0-21E2-4194-AF12-E2FC32F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696-DABF-41AF-8F27-DC007022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D300-55D5-4349-A627-4C52B5D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F7E19-4FB5-4A54-869C-977E1C4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E7C9-35D2-4892-80D9-0B5D18B1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46DC-FBCC-4686-82BC-F1A4081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D8CD1-83E1-440A-9092-B2E23F63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34E-2034-4B87-9073-4D351B45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CF4-57E7-4AF0-A9A3-F7536CA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3B2-E74A-4258-AEC1-D133C5FD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9C0-F213-4697-A354-2703BEBC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0D4-DE3D-4976-B444-BCA968A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296-BAF6-4038-B35B-1F86F8E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9E5-42BB-4430-B1FE-4D7F225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73F-6AC9-46D6-B0A1-B1ED37F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AA8-8312-47C4-BD9B-D3FE7E57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238-CD29-4B62-BE5C-BF32128D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28A-D7E8-46EC-A9E8-C5CC5144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CE1-5546-43BE-899C-A992424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CEB-24D4-4DD1-B051-ADA217DA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147C-1789-486C-8A1B-23628B1E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1190-3E39-4024-A513-D2B8DB7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58F-FCCD-4559-9504-CD215C1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779E-E598-4DE1-86C5-35BCB669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5572-9BDD-4634-87DE-FE3D8BD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B25-7876-4D01-9181-1619DAE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D049-F87D-49DF-A087-EA626AD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3166-0A8A-4B8C-B9BF-352FF1D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2AA-7BA3-43D1-8FC2-F7F4F958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BABF-A449-481F-A76A-8B9FFC49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79A7-A2E0-4627-B29A-074CA592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6EC3-E395-4596-B01B-7ED265B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5BAA-2077-4A0F-806C-227C43F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C48D-0117-49B7-9BB1-B8B585D4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15D9-AB61-4B21-B2BE-FBDF3DE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2203-EF73-4A30-AE01-346E49C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0DC5-064E-49F0-AA0A-BE00C98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5E00-BD00-486F-BB11-06202CA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714C-6692-40C1-AD66-2C27B2F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B97E-3C45-469D-923B-B81DEFB2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2CFF-8945-4EF8-970C-A55A1539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70C8-4B78-47AE-A1DB-38554490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F543F-B0E0-4635-A60E-4313A345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B127-54E5-4DEE-BAF9-C6CC2DC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99F4-0E15-48CC-BAD6-4B7ACA4B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FAE5-675D-4F60-BB18-B3A1338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F914-ECE6-4688-ADC0-DBAC4E1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4846-0CCF-4A54-93A4-61F15B7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54B3-7822-48F8-99E8-F648355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540A-FFD4-4688-87C6-2513D41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4000-590D-44CB-8DED-A3B4A87F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C9A5-5366-485D-A421-6A7F3A85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F63B-42C9-4EB2-8EF1-F840249D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C614-1EB3-43E3-BFC8-70F2BA65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D1B8-A4FA-4DFD-BE5F-9C296EE6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A389-0357-4B62-A2A9-F8F2980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2F06-57F2-4539-BB7A-560C2D2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1B9B-4A28-4DDF-8496-ED487CD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CD0A-5BDF-4E63-8A2E-D8A9871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AC3F-F192-4F15-A432-B6B7C6F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5A7C-CE90-43D5-BDB4-E95CB6E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DFF7-9B94-4E33-967D-5E88738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3C84-FFC3-4F71-8148-8D75EAC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7EAA-B11A-40C8-B871-7E6F5996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B9F0-6D2D-41D7-8FA4-B2E84B01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C532-BD42-4372-97AC-82123357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E052-30DE-4DE3-82DF-4B9DC4F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E4B1-74C0-4995-B7E7-D05767B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8314-BB85-4088-B56B-87D5C23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FE1BA-A419-4E32-B17F-978201B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AF29-5384-46C0-8CCC-A24D762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9A53-AF83-4BE7-816B-5DDC133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9484-3DF1-41A1-AECA-31CD3A8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BBBC-F69E-4B9E-BA36-95C41A6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30BB-0D7F-459B-BD41-0B4A496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7107-7AE1-46CD-994F-CABE7695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F105-8B91-456F-B1F1-F2D46D27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4593-9E9F-42A1-A5FF-490E5B5F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2227-EC6F-484A-9B9A-8D5B2CAF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6CE66-A5EB-4AC5-8AB8-3EE89CB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E005-F16E-4739-B237-CBC066F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1A2E-188A-454E-85BB-D21D9AAD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AB64-C6E2-4F51-968B-DEBE58E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2B8C-85AE-40A4-852A-E6287FE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D5C0-6CA5-409A-A505-0E8AED1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D0EB-A302-443A-BFEF-8B49771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208A-5E0E-4EE1-822D-8456C5E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298C-F416-4F71-8E2B-3D2366B2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9D2D0-6D8F-41C2-B491-18FC1BB8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7D8FB-D1FF-4C62-AEB6-F200774E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0104-3B54-4A50-82C7-497AC63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6735-F04B-4CA8-856D-73DC7F6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C01-0FB9-413B-B812-93862DEED0C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13F-ED47-49A3-A9D3-CF7EA4D6F5B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BD53-0A17-4189-BDB0-261A68BA934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AA2-E9A1-4787-8970-16E09F3ED92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5C6E-C6F2-412B-BF2E-EBBD4B12A66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158-8998-44E4-A8BC-C06BA0FF155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A1A-68F2-4001-8CED-3E8662F03ED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AFB0-170E-4248-975A-70CC56AA681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DBBC-D32F-41F6-A43F-EB364483E88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7E19-1157-43C7-A359-E2D568C06FE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A81-CAE9-4EBB-A375-124AE07362D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http://bgregio.eu/media/old/file/&#1059;&#1082;&#1072;&#1079;&#1072;&#1085;&#1080;&#1103;%20&#1079;&#1072;%20&#1054;&#1073;&#1097;&#1080;&#1085;&#1080;_&#1053;&#1055;&#1054;_&#1050;&#1086;&#1085;&#1082;&#1088;&#1077;&#1090;&#1085;&#1080;%20&#1073;&#1077;&#1085;&#1077;&#1092;&#1080;&#1094;&#1080;&#1077;&#1085;&#1090;&#1080;-29062011-1.pdf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gregio.eu/izpalnenie-na-dogovori/monitoring.aspx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395280" y="1628640"/>
            <a:ext cx="8353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изпълнение и управление на проекти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Схема за предоставяне на безвъзмездна финансова помощ BG161PO001/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2/2011</a:t>
            </a:r>
            <a:br>
              <a:rPr sz="2400"/>
            </a:b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395280" y="1413000"/>
            <a:ext cx="8353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bgregio.e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bg-BG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Указания във връзка с изпълнението на договори за безвъзмездна финансова помощ по ОПРР с бенефициенти общи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ПО и конкретни бенефициенти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КТУАЛНО ОТ 15.02.2012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и 12,  13 и 14 от Указанията – описание на видовете разходооправдателни документи спрямо бюджетните п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ъкът не е изчерпателен! Имайте предвид и документите, посочени в Сравнителна таблица за изискваните документи при подаване на искания за плащане и новите документи, изисквани по ПМС 33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95280" y="1628640"/>
            <a:ext cx="8353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ци за отработено вр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за изплатени възнаграждения по граждански и трудови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за дължими и внесени осигу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равка за индивидуалната заплата на служителя за последния месец“ съгласно Указания на У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395280" y="1628640"/>
            <a:ext cx="83534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имки на доставките с видими серийни номера и стикери, указващи закупуването им със средства по ОП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395280" y="1628640"/>
            <a:ext cx="83534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е на протокол за удостоверяване наличието на закуп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ване от експерт „Мониторинг” на РО, съответств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 с предвиденото в договора, както и маркирането 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авилата за публичност и информиране отно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та подкрепа от 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95280" y="1628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ъбития – снимки от събитието, презентации, покани, списъци с участници, програма, делегатски паке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и за участниците, докла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от проведеното събитие, отразяване в медии – публикации, ауди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 отразяване, прес-съ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и - Копие на публикациите, включително на първите страници на изданията, заглавието на страницата и самата страница, където е разположена публикацията; Екземпляр от всеки един презентационен матери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395280" y="1628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услуги – Копие от всички продук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зготвени по Договора за усл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троителство - Становище от експерт „Мониторинг” от РО, потвърждаващ наличието на извършените строително-ремонтни дейности, съответствието им с предвиденото в договора 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ъществяването на мерки съгласно правилата за публичност 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ане относно финансовата подкрепа от 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395280" y="162864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услуги – Копие от всички продук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зготвени по Договора за усл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троителство – </a:t>
            </a:r>
            <a:r>
              <a:rPr b="1" lang="bg-BG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странно подписан констативен протокол за съответствие между заложени, актувани и реално изпълнени СМР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прилага се към технически доклади и към искания за плащан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395280" y="162864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трябва да отговарят на правилата за информираност и публичнос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кументите към техническия и финансов отчет спазването на тези правила трябва да е видно – в снимки от събит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, наименова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пия от материали и т.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95280" y="1628640"/>
            <a:ext cx="8353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95280" y="1628640"/>
            <a:ext cx="8353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 ИЗПЪЛНЕНИЕ НА ДОГОВ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на проектите. Разходооправдателни докумен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ия по конкретни казуси, обсъждане на бюджетите по договори и идентифициране на потенциални рискови пера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95280" y="1628640"/>
            <a:ext cx="8353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bgregio.eu/izpalnenie-na-dogovori/monitoring.aspx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а процесът по мониторинг е идентичен с процеса по верификация на разход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ва дали изпълнението съответства на договореното, а също и да предостави количествена и качествена информация, чрез която да бъде измерена ефективността и ефикасността от изпълнението на дадения проект. Информацията се базир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ндикатори, които всеки бенефициент е заложил в проектното си предлож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95280" y="1628640"/>
            <a:ext cx="8353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ът обхваща две н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ътрешен мониторинг – от бенефициента спрямо самата организация-бенефициенти и спрямо изпълнителит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ншен мониторинг – от УО спрямо бенефициенти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за мониторинг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докл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на мяст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 на проекти, одитн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395280" y="162864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ът се използва 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тчитане на напредъка в изпълнението на конкретния про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звеждане на важни проблеми и изводи, свързани с изпълнението на конкретния про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База за извършване на корективни мер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птимизиране на използваните ресур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едотвратяване на нередности и предприемане на действия срещу так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95280" y="1628640"/>
            <a:ext cx="83534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техническа и финансова отчетност п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и гарантиране на стриктното спазване на правилата и процедурите по ЗО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, че проекта се реализира с необходимите човешки ресур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за коректност, валидност и надеждност на представената в докладите информация, както и степен на изпълнение на дейностите и постигнати резултати п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използването на ресурсите за постигане на предвидените резултати и техния принос за изпълнението на целите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95280" y="1628640"/>
            <a:ext cx="8353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, че извършените дейности за изпълнение на проекта са надлежно документирани и при поискване са на разположение на националните и европейските контролни орга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зпечаване на своевременна идентификация на потенциални проблеми и трудности при изпълнението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помагане на екипите за изпълнение на проектите чрез предложения, препоръки и предприемане на корективни мерки при необходим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 активното участие на заинтересованите страни в проекта, изпълнение на договореностите за партньорство и предоставянето на информация за финансираните дейности на партньор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95280" y="1628640"/>
            <a:ext cx="8353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ос за устойчивостта на резултатите и въздействието от проекта и идентифициране на най-добрите практики с оглед тяхното разпространение и гарантиране на по-широкообхватно въздействие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съблюдаването на изискванията за информация и публич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изпълнението на задължителните предписания или изисквания, дадени от Управляващия орган за отстраняване на констатирани при проверките пропуски или слабости по управление на 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95280" y="1628640"/>
            <a:ext cx="83534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моменти: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жте какво сте обещали във Формуляра за кандидатстване в секция “Вътрешен мониторинг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ане екип по мониторинг и оценка н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ване на Плана за изпълнение н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на индикаторите п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Документиране на извършения монитор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2-11-09T08:04:00Z</dcterms:modified>
  <cp:revision>48</cp:revision>
  <dc:subject/>
  <dc:title>Слайд 1</dc:title>
</cp:coreProperties>
</file>