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C5290-2A4B-4A42-9D46-038C11E4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DDDB9-5945-4543-A863-1592B8D1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751AF-9365-4955-B0EB-75D478F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49DE2-2292-47B5-A7F0-E220411A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769FE-883E-47E1-AF73-AA1CA0EF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E04EA-EC59-453C-84B5-A988BF3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1B51C-1DF1-4B32-A1F2-15EE8A6B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5BD34-4CCB-4120-AECA-B978A278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B9556-080A-494D-8819-9CD99C5A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608F9-13EF-41D1-8323-4AB06DA2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0409C-3DFD-45EE-BFDB-805DADE4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C86B4-8097-4704-B272-8A8DA5FB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58E59-55BB-421D-9CB1-B22F96D4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492E9-C1C3-48AD-BD2C-434C760A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1487D-6C68-47B2-9152-59664B65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BE621-2C5C-4AA8-8463-D596CC1D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BDF93-728E-429C-BD45-5D7BA955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916A1-79A3-462A-98DF-B35C5771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71FE3-3F1C-4406-9ACF-0FB17D22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B569F-24BC-4490-B4CF-9B9E1C50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B2AD7-5818-4174-8F42-60B75FF3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644B6-F1A9-478C-AEDA-A69C1DBC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240CE-F188-4D84-BA27-AE9A68D6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63743-E68A-4369-8311-F644F465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411A3-AE00-42E5-A2E2-64787107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5BDC6-BE6C-4F14-9CDC-AF91E6AB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407C8-874B-48BC-96BF-B2E7002E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1AB08-3398-470A-A87B-82295F6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C6CE1-A10A-4093-8930-E94FED3C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5BDA1-EE4A-4C88-8AA9-CBBB9EDC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76E-FE4E-464C-80E0-7316AE07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5BCAE-CA25-410B-934F-109DB945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774E78-B0F7-49BE-920D-7B9D1C48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04D10-5EC3-40BE-81ED-ACAF1839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D1572-1C21-46C8-8F56-81D31DA3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8A8DE-3B83-4B74-A04F-1974B5E5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7D0F3-9542-4758-A373-DE3370EB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1FD9F-3EEC-426B-A361-3B3E9A65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2DAD9-9AE2-4AB7-A44E-310022C1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789DD-698A-4E00-AA3D-B4D9D63A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448F4-BAC4-401B-BA55-D5C63A31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D32-D0DC-4752-916E-060D92B5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EDFA7-D65B-48E2-B48B-FB685741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E2652-79F6-4F2C-863E-98FBBF77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012B4-BE92-431C-9979-0118FF23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52A95-EF0C-4FE5-A0B5-C2E7F519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89578-9487-47A0-942A-97F5BC58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9485-B256-448F-8D71-2BF2AA20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E6A-B860-4B41-8841-C0FCC939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B63-688C-4670-A65D-BB64EDBA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058-EFB9-4EF4-A2DE-D98E1FD8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A71-9416-415D-BF84-C6846B7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7D0-23B9-4772-9D06-73D6D11B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A8A-A44C-45C8-9A61-70A6367B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FEB-1EE9-491B-A4CD-766E14F1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E144-3620-4739-897D-15182C94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C51A-E4B4-424D-9427-984130D1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2728-61AD-40CA-9E55-98E090FA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C839-091F-4DE1-91A9-6400D4B5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E914-9948-46F7-9B9D-B430876B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AE7A-349E-4774-B622-4A8C8C4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2017-B192-4133-808B-28CF3215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B351-D5D8-4734-8AFE-6F7CF901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08D6-0978-4C81-97F4-81877A28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0108-5675-42E9-BA52-4773B06F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1324-4D2B-4D10-BA1B-F4CE0500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D2E7-A808-4DF6-8819-C809D36D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2A35-287B-496A-973E-6D89A91A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B0DC-F780-4CCE-933E-DAF52917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3C50D-1FF6-408A-84F9-52DAFB87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421CE-D8C4-44D1-969D-929E8751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3F94-E3B8-4530-BF3E-51A60B6C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0D3B-045B-4152-8EC9-465059E7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2FDC-95F3-4BD9-AB26-57F1E710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1683-D521-4963-8836-18DEFC58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398B0-FF24-4861-A4B8-6848EA88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F982-C47C-4EF9-9590-B91FE31E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62F4D-7F85-42F1-B205-D78D194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27B0-4FFF-4F89-82A8-7447FD79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530AF-34B6-4398-8700-E767859F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66CD2-016C-4D01-AC58-0D7DAEA6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68C73-62C2-4EC3-B336-607E9CB3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387DB-EA5C-4030-99E5-A94DAF53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C187B-7706-4F21-A4EB-529E67701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18F89-9F71-490E-9D88-275A5C13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1C338-F53E-47F9-91AF-F31286E9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37BB-D1CE-4E6B-95BD-66C86FAF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8BF7-358B-4648-9332-4301D9C9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26477-C431-4498-BB1B-48DDB3E4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D887-8D57-4537-B7FC-97B9B2D4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EAEA4-6DBE-49F3-AD07-AE32FFA9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F016E-8E59-42E4-8669-210A2AB1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27896-9DF9-4B13-83C9-E822804A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80D08-0DFA-418D-A475-EB6EDF29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077BD-088D-479F-B366-4E7191C0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2DCC9-54C3-481A-8931-15A3769F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57E0A-BC2C-4777-A526-31EBC343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267FE-F2ED-4852-9991-3E55A06A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008D0-1B93-4BE4-838D-C1E8C2C2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D1749-F109-4F06-A084-1E15DAB6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10B1F-3B70-4DCA-91D0-268FAF72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9CD4A-BD18-440A-A3D9-3858ECE0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01BEB-4E14-4827-B040-492B0C10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4655-E1E5-4EA0-A1CF-2FED2460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D349C-B4EE-48FC-9042-FC6A9CB8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D4DD9-A4C4-4E53-BAEC-1BB0826D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A4A1-5E24-497D-8D30-16863190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52335-95B1-47E5-84C2-6732DCAF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B37AD-F5C4-4075-AFA0-F153CA2C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4B45-59E8-4456-B967-BE7C7ABD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9789D-0129-46A7-9250-44CC7D32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4ABE3-2E34-4D5D-97AB-D1553D01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0C84-0999-4474-8DD5-644B3C77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B53D1-C49D-47A9-AAFD-68BEFACB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74BAA-687E-4798-AF4A-0EEF95A1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AEB2-599A-4FD6-896F-0CAB18819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214EA-DBE3-42B7-A5C4-09FCCB8B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50243-BAB3-4653-8D4E-5AEF371F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CD417-E175-4E50-8FC1-D2CF22A3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7AB80-F4F6-4797-B55E-EC074781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7E3B8-61A7-4FB8-8293-A35B4D2A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F1F0F-8411-42A6-8820-4C93D04A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6C33B-DD9E-4253-B512-2F86431C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F80CF-02A3-4B86-80B0-9DEDCC84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258AE-F606-4FC5-98D3-169AD16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F4AFC-6BAD-4C7D-A499-8FD62C39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6386D-EC54-4E71-B6E3-F77E6F8D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CE4A6-3F35-4299-B31A-FF115E62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AEB8F-F3FF-4D8B-A2F7-E9961449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F6D7-B795-4AC0-AD76-C19013DC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193D1-258B-4716-AB7C-89D188D6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67E07-8021-4046-A19C-88E6EFBD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bgregio.eu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6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73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7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3299-88F2-4511-903A-E0178014586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2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3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248C-A71E-4BD9-B94C-C706234A9D0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7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58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D53D-E8FC-4D58-A4F1-6EAFD2240EF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6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AACC-0305-463A-A15A-7572FB7AFE40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09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1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BCAE-177D-46B7-B103-2E5E43332A6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161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16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F15C-16EE-4E22-99A1-1161EDDE6643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3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18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4054-6904-421F-A3C6-6128F26D7D2A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65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270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2B9F-AD8C-4CC0-A78E-7216F92542FE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17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22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F5DC-4C2B-46BC-BE64-95710A51DB87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365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369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0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374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6158-6F32-438F-BB74-FFE2D026D299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Z:\MRRB_obuchenie_beneficienti_25.10.2010\Izpulnenie\Templat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7" descr="http://www.bgregio.eu/FCKeditor/UserFiles/File/OPRR_bg.JPG"/>
          <p:cNvPicPr/>
          <p:nvPr/>
        </p:nvPicPr>
        <p:blipFill>
          <a:blip r:embed="rId3"/>
          <a:stretch/>
        </p:blipFill>
        <p:spPr>
          <a:xfrm>
            <a:off x="7956720" y="189000"/>
            <a:ext cx="733320" cy="971640"/>
          </a:xfrm>
          <a:prstGeom prst="rect">
            <a:avLst/>
          </a:prstGeom>
          <a:ln w="0">
            <a:noFill/>
          </a:ln>
        </p:spPr>
      </p:pic>
      <p:sp>
        <p:nvSpPr>
          <p:cNvPr id="417" name="TextBox 10"/>
          <p:cNvSpPr/>
          <p:nvPr/>
        </p:nvSpPr>
        <p:spPr>
          <a:xfrm>
            <a:off x="3059280" y="379440"/>
            <a:ext cx="296064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ектът се осъществява с финансовата подкрепа 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 “Регионално развитие”2007-2013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съфинансирана от Европейския съюз чре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я фонд за регионално развит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 u="sng">
                <a:solidFill>
                  <a:srgbClr val="0000ff"/>
                </a:solidFill>
                <a:uFillTx/>
                <a:latin typeface="Times New Roman"/>
                <a:ea typeface="ArialMT"/>
                <a:hlinkClick r:id="rId4"/>
              </a:rPr>
              <a:t>www.bgregio.e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1"/>
          <p:cNvSpPr/>
          <p:nvPr/>
        </p:nvSpPr>
        <p:spPr>
          <a:xfrm>
            <a:off x="177480" y="907920"/>
            <a:ext cx="16466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ЕВРОПЕЙСКИ ФОНД З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РЕГИОНАЛНО РАЗВИТ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ArialMT"/>
              </a:rPr>
              <a:t>Инвестираме във Вашето бъдещ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2"/>
          <p:cNvSpPr/>
          <p:nvPr/>
        </p:nvSpPr>
        <p:spPr>
          <a:xfrm>
            <a:off x="7739640" y="1197000"/>
            <a:ext cx="1191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еративна програ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bg-BG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лно развитие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2007 –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1" descr="Европейска емблема"/>
          <p:cNvPicPr/>
          <p:nvPr/>
        </p:nvPicPr>
        <p:blipFill>
          <a:blip r:embed="rId5"/>
          <a:stretch/>
        </p:blipFill>
        <p:spPr>
          <a:xfrm>
            <a:off x="250920" y="566100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421" name="il_fi" descr="http://ecoline.hit.bg/BG-flag.gif"/>
          <p:cNvPicPr/>
          <p:nvPr/>
        </p:nvPicPr>
        <p:blipFill>
          <a:blip r:embed="rId6"/>
          <a:stretch/>
        </p:blipFill>
        <p:spPr>
          <a:xfrm>
            <a:off x="7740720" y="5661000"/>
            <a:ext cx="11430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8"/>
          <p:cNvSpPr/>
          <p:nvPr/>
        </p:nvSpPr>
        <p:spPr>
          <a:xfrm>
            <a:off x="186120" y="6453360"/>
            <a:ext cx="130392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ЕВРОПЕЙСКИ СЪЮ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1942560" y="5589720"/>
            <a:ext cx="522684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говор № РД-02-29-16/21.01.2011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„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ване на специфично обучение по операции за бенефициенти и консултиране по разработван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изпълнение на проекти по ОПРР”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ект BG161PO001/5-01/2008/014, финансира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Оперативна програма „Регионално развитие” 2007-2013 г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орциум „С.И.Ц.И. Доминус ООД и Българска консултантска организация ООД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250920" y="189000"/>
            <a:ext cx="1009440" cy="685800"/>
            <a:chOff x="250920" y="189000"/>
            <a:chExt cx="1009440" cy="685800"/>
          </a:xfrm>
        </p:grpSpPr>
        <p:sp>
          <p:nvSpPr>
            <p:cNvPr id="426" name="AutoShape 14"/>
            <p:cNvSpPr/>
            <p:nvPr/>
          </p:nvSpPr>
          <p:spPr>
            <a:xfrm>
              <a:off x="250920" y="189000"/>
              <a:ext cx="100440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16" descr=""/>
            <p:cNvPicPr/>
            <p:nvPr/>
          </p:nvPicPr>
          <p:blipFill>
            <a:blip r:embed="rId7"/>
            <a:stretch/>
          </p:blipFill>
          <p:spPr>
            <a:xfrm>
              <a:off x="250920" y="189000"/>
              <a:ext cx="100944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C84D-BED2-4E95-9744-C24F1E866168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gregio.eu/" TargetMode="External"/><Relationship Id="rId2" Type="http://schemas.openxmlformats.org/officeDocument/2006/relationships/hyperlink" Target="http://bgregio.eu/media/old/file/&#1059;&#1082;&#1072;&#1079;&#1072;&#1085;&#1080;&#1103;%20&#1079;&#1072;%20&#1054;&#1073;&#1097;&#1080;&#1085;&#1080;_&#1053;&#1055;&#1054;_&#1050;&#1086;&#1085;&#1082;&#1088;&#1077;&#1090;&#1085;&#1080;%20&#1073;&#1077;&#1085;&#1077;&#1092;&#1080;&#1094;&#1080;&#1077;&#1085;&#1090;&#1080;-29062011-1.pdf" TargetMode="Externa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gregio.eu/izpalnenie-na-dogovori/monitoring.aspx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395280" y="1628640"/>
            <a:ext cx="83534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а изпълнение и управление на проекти 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Схема за предоставяне на безвъзмездна финансова помощ BG161PO001/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2/2011</a:t>
            </a:r>
            <a:br>
              <a:rPr sz="2400"/>
            </a:br>
            <a:r>
              <a:rPr b="1" i="1" lang="bg-BG" sz="2400" spc="-1" strike="noStrike">
                <a:solidFill>
                  <a:srgbClr val="000000"/>
                </a:solidFill>
                <a:latin typeface="Times New Roman"/>
              </a:rPr>
              <a:t>„Подкрепа за осигуряване на съвременни социални жилища за настаняване на уязвими, малцинствени и социално слаби групи от населението и други групи в неравностойно положение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395280" y="1413000"/>
            <a:ext cx="8353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bgregio.eu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bg-BG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Указания във връзка с изпълнението на договори за безвъзмездна финансова помощ по ОПРР с бенефициенти общин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ПО и конкретни бенефициенти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КТУАЛНО ОТ 15.02.2012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и 12,  13 и 14 от Указанията – описание на видовете разходооправдателни документи спрямо бюджетните п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съкът не е изчерпателен! Имайте предвид и документите, посочени в Сравнителна таблица за изискваните документи при подаване на искания за плащане и новите документи, изисквани по ПМС 330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395280" y="1628640"/>
            <a:ext cx="8353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разходооправдателни документи са в съответствие с националното законодателст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н документирането на разходи съгласно националното законодателство, УО изисква допълнителни докумен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ци за отработено вр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и за изплатени възнаграждения по граждански и трудови догов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и за дължими и внесени осигуров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равка за индивидуалната заплата на служителя за последния месец“ съгласно Указания на У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395280" y="1628640"/>
            <a:ext cx="83534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разходооправдателни документи са в съответствие с националното законодателст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н документирането на разходи съгласно националното законодателство, УО изисква допълнителни докумен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имки на доставките с видими серийни номера и стикери, указващи закупуването им със средства по ОПР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395280" y="1628640"/>
            <a:ext cx="835344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разходооправдателни документи са в съответствие с националното законодателст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н документирането на разходи съгласно националното законодателство, УО изисква допълнителни документи: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е на протокол за удостоверяване наличието на закуп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ване от експерт „Мониторинг” на РО, съответств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 с предвиденото в договора, както и маркирането 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гласно правилата за публичност и информиране отно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та подкрепа от 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395280" y="1628640"/>
            <a:ext cx="83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е на техническата документац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ъбития – снимки от събитието, презентации, покани, списъци с участници, програма, делегатски пакет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и за участниците, доклад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от проведеното събитие, отразяване в медии – публикации, аудио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 отразяване, прес-съобщ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ации - Копие на публикациите, включително на първите страници на изданията, заглавието на страницата и самата страница, където е разположена публикацията; Екземпляр от всеки един презентационен матери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395280" y="1628640"/>
            <a:ext cx="8353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е на техническата документац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услуги – Копие от всички продукт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изготвени по Договора за усл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строителство - Становище от експерт „Мониторинг” от РО, потвърждаващ наличието на извършените строително-ремонтни дейности, съответствието им с предвиденото в договора 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ъществяването на мерки съгласно правилата за публичност 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ане относно финансовата подкрепа от 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395280" y="1628640"/>
            <a:ext cx="83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тношение на техническата документац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услуги – Копие от всички продукти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 изготвени по Договора за услу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строителство – </a:t>
            </a:r>
            <a:r>
              <a:rPr b="1" lang="bg-BG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странно подписан констативен протокол за съответствие между заложени, актувани и реално изпълнени СМР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– прилага се към технически доклади и към искания за плащане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395280" y="1628640"/>
            <a:ext cx="835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ходооправдателни докумен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ички документи трябва да отговарят на правилата за информираност и публичнос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кументите към техническия и финансов отчет спазването на тези правила трябва да е видно – в снимки от събития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а, наименования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пия от материали и т.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395280" y="1628640"/>
            <a:ext cx="83534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ТО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395280" y="1628640"/>
            <a:ext cx="8353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 ИЗПЪЛНЕНИЕ НА ДОГОВ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на проектите. Разходооправдателни докумен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сия по конкретни казуси, обсъждане на бюджетите по договори и идентифициране на потенциални рискови пера.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95280" y="1628640"/>
            <a:ext cx="835344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bgregio.eu/izpalnenie-na-dogovori/monitoring.aspx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ктика процесът по мониторинг е идентичен с процеса по верификация на разходи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ва дали изпълнението съответства на договореното, а също и да предостави количествена и качествена информация, чрез която да бъде измерена ефективността и ефикасността от изпълнението на дадения проект. Информацията се базир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индикатори, които всеки бенефициент е заложил в проектното си предложени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395280" y="1628640"/>
            <a:ext cx="83534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ът обхваща две ни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ътрешен мониторинг – от бенефициента спрямо самата организация-бенефициенти и спрямо изпълнителите на прое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ъншен мониторинг – от УО спрямо бенефициенти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 за мониторинг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и докла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и на мяст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т на проекти, одитни доклад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395280" y="1628640"/>
            <a:ext cx="835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ът се използва 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Отчитане на напредъка в изпълнението на конкретния проек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Извеждане на важни проблеми и изводи, свързани с изпълнението на конкретния проек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База за извършване на корективни мерк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Оптимизиране на използваните ресурс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Предотвратяване на нередности и предприемане на действия срещу таки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395280" y="1628640"/>
            <a:ext cx="83534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и цели на мониторинг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на техническа и финансова отчетност по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и гарантиране на стриктното спазване на правилата и процедурите по ЗОП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антиране, че проекта се реализира с необходимите човешки ресурс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за коректност, валидност и надеждност на представената в докладите информация, както и степен на изпълнение на дейностите и постигнати резултати по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на използването на ресурсите за постигане на предвидените резултати и техния принос за изпълнението на целите на 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95280" y="1628640"/>
            <a:ext cx="83534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и цели на мониторинг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антиране, че извършените дейности за изпълнение на проекта са надлежно документирани и при поискване са на разположение на националните и европейските контролни орга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зпечаване на своевременна идентификация на потенциални проблеми и трудности при изпълнението на 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помагане на екипите за изпълнение на проектите чрез предложения, препоръки и предприемане на корективни мерки при необходим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антиране активното участие на заинтересованите страни в проекта, изпълнение на договореностите за партньорство и предоставянето на информация за финансираните дейности на партньори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395280" y="1628640"/>
            <a:ext cx="83534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и цели на мониторинг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нос за устойчивостта на резултатите и въздействието от проекта и идентифициране на най-добрите практики с оглед тяхното разпространение и гарантиране на по-широкообхватно въздействие на 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на съблюдаването на изискванията за информация и публичн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на изпълнението на задължителните предписания или изисквания, дадени от Управляващия орган за отстраняване на констатирани при проверките пропуски или слабости по управление на 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250920" y="148428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250920" y="1628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395280" y="1628640"/>
            <a:ext cx="835344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моменти: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жте какво сте обещали във Формуляра за кандидатстване в секция “Вътрешен мониторинг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ане екип по мониторинг и оценка н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зване на Плана за изпълнение н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на индикаторите п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Документиране на извършения мониторин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32:57Z</dcterms:created>
  <dc:creator>maria.mihovska</dc:creator>
  <dc:description/>
  <dc:language>en-US</dc:language>
  <cp:lastModifiedBy>User</cp:lastModifiedBy>
  <dcterms:modified xsi:type="dcterms:W3CDTF">2012-11-09T08:04:00Z</dcterms:modified>
  <cp:revision>48</cp:revision>
  <dc:subject/>
  <dc:title>Слайд 1</dc:title>
</cp:coreProperties>
</file>