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7A54C0-BAF0-4863-89EB-12B7555ED7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B94470-2B00-4997-A48E-E081E379EA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0A97CF-DAEB-4AA7-8D47-5CDF121B6E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DAA930-1177-4381-ADC0-CC02CF2132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3E6190-B7A2-443B-A33D-33F82355AA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42C00A-8C87-4E7E-9528-F74A206F14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824BB6-193A-45E8-AB23-3DA9D2CC4B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FEF065-3A02-43CD-A7F6-089898C25A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A7E37E-F6F6-44BC-8D0F-DFD1F7ED89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681494-BE77-49AD-9317-32351437A9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204403-5861-4F0E-A741-DAA0C15A1E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68CFE1-5BB1-43D4-A351-5419728FB0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F79C01-2F72-4A68-9317-71509ECCB4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A4B1E1-A622-4EEB-ABAC-E59C83981E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058561-F3C8-4D8C-BE8E-B9B8DA1289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3FCF6B-897A-4B6B-AF9F-2092A2CA39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61F4B3-FEC3-4BF6-83A4-6F38131FB7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A6F8D9-1A72-42BA-8D79-886A66F751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FE595F-C914-4989-AE4C-33E75AF3F4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7DD2FD-A98A-43E3-8108-CD5E0302A6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EEC016-8631-4A08-BEE2-B130B0E161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00CAEAA-8DA6-4264-A2DC-0FBE3D4CBD4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B82F80-4EDF-4593-8EF3-FA261B053A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542A8B-B520-4C85-80A6-D6FCF3A846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7360F2-AAA5-45F9-9DB5-713DFBCDD9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833AEB-52AF-42D6-B029-AE9E0382A8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E72F04-C31D-46FF-8C74-D1B1D65175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1DF715-D0F4-4188-8B1A-E11AFF7B2A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6FC28D-7283-438F-92C4-A3FC96D360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A6422F-9651-4431-987B-F1DD779D6F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2FFCC-3812-4DCB-82E1-32E487110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496446-B72B-40B3-BB6A-25A0903625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2DB2A21-FB85-4649-BAD9-BE66ED735B2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2005E5A-AA9F-4B79-997D-BE04C602EEB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1A5B8B4-816E-4011-892C-22B87898DC0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7BDA7A-4F96-41E2-BE8C-D54C9BB9BC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104B88-290A-4AAF-9FD5-3B5B084582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A3DD48-A8DD-40B4-AEF1-9904EF6B8F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CA198C-90E5-40C4-8298-85CF9F6B7D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CCB43C-FBE1-4F1C-AECF-6956F9EA72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BABEE7-D874-4FBC-8DD1-93C95C90AE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BFF6B-2454-4F13-81D9-FBFF0C9C6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5AEA1D-8A8C-4805-87BC-CFF0266616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5C14CA-7EBF-400B-B9B6-8882E2E42E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67C6A8-D07F-4178-B15E-EA2E6B7A9A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10CBF65-D0D5-459A-9F6C-01D22932B89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E76CD74-6102-487F-BB34-EDD5D20954B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0ADCB-8D85-4F96-AA6F-B3182B6EC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FB392-D4D9-403F-86C8-7D593540F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16292-B474-433D-B8B3-4AFAFE49C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9D119-98E1-4117-8548-014F6F552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066A2-5D48-415E-8987-939B1FF0F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1354E-836D-485D-A0E0-E7674C13E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B6678-A09C-4F16-A69A-E08452203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8F623-D3F1-4A3D-9F59-44BFAFB7E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E0795-1931-4BD2-825A-BD7C6B5DA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4FDE8-06E4-4F68-9682-6CC3652C7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A1E40C-3111-44ED-91EF-4BCDF1514F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D868F-2E47-4056-A8B4-62EA5DEE4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3CDAB-8E0A-46D9-9781-A2A30FCA9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3CB0D-8F8A-435E-AA13-52D7060AF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17A04-0DD3-4FD1-B70A-904C9B8BE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322B1-0DE1-41E3-BEA8-2EE0B0D3C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71919-2A0A-46DC-A28F-590065EC9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AFF40-08A6-498B-ACD3-32A1CF8C1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B05D6-0BBA-4B15-ABD2-39F90F131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AA24F-E5D2-4B8D-83B2-5633A30A0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74F75-72A5-43A3-84F8-B4904C23AB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4E66B1-5F80-4527-AA60-08C1DF2F33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544780-95C1-4E3D-AE26-1FDF0BB00C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DFB8E0-56DD-49E3-BE07-EE13EDB4CE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C7F390-EC74-44EA-87F6-4947A33A03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1460B0-17AC-4DC2-90DA-E88BEEA998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8F151A-6B5D-4BAC-9871-C1983F8CC4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CF05CD-267E-476A-9C82-900F72A03F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790E34-29A8-4862-ADC2-342B2F8B5A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698825-9F6B-4854-A813-9E3B723BAA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28300D-8A13-4E18-A415-252A55E08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D01260-3EA1-46DC-8BF0-6989770F67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C33E58-4A8E-4988-9588-343D4FB1E8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360546-C0AA-4FD6-9301-3E84C33C46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94F46E-97CA-4175-8A1A-6FF4C2271C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35555F-9FA5-4D03-A684-5462A71F3B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8B31D5-1336-46C1-9E3B-C03DDC55E8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952512-F2DE-45E8-A4DE-8BDEB6D5F6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3F900C-7DB3-4381-91EF-94F36DD9BE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9E13AC-96A9-4775-8F86-2658B80B6C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02CF6A-2448-4C33-BAF6-7E0F552F85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B20EDC-7C97-4A2D-B9B0-5280DDAF98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053008-17D4-4A37-9E30-BBDFAC2468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399120-1124-4E3F-8183-BA36BBD652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434B18-D452-42ED-892D-E75983AF96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639321-99EF-42BB-98D9-B1F1F16EAA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798736-4D22-42B5-A30C-76D6C3F4AC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3F581E-8044-4CFB-A611-E4B1D1D5B1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43917E-A306-44AD-928A-357FA84E12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D04374-72D0-458F-BA25-DF62D8CF97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54A360-4A90-400C-A1B6-30A652BC52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5EDC04-66AD-497C-89F1-05A4526C34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E6978B-00A8-415F-888F-0A2E819A03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1AA226-4623-448B-B689-39B7D2F017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943FA4-962E-4B36-A2A3-558C79AE21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B70A7D-B2D9-40F1-9132-D17D222581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8255C3-3943-416B-BB84-EF1EEE0F2D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ECDC96-9309-40D3-BB62-DEC401A41C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DFC257-C461-406D-9539-4D1006D7E8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4158B6-5EE8-4EF4-928D-23B10274DB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904946-2FCB-48F5-967C-D984C709C5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D1BF3B-B089-4B33-AD0A-12157C457C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6CD9F7-F7C2-48DD-995B-BA0DE607BA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BE3191-3894-402C-ADBE-B84ADF4EF6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22BC98-118B-4715-BE30-546AAD871F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05967F-CD35-4128-B448-38B9956F16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2D41BF-DD80-40F4-A8BE-E358052F8B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6C2C62-D3FE-4588-B914-14D2FF25D5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9B3A11-5226-48AD-9C05-6BB4374951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74D32F-E91B-43B2-A03B-4A74A474A1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5C0ED6-248D-4BEA-8B96-5FA0EE3EF5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25E87A-4EF6-46BB-9701-C30448876B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5BCF24-13B1-4A6B-93D0-E788987FCE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9A6CBB-B08B-49DC-8DC7-80BF85FFD5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FF7BAA-895D-43C3-8547-AFCEE3649A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566BE7-B541-40C1-97BE-B1D76269EF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13CEA0-ED7B-4335-B328-4FD7081BB2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0BB121-5DC0-4713-8EF9-0689F0DB45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357B74-18BA-4DAF-B88D-5CD0DEFD73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6DDF8B-6B36-4E81-92FD-346B0DA01D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69060D-AE01-4ED7-8836-E862BAD9A2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58E473-7C22-45D6-A72F-D8EDF0D249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080ADF-036D-4BE2-A3F9-102E4042A5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0FC3C1-66D8-49D2-971E-AA976E7D99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E3CAD2-4E38-4FBF-AFDC-3C06F033CBE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 name="Picture 7" descr="http://www.bgregio.eu/FCKeditor/UserFiles/File/OPRR_bg.JPG"/>
          <p:cNvPicPr/>
          <p:nvPr/>
        </p:nvPicPr>
        <p:blipFill>
          <a:blip r:embed=""/>
          <a:stretch/>
        </p:blipFill>
        <p:spPr>
          <a:xfrm>
            <a:off x="7956720" y="189000"/>
            <a:ext cx="733320" cy="971640"/>
          </a:xfrm>
          <a:prstGeom prst="rect">
            <a:avLst/>
          </a:prstGeom>
          <a:ln w="0">
            <a:noFill/>
          </a:ln>
        </p:spPr>
      </p:pic>
      <p:sp>
        <p:nvSpPr>
          <p:cNvPr id="2"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 name="Picture 11" descr="Европейска емблема"/>
          <p:cNvPicPr/>
          <p:nvPr/>
        </p:nvPicPr>
        <p:blipFill>
          <a:blip r:embed="rId3"/>
          <a:stretch/>
        </p:blipFill>
        <p:spPr>
          <a:xfrm>
            <a:off x="250920" y="5661000"/>
            <a:ext cx="1152360" cy="771480"/>
          </a:xfrm>
          <a:prstGeom prst="rect">
            <a:avLst/>
          </a:prstGeom>
          <a:ln w="0">
            <a:noFill/>
          </a:ln>
        </p:spPr>
      </p:pic>
      <p:pic>
        <p:nvPicPr>
          <p:cNvPr id="6" name="il_fi" descr="http://ecoline.hit.bg/BG-flag.gif"/>
          <p:cNvPicPr/>
          <p:nvPr/>
        </p:nvPicPr>
        <p:blipFill>
          <a:blip r:embed="rId4"/>
          <a:stretch/>
        </p:blipFill>
        <p:spPr>
          <a:xfrm>
            <a:off x="7740720" y="5661000"/>
            <a:ext cx="1143000" cy="752400"/>
          </a:xfrm>
          <a:prstGeom prst="rect">
            <a:avLst/>
          </a:prstGeom>
          <a:ln w="9360">
            <a:solidFill>
              <a:srgbClr val="000000"/>
            </a:solidFill>
            <a:miter/>
          </a:ln>
        </p:spPr>
      </p:pic>
      <p:sp>
        <p:nvSpPr>
          <p:cNvPr id="7"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9"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0" name="Group 15"/>
          <p:cNvGrpSpPr/>
          <p:nvPr/>
        </p:nvGrpSpPr>
        <p:grpSpPr>
          <a:xfrm>
            <a:off x="250920" y="189000"/>
            <a:ext cx="1009440" cy="685800"/>
            <a:chOff x="250920" y="189000"/>
            <a:chExt cx="1009440" cy="685800"/>
          </a:xfrm>
        </p:grpSpPr>
        <p:sp>
          <p:nvSpPr>
            <p:cNvPr id="11"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 name="Picture 16" descr=""/>
            <p:cNvPicPr/>
            <p:nvPr/>
          </p:nvPicPr>
          <p:blipFill>
            <a:blip r:embed="rId5"/>
            <a:stretch/>
          </p:blipFill>
          <p:spPr>
            <a:xfrm>
              <a:off x="250920" y="189000"/>
              <a:ext cx="1009440" cy="6858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6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6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47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7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72"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73"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7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7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77" name="Group 15"/>
          <p:cNvGrpSpPr/>
          <p:nvPr/>
        </p:nvGrpSpPr>
        <p:grpSpPr>
          <a:xfrm>
            <a:off x="250920" y="189000"/>
            <a:ext cx="1009440" cy="685800"/>
            <a:chOff x="250920" y="189000"/>
            <a:chExt cx="1009440" cy="685800"/>
          </a:xfrm>
        </p:grpSpPr>
        <p:sp>
          <p:nvSpPr>
            <p:cNvPr id="47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9" name="Picture 16" descr=""/>
            <p:cNvPicPr/>
            <p:nvPr/>
          </p:nvPicPr>
          <p:blipFill>
            <a:blip r:embed="rId6"/>
            <a:stretch/>
          </p:blipFill>
          <p:spPr>
            <a:xfrm>
              <a:off x="250920" y="189000"/>
              <a:ext cx="1009440" cy="685800"/>
            </a:xfrm>
            <a:prstGeom prst="rect">
              <a:avLst/>
            </a:prstGeom>
            <a:ln w="0">
              <a:noFill/>
            </a:ln>
          </p:spPr>
        </p:pic>
      </p:grpSp>
      <p:sp>
        <p:nvSpPr>
          <p:cNvPr id="48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82C1D-18F1-407B-9D75-084E202404B1}"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2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2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2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2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2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2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2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2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29" name="Group 15"/>
          <p:cNvGrpSpPr/>
          <p:nvPr/>
        </p:nvGrpSpPr>
        <p:grpSpPr>
          <a:xfrm>
            <a:off x="250920" y="189000"/>
            <a:ext cx="1009440" cy="685800"/>
            <a:chOff x="250920" y="189000"/>
            <a:chExt cx="1009440" cy="685800"/>
          </a:xfrm>
        </p:grpSpPr>
        <p:sp>
          <p:nvSpPr>
            <p:cNvPr id="53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1" name="Picture 16" descr=""/>
            <p:cNvPicPr/>
            <p:nvPr/>
          </p:nvPicPr>
          <p:blipFill>
            <a:blip r:embed="rId6"/>
            <a:stretch/>
          </p:blipFill>
          <p:spPr>
            <a:xfrm>
              <a:off x="250920" y="189000"/>
              <a:ext cx="1009440" cy="685800"/>
            </a:xfrm>
            <a:prstGeom prst="rect">
              <a:avLst/>
            </a:prstGeom>
            <a:ln w="0">
              <a:noFill/>
            </a:ln>
          </p:spPr>
        </p:pic>
      </p:grpSp>
      <p:sp>
        <p:nvSpPr>
          <p:cNvPr id="532"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33"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FAEF-CF90-42CE-8754-8B77CCD2069E}"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7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7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7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7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7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7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7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81" name="Group 15"/>
          <p:cNvGrpSpPr/>
          <p:nvPr/>
        </p:nvGrpSpPr>
        <p:grpSpPr>
          <a:xfrm>
            <a:off x="250920" y="189000"/>
            <a:ext cx="1009440" cy="685800"/>
            <a:chOff x="250920" y="189000"/>
            <a:chExt cx="1009440" cy="685800"/>
          </a:xfrm>
        </p:grpSpPr>
        <p:sp>
          <p:nvSpPr>
            <p:cNvPr id="58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3" name="Picture 16" descr=""/>
            <p:cNvPicPr/>
            <p:nvPr/>
          </p:nvPicPr>
          <p:blipFill>
            <a:blip r:embed="rId6"/>
            <a:stretch/>
          </p:blipFill>
          <p:spPr>
            <a:xfrm>
              <a:off x="250920" y="189000"/>
              <a:ext cx="1009440" cy="685800"/>
            </a:xfrm>
            <a:prstGeom prst="rect">
              <a:avLst/>
            </a:prstGeom>
            <a:ln w="0">
              <a:noFill/>
            </a:ln>
          </p:spPr>
        </p:pic>
      </p:grpSp>
      <p:sp>
        <p:nvSpPr>
          <p:cNvPr id="584"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85"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E747-949E-4594-B0BD-FC7446CCB301}"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2" name="TextBox 11"/>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3" name="TextBox 12"/>
          <p:cNvSpPr/>
          <p:nvPr/>
        </p:nvSpPr>
        <p:spPr>
          <a:xfrm>
            <a:off x="774036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18"/>
          <p:cNvSpPr/>
          <p:nvPr/>
        </p:nvSpPr>
        <p:spPr>
          <a:xfrm>
            <a:off x="18540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9" name="Group 15"/>
          <p:cNvGrpSpPr/>
          <p:nvPr/>
        </p:nvGrpSpPr>
        <p:grpSpPr>
          <a:xfrm>
            <a:off x="250920" y="189000"/>
            <a:ext cx="1009440" cy="685800"/>
            <a:chOff x="250920" y="189000"/>
            <a:chExt cx="1009440" cy="685800"/>
          </a:xfrm>
        </p:grpSpPr>
        <p:sp>
          <p:nvSpPr>
            <p:cNvPr id="6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16" descr=""/>
            <p:cNvPicPr/>
            <p:nvPr/>
          </p:nvPicPr>
          <p:blipFill>
            <a:blip r:embed="rId6"/>
            <a:stretch/>
          </p:blipFill>
          <p:spPr>
            <a:xfrm>
              <a:off x="250920" y="189000"/>
              <a:ext cx="1009440" cy="685800"/>
            </a:xfrm>
            <a:prstGeom prst="rect">
              <a:avLst/>
            </a:prstGeom>
            <a:ln w="0">
              <a:noFill/>
            </a:ln>
          </p:spPr>
        </p:pic>
      </p:grpSp>
      <p:sp>
        <p:nvSpPr>
          <p:cNvPr id="6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3A30F-A406-4A36-B1DD-A639BDA23114}"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6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0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05"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106"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07"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08"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109"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11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12"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13" name="Group 15"/>
          <p:cNvGrpSpPr/>
          <p:nvPr/>
        </p:nvGrpSpPr>
        <p:grpSpPr>
          <a:xfrm>
            <a:off x="250920" y="189000"/>
            <a:ext cx="1009440" cy="685800"/>
            <a:chOff x="250920" y="189000"/>
            <a:chExt cx="1009440" cy="685800"/>
          </a:xfrm>
        </p:grpSpPr>
        <p:sp>
          <p:nvSpPr>
            <p:cNvPr id="11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Picture 16" descr=""/>
            <p:cNvPicPr/>
            <p:nvPr/>
          </p:nvPicPr>
          <p:blipFill>
            <a:blip r:embed="rId6"/>
            <a:stretch/>
          </p:blipFill>
          <p:spPr>
            <a:xfrm>
              <a:off x="250920" y="189000"/>
              <a:ext cx="1009440" cy="685800"/>
            </a:xfrm>
            <a:prstGeom prst="rect">
              <a:avLst/>
            </a:prstGeom>
            <a:ln w="0">
              <a:noFill/>
            </a:ln>
          </p:spPr>
        </p:pic>
      </p:grpSp>
      <p:sp>
        <p:nvSpPr>
          <p:cNvPr id="116"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7"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1B96-E7AD-454C-A32F-389073E79266}"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5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5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15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5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60"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161"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16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6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65" name="Group 15"/>
          <p:cNvGrpSpPr/>
          <p:nvPr/>
        </p:nvGrpSpPr>
        <p:grpSpPr>
          <a:xfrm>
            <a:off x="250920" y="189000"/>
            <a:ext cx="1009440" cy="685800"/>
            <a:chOff x="250920" y="189000"/>
            <a:chExt cx="1009440" cy="685800"/>
          </a:xfrm>
        </p:grpSpPr>
        <p:sp>
          <p:nvSpPr>
            <p:cNvPr id="16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16" descr=""/>
            <p:cNvPicPr/>
            <p:nvPr/>
          </p:nvPicPr>
          <p:blipFill>
            <a:blip r:embed="rId6"/>
            <a:stretch/>
          </p:blipFill>
          <p:spPr>
            <a:xfrm>
              <a:off x="250920" y="189000"/>
              <a:ext cx="1009440" cy="685800"/>
            </a:xfrm>
            <a:prstGeom prst="rect">
              <a:avLst/>
            </a:prstGeom>
            <a:ln w="0">
              <a:noFill/>
            </a:ln>
          </p:spPr>
        </p:pic>
      </p:grpSp>
      <p:sp>
        <p:nvSpPr>
          <p:cNvPr id="16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45BF-96F3-40CF-A19B-A67CA8B79630}"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0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0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21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1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12"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213"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21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1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17" name="Group 15"/>
          <p:cNvGrpSpPr/>
          <p:nvPr/>
        </p:nvGrpSpPr>
        <p:grpSpPr>
          <a:xfrm>
            <a:off x="250920" y="189000"/>
            <a:ext cx="1009440" cy="685800"/>
            <a:chOff x="250920" y="189000"/>
            <a:chExt cx="1009440" cy="685800"/>
          </a:xfrm>
        </p:grpSpPr>
        <p:sp>
          <p:nvSpPr>
            <p:cNvPr id="21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 name="Picture 16" descr=""/>
            <p:cNvPicPr/>
            <p:nvPr/>
          </p:nvPicPr>
          <p:blipFill>
            <a:blip r:embed="rId6"/>
            <a:stretch/>
          </p:blipFill>
          <p:spPr>
            <a:xfrm>
              <a:off x="250920" y="189000"/>
              <a:ext cx="1009440" cy="685800"/>
            </a:xfrm>
            <a:prstGeom prst="rect">
              <a:avLst/>
            </a:prstGeom>
            <a:ln w="0">
              <a:noFill/>
            </a:ln>
          </p:spPr>
        </p:pic>
      </p:grpSp>
      <p:sp>
        <p:nvSpPr>
          <p:cNvPr id="22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902B-68C4-46BC-B9F7-6DA1742111BC}"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6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6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26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6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6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26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26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6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69" name="Group 15"/>
          <p:cNvGrpSpPr/>
          <p:nvPr/>
        </p:nvGrpSpPr>
        <p:grpSpPr>
          <a:xfrm>
            <a:off x="250920" y="189000"/>
            <a:ext cx="1009440" cy="685800"/>
            <a:chOff x="250920" y="189000"/>
            <a:chExt cx="1009440" cy="685800"/>
          </a:xfrm>
        </p:grpSpPr>
        <p:sp>
          <p:nvSpPr>
            <p:cNvPr id="27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1" name="Picture 16" descr=""/>
            <p:cNvPicPr/>
            <p:nvPr/>
          </p:nvPicPr>
          <p:blipFill>
            <a:blip r:embed="rId6"/>
            <a:stretch/>
          </p:blipFill>
          <p:spPr>
            <a:xfrm>
              <a:off x="250920" y="189000"/>
              <a:ext cx="1009440" cy="685800"/>
            </a:xfrm>
            <a:prstGeom prst="rect">
              <a:avLst/>
            </a:prstGeom>
            <a:ln w="0">
              <a:noFill/>
            </a:ln>
          </p:spPr>
        </p:pic>
      </p:grpSp>
      <p:sp>
        <p:nvSpPr>
          <p:cNvPr id="272"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3"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A5051-792C-434B-909F-583685ACC695}"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1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1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1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1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1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31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31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2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21" name="Group 15"/>
          <p:cNvGrpSpPr/>
          <p:nvPr/>
        </p:nvGrpSpPr>
        <p:grpSpPr>
          <a:xfrm>
            <a:off x="250920" y="189000"/>
            <a:ext cx="1009440" cy="685800"/>
            <a:chOff x="250920" y="189000"/>
            <a:chExt cx="1009440" cy="685800"/>
          </a:xfrm>
        </p:grpSpPr>
        <p:sp>
          <p:nvSpPr>
            <p:cNvPr id="32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16" descr=""/>
            <p:cNvPicPr/>
            <p:nvPr/>
          </p:nvPicPr>
          <p:blipFill>
            <a:blip r:embed="rId6"/>
            <a:stretch/>
          </p:blipFill>
          <p:spPr>
            <a:xfrm>
              <a:off x="250920" y="189000"/>
              <a:ext cx="1009440" cy="685800"/>
            </a:xfrm>
            <a:prstGeom prst="rect">
              <a:avLst/>
            </a:prstGeom>
            <a:ln w="0">
              <a:noFill/>
            </a:ln>
          </p:spPr>
        </p:pic>
      </p:grpSp>
      <p:sp>
        <p:nvSpPr>
          <p:cNvPr id="324"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5"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CC522-AA64-4BAE-B792-9630638BF4C9}"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6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65"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66"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67"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68"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369"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37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72"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73" name="Group 15"/>
          <p:cNvGrpSpPr/>
          <p:nvPr/>
        </p:nvGrpSpPr>
        <p:grpSpPr>
          <a:xfrm>
            <a:off x="250920" y="189000"/>
            <a:ext cx="1009440" cy="685800"/>
            <a:chOff x="250920" y="189000"/>
            <a:chExt cx="1009440" cy="685800"/>
          </a:xfrm>
        </p:grpSpPr>
        <p:sp>
          <p:nvSpPr>
            <p:cNvPr id="37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5" name="Picture 16" descr=""/>
            <p:cNvPicPr/>
            <p:nvPr/>
          </p:nvPicPr>
          <p:blipFill>
            <a:blip r:embed="rId6"/>
            <a:stretch/>
          </p:blipFill>
          <p:spPr>
            <a:xfrm>
              <a:off x="250920" y="189000"/>
              <a:ext cx="1009440" cy="685800"/>
            </a:xfrm>
            <a:prstGeom prst="rect">
              <a:avLst/>
            </a:prstGeom>
            <a:ln w="0">
              <a:noFill/>
            </a:ln>
          </p:spPr>
        </p:pic>
      </p:grpSp>
      <p:sp>
        <p:nvSpPr>
          <p:cNvPr id="37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7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6186-43DB-4514-B922-61A0FE05022D}"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1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1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41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1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20"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21"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2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25" name="Group 15"/>
          <p:cNvGrpSpPr/>
          <p:nvPr/>
        </p:nvGrpSpPr>
        <p:grpSpPr>
          <a:xfrm>
            <a:off x="250920" y="189000"/>
            <a:ext cx="1009440" cy="685800"/>
            <a:chOff x="250920" y="189000"/>
            <a:chExt cx="1009440" cy="685800"/>
          </a:xfrm>
        </p:grpSpPr>
        <p:sp>
          <p:nvSpPr>
            <p:cNvPr id="42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7" name="Picture 16" descr=""/>
            <p:cNvPicPr/>
            <p:nvPr/>
          </p:nvPicPr>
          <p:blipFill>
            <a:blip r:embed="rId6"/>
            <a:stretch/>
          </p:blipFill>
          <p:spPr>
            <a:xfrm>
              <a:off x="250920" y="189000"/>
              <a:ext cx="1009440" cy="685800"/>
            </a:xfrm>
            <a:prstGeom prst="rect">
              <a:avLst/>
            </a:prstGeom>
            <a:ln w="0">
              <a:noFill/>
            </a:ln>
          </p:spPr>
        </p:pic>
      </p:grpSp>
      <p:sp>
        <p:nvSpPr>
          <p:cNvPr id="428"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29"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4332F-0FBE-4B7C-8A4B-D7338ACD5F77}"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178920" y="1744560"/>
            <a:ext cx="8713800" cy="3556080"/>
          </a:xfrm>
          <a:prstGeom prst="rect">
            <a:avLst/>
          </a:prstGeom>
          <a:noFill/>
          <a:ln w="0">
            <a:noFill/>
          </a:ln>
        </p:spPr>
        <p:txBody>
          <a:bodyPr lIns="90000" rIns="90000" tIns="46800" bIns="46800" anchor="t">
            <a:normAutofit fontScale="93000"/>
          </a:bodyPr>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rPr>
              <a:t>ОБУЧЕНИЕ</a:t>
            </a:r>
            <a:endParaRPr b="0" lang="en-US" sz="2400" spc="-1" strike="noStrike">
              <a:solidFill>
                <a:srgbClr val="000000"/>
              </a:solidFill>
              <a:latin typeface="Calibri"/>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за изпълнение и управление на проекти </a:t>
            </a:r>
            <a:r>
              <a:rPr b="1" i="1" lang="bg-BG" sz="2400" spc="-1" strike="noStrike">
                <a:solidFill>
                  <a:srgbClr val="000000"/>
                </a:solidFill>
                <a:latin typeface="Times New Roman"/>
              </a:rPr>
              <a:t>по </a:t>
            </a:r>
            <a:endParaRPr b="0" lang="en-US" sz="2400" spc="-1" strike="noStrike">
              <a:solidFill>
                <a:srgbClr val="000000"/>
              </a:solidFill>
              <a:latin typeface="Calibri"/>
            </a:endParaRPr>
          </a:p>
          <a:p>
            <a:pPr marL="318960" indent="-3189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rPr>
              <a:t>Схема за предоставяне на безвъзмездна финансова помощ BG161PO001/1.</a:t>
            </a:r>
            <a:r>
              <a:rPr b="1" i="1" lang="en-US" sz="2400" spc="-1" strike="noStrike">
                <a:solidFill>
                  <a:srgbClr val="000000"/>
                </a:solidFill>
                <a:latin typeface="Times New Roman"/>
              </a:rPr>
              <a:t>2</a:t>
            </a:r>
            <a:r>
              <a:rPr b="1" i="1" lang="bg-BG" sz="2400" spc="-1" strike="noStrike">
                <a:solidFill>
                  <a:srgbClr val="000000"/>
                </a:solidFill>
                <a:latin typeface="Times New Roman"/>
              </a:rPr>
              <a:t>-</a:t>
            </a:r>
            <a:r>
              <a:rPr b="1" i="1" lang="en-US" sz="2400" spc="-1" strike="noStrike">
                <a:solidFill>
                  <a:srgbClr val="000000"/>
                </a:solidFill>
                <a:latin typeface="Times New Roman"/>
              </a:rPr>
              <a:t>0</a:t>
            </a:r>
            <a:r>
              <a:rPr b="1" i="1" lang="bg-BG" sz="2400" spc="-1" strike="noStrike">
                <a:solidFill>
                  <a:srgbClr val="000000"/>
                </a:solidFill>
                <a:latin typeface="Times New Roman"/>
              </a:rPr>
              <a:t>2/2011</a:t>
            </a:r>
            <a:br>
              <a:rPr sz="2400"/>
            </a:br>
            <a:r>
              <a:rPr b="1" i="1" lang="bg-BG" sz="2400" spc="-1" strike="noStrike">
                <a:solidFill>
                  <a:srgbClr val="000000"/>
                </a:solidFill>
                <a:latin typeface="Times New Roman"/>
              </a:rPr>
              <a:t>„Подкрепа за осигуряване на съвременни социални жилища за настаняване на уязвими, малцинствени и социално слаби групи от населението и други групи в неравностойно положение”</a:t>
            </a:r>
            <a:endParaRPr b="0" lang="en-US" sz="2400" spc="-1" strike="noStrike">
              <a:solidFill>
                <a:srgbClr val="000000"/>
              </a:solidFill>
              <a:latin typeface="Calibri"/>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3"/>
          <p:cNvSpPr/>
          <p:nvPr/>
        </p:nvSpPr>
        <p:spPr>
          <a:xfrm>
            <a:off x="250920" y="1557360"/>
            <a:ext cx="8713800" cy="396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7)</a:t>
            </a:r>
            <a:endParaRPr b="0" lang="en-US" sz="2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редности, свързани с документите за доказване допустимостта на разходи: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ерифицирани разходи от бенефициента без наличие на документи, доказващи извършването им.</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редовни документи за даден разход – липсващи реквизити, липсващ номер на ДБФП</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войно финансиране:</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Двойно финансиране за едни и същи дейности – например изплащане на две възнаграждения на служители по два проекта за изпълнението на една и съща задач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179280" y="1484280"/>
            <a:ext cx="842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Text Box 3"/>
          <p:cNvSpPr/>
          <p:nvPr/>
        </p:nvSpPr>
        <p:spPr>
          <a:xfrm>
            <a:off x="250920" y="1628640"/>
            <a:ext cx="8497800" cy="377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Установени при одити, при процес на верифициране на разходи от страна на УО: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 неточно изпълнение на договори от техническа гледна точка – незаконосъобразно изпълнение на СМР; неспазване на работните проекти; липса  на работни проекти, когато такива се изискват от Закона за устройство на територията; липса на строителен надзор; изпълнение на дейности по проекти без изискуемото се  предварително съгласие на УО на ОПРР.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3"/>
          <p:cNvSpPr/>
          <p:nvPr/>
        </p:nvSpPr>
        <p:spPr>
          <a:xfrm>
            <a:off x="250920" y="1557360"/>
            <a:ext cx="8713800" cy="411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егламентирани в Методиката за определяне на финансови корекци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редности, свързани с допустимостта на отчетените разходи по отношение на Човешки ресурс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 </a:t>
            </a:r>
            <a:r>
              <a:rPr b="0" lang="bg-BG" sz="2000" spc="-1" strike="noStrike">
                <a:solidFill>
                  <a:srgbClr val="ff0000"/>
                </a:solidFill>
                <a:latin typeface="Times New Roman"/>
                <a:ea typeface="Times New Roman"/>
              </a:rPr>
              <a:t>Отчитане на по-голяма заетост на членове на екипа спрямо регламентите на законовата уредба</a:t>
            </a:r>
            <a:r>
              <a:rPr b="0" lang="bg-BG"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 Неясни критерии за подбор, възлагане и отчитане на работата от лица, наети по граждански договор; както и необоснован размер на изплатеното възнагражден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 </a:t>
            </a:r>
            <a:r>
              <a:rPr b="0" lang="bg-BG" sz="2000" spc="-1" strike="noStrike">
                <a:solidFill>
                  <a:srgbClr val="ff0000"/>
                </a:solidFill>
                <a:latin typeface="Times New Roman"/>
                <a:ea typeface="Times New Roman"/>
              </a:rPr>
              <a:t>Изплащане на възнаграждения на лица по трудови и служебни правоотношения, за които няма данни да са изпълнили дейностите, свързани с проекта</a:t>
            </a:r>
            <a:r>
              <a:rPr b="0" lang="bg-BG"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 Box 3"/>
          <p:cNvSpPr/>
          <p:nvPr/>
        </p:nvSpPr>
        <p:spPr>
          <a:xfrm>
            <a:off x="250920" y="1628640"/>
            <a:ext cx="849780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Нередности, свързани с неспазването на изискванията за информация и публичност: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 Разходи за дейности, за които не е спазено изискването за информация и публичност;</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Нередности, свързани с неспазването на изискванията за устойчивост на проекта: </a:t>
            </a:r>
            <a:endParaRPr b="0" lang="en-US" sz="2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Разходи за инвестиции</a:t>
            </a:r>
            <a:r>
              <a:rPr b="0" lang="en-US" sz="22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оборудване, които не се използват по предназначение или с променено предназначени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3"/>
          <p:cNvSpPr/>
          <p:nvPr/>
        </p:nvSpPr>
        <p:spPr>
          <a:xfrm>
            <a:off x="250920" y="1628640"/>
            <a:ext cx="8497800" cy="41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Нередности, свързани със СФУК: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достатъчна одитна пътека за проследяване на всички разходи по проекта и местонахождението на оригинални документи, свързани с тях или неяснота къде се намира закупено оборудва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съответствие на счет . система на бенефициента, недостатъчна аналитичнос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спазване на изискванията за прилагане на мерки за избягване на двойно финансира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достатъчно детайлен предмет на договори за услуги, даващ възможност за установяване на конкретните дейности по тях и съответстващата им цен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 Box 3"/>
          <p:cNvSpPr/>
          <p:nvPr/>
        </p:nvSpPr>
        <p:spPr>
          <a:xfrm>
            <a:off x="250920" y="1268280"/>
            <a:ext cx="8497800" cy="442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Отчитане на нередности към УО</a:t>
            </a:r>
            <a:r>
              <a:rPr b="0" lang="en-US" sz="22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РО </a:t>
            </a:r>
            <a:r>
              <a:rPr b="0" lang="en-US" sz="22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чл. 17 от ОУ към ДБФП</a:t>
            </a:r>
            <a:r>
              <a:rPr b="0" lang="en-US" sz="22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Бенефициентът се задължава незабавно да докладва на ДО всички заподозрени и/или доказани случаи на измама и/или нереднос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Докладът се предоставя в срок от 3 работни дни от разкриването на нередност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Бенефициентът е длъжен да установи и прилага подходяща система за разкриване, отчитане, докладване и последващо разрешаване на всички регистрирани случаи на нередност по проекта, както и да създаде и поддържа досие за всеки случай на установена нереднос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Бенефициентът е длъжен да уведоми всички свои служители, работещи по изпълнението на проекта относно определението за нередност и да ги задължи да докладват всеки случай на подозрение и/или доказани случаи на нередност съгласно установена процедура от Бенефициен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3"/>
          <p:cNvSpPr/>
          <p:nvPr/>
        </p:nvSpPr>
        <p:spPr>
          <a:xfrm>
            <a:off x="250920" y="1628640"/>
            <a:ext cx="8497800" cy="40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1</a:t>
            </a:r>
            <a:r>
              <a:rPr b="1" i="1" lang="bg-BG" sz="2200" spc="-1" strike="noStrike">
                <a:solidFill>
                  <a:srgbClr val="000000"/>
                </a:solidFill>
                <a:latin typeface="Times New Roman"/>
                <a:ea typeface="Times New Roman"/>
              </a:rPr>
              <a:t>3</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Отчитане на нередности към УО</a:t>
            </a:r>
            <a:r>
              <a:rPr b="0" lang="en-US" sz="22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РО </a:t>
            </a:r>
            <a:r>
              <a:rPr b="0" lang="en-US" sz="22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чл. 17 от ОУ към ДБФП</a:t>
            </a:r>
            <a:r>
              <a:rPr b="0" lang="en-US" sz="22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Бенефициентът е длъжен да представи на Договарящия орган тримесечни доклади, както след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а). за първото тримесечие на текущата година – в срок до 7 април на текущата годин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б). за второто тримесечие на текущата година – в срок до 7 юли на текущата годин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 за  третото тримесечие на текущата година – до 7 октомври на текущата годин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г). за четвъртото тримесечие на текущата година – до 7 януари на следващата година.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Text Box 3"/>
          <p:cNvSpPr/>
          <p:nvPr/>
        </p:nvSpPr>
        <p:spPr>
          <a:xfrm>
            <a:off x="250920" y="1628640"/>
            <a:ext cx="8497800" cy="304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14)</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Отчитане на нередности към УО</a:t>
            </a:r>
            <a:r>
              <a:rPr b="0" lang="en-US" sz="22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РО </a:t>
            </a:r>
            <a:r>
              <a:rPr b="0" lang="en-US" sz="22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чл. 17 от ОУ към ДБФП</a:t>
            </a:r>
            <a:r>
              <a:rPr b="0" lang="en-US" sz="22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Когато за съответния период на докладване няма установени нередности, както и нередности възникнали в предишни периоди, които все още не са приключени, Бенефициентът изготвя и предоставя на Договарящия орган в сроковете по чл. 17.6., декларация за липса на нередности</a:t>
            </a:r>
            <a:r>
              <a:rPr b="0" lang="bg-BG"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Text Box 3"/>
          <p:cNvSpPr/>
          <p:nvPr/>
        </p:nvSpPr>
        <p:spPr>
          <a:xfrm>
            <a:off x="250920" y="1628640"/>
            <a:ext cx="8497800" cy="378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Финансови корекци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егламентирани в Методиката за определяне на финансови корекци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и определяне на размера на финансовите корекции се отчитат:</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Характерът и сериозността на нередността</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Финансовите загуби на публични средства, до които е довело неспазването на националното законодателство и общностното прав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мерът на финансовите корекции трябва да отговаря на размера на финансова загуба на публичните средства, в това число и от фондовете на Е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мерът на финансовата корекция се определя чрез прилагане на </a:t>
            </a:r>
            <a:r>
              <a:rPr b="1" lang="bg-BG" sz="2000" spc="-1" strike="noStrike">
                <a:solidFill>
                  <a:srgbClr val="000000"/>
                </a:solidFill>
                <a:latin typeface="Times New Roman"/>
                <a:ea typeface="Times New Roman"/>
              </a:rPr>
              <a:t>диференциален или пропорционален мето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Text Box 3"/>
          <p:cNvSpPr/>
          <p:nvPr/>
        </p:nvSpPr>
        <p:spPr>
          <a:xfrm>
            <a:off x="214200" y="1628640"/>
            <a:ext cx="8498160" cy="350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Финансови корекци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2</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За основните категории нередности, произтичащи от нарушения на националното законодателство в областта на обществените поръчки</a:t>
            </a:r>
            <a:r>
              <a:rPr b="0" lang="en-US" sz="2000" spc="-1" strike="noStrike">
                <a:solidFill>
                  <a:srgbClr val="000000"/>
                </a:solidFill>
                <a:latin typeface="Times New Roman"/>
                <a:ea typeface="Times New Roman"/>
              </a:rPr>
              <a:t>,</a:t>
            </a:r>
            <a:r>
              <a:rPr b="0" lang="bg-BG" sz="2000" spc="-1" strike="noStrike">
                <a:solidFill>
                  <a:srgbClr val="000000"/>
                </a:solidFill>
                <a:latin typeface="Times New Roman"/>
                <a:ea typeface="Times New Roman"/>
              </a:rPr>
              <a:t> са посочени препоръчителни размери на финансовите корекции в приложение № 2 към методология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За основните категории нередности, свързани с процедурите по определяне на изпълнител от страна на бенефициенти на договорена безвъзмездна финансова помощ по ПМС № 55 са посочени препоръчителни размери на финансовите корекции в приложение № 3 към методологията</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2"/>
          <p:cNvSpPr/>
          <p:nvPr/>
        </p:nvSpPr>
        <p:spPr>
          <a:xfrm>
            <a:off x="539640" y="1916280"/>
            <a:ext cx="813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Text Box 3"/>
          <p:cNvSpPr/>
          <p:nvPr/>
        </p:nvSpPr>
        <p:spPr>
          <a:xfrm>
            <a:off x="324000" y="1628640"/>
            <a:ext cx="8569080" cy="3534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ФИНАНСОВО ИЗПЪЛНЕНИЕ НА ДОГОВОРИ</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Модул 2</a:t>
            </a:r>
            <a:endParaRPr b="0" lang="en-US" sz="2400" spc="-1" strike="noStrike">
              <a:solidFill>
                <a:srgbClr val="000000"/>
              </a:solidFill>
              <a:latin typeface="Arial"/>
            </a:endParaRPr>
          </a:p>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Най-често срещани грешки при изпълнението на ДБФП</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Нередности, свързани с допустимостта на отчетените дейности и разходи</a:t>
            </a:r>
            <a:r>
              <a:rPr b="1" lang="en-US" sz="2400" spc="-1" strike="noStrike">
                <a:solidFill>
                  <a:srgbClr val="000000"/>
                </a:solidFill>
                <a:latin typeface="Times New Roman"/>
                <a:ea typeface="Times New Roman"/>
              </a:rPr>
              <a:t>. </a:t>
            </a:r>
            <a:r>
              <a:rPr b="1" lang="bg-BG" sz="2400" spc="-1" strike="noStrike">
                <a:solidFill>
                  <a:srgbClr val="000000"/>
                </a:solidFill>
                <a:latin typeface="Times New Roman"/>
                <a:ea typeface="Times New Roman"/>
              </a:rPr>
              <a:t>Финансови корекции</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 </a:t>
            </a:r>
            <a:r>
              <a:rPr b="1" lang="bg-BG" sz="2400" spc="-1" strike="noStrike">
                <a:solidFill>
                  <a:srgbClr val="000000"/>
                </a:solidFill>
                <a:latin typeface="Times New Roman"/>
                <a:ea typeface="Times New Roman"/>
              </a:rPr>
              <a:t>Системи за финансово управление и контрол</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Процес на верификация на разходи от страна на бенефициентите</a:t>
            </a:r>
            <a:r>
              <a:rPr b="1" lang="en-US" sz="24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3"/>
          <p:cNvSpPr/>
          <p:nvPr/>
        </p:nvSpPr>
        <p:spPr>
          <a:xfrm>
            <a:off x="250920" y="1628640"/>
            <a:ext cx="8497800" cy="364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Финансови корекци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3</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сочените в  приложение № 2 и приложение № 3 нарушения са примерни и с тях не се ограничават случаите на нередности, за които се прилага методологията.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Ако установен случай на нередност не е обхванат в приложенията, се използва процентният показател, предвиден за най-близките по вид категория и нарушение.</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 се налагат финансови корекции за нередности, които могат да бъдат закрити чрез прекратяване на процедура за обществена поръчка, по която не е извършено плащане от</a:t>
            </a:r>
            <a:r>
              <a:rPr b="0" lang="ru-RU" sz="2000" spc="-1" strike="noStrike">
                <a:solidFill>
                  <a:srgbClr val="000000"/>
                </a:solidFill>
                <a:latin typeface="Times New Roman"/>
                <a:ea typeface="Times New Roman"/>
              </a:rPr>
              <a:t> страна на</a:t>
            </a:r>
            <a:r>
              <a:rPr b="0" lang="bg-BG" sz="2000" spc="-1" strike="noStrike">
                <a:solidFill>
                  <a:srgbClr val="000000"/>
                </a:solidFill>
                <a:latin typeface="Times New Roman"/>
                <a:ea typeface="Times New Roman"/>
              </a:rPr>
              <a:t> договарящия орган.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3"/>
          <p:cNvSpPr/>
          <p:nvPr/>
        </p:nvSpPr>
        <p:spPr>
          <a:xfrm>
            <a:off x="250920" y="1628640"/>
            <a:ext cx="8497800" cy="38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Финансови корекци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4</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констатирани дв</a:t>
            </a:r>
            <a:r>
              <a:rPr b="0" lang="bg-BG" sz="2000" spc="-1" strike="noStrike">
                <a:solidFill>
                  <a:srgbClr val="000000"/>
                </a:solidFill>
                <a:latin typeface="Times New Roman"/>
                <a:ea typeface="Times New Roman"/>
              </a:rPr>
              <a:t>е</a:t>
            </a:r>
            <a:r>
              <a:rPr b="0" lang="ru-RU" sz="2000" spc="-1" strike="noStrike">
                <a:solidFill>
                  <a:srgbClr val="000000"/>
                </a:solidFill>
                <a:latin typeface="Times New Roman"/>
                <a:ea typeface="Times New Roman"/>
              </a:rPr>
              <a:t> или повече нарушения от един бенефициент в рамките на една процедура/договор за възлагане на поръчка/избор на изпълнител, за които предвидените процентни показатели са различни, се налага една финансова корекция при определянето на която се прилага най-високият процентен показател</a:t>
            </a:r>
            <a:r>
              <a:rPr b="0" lang="bg-BG"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ва вида процедур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Процедура за случаите на установени нередности преди изплащане на безвъзмездна финансова помо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Процедура за случаите на установени нередности след изплащане на БФ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Text Box 3"/>
          <p:cNvSpPr/>
          <p:nvPr/>
        </p:nvSpPr>
        <p:spPr>
          <a:xfrm>
            <a:off x="250920" y="1628640"/>
            <a:ext cx="84978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Системи за финансово управление и контрол – СФУК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СФУК в публичните организации касаят цялата дейност на съответната организация.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При изпълнението на договори за безвъзмездна помощ публичните организации прилагат същите СФУК и по отношение на разходването на средствата по тези договори.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Това  изискване е заложено в Европейските регламенти, както и в ЗФУКПС</a:t>
            </a:r>
            <a:r>
              <a:rPr b="0" lang="bg-BG"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Box 3"/>
          <p:cNvSpPr/>
          <p:nvPr/>
        </p:nvSpPr>
        <p:spPr>
          <a:xfrm>
            <a:off x="250920" y="1628640"/>
            <a:ext cx="8497800" cy="387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Системи за финансово управление и контрол – СФУК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2</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За публични организации съгласно чл. 5 (2) от ЗФУКПС финансовото управление и контрол се осъществят посредством СФУК постигнати чрез: </a:t>
            </a:r>
            <a:endParaRPr b="0" lang="en-US" sz="22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ea typeface="Times New Roman"/>
              </a:rPr>
              <a:t>1. съответствие със законодателството, вътрешните актове и договори;</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ea typeface="Times New Roman"/>
              </a:rPr>
              <a:t>2. надеждност и всеобхватност на финансовата и оперативната информация;</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ea typeface="Times New Roman"/>
              </a:rPr>
              <a:t>3. икономичност, ефективност и ефикасност на дейностите;</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ea typeface="Times New Roman"/>
              </a:rPr>
              <a:t>4. опазване на активите и информацията.</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Text Box 3"/>
          <p:cNvSpPr/>
          <p:nvPr/>
        </p:nvSpPr>
        <p:spPr>
          <a:xfrm>
            <a:off x="250920" y="1628640"/>
            <a:ext cx="8497800" cy="378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Системи за финансово управление и контрол – СФУК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3</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о отношение на финансовия контрол от особена важност са процедурите, които се прилагат по отношение на: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цедури за разрешаване и одобряване;</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разделяне на отговорностите по начин, който не позволява един служител едновременно да има отговорност по одобряване, изпълнение, осчетоводяване и контрол;</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система за двоен подпис, която не разрешава поемането на финансово задължение или извършване на плащане без подписите на ръководителя на организацията  и лицето, отговорно за счетоводните записва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Text Box 3"/>
          <p:cNvSpPr/>
          <p:nvPr/>
        </p:nvSpPr>
        <p:spPr>
          <a:xfrm>
            <a:off x="250920" y="1628640"/>
            <a:ext cx="8497800" cy="3719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Системи за финансово управление и контрол – СФУК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4</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По отношение на финансовия контрол от особена важност са процедурите, които се прилагат по отношение на: </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4. правила за достъп до активите и информацията;</a:t>
            </a:r>
            <a:r>
              <a:rPr b="0" lang="bg-BG"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5. предварителен контрол за законосъобразност, който може да се извършва от назначени за целта финансови контрольори или други лица, определени от ръководителя на организацията;</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6. процедури за пълно, вярно, точно и своевременно осчетоводяване на всички операции</a:t>
            </a:r>
            <a:r>
              <a:rPr b="0" lang="bg-BG"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Text Box 3"/>
          <p:cNvSpPr/>
          <p:nvPr/>
        </p:nvSpPr>
        <p:spPr>
          <a:xfrm>
            <a:off x="250920" y="1628640"/>
            <a:ext cx="8497800" cy="311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Системи за финансово управление и контрол – СФУК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5</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ри финансовия контрол прилаган от страна на УО спрямо бенефициент </a:t>
            </a:r>
            <a:r>
              <a:rPr b="0" lang="bg-BG" sz="2200" spc="-1" strike="noStrike">
                <a:solidFill>
                  <a:srgbClr val="000000"/>
                </a:solidFill>
                <a:latin typeface="Times New Roman"/>
                <a:ea typeface="Times New Roman"/>
              </a:rPr>
              <a:t>финансовия експерт</a:t>
            </a:r>
            <a:r>
              <a:rPr b="0" lang="ru-RU" sz="2200" spc="-1" strike="noStrike">
                <a:solidFill>
                  <a:srgbClr val="000000"/>
                </a:solidFill>
                <a:latin typeface="Times New Roman"/>
                <a:ea typeface="Times New Roman"/>
              </a:rPr>
              <a:t> оторизиран да извърши проверка на финансовото управление на даден проект ще извърши проверка и спрямо съществуващите СФУК на организациите от публичния сектор.</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 Box 3"/>
          <p:cNvSpPr/>
          <p:nvPr/>
        </p:nvSpPr>
        <p:spPr>
          <a:xfrm>
            <a:off x="250920" y="1413000"/>
            <a:ext cx="8642160" cy="366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роцес на верифициране на разходи</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от страна на бенефициента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НФ 5 на МФ, Детайлно описание на процеса е дадено в Част  ІІ. Потвърждаване на разходи от страна на бенефициента</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тговорността на бенефициента по отношение на верифициране на разходите, извършени по договор за БФП следва да се базира на СФУК, фунциониращи в съответната институция!!!</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ифицирането от бенефициента и УО  е процес на проверка за съответствие и допустимост на дейности (</a:t>
            </a:r>
            <a:r>
              <a:rPr b="0" lang="bg-BG" sz="2000" spc="-1" strike="noStrike">
                <a:solidFill>
                  <a:srgbClr val="000000"/>
                </a:solidFill>
                <a:latin typeface="Times New Roman"/>
                <a:ea typeface="Times New Roman"/>
              </a:rPr>
              <a:t>Технически отчет</a:t>
            </a:r>
            <a:r>
              <a:rPr b="0" lang="ru-RU" sz="2000" spc="-1" strike="noStrike">
                <a:solidFill>
                  <a:srgbClr val="000000"/>
                </a:solidFill>
                <a:latin typeface="Times New Roman"/>
                <a:ea typeface="Times New Roman"/>
              </a:rPr>
              <a:t>) и на разходи (</a:t>
            </a:r>
            <a:r>
              <a:rPr b="0" lang="bg-BG" sz="2000" spc="-1" strike="noStrike">
                <a:solidFill>
                  <a:srgbClr val="000000"/>
                </a:solidFill>
                <a:latin typeface="Times New Roman"/>
                <a:ea typeface="Times New Roman"/>
              </a:rPr>
              <a:t>Финансов отчет</a:t>
            </a:r>
            <a:r>
              <a:rPr b="0" lang="en-US"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 при изпълнение на одобрените проек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 Box 3"/>
          <p:cNvSpPr/>
          <p:nvPr/>
        </p:nvSpPr>
        <p:spPr>
          <a:xfrm>
            <a:off x="250920" y="1628640"/>
            <a:ext cx="8497800" cy="391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роцес на верифициране на разходи</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от страна на бенефициента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2</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ификацията включва административен, финансов,</a:t>
            </a:r>
            <a:r>
              <a:rPr b="0" lang="bg-BG" sz="2000" spc="-1" strike="noStrike">
                <a:solidFill>
                  <a:srgbClr val="000000"/>
                </a:solidFill>
                <a:latin typeface="Times New Roman"/>
                <a:ea typeface="Times New Roman"/>
              </a:rPr>
              <a:t> т</a:t>
            </a:r>
            <a:r>
              <a:rPr b="0" lang="ru-RU" sz="2000" spc="-1" strike="noStrike">
                <a:solidFill>
                  <a:srgbClr val="000000"/>
                </a:solidFill>
                <a:latin typeface="Times New Roman"/>
                <a:ea typeface="Times New Roman"/>
              </a:rPr>
              <a:t>ехнически и физически контрол на документите и дейностите по конкретен проект.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нтролът се осъществява посредством два вида проверки: документална проверка и проверки на място.</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ъгласно ОУ към ДБФП </a:t>
            </a:r>
            <a:r>
              <a:rPr b="0" lang="bg-BG" sz="2000" spc="-1" strike="noStrike">
                <a:solidFill>
                  <a:srgbClr val="000000"/>
                </a:solidFill>
                <a:latin typeface="Times New Roman"/>
                <a:ea typeface="Times New Roman"/>
              </a:rPr>
              <a:t>въз основа на резултатите от документалната проверка или проверка на място, Бенефициентът изготвя доклад за извършената проверка. Докладите от извършени проверки се предоставят на Управляващия орган при поискван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 Box 3"/>
          <p:cNvSpPr/>
          <p:nvPr/>
        </p:nvSpPr>
        <p:spPr>
          <a:xfrm>
            <a:off x="250920" y="1268280"/>
            <a:ext cx="8713800" cy="4389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роцес на верифициране на разходи</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от страна на бенефициента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3</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о отношение на финансовия контрол верификацията обхваща:</a:t>
            </a:r>
            <a:endParaRPr b="0" lang="en-US" sz="19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спазването на изискванията на българското законодателство,</a:t>
            </a:r>
            <a:endParaRPr b="0" lang="en-US" sz="19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изискванията на ЕК и на ДБФП при изпълнението на проекта;</a:t>
            </a:r>
            <a:endParaRPr b="0" lang="en-US" sz="19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съответствието между изпълняваните дейности и направените разходи;</a:t>
            </a:r>
            <a:endParaRPr b="0" lang="en-US" sz="19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реглед на изпълнението на бюджета и съответствието между обемите и вида на договорените и понесените разходи.</a:t>
            </a:r>
            <a:endParaRPr b="0" lang="en-US" sz="1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bg-BG" sz="1900" spc="-1" strike="noStrike">
                <a:solidFill>
                  <a:srgbClr val="000000"/>
                </a:solidFill>
                <a:latin typeface="Times New Roman"/>
                <a:ea typeface="Times New Roman"/>
              </a:rPr>
              <a:t>гаранции, че използва система за записване и съхраняване в компютъризирана форма на счетоводните записи по проекта и че са правилни и верни данните, необходими за финансовото управление, мониторинг, проверки, одити и оценка;</a:t>
            </a:r>
            <a:endParaRPr b="0" lang="en-US" sz="1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Times New Roman"/>
                <a:ea typeface="Times New Roman"/>
              </a:rPr>
              <a:t>- гаранции за воденето на хронологично, двустранно и аналитично счетоводно отчитане в съответствие с изискванията на ЗС.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3"/>
          <p:cNvSpPr/>
          <p:nvPr/>
        </p:nvSpPr>
        <p:spPr>
          <a:xfrm>
            <a:off x="250920" y="1413000"/>
            <a:ext cx="8642160" cy="424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ай-често срещани грешки при изпълнението на ДБФП</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и подаване на Искания за плащане и отчитане: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Липсващи документи, което забавя процеса, тъй като УО ще ги изиска допълнително;</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правилно попълнени документи;</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Аритметически грешки в отчетите;</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тчитане на по-висок % за “Човешки ресурси” от максимално допустимия, регламентиран в Насоките за кандидатстване!!! Независимо какво сума е изплатена като възнаграждение на член от екипа по проекта, в отчета следва да се посочи сумата за възнагражденията без да се надвишава този процент!!!Важи за всички бюджетни пера с процентни ограничения.</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прилагане на Анекси към ДБФП при подаване на Искания за плащане</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Times New Roman"/>
                <a:ea typeface="Times New Roman"/>
              </a:rPr>
              <a:t>Липсващ номер на ДБФП в разходооправдателни докумен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Text Box 3"/>
          <p:cNvSpPr/>
          <p:nvPr/>
        </p:nvSpPr>
        <p:spPr>
          <a:xfrm>
            <a:off x="250920" y="1341360"/>
            <a:ext cx="8497800" cy="427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роцес на верифициране на разходи</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от страна на бенефициента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4</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енефициентът трябва да верифицира (да провери), че:</a:t>
            </a:r>
            <a:r>
              <a:rPr b="0" lang="bg-BG"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е извършена пълна документална проверка преди плащане и проверка на мястото на проекта за удостоверяване на извършването на заявените за плащане дейности от изпълнителите</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извършените дейности за изпълнение на проекта са надлежно документирани и при поискване документите са на разположение на националните и европейските контролни органи</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 констатирани слабости и пропуски при управлението на одобрения проект вследствие на извършени одити и/или проверки е поет ангажимент за тяхното отстраняване, включително одобрен график с корективни мерки.</a:t>
            </a:r>
            <a:r>
              <a:rPr b="0" lang="bg-BG"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 Box 3"/>
          <p:cNvSpPr/>
          <p:nvPr/>
        </p:nvSpPr>
        <p:spPr>
          <a:xfrm>
            <a:off x="250920" y="1557360"/>
            <a:ext cx="8497800" cy="4118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роцес на верифициране на разходи</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от страна на бенефициента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5</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нтролът върху финансовите документи следва да: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ифицира допустимостта на разходите (фактурираните разходи отговарят на тези, които са заложени в договора с Бенефициента и на всички условия за допустимост по ОП) въз основа на 100% документална проверка и проверки на място;</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Извършва формална проверка (фактурите са издадени на името на бенефициента и  отговарят на условията за първичен счетоводен документ съгласно българското законодателство, извършени в периода на допустимост на разходите съгласно договора  и вида на договорените и понесените разходи.</a:t>
            </a:r>
            <a:r>
              <a:rPr b="0" lang="bg-BG"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 Box 3"/>
          <p:cNvSpPr/>
          <p:nvPr/>
        </p:nvSpPr>
        <p:spPr>
          <a:xfrm>
            <a:off x="250920" y="1197000"/>
            <a:ext cx="8713800" cy="454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роцес на верифициране на разходи</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от страна на бенефициента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6</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Контролът върху финансовите документи следва да: </a:t>
            </a:r>
            <a:endParaRPr b="0" lang="en-US" sz="1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извършва проверка на декларираните разходи, за връзката им с целите  на програмата, за включването единствено на действително направени разходи в съответствие с нормативните документи по отношение на национални правила за допустимост на разходите;</a:t>
            </a:r>
            <a:endParaRPr b="0" lang="en-US" sz="1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следи за липса на препокриване на средствата по проекта със средства от други европейски източници или публични източници;</a:t>
            </a:r>
            <a:r>
              <a:rPr b="0" lang="bg-BG" sz="1900" spc="-1" strike="noStrike">
                <a:solidFill>
                  <a:srgbClr val="000000"/>
                </a:solidFill>
                <a:latin typeface="Times New Roman"/>
                <a:ea typeface="Times New Roman"/>
              </a:rPr>
              <a:t> - проверка за изпълнение на други ДБФП</a:t>
            </a:r>
            <a:endParaRPr b="0" lang="en-US" sz="1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 Не са установени слабости в контролите, риск или нередности при документалните проверки по проекта и/или проверките на място. Ако такива са били установени, са били предприети предписаните на бенефициента корективни действия.</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3"/>
          <p:cNvSpPr/>
          <p:nvPr/>
        </p:nvSpPr>
        <p:spPr>
          <a:xfrm>
            <a:off x="250920" y="1484280"/>
            <a:ext cx="8713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ea typeface="Times New Roman"/>
              </a:rPr>
              <a:t>Рег. 108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Определени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a:t>
            </a:r>
            <a:r>
              <a:rPr b="0" i="1" lang="bg-BG" sz="2400" spc="-1" strike="noStrike">
                <a:solidFill>
                  <a:srgbClr val="000000"/>
                </a:solidFill>
                <a:latin typeface="Times New Roman"/>
                <a:ea typeface="Times New Roman"/>
              </a:rPr>
              <a:t>Н</a:t>
            </a:r>
            <a:r>
              <a:rPr b="0" i="1" lang="ru-RU" sz="2400" spc="-1" strike="noStrike">
                <a:solidFill>
                  <a:srgbClr val="000000"/>
                </a:solidFill>
                <a:latin typeface="Times New Roman"/>
                <a:ea typeface="Times New Roman"/>
              </a:rPr>
              <a:t>ередност“: всяко нарушение на разпоредба на общностното право, произтичащо от действие или бездействие на стопански субект, което има или би имало като последица нанасянето на вреда на общия бюджет на Европейския съюз, като отчете неоправдан разход в общия бюдже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 Box 3"/>
          <p:cNvSpPr/>
          <p:nvPr/>
        </p:nvSpPr>
        <p:spPr>
          <a:xfrm>
            <a:off x="250920" y="1413000"/>
            <a:ext cx="8713800" cy="43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2)</a:t>
            </a:r>
            <a:br>
              <a:rPr sz="2200"/>
            </a:b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Times New Roman"/>
                <a:ea typeface="Times New Roman"/>
              </a:rPr>
              <a:t>Подозрение за измама" е нередност, даваща основание за образуване на административно или съдебно производство на национално ниво с цел да се определи  съществуването на определено умишлено поведение, по-специално измама, </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посочено в член 1, параграф 1, буква "а" от Конвенцията относно защитата на финансовите интереси на </a:t>
            </a:r>
            <a:r>
              <a:rPr b="0" lang="en-US" sz="1800" spc="-1" strike="noStrike">
                <a:solidFill>
                  <a:srgbClr val="000000"/>
                </a:solidFill>
                <a:latin typeface="Times New Roman"/>
                <a:ea typeface="Times New Roman"/>
              </a:rPr>
              <a:t>EO)</a:t>
            </a:r>
            <a:r>
              <a:rPr b="0" lang="ru-RU" sz="1800" spc="-1" strike="noStrike">
                <a:solidFill>
                  <a:srgbClr val="000000"/>
                </a:solidFill>
                <a:latin typeface="Times New Roman"/>
                <a:ea typeface="Times New Roman"/>
              </a:rPr>
              <a:t>, по отношение на разходите" е всяко умишлено действие или бездействие, свързано съ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използването или представянето на фалшиви, неточни или непълни декларации или документи, което води до злоупотреба или незаконно присвояване на средства от общия бюджет на ЕО или бюджети, управлявани пряко от или от името на Е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 прикриване на информация в нарушение на конкретно задължение, имащо същия ефе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разходване на такива средства за цели, различни от тези, за които са били отпуснати първоначалн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3"/>
          <p:cNvSpPr/>
          <p:nvPr/>
        </p:nvSpPr>
        <p:spPr>
          <a:xfrm>
            <a:off x="250920" y="1413000"/>
            <a:ext cx="8713800" cy="420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Установени при одити и при процеса на верифициране на разходи от страна на УО:</a:t>
            </a:r>
            <a:r>
              <a:rPr b="0" lang="bg-BG"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 </a:t>
            </a:r>
            <a:r>
              <a:rPr b="0" lang="bg-BG" sz="2200" spc="-1" strike="noStrike">
                <a:solidFill>
                  <a:srgbClr val="000000"/>
                </a:solidFill>
                <a:latin typeface="Times New Roman"/>
                <a:ea typeface="Times New Roman"/>
              </a:rPr>
              <a:t>неспазване на изисквания, заложени в договорите с бенефициенти – като например: смяна на членове на екипи по управление на проекти без спазване на процедурите, разписани в договорите за предоставяне на безвъзмездна финансова помощ;</a:t>
            </a:r>
            <a:endParaRPr b="0" lang="en-US" sz="2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 </a:t>
            </a:r>
            <a:r>
              <a:rPr b="0" lang="bg-BG" sz="2200" spc="-1" strike="noStrike">
                <a:solidFill>
                  <a:srgbClr val="000000"/>
                </a:solidFill>
                <a:latin typeface="Times New Roman"/>
                <a:ea typeface="Times New Roman"/>
              </a:rPr>
              <a:t>несъобразяване с текстове от договорите, указващи задължително съдържание на договорите с изпълнители; непредставяне на документации за обществени поръчки за предварителен контрол от страна на УО; неспазване на мерките за информация и публичност по ОПРР.</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 Box 3"/>
          <p:cNvSpPr/>
          <p:nvPr/>
        </p:nvSpPr>
        <p:spPr>
          <a:xfrm>
            <a:off x="250920" y="1263600"/>
            <a:ext cx="8713800" cy="439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Спрямо Общите Условия </a:t>
            </a:r>
            <a:r>
              <a:rPr b="0" lang="en-US" sz="1800" spc="-1" strike="noStrike">
                <a:solidFill>
                  <a:srgbClr val="000000"/>
                </a:solidFill>
                <a:latin typeface="Times New Roman"/>
                <a:ea typeface="Times New Roman"/>
              </a:rPr>
              <a:t>(</a:t>
            </a:r>
            <a:r>
              <a:rPr b="0" lang="bg-BG" sz="1800" spc="-1" strike="noStrike">
                <a:solidFill>
                  <a:srgbClr val="000000"/>
                </a:solidFill>
                <a:latin typeface="Times New Roman"/>
                <a:ea typeface="Times New Roman"/>
              </a:rPr>
              <a:t>ОУ</a:t>
            </a:r>
            <a:r>
              <a:rPr b="0" lang="en-US" sz="1800" spc="-1" strike="noStrike">
                <a:solidFill>
                  <a:srgbClr val="000000"/>
                </a:solidFill>
                <a:latin typeface="Times New Roman"/>
                <a:ea typeface="Times New Roman"/>
              </a:rPr>
              <a:t>)</a:t>
            </a:r>
            <a:r>
              <a:rPr b="0" lang="bg-BG" sz="1800" spc="-1" strike="noStrike">
                <a:solidFill>
                  <a:srgbClr val="000000"/>
                </a:solidFill>
                <a:latin typeface="Times New Roman"/>
                <a:ea typeface="Times New Roman"/>
              </a:rPr>
              <a:t> на ДБФП: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чл. 1 от ОУ, точка 1.8 “Бенефициентът гарантира, че условията по членове 1, 2, 3, 4, 5, 6, 8, 14, 15 ,16 и 17 се отнасят и до всички негови изпълнители” </a:t>
            </a:r>
            <a:r>
              <a:rPr b="0" lang="bg-BG" sz="1800" spc="-1" strike="noStrike">
                <a:solidFill>
                  <a:srgbClr val="ff0000"/>
                </a:solidFill>
                <a:latin typeface="Times New Roman"/>
                <a:ea typeface="Times New Roman"/>
              </a:rPr>
              <a:t>- включете тези клаузи в договори с вашите подизпълнители!</a:t>
            </a:r>
            <a:r>
              <a:rPr b="0" lang="en-US" sz="1800" spc="-1" strike="noStrike">
                <a:solidFill>
                  <a:srgbClr val="ff0000"/>
                </a:solidFill>
                <a:latin typeface="Times New Roman"/>
                <a:ea typeface="Times New Roman"/>
              </a:rPr>
              <a:t> </a:t>
            </a:r>
            <a:r>
              <a:rPr b="0" lang="bg-BG" sz="1800" spc="-1" strike="noStrike">
                <a:solidFill>
                  <a:srgbClr val="ff0000"/>
                </a:solidFill>
                <a:latin typeface="Times New Roman"/>
                <a:ea typeface="Times New Roman"/>
              </a:rPr>
              <a:t>Регистър и отчети по чл. 17.4, 17.5 и 17.6</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чл. 1 от ОУ, точка 1.13 За всяка проверка на място Бенефициентът изготвя доклад от проверка на място. Докладите от проверки на място се предоставят на УО при поискване.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чл. 18 от ОУ, точка 1</a:t>
            </a:r>
            <a:r>
              <a:rPr b="0" lang="en-US" sz="1800" spc="-1" strike="noStrike">
                <a:solidFill>
                  <a:srgbClr val="000000"/>
                </a:solidFill>
                <a:latin typeface="Times New Roman"/>
                <a:ea typeface="Times New Roman"/>
              </a:rPr>
              <a:t>8</a:t>
            </a:r>
            <a:r>
              <a:rPr b="0" lang="bg-BG" sz="1800" spc="-1" strike="noStrike">
                <a:solidFill>
                  <a:srgbClr val="000000"/>
                </a:solidFill>
                <a:latin typeface="Times New Roman"/>
                <a:ea typeface="Times New Roman"/>
              </a:rPr>
              <a:t>.8 “При изпълнението на проекта Бенефициентът е длъжен да осигури клаузи за възстановяване на неправомерно платени средства в договорите, подписани от него в качеството му на възложител за предоставяне на услуги/доставки/ строителство”  </a:t>
            </a:r>
            <a:r>
              <a:rPr b="0" lang="bg-BG" sz="1800" spc="-1" strike="noStrike">
                <a:solidFill>
                  <a:srgbClr val="ff0000"/>
                </a:solidFill>
                <a:latin typeface="Times New Roman"/>
                <a:ea typeface="Times New Roman"/>
              </a:rPr>
              <a:t>- включете тези клаузи в договори с вашите подизпълнители!</a:t>
            </a:r>
            <a:endParaRPr b="0" lang="en-US" sz="18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Times New Roman"/>
                <a:ea typeface="Times New Roman"/>
              </a:rPr>
              <a:t>Консорциуми – изискване в договора за създаване на ДЗЗД да бъдат включени и текстове, касаещи чл. 1, точка 1.18 от ОУ към ДБФП.</a:t>
            </a:r>
            <a:endParaRPr b="0" lang="en-US" sz="18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Text Box 2"/>
          <p:cNvSpPr/>
          <p:nvPr/>
        </p:nvSpPr>
        <p:spPr>
          <a:xfrm>
            <a:off x="179280" y="1484280"/>
            <a:ext cx="842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 Box 3"/>
          <p:cNvSpPr/>
          <p:nvPr/>
        </p:nvSpPr>
        <p:spPr>
          <a:xfrm>
            <a:off x="250920" y="1628640"/>
            <a:ext cx="8497800" cy="393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Установени при одити, при процес на верифициране на разходи от страна на УО: </a:t>
            </a:r>
            <a:endParaRPr b="0" lang="en-US" sz="2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bg-BG" sz="2200" spc="-1" strike="noStrike">
                <a:solidFill>
                  <a:srgbClr val="000000"/>
                </a:solidFill>
                <a:latin typeface="Times New Roman"/>
                <a:ea typeface="Times New Roman"/>
              </a:rPr>
              <a:t>неуведомяване на УО за предриемани промени във връзка с изпълнението на договора;</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 дублиране на безвъзмездна финансова помощ – получено финансиране по национални  схеми за предоставяне на безвъзмездна финансова помощ /напр. „Оптимизация на  училищната мрежа” на МОН или Постановление на Министерския Съвет № 72 от 30 март 2009 г. за одобряване на бюджетни кредити по инвестиционната програма за 2009 г.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3"/>
          <p:cNvSpPr/>
          <p:nvPr/>
        </p:nvSpPr>
        <p:spPr>
          <a:xfrm>
            <a:off x="250920" y="1484280"/>
            <a:ext cx="8497800" cy="40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редности, свързани с допустимостта на отчетени разходи в противоречие на постановления на МС: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ходи за транспорт и командировки на лица, които не са взели участие в проекта;</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Грешки при изчисляването и отчитането на изминати километри и разходни норми за гориво;</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тчетена дейност по командировка, която няма връзка с проекта;</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ходи за храна, алкохол и безалкохолни напитки;</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ходи, недопустими поради липсата на бюджетно перо в утвърдения бюджет по даден проект – наеми, материали, одит;</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ходи за инвестиции, които не съответстват на целите на проек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4:32:57Z</dcterms:created>
  <dc:creator>maria.mihovska</dc:creator>
  <dc:description/>
  <dc:language>en-US</dc:language>
  <cp:lastModifiedBy>User</cp:lastModifiedBy>
  <dcterms:modified xsi:type="dcterms:W3CDTF">2012-11-09T08:10:46Z</dcterms:modified>
  <cp:revision>48</cp:revision>
  <dc:subject/>
  <dc:title>Слайд 1</dc:title>
</cp:coreProperties>
</file>