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E3E54-1618-4E94-B9E9-CF56306F3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104B72-0B64-416E-8D96-7EEECD5B3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16E7B-E9CC-469E-960A-161AFD80C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B9D6C-E3F1-4C8D-A0B9-B98C6A3BA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83DD9-B9C6-4F77-8C91-4AD63644E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9281A-F377-4C72-ADDA-DD59886CD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25479-9BDC-411B-B547-FA245CCB8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68FF16-F3BF-4766-9ACD-2D6D3848EA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FE463A-FBE0-4AFE-B6E8-005B3E0791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266293-2F88-4521-BCD9-170483EA50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A438E-45E9-490C-9D60-46BA52C02C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B3EBA-7F8D-4ACC-A80A-E33CE5CC5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83EB9-486C-4B9C-B0BA-A18EB7787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EF26D-64C3-4476-95D0-824963CBCF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176AF-1EE8-41BB-A587-B67F2DF67A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260AF-34E6-4371-8C70-84924789F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907AD-DEF9-492A-AD5F-7201B7B9B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57ED93-6E4C-4CF3-908E-4F4D018A0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CA8F10-023E-4344-A3CD-5B6353A75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D6EF37-1D12-4DF4-9DE9-FCFB2C744A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035830-E4F3-478B-BAF9-09AC07B9C4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E4BF0C-15F9-4D2F-95FC-9EACA72CAA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10810D-D712-45A3-9F91-DFF4573878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1CC7A9-0959-4A24-9B91-9781D57BF0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82D9EF-377C-4C15-9C3C-4957EAA63A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B33085-0FAB-4935-A216-A6C7C9A1EE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A22EBE-70A1-4D49-8E4F-B85ECF23A1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875EF7-BD19-48EC-A5D5-F6B95FC413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B2D69D-AC82-4EF7-8FBB-01BFA1FC60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19C09B-72DD-4E97-9ADA-68E2D22FC2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E7D71-40CB-47E8-8A3E-EC3910AD1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3F7672-310A-4926-A910-D86F67C74F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A5FB88-4C6E-45BF-A74C-37C8C9C8D1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A8F0EE-02A8-4EB5-87C8-3FDFAB2FED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E6096E-02A7-4BF9-8038-15FEB7AE24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BCE232-35DB-41D7-BC8B-8540789B0C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EB086B-77EA-4B70-8A9E-D6F824BE9B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1249D8-ED89-4404-BA85-AE7645196B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8570F1-5811-4F75-9153-B221ABE3D6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BFA622-D73E-43E7-8B64-0580D3236C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87D1D2-34E9-4802-B8B4-8C326842B7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6C17-7717-4C3C-8E28-FA85088FB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B87AD4-BF91-4A2D-93AC-E195B3CA17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DB5CE-5B84-465F-B18C-6B0A46144A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B0A672-D492-446A-AC86-1178938399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2732DC-F812-40EC-98BB-4CBD41BF50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C842F6-3742-46D6-A7DD-63A1AB22DF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8251-8820-4C79-AC1C-EC7CC2613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43EE4-779B-4488-9F98-0764C256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1223-B4E8-44C4-AF89-35F2D3816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75A6-3781-4F64-A516-004727F2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784D-DFC5-4B26-8A25-5CBDFCAC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4D92-0679-4D74-91B1-EBE9E718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2624-0B83-4D03-864B-1BA5212E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D0D6-18B8-4D36-9691-770F55851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F7556-C62B-4CFC-AEE4-7AC12CF49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DC4EB-B38E-4648-84D8-90C515BF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5D77C-B00D-4C59-816B-9DEBEEB23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F4F91-9A88-4BD5-BAB7-65A498193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1BF32-1CBE-4627-B7C3-4E41416B1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E21C9-F2D3-4121-952A-1A2BD9ADF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04288-2D48-41FA-BDCC-4FAAC72DE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58375-6B6F-4F3D-9CF9-09CE319AB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81AB3-6F86-462F-AAD4-7AFD586FE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9C871-AC70-40B9-911D-8CD37496F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9EDE8-6F6D-4BB5-8247-E5214376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B6EC5-5F83-42D1-BB52-22AD1A8E8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1D719-08E9-4865-899F-FC40F93E8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69D90-156B-4CDC-B681-7EF02F7C4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AF3296-97A4-47BE-A1E8-2DBB7505B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28302-0886-41BE-8158-4A68C0592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2B312-0787-4C9F-AAC0-46F08F8D9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D6304-64EC-4687-A4EC-B29A48E93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5F9D4-2541-4E47-993D-FA84C9108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5F730-2D23-4C04-BC1F-33F2D2885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4022B-C219-4F18-A2DD-70660ADB1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6CF08-2E50-4F56-BA14-B4DECD37C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CEDA1-5B6D-477D-838E-833738825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9D85D-2834-4E99-8E9A-F325656CE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6D580-8273-44D7-82F8-24C9C15678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9CB1F-CD3E-4913-B86E-421B4940B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2CDE3-5959-4828-8B64-AAC6C3B7D8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63A59-AF3D-4045-9465-9CA6C1D4A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577CC-D13E-4503-A385-BD08EC13A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8F0B4-7609-4DE8-911E-F5953B3F9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72416-76A9-4A22-ADFF-705A8F7B8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D3F69-A09E-4EBE-8840-53F2EAA64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9AE17-C0FA-4E30-AD62-24F86BDB7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747DD-7852-497A-838D-8577405C9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88D7A-4B94-41EF-8738-B39767093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10E31-2EF8-4FB0-ACF9-F07E56794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68116-4A11-43AA-81F7-48A3D7AAE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A2AAFF-1825-4DF7-A9E1-8406223AA0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512226-909F-41A0-BAF3-051B61F174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D9D58-D03C-4CEA-829C-BED0DE361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8DD53-0C09-4A21-9127-C12BC45ED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88447-9484-4661-817F-0C4FF6A61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3F2D6-571B-4B8B-8B5E-5FC843F4B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1C5340-C299-4ACE-923A-E538F71F8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62AB2-D4B3-4FEB-9F1C-606D8E7A8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6CAF7-D17A-4A09-92F0-A22CE3170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1867A-DB49-478B-8699-9EAAD5F36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ADB29-C9B7-4B9C-9734-08C3592C9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B98252-4AC2-49B1-9F84-DAD134BD66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F106B-BF48-4481-99E7-B46D8412EA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5756FE-A2A4-4DC9-80BA-5CFC9194A0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06A58-5230-4C82-B6D7-3E6541673A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1DC00-C592-468B-B92E-0C3F5FDD9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832ACF-BFB0-4F39-B356-C855477125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4AF44-1B6F-4D67-BFF6-812EC1295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3210D-EDC9-454F-AC58-E3BD56AB0D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5D1EB-719A-4D6B-8E41-CDEB0AC6B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F2362-524D-48D6-8B4C-BFA12E53E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1E42A-9332-4D5E-824A-73073EADC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112C9-A010-4924-9B3C-518AE9E51E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ED7E7-1B75-4EF3-9E40-2E19D8DF64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5EF123-578B-4D0E-AACC-C9892B870E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94B716-3C9F-4E85-8D07-813A2577B2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E6CDD-DEA2-4CE1-960B-21FDE4BAA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51956-1386-4727-B84B-0F38AFB7D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7AEC3-1837-45F9-ADDD-B7DCBBBEF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2AE27-2268-4F05-83F8-2E7DAD8BF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8FC8E-7ED0-48E6-88FB-FCD2D845AA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58889-F834-4FCC-9405-DED4247AD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4AB19-B7E1-4514-A7ED-A84DC5ECE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A8310-1F64-4BB1-9405-00DA317F0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621D5-BE0F-4735-9318-6AB61E8D4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4DFDE-8210-4779-8485-B1E35DF05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2A749-36D6-4013-8FC1-893634D67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5853B2-FFFD-40EA-93F6-7C175F733E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38B06-C3C7-4C0D-96A8-EC5AD3717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3454A-1AD1-4361-BEC6-78B956C08F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35FA-8072-44FE-95EE-924E26EE780D}"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4B09-B56B-478B-AA93-51F331AC602E}"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FDA1-9319-4958-A4B7-B9F1ECBA8947}"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5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3" name="TextBox 12"/>
          <p:cNvSpPr/>
          <p:nvPr/>
        </p:nvSpPr>
        <p:spPr>
          <a:xfrm>
            <a:off x="774036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 name="TextBox 18"/>
          <p:cNvSpPr/>
          <p:nvPr/>
        </p:nvSpPr>
        <p:spPr>
          <a:xfrm>
            <a:off x="18540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D8BD-F81E-4676-BA67-24658BF4092A}"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10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0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15" name="Picture 16" descr=""/>
            <p:cNvPicPr/>
            <p:nvPr/>
          </p:nvPicPr>
          <p:blipFill>
            <a:blip r:embed="rId7"/>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9493-52E8-4CF7-A767-C165CD7123A0}"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16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6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67" name="Picture 16" descr=""/>
            <p:cNvPicPr/>
            <p:nvPr/>
          </p:nvPicPr>
          <p:blipFill>
            <a:blip r:embed="rId7"/>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DC95-F3EE-411E-8780-C5938F6B1A8E}"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21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1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219" name="Picture 16" descr=""/>
            <p:cNvPicPr/>
            <p:nvPr/>
          </p:nvPicPr>
          <p:blipFill>
            <a:blip r:embed="rId7"/>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0C80-7400-4455-AB72-3B7BA04A7DA5}"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26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6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271" name="Picture 16" descr=""/>
            <p:cNvPicPr/>
            <p:nvPr/>
          </p:nvPicPr>
          <p:blipFill>
            <a:blip r:embed="rId7"/>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6F06-3893-432D-849E-D31E14ECCBD1}"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31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1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323" name="Picture 16" descr=""/>
            <p:cNvPicPr/>
            <p:nvPr/>
          </p:nvPicPr>
          <p:blipFill>
            <a:blip r:embed="rId7"/>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6269-7DC2-4850-8016-FF0294DEE8DA}"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36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6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375" name="Picture 16" descr=""/>
            <p:cNvPicPr/>
            <p:nvPr/>
          </p:nvPicPr>
          <p:blipFill>
            <a:blip r:embed="rId7"/>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4CF8-A671-4410-B81F-6799D341CC41}"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AFF5-5123-4F42-A405-CB5EE8D3E63A}"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4" name="Text Box 3"/>
          <p:cNvSpPr/>
          <p:nvPr/>
        </p:nvSpPr>
        <p:spPr>
          <a:xfrm>
            <a:off x="250920" y="1700280"/>
            <a:ext cx="8713800" cy="3904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ОБУЧЕНИЕ</a:t>
            </a: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за изпълнение и управление на проекти по</a:t>
            </a:r>
            <a:endParaRPr b="1"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Схема за предоставяне на безвъзмездна финансова помощ BG161PO001/1.</a:t>
            </a:r>
            <a:r>
              <a:rPr b="1" i="1" lang="en-US" sz="2400" spc="-1" strike="noStrike">
                <a:solidFill>
                  <a:srgbClr val="000000"/>
                </a:solidFill>
                <a:latin typeface="Times New Roman"/>
              </a:rPr>
              <a:t>2</a:t>
            </a:r>
            <a:r>
              <a:rPr b="1" i="1" lang="bg-BG" sz="2400" spc="-1" strike="noStrike">
                <a:solidFill>
                  <a:srgbClr val="000000"/>
                </a:solidFill>
                <a:latin typeface="Times New Roman"/>
              </a:rPr>
              <a:t>-</a:t>
            </a:r>
            <a:r>
              <a:rPr b="1" i="1" lang="en-US" sz="2400" spc="-1" strike="noStrike">
                <a:solidFill>
                  <a:srgbClr val="000000"/>
                </a:solidFill>
                <a:latin typeface="Times New Roman"/>
              </a:rPr>
              <a:t>0</a:t>
            </a:r>
            <a:r>
              <a:rPr b="1" i="1" lang="bg-BG" sz="2400" spc="-1" strike="noStrike">
                <a:solidFill>
                  <a:srgbClr val="000000"/>
                </a:solidFill>
                <a:latin typeface="Times New Roman"/>
              </a:rPr>
              <a:t>2/2011</a:t>
            </a:r>
            <a:br>
              <a:rPr sz="2400"/>
            </a:br>
            <a:r>
              <a:rPr b="1" i="1" lang="bg-BG" sz="2400" spc="-1" strike="noStrike">
                <a:solidFill>
                  <a:srgbClr val="000000"/>
                </a:solidFill>
                <a:latin typeface="Times New Roman"/>
              </a:rPr>
              <a:t>„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a:t>
            </a: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50920" y="1484280"/>
            <a:ext cx="8424720" cy="3996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7</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ни моменти от новото ПМС 330:</a:t>
            </a: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жи САМО за служителите в дадена публична организац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Регламентира максимална продължителност от 80 часа в рамките на календарен месец за дейности, изпълнявани в извънработно време.</a:t>
            </a: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 начина за изчисляване на максимална часова ставк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250920" y="1484280"/>
            <a:ext cx="8424720" cy="3996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8</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ни моменти от новото ПМС 33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зависимо, че отменя ПМС 194, в Указанията на УО са посочени изисквания към екипите по инфраструктурни проекти. </a:t>
            </a:r>
            <a:r>
              <a:rPr b="0" lang="bg-BG" sz="2000" spc="-1" strike="noStrike">
                <a:solidFill>
                  <a:srgbClr val="ff0000"/>
                </a:solidFill>
                <a:latin typeface="Times New Roman"/>
                <a:ea typeface="Times New Roman"/>
              </a:rPr>
              <a:t>Поради това екипите за управление и изпълнение на проектите отново ще бъдат одобрявани от РО!</a:t>
            </a:r>
            <a:endParaRPr b="1" lang="en-US" sz="20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250920" y="1484280"/>
            <a:ext cx="842472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взети предвид от УО в указанията „</a:t>
            </a:r>
            <a:r>
              <a:rPr b="0" lang="ru-RU" sz="1800" spc="-1" strike="noStrike">
                <a:solidFill>
                  <a:srgbClr val="000000"/>
                </a:solidFill>
                <a:latin typeface="Times New Roman"/>
                <a:ea typeface="Times New Roman"/>
              </a:rPr>
              <a:t>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a:t>
            </a:r>
            <a:r>
              <a:rPr b="0" lang="bg-BG"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Възлагане на задължения и/или дейности по проекти</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 заповед на органа на назначаването /за държавни служители, приложимо и за служители на трудов договор/. В този случай е необходимо в длъжностната характеристика на служителя да бъде предвидено изпълнението на задължения/дейности по проекта в РАМКИТЕ НА РАБОТНОТО ВРЕМ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250920" y="1484280"/>
            <a:ext cx="8424720" cy="40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2. Допълнително споразумение към трудов договор</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 приложимо за служители на трудов договор/. В този случай също е необходимо в длъжностната характеристика на служителя да бъде предвидено изпълнението на задължения/дейности по проекта в РАМКИТЕ НА РАБОТНОТО ВРЕМ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3. Трудов договор</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С лице, което се назначава единствено и специално за целите на проект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250920" y="1484280"/>
            <a:ext cx="842472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4. Договор за услуга по ЗЗД</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този случай функциите по проекта се изпълняват ИЗВЪН РАБОТНОТО ВРЕМЕ НА СЛУЖИТЕЛИТ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 следва да води до кумулиране на основанията по предходните точки 1-3. Т.е лице, в чиято длъжностна характеристика са вменени функции по изпълнението на проект, не може да сключи и т.нар граждански договор за същите функции.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250920" y="1484280"/>
            <a:ext cx="842472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Основанието и начинът за възлагане на дейностите по управление или изпълнение на проекти се определят по преценка на ръководителя на администрацията/възложителя, </a:t>
            </a:r>
            <a:r>
              <a:rPr b="1" i="1" lang="bg-BG" sz="1800" spc="-1" strike="noStrike">
                <a:solidFill>
                  <a:srgbClr val="000000"/>
                </a:solidFill>
                <a:latin typeface="Times New Roman"/>
                <a:ea typeface="Times New Roman"/>
              </a:rPr>
              <a:t>при спазване на ограниченията на българското законодателство</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250920" y="1484280"/>
            <a:ext cx="8424720" cy="3081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9</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ите следва да имат предвид разпоредбата на чл. 1, ал. 2 от КТ, като в случаите, когато на практика се предоставя работна сила, а не резултат, задължително се сключват не граждански, а трудови договор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250920" y="1484280"/>
            <a:ext cx="8424720" cy="4359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0</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сключените договори по ДЗЗД с членовете на екипите по проекти следв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задължително да бъде посочено, че дължимите осигуровки (за сметка на служител и работодател) са по проекта или за сметка на съответната община/НПО/бюджетна организация;</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да има ясно разделяне на функциите за поемане на задължението, контрола по изпълнението и самото изпълнение на договорите;</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250920" y="1484280"/>
            <a:ext cx="8353440" cy="4177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сключените договори с членовете на екипите по проекти следв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rPr>
              <a:t>- </a:t>
            </a:r>
            <a:r>
              <a:rPr b="0" lang="bg-BG" sz="2200" spc="-1" strike="noStrike">
                <a:solidFill>
                  <a:srgbClr val="000000"/>
                </a:solidFill>
                <a:latin typeface="Times New Roman"/>
                <a:ea typeface="Times New Roman"/>
              </a:rPr>
              <a:t>да има ясно уреждане на взаимоотношенията между възложител и изпълнител;</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следва да бъде спазен принципа на „двойния подпис”, съгласно ЗФУКПС, т.е. всички договори следва да бъдат подписани, както от Ръководителя на съответната организация, така и от главния счетоводител.</a:t>
            </a:r>
            <a:r>
              <a:rPr b="1" lang="bg-BG"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250920" y="1484280"/>
            <a:ext cx="8424720" cy="3538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ключените договори с членовете на екипите по проекти следв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сички сключени граждански договори трябва да бъде посочено, ч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лащането на дължимите осигуровки се извършва от възложителя, както и че те са по съответния проект или за сметка на бюджета на възложител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6" name="Text Box 3"/>
          <p:cNvSpPr/>
          <p:nvPr/>
        </p:nvSpPr>
        <p:spPr>
          <a:xfrm>
            <a:off x="324000" y="1700280"/>
            <a:ext cx="8569080" cy="32990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ФИНАНСОВО ИЗПЪЛНЕНИЕ НА ДОГОВОРИ</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Модул 1</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Преглед на документалната обоснованост и изисквания</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за подаване на Искания за плащане и</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Междинни/Окончателни финансови отчети </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250920" y="1484280"/>
            <a:ext cx="8424720" cy="4061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ползва следната сигнатура на възложените от него договори за строителство/доставки/услуги на изпълнители – (номер на договора за предоставяне на БФП)-(сигнатура за вида на договора за изпълнение) – D (доставки), U(услуги), S (строителство) – пореден номер на сключения договор с изпълнител в рамките на договора за БФП.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о отношение на човешки ресурси, сигнатурата важи само за Граждански договори!</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2"/>
          <p:cNvSpPr/>
          <p:nvPr/>
        </p:nvSpPr>
        <p:spPr>
          <a:xfrm>
            <a:off x="250920" y="1484280"/>
            <a:ext cx="8424720" cy="3933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Съгласно ОУ на договора за БФП, бенефициентът се задължава да предприеме всички необходими стъпки за популяризиране на факта, че проектът се съфинансира от ЕФРР, съобразено със съответните правила за информиране и публичност, предвидени в чл.8 от Рег. На ЕК 1828/2006.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50920" y="1484280"/>
            <a:ext cx="8424720" cy="3597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Бенефициентът задължително посочва финансовия принос на ЕФРР  </a:t>
            </a:r>
            <a:r>
              <a:rPr b="0" lang="bg-BG" sz="2200" spc="-1" strike="noStrike">
                <a:solidFill>
                  <a:srgbClr val="ff0000"/>
                </a:solidFill>
                <a:latin typeface="Times New Roman"/>
                <a:ea typeface="Times New Roman"/>
              </a:rPr>
              <a:t>в каквито и да са документи, свързани с изпълнението на проекта.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0000"/>
                </a:solidFill>
                <a:latin typeface="Times New Roman"/>
                <a:ea typeface="Times New Roman"/>
              </a:rPr>
              <a:t>Обърнете внимание, че това е част от изискването и по отношение на трудови и граждански договори</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250920" y="1341360"/>
            <a:ext cx="8713800" cy="4013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условие, че дейността по управлението на проект се възлага на външни за бенефициента лица и цената на извършваната услуга попада в стойностните граници, посочени в ЗОП за бенефициента ще възникне задължение за спазване на законовите разпоредби при избор на изпълнител.</a:t>
            </a:r>
            <a:endParaRPr b="1"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Ако дейностите по управление на даден проект се изпълняват от служители на конкретния бенефициент, за него не възниква задължение за провеждане на процедура по ЗОП, тъй като изпълнението се извършва в самата организация, но вече се прилага ПМС 33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50920" y="1484280"/>
            <a:ext cx="8424720" cy="4223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7</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становяването на средства по дадено искане за плащане се извършва </a:t>
            </a:r>
            <a:r>
              <a:rPr b="0" lang="bg-BG" sz="2000" spc="-1" strike="noStrike">
                <a:solidFill>
                  <a:srgbClr val="ff0000"/>
                </a:solidFill>
                <a:latin typeface="Times New Roman"/>
                <a:ea typeface="Times New Roman"/>
              </a:rPr>
              <a:t>в съответствие с процентните съотношения</a:t>
            </a:r>
            <a:r>
              <a:rPr b="0" lang="bg-BG" sz="2000" spc="-1" strike="noStrike">
                <a:solidFill>
                  <a:srgbClr val="000000"/>
                </a:solidFill>
                <a:latin typeface="Times New Roman"/>
                <a:ea typeface="Times New Roman"/>
              </a:rPr>
              <a:t>, заложени в бюджета на сключения договор за отпускане на БФП.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Разходи за организация и управление – до 2 % от БФП</a:t>
            </a:r>
            <a:endParaRPr b="1"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Одит – до 1 % но не повече от 50000 лева</a:t>
            </a:r>
            <a:endParaRPr b="1"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Информация и публичност – до 1 % от БФП</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Непредвидени разходи за СМР – до 10 % от СМР</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Авторски и строителен надзор – до 3 % от СМР</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Разходи, свързани със заснемания, идейни, технически и работни проекти и с оценка на съответствието на проектите – до 5 % от СМР</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250920" y="1484280"/>
            <a:ext cx="8424720" cy="3843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8</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становяването на средства по дадено искане за плащане се извършва </a:t>
            </a:r>
            <a:r>
              <a:rPr b="0" lang="bg-BG" sz="2000" spc="-1" strike="noStrike">
                <a:solidFill>
                  <a:srgbClr val="ff0000"/>
                </a:solidFill>
                <a:latin typeface="Times New Roman"/>
                <a:ea typeface="Times New Roman"/>
              </a:rPr>
              <a:t>в съответствие с процентните съотношения</a:t>
            </a:r>
            <a:r>
              <a:rPr b="0" lang="bg-BG" sz="2000" spc="-1" strike="noStrike">
                <a:solidFill>
                  <a:srgbClr val="000000"/>
                </a:solidFill>
                <a:latin typeface="Times New Roman"/>
                <a:ea typeface="Times New Roman"/>
              </a:rPr>
              <a:t>, заложени в бюджета на сключения договор за отпускане на БФП.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умата за всяко отделно бюджетно перо се изчислява с натрупван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УО не верифицира разходите, с които сумата по съответното бюджетно перо/позиция надхвърля заложените по бюджет процентни съотношения (УО не верифицира частично първични разходооправдателни документи).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50920" y="1484280"/>
            <a:ext cx="84247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9</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Тези разходи могат да бъдат включени в следващо искан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250920" y="1484280"/>
            <a:ext cx="8424720" cy="4311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0</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Одиторски доклад</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Одиторски доклад, изготвен от външен одитор за разходите включени в междинното /ако е приложимо / или окончателното Искане за плащане от Бенефициента. </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При окончателно искане за плащане одиторът на проекта </a:t>
            </a:r>
            <a:r>
              <a:rPr b="0" lang="bg-BG" sz="2100" spc="-1" strike="noStrike">
                <a:solidFill>
                  <a:srgbClr val="ff0000"/>
                </a:solidFill>
                <a:latin typeface="Times New Roman"/>
                <a:ea typeface="Times New Roman"/>
              </a:rPr>
              <a:t>трябва да завери с печата си всички страници на финансовият отчет.</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ff0000"/>
                </a:solidFill>
                <a:latin typeface="Times New Roman"/>
                <a:ea typeface="Times New Roman"/>
              </a:rPr>
              <a:t>Публикувани НОВИ Указания за </a:t>
            </a:r>
            <a:r>
              <a:rPr b="0" lang="ru-RU" sz="2100" spc="-1" strike="noStrike">
                <a:solidFill>
                  <a:srgbClr val="000000"/>
                </a:solidFill>
                <a:latin typeface="Times New Roman"/>
                <a:ea typeface="Times New Roman"/>
              </a:rPr>
              <a:t>Насоки за извършване на одит по проекти, финансирани по Оперативна програма „Регионално развитие 2007 - 2013 г.”, АКТУАЛНО ОТ 15.08.2012 г.</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250920" y="1341360"/>
            <a:ext cx="8569080" cy="4173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идове плащания и искания за плащане</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Авансово</a:t>
            </a:r>
            <a:r>
              <a:rPr b="0" lang="bg-BG" sz="2000" spc="-1" strike="noStrike">
                <a:solidFill>
                  <a:srgbClr val="000000"/>
                </a:solidFill>
                <a:latin typeface="Times New Roman"/>
                <a:ea typeface="Times New Roman"/>
              </a:rPr>
              <a:t> – съгласно договора за отпускане на БФП или РМС №592/06.08.2010 - най-късно в срок до три месеца преди изтичане на срока на договора за отпускане на безвъзмездна финансова помощ;</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Междинно</a:t>
            </a:r>
            <a:r>
              <a:rPr b="0" lang="bg-BG" sz="2000" spc="-1" strike="noStrike">
                <a:solidFill>
                  <a:srgbClr val="000000"/>
                </a:solidFill>
                <a:latin typeface="Times New Roman"/>
                <a:ea typeface="Times New Roman"/>
              </a:rPr>
              <a:t>/и плащане/ия - два пъти всеки месец - от 01 до 03 (или първите три работни дни на месеца) или от 15 до 17 (или първите три работни дни след 15 число на месеца) следващ периода на отчитане;</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Окончателно</a:t>
            </a:r>
            <a:r>
              <a:rPr b="0" lang="bg-BG" sz="2000" spc="-1" strike="noStrike">
                <a:solidFill>
                  <a:srgbClr val="000000"/>
                </a:solidFill>
                <a:latin typeface="Times New Roman"/>
                <a:ea typeface="Times New Roman"/>
              </a:rPr>
              <a:t> плащане  - по всяко време преди изтичане срока на  договора</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250920" y="1268280"/>
            <a:ext cx="871380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документи, включени в искането за плащане трябва да бъдат номерирани с уникален номер започвайки от едно</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a:t>
            </a:r>
            <a:r>
              <a:rPr b="0" lang="bg-BG" sz="2000" spc="-1" strike="noStrike">
                <a:solidFill>
                  <a:srgbClr val="ff0000"/>
                </a:solidFill>
                <a:latin typeface="Times New Roman"/>
                <a:ea typeface="Times New Roman"/>
              </a:rPr>
              <a:t>счетоводно номериране</a:t>
            </a:r>
            <a:r>
              <a:rPr b="0" lang="en-US" sz="2000" spc="-1" strike="noStrike">
                <a:solidFill>
                  <a:srgbClr val="ff0000"/>
                </a:solidFill>
                <a:latin typeface="Times New Roman"/>
                <a:ea typeface="Times New Roman"/>
              </a:rPr>
              <a:t>)</a:t>
            </a:r>
            <a:r>
              <a:rPr b="0" lang="bg-BG" sz="2000" spc="-1" strike="noStrike">
                <a:solidFill>
                  <a:srgbClr val="000000"/>
                </a:solidFill>
                <a:latin typeface="Times New Roman"/>
                <a:ea typeface="Times New Roman"/>
              </a:rPr>
              <a:t>. В подробния опис, придружаващ искането за плащане трябва да бъдат посочени номерата на страниците на документите, съгласно извършената номерация;</a:t>
            </a:r>
            <a:endParaRPr b="1"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предоставяне на допълнителни </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коригирани документи същите трябва да бъдат номерирани с уникален номер, започвайки от номера, който непосредствено следва последния номер на документ от вече изпратеното искане за плащане (в случай на повторно изпращане на допълнителна или коригирана документация номерацията започва от номера, който непосредствено следва последния номер на последната предоставена документац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250920" y="1484280"/>
            <a:ext cx="8424720" cy="4442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1)</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Целесъобразност – Законосъобразност</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зточниците за информация за постигнатите индикатори </a:t>
            </a:r>
            <a:r>
              <a:rPr b="0" lang="bg-BG" sz="2200" spc="-1" strike="noStrike">
                <a:solidFill>
                  <a:srgbClr val="000000"/>
                </a:solidFill>
                <a:latin typeface="Times New Roman"/>
                <a:ea typeface="Times New Roman"/>
              </a:rPr>
              <a:t>основно е </a:t>
            </a:r>
            <a:r>
              <a:rPr b="0" lang="en-GB" sz="2200" spc="-1" strike="noStrike">
                <a:solidFill>
                  <a:srgbClr val="000000"/>
                </a:solidFill>
                <a:latin typeface="Times New Roman"/>
                <a:ea typeface="Times New Roman"/>
              </a:rPr>
              <a:t>  нефинансова, техническа информация.</a:t>
            </a:r>
            <a:br>
              <a:rPr sz="2200"/>
            </a:b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Но също така там където е възможно финансовата документация следва да осигурява информация и за индикаторите.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Например, ако индикатор за проведено</a:t>
            </a:r>
            <a:r>
              <a:rPr b="0" lang="bg-BG" sz="2200" spc="-1" strike="noStrike">
                <a:solidFill>
                  <a:srgbClr val="000000"/>
                </a:solidFill>
                <a:latin typeface="Times New Roman"/>
                <a:ea typeface="Times New Roman"/>
              </a:rPr>
              <a:t> събитие</a:t>
            </a:r>
            <a:r>
              <a:rPr b="0" lang="en-GB" sz="2200" spc="-1" strike="noStrike">
                <a:solidFill>
                  <a:srgbClr val="000000"/>
                </a:solidFill>
                <a:latin typeface="Times New Roman"/>
                <a:ea typeface="Times New Roman"/>
              </a:rPr>
              <a:t> е брой </a:t>
            </a:r>
            <a:r>
              <a:rPr b="0" lang="bg-BG" sz="2200" spc="-1" strike="noStrike">
                <a:solidFill>
                  <a:srgbClr val="000000"/>
                </a:solidFill>
                <a:latin typeface="Times New Roman"/>
                <a:ea typeface="Times New Roman"/>
              </a:rPr>
              <a:t>участници</a:t>
            </a:r>
            <a:r>
              <a:rPr b="0" lang="en-GB" sz="22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br>
              <a:rPr sz="22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250920" y="1413000"/>
            <a:ext cx="8424720" cy="4320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яко Искане за плащане трябва да е окомплектовано по надлежен начин в класьор с твърди</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рици (7см) с подробен опис, всички документи трябва да са перфорирани и приложени</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ътре! Не се допуска използването на папки с меки корици, джоб пликове и други!</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искане за плащане бъде подадено по друг начин, то НЯМА да бъде разглеждано и регистрирано като такова!!!</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искания за плащане се подават в РО на ръка! Представят се и оригиналите на разходооправдателните документи, на които служител на РО поставя печат по образец.</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250920" y="1413000"/>
            <a:ext cx="8713800" cy="4299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еглед на Сравнителна таблица за изискваните документи при подаване на искания за плащан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еглед на Пакета документи – Протокол 1, 2 и 3 (Приложения 9.33, 9.34 и 9.35) за разходи преди сключването на договори; Протокол 19, както и на Приложение 9.57 Междинен и окончателен финансов отчет със съответните приложения в него.</a:t>
            </a:r>
            <a:r>
              <a:rPr b="0" lang="bg-B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heet </a:t>
            </a:r>
            <a:r>
              <a:rPr b="0" lang="bg-BG" sz="1800" spc="-1" strike="noStrike">
                <a:solidFill>
                  <a:srgbClr val="ff0000"/>
                </a:solidFill>
                <a:latin typeface="Times New Roman"/>
                <a:ea typeface="Times New Roman"/>
              </a:rPr>
              <a:t>“Други разходи”</a:t>
            </a:r>
            <a:r>
              <a:rPr b="0" lang="en-US" sz="1800" spc="-1" strike="noStrike">
                <a:solidFill>
                  <a:srgbClr val="ff0000"/>
                </a:solidFill>
                <a:latin typeface="Times New Roman"/>
                <a:ea typeface="Times New Roman"/>
              </a:rPr>
              <a:t> </a:t>
            </a:r>
            <a:r>
              <a:rPr b="0" lang="bg-BG" sz="1800" spc="-1" strike="noStrike">
                <a:solidFill>
                  <a:srgbClr val="ff0000"/>
                </a:solidFill>
                <a:latin typeface="Times New Roman"/>
                <a:ea typeface="Times New Roman"/>
              </a:rPr>
              <a:t>не се попълва за настоящата схема</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Публикувано на </a:t>
            </a:r>
            <a:r>
              <a:rPr b="0" lang="bg-BG" sz="1800" spc="-1" strike="noStrike">
                <a:solidFill>
                  <a:srgbClr val="000000"/>
                </a:solidFill>
                <a:latin typeface="Times New Roman"/>
              </a:rPr>
              <a:t>http://bgregio.eu/izpalnenie-na-dogovori/ukazaniya-za-izpalnenie-na-dogovori/finansovo-upravlenie-kontrol-i-monitoring.aspx</a:t>
            </a:r>
            <a:r>
              <a:rPr b="1" lang="bg-BG" sz="1800" spc="-1" strike="noStrike">
                <a:solidFill>
                  <a:srgbClr val="000000"/>
                </a:solidFill>
                <a:latin typeface="Times New Roman"/>
              </a:rPr>
              <a:t> </a:t>
            </a:r>
            <a:r>
              <a:rPr b="0" lang="ru-RU" sz="1800" spc="-1" strike="noStrike">
                <a:solidFill>
                  <a:srgbClr val="000000"/>
                </a:solidFill>
                <a:latin typeface="Times New Roman"/>
                <a:ea typeface="Times New Roman"/>
              </a:rPr>
              <a:t> – линк «Пакет </a:t>
            </a:r>
            <a:r>
              <a:rPr b="0" lang="bg-BG" sz="1800" spc="-1" strike="noStrike">
                <a:solidFill>
                  <a:srgbClr val="000000"/>
                </a:solidFill>
                <a:latin typeface="Times New Roman"/>
                <a:ea typeface="Times New Roman"/>
              </a:rPr>
              <a:t>документи – искания за плащане”, версия от 1</a:t>
            </a:r>
            <a:r>
              <a:rPr b="0" lang="en-US" sz="1800" spc="-1" strike="noStrike">
                <a:solidFill>
                  <a:srgbClr val="000000"/>
                </a:solidFill>
                <a:latin typeface="Times New Roman"/>
                <a:ea typeface="Times New Roman"/>
              </a:rPr>
              <a:t>5</a:t>
            </a:r>
            <a:r>
              <a:rPr b="0" lang="bg-BG" sz="1800" spc="-1" strike="noStrike">
                <a:solidFill>
                  <a:srgbClr val="000000"/>
                </a:solidFill>
                <a:latin typeface="Times New Roman"/>
                <a:ea typeface="Times New Roman"/>
              </a:rPr>
              <a:t> август 2012 г.. </a:t>
            </a:r>
            <a:r>
              <a:rPr b="1" lang="bg-BG" sz="1800" spc="-1" strike="noStrike">
                <a:solidFill>
                  <a:srgbClr val="ff0000"/>
                </a:solidFill>
                <a:latin typeface="Times New Roman"/>
                <a:ea typeface="Times New Roman"/>
              </a:rPr>
              <a:t>Някои Приложения не са актуализирани!</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250920" y="1413000"/>
            <a:ext cx="842472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Преглед на Сравнителна таблица за изискваните документи при подаване на искания за плащан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Таблицата не фигурират документ, въпреки че е упоменат в Указанията:</a:t>
            </a:r>
            <a:endParaRPr b="1"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Декларация за използваните печати – вече част от Искането за плащане,  а не отделен документ!</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250920" y="1484280"/>
            <a:ext cx="8424720" cy="4186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Разходи за закупуване на втора употреба съоръжения и оборудване </a:t>
            </a:r>
            <a:r>
              <a:rPr b="0" lang="bg-BG" sz="2200" spc="-1" strike="noStrike">
                <a:solidFill>
                  <a:srgbClr val="000000"/>
                </a:solidFill>
                <a:latin typeface="Times New Roman"/>
                <a:ea typeface="Times New Roman"/>
              </a:rPr>
              <a:t>– следва да се обезпечи документално доказването на: </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1. продавачът да не ги е закупил с публична безвъзмездна помощ, дори и частично, в периода от последните 7 години преди подаване на проектното предложени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2. цената им да не надвишава пазарната стойност, установена от независим сертифициран оценител или надлежно оторизиран орган към деня на покупката и да е по-малка от разходите за придобиване на подобни нови активи;</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250920" y="1484280"/>
            <a:ext cx="8424720" cy="4186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Разходи за закупуване на втора употреба съоръжения и оборудване </a:t>
            </a:r>
            <a:r>
              <a:rPr b="0" lang="bg-BG" sz="2200" spc="-1" strike="noStrike">
                <a:solidFill>
                  <a:srgbClr val="000000"/>
                </a:solidFill>
                <a:latin typeface="Times New Roman"/>
                <a:ea typeface="Times New Roman"/>
              </a:rPr>
              <a:t>– следва да се обезпечи документално доказването на: </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3. да имат технически характеристики, необходими за изпълнение на проекта, да са в съответствие с приложимите норми и стандарти, да са експлоатационно годни. Това съответствие следва да бъде валидно за целия период на изпълнение на проекта и за срок не по-малък от периода, определен в чл.57 от Регламент (ЕО)1083/2006 г.на Съвета;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4. </a:t>
            </a:r>
            <a:r>
              <a:rPr b="0" lang="bg-BG" sz="2200" spc="-1" strike="noStrike">
                <a:solidFill>
                  <a:srgbClr val="ff0000"/>
                </a:solidFill>
                <a:latin typeface="Times New Roman"/>
                <a:ea typeface="Times New Roman"/>
              </a:rPr>
              <a:t>да има одобрение от УО</a:t>
            </a:r>
            <a:r>
              <a:rPr b="0" lang="en-US" sz="2200" spc="-1" strike="noStrike">
                <a:solidFill>
                  <a:srgbClr val="ff0000"/>
                </a:solidFill>
                <a:latin typeface="Times New Roman"/>
                <a:ea typeface="Times New Roman"/>
              </a:rPr>
              <a:t>/</a:t>
            </a:r>
            <a:r>
              <a:rPr b="0" lang="bg-BG" sz="2200" spc="-1" strike="noStrike">
                <a:solidFill>
                  <a:srgbClr val="ff0000"/>
                </a:solidFill>
                <a:latin typeface="Times New Roman"/>
                <a:ea typeface="Times New Roman"/>
              </a:rPr>
              <a:t>РО за закупуването им</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250920" y="1484280"/>
            <a:ext cx="8642160" cy="4171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Следва да са регламентирани в договорите с подизпълнителите как и в какви случаи ще се използват тези средства.</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В случай, че няма клаузи за непредвидени разходи в договорите с подизпълнители се изпраща уведомление към РО, които от своя страна трябва да информират отдел "Мониторинг". След като бъдат информирани  (отдел Мониторинг) трябва да изпратят писмо до бенефициента, с което се одобрява или не искането за разходване на непредвидените разходи. </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ажното е промените да не надвишават 15% (нагоре и надолу) от стойностите на одобреното КСС, както и да не надвишават 10% от първоначалната стойност на КСС.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250920" y="1484280"/>
            <a:ext cx="8424720" cy="4129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4)</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SimSun"/>
              </a:rPr>
              <a:t>В случаите, при които в договора с изпълнителя на СМР има включена клауза, касаеща третирането на непредвидени разходи (в размер до 10% от стойността на КСС по договора с изпълнителя), </a:t>
            </a:r>
            <a:r>
              <a:rPr b="0" lang="bg-BG" sz="2200" spc="-1" strike="noStrike">
                <a:solidFill>
                  <a:srgbClr val="ff0000"/>
                </a:solidFill>
                <a:latin typeface="Times New Roman"/>
                <a:ea typeface="SimSun"/>
              </a:rPr>
              <a:t>тези разходи се отчитат на окончателно плащане и се приемат с отделен протокол</a:t>
            </a:r>
            <a:r>
              <a:rPr b="0" lang="bg-BG" sz="2200" spc="-1" strike="noStrike">
                <a:solidFill>
                  <a:srgbClr val="000000"/>
                </a:solidFill>
                <a:latin typeface="Times New Roman"/>
                <a:ea typeface="SimSun"/>
              </a:rPr>
              <a:t>. С цел верифициране на непредвидените разходи бенефициентът следва да представи отделен протокол за приемането им, придружен от необходимите документи, обосноваващи изпълнението им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250920" y="1484280"/>
            <a:ext cx="8424720" cy="4253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5)</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SimSun"/>
              </a:rPr>
              <a:t>„</a:t>
            </a:r>
            <a:r>
              <a:rPr b="0" i="1" lang="bg-BG" sz="2000" spc="-1" strike="noStrike">
                <a:solidFill>
                  <a:srgbClr val="000000"/>
                </a:solidFill>
                <a:latin typeface="Times New Roman"/>
                <a:ea typeface="SimSun"/>
              </a:rPr>
              <a:t>Непредвидени разходи за СМР са разходите, свързани с увеличаване на заложени количества строителни и монтажни работи и/или добавяне на нови количества или видове СМР, които към момента на разработване и одобряване на технически или работен инвестиционен проект обективно не са могли да бъдат предвидени, но при изпълнение на дейностите са обективно необходими за въвеждане на обекта в експлоатация. Разходите, които биха могли да бъдат верифицирани като непредвидени, следва да отговарят на условията за допустимост на разходите по схемата, в рамките на която е сключен договорът.</a:t>
            </a:r>
            <a:r>
              <a:rPr b="0" i="1" lang="bg-BG" sz="2200" spc="-1" strike="noStrike">
                <a:solidFill>
                  <a:srgbClr val="000000"/>
                </a:solidFill>
                <a:latin typeface="Times New Roman"/>
                <a:ea typeface="SimSun"/>
              </a:rPr>
              <a:t> </a:t>
            </a:r>
            <a:r>
              <a:rPr b="0" lang="bg-BG" sz="2200" spc="-1" strike="noStrike">
                <a:solidFill>
                  <a:srgbClr val="000000"/>
                </a:solidFill>
                <a:latin typeface="Times New Roman"/>
                <a:ea typeface="SimSun"/>
              </a:rPr>
              <a:t>”</a:t>
            </a:r>
            <a:r>
              <a:rPr b="1" lang="bg-BG" sz="2200" spc="-1" strike="noStrike">
                <a:solidFill>
                  <a:srgbClr val="000000"/>
                </a:solidFill>
                <a:latin typeface="Times New Roman"/>
                <a:ea typeface="SimSu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250920" y="1484280"/>
            <a:ext cx="8424720" cy="3877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Целесъобразност – Законосъобразност</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ва означава, че бенефициентът следва да изисква и съхранява </a:t>
            </a:r>
            <a:r>
              <a:rPr b="0" lang="bg-BG" sz="2200" spc="-1" strike="noStrike">
                <a:solidFill>
                  <a:srgbClr val="000000"/>
                </a:solidFill>
                <a:latin typeface="Times New Roman"/>
                <a:ea typeface="Times New Roman"/>
              </a:rPr>
              <a:t>финансови и </a:t>
            </a:r>
            <a:r>
              <a:rPr b="0" lang="en-GB" sz="22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r>
              <a:rPr b="0" lang="en-GB" sz="2000" spc="-1" strike="noStrike">
                <a:solidFill>
                  <a:srgbClr val="000000"/>
                </a:solidFill>
                <a:latin typeface="Arial"/>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250920" y="1484280"/>
            <a:ext cx="8424720" cy="4241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разходът е по проект за безвъзмездна помощ </a:t>
            </a:r>
            <a:r>
              <a:rPr b="1" lang="bg-BG" sz="2000" spc="-1" strike="noStrike">
                <a:solidFill>
                  <a:srgbClr val="000000"/>
                </a:solidFill>
                <a:latin typeface="Times New Roman"/>
                <a:ea typeface="Times New Roman"/>
              </a:rPr>
              <a:t>по договор № ……. на ОПРР”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Обърнете внимание, че не става въпрос само за документите, с които се извършва плащане по даден разход, а и за документите, с които се поема ангажимент за разход – например решение за стартиране на процедура, прокотоли, всички видове договори, заповеди и т.н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Добра практика – изготвяне на бланка на проекта при самото стартиране на ДБФП, която всеки член на екипа използва в процеса на работа!</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250920" y="1484280"/>
            <a:ext cx="84247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рганизацият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50920" y="1484280"/>
            <a:ext cx="8424720" cy="3691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Указания относно прогнозните плащания</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Информация се подава към УО заедно с подаването на Междинен</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Окончателен финансов отчет, Приложение 9.57</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прогнозата за плащанията по проекта кандидатът представя прогноза за реалните за възстановяване средства от страна на УО към бенефициента по проекта, които ще бъдат извършени през всяко едно тримесечие за периода на неговото изпълнение.</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250920" y="1484280"/>
            <a:ext cx="8424720" cy="4270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ръзка с ПМС 330 от 5.12.2011 на </a:t>
            </a:r>
            <a:r>
              <a:rPr b="0" lang="en-US" sz="2000" spc="-1" strike="noStrike">
                <a:solidFill>
                  <a:srgbClr val="000000"/>
                </a:solidFill>
                <a:latin typeface="Times New Roman"/>
                <a:ea typeface="Times New Roman"/>
              </a:rPr>
              <a:t>www.bgregio.eu </a:t>
            </a:r>
            <a:r>
              <a:rPr b="0" lang="bg-BG" sz="2000" spc="-1" strike="noStrike">
                <a:solidFill>
                  <a:srgbClr val="000000"/>
                </a:solidFill>
                <a:latin typeface="Times New Roman"/>
                <a:ea typeface="Times New Roman"/>
              </a:rPr>
              <a:t>е публикуван документ “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 от </a:t>
            </a:r>
            <a:r>
              <a:rPr b="0" lang="en-US" sz="2000" spc="-1" strike="noStrike">
                <a:solidFill>
                  <a:srgbClr val="000000"/>
                </a:solidFill>
                <a:latin typeface="Times New Roman"/>
                <a:ea typeface="Times New Roman"/>
              </a:rPr>
              <a:t>15 </a:t>
            </a:r>
            <a:r>
              <a:rPr b="0" lang="bg-BG" sz="2000" spc="-1" strike="noStrike">
                <a:solidFill>
                  <a:srgbClr val="000000"/>
                </a:solidFill>
                <a:latin typeface="Times New Roman"/>
                <a:ea typeface="Times New Roman"/>
              </a:rPr>
              <a:t>август 2012 г. – въвеждат се НОВИ ПРИЛОЖЕН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МС 330 отменя ПМС 194 за всички ДБФП, сключени след датата на приемане на Постановление 330! Проектите следва да бъдат изпълнени по правилата на ПМС 330.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2"/>
          <p:cNvSpPr/>
          <p:nvPr/>
        </p:nvSpPr>
        <p:spPr>
          <a:xfrm>
            <a:off x="250920" y="1459080"/>
            <a:ext cx="8424720" cy="3660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 от </a:t>
            </a:r>
            <a:r>
              <a:rPr b="0" lang="en-US" sz="2000" spc="-1" strike="noStrike">
                <a:solidFill>
                  <a:srgbClr val="000000"/>
                </a:solidFill>
                <a:latin typeface="Times New Roman"/>
                <a:ea typeface="Times New Roman"/>
              </a:rPr>
              <a:t>15 </a:t>
            </a:r>
            <a:r>
              <a:rPr b="0" lang="bg-BG" sz="2000" spc="-1" strike="noStrike">
                <a:solidFill>
                  <a:srgbClr val="000000"/>
                </a:solidFill>
                <a:latin typeface="Times New Roman"/>
                <a:ea typeface="Times New Roman"/>
              </a:rPr>
              <a:t>август 2012 г. – въвеждат се НОВИ ПРИЛОЖЕН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НОВО – Разходи за ЧР по ДБФП, сключени преди датата на влизане в сила на ПМС 330, ще се признават по стария ред!</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2-11-14T08:18:00Z</dcterms:modified>
  <cp:revision>45</cp:revision>
  <dc:subject/>
  <dc:title>Слайд 1</dc:title>
</cp:coreProperties>
</file>