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1CB4-907E-493D-8D9C-AAD07181E97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E4ED-BBD4-4325-874E-0893374E2AF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В3 следва да се попълва за всеки самостоятелен обект (СО), към който е приложим режим „de minimis“, с отделна страница/sheet/ за всеки обект). Таблица 1 от Приложение В3 се попълва в случай, че е предвидено да се извършват интервенции в конкретния самостоятелен обект със стопанско предназначение. Таблицата не се попълва само ако няма предвидени интервенции в конкретния самостоятелен об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лица 2 от Приложение В3 се изчисляват разходите, свързани с общите части на сградата, приспадащи се на конкретния собственик на самостоятелен обект (ССО) в зависимост от притежавания от него процент идеални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2 от таблицата се посочва процентът идеални части от сградата, причислен на съответния собственик на самостоятелен обект съгласно Приложение № 7 „Справка за ССО“ към Приложение Н от Насоките за кандидатст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3 се посочва стойността на всеки конкретен разход (съгласно колона 1) за сградата, в която се намира конкретния самостоятелен обект. В колона 3 не  следва да се посочва общата стойност на разходите за всички сгради в обхвата на проектното предложение. В случай че е предвидено изпълнение на инженеринг, не се попълват разходи по редове „Разходи за изготвяне на инвестиционен проект“ и „Разходи за авторски надзор“, а стойността на инженеринга се вписва в ред „Разходи за строителни и монтажни работи (без включена дограма на самия СО и други дейности в СО)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D7C9-7F3F-430A-AE2A-440E658301D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БФП в рамките на настоящата процедура се приема, че е в съответствие с правилата по държавните помощи и не подлежи на режим на минимални помощи, само ако се отпуска за интервенции в публична инфраструктура или за жилищни обекти, които не се ползват по стопански начин. Фактът, че към момента в даден обект със стопанско предназначение не се извършва дейност, не променя неговото предназначение, не го прави публична инфраструктура или жилищен обект и не гарантира, че обектът няма да започне да се ползва в някой следващ момент за осъществяването на стопанска дейност.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AB44-232E-4418-9F16-90C6CA849E9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но Приложение Н към НК, многофамилна жилищна сграда е „жилищна сграда, която включва не по-малко от две жилища, които принадлежат на различни собственици и в които се помещават различни домакинства“. За да бъде приет отделен самостоятелен обект в сградата за жилище съгласно ЗУТ трябва да има самостоятелен вход, най-малко едно жилищно помещение, кухня или кухненски бокс и баня-тоалетна, както и складово помещение, което може да бъде в жилището или извън не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072-BC09-460C-950B-1339A6ED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63-2660-4A28-B341-DA830567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75E-BA5D-4297-9660-7D0DB363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919-F0E5-4888-A8E5-529CC6F0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AF2-B9DA-4712-9EBE-234457F3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601E-42B7-4A01-9ED5-333E9F2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4816-65BA-4709-BFBB-4A2869D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C1B3-6981-483B-8036-5B0904BC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8BE-CED3-4C88-B454-552C7A2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E5E-64F3-4912-9D7B-C600B2F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7577-40DA-4F4C-BA26-1B3A678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FD3-9D0E-4CB0-AA26-A603662D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E554-70D9-48E1-A518-E67C1DD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93CC-B29F-4DC9-A2DD-C230391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D4D6-651E-445C-99A0-B1DB446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D779-3E73-48DC-B9EC-AB848EE4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A2DF-1E29-4315-AD75-11FC593B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E3E9-6451-4D28-9116-99AB391C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4188-706D-4D0B-BE3B-0A80D0F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FD39-0418-4F8C-993E-3784AA8D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C4A5-FC65-462B-905D-FA952B05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4838-927D-4A7F-AF0E-7E55BBE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4A9-20C4-4229-800B-C2DCA45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C0C5-0A8F-4A32-B381-29A40D09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D094-97D2-415A-8A19-BC16DB0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BEEF-246D-4D54-A539-8941B83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689C-6DDA-405E-82A2-4B2AAED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D3FE-F6FB-417D-91B1-896F8D66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18FA-87DB-4520-AB1C-B0F0F184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657D-AC31-49AE-AA35-D442B03E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5A3-8F7D-4C8C-91D8-9064DB31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9FE-35F3-43DC-9AC6-C07F3541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5D5-AAEB-41F5-A983-C4AC4DD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9EE-1B4E-4584-B0AB-C882482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121-37FF-4CCF-9989-13DA5BA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B31-158D-4620-A620-D93FBFB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D949-9C87-459D-9039-09311C0607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D752-2A32-4EDA-B6F8-6AB04D6020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EA74-FD11-48FB-95D8-D121819109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2.003 „ЕНЕРГИЙНА ЕФЕКТИВНОСТ В ПЕРИФЕРНИТЕ РАЙОНИ-3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8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1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В жилищните сгради в зависимост от ситуацията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главния вход на сграда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ри жилищни сгради със съществуващ асансьор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първото етажно ниво на сградата (нивото с асансьо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ите на сгради на РПУ, РСПБЗН и гранично управл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ължително до нивото, на което се осъществява административното обслужване на граждан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50560" y="1698480"/>
            <a:ext cx="856908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интервенции в публични сгради с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ставят се декларации за съглас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ектното предложение от собственика на сгра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екларацията следва да е попълнена от ръководството на съответната институция,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ползвател на сграда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4880" y="1207800"/>
            <a:ext cx="87994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оказателствата за подбор на включените в ПП жилищни сгради не дават увереност, че е приложена недискриминационна процедура и критер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Необходимо е да се представи подробна информация, подкрепена с доказателства за: проведената на територията на общината информационна кампания; как са избрани жилищните сгради, включени в обхвата на проектното предложение; утвърдената процедура за подбор и др. релевантни докумен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Част от включените в ПП жилищни сград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 одобрени с предходна информационна камп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опустимо е СС, с подадени заявления за интерес и финансова помощ </a:t>
            </a: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о предходни процедури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а кандидатстват отново, като е необходимо това да бъде удостоверено по подходящ начин (чрез протокол, решение или др.).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Следва да се приложи еднакъв подход при подбора и оценка на новоподадените и на валидните от предходната процедура заявления за интерес и финансова помощ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4880" y="1413000"/>
            <a:ext cx="865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роектни предложения, които включват интервенции в многофамилни жилищни сгради липсва Приложение 3 „Разходи за самостоятелен обект“, при наличие на стопанска дейност или са представени няколко так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следв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да се прилага винаги към окончателния вариант на ПП, при наличие на стопанска дейност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и/или отдаване под наем и/или извършване на дейност от търговец и/или лице със свободна профе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следва да се попълва за всеки самостоятелен обект (СО), към който е приложим режим „de minimis“, като е препоръчително отделно попълнените приложения за всеки СО да бъдат обединени в един общ файл (с отделна страница/sheet/ за всеки обек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едоставя информация за обекти със стопанско предназначение, които не се ползват към момента на кандидатств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В случай, че конкретен обект не се използва към момента, но е със стопанско предназначение по принцип, той би следвало да се включи в обхвата на помощта в режим „de minimis“, т.е. следва да се опише в Приложение В3 или средствата за него да се поемат като собствен принос от собств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2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от формуляра за кандидатстване – бюджетно перо се отразява в режим „държавна/минимална помощ“ когато администратор на помощта е общ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дминистратор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омощ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е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общината, всички разходи в Раздел 5 се записват в редове с описание „фонд: ЕФРР, режим на финансиране: Неприложимо, допустим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представеното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Ц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елевите стойности са разликата между актуалното състояние на емисиите СО2 и очакваните емисии след въвеждане на ЕСМ; разликата между актуалния годишен разход на първична енергия и очаквания разход след въвеждане на ЕСМ, съгласно данните от приложения към ПП сертификат за енергийни характеристики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П за многофамилни жилищни сгради некоректно се въвеждат стойностите по отношение на индикатор “Енергийна ефективност: Брой домакинства, преминали в по-горен клас на енергопотребление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ндикатора отчита само обект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 с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измерва с броя на самостоятелните обекти в сград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ато в него </a:t>
            </a:r>
            <a:r>
              <a:rPr b="0" i="1" lang="ru-RU" sz="1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не се включват самостоятелните обекти със стопанск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оито не се ползват за жилищн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бюджета на проекта се включват разходи за СМР, за мерки  извън предвидените в енергийното обследване, в случаите когато сградата не постига 60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йни спестявания на първичн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не се постигат повече от 60% енергийни спестявания, могат да бъдат финансирани с БФП единствено задължителните енергоспестяващи мерки, задължителните мерки, свързани с конструктивното укрепване, мълниезащитната инсталация и мерките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сгради, за които не може да се добие увереност, че отговарят на критериите замногофамилни жилищни сград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Ж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11, поле „Описание на обектите на интервенция и целевите групи“ следва да се направи описание на сградите, доказващо, че представляват МЖ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468360" y="1628640"/>
            <a:ext cx="8280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обекти, включени в ПП, с местонахождение, извън строителните граници на съответната община – канди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Дейностите по настоящата процедура следва да се осъществяват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в рамките на строителните граници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а 28-те населени места от четвърто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Обект с местонахождение, извън строителните граници на съответната община – кандидат, е недопустим за финансиране с БФП по настоящата 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TALI KIRILOVA LAZAROVA</cp:lastModifiedBy>
  <cp:lastPrinted>2018-09-28T12:57:03Z</cp:lastPrinted>
  <dcterms:modified xsi:type="dcterms:W3CDTF">2020-01-30T08:43:29Z</dcterms:modified>
  <cp:revision>1571</cp:revision>
  <dc:subject/>
  <dc:title>Diapositiva 1</dc:title>
</cp:coreProperties>
</file>