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DAF2-4D25-4F42-A5CD-A1EB25BA5BA9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1D4F-2CA1-4D62-B540-8A9ECDF84B83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ложение В3 следва да се попълва за всеки самостоятелен обект (СО), към който е приложим режим „de minimis“, с отделна страница/sheet/ за всеки обект). Таблица 1 от Приложение В3 се попълва в случай, че е предвидено да се извършват интервенции в конкретния самостоятелен обект със стопанско предназначение. Таблицата не се попълва само ако няма предвидени интервенции в конкретния самостоятелен обек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аблица 2 от Приложение В3 се изчисляват разходите, свързани с общите части на сградата, приспадащи се на конкретния собственик на самостоятелен обект (ССО) в зависимост от притежавания от него процент идеални ча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лона 2 от таблицата се посочва процентът идеални части от сградата, причислен на съответния собственик на самостоятелен обект съгласно Приложение № 7 „Справка за ССО“ към Приложение Н от Насоките за кандидатства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лона 3 се посочва стойността на всеки конкретен разход (съгласно колона 1) за сградата, в която се намира конкретния самостоятелен обект. В колона 3 не  следва да се посочва общата стойност на разходите за всички сгради в обхвата на проектното предложение. В случай че е предвидено изпълнение на инженеринг, не се попълват разходи по редове „Разходи за изготвяне на инвестиционен проект“ и „Разходи за авторски надзор“, а стойността на инженеринга се вписва в ред „Разходи за строителни и монтажни работи (без включена дограма на самия СО и други дейности в СО)“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806E-2E6F-4A69-83F1-E76116A54B84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БФП в рамките на настоящата процедура се приема, че е в съответствие с правилата по държавните помощи и не подлежи на режим на минимални помощи, само ако се отпуска за интервенции в публична инфраструктура или за жилищни обекти, които не се ползват по стопански начин. Фактът, че към момента в даден обект със стопанско предназначение не се извършва дейност, не променя неговото предназначение, не го прави публична инфраструктура или жилищен обект и не гарантира, че обектът няма да започне да се ползва в някой следващ момент за осъществяването на стопанска дейност.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41CD-49BD-4591-87C3-7A76CC79890B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ъгласно Приложение Н към НК, многофамилна жилищна сграда е „жилищна сграда, която включва не по-малко от две жилища, които принадлежат на различни собственици и в които се помещават различни домакинства“. За да бъде приет отделен самостоятелен обект в сградата за жилище съгласно ЗУТ трябва да има самостоятелен вход, най-малко едно жилищно помещение, кухня или кухненски бокс и баня-тоалетна, както и складово помещение, което може да бъде в жилището или извън него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BC74-B365-423F-98E9-BD749BFD0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8610-295F-41E3-94B2-D76EFD25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544C-2853-4050-AA85-285278CC6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BEC3-55BC-4550-85EA-EFAF90BCB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EE6C-478C-42F9-BE57-484098DAE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DDF8-517D-451E-903B-D3604990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C8B8-8F6C-48FE-8CDE-0266C79F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32B9-B7A4-454F-BA91-C8080057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DD23-233D-450A-9012-5BDBE011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31AE-56EB-4E51-A51D-3C428F26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017DB-DDE8-4C1F-941E-48FFB7EC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C1F6-9F68-454A-851D-7594EA5C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CE95-9753-43BB-8711-49D55147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7DAD-659F-4211-8F4D-9A516727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9657-E88F-421D-A8F0-13FA88C1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C5E9B-D6C6-4B37-A09F-F13EACF85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EE0F-8F26-4B17-B3CD-D97257D9A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8A413-E464-43C0-AFB5-17367648B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37682-D494-423C-A5A3-DBBF6C35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F989E-97D2-47B4-8B23-BC4408B7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815EF-6C25-42F2-8822-D4C982B2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4F659-C0D1-4102-91B9-ED1950E2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F589-5928-47F5-96DF-A653A03F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2A5BD-FC45-4CEC-A884-EDAF81D8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FE82F-A839-4DA8-BAF4-B243BE7D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732FB-952E-4F75-8963-04904E7E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BE174-3878-49BF-8613-176D0149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9BF67-514D-4506-8177-9455CB56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2DB86-77FA-42B0-81F3-2AB390769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B0BCD-8890-439E-A666-0748F60AF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635B-EC68-4356-81F4-E4313797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CA9A-C8A1-4891-A6DE-B6A934CC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DA88-A877-44DD-A68B-BCF0F56A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F612-42B4-44C1-A76C-3DF81AB5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19BE-59AB-4936-AC63-E53713D2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CCB7-AD19-452B-985E-2228B560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6EA2-EEA8-4BB9-8C07-BE6B449C78A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40D5-9388-4D0A-99EF-346BC567E6E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BC4E-9251-404F-B6C4-AAA47A8B68E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3"/>
          <a:stretch/>
        </p:blipFill>
        <p:spPr>
          <a:xfrm>
            <a:off x="3693960" y="22536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179280" y="3905280"/>
            <a:ext cx="6193080" cy="24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ИНФОРМАЦИОННА СРЕЩА ПО ПРОЦЕДУ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Arial"/>
              </a:rPr>
              <a:t>BG16RFOP001-2.003 „ЕНЕРГИЙНА ЕФЕКТИВНОСТ В ПЕРИФЕРНИТЕ РАЙОНИ-3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bg-BG" sz="2200" spc="-1" strike="noStrike">
                <a:solidFill>
                  <a:srgbClr val="0070c0"/>
                </a:solidFill>
                <a:latin typeface="Arial"/>
              </a:rPr>
              <a:t>гр. София, </a:t>
            </a:r>
            <a:r>
              <a:rPr b="1" i="1" lang="en-US" sz="2200" spc="-1" strike="noStrike">
                <a:solidFill>
                  <a:srgbClr val="0070c0"/>
                </a:solidFill>
                <a:latin typeface="Arial"/>
              </a:rPr>
              <a:t>28</a:t>
            </a:r>
            <a:r>
              <a:rPr b="1" i="1" lang="bg-BG" sz="2200" spc="-1" strike="noStrike">
                <a:solidFill>
                  <a:srgbClr val="0070c0"/>
                </a:solidFill>
                <a:latin typeface="Arial"/>
              </a:rPr>
              <a:t>.</a:t>
            </a:r>
            <a:r>
              <a:rPr b="1" i="1" lang="en-US" sz="2200" spc="-1" strike="noStrike">
                <a:solidFill>
                  <a:srgbClr val="0070c0"/>
                </a:solidFill>
                <a:latin typeface="Arial"/>
              </a:rPr>
              <a:t>01</a:t>
            </a:r>
            <a:r>
              <a:rPr b="1" i="1" lang="bg-BG" sz="2200" spc="-1" strike="noStrike">
                <a:solidFill>
                  <a:srgbClr val="0070c0"/>
                </a:solidFill>
                <a:latin typeface="Arial"/>
              </a:rPr>
              <a:t>.20</a:t>
            </a:r>
            <a:r>
              <a:rPr b="1" i="1" lang="en-US" sz="2200" spc="-1" strike="noStrike">
                <a:solidFill>
                  <a:srgbClr val="0070c0"/>
                </a:solidFill>
                <a:latin typeface="Arial"/>
              </a:rPr>
              <a:t>20</a:t>
            </a:r>
            <a:r>
              <a:rPr b="1" i="1" lang="bg-BG" sz="2200" spc="-1" strike="noStrike">
                <a:solidFill>
                  <a:srgbClr val="0070c0"/>
                </a:solidFill>
                <a:latin typeface="Arial"/>
              </a:rPr>
              <a:t>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70"/>
          <p:cNvSpPr/>
          <p:nvPr/>
        </p:nvSpPr>
        <p:spPr>
          <a:xfrm>
            <a:off x="395280" y="5229360"/>
            <a:ext cx="597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"/>
          <p:cNvPicPr/>
          <p:nvPr/>
        </p:nvPicPr>
        <p:blipFill>
          <a:blip r:embed="rId4"/>
          <a:stretch/>
        </p:blipFill>
        <p:spPr>
          <a:xfrm>
            <a:off x="7367760" y="222120"/>
            <a:ext cx="1487160" cy="1198800"/>
          </a:xfrm>
          <a:prstGeom prst="rect">
            <a:avLst/>
          </a:prstGeom>
          <a:ln w="0">
            <a:noFill/>
          </a:ln>
        </p:spPr>
      </p:pic>
      <p:sp>
        <p:nvSpPr>
          <p:cNvPr id="139" name="5-Point Star 3"/>
          <p:cNvSpPr/>
          <p:nvPr/>
        </p:nvSpPr>
        <p:spPr>
          <a:xfrm>
            <a:off x="6568920" y="36450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8"/>
                </a:lnTo>
                <a:lnTo>
                  <a:pt x="739765" y="914398"/>
                </a:lnTo>
                <a:lnTo>
                  <a:pt x="457200" y="698535"/>
                </a:lnTo>
                <a:lnTo>
                  <a:pt x="174635" y="914398"/>
                </a:lnTo>
                <a:lnTo>
                  <a:pt x="282568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1332000" y="333360"/>
            <a:ext cx="6335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свързани с достъпна архитектурна сред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Content Placeholder 2"/>
          <p:cNvSpPr/>
          <p:nvPr/>
        </p:nvSpPr>
        <p:spPr>
          <a:xfrm>
            <a:off x="179280" y="1455840"/>
            <a:ext cx="8785440" cy="44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lvl="1" marL="280080" indent="-28008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етапа на кандидатстване се декларира изпълнение на мерки за достъпна среда, но впоследствие при проектирането не се предвиждат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80080" indent="-2800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2060"/>
                </a:solidFill>
                <a:latin typeface="Arial"/>
              </a:rPr>
              <a:t>Мерките за осигуряване на достъпна архитектурна среда следва да се осигурят съгласно действащата нормативна уредба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80080" indent="-28008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В жилищните сгради в зависимост от ситуацията </a:t>
            </a:r>
            <a:r>
              <a:rPr b="1" i="1" lang="ru-RU" sz="1700" spc="-1" strike="noStrike">
                <a:solidFill>
                  <a:srgbClr val="002060"/>
                </a:solidFill>
                <a:latin typeface="Arial"/>
              </a:rPr>
              <a:t>до главния вход на сградат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80080" indent="-28008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При жилищни сгради със съществуващ асансьор </a:t>
            </a:r>
            <a:r>
              <a:rPr b="1" i="1" lang="ru-RU" sz="1700" spc="-1" strike="noStrike">
                <a:solidFill>
                  <a:srgbClr val="002060"/>
                </a:solidFill>
                <a:latin typeface="Arial"/>
              </a:rPr>
              <a:t>до първото етажно ниво на сградата (нивото с асансьор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80080" indent="-28008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В административна/обществена сграда, в зависимост от техническите възможности и проектантското решение, </a:t>
            </a:r>
            <a:r>
              <a:rPr b="1" i="1" lang="ru-RU" sz="1700" spc="-1" strike="noStrike">
                <a:solidFill>
                  <a:srgbClr val="002060"/>
                </a:solidFill>
                <a:latin typeface="Arial"/>
                <a:ea typeface="Times New Roman"/>
              </a:rPr>
              <a:t>в цялата сград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80080" indent="-28008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В случаите на сгради на РПУ, РСПБЗН и гранично управление, </a:t>
            </a:r>
            <a:r>
              <a:rPr b="1" i="1" lang="ru-RU" sz="1700" spc="-1" strike="noStrike">
                <a:solidFill>
                  <a:srgbClr val="002060"/>
                </a:solidFill>
                <a:latin typeface="Arial"/>
                <a:ea typeface="Times New Roman"/>
              </a:rPr>
              <a:t>задължително до нивото, на което се осъществява административното обслужване на граждани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80080" indent="-280080" algn="just">
              <a:spcBef>
                <a:spcPts val="11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0080" indent="-2800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86920" y="404280"/>
            <a:ext cx="633276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в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документите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към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 формуляра за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кандидатстване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8"/>
          <p:cNvSpPr/>
          <p:nvPr/>
        </p:nvSpPr>
        <p:spPr>
          <a:xfrm>
            <a:off x="4500720" y="626904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250560" y="1698480"/>
            <a:ext cx="856908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се прилага обосновка за реалистичност и икономичност на предвидените разходи и липсват доказателствени документи за съответствие на цените с пазарни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да се представи подробна обосновка и разбивка на разходите от отделните пера в бюджетите на ПП, както и доказателствени документи за това как са формирани стойностите на дейности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интервенции в публични сгради се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едставят се декларации за съгласи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роектното предложение от собственика на сград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Декларацията следва да е попълнена от ръководството на съответната институция, </a:t>
            </a:r>
            <a:r>
              <a:rPr b="0" i="1" lang="ru-RU" sz="1800" spc="-1" strike="noStrike" u="sng">
                <a:solidFill>
                  <a:srgbClr val="002060"/>
                </a:solidFill>
                <a:uFillTx/>
                <a:latin typeface="Arial"/>
                <a:ea typeface="Times New Roman"/>
              </a:rPr>
              <a:t>ползвател на сградата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19128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в документите към формуляра 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64880" y="1207800"/>
            <a:ext cx="879948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Доказателствата за подбор на включените в ПП жилищни сгради не дават увереност, че е приложена недискриминационна процедура и критер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2060"/>
                </a:solidFill>
                <a:latin typeface="Arial"/>
              </a:rPr>
              <a:t>Препоръка: </a:t>
            </a:r>
            <a:r>
              <a:rPr b="0" i="1" lang="ru-RU" sz="1700" spc="-1" strike="noStrike">
                <a:solidFill>
                  <a:srgbClr val="002060"/>
                </a:solidFill>
                <a:latin typeface="Arial"/>
              </a:rPr>
              <a:t>Необходимо е да се представи подробна информация, подкрепена с доказателства за: проведената на територията на общината информационна кампания; как са избрани жилищните сгради, включени в обхвата на проектното предложение; утвърдената процедура за подбор и др. релевантни документи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Част от включените в ПП жилищни сгради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а одобрени с предходна информационна кампан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700" spc="-1" strike="noStrike">
                <a:solidFill>
                  <a:srgbClr val="002060"/>
                </a:solidFill>
                <a:latin typeface="Arial"/>
              </a:rPr>
              <a:t>Препоръка:  </a:t>
            </a:r>
            <a:r>
              <a:rPr b="0" i="1" lang="ru-RU" sz="1700" spc="-1" strike="noStrike">
                <a:solidFill>
                  <a:srgbClr val="002060"/>
                </a:solidFill>
                <a:latin typeface="Arial"/>
              </a:rPr>
              <a:t>Допустимо е СС, с подадени заявления за интерес и финансова помощ </a:t>
            </a:r>
            <a:r>
              <a:rPr b="0" i="1" lang="bg-BG" sz="1700" spc="-1" strike="noStrike">
                <a:solidFill>
                  <a:srgbClr val="002060"/>
                </a:solidFill>
                <a:latin typeface="Arial"/>
              </a:rPr>
              <a:t>по предходни процедури </a:t>
            </a:r>
            <a:r>
              <a:rPr b="0" i="1" lang="ru-RU" sz="1700" spc="-1" strike="noStrike">
                <a:solidFill>
                  <a:srgbClr val="002060"/>
                </a:solidFill>
                <a:latin typeface="Arial"/>
              </a:rPr>
              <a:t>да кандидатстват отново, като е необходимо това да бъде удостоверено по подходящ начин (чрез протокол, решение или др.). </a:t>
            </a:r>
            <a:r>
              <a:rPr b="1" i="1" lang="ru-RU" sz="1700" spc="-1" strike="noStrike">
                <a:solidFill>
                  <a:srgbClr val="002060"/>
                </a:solidFill>
                <a:latin typeface="Arial"/>
              </a:rPr>
              <a:t>Следва да се приложи еднакъв подход при подбора и оценка на новоподадените и на валидните от предходната процедура заявления за интерес и финансова помощ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0" descr=""/>
          <p:cNvPicPr/>
          <p:nvPr/>
        </p:nvPicPr>
        <p:blipFill>
          <a:blip r:embed="rId1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" descr=""/>
          <p:cNvPicPr/>
          <p:nvPr/>
        </p:nvPicPr>
        <p:blipFill>
          <a:blip r:embed="rId2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7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4500720" y="626904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19128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в документите към формуляра 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64880" y="1413000"/>
            <a:ext cx="865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и проектни предложения, които включват интервенции в многофамилни жилищни сгради липсва Приложение 3 „Разходи за самостоятелен обект“, при наличие на стопанска дейност или са представени няколко таки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2060"/>
                </a:solidFill>
                <a:latin typeface="Arial"/>
              </a:rPr>
              <a:t>Препоръка: 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Приложение В3 </a:t>
            </a:r>
            <a:r>
              <a:rPr b="0" i="1" lang="bg-BG" sz="1800" spc="-1" strike="noStrike">
                <a:solidFill>
                  <a:srgbClr val="002060"/>
                </a:solidFill>
                <a:latin typeface="Arial"/>
              </a:rPr>
              <a:t>следва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 да се прилага винаги към окончателния вариант на ПП, при наличие на стопанска дейност </a:t>
            </a:r>
            <a:r>
              <a:rPr b="0" i="1" lang="bg-BG" sz="1800" spc="-1" strike="noStrike">
                <a:solidFill>
                  <a:srgbClr val="002060"/>
                </a:solidFill>
                <a:latin typeface="Arial"/>
              </a:rPr>
              <a:t>и/или отдаване под наем и/или извършване на дейност от търговец и/или лице със свободна профес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Приложение В3 следва да се попълва за всеки самостоятелен обект (СО), към който е приложим режим „de minimis“, като е препоръчително отделно попълнените приложения за всеки СО да бъдат обединени в един общ файл (с отделна страница/sheet/ за всеки обек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0" descr=""/>
          <p:cNvPicPr/>
          <p:nvPr/>
        </p:nvPicPr>
        <p:blipFill>
          <a:blip r:embed="rId1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" descr=""/>
          <p:cNvPicPr/>
          <p:nvPr/>
        </p:nvPicPr>
        <p:blipFill>
          <a:blip r:embed="rId2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7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4500720" y="626904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619128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в документите към формуляра 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24000" y="141300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се предоставя информация за обекти със стопанско предназначение, които не се ползват към момента на кандидатстван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Arial"/>
              </a:rPr>
              <a:t>Препоръка: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В случай, че конкретен обект не се използва към момента, но е със стопанско предназначение по принцип, той би следвало да се включи в обхвата на помощта в режим „de minimis“, т.е. следва да се опише в Приложение В3 или средствата за него да се поемат като собствен принос от собствен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0" descr=""/>
          <p:cNvPicPr/>
          <p:nvPr/>
        </p:nvPicPr>
        <p:blipFill>
          <a:blip r:embed="rId1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" descr=""/>
          <p:cNvPicPr/>
          <p:nvPr/>
        </p:nvPicPr>
        <p:blipFill>
          <a:blip r:embed="rId2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7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4500720" y="626904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042920" y="1844640"/>
            <a:ext cx="7274160" cy="31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2060"/>
                </a:solidFill>
                <a:latin typeface="Arial"/>
              </a:rPr>
              <a:t>БЛАГОДАРЯ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2060"/>
                </a:solidFill>
                <a:latin typeface="Arial"/>
              </a:rPr>
              <a:t>ЗА ВНИМАНИЕТ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1332000" y="333360"/>
            <a:ext cx="6335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Често допускани пропуски и грешки при подготовката на проектни предложения по приоритетна ос 2 на ОПРР 2014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ontent Placeholder 2"/>
          <p:cNvSpPr/>
          <p:nvPr/>
        </p:nvSpPr>
        <p:spPr>
          <a:xfrm>
            <a:off x="324000" y="1628640"/>
            <a:ext cx="854712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Слабостите и неточности, които водят до връщане за корекции на подадените проек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  </a:t>
            </a:r>
            <a:r>
              <a:rPr b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5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Грешки при определяне на допустимост на разходите/инвестиции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lnSpc>
                <a:spcPct val="15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Грешки в документи към проектните предло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ontent Placeholder 2"/>
          <p:cNvSpPr/>
          <p:nvPr/>
        </p:nvSpPr>
        <p:spPr>
          <a:xfrm>
            <a:off x="179280" y="1628640"/>
            <a:ext cx="8691840" cy="43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1 „Основни данни“ на формуляра за кандидатстване (ФК) се отбелязва, че данъка върху добавената стойност (ДДС) е недопустим разход по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Когато проектът включва както допустим, така и недопустим разход за ДДС в раздел 1 „Основни данни“ на ФК следва да се отбележи, че ДДС е допустим разх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5 от формуляра за кандидатстване – бюджетно перо се отразява в режим „държавна/минимална помощ“ когато администратор на помощта е общин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Когато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администратор на </a:t>
            </a:r>
            <a:r>
              <a:rPr b="0" i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омощта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е </a:t>
            </a:r>
            <a:r>
              <a:rPr b="0" i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общината, всички разходи в Раздел 5 се записват в редове с описание „фонд: ЕФРР, режим на финансиране: Неприложимо, допустим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ontent Placeholder 2"/>
          <p:cNvSpPr/>
          <p:nvPr/>
        </p:nvSpPr>
        <p:spPr>
          <a:xfrm>
            <a:off x="179280" y="1413000"/>
            <a:ext cx="86918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щата стойност на разходите за СМР от Раздел 5 „Бюджет“,  на ФК не съответства на общата стойност на разходите съгласно представеното КСС към П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Стойността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на </a:t>
            </a:r>
            <a:r>
              <a:rPr b="0" i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разходите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за СМР следва да съответства на стойността на представеното КСС, като в индикативните КСС бъдат добавени и разходите за проектиране и авторски надзор на об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е се спазва изискването в раздел 5 „Бюджет“, разходите за отделните дейности и отделните обекти на интервенция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а се представят като обща су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В раздел 5, разходите се представят като обща сума. Подробното описание и обосновката на видовете разходи следва да бъдат посочени в раздел 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ontent Placeholder 2"/>
          <p:cNvSpPr/>
          <p:nvPr/>
        </p:nvSpPr>
        <p:spPr>
          <a:xfrm>
            <a:off x="150840" y="1343160"/>
            <a:ext cx="869004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5 „Бюджет“ от ФК разходите за дейности, които са допустими, но са собствено финансиране са отразени в бюджетен ред VI. Недопустими разход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</a:t>
            </a:r>
            <a:r>
              <a:rPr b="0" i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Допустимите разходи по НК, следва да бъдат отразени в съответстващите бюджетни редове в колона „Собствен принос“, а не в бюджетен ред VI. Недопустими разход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7. „План за изпълнение/Дейности по проекта“ на ФК стойността на разходите не съответства на заложения разход в 5 „Бюджет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</a:t>
            </a:r>
            <a:r>
              <a:rPr b="0" i="1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Разходите към съответните дейности, така да бъдат представени, че информацията да съответства на заложения разход в бюджета на проекта в раздел 5 „Бюджет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Content Placeholder 2"/>
          <p:cNvSpPr/>
          <p:nvPr/>
        </p:nvSpPr>
        <p:spPr>
          <a:xfrm>
            <a:off x="34920" y="1541520"/>
            <a:ext cx="9109080" cy="44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8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“Индикатори”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екоректно се въвеждат “Базова стойност общо:“, “Целева стойност общо:” и „Източник на информация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!!! З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сички индикатори като базова стойност винаги се въвежда „0“.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</a:t>
            </a:r>
            <a:r>
              <a:rPr b="0" i="1" lang="bg-BG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Ц</a:t>
            </a:r>
            <a:r>
              <a:rPr b="0" i="1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елевите стойности са разликата между актуалното състояние на емисиите СО2 и очакваните емисии след въвеждане на ЕСМ; разликата между актуалния годишен разход на първична енергия и очаквания разход след въвеждане на ЕСМ, съгласно данните от приложения към ПП сертификат за енергийни характеристики на сграда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ПП за многофамилни жилищни сгради некоректно се въвеждат стойностите по отношение на индикатор “Енергийна ефективност: Брой домакинства, преминали в по-горен клас на енергопотребление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Индикатора отчита само обектите </a:t>
            </a:r>
            <a:r>
              <a:rPr b="1" i="1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с жилищно предназначение</a:t>
            </a:r>
            <a:r>
              <a:rPr b="0" i="1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, </a:t>
            </a:r>
            <a:r>
              <a:rPr b="0" i="1" lang="bg-BG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и се</a:t>
            </a:r>
            <a:r>
              <a:rPr b="0" i="1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 измерва с броя на самостоятелните обекти в сградите </a:t>
            </a:r>
            <a:r>
              <a:rPr b="1" i="1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с жилищно предназначение</a:t>
            </a:r>
            <a:r>
              <a:rPr b="0" i="1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, като в него </a:t>
            </a:r>
            <a:r>
              <a:rPr b="0" i="1" lang="ru-RU" sz="1600" spc="-1" strike="noStrike" u="sng">
                <a:solidFill>
                  <a:srgbClr val="002060"/>
                </a:solidFill>
                <a:uFillTx/>
                <a:latin typeface="Arial"/>
                <a:ea typeface="Times New Roman"/>
              </a:rPr>
              <a:t>не се включват самостоятелните обекти със стопанско предназначение</a:t>
            </a:r>
            <a:r>
              <a:rPr b="0" i="1" lang="ru-RU" sz="1600" spc="-1" strike="noStrike">
                <a:solidFill>
                  <a:srgbClr val="002060"/>
                </a:solidFill>
                <a:latin typeface="Arial"/>
                <a:ea typeface="Times New Roman"/>
              </a:rPr>
              <a:t>, които не се ползват за жилищни це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1332000" y="333360"/>
            <a:ext cx="61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о отношение на попълване на формуляр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а </a:t>
            </a: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за кандидатств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Content Placeholder 2"/>
          <p:cNvSpPr/>
          <p:nvPr/>
        </p:nvSpPr>
        <p:spPr>
          <a:xfrm>
            <a:off x="272880" y="1541520"/>
            <a:ext cx="8691840" cy="41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9 „Екип“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липсват разписани изискванията за професионална компетентност и опит в дейности по управлението и/или изпълнението на проек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следва да бъдат описани изискванията за квалификация и опит на всеки член от екипа и да се представят автобиографии, подкрепени с доказателствени докумен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здел 10 „План за външно възлагане“ се описват вече проведени процедури, със сключени договори с изпълнители преди подаване на П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Когато процедурата за избор на изпълнител е проведена и кандидатът има сключен договор с изпълнител, то това следва да се опише в раздел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1332000" y="333360"/>
            <a:ext cx="6335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ри определяне на допустимост на разход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Content Placeholder 2"/>
          <p:cNvSpPr/>
          <p:nvPr/>
        </p:nvSpPr>
        <p:spPr>
          <a:xfrm>
            <a:off x="179280" y="1628640"/>
            <a:ext cx="8691840" cy="45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бюджета на проекта се включват разходи за СМР, за мерки  извън предвидените в енергийното обследване, в случаите когато сградата не постига 60%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енергийни спестявания на първична енер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Когато не се постигат повече от 60% енергийни спестявания, могат да бъдат финансирани с БФП единствено задължителните енергоспестяващи мерки, задължителните мерки, свързани с конструктивното укрепване, мълниезащитната инсталация и мерките за осигуряване на достъпна архитектурна сре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личие на сгради, за които не може да се добие увереност, че отговарят на критериите замногофамилни жилищни сград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Ж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поръка: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В раздел 11, поле „Описание на обектите на интервенция и целевите групи“ следва да се направи описание на сградите, доказващо, че представляват МЖ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"/>
          <p:cNvSpPr/>
          <p:nvPr/>
        </p:nvSpPr>
        <p:spPr>
          <a:xfrm>
            <a:off x="450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1332000" y="333360"/>
            <a:ext cx="6335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Грешки при определяне на допустимост на разход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Content Placeholder 2"/>
          <p:cNvSpPr/>
          <p:nvPr/>
        </p:nvSpPr>
        <p:spPr>
          <a:xfrm>
            <a:off x="468360" y="1628640"/>
            <a:ext cx="828036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личие на обекти, включени в ПП, с местонахождение, извън строителните граници на съответната община – кандид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!!! Дейностите по настоящата процедура следва да се осъществяват </a:t>
            </a:r>
            <a:r>
              <a:rPr b="0" lang="ru-RU" sz="1800" spc="-1" strike="noStrike" u="sng">
                <a:solidFill>
                  <a:srgbClr val="002060"/>
                </a:solidFill>
                <a:uFillTx/>
                <a:latin typeface="Arial"/>
                <a:ea typeface="Times New Roman"/>
              </a:rPr>
              <a:t>в рамките на строителните граници </a:t>
            </a: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на 28-те населени места от четвърто ни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!!! Обект с местонахождение, извън строителните граници на съответната община – кандидат, е недопустим за финансиране с БФП по настоящата процед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NATALI KIRILOVA LAZAROVA</cp:lastModifiedBy>
  <cp:lastPrinted>2018-09-28T12:57:03Z</cp:lastPrinted>
  <dcterms:modified xsi:type="dcterms:W3CDTF">2020-01-30T08:43:29Z</dcterms:modified>
  <cp:revision>1571</cp:revision>
  <dc:subject/>
  <dc:title>Diapositiva 1</dc:title>
</cp:coreProperties>
</file>