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4C0-F1C3-4050-B548-B5FA08BB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105-9BE9-43AB-8F14-AB09600C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AEAB5-3681-4330-9180-95950174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57EEE-64F6-4306-ABBA-650B2537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24FCF-FE75-46E8-8E76-83EEB604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17ABB-2AFB-46F3-83D8-A557C737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FA088-0B33-4D5A-A1D4-CF1AB7DC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C67BF-B4B2-44EB-8F5A-F3155BB9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3368D-2287-42BF-9E16-1AB43168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332B7-381F-4BBD-954D-270C4592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E0B86-251B-4A61-A555-6E64296C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B63A6-CC78-4150-831A-2A521587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38F-5CF6-4166-BDF7-F9A19201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B2CFB-449D-4386-B46C-4C466AF1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CC6D8-29D2-4A54-A36E-6C356E6F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526E1-AB78-4D17-90DC-1D3B89E5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F33EA-B8C8-4493-ADF8-5330991B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DC689-F995-45CC-9588-0F12D129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7754A-E1EF-4D03-B00B-3ACC6588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EBCD0-CA54-4982-B942-D72F0EFC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59509-7D3C-4A8B-827C-EEB1D068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577DB-4AAA-4A99-93E6-6A1C5B3A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64CB7-2B51-4553-A64B-17612ED0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5898-824D-4D36-BDE0-D65301F9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AB973-BB2D-4AAF-AB5C-B7D1C2F8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DA308-BCE3-4A1C-BF3D-5074F56A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1372D-F69B-4414-B929-B8533AA9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E2059-B4C7-4311-87EA-10CF006D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99178-D0F7-4F67-908B-E07D6D8B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65E1C-FC13-4797-9A78-3180DA89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ABD07-88C1-425D-A19E-60028530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63415-F407-4DE6-B05C-A71B5B5B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C7C1A-7895-4E97-A686-5B5C0ACC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C625C-A6A3-4978-A5B6-76974D68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A89F-37C8-456A-A6F6-37910444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8B5E9-C718-4DBB-8F56-4F4217B7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8F67E-1D28-4618-8960-5068F00A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71730-E53C-4B89-991C-D4367A61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1641E-176E-48B1-AE35-B75799A5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A02EB-5431-42E1-98E6-BC4D278F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F1D9C-9602-4305-89F7-3618E6FF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CCC83-4435-4A71-9E11-804AAF35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938BE-A1F0-4AF6-AC7A-677C7A3D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ECCE5-9C9E-49D8-983A-2A31B9E8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666F3-01DC-4484-9399-949E38EA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8E53-DA79-47A5-8A9A-253F2FDA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C007C-EF34-4E2A-8B19-2A81130A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22E92-D045-482C-AD50-CB2AAE9C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FB264-2678-41C8-9C4C-A6E79FF6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D1AD3-FE51-4CA9-8632-0D91C3A4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DEDAD-5316-4400-8BA4-EE48C68A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949E-41FF-4B1A-BEC7-F17ECD4D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074F-CF8D-4D42-AEE2-CAB59A63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E2EC-D1E7-4414-B7BF-35F9243C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E0C6-E523-49BD-8A79-247551D9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07F4-9538-42C0-904F-108E8B54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D8D9-EAB7-4D6D-9999-61ED5851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AED7-8F43-4FB7-A655-4070C81D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E822-EA1E-4D6B-A762-A8C880D2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B9AC-8EEF-480E-82CA-A369F657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8710-FC6E-45B6-AFE8-25DD9D38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FF69-B66E-4D17-A9FF-DF29DC91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ACC1-3D58-4A75-AE21-127CEB8D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B1DF-4A80-4BE5-AB32-58DBE3C5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7CA3-E3F2-4FAC-9720-9F4A1361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29973-DF53-4245-9863-E18D4835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05856-3423-4E92-BD6A-3530533F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925-9B8F-4A53-93C3-70B4A436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E77D-3650-4F92-A257-9470D31B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5DDAB-C626-45D7-AD62-60147B94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3DD43-251E-41B3-820E-B49A74D3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182F-E5BF-4135-9E3E-DF93C518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E7CB-7095-456D-8ED4-8A60B9FE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78A1A-F3B3-4B93-ABD3-A28C6D3F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9B28-19A4-44A9-AAEB-D92EB655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9997-4B11-4289-BACB-C848345D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B2A15-17A5-47FE-B2C3-0BA0FF16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0E450-52B9-4B0C-958F-0AEC5CA6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AE6A-2B2F-4AAD-8233-104F6E6E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2762F-0127-4109-A500-2F83B164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EC0CB-5423-42D9-A2CE-03D6D353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8C2E-37EA-4BFD-A5AB-1C32F392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7A82F-28D6-4FDB-B19E-87D11853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F0069-EC28-4040-92B1-DA47A4D4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448C-26AC-4BB1-93BC-68B793D5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FC39-087E-46FC-AC68-43F6C15A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39AE1-26D3-4DED-8259-537ADB0F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F1C20-FDCE-4C0C-9DB0-59EA973D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A53BF-1BA8-41DE-8EFE-8D6366DE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638-D4BE-4589-9375-6365F33B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2980A-6FA0-438F-B8BF-0C94C7A1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96CB8-AF29-44CF-B39F-2F5186B0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DBC31-9527-4403-B0A8-2DF78417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B3E1F-5003-4315-966B-B14D1741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9F81A-DA53-4BBC-81B0-BB1C8BE2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B7D33-8FC0-4771-AE31-4D8ADE27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A0CF5-76D1-49ED-AC19-05C7AAC6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9022D-5915-4901-9C18-BA8CF6DF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21BFB-6A40-4337-832C-265D9A9B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53751-6F33-4564-B564-D06406B6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8B6-A065-479E-92EF-1D001DA9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A158B-1A39-421B-B3A7-59B9E3F7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A06CA-495A-4C09-8165-7046B86B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D81C1-57EB-444C-91E1-8743B5CE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2112F-512C-48F2-830E-77601EBB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E5B1B-F247-40F4-A094-1C80E3F2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3226F-F4EF-4D38-9078-2D79F638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90C60-CD3B-4F94-95AE-9FADAEE2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1F3CD-6730-4BDA-9F32-2C680A36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A1940-2DF0-4104-AE52-4DB774BF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91112-D49E-4479-B8F4-6DC2822C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8DAC-8A61-45DC-9E34-B5DCF8BC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E9DE9-5BE6-4AAA-A59D-557CFF50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08A94-78B4-4223-8F46-B08260EB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BBAD4-714C-472E-A273-45C32F0B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93E3F-153D-4D1E-8F5A-86F52CDD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A0DE5-23F8-4CC3-9BF9-AA0809F7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EA3F7-43F2-472B-915D-77ED55AE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D3F8F-8FDF-494A-B736-11592C35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82F6F-A557-48A7-886A-8858D23E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8B8A9-E269-4436-9C89-AF90D564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CDBC3-C0DD-4A51-BD10-128409BA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D23C-0E51-4660-9DEF-85972984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E061F-F5C7-486E-9F6F-3A8B250E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EB4CD-99D2-4F30-9F43-C575E55A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1CEA2-CA95-4593-AAF9-F3A98EDE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78E2B-3DA1-4115-B720-B74A85B3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455CF-FAC3-4F97-ADC4-14DFC17C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4A613-E27C-4C23-9E65-6B71E373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927E4-7F26-4D60-AAEB-56FA05AC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1DB1D-CE06-420E-85A2-CA36381E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B6F0B-B8A0-4BAC-A63E-9151BBAED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0CCDC-A7DD-4EF7-BD7B-36CEEDF6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771-FF19-48D3-AF5F-52FC7849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480B1-191B-4031-B240-1DFF307F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3DD74-B160-4112-97D5-413C85F9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EE05A-BB69-4829-BECC-CA820915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39532-35F2-469D-AB89-B352FB97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ED83F-3D19-4D80-86E9-AED19C61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249A4-ED53-410E-80E2-38845ABA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51933-AAE2-401D-B6EF-299C3231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645A3-8817-4F67-916C-BAC942F2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E129F-88ED-4748-8A24-10594F51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05AAE-0DBE-49AC-8B60-5FEF3E5A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6156-510B-49C3-BE50-67ADFFF98A44}" type="slidenum">
              <a:rPr b="0" lang="bg-BG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75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8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19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6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0F55-0A1B-4B0C-88A2-6F3A56C178AA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7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3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19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1E0E-7C3C-4904-8D48-CD960CFB205C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9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8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B7E0-A755-4202-ABD8-056CD38C2A96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B695-8437-44A2-BB76-9DF13ACB0C58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01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5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6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7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1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2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bg-BG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B9A1-E7B7-428D-A486-AD9B219EBFD1}" type="slidenum">
              <a:rPr b="1" lang="bg-BG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Европейска емблема"/>
          <p:cNvPicPr/>
          <p:nvPr/>
        </p:nvPicPr>
        <p:blipFill>
          <a:blip r:embed="rId3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7" name="il_fi" descr="http://ecoline.hit.bg/BG-flag.gif"/>
          <p:cNvPicPr/>
          <p:nvPr/>
        </p:nvPicPr>
        <p:blipFill>
          <a:blip r:embed="rId4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Picture 16" descr=""/>
            <p:cNvPicPr/>
            <p:nvPr/>
          </p:nvPicPr>
          <p:blipFill>
            <a:blip r:embed="rId5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5316-2C40-4CE9-B43D-CBD965D43D9C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A396-88FD-4DC8-A4AC-14C000349AF7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7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19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3B70-C8D2-4764-B509-0ECBB4E8C70F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2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7EC7-C22C-40A8-AA0B-05530C44C4EE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4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7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8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2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42ED-1E9B-4A11-83C7-73582B8B0479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23" name="TextBox 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2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3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3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BF94-4C50-4E5F-B117-4717EB6F51A3}" type="slidenum">
              <a:rPr b="0" lang="bg-BG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85186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ОБУЧЕНИЕ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за разработване и изпълнение на проекти по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Съвместна европейска инициатива за устойчиви инвестиции в градските райони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JESSICA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за представители на 6-те града </a:t>
            </a:r>
            <a:br>
              <a:rPr sz="2800"/>
            </a:br>
            <a:r>
              <a:rPr b="1" i="1" lang="bg-BG" sz="2800" spc="-1" strike="noStrike">
                <a:solidFill>
                  <a:srgbClr val="000000"/>
                </a:solidFill>
                <a:latin typeface="Times New Roman"/>
              </a:rPr>
              <a:t>Бургас, Варна, Русе, Стара Загора, Плевен, Пловдив</a:t>
            </a:r>
            <a:br>
              <a:rPr sz="2800"/>
            </a:br>
            <a:br>
              <a:rPr sz="2800"/>
            </a:br>
            <a:r>
              <a:rPr b="1" i="1" lang="bg-BG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bg-BG" sz="2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bg-BG" sz="2200" spc="-1" strike="noStrike">
                <a:solidFill>
                  <a:srgbClr val="000000"/>
                </a:solidFill>
                <a:latin typeface="Times New Roman"/>
              </a:rPr>
              <a:t> януари 2013 г., гр. София, хотел Сити Авеню</a:t>
            </a:r>
            <a:endParaRPr b="0" lang="en-US" sz="22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0000"/>
                </a:solidFill>
                <a:latin typeface="Times New Roman"/>
              </a:rPr>
              <a:t>ОБЛАГА СПОРЕД НОРМАТ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Times New Roman"/>
              </a:rPr>
              <a:t>Всеки доход в пари или в имущество, включително придобиване на дялове или акци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Times New Roman"/>
              </a:rPr>
              <a:t>предоставяне, прехвърляне или отказ от права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Times New Roman"/>
              </a:rPr>
              <a:t>получаване на привилегия или почести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Times New Roman"/>
              </a:rPr>
              <a:t>получаване на стоки или услуги безплатно или на цени, по-ниски от пазарните;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Times New Roman"/>
              </a:rPr>
              <a:t>получаване на помощ, глас, подкрепа или влияние, предимство;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300" spc="-1" strike="noStrike">
                <a:solidFill>
                  <a:srgbClr val="000000"/>
                </a:solidFill>
                <a:latin typeface="Times New Roman"/>
              </a:rPr>
              <a:t>получаване на или обещание за работа, дар, награда или обещание за избягване на загуба, отговорност, санкция или друго неблагоприятно събитие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9280" y="1341360"/>
            <a:ext cx="793116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420000"/>
                </a:solidFill>
                <a:latin typeface="Times New Roman"/>
              </a:rPr>
              <a:t>СОЦИАЛНО-ПСИХОЛОГИЧЕСКИ АСПЕКТ ЗА КИ</a:t>
            </a:r>
            <a:endParaRPr b="0" lang="en-US" sz="2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200" spc="-1" strike="noStrike">
                <a:solidFill>
                  <a:srgbClr val="000000"/>
                </a:solidFill>
                <a:latin typeface="Times New Roman"/>
              </a:rPr>
              <a:t>Доминиране на личния над публичния интерес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</a:rPr>
              <a:t> – успехът се тълкува като неотменна характеристика на надарени индивиди, а не като функция на групата и общностт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200" spc="-1" strike="noStrike">
                <a:solidFill>
                  <a:srgbClr val="000000"/>
                </a:solidFill>
                <a:latin typeface="Times New Roman"/>
              </a:rPr>
              <a:t>Култура на оцеляване над култура на развитие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</a:rPr>
              <a:t> -  в културата на оцеляване ресурса се възприема като ограничен. Това намалява доверието между хората и способността им да работят заедно. Парите са богатство, което трябва да се трупа и демонстрира, а не капитал, който трябва да се инвестира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200" spc="-1" strike="noStrike">
                <a:solidFill>
                  <a:srgbClr val="000000"/>
                </a:solidFill>
                <a:latin typeface="Times New Roman"/>
              </a:rPr>
              <a:t>Нереформирани традиционни институции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</a:rPr>
              <a:t> – патриархалния морал способства функционирането на тоталните институции. В тях се формира строга вертикална йерархия и тотален контрол, доверието е функция на отношения в първичната група (фамилия, приятели, съседи), удовлетвореността на клиента е за сметка на личната удовлетвореност на служителите (и хората от тяхната мрежа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420000"/>
                </a:solidFill>
                <a:latin typeface="Times New Roman"/>
              </a:rPr>
              <a:t>ИЗБЯГВАНЕ НА К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Модернизиране на институци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Морални норми, а не само административ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Дистрибутивна срещу нормативна е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Образование, обучение, каз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Познаване на Закона за 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0000"/>
                </a:solidFill>
                <a:latin typeface="Times New Roman"/>
              </a:rPr>
              <a:t>ИЗБЯГВАНЕ НА КОНФЛИКТ НА ИНТЕРЕСИ ПРИ РАЗРАБОТВАНЕ НА ПРОЕКТНИ ИДЕ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3789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Иван Иванов – организационен консулт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0000"/>
                </a:solidFill>
                <a:latin typeface="Times New Roman"/>
              </a:rPr>
              <a:t>ЧАСТНИ, ПУБЛИЧНИ И ОБЩЕСТВЕНИ ИНТЕРЕС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Развитието на общностите (социални, професионални) е сбор от удачно управление на трите типа интерес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Създадени са механизми (типове организации, норми, етични стандарти) чрез които типовете интереси си взаимодействат ефектив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20000"/>
                </a:solidFill>
                <a:latin typeface="Times New Roman"/>
              </a:rPr>
              <a:t>СОЦИАЛНАТА СТРАНА НА ИНТЕРЕСА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Работна /първична/ задача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– основанието за наличие на проект, екип, организация, институ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Нормативн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ървична задача е тази, която хората в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организация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трябва да преследват, обикновено според дефиницията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и рамката зададена о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управление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кзистенциалн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ървична задача е тази, която хората вярват че осъществяв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Феноменологичн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ървична задача е тази, в чието осъществяване хората са въвлечени без да си дават сметка за това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20000"/>
                </a:solidFill>
                <a:latin typeface="Times New Roman"/>
              </a:rPr>
              <a:t>“</a:t>
            </a:r>
            <a:r>
              <a:rPr b="0" lang="bg-BG" sz="3200" spc="-1" strike="noStrike">
                <a:solidFill>
                  <a:srgbClr val="420000"/>
                </a:solidFill>
                <a:latin typeface="Times New Roman"/>
              </a:rPr>
              <a:t>КОРУПЦИЯ” НА РАБОТНАТА ЗАДАЧА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4000" y="2421000"/>
            <a:ext cx="8002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bg-BG" sz="2800" spc="-1" strike="noStrike">
                <a:solidFill>
                  <a:srgbClr val="000000"/>
                </a:solidFill>
                <a:latin typeface="Times New Roman"/>
              </a:rPr>
              <a:t>Корупция” на работната задача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– негласна подмяна на типа интереси и работната задача с друга с цел извличане на материална и нематериална изгода. Причина – некомпетентност, неетичност, свръхтревож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bg-BG" sz="2800" spc="-1" strike="noStrike">
                <a:solidFill>
                  <a:srgbClr val="000000"/>
                </a:solidFill>
                <a:latin typeface="Times New Roman"/>
              </a:rPr>
              <a:t>Корупция” на работната роля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 - абдикиране от задълженията и ангажиране с различни от обявените работни интерес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1280" y="1557360"/>
            <a:ext cx="80848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20000"/>
                </a:solidFill>
                <a:latin typeface="Times New Roman"/>
              </a:rPr>
              <a:t>ВИДОВЕ “КОРУПЦИЯ” НА РАБ. ЗАДАЧА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447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Times New Roman"/>
              </a:rPr>
              <a:t>Подмяна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- първичната задача тихомълком е подменена от феноменологична задача, с която екипа/организацията се е ангажирала, без да оповести тов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Times New Roman"/>
              </a:rPr>
              <a:t>Ампутация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- съществени компоненти от първичната задача са пренебрегнати за сметка на свърхангажиране с други компонен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Times New Roman"/>
              </a:rPr>
              <a:t>Симулация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 - системата поддържа привидно ангажиране с първичната задача, тъкмо за да избегне истинско ангажиране. Симулиращите екипи/организации се характеризират с нисък морал, ниска системна енергия, високи нива на политиканстване и конфлик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000000"/>
                </a:solidFill>
                <a:latin typeface="Times New Roman"/>
              </a:rPr>
              <a:t>Мутация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</a:rPr>
              <a:t>– първичната задача на системата е изкривена по тъкъв начин, че застрашава и уврежда актьорите в екипа. За организации с мутирала първична задача е присъща злоупотреба със социална власт, изобилие от клики и конспирации, практикуване на двойни морални стандарти, преживяване за безсмислие или зловредност на работа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420000"/>
                </a:solidFill>
                <a:latin typeface="Times New Roman"/>
              </a:rPr>
              <a:t>НОРМАТИВНАТА СТРАНА НА ИНТЕРЕСА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фликтът на интереси е сложно социално явление, което се проявява в най-различни житейски ситуации.</a:t>
            </a:r>
            <a:r>
              <a:rPr b="0" lang="bg-BG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ради разнородността на причините, многообразието на проявените форми и на последиците от конфликта на интереси, неговото управление налага приемането на общ Закон в България (Норма за регулиране на социални дисфункци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20000"/>
                </a:solidFill>
                <a:latin typeface="Times New Roman"/>
              </a:rPr>
              <a:t>ПРОТИВОСТОЕНЕ НА ПУБЛИЧЕН И ЧАСТЕН ИНТЕРЕС 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000000"/>
                </a:solidFill>
                <a:latin typeface="Times New Roman"/>
              </a:rPr>
              <a:t>Сблъсък, противоречие, несъвместимост или конкуренция между обществени задължения и частен интерес при конкретна личност или свързани с нея лица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Частен интерес: всяка облага от материален или нематериален характер за лице, заемащо публична длъжност, или за свързани с него лица, включително всяко поето задъл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76360" y="1196640"/>
            <a:ext cx="6696000" cy="9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20000"/>
                </a:solidFill>
                <a:latin typeface="Times New Roman"/>
              </a:rPr>
              <a:t>НОРМАТИВНА ДЕФИНИЦИЯ ЗА КОНФЛИКТ НА ИНТЕРЕС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Влиянието и въздействието на частния(те) интерес(и) в процеса на осъществяване на публичната власт се определя като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фликт на интереси (КИ)</a:t>
            </a: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. Следовател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КИ е естествена част на публичното служе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Нормата дава приоритет на публичния пред частния интер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</a:rPr>
              <a:t>При възникване на КИ, целта е той да се решава в обществен интерес</a:t>
            </a:r>
            <a:r>
              <a:rPr b="0" lang="bg-BG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User</cp:lastModifiedBy>
  <dcterms:modified xsi:type="dcterms:W3CDTF">2013-01-02T15:52:10Z</dcterms:modified>
  <cp:revision>27</cp:revision>
  <dc:subject/>
  <dc:title>Слайд 1</dc:title>
</cp:coreProperties>
</file>