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7F03-AD01-471A-ABEA-0EBF2BAA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8D51-F3DA-4EBE-AB92-4AA16A5B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92578-B27B-4554-9945-A2654BA6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2F996-F681-4506-801F-9ECB02D7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9F7DF-E3B1-4A8F-B03F-DD7FEB0F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81A08-1948-4DE2-82A9-442A8968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4A2AC-31DD-497E-A316-CA39B5D1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69379-AC0A-45D8-9FB3-2A30BDC5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9DEC5-5C29-45CA-AAAF-FDABD84C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E2D6C-3183-4E89-90DB-DCBC623F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C1905-5219-479D-91EC-A904E80D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7B67A-8FC6-4061-847A-1731FB0E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E9A-A3B6-45DC-8315-F9DCC07C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16219-DBE1-407E-A084-A823017C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A5E7D-EE29-4CA9-B05E-DA247026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7E06A-5621-494A-AAC5-AD2BF3F9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F90DC-C72F-40A6-A1F2-38D7248B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80FC8-BB6E-4C5F-AC5B-5A4C1E28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5D3F2-13F3-441D-8B40-F329F997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D7216-4C98-48C3-9976-E4DF8D63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3985F-E222-4F3D-9925-D32245DA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4F920-8056-4266-AC9C-07346F43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D6C7C-CEC7-4469-A491-D5945EF5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543-E0A5-4D93-B2C3-2B89D23B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242E3-FD74-441A-B261-64FB84E5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2106D-24FC-4F37-A736-B421DE0F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DA764-76F8-468C-B0C6-A0317FD1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5ADA9-B53D-4D1E-8358-0D78CF01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821A3-DFFD-4570-AE7C-F6A1508A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231C8-5C43-435E-AF3C-7108879C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2FC48-F509-4B47-807B-98C052EB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F2850-AE75-4A84-A63E-78C0CF6F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73C5C-901B-4EA1-976D-6D571535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682EF-79D7-44D2-899C-4F0F9C4E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20C2-A140-4F9B-9553-F3908491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EFD56-CD1E-45EA-8B58-30BC1DA0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04CDB-CCB8-4532-963E-3132C176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DE72B-2691-4C5B-92D9-5E5BE091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1FD41-50BD-4537-A45A-63D7B1F0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9DE13-7975-455E-9C26-0FCBF77B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8B715-5455-4C5B-97CB-0306CBA9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352A7-938C-4094-B266-B36BF2CE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E67B4-AE0E-4DC5-9128-358BE8CE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1A437-1F37-49B0-8CBD-515E02F2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9EE4D-AE85-425E-8F30-CC8B10F6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CDDB-E98B-43A2-BCC4-E333C423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A17F0-9F01-4E46-82F0-342D0206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29792-D41C-4245-A918-79A7DB58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F8AC0-4541-4E38-99DB-C885FC64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DDFF5-D201-419D-872E-607FC9ED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6415E-F5D3-4E71-9D43-02345DFF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57CE-AC5E-4F3F-8824-BE06A3E8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6D84-B11C-401C-B950-109C8B36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A737-C499-43E7-9FD8-71647609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5272-7141-42FF-9786-CEB39BE9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A218-E821-44B1-AEDA-DD0631D1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D246-E93F-465F-A7DF-1BB2902C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F75E-5D10-4CBF-86F3-2FC8F5E0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DCB5-85E9-4FFC-9A1A-2A18697B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58AE-8048-420B-9B06-8B12BF2D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B8B9-8E8D-4C3B-AC65-BAE39ED7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A002-C9D1-4A21-9FAD-D196917F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A1A59-5347-4135-8755-0CA0A410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D5328-5443-46D4-8EF6-F842432D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F5A0F-8B58-40E2-A99B-938C4CFA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A686F-7046-49EC-8E11-097DF405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4E78E-64A9-44D6-A54D-DA59068B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B474-7718-413C-B62E-222B5474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9CDD1-C607-45A3-8195-0DED889F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D882B-6286-44FB-BB8E-74D9C34F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64E32-866B-4257-9645-C56F065E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06BD1-D3D1-489D-BE49-79BCA91D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005C9-FD30-4D3E-AFA0-04F77CF5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9B637-60EC-4BAA-82AA-77622B31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57DEC-37B0-48E7-B3AC-9C67F537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B9124-BD51-48C9-A503-976A97FE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B71C7-490D-4836-A6C8-02003A79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80BB0-CB4C-4D97-BF14-DF5CC4A5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77C4-412E-466E-9C8B-40A231AC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2338A-DA1E-4619-BDCC-C7CEDBE0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8DC5B-1E8F-42FC-8CBB-31C3FAAF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155AE-F372-418E-BC1D-B81220F6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E97A8-0871-403B-8DD7-2DC9A07C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4037E-93A5-44C5-BA8F-ABFF23B2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3F012-42DA-4CE9-B2CF-58A945C5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4F15C-1920-4358-86AD-0CF01A6A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08453-30EB-4678-B406-63BE890C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43880-21C4-4862-B60A-0197B36C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AD0EE-7FF5-4E4B-825E-23EBF2B2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55BC-0E29-4AFD-AC30-305549FD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C801C-2752-4C81-8FFA-060630AE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6EE80-8633-4739-BC5C-321880D4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FD16F-7DED-4D3C-8801-6BC1751A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3E484-8B1F-4F93-901B-7B0AA0CE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F8CBC-E734-442A-AD30-6F86AEEA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27405-425E-4B89-BA26-8D7DB287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CDB5D-02A1-4D76-BC5A-4C847565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A991A-BCDC-46B8-AB4B-7154B1F2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13332-61A5-4CD7-8978-49D1CD27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C5E7B-320B-43E2-A9B4-042BDDEA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9E3-9247-4FAF-882B-E852927A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75439-0673-4EC6-A6C5-DD73B93D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3C0A8-807C-4039-98E0-11342BAD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746E5-F704-4902-BD72-CB34C696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AF8C5-985D-4182-AFE2-84AC0885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2B206-DD36-453D-839F-9F13D874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4BF88-893A-45A5-8B78-B4AFCCBE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211EF-32E5-4692-8E01-0F37958E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9719C-1AF9-4CE4-9CB7-96830ACE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A69D5-A434-404A-83A3-83CDC472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BAD54-44EC-49D4-849F-3920FEEC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71AF-BCB4-49BC-9963-91B070F2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3FA76-0618-4C6A-A6FA-A03DB19C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58EC3-3752-4A0B-B3CA-9D915D58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51C38-BC09-4B62-A42B-59BEC5E0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88655-8736-4E05-A141-F7BE921B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22634-7012-48E7-8A6C-22C6D127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D7927-8FB1-44F0-BEE1-C065FC0B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E4CEF-C3FB-47EB-98CB-635E8E6A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16256-F142-47F2-93AB-CFC3AF4C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B3477-0023-44A8-A927-A29D555D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E2DF5-BE86-40EE-9DA1-58A03DB4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1814-25C0-4331-8194-FB9F7645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68E0B-A52E-4465-891C-A71126DE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B46C8-182A-4930-869A-C2F038DC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2BFDD-553F-456F-BD3C-364D2F9D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6BD43-BAC9-4C05-B605-49575ED2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57E62-4BDC-4B4A-9AED-06259CD4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09FF2-2CC0-46F8-927C-899581C2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58B25-BBCE-4824-AA67-6DEA98F2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68C3E-EAD4-4124-9963-ED693A62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F6FBA-3221-473C-B941-6AA358A1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9FE95-B82E-459B-A85C-1B05CEA8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690B-36DA-44E8-81EC-6884301F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D27D2-11D6-467F-9727-289580A2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C550D-8CB0-443A-BD97-B4AA5FBF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DBEBE-1FA8-460C-B52E-11956F62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79017-0A30-4480-8B3D-A6E10EB3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CBEEA-D9D0-4D18-952D-AB350E67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E076B-C4C5-4E4A-954B-FAF14C09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6CDA8-BEA8-49CF-B1A2-A84987F1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70AF1-C593-4A33-B4E1-77321F08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15127-A05A-48D0-A141-FEB3B863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35723-F25F-41A9-92E0-D2A21A73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5C95-8718-4717-BB69-F5C766B1FB52}" type="slidenum">
              <a:rPr b="0" lang="bg-BG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75" name="TextBox 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7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8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2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3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8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5" name="Picture 19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6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0A5C-4685-43EE-BCFE-D87216387E51}" type="slidenum">
              <a:rPr b="0" lang="bg-BG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27" name="TextBox 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7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8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3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2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3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3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7" name="Picture 19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BA6D-C37D-41E9-BD9F-7CC52E0FBAA2}" type="slidenum">
              <a:rPr b="0" lang="bg-BG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9" name="TextBox 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7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8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8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2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3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C529-E145-43C8-A988-9C8FE5F0C698}" type="slidenum">
              <a:rPr b="0" lang="bg-BG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6298-8C58-4D6A-AA9C-006469E4E2EC}" type="slidenum">
              <a:rPr b="0" lang="bg-BG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01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5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6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7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1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1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2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bg-BG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8BD5-3920-463A-90BD-DE51E3C4BB7A}" type="slidenum">
              <a:rPr b="1" lang="bg-BG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http://www.bgregio.eu/FCKeditor/UserFiles/File/OPRR_bg.JPG"/>
          <p:cNvPicPr/>
          <p:nvPr/>
        </p:nvPicPr>
        <p:blipFill>
          <a:blip r:embed="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Европейска емблема"/>
          <p:cNvPicPr/>
          <p:nvPr/>
        </p:nvPicPr>
        <p:blipFill>
          <a:blip r:embed="rId3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67" name="il_fi" descr="http://ecoline.hit.bg/BG-flag.gif"/>
          <p:cNvPicPr/>
          <p:nvPr/>
        </p:nvPicPr>
        <p:blipFill>
          <a:blip r:embed="rId4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3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7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Picture 16" descr=""/>
            <p:cNvPicPr/>
            <p:nvPr/>
          </p:nvPicPr>
          <p:blipFill>
            <a:blip r:embed="rId5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6943-99B8-4C7A-8E71-FE130C75154C}" type="slidenum">
              <a:rPr b="0" lang="bg-BG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15" name="TextBox 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2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2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37E1-BFAF-40FD-9C8E-05D8E49EFC16}" type="slidenum">
              <a:rPr b="0" lang="bg-BG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8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7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2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3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7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19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657B-F8CA-4C61-B2DC-0942BF2D068B}" type="slidenum">
              <a:rPr b="0" lang="bg-BG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8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2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2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3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F9AF-D781-439D-A332-2A9F7E931DE3}" type="slidenum">
              <a:rPr b="0" lang="bg-BG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71" name="TextBox 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7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8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7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2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8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2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748D-B2BB-4058-9621-CCA51F64D583}" type="slidenum">
              <a:rPr b="0" lang="bg-BG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23" name="TextBox 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8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2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2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3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3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4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C409-A212-4F48-8D61-1BCC147B7327}" type="slidenum">
              <a:rPr b="0" lang="bg-BG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51868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Times New Roman"/>
              </a:rPr>
              <a:t>ОБУЧЕНИЕ</a:t>
            </a:r>
            <a:br>
              <a:rPr sz="2800"/>
            </a:br>
            <a:r>
              <a:rPr b="1" i="1" lang="bg-BG" sz="2800" spc="-1" strike="noStrike">
                <a:solidFill>
                  <a:srgbClr val="000000"/>
                </a:solidFill>
                <a:latin typeface="Times New Roman"/>
              </a:rPr>
              <a:t>за разработване и изпълнение на проекти п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bg-BG" sz="2800" spc="-1" strike="noStrike">
                <a:solidFill>
                  <a:srgbClr val="000000"/>
                </a:solidFill>
                <a:latin typeface="Times New Roman"/>
              </a:rPr>
              <a:t>Съвместна европейска инициатива за устойчиви инвестиции в градските райони </a:t>
            </a:r>
            <a:br>
              <a:rPr sz="2800"/>
            </a:br>
            <a:r>
              <a:rPr b="1" i="1" lang="bg-BG" sz="2800" spc="-1" strike="noStrike">
                <a:solidFill>
                  <a:srgbClr val="000000"/>
                </a:solidFill>
                <a:latin typeface="Times New Roman"/>
              </a:rPr>
              <a:t>JESSICA</a:t>
            </a:r>
            <a:br>
              <a:rPr sz="2800"/>
            </a:br>
            <a:r>
              <a:rPr b="1" i="1" lang="bg-BG" sz="2800" spc="-1" strike="noStrike">
                <a:solidFill>
                  <a:srgbClr val="000000"/>
                </a:solidFill>
                <a:latin typeface="Times New Roman"/>
              </a:rPr>
              <a:t>за представители на 6-те града </a:t>
            </a:r>
            <a:br>
              <a:rPr sz="2800"/>
            </a:br>
            <a:r>
              <a:rPr b="1" i="1" lang="bg-BG" sz="2800" spc="-1" strike="noStrike">
                <a:solidFill>
                  <a:srgbClr val="000000"/>
                </a:solidFill>
                <a:latin typeface="Times New Roman"/>
              </a:rPr>
              <a:t>Бургас, Варна, Русе, Стара Загора, Плевен, Пловдив</a:t>
            </a:r>
            <a:br>
              <a:rPr sz="2800"/>
            </a:br>
            <a:br>
              <a:rPr sz="2800"/>
            </a:br>
            <a:r>
              <a:rPr b="1" i="1" lang="bg-BG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bg-BG" sz="22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bg-BG" sz="2200" spc="-1" strike="noStrike">
                <a:solidFill>
                  <a:srgbClr val="000000"/>
                </a:solidFill>
                <a:latin typeface="Times New Roman"/>
              </a:rPr>
              <a:t> януари 2013 г., гр. София, хотел Сити Авеню</a:t>
            </a:r>
            <a:endParaRPr b="0" lang="en-US" sz="22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420000"/>
                </a:solidFill>
                <a:latin typeface="Times New Roman"/>
              </a:rPr>
              <a:t>ОБЛАГА СПОРЕД НОРМАТ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4216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Times New Roman"/>
              </a:rPr>
              <a:t>Всеки доход в пари или в имущество, включително придобиване на дялове или акции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Times New Roman"/>
              </a:rPr>
              <a:t>предоставяне, прехвърляне или отказ от права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Times New Roman"/>
              </a:rPr>
              <a:t>получаване на привилегия или почести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Times New Roman"/>
              </a:rPr>
              <a:t>получаване на стоки или услуги безплатно или на цени, по-ниски от пазарните;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Times New Roman"/>
              </a:rPr>
              <a:t>получаване на помощ, глас, подкрепа или влияние, предимство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Times New Roman"/>
              </a:rPr>
              <a:t>получаване на или обещание за работа, дар, награда или обещание за избягване на загуба, отговорност, санкция или друго неблагоприятно събитие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9280" y="1341360"/>
            <a:ext cx="793116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420000"/>
                </a:solidFill>
                <a:latin typeface="Times New Roman"/>
              </a:rPr>
              <a:t>СОЦИАЛНО-ПСИХОЛОГИЧЕСКИ АСПЕКТ ЗА КИ</a:t>
            </a:r>
            <a:endParaRPr b="0" lang="en-US" sz="2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200" spc="-1" strike="noStrike">
                <a:solidFill>
                  <a:srgbClr val="000000"/>
                </a:solidFill>
                <a:latin typeface="Times New Roman"/>
              </a:rPr>
              <a:t>Доминиране на личния над публичния интерес</a:t>
            </a:r>
            <a:r>
              <a:rPr b="0" lang="bg-BG" sz="2200" spc="-1" strike="noStrike">
                <a:solidFill>
                  <a:srgbClr val="000000"/>
                </a:solidFill>
                <a:latin typeface="Times New Roman"/>
              </a:rPr>
              <a:t> – успехът се тълкува като неотменна характеристика на надарени индивиди, а не като функция на групата и общността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200" spc="-1" strike="noStrike">
                <a:solidFill>
                  <a:srgbClr val="000000"/>
                </a:solidFill>
                <a:latin typeface="Times New Roman"/>
              </a:rPr>
              <a:t>Култура на оцеляване над култура на развитие</a:t>
            </a:r>
            <a:r>
              <a:rPr b="0" lang="bg-BG" sz="2200" spc="-1" strike="noStrike">
                <a:solidFill>
                  <a:srgbClr val="000000"/>
                </a:solidFill>
                <a:latin typeface="Times New Roman"/>
              </a:rPr>
              <a:t> -  в културата на оцеляване ресурса се възприема като ограничен. Това намалява доверието между хората и способността им да работят заедно. Парите са богатство, което трябва да се трупа и демонстрира, а не капитал, който трябва да се инвестира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200" spc="-1" strike="noStrike">
                <a:solidFill>
                  <a:srgbClr val="000000"/>
                </a:solidFill>
                <a:latin typeface="Times New Roman"/>
              </a:rPr>
              <a:t>Нереформирани традиционни институции</a:t>
            </a:r>
            <a:r>
              <a:rPr b="0" lang="bg-BG" sz="2200" spc="-1" strike="noStrike">
                <a:solidFill>
                  <a:srgbClr val="000000"/>
                </a:solidFill>
                <a:latin typeface="Times New Roman"/>
              </a:rPr>
              <a:t> – патриархалния морал способства функционирането на тоталните институции. В тях се формира строга вертикална йерархия и тотален контрол, доверието е функция на отношения в първичната група (фамилия, приятели, съседи), удовлетвореността на клиента е за сметка на личната удовлетвореност на служителите (и хората от тяхната мрежа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420000"/>
                </a:solidFill>
                <a:latin typeface="Times New Roman"/>
              </a:rPr>
              <a:t>ИЗБЯГВАНЕ НА К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Модернизиране на институции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Морални норми, а не само административ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Дистрибутивна срещу нормативна е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Образование, обучение, казу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Познаване на Закона за 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420000"/>
                </a:solidFill>
                <a:latin typeface="Times New Roman"/>
              </a:rPr>
              <a:t>ИЗБЯГВАНЕ НА КОНФЛИКТ НА ИНТЕРЕСИ ПРИ РАЗРАБОТВАНЕ НА ПРОЕКТНИ ИДЕ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3789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Иван Иванов – организационен консулта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420000"/>
                </a:solidFill>
                <a:latin typeface="Times New Roman"/>
              </a:rPr>
              <a:t>ЧАСТНИ, ПУБЛИЧНИ И ОБЩЕСТВЕНИ ИНТЕРЕС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Развитието на общностите (социални, професионални) е сбор от удачно управление на трите типа интерес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Създадени са механизми (типове организации, норми, етични стандарти) чрез които типовете интереси си взаимодействат ефективн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420000"/>
                </a:solidFill>
                <a:latin typeface="Times New Roman"/>
              </a:rPr>
              <a:t>СОЦИАЛНАТА СТРАНА НА ИНТЕРЕСА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Работна /първична/ задача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– основанието за наличие на проект, екип, организация, институ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Нормативн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ървична задача е тази, която хората в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организация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трябва да преследват, обикновено според дефиницията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и рамката зададена о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правление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Екзистенциалн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ървична задача е тази, която хората вярват че осъществяв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Феноменологичн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ървична задача е тази, в чието осъществяване хората са въвлечени без да си дават сметка за това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420000"/>
                </a:solidFill>
                <a:latin typeface="Times New Roman"/>
              </a:rPr>
              <a:t>“</a:t>
            </a:r>
            <a:r>
              <a:rPr b="0" lang="bg-BG" sz="3200" spc="-1" strike="noStrike">
                <a:solidFill>
                  <a:srgbClr val="420000"/>
                </a:solidFill>
                <a:latin typeface="Times New Roman"/>
              </a:rPr>
              <a:t>КОРУПЦИЯ” НА РАБОТНАТА ЗАДАЧА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4000" y="2421000"/>
            <a:ext cx="8002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bg-BG" sz="2800" spc="-1" strike="noStrike">
                <a:solidFill>
                  <a:srgbClr val="000000"/>
                </a:solidFill>
                <a:latin typeface="Times New Roman"/>
              </a:rPr>
              <a:t>Корупция” на работната задача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 – негласна подмяна на типа интереси и работната задача с друга с цел извличане на материална и нематериална изгода. Причина – некомпетентност, неетичност, свръхтревож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bg-BG" sz="2800" spc="-1" strike="noStrike">
                <a:solidFill>
                  <a:srgbClr val="000000"/>
                </a:solidFill>
                <a:latin typeface="Times New Roman"/>
              </a:rPr>
              <a:t>Корупция” на работната роля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  - абдикиране от задълженията и ангажиране с различни от обявените работни интерес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80848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420000"/>
                </a:solidFill>
                <a:latin typeface="Times New Roman"/>
              </a:rPr>
              <a:t>ВИДОВЕ “КОРУПЦИЯ” НА РАБ. ЗАДАЧА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447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Times New Roman"/>
              </a:rPr>
              <a:t>Подмяна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 - първичната задача тихомълком е подменена от феноменологична задача, с която екипа/организацията се е ангажирала, без да оповести тов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Times New Roman"/>
              </a:rPr>
              <a:t>Ампутация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 - съществени компоненти от първичната задача са пренебрегнати за сметка на свърхангажиране с други компонент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Times New Roman"/>
              </a:rPr>
              <a:t>Симулация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 - системата поддържа привидно ангажиране с първичната задача, тъкмо за да избегне истинско ангажиране. Симулиращите екипи/организации се характеризират с нисък морал, ниска системна енергия, високи нива на политиканстване и конфликт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Times New Roman"/>
              </a:rPr>
              <a:t>Мутация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– първичната задача на системата е изкривена по тъкъв начин, че застрашава и уврежда актьорите в екипа. За организации с мутирала първична задача е присъща злоупотреба със социална власт, изобилие от клики и конспирации, практикуване на двойни морални стандарти, преживяване за безсмислие или зловредност на работа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420000"/>
                </a:solidFill>
                <a:latin typeface="Times New Roman"/>
              </a:rPr>
              <a:t>НОРМАТИВНАТА СТРАНА НА ИНТЕРЕСА</a:t>
            </a:r>
            <a:endParaRPr b="0" lang="en-US" sz="3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фликтът на интереси е сложно социално явление, което се проявява в най-различни житейски ситуации.</a:t>
            </a:r>
            <a:r>
              <a:rPr b="0" lang="bg-BG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ради разнородността на причините, многообразието на проявените форми и на последиците от конфликта на интереси, неговото управление налага приемането на общ Закон в България (Норма за регулиране на социални дисфункци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20000"/>
                </a:solidFill>
                <a:latin typeface="Times New Roman"/>
              </a:rPr>
              <a:t>ПРОТИВОСТОЕНЕ НА ПУБЛИЧЕН И ЧАСТЕН ИНТЕРЕС 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Times New Roman"/>
              </a:rPr>
              <a:t>Сблъсък, противоречие, несъвместимост или конкуренция между обществени задължения и частен интерес при конкретна личност или свързани с нея лица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Частен интерес: всяка облага от материален или нематериален характер за лице, заемащо публична длъжност, или за свързани с него лица, включително всяко поето задъл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76360" y="1196640"/>
            <a:ext cx="6696000" cy="92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420000"/>
                </a:solidFill>
                <a:latin typeface="Times New Roman"/>
              </a:rPr>
              <a:t>НОРМАТИВНА ДЕФИНИЦИЯ ЗА КОНФЛИКТ НА ИНТЕРЕС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Влиянието и въздействието на частния(те) интерес(и) в процеса на осъществяване на публичната власт се определя като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нфликт на интереси (КИ)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. Следователн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КИ е естествена част на публичното служе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Нормата дава приоритет на публичния пред частния интере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При възникване на КИ, целта е той да се решава в обществен интерес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User</cp:lastModifiedBy>
  <dcterms:modified xsi:type="dcterms:W3CDTF">2013-01-02T15:52:10Z</dcterms:modified>
  <cp:revision>27</cp:revision>
  <dc:subject/>
  <dc:title>Слайд 1</dc:title>
</cp:coreProperties>
</file>