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B04C5-5189-4476-BC4A-9BCCBE2C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61C2A-77FE-4E57-9BA1-D45C73D8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EB27B-4C5D-4388-8527-57917E12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A4908-B490-4514-8E60-E350D100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6354A-EAAC-4CA2-9951-514ECF59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E4763-4515-4A39-A6C5-99DEF616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BA470-E564-41E1-8B5F-61EBB723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F78F5-4B8D-4D25-AC7D-8A6D0C8AE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56D59-3F95-4288-BD63-14C5D25A3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CE866B-40B2-4B87-B67D-F2ACE13F7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6290C-D491-44A7-81BF-B581619D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59374F-CC92-4493-8667-89035D5D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B0AAD-EB1E-4F00-9496-C080C119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4CD853-AF7E-4C86-B15F-F3632D50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0D8668-0285-483E-A8D9-68D3E974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51ED92-34BC-4161-810B-CF5B464C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121F5B-B648-4BCA-A944-C01C6449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70F42C-1A95-44B8-A2C1-C57ACD54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E8755-9113-495C-B3E9-34243936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401B08-9367-4E1C-9549-708147FC9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5F17E7-2A85-4E84-B0D7-14F6D80A2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F53387-C7D8-4399-B08A-2B96570E8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51C70C-483D-4FFD-BE9E-FDB4E468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CF9043-4179-468B-A807-2A928E68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18ADA3-8612-4250-9FA1-37E7BC51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8FD3AF-7910-4154-A0D7-3F86467B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20A72C-8B80-40BF-9EA2-5F9B4974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2057B3-3470-45D8-8E89-E1B4B07A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291EE6-DFF4-4118-93DB-DDCEBCE6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8461F2-0179-4550-A251-BCD744B7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153E-C180-4CB9-B055-6F446FE87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41A111-961B-4A97-B170-A70EE0AA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A5EFD3-788F-44A2-B332-AA733C55C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133582-3E76-4824-A788-4C1ED0E6A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B41BAF-2A04-4171-87DF-20739F924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A0E13-5386-4D22-88A8-B794EA6C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5E19F-EA32-43A0-961B-A8917199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B74A37-2F29-4890-9DC1-F0AAEF69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74E1D-77B5-4B98-AA4A-51AFC665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230AA4-E7BF-4847-9945-BA360224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2B2EC-245E-4E19-A6E9-609D4388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BE4B-737D-43B3-AD9E-9665A5B3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09CDF-F6CA-4C2E-99C6-52940DCC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C30A2-AECF-4E95-9C60-CD409904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36CD1-B678-4F56-B761-C59FD2EB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A91436-6A0A-4620-933D-24C8ACE28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DDE78-2F68-4EE1-84DD-1575238EE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A77D-668F-4B90-91A1-3170AAAA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DF4A-CB64-4C67-BDD5-D1C1655C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42F8-D1A3-4372-ADDC-43ABC34E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C3B2-4D4A-45B5-8966-209C0C77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FA68-C954-40C9-B7C3-AA133377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7EEF-8EAF-464F-AD73-3FEEA9F9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B2CE-4A37-4672-A491-DC3EB7D5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8F2E-E27C-484F-B8AF-AA9B82A6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AC60-4D94-4F3E-A8A3-BA69DC3CD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95EA-F5DC-4E07-A0F4-CADAE7F4C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2A66-DF0E-4144-92CA-B199503A3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0962-0BB1-4128-B6F0-198DBE8F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E08C-9805-4236-BEA2-55ADE25F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0DFA-41DF-4D7E-88E3-690149B4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18DA-6B54-4759-B610-4D5EDDCF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5AF6-D179-4974-B743-75083FAE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18E0-1ADD-49BF-80E4-DCD2ED5F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9F5A-862E-445E-A174-DBB18C45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A02D-54DC-4448-A6FD-9AEB5E4E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EE62-69FC-442D-B740-B42A9291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95339-4E13-4F53-A41D-B246A5A3E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8173-C00C-4163-AF20-55F0DC2A0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8E542-FB60-4884-BAC1-1DCB88D36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53E9E-38B0-416C-BDA6-AFF56646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ED6C7-AEB6-4864-AE64-D1BC123B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CB24D-AB37-43A7-BD6A-2E4E42CD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B1EC6-F991-44E3-8F63-C2258C4D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B8AE5-D098-493C-929B-5A65D258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D036A-8DA9-4E0A-8B7B-4FDBEE4D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99982-242E-476D-AEB7-BBF80F0D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094D7-4778-4D71-86E0-8BC00422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4BCF9-093F-4FD2-9BE7-1BE52A7F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F1816-4360-4EFA-9BC1-4890A449A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7DEF1-33CB-4EE5-BFB9-1AC260835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187CD-61F6-4206-B90E-81687E321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C61D4-CEC8-4EA6-9E7F-A50E5BF6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0D810-6888-4092-8E7A-0979E8C3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8CD11-DC66-4FD3-85C6-196FA56D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A53A2-93D5-4981-8C5F-18568392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DB0B3-8227-48A3-AEC9-715DEC81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F0B05-BA13-4E05-8EB1-17E3BA66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6E25B-806B-47D0-B816-6AA693D5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6CF94-9944-46C3-944F-304CA515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AFBC6-E3E7-43B6-8937-23241EB3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F86FA-8B3A-4B81-801F-A99AF5845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C7C59-E53F-413B-948A-84D538912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0449D-555E-4176-913E-88E2881E6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3C50F-F0B3-4575-AFF6-BFDF1F01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9B8C8-3D7B-447E-A78F-3CD081B8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5DBFD-8F1B-4B4F-B5C2-E0774CCC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D399D-5DBF-46E3-9346-A81F1FD4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A9B02-C009-419A-90B7-06E42121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BEB3B-0FA7-4B66-92F2-7239F76C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7ED23-85F9-4977-9719-39252A9F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2D7E5-6A77-4226-91D8-00E35E2E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119D3-7AEE-428B-A774-3C7DBEAD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E0B36-0AD6-4448-B2E7-94FBD3B52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C5AF1-0BD7-4577-AC9A-40DDEB214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12A4A-F479-4B9F-8376-9F9CDED73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F4B39-CC32-481A-B047-DF5E61EF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2CD5C-1A8C-44D2-97A4-A221AF08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B6292-85BB-47E8-8000-EA3202B6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2E380-938D-4677-9122-9B872A0F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975B1-383F-403F-91D7-EBF36252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40145-3271-42BA-BD66-00DCFF2C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3CA55-95A7-48B6-BC5B-F62EDF1C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EE96A-1784-482F-9730-6C4B4C65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D4FEA-295E-4FF2-9FB6-A9B995C9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D9FDE-759A-4BBA-8764-06DCAA1AA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FBE1B-FD1F-4DD0-BD31-91362D371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2E6FC-98DB-4166-B294-75F564DB4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DC955-C9E7-46A7-AB82-11FA5937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CBDCA-DF2A-4EFE-9B52-463B275C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FB59D-1B06-4E00-A8ED-BE300BC8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0B159-166C-42F6-9F1A-EB513109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634BC-453B-4E23-B317-6A32D363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B6C26-85C3-4516-AFDF-AD5FEB16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7FEA1-421F-4E49-831B-77705D4A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FFCF0-02BD-4341-8210-067F69A8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DEBF5-6349-46F3-B808-A3EB4793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DBE2D-C384-4CA4-A07B-8AE7C68C1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723C3-2422-43E5-810C-346906F70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49024-6DA8-41A0-A513-E74E7A91C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57AE1-2835-46EB-945E-81C8D4A7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89254-736C-479D-9A4F-D9BC5F0F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bgregio.eu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4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Европейска емблема"/>
          <p:cNvPicPr/>
          <p:nvPr/>
        </p:nvPicPr>
        <p:blipFill>
          <a:blip r:embed="rId5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6" name="il_fi" descr="http://ecoline.hit.bg/BG-flag.gif"/>
          <p:cNvPicPr/>
          <p:nvPr/>
        </p:nvPicPr>
        <p:blipFill>
          <a:blip r:embed="rId6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1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" name="Picture 16" descr=""/>
            <p:cNvPicPr/>
            <p:nvPr/>
          </p:nvPicPr>
          <p:blipFill>
            <a:blip r:embed="rId7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469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473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47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9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C54E-9054-4333-823F-9D3D6CF45515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2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2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3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51FC-03EF-4803-973A-FFD96473591B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73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77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82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3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4A08-36D1-4D83-815A-774E87B87A1D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6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E927-F7C8-43CF-B90C-40770CB3AF11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09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0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14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F149-3A03-4D32-9EF0-115665DB6FEF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61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66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544B-34D0-4C93-802F-9EE12CD6871B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09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13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1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3B3F-FA2F-4BEA-8117-3090B82EA44E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6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7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6A0D-52B8-4A39-97DD-FA4481F6E4F7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317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322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BC93-5CDE-4237-AE9A-EC9103F0F06A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365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369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0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374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D811-2C4A-4BC4-8D22-E1338FCC49F1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417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421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426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7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4ADE-D2B3-4104-9571-7DFA5101CA00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Times New Roman"/>
              </a:rPr>
              <a:t>Обществени поръч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137160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1f497d"/>
                </a:solidFill>
                <a:latin typeface="Times New Roman"/>
              </a:rPr>
              <a:t>Нередности. Манипулации. Финансови корек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1f497d"/>
                </a:solidFill>
                <a:latin typeface="Times New Roman"/>
              </a:rPr>
              <a:t>Често срещани грешки по ОПР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95280" y="15652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о срещани грешки по ОПР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94920" y="2637000"/>
            <a:ext cx="82090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шки в използвани КСС, които не се установени при стартиране на процедура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шо планиране на  срокове за провеждане на ОП – ефект върху планираните дейности по проек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ане на неясни, противоречиви и субективни услов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са на пропорционалност между поставените изисквания и предмета и обема на поръчка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 за вниманиет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Октомвр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0" i="1" lang="bg-BG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2012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95280" y="12682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атации на АО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94920" y="2133360"/>
            <a:ext cx="820908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влението препраща към документация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вление – посочват се документи, без изисква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ки между обявление и документац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аване на дела на подизпълнителит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очване на дни, в които документация не може да се купув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а – обстоятелствата по чл. 47, ал.2 да се преценяват в хода на процедура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искване за изпълнени 50 договор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ползване на показатели за оценка, които нямат отношение към предмета на поръчка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95280" y="12682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на КЗК от 2010г. </a:t>
            </a:r>
            <a:br>
              <a:rPr sz="2800"/>
            </a:br>
            <a:r>
              <a:rPr b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ъмнения за тръжни манипул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94920" y="2205000"/>
            <a:ext cx="820908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ък брой оферти, необичайни кандида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 закупени документации – малко офер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оден външен вид на офер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атиране на идентични грешк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ови офер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одн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големи разлик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ипично поведение на обичайни участниц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на явно несъответствие с изискванията на Възложител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95280" y="1636200"/>
            <a:ext cx="8229600" cy="10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ъмнения за тръжни манипул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94920" y="2637000"/>
            <a:ext cx="820908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ни кандидати с общ консултант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за цени на конкурент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на взаимоотношения между участници в ОП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пълнителят наема друг участник като подизпълните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яване на закономерности при участие на едни и същи кандидати в сходни процедури – ротация, фиктивно участие, съгласувани офер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95280" y="1636200"/>
            <a:ext cx="8229600" cy="10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Ф/ИА “ОСЕС” – индикатори за нередности и изм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94920" y="2420640"/>
            <a:ext cx="820908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я между служители в администрация на Възложител и Изпълните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воризиране на изпълните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пълнение на дейности при високи цени и ниско качеств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ъглашателство между кандидати – ротационен/географски принци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йно завишени цени, последващо пренаеман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но изчислени разлики в офер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95280" y="14922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катори за неред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94920" y="2349360"/>
            <a:ext cx="820908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на фиктивни кандидати – липсва информация за тяхната дейност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в договор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 конкретни или много общи специфика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дени жалб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ършване на покупки от единствен източник в размер непосредствено под праговет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95280" y="1636200"/>
            <a:ext cx="8229600" cy="10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ови корекции – ПМС № 134/2010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94920" y="2492280"/>
            <a:ext cx="82090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агане на диференциален и пропорционален метод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о и изключе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 на финансовата корекц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% законосъобразност на разход, съфинансиран от СКФ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ъщото време – има характер на санкция във връзка с нарушаването на конкуренцият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95280" y="14922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ови корекции -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94920" y="2349360"/>
            <a:ext cx="820908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аване на процедурите за обявяване – 100 – 25%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ъзлагане на договор без конкуренция и без да е налице спешност/форс мажор – 100%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аване на правилата за сключване на допълнителни договори – 100% от размера на непозволеното надвишен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очване на всички критерии за подбор/възлагане или залагане/прилагане на неправомерни критерии – 25 – 10 – 5%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ъчна/дискриминационна дефиниция на предмета на договора – 25 – 10 – 5%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95280" y="12682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ови корекции - 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394920" y="2349360"/>
            <a:ext cx="820908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егламентирани преговори по време на процедурата – 25 – 10 – 5%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аляване на обхвата на договора – 2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авилно прилагане на спомагателни елементи (напр. обявление за сключен договор) – 2-5-10%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формални нарушения – не се налага финансова корекц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4:32:57Z</dcterms:created>
  <dc:creator>maria.mihovska</dc:creator>
  <dc:description/>
  <dc:language>en-US</dc:language>
  <cp:lastModifiedBy>Militsa</cp:lastModifiedBy>
  <dcterms:modified xsi:type="dcterms:W3CDTF">2012-11-13T10:49:18Z</dcterms:modified>
  <cp:revision>132</cp:revision>
  <dc:subject/>
  <dc:title>Слайд 1</dc:title>
</cp:coreProperties>
</file>