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85C8B-0F24-4ED5-852A-7288E7CB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E76BB-AAE8-49F5-9CAE-62476546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405BE-E17B-4AF6-BCE8-657DA4AE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41F8A-7554-4481-9781-9354CBB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689D0-E8F3-4847-9F14-F2CA887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F5650-1004-480D-974B-96C0B2B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B900D-A0E0-4E53-A5D0-BCA79AEC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D566D-6A6A-4AA9-B79F-AC343B07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68958-D30B-411C-A6E6-330409D9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F7CE0-DB00-4B0C-852B-CE238DB5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7C16D-A826-472E-B889-50B7CD43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BA640-8066-4314-8E0B-33E8CF27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A231E-EED4-4E67-957C-80C4472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FE4DE-52CE-4D25-ABA0-CA83CB51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99695-0EC9-485F-83B3-B7BF69BD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3568D-4781-4103-958A-46E7C73A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9824E-7275-47A4-96F6-26A412D1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9C9C7-B19F-4D25-B730-FAF604E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43FAE-81D4-429B-B742-5805484E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767FB-7EF8-43F3-88B4-BBCC3809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61D6-A93D-4833-A206-389DB1DBC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973C5-0252-4F28-8E6F-F5A4FA63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D4FFA-6171-43D2-AC6F-FF228C1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58B71-4C52-4CCE-B84C-35DF974D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641E5-BDEB-4197-93ED-CE33D648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7B79E-E8D3-43AE-8346-A317E418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FC24C-0E46-46FE-B221-96C182EA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46BA6-2709-4BEE-82DC-E84BD24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43576-D407-4EDA-B20E-C7A1F776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E0278-5F1B-4E96-B11D-0DFC929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B70-2FF1-4FCD-8005-58A49D9A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0C678-13B2-41BE-A2CB-9F17AD81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0BDFE-51CF-47C9-AFC3-03A58AB9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C8A4-ED34-42AC-BA17-0D549C81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5AC99-F7DE-4D57-BD58-A06B1EE1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69D85-D510-442A-A787-6A76669E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4D857-02A6-4BF4-B82F-01F48B6B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3B5AC-8CF6-4F4C-86AA-1DFB196A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C6C98-1946-4F7B-8D54-C274B567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9D051-E538-4ACF-832C-0523C7AF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4AB97-EFC2-4762-BFEB-27C2BDB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927-C3A4-4FA0-8164-D3131714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F8919-3747-4A6E-A931-25F2C52C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24D59-86EA-4117-9E1B-6D2D3FC6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5D938-A093-4E0F-94D5-0BE29C33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16C55-11CE-4629-AFF7-5515195C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4529E-5795-4A40-9E2F-65408D66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288-81FA-401E-89FC-000D2E77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2A9-C613-4B56-BFE4-6C16B850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E054-2815-48BF-9FA7-33C20079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168B-7F61-49C7-AF30-8A7EE044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640-3B25-4B29-B95D-E34A4BD5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52E-9FB2-4D6D-9043-66691A76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2F29-36F2-4843-BCD7-77AF80D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95B-5480-409B-AE6D-AC3008CA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928-4A20-431B-8EB5-B58DD78A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792-790B-4318-BAE8-BB5BB2F6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1F3F-FE8E-4264-A8C5-BCBD5227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EBE-DE1F-4821-A41F-E9E9F2B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A05C-F673-41D6-AE98-F964170D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F639-CFE9-474E-B9D0-9F67BA5A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42B-FC7D-4BC2-AEC6-CA1077CD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C034-F330-4112-AEF8-D04D9E8E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E0C-E37D-4300-AACC-192FD08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873F-BDFE-47D7-A6C7-F55B7BE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6ABD-FF96-4214-A9CC-E08D00FE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ACF2-CCC8-41EB-80FD-E3737ECB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DAAA-4288-4F97-A22E-5420A6F9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BD9E-679D-4925-BBFA-D25783D8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E91C-C06D-44BF-A8E5-54F2BCD1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F0FB-AF6C-404B-9152-EF657A60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A9396-EEFC-4113-AF51-1F9A28069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7E98-4FC4-4EEA-A392-2B6CF6C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C0782-94C0-4A25-BA1C-D03F0006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3FA9-BB08-477B-BC2B-BFB80D1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2AA3-23C9-46DF-AC72-A50910AF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3F15-FFC0-4EA3-A6F4-8D0BA8D8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C026-321A-4842-98A1-65DC301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2677-0A13-40A9-892E-70D3CE92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9001-6846-4FF2-9D55-7CEB0569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5481-8EA8-473F-AC35-7329914E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96D8-090A-4F9D-893A-AC4B8F92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1E03D-F7C4-4536-871C-74B28676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62A79-06CF-4623-A6B6-A6E7DD86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B935D-C245-4CDD-ADBA-A15A4977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6242-A433-4FAC-9B93-383EA993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9380-E63B-4A59-850F-D6DAD74D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DBF9-5F72-40B8-9ACB-4FC61A4F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E9D1-BB1A-4A97-B006-EA84B89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FD9B3-F545-4143-90B9-C9C68D1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F36A-DCA6-427D-92D4-3243A5FB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0690D-6C07-452F-96B6-4E6C34B5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E1D9-4F12-48AC-ACB1-BB37403B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8E54-BEA1-4342-B4B8-A6830712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0E54-058C-4FA1-8BAD-EB0FA24F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48B3-77A8-4AB6-8408-272EDCC8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33405-1957-4587-BA68-0001EE47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084A9-5693-4EE2-AFD6-BA0A1BB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A55F-5B9D-46F9-9806-60493ABC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50AF-964E-44F1-83A6-712E623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87C37-6745-4D5F-8402-DFD5FF7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2D916-8372-4AA9-AFB7-501F3411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943C2-1691-46EC-A98F-AF195276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DDEE2-DF17-4338-81C5-160424FC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83896-6278-43D6-8272-0A676C17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AB742-92DC-4B84-A183-79A6CE97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2FB18-7DE8-4C48-9D82-4E0B010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A0E62-0C1F-485D-ABC7-8919CFE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331EF-A9C8-4850-832A-2518C38F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10029-01DC-439A-8658-90DFB670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14603-5196-4151-90C7-32B34734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FB77-19F4-4B39-95B9-6974488F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44226-5EB6-421C-BD63-DC3CF1AD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6EFE-8451-46BE-801A-78D688D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3F008-AEE8-42AA-957A-CB736AD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AA197-F335-4A9E-B8B8-28BEF12C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7362-1279-4168-8790-55F5682E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A73C6-0428-4530-8D98-C15ABE91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9C63-AE7B-4E61-9C4B-F50DFA5A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8A6BC-4148-460A-BC3F-83E777C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3A63-58F8-4D77-8AFC-ADF6BEF2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F4B2F-C3E0-42F9-BD76-285C5ED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9CD86-3C93-4B75-AD1A-87E25424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9B9EB-80EB-4682-AEB7-1A8B439E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2138-DDE0-42A5-A973-2952F85B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BDB2A-6296-46E5-9A7A-6FA3CB6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71AF0-96B9-44DE-850D-058FB07E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23327-F622-4A34-8D06-49F7BA3C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2B8D1-307F-4C0B-B41A-B293036A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40A5F-8624-4661-8D14-A188A8DE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6CE36-68C0-4B96-930C-A75FBCA3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C67B-D801-4117-95EB-10FAF013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742F-F0AA-4EEB-A62D-F22B8164819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4E60-5958-40BA-8CD7-1C439252E69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FE3C-5FD0-404E-9089-161BACADB88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723-495C-49CB-B009-385F6CAACB0C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C7C9-323B-42A3-A2AD-D9861D7FBC2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5619-5946-4287-A90E-68C85D4E692D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D75E-7A2F-4386-8783-FF9AF8CE14F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DBC6-125E-42BE-879A-0A6099BBBF2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DAEB-B957-4D5D-8525-C7692388D89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6D6E-4209-4256-B1D0-AC9781CFF74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4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5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6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6931-B12D-472D-B77A-3A8C96796A62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Times New Roman"/>
              </a:rPr>
              <a:t>Обществени поръч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1f497d"/>
                </a:solidFill>
                <a:latin typeface="Times New Roman"/>
              </a:rPr>
              <a:t>Нередности. Манипулации. Финансови коре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1f497d"/>
                </a:solidFill>
                <a:latin typeface="Times New Roman"/>
              </a:rPr>
              <a:t>Често срещани грешки по ОПР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95280" y="1565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 срещани грешки по ОПР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94920" y="2637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шки в използвани КСС, които не се установени при стартиране на процеду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о планиране на  срокове за провеждане на ОП – ефект върху планираните дейности по проек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ане на неясни, противоречиви и субективни услов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са на пропорционалност между поставените изисквания и предмета и обема на поръчк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за внимание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ктомв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i="1" lang="bg-BG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012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тации на АО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2133360"/>
            <a:ext cx="820908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влението препраща към документация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вление – посочват се документи, без изиск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и между обявление и документ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аване на дела на подизпълнители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очване на дни, в които документация не може да се купу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– обстоятелствата по чл. 47, ал.2 да се преценяват в хода на процедур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искване за изпълнени 50 догов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олзване на показатели за оценка, които нямат отношение към предмета на поръчка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на КЗК от 2010г.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мнения за тръжни манипул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4920" y="220500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ък брой оферти, необичайни кандида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закупени документации – малко офер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ен външен вид на офер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тиране на идентични греш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ови офер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од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олеми разли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ипично поведение на обичайни участниц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явно несъответствие с изискванията на Възложи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63620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мнения за тръжни манипул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94920" y="2637000"/>
            <a:ext cx="8209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и кандидати с общ консултан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за цени на конкурен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на взаимоотношения между участници в О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ителят наема друг участник като подизпълнит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яване на закономерности при участие на едни и същи кандидати в сходни процедури – ротация, фиктивно участие, съгласувани офер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63620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Ф/ИА “ОСЕС” – индикатори за нередности и изм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94920" y="2420640"/>
            <a:ext cx="82090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служители в администрация на Възложител и Изпълнит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воризиране на изпълнит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пълнение на дейности при високи цени и ниско качеств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шателство между кандидати – ротационен/географски принци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йно завишени цени, последващо пренаеман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изчислени разлики в офер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1492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и за неред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94920" y="234936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на фиктивни кандидати – липсва информация за тяхната дейнос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договор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онкретни или много общи специфик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дени жалб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ършване на покупки от единствен източник в размер непосредствено под праговет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1636200"/>
            <a:ext cx="8229600" cy="10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 корекции – ПМС № 134/2010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94920" y="249228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не на диференциален и пропорционален метод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и изклю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 на финансовата корекц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законосъобразност на разход, съфинансиран от СК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ъщото време – има характер на санкция във връзка с нарушаването на конкуренция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95280" y="1492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 корекции -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94920" y="234936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не на процедурите за обявяване – 100 – 2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злагане на договор без конкуренция и без да е налице спешност/форс мажор – 100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не на правилата за сключване на допълнителни договори – 100% от размера на непозволеното надвиш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очване на всички критерии за подбор/възлагане или залагане/прилагане на неправомерни критерии – 25 – 10 – 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ъчна/дискриминационна дефиниция на предмета на договора – 25 – 10 – 5%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и корекции -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94920" y="2349360"/>
            <a:ext cx="820908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гламентирани преговори по време на процедурата – 25 – 10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аляване на обхвата на договора – 2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но прилагане на спомагателни елементи (напр. обявление за сключен договор) – 2-5-1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формални нарушения – не се налага финансова корекц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Militsa</cp:lastModifiedBy>
  <dcterms:modified xsi:type="dcterms:W3CDTF">2012-11-13T10:49:18Z</dcterms:modified>
  <cp:revision>132</cp:revision>
  <dc:subject/>
  <dc:title>Слайд 1</dc:title>
</cp:coreProperties>
</file>