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8"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65FF-E7C2-41C3-BF4F-32799662D5E3}"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3460-3D4A-4E48-8D6B-5ABC5FCBDDEC}"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F5A9D4-45F0-4893-B473-7187D83AFE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30DB0-D73C-4811-8253-5E7FCD6C42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C409BA-AA17-4FA6-9E07-638A5CD852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C03E61-F735-4549-A934-3A86EBC89A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14030-C2F6-4108-AD69-FFA4FE7D9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489F71-5AB3-459D-8D26-DCF951304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92DCA7-4A88-49C0-8163-3E3D885F1D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1FE348-E38D-4E70-89C3-8F3F16CC5D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7355F5-A963-4A74-B112-9FD3C2E991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E542F9-B91E-4686-B2C0-D66337320D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38E51-328E-4205-9BB1-BA47C84210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1E2548-2387-4CCC-A240-381D89108C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439ACC-AF62-4962-B5E6-33596DE4C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A8A39E-EACB-4635-B7F9-6B959B465E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0CB648-4E13-4719-8F16-8E3035AB46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5A7FD1-F05B-4256-8528-D16D398B4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093A3-A528-4044-B8F7-79B6D503E1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B56ED7-7127-4294-89BE-D4F2F119B3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2767A1-94D1-44D7-A6C9-5C3E67933E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5334CF-E595-422D-BA8D-E4A4D062CE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4E4DA5-FA9F-4563-9B88-07A367ADD4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84B09F-C843-46E3-871C-A2D2760163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4A2151-5471-4186-A87F-955B88D7A8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39E33A-77AA-49AC-841D-85BFFC06B8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DB90DE-FA9D-4F92-82F0-05992CA9A8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6FE4EF-E651-4871-8EA6-7572F1EF4D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C71648-32B5-43A0-A5EC-39B00F83F9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8BF493-5356-4E0E-A9D3-CEC5F5C792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856AA0-8694-48D6-92BE-C16AFFD64C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6DE6B9-8DF2-4705-B8D6-7DFB0D4BF2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FB1AD-1BA7-43F6-9769-66536B773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305C3F-2B1A-48EE-A63B-8F234B813E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91C5F8-46A3-48C2-AA4E-10FCEF90C9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784F4A-C508-47BD-82E9-D156469D67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276B55-3D98-403F-8BE8-25DD1C3078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94A7A8-C14E-4A9B-BD99-D071EEB8BB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A1A298-8CC8-4002-83EF-BAF503B4B7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793540-F549-42E7-B777-2A098BDBF2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A5EB40-ED7D-4472-A25C-D7E43E0CDF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6F0C71-219F-4C96-9434-AE458913C2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8B93F5-A9CF-4290-9F06-A28A4E563A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EFB5D-AF0F-45E9-9908-835DEC2AC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51DD16-ACBE-4328-AA02-33D437B3FF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894A43-5E2A-4A61-9F28-67CEEB0BB4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BB83B2-9FD8-4BA4-B9C0-C4E4A61920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1AF33A-78E2-4BF2-83E8-14B29C7566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0730D1-0796-4611-AEFC-830CB26F7B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E91D6-179B-47EB-B8D7-665E638FB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3DB29-E594-40A7-BD53-42115288E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B15F-C661-4495-81D0-70FA3D1EE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F0025-5C94-45F2-A167-3B2C6A6A3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911CC-97A2-4DE8-AF93-93AE265F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F944-09B1-4C93-A507-EB51F2F08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31F3A-C95C-4171-9D97-E7C7470C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C27DD-169E-45A7-9282-9A5A1991C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DAA36-2453-4753-871E-8B3A61AA8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D1DC3-DB87-482D-A23B-4E6DA644E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73C66-6E38-4528-8EAA-3E16EDEC2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B9A51-78A7-4211-9FF1-5D3FEFF92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6C460-3CB7-44FC-A9F0-1722FFE2B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299C7-B98B-4B72-83CC-04A1D47E3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33727-F244-44A4-A8F3-4224E8F09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66090-D35E-4F76-AF0A-EA96C92FF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8A291-BF89-4435-9A10-C7CE6E706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85E98-EEE9-4159-BD18-28D58644B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E14E9-95D9-4663-AEF4-6790545D3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C0594-030E-4BC1-8B14-962FC2B47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DFB93-E6FD-47F4-9D3C-8CB730F06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7C9EA-BA6C-48DB-AACC-D12CDD926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85117D-2A0C-40D3-923B-9E554E123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6CE03-9550-4D97-93D0-547DE4AF6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13B1A-1868-4CA3-97D0-763E8C244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F82FB-21F3-45AC-83C1-B0BF94F1E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E476B-BC7F-4FB3-819B-2FDA50C55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680BB-A3CE-4EFC-BD31-090F9A8C7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D849B-D5E9-450F-A28D-B576A3D0F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32BEE-7A7D-4C74-A250-A8F3CF130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C249B-CBDB-4426-A11D-986F74FEE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6FC6D-ADA1-4FBE-AE1B-B375D14446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04724B-28F2-44A4-A7FF-6E64FBE07B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C5298F-EA9C-4838-BA69-FFC13D824D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79EE6A-B7A8-48BA-B061-89150858D8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1B7C00-BED3-4550-8F1C-AE2279129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87182-BF87-471E-B8A0-9438FC3D14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0B5A06-DDCF-47D9-BF1D-0E37F76E2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173CD-5E16-4BFB-BD0B-E5249D8B98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E13F8-135E-4F4B-AEFB-BEABE822C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1D2B9-9DF2-4E14-A9C8-FAD744618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BFE4A-A584-4DE4-A61C-752DB6186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F49C88-C644-46B3-B204-9D4E6DCCF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564F5-4039-4E50-9099-84B46EB12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F1A584-5198-4B31-8EFC-F950ADA31E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BFBBBB-DBA0-4EFF-A5C6-A37DF84374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4CFB31-1877-4986-969E-A85987BD42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A68FA1-8630-4BB0-9414-95A409A5C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585803-B7EF-4EEE-BF9C-4E57C9B28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035E05-6FCE-4BA9-85D3-5A0FA9A43D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4EAC6B-7480-4B90-A8C8-617901514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BCFAB2-4796-4B9C-8E53-2A54C44813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04692-6227-45D2-AF95-2695D44C3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68288-9197-4D36-95A5-55F8F1493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571CC-732C-4ACD-9BD2-C5EFDF13F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11F54-100B-4ABE-88B8-51D9CE5515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AFEB33-42D1-4A07-A09F-2650E8F41B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F1681E-A844-4A75-8599-CF536E7C1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A93EB2-8B8A-49CE-AEAC-95053F22C5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093D2F-0101-4B12-8B59-4D575FB522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77E1D4-33E6-439D-B945-608924A69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3B2094-0D4E-48A2-8696-D70DAF096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AA2B0B-3193-4E5D-9792-EA4FED9737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A4A173-8AE3-44DA-894E-0FCD4D482A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7361F-CE73-4594-B390-6E6611AF1C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152C5-5FB8-4B28-82B8-ADB2A170A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4E1E57-DFEA-45A5-8293-60EF5B005E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E487D4-4CE5-4DA0-BEBE-4836D27F4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173462-EEEB-4584-8CBC-585CF8DA06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DA5AD8-DBA3-4741-9412-0D3DA0B65C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0E4AA5-05AD-442E-A296-C70142D18C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CD75C-041A-49A2-B2DE-E7BF9B9610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79545-F529-4584-8995-D149CD6E7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2076AF-2688-40E1-8973-87FDCCA81A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AB3867-45E9-4C1E-A3AA-D2E02BEED4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BFE847-531F-4449-AA46-C9EEB9A8E8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58BCD-04D3-47C9-B0E1-1C56B294F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53A08-7B6C-4520-A07C-D8613DD069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3B995A-50AB-433D-8C4E-94D6B87A67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AD78E6-1AA7-4FC4-89A2-07FDCEEBD2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982BAA-18A1-4597-8A0C-D109EC7169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F5960C-4999-4FCD-87C8-9D628EDBD2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C0A20C-33EA-495C-BE08-C98FA0A0BC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0341B1-3C88-4049-A56D-C4A7E61CE2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8F314B-033D-4D59-8BE6-857443587A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6"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6"/>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9D0E-3080-4270-AC52-C90D0E34B881}"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A5DF-26C4-40BD-8A46-2B5B30315DD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3580-FF8B-4092-B027-0B973CF06C12}"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0B6E-00C0-40A1-930B-54C3B4FB025A}"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7959-4D03-4C8E-85E9-6322AE4B8EF1}"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8658-75C5-4B93-AE38-8CFF0BC1589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6"/>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7D7C-5783-4A06-A406-31C130CED636}"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C9F3-BBF6-4C09-987B-6783108C7604}"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3"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4"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5"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0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0"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1" name="Group 15"/>
          <p:cNvGrpSpPr/>
          <p:nvPr/>
        </p:nvGrpSpPr>
        <p:grpSpPr>
          <a:xfrm>
            <a:off x="250920" y="189000"/>
            <a:ext cx="1009440" cy="685800"/>
            <a:chOff x="250920" y="189000"/>
            <a:chExt cx="1009440" cy="685800"/>
          </a:xfrm>
        </p:grpSpPr>
        <p:sp>
          <p:nvSpPr>
            <p:cNvPr id="11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Picture 16" descr=""/>
            <p:cNvPicPr/>
            <p:nvPr/>
          </p:nvPicPr>
          <p:blipFill>
            <a:blip r:embed="rId6"/>
            <a:stretch/>
          </p:blipFill>
          <p:spPr>
            <a:xfrm>
              <a:off x="250920" y="189000"/>
              <a:ext cx="1009440" cy="685800"/>
            </a:xfrm>
            <a:prstGeom prst="rect">
              <a:avLst/>
            </a:prstGeom>
            <a:ln w="0">
              <a:noFill/>
            </a:ln>
          </p:spPr>
        </p:pic>
      </p:grpSp>
      <p:sp>
        <p:nvSpPr>
          <p:cNvPr id="11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024F-C62E-4EE7-A967-56BB7CF6990F}"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11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5EA7-84CC-46FA-867A-5B6E8222BBC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E984-C9F2-477C-A25E-FAF17CD062E0}"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ACE3-C2E9-49D2-B5F6-CA3B466E3B6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3F13-5D90-49D7-9201-96A35966092D}"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75F5-76EE-47F1-A352-E956D627FDA8}"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A1DC-AF94-4B30-9D8C-E8C8E322110B}"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4165-4260-461F-A348-C41B125A7432}"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9A0F-3681-4911-AF3C-FF2C88C2A896}"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19D4-AB00-48BA-B4EF-3E488352612E}"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FBBD-85E3-4417-B488-0D680F2DB405}"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DA66-6567-4BCC-B40C-78EA5F47DF8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B1DC-E673-43B8-AD54-3A20ECB8EBFC}" type="datetime">
              <a:rPr b="0" lang="bg-BG"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8747-F06B-445E-A958-774BC8DC4B2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
          <p:cNvSpPr/>
          <p:nvPr/>
        </p:nvSpPr>
        <p:spPr>
          <a:xfrm>
            <a:off x="395280" y="1700280"/>
            <a:ext cx="8352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ОБУЧ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Times New Roman"/>
                <a:ea typeface="Times New Roman"/>
              </a:rPr>
              <a:t> </a:t>
            </a:r>
            <a:r>
              <a:rPr b="1" i="1" lang="bg-BG" sz="2400" spc="-1" strike="noStrike">
                <a:solidFill>
                  <a:srgbClr val="000000"/>
                </a:solidFill>
                <a:latin typeface="Times New Roman"/>
                <a:ea typeface="Times New Roman"/>
              </a:rPr>
              <a:t>по</a:t>
            </a:r>
            <a:r>
              <a:rPr b="1" i="1" lang="en-US" sz="2400" spc="-1" strike="noStrike">
                <a:solidFill>
                  <a:srgbClr val="000000"/>
                </a:solidFill>
                <a:latin typeface="Times New Roman"/>
                <a:ea typeface="Times New Roman"/>
              </a:rPr>
              <a:t> </a:t>
            </a:r>
            <a:r>
              <a:rPr b="1" i="1" lang="bg-BG" sz="2400" spc="-1" strike="noStrike">
                <a:solidFill>
                  <a:srgbClr val="000000"/>
                </a:solidFill>
                <a:latin typeface="Times New Roman"/>
                <a:ea typeface="Times New Roman"/>
              </a:rPr>
              <a:t>изпълнение и управление на проект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по Схема за предоставяне н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безвъзмездна финансова помощ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BG161PO001/1.1-08/2010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a:t>
            </a:r>
            <a:r>
              <a:rPr b="1" i="1" lang="bg-BG" sz="2400" spc="-1" strike="noStrike">
                <a:solidFill>
                  <a:srgbClr val="000000"/>
                </a:solidFill>
                <a:latin typeface="Times New Roman"/>
                <a:ea typeface="Times New Roman"/>
              </a:rPr>
              <a:t>Подкрепа за реконструкция, обновяване и оборудване на държавни лечебни и здравни заведен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в градските агломерации</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
          <p:cNvSpPr/>
          <p:nvPr/>
        </p:nvSpPr>
        <p:spPr>
          <a:xfrm>
            <a:off x="250920" y="1268280"/>
            <a:ext cx="8713800" cy="43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a:t>
            </a:r>
            <a:r>
              <a:rPr b="1" lang="en-US"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Известие за изпращане на документ /подава се на хартиен носител/</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Подробен опис /подава се на хартиен носител/</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Приложение 9.8 - "Контролен лист за бенефициенти – междинно искане за плащане"/подава се на харти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4. Приложение 9.2 -"Искане за плащане" – оригинал /подава се на хартиен и на електронен носител (компакт диск)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5. Договор с УО, неразделна част от който са и: бюджет по проекта, КСС, технически спецификации, анекси към договора и извършени изменения на договора /подават се на електронен носител (компакт диск)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
          <p:cNvSpPr/>
          <p:nvPr/>
        </p:nvSpPr>
        <p:spPr>
          <a:xfrm>
            <a:off x="395280" y="1125360"/>
            <a:ext cx="8280360" cy="49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Одобрено искане за малка промяна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Документация, свързана с временното прекъсване на договора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8. Нотариално заверено пълномощно – </a:t>
            </a:r>
            <a:r>
              <a:rPr b="0" lang="ru-RU" sz="2000" spc="-1" strike="noStrike">
                <a:solidFill>
                  <a:srgbClr val="000000"/>
                </a:solidFill>
                <a:latin typeface="Times New Roman"/>
                <a:ea typeface="Times New Roman"/>
              </a:rPr>
              <a:t>в случай, че документите към искането за плащане са подписани от лице, различно от официално представляващото бенефициента /подава се на хартиен носител при подаване на първо искане за плащане или при настъпили промени. В останалите случаи се подава на електронен носител (компакт диск) в “pdf” формат/. В пълномощното изрично се упоменават пълномощията на упълномощеното лиц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395280" y="1197000"/>
            <a:ext cx="8280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9. Приложение Е1-ІІІ -"Финансова идентификация" / При първо искане за плащане или при настъпили промени се подава на хартиен носител. В останалите случаи се подава на електронен носител (компакт диск) в “pdf” формат/</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 Копие на Акта за регистрация по ЗДДС /ако е приложимо/, (при подаване на първо искане за плащане или при настъпили проме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1. Декларация от Бенефициента за закупеното оборудване по проекта /ако е приложимо/ –оригинал /подава се на хартиен и на електронен носител в “pdf” формат/</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 Заповед за екипа по проекта (подава се на хартия при първо искане за плащане и на електронен носител (компакт диск) в “pdf.” Формат при последващи искания за плащ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1"/>
          <p:cNvSpPr/>
          <p:nvPr/>
        </p:nvSpPr>
        <p:spPr>
          <a:xfrm>
            <a:off x="250920" y="1197000"/>
            <a:ext cx="8424720" cy="4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u="sng">
                <a:solidFill>
                  <a:srgbClr val="000000"/>
                </a:solidFill>
                <a:uFillTx/>
                <a:latin typeface="Times New Roman"/>
                <a:ea typeface="Times New Roman"/>
              </a:rPr>
              <a:t>ИСКАНЕ ЗА МЕЖДИННО  ПЛАЩАНЕ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НСТРУКЦИЯ ЗА ОКОМПЛЕКТОВАНЕ И ПОДРЕЖДАНЕ</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НА ДОКУМЕНТАЦИЯТА ПРИ ПРЕДСТАВЯНЕ</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НА ИСКАНЕТО И ФИНАНСОВ ОТЧЕТ</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13. Приложение 9.63 Декларация „Член на екип, попълнена от всички участници в екипа, работещ по проект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4. Копие на ведомостта за заплати на бенефициента, от която стават видни брутните възнаграждения на служителите, които работят по проекта, с оглед изчисляване на допустимите за възстановяване разходи за човешки ресурси, съгласно </a:t>
            </a:r>
            <a:r>
              <a:rPr b="1" lang="ru-RU" sz="1700" spc="-1" strike="noStrike">
                <a:solidFill>
                  <a:srgbClr val="10253f"/>
                </a:solidFill>
                <a:latin typeface="Times New Roman"/>
                <a:ea typeface="Times New Roman"/>
              </a:rPr>
              <a:t>ПМС 330/05.12.2011 г.;</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5. Справка за изплатени възнаграждения по договори за услуга по смисъла на ЗЗД с физически лица и трудови/служебни правоотношения и графици за седмични работни часове, извлечение от ведомостта с брутното възнаграждение на съответното лице, получаващо възнаграждение по проекта, придружени от Приложение 9.63 Декларация „Член на екип”; </a:t>
            </a:r>
            <a:r>
              <a:rPr b="1" i="1" lang="ru-RU" sz="1700" spc="-1" strike="noStrike" u="sng">
                <a:solidFill>
                  <a:srgbClr val="10253f"/>
                </a:solidFill>
                <a:uFillTx/>
                <a:latin typeface="Times New Roman"/>
                <a:ea typeface="Times New Roman"/>
              </a:rPr>
              <a:t>Декларацията се подава при искане за възстановяване на разходи за човешки ресурси. Периодът на декларацията, трябва да обхваща най-малко периода за изплатените възнаграждения на дадения член на екип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
          <p:cNvSpPr/>
          <p:nvPr/>
        </p:nvSpPr>
        <p:spPr>
          <a:xfrm>
            <a:off x="395280" y="1197000"/>
            <a:ext cx="842472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6. Приложение И-1 за съгласие компетентният орган по приходите (по месторегистрация на Бенефициента) да предоставя информация за него на Договарящия орган и/или Сертифициращия орган - оригинал / подава се на хартиен и на електронен носител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7. Приложение И-2 за Деклариране на размера на невъзстановимият ДДС, включен в искането за плащане /подава се на хартиен и на електронен носител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8. Приложение 9.64 Декларация санкции и </a:t>
            </a:r>
            <a:r>
              <a:rPr b="0" lang="ru-RU" sz="1800" spc="-1" strike="noStrike">
                <a:solidFill>
                  <a:srgbClr val="000000"/>
                </a:solidFill>
                <a:latin typeface="Times New Roman"/>
                <a:ea typeface="Times New Roman"/>
              </a:rPr>
              <a:t>неустойки, придружена от копие на платежно нареждане и банково извлечение за доказване на декларираните обстоятелства, както и извлечение от счетоводната система, от което да е видно, че наложените санкциите и неустойки са осчетоводени по съответния проект/догово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1"/>
          <p:cNvSpPr/>
          <p:nvPr/>
        </p:nvSpPr>
        <p:spPr>
          <a:xfrm>
            <a:off x="611280" y="1268280"/>
            <a:ext cx="7993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9. Технически доклад междинен - оригинал /подава се на хартиен и на електронен носител в формат “xls” (MS Office Excel)/</a:t>
            </a:r>
            <a:r>
              <a:rPr b="1"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0. Финансов отчет междинен/окончателен, съдържащ всички приложения към него - оригинал /подава се на хартиен и на електронен носител във формат “xls” (MS Office Exc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1. Доклад от лицензиран експерт счетоводител, извършен съгласно закона за независимия финансов одит (ако е приложимо) - оригинал /подава се на хартиен и на електронен носител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1"/>
          <p:cNvSpPr/>
          <p:nvPr/>
        </p:nvSpPr>
        <p:spPr>
          <a:xfrm>
            <a:off x="468360" y="1254240"/>
            <a:ext cx="8351640" cy="442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Съгласно чл. 2, ал. 3 на ПМС 245 от 01.01.2007 г. за всички действително извършени разходи от бенефициента, същият представя на УО съответните разходооправдателни документи – фактури или други документи с еквивалентна доказателствена стойнос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ходооправдателните счетоводни документи трябва да бъдат подредени в последователност, следваща структурата на конкретния проектен бюдже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цел по-добра проследимост, разходооправдателните документи трябва да бъдат обозначени/ маркирани с разделителни листове, или друга подходяща маркировка за принадлежността им към съответен бюджетен раздел, в т.ч. по бюджетни пера. Копията на фактурите са надлежно заверени от бенефициента (с печат, подпис и текст „Вярно с оригинала”) с виден печат на ОПР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1"/>
          <p:cNvSpPr/>
          <p:nvPr/>
        </p:nvSpPr>
        <p:spPr>
          <a:xfrm>
            <a:off x="539640" y="1413000"/>
            <a:ext cx="7632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 възстановяване на разходи за СМР </a:t>
            </a:r>
            <a:r>
              <a:rPr b="0" lang="ru-RU" sz="2000" spc="-1" strike="noStrike">
                <a:solidFill>
                  <a:srgbClr val="000000"/>
                </a:solidFill>
                <a:latin typeface="Times New Roman"/>
                <a:ea typeface="Times New Roman"/>
              </a:rPr>
              <a:t>Бенефициентите следва да ползват публикувания унифициран образец на </a:t>
            </a:r>
            <a:r>
              <a:rPr b="1" lang="ru-RU" sz="2000" spc="-1" strike="noStrike" u="sng">
                <a:solidFill>
                  <a:srgbClr val="000000"/>
                </a:solidFill>
                <a:uFillTx/>
                <a:latin typeface="Times New Roman"/>
                <a:ea typeface="Times New Roman"/>
              </a:rPr>
              <a:t>Протокол за приемане на извършени СМР</a:t>
            </a:r>
            <a:r>
              <a:rPr b="0" lang="ru-RU" sz="2000" spc="-1" strike="noStrike">
                <a:solidFill>
                  <a:srgbClr val="000000"/>
                </a:solidFill>
                <a:latin typeface="Times New Roman"/>
                <a:ea typeface="Times New Roman"/>
              </a:rPr>
              <a:t> (бивш образец акт 19) – подава се на електронен носител във формат “xls.” (MS Office Excel, а не в “pdf.”), както и на хaртиен такъв. Към искането за плащане се представят всички съставени Протоколи 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емане на извършени СМР </a:t>
            </a:r>
            <a:r>
              <a:rPr b="1" lang="ru-RU" sz="2000" spc="-1" strike="noStrike">
                <a:solidFill>
                  <a:srgbClr val="000000"/>
                </a:solidFill>
                <a:latin typeface="Times New Roman"/>
                <a:ea typeface="Times New Roman"/>
              </a:rPr>
              <a:t>на електронен носител, дори такива представени към </a:t>
            </a:r>
            <a:r>
              <a:rPr b="0" lang="bg-BG" sz="2000" spc="-1" strike="noStrike">
                <a:solidFill>
                  <a:srgbClr val="000000"/>
                </a:solidFill>
                <a:latin typeface="Times New Roman"/>
                <a:ea typeface="Times New Roman"/>
              </a:rPr>
              <a:t>предходно искане за плащ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1"/>
          <p:cNvSpPr/>
          <p:nvPr/>
        </p:nvSpPr>
        <p:spPr>
          <a:xfrm>
            <a:off x="250920" y="1197000"/>
            <a:ext cx="87138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3. Дневник на покупките, придружен със справка-декларация и протокол за приемане на декларации и дневници по ЗДДС, удостоверение за регистрация по ЗДДС, документ от НАП за промяна на статуса по ЗДДС /при наличие на промяна на декларираните; обстоятелства/.Документите се подават на електронен носител (компакт диск) в “pdf” форма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4. Извлечение от счетоводната система – аналитични справки от счетоводната система на бенефициента, които да показват процеса на отчитане на разходите и спазването на изискванията на ДДС № 7 от 2008г. /подава се на електронен носител (компакт диск)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5. </a:t>
            </a:r>
            <a:r>
              <a:rPr b="0" lang="ru-RU" sz="1800" spc="-1" strike="noStrike">
                <a:solidFill>
                  <a:srgbClr val="000000"/>
                </a:solidFill>
                <a:latin typeface="Times New Roman"/>
                <a:ea typeface="Times New Roman"/>
              </a:rPr>
              <a:t>Сканирана версия на частта от СФУК и сметкоплана на организацията, които пряко се отнасят до дейностите по ОПРР </a:t>
            </a:r>
            <a:r>
              <a:rPr b="1" lang="ru-RU" sz="1800" spc="-1" strike="noStrike" u="sng">
                <a:solidFill>
                  <a:srgbClr val="10253f"/>
                </a:solidFill>
                <a:uFillTx/>
                <a:latin typeface="Times New Roman"/>
                <a:ea typeface="Times New Roman"/>
              </a:rPr>
              <a:t>(подава се само с първо искане за плащ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
          <p:cNvSpPr/>
          <p:nvPr/>
        </p:nvSpPr>
        <p:spPr>
          <a:xfrm>
            <a:off x="250920" y="1193760"/>
            <a:ext cx="8569080" cy="4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u="sng">
                <a:solidFill>
                  <a:srgbClr val="000000"/>
                </a:solidFill>
                <a:uFillTx/>
                <a:latin typeface="Times New Roman"/>
                <a:ea typeface="Times New Roman"/>
              </a:rPr>
              <a:t>ИСКАНЕ ЗА МЕЖДИННО  ПЛАЩАНЕ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НСТРУКЦИЯ ЗА ОКОМПЛЕКТОВАНЕ И ПОДРЕЖДАНЕ НА ДОКУМЕНТАЦИЯТА ПРИ ПРЕДСТАВЯНЕ НА ИСКАНЕТО И ФИНАНСОВ ОТЧЕТ</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26. </a:t>
            </a:r>
            <a:r>
              <a:rPr b="0" lang="ru-RU" sz="1700" spc="-1" strike="noStrike">
                <a:solidFill>
                  <a:srgbClr val="000000"/>
                </a:solidFill>
                <a:latin typeface="Times New Roman"/>
                <a:ea typeface="Times New Roman"/>
              </a:rPr>
              <a:t>Копие от подписани договори (за основна дейност) на бенефициента в качеството му на възложител по дейности за строителство/доставки/услуги с включени клаузи за авансово плащане (ако е приложимо). При подаване на първо искане за плащане или при настъпили промени, документите се подават на хартиен носител. В останалите случаи тези документи се подават на електронен носител (компакт диск) в “pdf.” формат.</a:t>
            </a:r>
            <a:endParaRPr b="0" lang="en-US" sz="17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сички анекси и приложения към договора, които са неразделна част от него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7. Копие на банковите гаранции и представяне на извлечение от набирателната сметка за постъпване на парични гаранции за добро изпълнение по съответните договори (при подаване на първо искане за плащане по съответния договор ). Представят се на хартиен </a:t>
            </a:r>
            <a:r>
              <a:rPr b="0" lang="bg-BG" sz="1700" spc="-1" strike="noStrike">
                <a:solidFill>
                  <a:srgbClr val="000000"/>
                </a:solidFill>
                <a:latin typeface="Times New Roman"/>
                <a:ea typeface="Times New Roman"/>
              </a:rPr>
              <a:t>и електронен носител)</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8. Справки за осчетоводени банкови и парични гаранции за добро изпълнение на договори по проекта и за участие в процедури за избор на изпълнители по проект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1"/>
          <p:cNvSpPr/>
          <p:nvPr/>
        </p:nvSpPr>
        <p:spPr>
          <a:xfrm>
            <a:off x="743040" y="1239840"/>
            <a:ext cx="75009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ФИНАНСОВИ ОТЧЕТИ – СЪДЪРЖА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Финансовите отчети</a:t>
            </a:r>
            <a:r>
              <a:rPr b="0" lang="bg-BG" sz="2000" spc="-1" strike="noStrike">
                <a:solidFill>
                  <a:srgbClr val="000000"/>
                </a:solidFill>
                <a:latin typeface="Times New Roman"/>
                <a:ea typeface="Times New Roman"/>
              </a:rPr>
              <a:t>, изготвени от бенефициента</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съдържат информация за:</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Бюджета на проекта и негови корекции;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те разходи за отчетния период;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те разходи с натрупване;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тчетени разходи по искания за плащане</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тчет по източници на финансиране;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 разходи, финансирани от други източници;</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Прогнози за дейности и плащания;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пис на разходооправдателни документи</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кончателен опис на разходооправдателни документи</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руги разход</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екларация</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
          <p:cNvSpPr/>
          <p:nvPr/>
        </p:nvSpPr>
        <p:spPr>
          <a:xfrm>
            <a:off x="324000" y="1197000"/>
            <a:ext cx="8496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 Извлечение от счетоводната система – аналитични справки от счетоводната система на бенефициента, които да показват осчетоводяването на получената банкова или парична </a:t>
            </a:r>
            <a:r>
              <a:rPr b="0" lang="bg-BG" sz="1800" spc="-1" strike="noStrike">
                <a:solidFill>
                  <a:srgbClr val="000000"/>
                </a:solidFill>
                <a:latin typeface="Times New Roman"/>
                <a:ea typeface="Times New Roman"/>
              </a:rPr>
              <a:t>гаран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0. Банкови извлечения за възстановените глоби, санкции и неустойки от изпълнител по </a:t>
            </a:r>
            <a:r>
              <a:rPr b="0" lang="bg-BG" sz="1800" spc="-1" strike="noStrike">
                <a:solidFill>
                  <a:srgbClr val="000000"/>
                </a:solidFill>
                <a:latin typeface="Times New Roman"/>
                <a:ea typeface="Times New Roman"/>
              </a:rPr>
              <a:t>договор с бенефици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1. Декларация за санкции и неустой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 Банкови извлечения за възстановените средства по наложена финансова корекция, както и дължимите лихви към тях (ако е приложим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 Приложение 9.69 Справка канцеларски материали (ако е приложим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 Приложение 9.49 "Декларация-опис", описваща съдържанието на електронния носите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35. Електронен носител - 2бр</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1"/>
          <p:cNvSpPr/>
          <p:nvPr/>
        </p:nvSpPr>
        <p:spPr>
          <a:xfrm>
            <a:off x="250920" y="1341360"/>
            <a:ext cx="86421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Важно:</a:t>
            </a:r>
            <a:r>
              <a:rPr b="0" lang="ru-RU" sz="1800" spc="-1" strike="noStrike">
                <a:solidFill>
                  <a:srgbClr val="000000"/>
                </a:solidFill>
                <a:latin typeface="Times New Roman"/>
                <a:ea typeface="Times New Roman"/>
              </a:rPr>
              <a:t>Всички документи се подават на хартиен и електронен носител (компакт диск) в “pdf.” формат, освен в случаите, когато изрично е посочено дру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пактета с документи към искането за плащане задължително се отбелязва ако даден докумен е представен само на електронен носител – на мястото му по хронологичен </a:t>
            </a:r>
            <a:r>
              <a:rPr b="1" lang="bg-BG" sz="1800" spc="-1" strike="noStrike">
                <a:solidFill>
                  <a:srgbClr val="000000"/>
                </a:solidFill>
                <a:latin typeface="Times New Roman"/>
                <a:ea typeface="Times New Roman"/>
              </a:rPr>
              <a:t>ре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ички приложени отчети, декларации и периоди на докладване трябва да бъдат с крайна дата- датата на подаване на искането за плащан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кументите на електронен носител трябва да бъдат сканира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ички копия на документи предоставени на хартиен или електронен носител трябва да са заверени с текст „вярно с оригинала”, подпис и печат от оторизирано л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1"/>
          <p:cNvSpPr/>
          <p:nvPr/>
        </p:nvSpPr>
        <p:spPr>
          <a:xfrm>
            <a:off x="539640" y="1270080"/>
            <a:ext cx="777744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ОКОНЧАТЕЛ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Важно:  </a:t>
            </a:r>
            <a:r>
              <a:rPr b="0" lang="ru-RU" sz="1800" spc="-1" strike="noStrike">
                <a:solidFill>
                  <a:srgbClr val="000000"/>
                </a:solidFill>
                <a:latin typeface="Times New Roman"/>
                <a:ea typeface="Times New Roman"/>
              </a:rPr>
              <a:t>Размерът на окончателното плащане се изчислява като от верифицираните общи допустими разходи по проекта, финансирани от безвъзмездна финансова помощ, се приспаднат отпуснатите авансово и междинни плащ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да на окомплектоване на искането за окончателно плащане е  аналогично на искането за междинно плащане, като допълнително към окончателното плащане се прилагат: </a:t>
            </a: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ложение 9.9 - "Контролен лист за бенефициенти – окончателно искане за плащане /подава се на хартиен носител/;</a:t>
            </a: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ложение 9.47- „Декларация собствен прино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
          <p:cNvSpPr/>
          <p:nvPr/>
        </p:nvSpPr>
        <p:spPr>
          <a:xfrm>
            <a:off x="539640" y="1413000"/>
            <a:ext cx="7632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ОКОНЧАТЕЛ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Копие на върнати банкови гаранции и представяне на извлечение от набирателната сметка за освобождаване на парични гаранции (ако е приложимо) за добро изпълнение по съответните договори Представят се на хартиен и електрон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ложение 9.69 Справка канцеларски материали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1"/>
          <p:cNvSpPr/>
          <p:nvPr/>
        </p:nvSpPr>
        <p:spPr>
          <a:xfrm>
            <a:off x="395280" y="1197000"/>
            <a:ext cx="835344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Times New Roman"/>
                <a:ea typeface="Times New Roman"/>
              </a:rPr>
              <a:t>ИСКАНЕ ЗА ОКОНЧАТЕЛНО  ПЛАЩАНЕ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ИНСТРУКЦИЯ ЗА ОКОМПЛЕКТОВАНЕ И ПОДРЕЖДАН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НА ДОКУМЕНТАЦИЯТА ПРИ ПРЕДСТАВЯН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НА ИСКАНЕТО И ФИНАНСОВ ОТЧЕ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ички документи се подават на хартиен и електронен носител (компакт диск) в “pdf.” формат, освен в случаите, когато изрично е посочено дру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окументите на електронен носител трябва да бъдат сканиран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ички копия на документи предоставени на хартиен или електронен носител трябва да са заверени с текст „вярно с оригинала”, подпис и печат от оторизирано лиц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пактета с документи към искането за плащане задължително се отбелязва ако даден докумен е представен само на електронен носител – на мястото му по хронологичен </a:t>
            </a:r>
            <a:r>
              <a:rPr b="1" lang="bg-BG" sz="1600" spc="-1" strike="noStrike">
                <a:solidFill>
                  <a:srgbClr val="000000"/>
                </a:solidFill>
                <a:latin typeface="Times New Roman"/>
                <a:ea typeface="Times New Roman"/>
              </a:rPr>
              <a:t>ред. </a:t>
            </a:r>
            <a:r>
              <a:rPr b="1" lang="ru-RU" sz="1600" spc="-1" strike="noStrike">
                <a:solidFill>
                  <a:srgbClr val="000000"/>
                </a:solidFill>
                <a:latin typeface="Times New Roman"/>
                <a:ea typeface="Times New Roman"/>
              </a:rPr>
              <a:t>Всички приложени отчети, декларации и периоди на  докладване трябва да бъдат с крайна дата- датата на подаване на искането за плащане. При подаване на окончателно искане за плащане всички документи за целият срок на проекта задължително се подават на хартиен носител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1"/>
          <p:cNvSpPr/>
          <p:nvPr/>
        </p:nvSpPr>
        <p:spPr>
          <a:xfrm>
            <a:off x="468360" y="1341360"/>
            <a:ext cx="806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ВАЖНО: </a:t>
            </a:r>
            <a:r>
              <a:rPr b="0" lang="ru-RU" sz="1800" spc="-1" strike="noStrike">
                <a:solidFill>
                  <a:srgbClr val="000000"/>
                </a:solidFill>
                <a:latin typeface="Times New Roman"/>
                <a:ea typeface="Times New Roman"/>
              </a:rPr>
              <a:t>Преди представяне на Искане за плащане, Бенефициентите предоставят в съответния Регионален отдел </a:t>
            </a:r>
            <a:r>
              <a:rPr b="1" lang="ru-RU" sz="1800" spc="-1" strike="noStrike">
                <a:solidFill>
                  <a:srgbClr val="000000"/>
                </a:solidFill>
                <a:latin typeface="Times New Roman"/>
                <a:ea typeface="Times New Roman"/>
              </a:rPr>
              <a:t>оригиналните първични разходооправдателни документи, по които ще </a:t>
            </a:r>
            <a:r>
              <a:rPr b="0" lang="ru-RU" sz="1800" spc="-1" strike="noStrike">
                <a:solidFill>
                  <a:srgbClr val="000000"/>
                </a:solidFill>
                <a:latin typeface="Times New Roman"/>
                <a:ea typeface="Times New Roman"/>
              </a:rPr>
              <a:t>искат възстановяване на сре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Експерт от Регионалния отдел поставя печат по образец върху тях на лицевата част, в бялото поле или на място, където няма значещи </a:t>
            </a:r>
            <a:r>
              <a:rPr b="1" lang="bg-BG" sz="1800" spc="-1" strike="noStrike">
                <a:solidFill>
                  <a:srgbClr val="000000"/>
                </a:solidFill>
                <a:latin typeface="Times New Roman"/>
                <a:ea typeface="Times New Roman"/>
              </a:rPr>
              <a:t>симво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акета от документи </a:t>
            </a:r>
            <a:r>
              <a:rPr b="1" lang="ru-RU" sz="1800" spc="-1" strike="noStrike">
                <a:solidFill>
                  <a:srgbClr val="000000"/>
                </a:solidFill>
                <a:latin typeface="Times New Roman"/>
                <a:ea typeface="Times New Roman"/>
              </a:rPr>
              <a:t>са добавени следните нови приложения</a:t>
            </a:r>
            <a:r>
              <a:rPr b="0" lang="ru-RU" sz="1800" spc="-1" strike="noStrike">
                <a:solidFill>
                  <a:srgbClr val="000000"/>
                </a:solidFill>
                <a:latin typeface="Times New Roman"/>
                <a:ea typeface="Times New Roman"/>
              </a:rPr>
              <a:t>, които, в случай че е приложимо, трябва да бъдат включени в документите, които се предоставят с искането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8а- </a:t>
            </a:r>
            <a:r>
              <a:rPr b="0" lang="ru-RU" sz="1800" spc="-1" strike="noStrike">
                <a:solidFill>
                  <a:srgbClr val="000000"/>
                </a:solidFill>
                <a:latin typeface="Times New Roman"/>
                <a:ea typeface="Times New Roman"/>
              </a:rPr>
              <a:t>Справка за осчетоводените банкови и парични гаранции за участие в процедура по избор на изпълн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8б- </a:t>
            </a:r>
            <a:r>
              <a:rPr b="0" lang="ru-RU" sz="1800" spc="-1" strike="noStrike">
                <a:solidFill>
                  <a:srgbClr val="000000"/>
                </a:solidFill>
                <a:latin typeface="Times New Roman"/>
                <a:ea typeface="Times New Roman"/>
              </a:rPr>
              <a:t>Справка за осчетоводените банкови и парични гаранции за добро изпълнение на договори по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9 </a:t>
            </a:r>
            <a:r>
              <a:rPr b="0" lang="ru-RU" sz="1800" spc="-1" strike="noStrike">
                <a:solidFill>
                  <a:srgbClr val="000000"/>
                </a:solidFill>
                <a:latin typeface="Times New Roman"/>
                <a:ea typeface="Times New Roman"/>
              </a:rPr>
              <a:t>– Справка канцеларски материа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
          <p:cNvSpPr/>
          <p:nvPr/>
        </p:nvSpPr>
        <p:spPr>
          <a:xfrm>
            <a:off x="611280" y="1341360"/>
            <a:ext cx="7705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АЖНО: </a:t>
            </a:r>
            <a:r>
              <a:rPr b="0" lang="ru-RU" sz="2000" spc="-1" strike="noStrike">
                <a:solidFill>
                  <a:srgbClr val="000000"/>
                </a:solidFill>
                <a:latin typeface="Times New Roman"/>
                <a:ea typeface="Times New Roman"/>
              </a:rPr>
              <a:t>Всички бенефициенти по ОПРР </a:t>
            </a:r>
            <a:r>
              <a:rPr b="1" lang="ru-RU" sz="2000" spc="-1" strike="noStrike" u="sng">
                <a:solidFill>
                  <a:srgbClr val="000000"/>
                </a:solidFill>
                <a:uFillTx/>
                <a:latin typeface="Times New Roman"/>
                <a:ea typeface="Times New Roman"/>
              </a:rPr>
              <a:t>са длъжни в срок от 3 дни</a:t>
            </a:r>
            <a:r>
              <a:rPr b="0" lang="ru-RU" sz="2000" spc="-1" strike="noStrike">
                <a:solidFill>
                  <a:srgbClr val="000000"/>
                </a:solidFill>
                <a:latin typeface="Times New Roman"/>
                <a:ea typeface="Times New Roman"/>
              </a:rPr>
              <a:t>, след превеждане на суми /лихви по банкови сметки, глоби, санкции, неустойки, грешни преводи, възстановен аванс или други/,по транзитната сметка на УО на ОПРР, да уведомят УО като попълнят Приложение 10.11 „Декларация възстановени су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 приключване на проекта </a:t>
            </a:r>
            <a:r>
              <a:rPr b="1" lang="ru-RU" sz="2000" spc="-1" strike="noStrike">
                <a:solidFill>
                  <a:srgbClr val="000000"/>
                </a:solidFill>
                <a:latin typeface="Times New Roman"/>
                <a:ea typeface="Times New Roman"/>
              </a:rPr>
              <a:t>бенефициентът е длъжен за период от 5 години да предоставя на УО декларация Приложение 12.02 „Декларация за генериране на приходи”</a:t>
            </a:r>
            <a:r>
              <a:rPr b="0" lang="ru-RU" sz="2000" spc="-1" strike="noStrike">
                <a:solidFill>
                  <a:srgbClr val="000000"/>
                </a:solidFill>
                <a:latin typeface="Times New Roman"/>
                <a:ea typeface="Times New Roman"/>
              </a:rPr>
              <a:t>, която трябва да бъде подкрепена от справка от счетоводната система на бенефициента , която да дава информация за приходите, генерирани на база основание, възникнало като пряк резултат от реализирането на проекта и направените разходи за осигуряване на устойчивост и дълготрайност на резултатите от проек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611280" y="1341360"/>
            <a:ext cx="7777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дитната пътека представлява набор от информация, която трябва да описва дейностите и събитията, случващи се във всяка организация, движението на фондовете и свързаните с това форми на контрол и одобрение. Получената информация за одитната пътека дава възможност да се определи реда на </a:t>
            </a:r>
            <a:r>
              <a:rPr b="0" lang="bg-BG" sz="1800" spc="-1" strike="noStrike">
                <a:solidFill>
                  <a:srgbClr val="000000"/>
                </a:solidFill>
                <a:latin typeface="Times New Roman"/>
                <a:ea typeface="Times New Roman"/>
              </a:rPr>
              <a:t>събитията във всеки проц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дитната пътека се счита за достатъчна, когат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позволява проверка на прилагането на критериите за подбор установени от комитета за </a:t>
            </a:r>
            <a:r>
              <a:rPr b="0" lang="bg-BG" sz="1800" spc="-1" strike="noStrike">
                <a:solidFill>
                  <a:srgbClr val="000000"/>
                </a:solidFill>
                <a:latin typeface="Times New Roman"/>
                <a:ea typeface="Times New Roman"/>
              </a:rPr>
              <a:t>наблю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 съдържа, според случая, по отношение на всяка операция: технически спецификации, план за финансиране, документи относно одобрението на безвъзмездната помощ, документи свързани с процедурите за възлагане на изпълнението, отчети за изпълнението и отчети относно проведени </a:t>
            </a:r>
            <a:r>
              <a:rPr b="0" lang="bg-BG" sz="1800" spc="-1" strike="noStrike">
                <a:solidFill>
                  <a:srgbClr val="000000"/>
                </a:solidFill>
                <a:latin typeface="Times New Roman"/>
                <a:ea typeface="Times New Roman"/>
              </a:rPr>
              <a:t>проверки и оди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1"/>
          <p:cNvSpPr/>
          <p:nvPr/>
        </p:nvSpPr>
        <p:spPr>
          <a:xfrm>
            <a:off x="971640" y="1557360"/>
            <a:ext cx="7416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ъгласуване на обобщените суми, сертифицирани от Сертифициращия орган и на индивидуалните счетоводни записи и свързаните документи, съхранявани на различни административни нива, включително и от крайните бенефициенти. Това се отнася и в случаите, когато крайните бенефициенти не са последните получатели на финансиране, а </a:t>
            </a:r>
            <a:r>
              <a:rPr b="0" lang="bg-BG" sz="1800" spc="-1" strike="noStrike">
                <a:solidFill>
                  <a:srgbClr val="000000"/>
                </a:solidFill>
                <a:latin typeface="Times New Roman"/>
                <a:ea typeface="Times New Roman"/>
              </a:rPr>
              <a:t>това са изпълнителите, 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 верификация на разпределението и трансферите от национални фондове и фондове на </a:t>
            </a:r>
            <a:r>
              <a:rPr b="0" lang="bg-BG" sz="1800" spc="-1" strike="noStrike">
                <a:solidFill>
                  <a:srgbClr val="000000"/>
                </a:solidFill>
                <a:latin typeface="Times New Roman"/>
                <a:ea typeface="Times New Roman"/>
              </a:rPr>
              <a:t>общност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1"/>
          <p:cNvSpPr/>
          <p:nvPr/>
        </p:nvSpPr>
        <p:spPr>
          <a:xfrm>
            <a:off x="900000" y="1330200"/>
            <a:ext cx="7272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та пътека определя следнот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исание и последователност на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Лицата, участващи в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айния срок/периода за извършване на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ооборотът – т.е. кой изпраща документ и как, къде се съхраняват докумен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ецифичен формат от свързани форми за кандидатстване/искания, уведомления, доклади, </a:t>
            </a:r>
            <a:r>
              <a:rPr b="0" lang="bg-BG" sz="1800" spc="-1" strike="noStrike">
                <a:solidFill>
                  <a:srgbClr val="000000"/>
                </a:solidFill>
                <a:latin typeface="Times New Roman"/>
                <a:ea typeface="Times New Roman"/>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точника на информация, документи, доклади и т.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1"/>
          <p:cNvSpPr/>
          <p:nvPr/>
        </p:nvSpPr>
        <p:spPr>
          <a:xfrm>
            <a:off x="250920" y="1330200"/>
            <a:ext cx="84247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ИЯ ЗА ПЛАЩАНЕ</a:t>
            </a:r>
            <a:r>
              <a:rPr b="1" lang="en-US" sz="1800" spc="-1" strike="noStrike" u="sng">
                <a:solidFill>
                  <a:srgbClr val="000000"/>
                </a:solidFill>
                <a:uFillTx/>
                <a:latin typeface="Times New Roman"/>
                <a:ea typeface="Times New Roman"/>
              </a:rPr>
              <a:t> </a:t>
            </a:r>
            <a:r>
              <a:rPr b="1" lang="bg-BG" sz="1800" spc="-1" strike="noStrike" u="sng">
                <a:solidFill>
                  <a:srgbClr val="000000"/>
                </a:solidFill>
                <a:uFillTx/>
                <a:latin typeface="Times New Roman"/>
                <a:ea typeface="Times New Roman"/>
              </a:rPr>
              <a:t>-</a:t>
            </a:r>
            <a:r>
              <a:rPr b="1" lang="en-US" sz="1800" spc="-1" strike="noStrike" u="sng">
                <a:solidFill>
                  <a:srgbClr val="000000"/>
                </a:solidFill>
                <a:uFillTx/>
                <a:latin typeface="Times New Roman"/>
                <a:ea typeface="Times New Roman"/>
              </a:rPr>
              <a:t> </a:t>
            </a:r>
            <a:r>
              <a:rPr b="1" lang="bg-BG" sz="1800" spc="-1" strike="noStrike" u="sng">
                <a:solidFill>
                  <a:srgbClr val="000000"/>
                </a:solidFill>
                <a:uFillTx/>
                <a:latin typeface="Times New Roman"/>
                <a:ea typeface="Times New Roman"/>
              </a:rPr>
              <a:t>ВИДОВЕ ИСК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АВАНСОВО, МЕЖДИННИ И ОКОНЧАНЛНО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авансово плащане може да се подава най-късно в срок до три месеца преди </a:t>
            </a:r>
            <a:r>
              <a:rPr b="0" lang="ru-RU" sz="1800" spc="-1" strike="noStrike">
                <a:solidFill>
                  <a:srgbClr val="000000"/>
                </a:solidFill>
                <a:latin typeface="Times New Roman"/>
                <a:ea typeface="Times New Roman"/>
              </a:rPr>
              <a:t>изтичане на срока на договора за отпускане на безвъзмездна финансова помощ.</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междинно плащане от бенефициент по договор за предоставяне на безвъзмездна финансова помощ може да се подава два пъти всеки месец – от 01 до 03 (или първите три работни дни на месеца) или от 15 до 17 (или първите три работни дни след 15 число на месеца), следващ периода на </a:t>
            </a:r>
            <a:r>
              <a:rPr b="1" lang="bg-BG" sz="1800" spc="-1" strike="noStrike">
                <a:solidFill>
                  <a:srgbClr val="000000"/>
                </a:solidFill>
                <a:latin typeface="Times New Roman"/>
                <a:ea typeface="Times New Roman"/>
              </a:rPr>
              <a:t>отчитане.</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окончателно плащане от бенефициент по договор за предоставяне на </a:t>
            </a:r>
            <a:r>
              <a:rPr b="0" lang="ru-RU" sz="1800" spc="-1" strike="noStrike">
                <a:solidFill>
                  <a:srgbClr val="000000"/>
                </a:solidFill>
                <a:latin typeface="Times New Roman"/>
                <a:ea typeface="Times New Roman"/>
              </a:rPr>
              <a:t>безвъзмездна финансова помощ може да се подава </a:t>
            </a:r>
            <a:r>
              <a:rPr b="1" lang="ru-RU" sz="1800" spc="-1" strike="noStrike">
                <a:solidFill>
                  <a:srgbClr val="000000"/>
                </a:solidFill>
                <a:latin typeface="Times New Roman"/>
                <a:ea typeface="Times New Roman"/>
              </a:rPr>
              <a:t>по всяко време преди </a:t>
            </a:r>
            <a:r>
              <a:rPr b="1" lang="bg-BG" sz="1800" spc="-1" strike="noStrike">
                <a:solidFill>
                  <a:srgbClr val="000000"/>
                </a:solidFill>
                <a:latin typeface="Times New Roman"/>
                <a:ea typeface="Times New Roman"/>
              </a:rPr>
              <a:t>изтичане срока на догово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755640" y="1305000"/>
            <a:ext cx="7272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енефициентът носи отговорност за поддържаната от него адекватна одитна пъте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ички документи, свързани с изпълнението на одобрените проекти, се съхраняват, като се картотекират и архивират по начин, улесняващ последващи проверки и съгласно указанията </a:t>
            </a:r>
            <a:r>
              <a:rPr b="0" lang="bg-BG" sz="1800" spc="-1" strike="noStrike">
                <a:solidFill>
                  <a:srgbClr val="000000"/>
                </a:solidFill>
                <a:latin typeface="Times New Roman"/>
                <a:ea typeface="Times New Roman"/>
              </a:rPr>
              <a:t>на У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рокът на съхранение на документите е </a:t>
            </a:r>
            <a:r>
              <a:rPr b="1" lang="ru-RU" sz="1800" spc="-1" strike="noStrike" u="sng">
                <a:solidFill>
                  <a:srgbClr val="000000"/>
                </a:solidFill>
                <a:uFillTx/>
                <a:latin typeface="Times New Roman"/>
                <a:ea typeface="Times New Roman"/>
              </a:rPr>
              <a:t>ТРИ години </a:t>
            </a:r>
            <a:r>
              <a:rPr b="1" lang="ru-RU" sz="1800" spc="-1" strike="noStrike">
                <a:solidFill>
                  <a:srgbClr val="000000"/>
                </a:solidFill>
                <a:latin typeface="Times New Roman"/>
                <a:ea typeface="Times New Roman"/>
              </a:rPr>
              <a:t>от приключване на програм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ъхранението на документите следва да е в съответствие с изискванията на Закона за счетоводството и чл. 90 от Регламент (ЕО )№ 1083/2006 на Съвета, срокът за съхранение на </a:t>
            </a:r>
            <a:r>
              <a:rPr b="0" lang="bg-BG" sz="1800" spc="-1" strike="noStrike">
                <a:solidFill>
                  <a:srgbClr val="000000"/>
                </a:solidFill>
                <a:latin typeface="Times New Roman"/>
                <a:ea typeface="Times New Roman"/>
              </a:rPr>
              <a:t>който е по-дълъ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В процеса на верификация </a:t>
            </a:r>
            <a:r>
              <a:rPr b="1" lang="bg-BG" sz="2000" spc="-1" strike="noStrike">
                <a:solidFill>
                  <a:srgbClr val="000000"/>
                </a:solidFill>
                <a:latin typeface="Times New Roman"/>
                <a:ea typeface="Times New Roman"/>
              </a:rPr>
              <a:t>бенефициентът следв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съфинансираните продукти и услуги са доставени и че декларираните от него разходи по проекта са действително извършени и са в съответствие с националните и общностните правил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използва система за записване и съхраняване в компютъризирана форма на счетоводните записи по проекта и че са правилни и верни данните, необходими за финансовото управление, мониторинг, проверки, одити и оценк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воденето на хронологично, двустранно и аналитично счетоводно отчитане в съответствие с изискванията на ЗС;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УКАЗАНИЯ ОТНОСНО ПРОЦЕСА НА КОНТРОЛ</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 ВЕРИФИКАЦИЯ НА РАЗХОДИТЕ</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всички документи относно разходите и одитите, необходими за адекватно проследяване на документите, се съхраняват в съответствие с изискваният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гарантира при представяне на </a:t>
            </a:r>
            <a:r>
              <a:rPr b="1" lang="bg-BG" sz="2000" spc="-1" strike="noStrike">
                <a:solidFill>
                  <a:srgbClr val="000000"/>
                </a:solidFill>
                <a:latin typeface="Times New Roman"/>
                <a:ea typeface="Times New Roman"/>
              </a:rPr>
              <a:t>отчет за разходите</a:t>
            </a:r>
            <a:r>
              <a:rPr b="0" lang="bg-BG" sz="2000" spc="-1" strike="noStrike">
                <a:solidFill>
                  <a:srgbClr val="000000"/>
                </a:solidFill>
                <a:latin typeface="Times New Roman"/>
                <a:ea typeface="Times New Roman"/>
              </a:rPr>
              <a:t>, че всички отчети за разходи по проекта включват общия размер на допустимите разходи, действително платени от него при изпълнение на проекта и съответното публично участие, което е платено или подлежи да бъде платено от него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носи цялостна отговорност за изпълнение на конкретен проект (включително и за провежданите от него процедури за определяне на изпълнител);</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верифицира разходите въз основа на фактури и/или други документи с еквивалентна доказателствена стойност за доставка на оборудване, извършване на строителни работи и/или предоставяне на услуги по проект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възстанови извършени разходи при констатиране на недопустимост или несъответствие на извършването им с националното и на Общностното законодателство;</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изготвя и подава периодични доклади за изпълнението на проекта (докладът трябва да бъде придружен с копия на фактури и потвърждение за допустимостта на извършените разходи) и подаването им към УО и подаването им към УО;</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разкрива нередности и да ги докладва на УО.</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1"/>
          <p:cNvSpPr/>
          <p:nvPr/>
        </p:nvSpPr>
        <p:spPr>
          <a:xfrm>
            <a:off x="755640" y="1557360"/>
            <a:ext cx="7272360" cy="385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в допустимите разходи в представения отчет са отразени всички възстановени суми, получени глоби и неустойки, натрупаните приходи по проектите, финансирани от Оперативната програма и всички получени лихви от забавени плащания във връзка с нередности;</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да гарантира, че осъществените мерки за информираност и публичност са в съответствие с националното и европейското законодателство;</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всички доставени стоки и/ или извършени услуги и/ или извършени строително-ремонтни дейности са действително осъществени и съответстват на решението за одобрение съгласно чл. 13, т. 2 от Регламент (ЕО) № 1828/2006 на Комисията;</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декларираните разходи не съдържат недопустим данък добавена стойнос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Целесъобразност – Законосъобразнос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Това означава, че бенефициентът следва да изисква и съхранява </a:t>
            </a:r>
            <a:r>
              <a:rPr b="0" lang="bg-BG" sz="1800" spc="-1" strike="noStrike">
                <a:solidFill>
                  <a:srgbClr val="000000"/>
                </a:solidFill>
                <a:latin typeface="Times New Roman"/>
                <a:ea typeface="Times New Roman"/>
              </a:rPr>
              <a:t>финансови и </a:t>
            </a:r>
            <a:r>
              <a:rPr b="0" lang="en-GB" sz="1800" spc="-1" strike="noStrike">
                <a:solidFill>
                  <a:srgbClr val="000000"/>
                </a:solidFill>
                <a:latin typeface="Times New Roman"/>
                <a:ea typeface="Times New Roman"/>
              </a:rPr>
              <a:t>счетоводни документи, съдържащи достатъчно информация по отношение на количество с необходими разбивки, приложения и т.н.</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a:t>
            </a:r>
            <a:r>
              <a:rPr b="0" lang="en-GB" sz="1800" spc="-1" strike="noStrike">
                <a:solidFill>
                  <a:srgbClr val="000000"/>
                </a:solidFill>
                <a:latin typeface="Times New Roman"/>
                <a:ea typeface="Times New Roman"/>
              </a:rPr>
              <a:t>зточниците за информация за постигнатите индикатори </a:t>
            </a:r>
            <a:r>
              <a:rPr b="0" lang="bg-BG" sz="1800" spc="-1" strike="noStrike">
                <a:solidFill>
                  <a:srgbClr val="000000"/>
                </a:solidFill>
                <a:latin typeface="Times New Roman"/>
                <a:ea typeface="Times New Roman"/>
              </a:rPr>
              <a:t>основно е </a:t>
            </a:r>
            <a:r>
              <a:rPr b="0" lang="en-GB" sz="1800" spc="-1" strike="noStrike">
                <a:solidFill>
                  <a:srgbClr val="000000"/>
                </a:solidFill>
                <a:latin typeface="Times New Roman"/>
                <a:ea typeface="Times New Roman"/>
              </a:rPr>
              <a:t>  нефинансова, техническа информация. Но също така там където е възможно финансовата документация следва да осигурява информация и за индикаторите.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Например, ако индикатор за проведено</a:t>
            </a:r>
            <a:r>
              <a:rPr b="0" lang="bg-BG" sz="1800" spc="-1" strike="noStrike">
                <a:solidFill>
                  <a:srgbClr val="000000"/>
                </a:solidFill>
                <a:latin typeface="Times New Roman"/>
                <a:ea typeface="Times New Roman"/>
              </a:rPr>
              <a:t> събитие</a:t>
            </a:r>
            <a:r>
              <a:rPr b="0" lang="en-GB" sz="1800" spc="-1" strike="noStrike">
                <a:solidFill>
                  <a:srgbClr val="000000"/>
                </a:solidFill>
                <a:latin typeface="Times New Roman"/>
                <a:ea typeface="Times New Roman"/>
              </a:rPr>
              <a:t> е брой </a:t>
            </a:r>
            <a:r>
              <a:rPr b="0" lang="bg-BG" sz="1800" spc="-1" strike="noStrike">
                <a:solidFill>
                  <a:srgbClr val="000000"/>
                </a:solidFill>
                <a:latin typeface="Times New Roman"/>
                <a:ea typeface="Times New Roman"/>
              </a:rPr>
              <a:t>участници</a:t>
            </a:r>
            <a:r>
              <a:rPr b="0" lang="en-GB" sz="1800" spc="-1" strike="noStrike">
                <a:solidFill>
                  <a:srgbClr val="000000"/>
                </a:solidFill>
                <a:latin typeface="Times New Roman"/>
                <a:ea typeface="Times New Roman"/>
              </a:rPr>
              <a:t>, то разходооправдателните документи за тези дейности трябва също да съответстват на заложените количеств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сички разходооправдателни документи по проекта трябва да се съставят при възможност самостоятелно от останалите документи на община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апример - когато бенефициентът купува канцеларски материали по проекта и други канцеларски материали за самата дейност на организацията, е необходимо да получи две фактури от доставчик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в всички разходооправдателни документи на бенефициента и партньорите, свързани с изпълнението на проекта, задължително трябва да е указано, че </a:t>
            </a:r>
            <a:r>
              <a:rPr b="1" lang="bg-BG" sz="1800" spc="-1" strike="noStrike">
                <a:solidFill>
                  <a:srgbClr val="000000"/>
                </a:solidFill>
                <a:latin typeface="Times New Roman"/>
                <a:ea typeface="Times New Roman"/>
              </a:rPr>
              <a:t>«разходът е по проект за безвъзмездна помощ по договор № ……. на ОПРР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468360" y="1557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20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зстановяването на средства по дадено искане за плащане се извършва в съответствие с процентните съотношения, заложени в бюджета на сключения договор за отпускане на БФП.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умата за всяко отделно бюджетно перо се изчислява с натрупван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 случай, че поисканите за възстановяване по дадено бюджетно перо/позиция средства надвишават определените процентни съотношения, заложени в бюджета на сключения договор за отпускане на БФП и указанията на УО, УО не верифицира разходите, с които сумата по съответното бюджетно перо/позиция надхвърля заложенит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бюджет процентни съотношения (УО не верифицира частично първични разходооправдателни документ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ези разходи могат да бъдат включени в следващо искане</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за плащане (подкрепени със съответните разходооправдателни документи) и сумите по тях да бъдат възстановени, в случай, че разходите по съответното бюджетно перо/позиция, с натрупване по последващото искане за плащане са в съответствие с процентните съотношения, заложени в бюджета на сключения договор за отпускане на БФП.</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МЕТОДИЧЕСКИ УКАЗАНИЯ ОТНОСНО ОПРЕДЕЛЯНЕ НА РАЗМЕРА НА ФИНАНСОВИТЕ КОРЕКЦИИ</a:t>
            </a:r>
            <a:endParaRPr b="0" lang="en-US" sz="1800" spc="-1" strike="noStrike">
              <a:solidFill>
                <a:srgbClr val="000000"/>
              </a:solidFill>
              <a:latin typeface="Calibri"/>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основание ПМС 134/05.07.2010г., на 08.07.2011 г. са одобрени </a:t>
            </a:r>
            <a:r>
              <a:rPr b="1" lang="bg-BG" sz="1800" spc="-1" strike="noStrike" u="sng">
                <a:solidFill>
                  <a:srgbClr val="000000"/>
                </a:solidFill>
                <a:uFillTx/>
                <a:latin typeface="Times New Roman"/>
                <a:ea typeface="Times New Roman"/>
              </a:rPr>
              <a:t>Методически указания</a:t>
            </a:r>
            <a:r>
              <a:rPr b="1" lang="bg-BG" sz="1800" spc="-1" strike="noStrike">
                <a:solidFill>
                  <a:srgbClr val="000000"/>
                </a:solidFill>
                <a:latin typeface="Times New Roman"/>
                <a:ea typeface="Times New Roman"/>
              </a:rPr>
              <a:t>, относно  определяне на размера на финансовите корекции за нарушения при изпълнението на проекти по ОПРР.</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Тези указания допълват  видовете санкции предвидените в ПМС 134, като третират изпълнението на индикаторите, дейностите, и др. параметри, конкретизирани в чл.12 от Указанията.</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Размерът на финансовите корекции е дефиниран в чл.13 от Указанията. Съгласно чл. 13, финансовите корекции, които могат да бъдат наложени са в размер от 0 до 100% в зависимост от вида на нарушението.</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
          <p:cNvSpPr/>
          <p:nvPr/>
        </p:nvSpPr>
        <p:spPr>
          <a:xfrm>
            <a:off x="466560" y="1209600"/>
            <a:ext cx="8498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АВАНСОВ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 НА ИСКАНЕ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Известие за изпращане на документ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одробен опис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риложение 9.7 - "Контролен лист за бенефициенти – авансово искане за плащане“</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оригина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Приложение 9.2 "Искане за плащане" – оригинал /подава се на хартиен и на електронен носител (компакт диск)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Нотариално заверено пълномощно – в случай, че документите към искането за плащане са подписани от лице, различно от официално представляващото бенефициента /подава се на хартиен носител при подаване на първо искане за плащане или при настъпили промени. Във всички останали случаи се подава на електронен носител (компакт диск) в “pdf” формат/. В пълномощното изрично трябва да са упоменати пълномощията на упълномощеното л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539640" y="2133720"/>
            <a:ext cx="7777440" cy="2984400"/>
          </a:xfrm>
          <a:prstGeom prst="rect">
            <a:avLst/>
          </a:prstGeom>
          <a:noFill/>
          <a:ln w="0">
            <a:noFill/>
          </a:ln>
        </p:spPr>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БЛАГОДАРЯ</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ЗА</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ВНИМАНИЕТО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395280" y="1413000"/>
            <a:ext cx="835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Договор с УО, неразделна част от който са и: бюджет по проекта , КСС, технически спецификации, анекси към договора и извършени изменения на договора /подават се на електронен носител (компакт диск) в “pdf” форм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Копие от решение на Управителния Съвет/Общински Съвет за издаване на Запис на Заповед/ Банкова гаранция /подава се в оригинал на харти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 Запис на заповед/ Банкова гаранция (подава се на хартиен носите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
          <p:cNvSpPr/>
          <p:nvPr/>
        </p:nvSpPr>
        <p:spPr>
          <a:xfrm>
            <a:off x="611280" y="1484280"/>
            <a:ext cx="806436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9. Копие от подписани договори (за основна дейност) на бенефициента в качеството му на възложител по дейности за строителство/доставки/услуги с включени клаузи за авансово плащане. При подаване на първо искане за плащане или при настъпили промени, документите се подават на хартиен носител. В останалите случаи тези документи се подават на електронен носител (компакт диск) в “pdf.” форм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a:off x="468360" y="1332000"/>
            <a:ext cx="8209080" cy="41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u="sng">
                <a:solidFill>
                  <a:srgbClr val="000000"/>
                </a:solidFill>
                <a:uFillTx/>
                <a:latin typeface="Times New Roman"/>
                <a:ea typeface="Times New Roman"/>
              </a:rPr>
              <a:t>ИСКАНЕ ЗА АВАНСОВО ПЛАЩАН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Times New Roman"/>
                <a:ea typeface="Times New Roman"/>
              </a:rPr>
              <a:t>ИНСТРУКЦИЯ ЗА ОКОМПЛЕКТОВАНЕ И ПОДРЕЖДАНЕ</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Times New Roman"/>
                <a:ea typeface="Times New Roman"/>
              </a:rPr>
              <a:t>НА ДОКУМЕНТАЦИЯТА ПРИ ПРЕДСТАВЯНЕ НА ИСКАНЕТО</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ъм т.9:</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сички анекси и приложения към договора, които са неразделна част от него;</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опие на банковите гаранции и представяне на извлечение от набирателната сметка за постъпване на парични гаранции за добро изпълнение по съответните договори (при подаване на първо искане за плащане по съответния договор ). Представят се на хартиен и електронен носител;</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Извлечение от счетоводната система – аналитични справки от счетоводната система на бенефициента, които да показват осчетоводяването на получената банкова </a:t>
            </a:r>
            <a:r>
              <a:rPr b="0" lang="bg-BG" sz="1900" spc="-1" strike="noStrike">
                <a:solidFill>
                  <a:srgbClr val="000000"/>
                </a:solidFill>
                <a:latin typeface="Times New Roman"/>
                <a:ea typeface="Times New Roman"/>
              </a:rPr>
              <a:t>или парична гаранция</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324000" y="1197000"/>
            <a:ext cx="82803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0. Копие на Акта за регистрация по ЗДДС, заверен „вярно с оригинала” /ако е приложимо/- подава се на електронен носител (компакт диск) в “pdf.” формат</a:t>
            </a:r>
            <a:r>
              <a:rPr b="1" lang="bg-BG" sz="2000" spc="-1" strike="noStrike">
                <a:solidFill>
                  <a:srgbClr val="000000"/>
                </a:solidFill>
                <a:latin typeface="Times New Roman"/>
                <a:ea typeface="Times New Roman"/>
              </a:rPr>
              <a:t>;</a:t>
            </a:r>
            <a:r>
              <a:rPr b="1" lang="bg-BG"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1. В случай, че бенефициентът не е регистриран по ЗДДС, следните документи се прилагат /на хартиен носител/:</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Копие от картата за идентификация по БУЛСТАТ;</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екларация с подпис и печат на представляващ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2. Приложение Е1-ІІІ -"Финансова идентификация" /При първо искане за плащане или при настъпили промени се подава на хартиен носител. В останалите случаи се подава на електронен носител (компакт диск) в “pdf” форма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1"/>
          <p:cNvSpPr/>
          <p:nvPr/>
        </p:nvSpPr>
        <p:spPr>
          <a:xfrm>
            <a:off x="395280" y="1197000"/>
            <a:ext cx="8064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АВАНСОВ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 НА ИСКАНЕ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3. </a:t>
            </a:r>
            <a:r>
              <a:rPr b="0" lang="ru-RU" sz="1800" spc="-1" strike="noStrike">
                <a:solidFill>
                  <a:srgbClr val="000000"/>
                </a:solidFill>
                <a:latin typeface="Times New Roman"/>
                <a:ea typeface="Times New Roman"/>
              </a:rPr>
              <a:t>Заповед за екипа по проекта (подава се на хартия при първо искане за плащане и на електронен носител (компакт диск) в “pdf.” формат при последващи искания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 Сканирана версия на частта от СФУК и сметкоплана на организацията, които пряко се отнасят до дейностите, свързани с реализирането на по ОПРР (подава се само с първо искане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Приложение 9.49- - "Декларация-опис", описваща съдържанието на електронния носите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6. Електронен носител - 2б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10253f"/>
                </a:solidFill>
                <a:uFillTx/>
                <a:latin typeface="Times New Roman"/>
                <a:ea typeface="Times New Roman"/>
              </a:rPr>
              <a:t>Документите на електронен носител трябва да бъдат сканирани! Всички копия на хартиен и електронен носител трябва да са заверени с текст „вярно с оригинала”, подпис на представляващия бенефициента и печ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Militsa</cp:lastModifiedBy>
  <dcterms:modified xsi:type="dcterms:W3CDTF">2012-11-21T14:41:39Z</dcterms:modified>
  <cp:revision>336</cp:revision>
  <dc:subject/>
  <dc:title>Слайд 1</dc:title>
</cp:coreProperties>
</file>