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65CE6-E8B1-46BD-A917-9CCBAC75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5CD72-2550-4210-985A-180D6553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DD4E1-A62F-409D-ACD9-B9864A50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4E36A-E193-4E71-BEBC-4F13B961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2FDEB-5735-40EF-979C-25BEC88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95CB2-32D0-4A10-962A-BA4BC1DF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88D7E-3956-492E-A63E-FA59C7B0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830F-95A8-4D45-8025-172F4753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B5B9B-E280-4C40-8CA9-D5253288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88EE2-EDF9-4175-AF48-CA2F67D8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ACDA0-D0BD-4332-AE8E-F8DCF6C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AC07A-86ED-43EA-8763-DCF9B196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8A05F-28AA-4EEB-AC70-DC6663E9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7826D-0C0D-4F34-BA33-BE021C6E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B6AB8-ABDC-4833-A3EF-AE2EAE4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AF680-F539-400D-9DA4-00E85F1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345E8-9268-4D5D-9558-C6DF06E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FEF97-6EE9-4FD7-971D-43A929C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46E95-F823-4DA2-AEC8-CA08A269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FE2BB-FAFA-4A0C-8C28-A502280B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C1A48-7CA1-4028-866F-50DDAB19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229E2-E6EA-484A-8E96-AD86C1D3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40EF-C663-47D2-9801-91E804D3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235DA-C4B0-4128-818B-7C25ED07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ACC37-FCB2-4A83-B27D-A3DF4BB0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21C24-40D8-4BB1-8472-0A08E7E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CA279-DCFA-424C-A3A6-C9363BD1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E6DB6-FED3-4DDB-BFB8-28D227E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7E3FB-0790-4CF0-9926-35307C8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2CDC8-7E53-4A54-95EE-9F2427D7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1036-D34C-4C95-BA58-2594042D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6AA43-264B-4106-BA55-93A7B911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104B7-3BB3-47CE-B8EC-9337A6DF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1FFEF-6B19-4DB9-A2BA-FADA2587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E15B9-66E4-474D-AF42-3D438748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E18B9-F5F7-4326-9976-439CB920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F0120-16B6-4372-9C30-CA4973BA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FE1168-3CBE-48BA-B281-F662324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9BB86-B86E-4894-8A72-CA2EB33F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B58EA-5576-435B-A3B8-D010120E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FF1F4-AB55-4FE7-B876-E0B3FFDC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B85-F004-4EC2-A7A4-41A31A8D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B5A4E-BC6A-481A-B892-ACFC208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D9677-B432-4631-9541-97E3355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7B685-94A5-4EAD-B895-85FC27DB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A267B-9149-40DE-8234-5D775B87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7AE2F-D23D-4C63-B55B-04A536B5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E0C-F0D7-41EA-A07E-E667C09B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C49-9EF8-4C98-815D-274BD2C6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A70-087C-44FF-8A44-C3E27B54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CFF-7C29-4E6A-A624-32FEFF05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D45-E805-4609-95BF-698A4885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293-6F55-498F-A9AB-7083D5B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69F-7726-4647-997D-EED575D1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58B-40F5-4BC2-8F7C-67940649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1BA-C4D3-40DC-BBE3-994427BC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BD5-CF37-43B8-88BD-266B0157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31CA-1EF8-4293-BF3D-B407B3E3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4289-86B3-494D-856D-AF3F2752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98CC-27FD-4117-9826-0F0D0913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D03E-BB66-4442-80B7-2D90F70A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B32A-516B-4A90-8E78-F5E1AFDD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B0ED-00BC-4AB7-9189-5DB479D3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DA30-22A0-48F7-BB51-A9AE810A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F1EE-B2F4-43E0-B906-D9BF3007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8C3-DDD4-4A85-9159-4B3B1EF6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B0CD-C9F5-4E91-9979-A6BF4D7E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910F-5F68-4A43-94C3-EF7CEBFD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C95F-186E-44AD-AFE4-4E334C8F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FAF73-76BB-4104-8152-61FC515D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6CAA-566F-4E0F-8BB0-035A64FE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ED03-917F-4ACF-B716-3F2BCD0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862F-09CA-4B1B-8F47-D25D4DFE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036E-480B-477A-BFF4-5A88E316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4C9B-C9AB-4679-98E7-A4910A88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78A9-1D67-4223-B345-2B0FAC06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2FC8-9E24-4695-BF82-04572B0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5A67C-1078-4B49-8385-376D642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B01B-1520-475C-BF3D-22DC8DCE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31B1-1509-4CCE-A38E-15481BC2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FA28D-F183-4854-B978-D2980BB3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AA2B-0C3D-45A0-A5FF-9987E8DE1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89B4E-7402-4963-A951-0A26ABEF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6B65A-F4F8-4003-AD5E-F108A2EA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75F5-C3A7-4E4C-81C3-9A8AC59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2451-8A93-4FC8-8A47-A3C56F6B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05581-EE25-459E-AF03-DFA626A3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278C2-EA45-4467-ABEA-52D63D6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7571D-7668-4D78-B74D-9B7B283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D17EE-ABBE-4836-A8E9-1F8CBA53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AA95-7991-4C5A-9950-69B8CA4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AB33-CBCA-47C3-9987-DF3DF725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DB2C-1645-4754-91E7-DA276734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DCF5-26E9-43B6-B3B8-93798D25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B39C-DDB5-4767-82F7-D6711AC0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78A98-2AC4-4825-A190-CDA0F62A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22EA5-BA27-4AE9-921B-DA284092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228C-8A62-42DC-A840-09A61FD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762A1-D37F-4C4C-BF19-01002A8F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4E34F-DCCB-46B1-B4B6-5907C0C7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3F81F-7806-4ED9-A4E3-A51DB09C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AD546-94E4-4CD2-80DC-3BEB41B9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DCD8B-C473-4402-87C2-39A57102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2845-9D37-4294-AC25-0A1B3A1F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5902E-BCB3-4752-A0C1-9265D1F0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C45BE-74E4-465F-8707-7A3A2493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18D2-16F1-403E-882F-D2CBA557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1CC16-92EA-468F-BD05-0AD69DE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A609-E3A9-463B-A71E-529D8C83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A991B-27A9-4D5C-A773-4396EB7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3C41-F574-4F22-AF26-0BE59F40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D365-5320-422E-ABBC-E8B9AF6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0A03-655F-45D0-A953-D74BC5B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7793E-74B3-4DDC-BC91-C21EF14D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EE89-8C1D-4215-A983-C671FB80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74D4-1FB3-4180-B7DD-2FE429A5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25BA-1919-4D68-BB57-0C6B878A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4560F-CF61-451C-8940-3DD07DB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BF31-9C85-4635-81E2-77B5A6E9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161F4-6359-46C4-B899-0856BD7A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6FC6-9DAF-4F84-8336-EC3B86FA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4CB65-E1B8-4E4A-AFE4-55377D3B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02E92-DCED-4265-8E7D-D03CDDB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6737A-AFFA-4367-97E0-66677117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D26D-850A-4C96-8BDC-50534B9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733D7-D7AA-463F-B8ED-1A185166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CC9B3-5D77-448D-9823-BD4CAB6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F3448-C398-40DD-98F4-F14FEFA7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1751-6C92-44A8-A5EF-D1E8E82C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75793-38E8-4DDC-BE66-4708D997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CCE17-5C0C-4DA3-9C7E-5DA1647C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146BF-0B09-4499-917F-8B9F2544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B10-912A-4FB8-BAA2-4793BC6406C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06D1-76EC-4D72-8AB1-A4760A49021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7A14-0D43-464E-8D00-787EC2F1018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471-2314-43A6-B180-235AF40BD3E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F965-D8D4-421C-AF3D-B648DD3C60B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529E-6E3A-4550-8E68-CD61BA3B872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FDFA-28B5-4DF9-848C-5929234C1E2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C6C3-3A74-4128-B187-E3185FD8B3B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C4B6-79DA-41A3-A382-14F817249C1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09F-424E-431E-86D2-3FB5B4060F1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7B91-C7A1-487B-A79D-96074D31839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предоставян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ъзмездна финансова помо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1-08/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НА ДОГОВОРИТЕ З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АКТУАЛИЗИРА ПРОЦЕДУРИТЕ ПО «ВЪТРЕШЕН МОНИТОРИНГ», КАТО ВЪВЕЖДА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ТО ОТ БЕНЕФИЦИЕНТА НА ПРОВЕРКА НА МЯСТОТО НА ИЗПЪЛНЕНИЕ НА СЪОТВЕТНАТА ДЕЙНОСТ, КОЕТО ЩЕ БЪДЕ УДОСТОВЕРЕНО С ПОДПИСВАНЕТО НА ДВУСТРАНЕН КОНСТАТИВЕН ПРОТОКОЛ, УДОСТОВЕРЯВАЩ СЪОТВЕТСТВИЕТО МЕЖДУ ЗАЛОЖЕНИ, АКТУВАНИ И РЕАЛНО ИЗПЪЛНЕНИ СТРОИТЕЛНО-МОНТАЖНИ РАБОТИ (СМ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ИТНА ПЪТЕКА НА БЕНЕФИЦИЕН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СЛЕДОВАТЕЛНОСТ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ТА, УЧАСТВАЩИ В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Я СРОК/ПЕРИОДА ЗА ИЗВЪРШВАНЕ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ЪТ – Т.Е. КОЙ ИЗПРАЩА ДОКУМЕНТ И КАК, КЪДЕ СЕ СЪХРАНЯВАТ ДОКУМЕН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Н ФОРМАТ ОТ СВЪРЗАНИ ФОРМИ ЗА КАНДИДАТСТВАНЕ/ИСКАНИЯ, УВЕДОМЛЕНИЯ, ДОКЛАДИ, </a:t>
            </a: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А НА ИНФОРМАЦИЯ, ДОКУМЕНТИ, ДОКЛАДИ И Т.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ВЪТРЕШНО ОТЧИТАНЕ И МОНИТОРИНГ Е ПРЯКА ФУНКЦИЯ ОТ ИНСТИТУЦИОНАЛНАТА ОРГАНИЗАЦИЯ НА ПРОЕКТА И ВКЛЮЧ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И АНАЛИЗ НА ИНФОРМАЦИЯ ЗА НАПРЕДЪК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ОТЧЕТИ; КОНТРОЛ ВЪРХУ ПОСТИГАНЕ НА ПРОЕКТНИТЕ ИНДИКАТ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НА ВЗИМАНЕ Н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ВЪТРЕШНО ОТЧИТАНЕ И МОНИТОРИНГ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СЪХРАНЯВА НА БЕЗОПАСНО И ДОСТЪПНО МЯ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-МАЛКО О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И СЛЕД ПРИКЛЮЧВАНЕ НА ОПЕРАТИВ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ИГУРЯВА ДОСТЪП ДО ПРОЕКТНОТО ДОСИЕ ЗА ОДИТИРАЩИ ОРГ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ЕКЛАРИРА СЪГЛАСИЕ КОМПЕТЕНТНИЯТ ОРГАН ПО ПРИХОДИТЕ ПО МЕСТОРЕГИСТРАЦИЯ ДА ПРЕДОСТАВЯ ИНФОРМАЦИЯ НА ДОГОВАРЯЩИЯ ОР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ДДЪРЖА АКТУАЛЕН РЕГИСТЪР НА ДОКУМЕТООБОР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ДВИЖЕНИЕТО НА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ПРОЕКТНОТО ДОСИЕ И СЛЕД ПРИКЛЮЧВАНЕ НА ПРОЕКТНИТЕ ДЕЙ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СТИГНЕ СЪВМЕСТИМОСТ МЕЖДУ СИСТЕМАТА ЗА ДОКУМЕТООБОРОТ НА БЕНЕФИЦИЕНТА И ИЗИСКВАНИЯТА НА 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ГАРАНТИРА ПРИЕМСТВЕНОСТ И ИНСТИТУЦИОНАЛНА ПАМ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НИТЕ ДОКУММЕТИ ПО ПРОЕКТА ПРИ ВЪЗМОЖНОСТ ДА СЕ СЪХРАНЯВАТ ОТДЕ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ИЗИСКВАЩИ ОДОБРЕНИЕ ОТ СТРАНА НА У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(СКЛЮЧВАНЕ НА ДОПЪЛНИТЕЛНО СПОРАЗУМЕНИЕ/ИЗДАВАНЕ НА ЗАПОВЕД ЗА ИЗМЕН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, КЛАСИФИЦИРАНИ КАТО УВЕДОМ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БАНКОВАТА СМЕТКА ИЛИ ПОДСМЕТКА, ПОСОЧЕНА В ИСКАНЕТО ЗА АВАНСОВО ПЛАЩ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ПОЩЕНСКИ АДРЕС, ТЕЛЕФОНИ, ЕЛЕКТРОНЕН АДРЕ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НАИМЕНОВАНИЕТО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ЗАКОННИЯ ПРЕДСТАВИТЕЛ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/ ПРОМЯНА НА ЧЛЕНОВЕТЕ НА ЕКИПА ПО ПРОЕКТА (ПРИ ПРОЕКТИ, РАЗЛИЧНИ ОТ ИНФРАСТРУКТУРН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ИТЕЛНО РАЗМЕСТВАНЕ В ГРАФИКА ЗА ИЗПЪЛНЕНИЕ НА ПРОЕКТА, КОЕТО НЕ ВОДИ ДО ОТПАДАНЕ НА ЧАСТ ОТ ПРОЕКТНИТЕ ДЕЙ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РЕГИСТРИРАНИЯ ОДИТОР ИЛИ НА ФИРМАТА ЗА ОДИТ, КОИТО СЛЕДВА ДА ОСЪЩЕСТВЯТ НЕЗАВИСИМИЯ ОД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, ОДОБРЕН НА ЕТАП ОЦЕНКА НА ПРОЕКТНОТО ПРЕД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И СМЯНА НА ЧЛЕНОВЕ ОТ ЕКИПА ПО ИЗПЪЛНЕНИЕТО НА ПРОЕКТА (САМО ЗА ИНФРАСТРУКТУРНИ ПРОЕК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8"/>
          <p:cNvSpPr/>
          <p:nvPr/>
        </p:nvSpPr>
        <p:spPr>
          <a:xfrm>
            <a:off x="250920" y="2637000"/>
            <a:ext cx="8497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ПРЕДИ ПРОВЕЖДАНЕ НА ПРОЦЕДУРИ ЗА ИЗБОР НА ИЗПЪЛНИТЕЛ ПРЕДИ СКЛЮЧВАНЕ НА ДОГОВОР С ИЗПЪЛНИТЕЛ НА СМР – САМО В РЕЗУЛТАТ НА РАЗРАБОТВАНЕ/АКТУАЛИЗАЦИЯ НА ТЕХНИЧЕСКИ ИЛИ РАБОТ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– ПРОМЯНАТА СЕ ОДОБРЯВА ПРИ ВЕРИФИЦИРАНЕ НА ИСКАНЕ ЗА ПЛАЩ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ЛАНИРАНЕ И АДМИНИСТРИРАНЕ НА ПРОЕКТНИТЕ ДЕЙ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250920" y="2637000"/>
            <a:ext cx="8497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ЗПРЕДЕЛЕНИЕ НА СРЕДСТВАТА МЕЖДУ БЮДЖЕТНИ ПЕРА В РАМКИТЕ НА ЕДИН БЮДЖЕТЕН РАЗДЕЛ. ТАКОВА ПРЕРАЗПРЕДЕЛЕНИЕ Е ДОПУСТИМО ЕДИНСТВЕНО ПРИ ПРЕРАЗПРЕДЕЛЕНИЕ МЕЖДУ ОБЕКТИТЕ НА ИНТЕРВЕНЦИЯ НА: СРЕДСТВА/РАЗХОДИ ЗА СМР, СРЕДСТВА/РАЗХОДИ ЗА СТРОИТЕЛЕН НАДЗОР, СРЕДСТВА/РАЗХОДИ ЗА АВТОРСКИ НАДЗОР СЛЕД  ИЗВЪРШВАНЕ НА ПРОЦЕДУРИТЕ ЗА ВЪЗЛАГАНЕ НА ОБЩЕСТВЕНИ ПОРЪЧКИ ПО СЪОТВЕТНИТЕ БЮДЖЕТНИ ПЕРА И ПРИ УСЛОВИЕ, ЧЕ НЕ СЕ ПРОМЕНЯ ОБЩИЯТ РАЗМЕР НА БЕЗВЪЗМЕЗДНАТА ФИНАНСОВА ПОМОЩ ЗА СМР, СЪОТВЕТНО ЗА СТРОИТЕЛЕН НАДЗОР ИЛИ ЗА АВТОРСКИ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250920" y="2637000"/>
            <a:ext cx="8497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АНЕКС ЗА 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СРОКА ЗА ИЗПЪЛНЕНИЕ НА ДОГОВОРА/ЗАПОВЕДТА ЗА БЕЗВЪЗМЕЗДНА ФИНАНСОВА ПОМОЩ (ЕДНОКРАТНО УВЕЛИЧАВАНЕ ДО МАКСИМАЛНО ДОПУСТИМАТА ПРОДЪЛЖИТЕЛНОСТ НА ПРОЕКТ СЪГЛАСНО НАСОКИТЕ ЗА КАНДИДАТСТВАНЕ ПО СЪОТВЕТНАТА СХЕМ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ПРАВНИЯ СТАТУТ НА БЕНЕФИЦИЕНТ/ ПАРТНЬ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ДОГОВОРЕНИТЕ ДЕЙНОСТИ ПО ПРОЕКТА, КОЯТО ВОДИ ДО ВЪВЕЖДАНЕ НА НОВИ ДЕЙНОСТИ/НОВИ БЮДЖЕТНИ ПЕРА/НОВИ ВИДОВЕ И/ИЛИ КОЛИЧЕСТВА СМР/НОВИ ВИДОВЕ И/ИЛИ КОЛИЧЕСТВА В ТС. ОСВЕН В СЛУЧАИТЕ НА НЕПРЕОДОЛИМА СИЛА, ВЪВЕЖДАНЕТО НА НОВИ ДЕЙНОСТИ/НОВИ БЮДЖЕТНИ ПЕРА/НОВИ ВИДОВЕ И/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СА РЕЗУЛТАТ ОТ  НЕДОБРОТО ИЗПЪЛНЕНИЕ НА ДОГОВОР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ИТО И ДА БИЛО ПРОМЕНИ, КОИТО СЪЩЕСТВЕНО ПРОМЕНЯТ ХАРАКТЕ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 С ДРУГ, КОЙТО НЕ ОТГОВАРЯ НА ИЗИСКВАНИЯТА НА УПРАВЛЯВАЩИЯ ОРГАН ЗА РЪКОВОДИТЕЛ НА ИНФРАСТРУКТУРЕН ПРОЕКТ; СМЯНА НА ЧЛЕН НА ЕКИПА С ДРУГ, КОЙТО НЕ ОТГОВАРЯ НА ИЗИСКВАНИЯТА НА УПРАВЛЯВАЩИЯ ОРГАН ЗА ЧЛЕН НА ЕКИПА НА ИНФРАСТРУКТУР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О ИЛИ ЗАКЪСНЯЛО ПИСМЕНО УВЕДОМЛЕНИЕ ЗА ИЗВЪРШВАНЕТО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А ИЛИ НЕУБЕДИТЕЛНА АРГУМЕНТАЦИЯ ЗА ИЗВЪРШВАНЕ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ТА ОТ ИЗВЪРШВАНЕ НА ПРОМЯНАТА Е НЕДОСТАТЪЧНА ИЛИ НЕУБЕДИТЕ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ТАТ НА ПРОМЯНАТА Е ЗАСТРАШЕНО ПОСТИГАНЕТО НА ПЛАНИРАНИТЕ РЕЗУЛТАТИ ИЛИ УСПЕШНОТО ИЗПЪЛНЕНИЕ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ПОСТАВЯТ ПОД СЪМНЕНИЕ РЕШЕНИЕТО ЗА ОТПУСКАНЕ НА БЕЗВЪЗМЕЗД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 В РАЗХОДИ ЗА „ОРГАНИЗАЦИЯ И УПРАВЛЕНИЕ”, ВОДЕЩИ ДО УВЕЛИЧАВАНЕ В РАЗМЕРА НА ОПРЕДЕЛЕНИТЕ В ДОГОВОРА ВЪЗНАГРАЖДЕНИЯ ЗА ПОЛОЖЕН ТРУД, БРОЙ ЕДИНИЦИ И ЕДИНИЧНА МЯРКА, КАКТО И ПРЕРАЗПРЕДЕЛЕНИЕ НА ВЪЗНАГРАЖДЕНИЯ МЕЖДУ ЧЛЕНОВЕТЕ НА ЕКИПА ПО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ВОДЕЩИ ДО УВЕЛИЧАВАНЕ НА РАЗМЕРА НА ОТПУСНАТАТА БЕЗВЪЗМЕЗДНАТА ФИНАНСОВА ПОМОЩ ПО ПРОЕКТА, С ИЗКЛЮЧЕНИЕ НА ПРОЕКТИ ПО ПРОЦЕДУРИ ЗА ДИРЕКТНО ПРЕДОСТАВЯНЕ НА БЕЗВЪЗМЕЗДНА ФИНАНСОВА ПОМОЩ С ЕДИН ЕДИНСТВЕН КОНКРЕТЕН БЕНЕ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8"/>
          <p:cNvSpPr/>
          <p:nvPr/>
        </p:nvSpPr>
        <p:spPr>
          <a:xfrm>
            <a:off x="250920" y="2637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ДБФП – ТОЙ Е НАЙ-ДОБРОТО СРЕДСТВО ЗА КОМУНИКАЦИЯ С У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ЪРЖАЙТЕ РЕГУЛЯРНА КОМУНИКАЦИЯ С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РЕДОВНО СТРАНИЦАТА НА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УНИКАЦИЯ С УО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ТО УПРАВЛЕНИЕ СЕ ОПРЕДЕЛЯ КАТО ПРОЦЕС НА РАЗРАБОТВАНЕ, ПЛАНИРАНЕ, МОНИТОРИНГ, РЕАЛИЗАЦИЯ  И КОНТРОЛ НА ПРОЕКТА, ТАКА, ЧЕ ДА БЪДАТ ПОСТИГНАТИ ОПРЕДЕЛЕНИ РЕЗУЛТАТИ И ЕФ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НА ДОБРОТО ПРОЕКТНО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КЪМ РЕЗУЛ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ЕН ЦИКЪЛ И ЕФЕКТИВНО УПРАВЛЕНИЕ НА ПРОЕК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ХВАТ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ЦЕЛИТЕ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ВРЕМЕВИЯ ГРАФИК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АЧЕСТВ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ОМУНИКАЦИОННИТЕ ПРОЦ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ЩЕСТВЕНИТЕ ПОРЪЧКИ И ДОГОВОРИТЕ С ИЗПЪЛН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И ОБЛАСТИ НА ПРОЕКТНИЯ МЕНИДЖМЪ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 НА ОПРР ЗА ИЗБОР НА ЕК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С  330 ОТ 05.12.2011 Г. ЗА ДОПЪЛНЕНИЕ НА ПМС 62 ОТ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ИПИ ЗА ИЗПЪЛНЕНИЕ НА ПРОЕК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ОВЕ ЕК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50920" y="24922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РЕСУР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, КОЕТО ДА ГАРАНТИРА ЕФЕКТИВНА ИНВЕСТИЦИЯ С МИСЪЛ ЗА НЕЙНОТО БЪДЕЩ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УПРАВЛЕНИЕ НА РЕСУРС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НА ДОГОВОРИТЕ ЗА ИЗПЪЛНЕНИЕ Н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НА ПЪТ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 СЕ ПРИ ПЪРВО ИСКАНЕ ЗА ПЛАЩАНЕ ОТ СТРАНА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ТРЯБВА ДА БЪДЕ АДАПТИРАНА ЗА ЦЕЛИТЕ НА ИЗПЪЛНЕНИЕТО НА ДОГОВОРИ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 Е ПЪРВИ ЕТАП ОТ ПРОЦЕСА НА СЕРТИФИЦИРАНЕ И ПРЕДСТАВЛЯВА ПРОЦЕС НА НАБЛЮДЕНИЕ И КОНТРОЛ ВЪРХУ ФИНАНСОВИЯ И ФИЗИЧЕСКИЯ НАПРЕДЪК ПО ПРОЕКТИТЕ ЗА ПОТВЪРЖДАВАНЕ НА ПРИЕМЛИВОСТТА НА РАЗХОДИТЕ ЗА ИЗПЪЛНЕНИЕ НА ОДОБРЕНИЯ ПО ОПЕРАТИВНАТА ПРОГРАМА ПРОЕ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21T15:08:29Z</dcterms:modified>
  <cp:revision>341</cp:revision>
  <dc:subject/>
  <dc:title>Слайд 1</dc:title>
</cp:coreProperties>
</file>