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E98F7-7970-45B3-8016-E5E88D00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5B69F-478A-4897-B2AE-72100DAB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8A4A4-10CD-4118-9D3E-916F0EB0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5A3AC-2EA7-49D5-B97F-332177C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74BFE-0CCA-4DAA-B3A7-B3A6B599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A0DA5-A05D-49A5-B4C9-372F2ABA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84583-4DD3-4737-AC67-3A1E5C09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B8CA3-ED2E-4DE2-B371-59D07039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49AEF-44FE-409E-971C-A150D888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742BF-C3AC-452E-8D39-507DF820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97998-F5E7-4418-AEE1-D6B5A529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DC947-C10D-4F84-A519-F35D731E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758E0-1EA1-4495-AC4D-D30E77D5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A82A0-527B-4926-87B9-6CF92B6E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AD458-98DD-47A8-95AD-38960364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02602-6F50-4512-BCA3-3CC59D40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BAE6B-6C15-4A35-94E0-63AD4EAF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CBB71-A074-46B7-A986-C68E14FB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3A45B-6956-4ECC-9F2A-75D603F2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1D145-AC9D-4290-A2F1-C26DC7AA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44C6F-CB3A-4340-AB21-494879CA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2EE85-9EB8-4B21-B41A-B4F0E82A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3F972-F5BC-4B9B-A803-E8A18EAF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E68B4-E23C-4773-8399-9554AA24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9198F-24FC-4FE9-A031-E6B88CC7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6819C-FCE3-46C7-B989-F0D73676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6FEBF-A1E7-4016-AC56-318C91F9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A6303-CA62-4E65-9F8B-4DF1DD8F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BB2BA-C18B-4700-BBE1-5F54AE9A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6202D-78E6-4581-855C-638A37F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80D-B8BE-4ECF-9DD3-06DEBCE8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645F4-023A-4A02-916D-6F9D512F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1EA24-84D8-4421-BBD1-079DA403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30736-BDFF-4956-B754-0383A816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4B11F-7957-4B6D-A0BF-BBCD9A62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89499-4215-43E6-871D-EDDBAE7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A2B20-9E06-4A3C-98F6-41ACAC3C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9C557-5D47-4733-8B89-C7554AA1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24CF5-210C-4E5E-A652-A01941D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C57CB-7009-44D0-B10B-997D8739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8E39-2B8C-454F-9298-D22E2F57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CB0-9953-4061-AD31-58237996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B003C-47C9-47DF-A574-FAE5B95D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42670-926C-4B48-A95D-67974997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F552C-ED50-46F1-BD99-505403FC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9F88F-48F9-4189-B698-E80B134F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3C9E9-8C41-4461-8C66-BFF22EB9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0F8-81AA-416A-AA8A-F22D211A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EF4-68A8-49F2-9E87-05E12D54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FC7-8E27-4233-A1F5-AFF9865E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805-9D18-425E-AB0A-FB0F2213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4E6-8BBD-4E59-9B53-36FDB673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F42-0A03-454C-A65F-B913DCB0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BA4-2C7B-4813-B00A-DD41F2A7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214-8CCE-4772-9FD0-D68B8420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162-D892-4DF0-95E2-2642AA50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DEC-9444-455C-B2F2-1E6C7ACE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A8AB-7643-47A4-B826-B0D22E26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B25F-A9D1-4C6A-82D6-D6F0B5B0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47E2-1F07-4ABD-BC2D-24BEB6D4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1A02-AA99-4D64-B3AC-95051B8B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61B1-DC96-450B-9304-817B8D60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6383-4BE5-434B-8F24-7E045732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92BE-3DCC-4176-B2EC-5E3C46A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420C-1A40-48E5-AD42-B41489E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B69A-0724-4F98-BD38-55C4F6D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2789-BD09-443A-9A32-E790DB8C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11CB-E9B7-42CB-836D-357476C9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29FB-2CFA-4919-BFB5-F115B781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5BC27-E3BD-4136-9BCD-71936811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E102-6F62-4AC0-B2DD-3FDD6400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B789-78F4-44D2-95C5-623FB1E4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92C7-B6ED-4F66-BF66-C3968565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F104C-6193-43DF-A24A-A5C281B5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DB66-BAF3-43EE-91AB-993FDE26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5831-B18D-4A7E-957C-D7FB541B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EF091-8401-48BC-B496-01F64DEF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2D85-3426-4217-A138-2218E0E9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11271-61D6-4A2C-8A5C-3A0B293E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C4B00-AF22-4D2F-96D6-9EDBF519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8FA2-C5C7-44FE-BE3B-FE5E0BE8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BC3E-62B1-45E6-9B85-587B13E4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1D8C-54CC-46D6-94F8-64159BCA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E2C88-2DCD-432B-BBCD-5DD0E0A2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7059-2E8A-4B1C-92D3-EC6A3B13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8470-2492-4123-B98E-AEEE85A1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72DC-0B8B-407E-A035-A488C7AB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74A5D-D321-4A7F-9100-487043FC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BE2B-EBA2-412F-B06B-8C9C611D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00591-D7B8-4218-99C2-B0F1EB9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FD1CE-8723-40F0-9C92-EEEF81EC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7371-1256-4A9C-8DC7-7420B9FE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F85A5-97FD-4DEF-9C75-7637EA84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11610-3679-430B-8B4B-75D3CBE3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1618B-872D-483B-9419-FA1BEA11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41B8E-1655-4E9A-A972-A512EAE9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2CA6A-41E6-4A62-8F0D-4196F535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8CBBD-0126-4E0E-B410-A0364475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20623-2D5A-458D-835B-D2382DCD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FE917-AE68-4DBE-9D5B-8ECA320C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E4916-0B11-4B09-9EB9-5C6E713F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DEB21-72B8-41AC-8590-8A6EA52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A2AF-3DB7-4E24-A9A5-B8719258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A10D9-CD1D-42ED-AD1B-D8D63D02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40796-7F90-411C-9D9E-3B7C0012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B7E72-5B25-47DE-869F-C43A3426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F9E6F-1DA1-4FF3-8E02-468B89C5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FC71D-B395-465B-8BA5-B5942F34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0EFA5-D35F-4822-8CB9-03A15B11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9D32A-F57D-4823-8359-5C08D0A4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AF61-6325-487C-A7CB-8BC888EA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16EBF-2C62-4643-85C9-11DCF8C3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4D3D1-DCDF-4B73-9177-435084C8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63064-1576-4474-8FED-D45F824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35D0B-6863-4914-918C-40AB916B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F1E9D-14E9-4083-B082-DA159F9F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D2B13-6219-480C-88B9-E21DDCEF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5609D-712A-4929-A397-4DD138DD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49A67-D40B-4DA1-A41A-070E8258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713B7-71BF-4EBB-88C0-D172069A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53BA7-BB6C-4324-A19A-846F4810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C9A64-67AE-4F63-A114-32D4EF8B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90760-E58C-4416-8703-63708B07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9978C-9788-465A-9426-87307459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93F0C-419D-416F-A3BA-9244EAC3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CAEE6-E0F1-4C5D-A39C-52DF9742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3D98C-3C4C-4DCF-BAC9-0D11664D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EB083-789D-487F-8806-EF6AA1A1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21CA5-34A9-4BBF-962B-53C44C44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ACFC3-E9EC-4EDE-81F1-9961CFF8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0A268-6794-4D17-B3A0-DA461CBF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BC513-3F95-4FFD-9D7A-2E90DC3D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D7FD-4EE1-4573-B156-A5E408EE09E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2E8F-7CC3-4BAC-B52E-6EB429B9278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DCBD-AD94-4B4D-BCFC-540A20468A7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F32F-9ADC-487D-A713-B5AB8B45ACC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53D1-E528-4F02-A5AF-12A0869B960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5019-1B44-4E4F-AEE6-231AF63B5F2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D5AA-CB9E-4391-9837-822BC262437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E88A-45A7-4DAF-A4C1-D8E59A031BB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8BC1-73AA-4119-BDEC-A55BB95DBC7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879F-94BA-4F1D-883E-AAD949309CF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DC41-D4B7-45DB-A788-9A8EF2EFEA8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"/>
          <p:cNvSpPr/>
          <p:nvPr/>
        </p:nvSpPr>
        <p:spPr>
          <a:xfrm>
            <a:off x="468360" y="1557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и управление на проек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468360" y="2421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предоставяне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ъзмездна финансова помо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161PO001/1.1-08/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реконструкция, обновяване и оборудване на държавни лечебни и здравни заведения в градските агломерации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 НА ДОГОВОРИТЕ ЗА С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 НА ОПРР АКТУАЛИЗИРА ПРОЦЕДУРИТЕ ПО «ВЪТРЕШЕН МОНИТОРИНГ», КАТО ВЪВЕЖДА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ЖДАНЕТО ОТ БЕНЕФИЦИЕНТА НА ПРОВЕРКА НА МЯСТОТО НА ИЗПЪЛНЕНИЕ НА СЪОТВЕТНАТА ДЕЙНОСТ, КОЕТО ЩЕ БЪДЕ УДОСТОВЕРЕНО С ПОДПИСВАНЕТО НА ДВУСТРАНЕН КОНСТАТИВЕН ПРОТОКОЛ, УДОСТОВЕРЯВАЩ СЪОТВЕТСТВИЕТО МЕЖДУ ЗАЛОЖЕНИ, АКТУВАНИ И РЕАЛНО ИЗПЪЛНЕНИ СТРОИТЕЛНО-МОНТАЖНИ РАБОТИ (СМР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ИТНА ПЪТЕКА НА БЕНЕФИЦИЕН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И ПОСЛЕДОВАТЕЛНОСТ НА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ТА, УЧАСТВАЩИ В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ИЯ СРОК/ПЕРИОДА ЗА ИЗВЪРШВАНЕ НА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ЪТ – Т.Е. КОЙ ИЗПРАЩА ДОКУМЕНТ И КАК, КЪДЕ СЕ СЪХРАНЯВАТ ДОКУМЕН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Н ФОРМАТ ОТ СВЪРЗАНИ ФОРМИ ЗА КАНДИДАТСТВАНЕ/ИСКАНИЯ, УВЕДОМЛЕНИЯ, ДОКЛАДИ, </a:t>
            </a:r>
            <a:r>
              <a:rPr b="1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ТОЧНИКА НА ИНФОРМАЦИЯ, ДОКУМЕНТИ, ДОКЛАДИ И Т.Н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А ЗА ВЪТРЕШНО ОТЧИТАНЕ И МОНИТОРИНГ Е ПРЯКА ФУНКЦИЯ ОТ ИНСТИТУЦИОНАЛНАТА ОРГАНИЗАЦИЯ НА ПРОЕКТА И ВКЛЮЧ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БИРАНЕ И АНАЛИЗ НА ИНФОРМАЦИЯ ЗА НАПРЕДЪКА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 ОТЧЕТИ; КОНТРОЛ ВЪРХУ ПОСТИГАНЕ НА ПРОЕКТНИТЕ ИНДИКАТО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ВЪРХУ КАЧЕСТВО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НА ВЗИМАНЕ НА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ВЪТРЕШНО ОТЧИТАНЕ И МОНИТОРИНГ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СЪХРАНЯВА НА БЕЗОПАСНО И ДОСТЪПНО МЯС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-МАЛКО О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И СЛЕД ПРИКЛЮЧВАНЕ НА ОПЕРАТИВНАТА ПРОГРА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СИГУРЯВА ДОСТЪП ДО ПРОЕКТНОТО ДОСИЕ ЗА ОДИТИРАЩИ ОРГА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ДЕКЛАРИРА СЪГЛАСИЕ КОМПЕТЕНТНИЯТ ОРГАН ПО ПРИХОДИТЕ ПО МЕСТОРЕГИСТРАЦИЯ ДА ПРЕДОСТАВЯ ИНФОРМАЦИЯ НА ДОГОВАРЯЩИЯ ОРГ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8"/>
          <p:cNvSpPr/>
          <p:nvPr/>
        </p:nvSpPr>
        <p:spPr>
          <a:xfrm>
            <a:off x="25092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ДДЪРЖА АКТУАЛЕН РЕГИСТЪР НА ДОКУМЕТООБОР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ДВИЖЕНИЕТО НА ДОКУМЕН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ПРОЕКТНОТО ДОСИЕ И СЛЕД ПРИКЛЮЧВАНЕ НА ПРОЕКТНИТЕ ДЕЙ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ПОСТИГНЕ СЪВМЕСТИМОСТ МЕЖДУ СИСТЕМАТА ЗА ДОКУМЕТООБОРОТ НА БЕНЕФИЦИЕНТА И ИЗИСКВАНИЯТА НА О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ГАРАНТИРА ПРИЕМСТВЕНОСТ И ИНСТИТУЦИОНАЛНА ПАМ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ОВОДНИТЕ ДОКУММЕТИ ПО ПРОЕКТА ПРИ ВЪЗМОЖНОСТ ДА СЕ СЪХРАНЯВАТ ОТДЕЛ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ИЗИСКВАЩИ ОДОБРЕНИЕ ОТ СТРАНА НА У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(СКЛЮЧВАНЕ НА ДОПЪЛНИТЕЛНО СПОРАЗУМЕНИЕ/ИЗДАВАНЕ НА ЗАПОВЕД ЗА ИЗМЕН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, КЛАСИФИЦИРАНИ КАТО УВЕДОМ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БАНКОВАТА СМЕТКА ИЛИ ПОДСМЕТКА, ПОСОЧЕНА В ИСКАНЕТО ЗА АВАНСОВО ПЛАЩА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ПОЩЕНСКИ АДРЕС, ТЕЛЕФОНИ, ЕЛЕКТРОНЕН АДРЕ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НАИМЕНОВАНИЕТО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ЗАКОННИЯ ПРЕДСТАВИТЕЛ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/ ПРОМЯНА НА ЧЛЕНОВЕТЕ НА ЕКИПА ПО ПРОЕКТА (ПРИ ПРОЕКТИ, РАЗЛИЧНИ ОТ ИНФРАСТРУКТУРН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ИТЕЛНО РАЗМЕСТВАНЕ В ГРАФИКА ЗА ИЗПЪЛНЕНИЕ НА ПРОЕКТА, КОЕТО НЕ ВОДИ ДО ОТПАДАНЕ НА ЧАСТ ОТ ПРОЕКТНИТЕ ДЕЙ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РЕГИСТРИРАНИЯ ОДИТОР ИЛИ НА ФИРМАТА ЗА ОДИТ, КОИТО СЛЕДВА ДА ОСЪЩЕСТВЯТ НЕЗАВИСИМИЯ ОДИ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, ОДОБРЕН НА ЕТАП ОЦЕНКА НА ПРОЕКТНОТО ПРЕДЛО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 И СМЯНА НА ЧЛЕНОВЕ ОТ ЕКИПА ПО ИЗПЪЛНЕНИЕТО НА ПРОЕКТА (САМО ЗА ИНФРАСТРУКТУРНИ ПРОЕК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250920" y="2637000"/>
            <a:ext cx="84978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ПРЕДИ ПРОВЕЖДАНЕ НА ПРОЦЕДУРИ ЗА ИЗБОР НА ИЗПЪЛНИТЕЛ ПРЕДИ СКЛЮЧВАНЕ НА ДОГОВОР С ИЗПЪЛНИТЕЛ НА СМР – САМО В РЕЗУЛТАТ НА РАЗРАБОТВАНЕ/АКТУАЛИЗАЦИЯ НА ТЕХНИЧЕСКИ ИЛИ РАБОТ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СЛЕД СКЛЮЧВАНЕ НА ДОГОВОР С ИЗПЪЛНИТЕЛ НА СМР ЧРЕЗ ЗАМЕНИТЕЛНА ТАБЛИЦА ПРИ УСТАНОВЕНИ ПО ВРЕМЕ НА СТРОИТЕЛСТВОТО РАЗЛИКИ В ПРЕДВИДЕНИТЕ КОЛИЧЕСТВА НА ОТДЕЛНИТЕ ВИДОВЕ СМР ВСЛЕДСТВИЕ НАПРАВЕНИ ТОЧНИ ИЗМЕРВАНИЯ НА МЯСТОТО НА ИЗПЪЛНЕНИЕ – ПРОМЯНАТА СЕ ОДОБРЯВА ПРИ ВЕРИФИЦИРАНЕ НА ИСКАНЕ ЗА ПЛАЩА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250920" y="2637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ЛАНИРАНЕ И АДМИНИСТРИРАНЕ НА ПРОЕКТНИТЕ ДЕЙ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250920" y="2637000"/>
            <a:ext cx="84978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ЗПРЕДЕЛЕНИЕ НА СРЕДСТВАТА МЕЖДУ БЮДЖЕТНИ ПЕРА В РАМКИТЕ НА ЕДИН БЮДЖЕТЕН РАЗДЕЛ. ТАКОВА ПРЕРАЗПРЕДЕЛЕНИЕ Е ДОПУСТИМО ЕДИНСТВЕНО ПРИ ПРЕРАЗПРЕДЕЛЕНИЕ МЕЖДУ ОБЕКТИТЕ НА ИНТЕРВЕНЦИЯ НА: СРЕДСТВА/РАЗХОДИ ЗА СМР, СРЕДСТВА/РАЗХОДИ ЗА СТРОИТЕЛЕН НАДЗОР, СРЕДСТВА/РАЗХОДИ ЗА АВТОРСКИ НАДЗОР СЛЕД  ИЗВЪРШВАНЕ НА ПРОЦЕДУРИТЕ ЗА ВЪЗЛАГАНЕ НА ОБЩЕСТВЕНИ ПОРЪЧКИ ПО СЪОТВЕТНИТЕ БЮДЖЕТНИ ПЕРА И ПРИ УСЛОВИЕ, ЧЕ НЕ СЕ ПРОМЕНЯ ОБЩИЯТ РАЗМЕР НА БЕЗВЪЗМЕЗДНАТА ФИНАНСОВА ПОМОЩ ЗА СМР, СЪОТВЕТНО ЗА СТРОИТЕЛЕН НАДЗОР ИЛИ ЗА АВТОРСКИ НАДЗ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8"/>
          <p:cNvSpPr/>
          <p:nvPr/>
        </p:nvSpPr>
        <p:spPr>
          <a:xfrm>
            <a:off x="250920" y="2637000"/>
            <a:ext cx="84978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АНЕКС ЗА ИЗМЕ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СРОКА ЗА ИЗПЪЛНЕНИЕ НА ДОГОВОРА/ЗАПОВЕДТА ЗА БЕЗВЪЗМЕЗДНА ФИНАНСОВА ПОМОЩ (ЕДНОКРАТНО УВЕЛИЧАВАНЕ ДО МАКСИМАЛНО ДОПУСТИМАТА ПРОДЪЛЖИТЕЛНОСТ НА ПРОЕКТ СЪГЛАСНО НАСОКИТЕ ЗА КАНДИДАТСТВАНЕ ПО СЪОТВЕТНАТА СХЕМ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ПРАВНИЯ СТАТУТ НА БЕНЕФИЦИЕНТ/ ПАРТНЬ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ДОГОВОРЕНИТЕ ДЕЙНОСТИ ПО ПРОЕКТА, КОЯТО ВОДИ ДО ВЪВЕЖДАНЕ НА НОВИ ДЕЙНОСТИ/НОВИ БЮДЖЕТНИ ПЕРА/НОВИ ВИДОВЕ И/ИЛИ КОЛИЧЕСТВА СМР/НОВИ ВИДОВЕ И/ИЛИ КОЛИЧЕСТВА В ТС. ОСВЕН В СЛУЧАИТЕ НА НЕПРЕОДОЛИМА СИЛА, ВЪВЕЖДАНЕТО НА НОВИ ДЕЙНОСТИ/НОВИ БЮДЖЕТНИ ПЕРА/НОВИ ВИДОВЕ И/ИЛИ КОЛИЧЕСТВА Е НЕДОПУСТИМО ЗА ФИНАНСИРАНЕ ОТ БЕЗВЪЗМЕЗДНА ФИНАНСОВА ПОМОЩ И СЛЕДВА ДА СЕ ОТРАЗИ КАТО СОБСТВЕН ПРИНОС НА БЕНЕФИЦИЕНТА ПО БЮДЖЕТА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СА РЕЗУЛТАТ ОТ  НЕДОБРОТО ИЗПЪЛНЕНИЕ НА ДОГОВОР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ВИТО И ДА БИЛО ПРОМЕНИ, КОИТО СЪЩЕСТВЕНО ПРОМЕНЯТ ХАРАКТЕРА НА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 С ДРУГ, КОЙТО НЕ ОТГОВАРЯ НА ИЗИСКВАНИЯТА НА УПРАВЛЯВАЩИЯ ОРГАН ЗА РЪКОВОДИТЕЛ НА ИНФРАСТРУКТУРЕН ПРОЕКТ; СМЯНА НА ЧЛЕН НА ЕКИПА С ДРУГ, КОЙТО НЕ ОТГОВАРЯ НА ИЗИСКВАНИЯТА НА УПРАВЛЯВАЩИЯ ОРГАН ЗА ЧЛЕН НА ЕКИПА НА ИНФРАСТРУКТУР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О ИЛИ ЗАКЪСНЯЛО ПИСМЕНО УВЕДОМЛЕНИЕ ЗА ИЗВЪРШВАНЕТО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А ИЛИ НЕУБЕДИТЕЛНА АРГУМЕНТАЦИЯ ЗА ИЗВЪРШВАНЕ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ТА ОТ ИЗВЪРШВАНЕ НА ПРОМЯНАТА Е НЕДОСТАТЪЧНА ИЛИ НЕУБЕДИТЕЛ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ТАТ НА ПРОМЯНАТА Е ЗАСТРАШЕНО ПОСТИГАНЕТО НА ПЛАНИРАНИТЕ РЕЗУЛТАТИ ИЛИ УСПЕШНОТО ИЗПЪЛНЕНИЕ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ПОСТАВЯТ ПОД СЪМНЕНИЕ РЕШЕНИЕТО ЗА ОТПУСКАНЕ НА БЕЗВЪЗМЕЗДНАТА ПОМО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 В РАЗХОДИ ЗА „ОРГАНИЗАЦИЯ И УПРАВЛЕНИЕ”, ВОДЕЩИ ДО УВЕЛИЧАВАНЕ В РАЗМЕРА НА ОПРЕДЕЛЕНИТЕ В ДОГОВОРА ВЪЗНАГРАЖДЕНИЯ ЗА ПОЛОЖЕН ТРУД, БРОЙ ЕДИНИЦИ И ЕДИНИЧНА МЯРКА, КАКТО И ПРЕРАЗПРЕДЕЛЕНИЕ НА ВЪЗНАГРАЖДЕНИЯ МЕЖДУ ЧЛЕНОВЕТЕ НА ЕКИПА ПО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ВОДЕЩИ ДО УВЕЛИЧАВАНЕ НА РАЗМЕРА НА ОТПУСНАТАТА БЕЗВЪЗМЕЗДНАТА ФИНАНСОВА ПОМОЩ ПО ПРОЕКТА, С ИЗКЛЮЧЕНИЕ НА ПРОЕКТИ ПО ПРОЦЕДУРИ ЗА ДИРЕКТНО ПРЕДОСТАВЯНЕ НА БЕЗВЪЗМЕЗДНА ФИНАНСОВА ПОМОЩ С ЕДИН ЕДИНСТВЕН КОНКРЕТЕН БЕНЕФИЦИЕН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8"/>
          <p:cNvSpPr/>
          <p:nvPr/>
        </p:nvSpPr>
        <p:spPr>
          <a:xfrm>
            <a:off x="250920" y="263700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ДБФП – ТОЙ Е НАЙ-ДОБРОТО СРЕДСТВО ЗА КОМУНИКАЦИЯ С У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ЪРЖАЙТЕ РЕГУЛЯРНА КОМУНИКАЦИЯ С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РЕДОВНО СТРАНИЦАТА НА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МУНИКАЦИЯ С УО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539640" y="2133720"/>
            <a:ext cx="77774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ТО УПРАВЛЕНИЕ СЕ ОПРЕДЕЛЯ КАТО ПРОЦЕС НА РАЗРАБОТВАНЕ, ПЛАНИРАНЕ, МОНИТОРИНГ, РЕАЛИЗАЦИЯ  И КОНТРОЛ НА ПРОЕКТА, ТАКА, ЧЕ ДА БЪДАТ ПОСТИГНАТИ ОПРЕДЕЛЕНИ РЕЗУЛТАТИ И ЕФ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НА ДОБРОТО ПРОЕКТНО УП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КЪМ РЕЗУЛ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ЕКТЕН ЦИКЪЛ И ЕФЕКТИВНО УПРАВЛЕНИЕ НА ПРОЕКТ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25092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ХВАТА Н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ЦЕЛИТЕ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ВРЕМЕВИЯ ГРАФИК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АЧЕСТВО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 У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ОМУНИКАЦИОННИТЕ ПРОЦ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ЩЕСТВЕНИТЕ ПОРЪЧКИ И ДОГОВОРИТЕ С ИЗПЪЛН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АКТИЧЕСКИ ОБЛАСТИ НА ПРОЕКТНИЯ МЕНИДЖМЪ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25092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 НА ОПРР ЗА ИЗБОР НА ЕК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С  330 ОТ 05.12.2011 Г. ЗА ДОПЪЛНЕНИЕ НА ПМС 62 ОТ 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Я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ИПИ ЗА ИЗПЪЛНЕНИЕ НА ПРОЕК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ОВЕ ЕК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ИП ЗА УПРАВЛЕНИЕ/ ИЗПЪЛНЕНИ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250920" y="249228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РЕСУР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В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, КОЕТО ДА ГАРАНТИРА ЕФЕКТИВНА ИНВЕСТИЦИЯ С МИСЪЛ ЗА НЕЙНОТО БЪДЕЩ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УПРАВЛЕНИЕ НА РЕСУРС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НА ДОГОВОРИТЕ ЗА ИЗПЪЛНЕНИЕ НА С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ТНА ПЪТ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 СЕ ПРИ ПЪРВО ИСКАНЕ ЗА ПЛАЩАНЕ ОТ СТРАНА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ТРЯБВА ДА БЪДЕ АДАПТИРАНА ЗА ЦЕЛИТЕ НА ИЗПЪЛНЕНИЕТО НА ДОГОВОРИ ЗА 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 Е ПЪРВИ ЕТАП ОТ ПРОЦЕСА НА СЕРТИФИЦИРАНЕ И ПРЕДСТАВЛЯВА ПРОЦЕС НА НАБЛЮДЕНИЕ И КОНТРОЛ ВЪРХУ ФИНАНСОВИЯ И ФИЗИЧЕСКИЯ НАПРЕДЪК ПО ПРОЕКТИТЕ ЗА ПОТВЪРЖДАВАНЕ НА ПРИЕМЛИВОСТТА НА РАЗХОДИТЕ ЗА ИЗПЪЛНЕНИЕ НА ОДОБРЕНИЯ ПО ОПЕРАТИВНАТА ПРОГРАМА ПРОЕК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21T15:08:29Z</dcterms:modified>
  <cp:revision>341</cp:revision>
  <dc:subject/>
  <dc:title>Слайд 1</dc:title>
</cp:coreProperties>
</file>