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D2829-9FB8-4C38-A249-BEF5CC22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5F40D-0176-4340-8F31-D8FD30EB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91201-3F81-4A61-98E0-2B0673ED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94054-9422-43B7-9EFC-BE5EC95E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737F5-7A6A-439C-AA68-98917CEB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52BA4-6B90-4F9E-9586-ABD00642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5DCD4-9685-4F19-AAA3-B738C9C6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607F6-3F7C-45BA-9A97-D7B01EB1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21B81-3B8A-4198-8471-0FC0DD7A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7CEC5-99AA-4E22-98B1-9BBCD98F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F2F20-7E05-479B-A7BC-85F946F7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24010-6205-412E-9C75-0E49F5FC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84794-7AC1-46F6-8B2A-4FCE6B6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650D6-70C2-49D2-851B-B11465C9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4058D-464B-4F3A-A452-C784E317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836B8-F05C-4D6B-8947-89C712A5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6CD6D-225F-4D6F-A966-E4C56741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25271-30F9-4188-A2B3-422F02BA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5E9D5-3CCD-4678-8353-3065DC0D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FD69B-0898-48CA-BB11-64B82016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BE5D4-9AA4-40B2-871C-FEEBAC05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875A2-041F-4A2D-9D57-886C191F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4190A-FF7D-4727-B129-17B2376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88895-9E37-4CE5-A818-7E8A4580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0E1DB-E65C-4596-90BC-A6DDB66F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99C04-A2FD-4EEE-8165-213E287D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E31AA-EF30-43EB-A3CF-D89F36C5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0F4DA-A779-4FEB-B6DA-5A116477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6266B-147C-491B-9EFB-3F6A02EC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3AE7B-454F-4F29-AC72-8F9161A5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219-D8A0-4012-8F15-AFE2A61C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C9317-BF9B-484F-80B3-A4CC1497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AE2DD-56DF-48B5-A874-08E2CA6D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1205F-535E-41DE-AFF7-07291222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CD38B-69E9-41D1-BB39-73221032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38A76-DAF9-45A7-B296-A12D9230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FC475-03C7-4DAC-BA98-F336D6BD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2799-CE03-493A-953A-402C53AC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041A3-9D93-458C-B8B5-C249F4F8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EB885-32CA-4385-82B3-A5168A1B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08F72-1905-4A00-820E-60160117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3AF-4C3F-470E-843A-553593D3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95C77-6F1A-4E2E-8CAA-F5F2FBFF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C0DA1-DE3B-41D5-A84D-43160AED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BEB41-F9A4-4F56-9034-2B67056A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B23ED-1BA1-4C75-BB52-870F173C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16D27-94A9-4BE9-833F-B8869FD1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9CA-0EFA-4399-B511-83641A2B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972-675B-409A-A1C4-85889A7F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39A-584D-41BB-8179-27E2DC3D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7AB-F137-49D4-953B-CF4514F0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8EA-3BD2-425A-90FD-84D5BDA5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7F2-7404-46D8-ADBE-1634AF1E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A8D-053D-4E14-99A7-E630825B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440-1BE1-4134-AA46-2556E41F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DF7-9A2A-4A7F-AFB6-8F809DEF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7FF-717E-42D7-B45D-5E943692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78C3-B9F3-447F-AAE6-DEE4AC1A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B8B0-4ACF-48BB-B05E-035B5DDB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7C1B-E99D-4DE5-A5EE-476DBC76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C8AA-F61A-4895-A73B-27CE4F7A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B4F0-04D4-42E0-94FB-E3919415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B6AE-DDB0-4D57-8769-79434609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E820-EFD4-48F1-A596-C0748474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51BB-D776-4681-ABA4-51F06B82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58E3-E815-453A-9197-65452C9F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C46F-A8FF-4CE2-A762-FF724864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6068-D471-4EA4-90BE-FC403BA6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C1DB-7F23-478F-9416-6B55A436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5D52-2BD2-41B1-8EF0-E144AFF2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FDF9-990D-4B42-BC72-40C68099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568F6-4D7F-4748-9187-A92ED768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C1BD-CAB6-4C5C-AC33-3397764C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6BAC-763F-462D-9E7D-1F77F159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7C15-553B-4657-B826-73729B41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9BB0-8190-4787-8946-EDD1E69F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DDBF-1C97-4075-916A-B092A60C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FB8F-9E18-4D1A-9611-B3B9AFFF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C162-3337-4947-8805-D893C449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75F2-24D0-4A01-9F29-5C1A614C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524F7-7B11-48A8-A210-CB8E1B16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98C72-8B14-4965-AF8B-D4E29F55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25C2C-13E3-4CDB-B592-402189E9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74B52-ED8E-4C72-9A4B-17463AD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AF83C-BCC0-449B-A32E-C629F78A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4BC8-A27C-4B13-BBA9-8C77FC17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8314-E4FD-4F56-A883-354AF618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718D-57AE-4336-A992-D869DE21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FED2D-1800-47AF-8A8B-EE90435B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B965-B8D4-4E5E-9CC9-B968722A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7E4EA-DE42-4C67-A408-F2555E51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D55D7-B0BB-4797-8EE0-A7F93776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26BDE-851D-438C-B511-08E99859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DB97A-25BA-4318-9E71-0E577907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71B03-C13D-410A-BB28-F2FE1559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DB3A4-C0C8-4DAC-8CE4-41E7F75B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C06B3-95BA-4007-9D5F-3C64F463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9BAE2-7223-49B1-A824-41D43365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D0793-E639-49EA-84D5-7D0EEE3C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6A81B-2A87-4B7C-996F-62351095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FBBB1-E463-4C6C-A5D1-9FEC17AF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02E1-2C63-4E22-881F-8B3E0FC8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F8A10-77ED-4E33-B535-107E70D1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ABFBE-5A74-4D9B-9741-053FB0BE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4CFA1-C5C7-42DD-99A6-8681FC5A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FA30B-A3FA-4D89-870B-260AA44E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842DA-7CBE-4B53-A8AF-56AD7DE6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D23A9-9C00-4E8C-A5C8-52C6A075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8519C-5578-41F1-9D05-3D653054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A1209-9941-4EB0-9317-D4D8515E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EB194-7414-42A5-90F1-2F24E476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58429-9FBE-49FC-A940-49AD3EA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19F74-1003-4EFB-ABE0-A00EE6D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160F9-BC97-49DF-8611-F2DBA39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34FF-7F8A-47A9-8929-2A8A279E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E5CA0-A602-43F5-98AC-627C2E37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4E495-F8AB-4609-ACE9-42557354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B4F6-82DA-4AA8-AC26-46768A69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A4E40-EFE3-46CA-A8E6-53B88CA7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41954-D7D2-4C25-B2A4-DC5341A2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21B58-13AB-4225-B270-78DFB043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E6B53-9E0C-4347-8551-E3A3676A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2069B-8941-456B-B21F-73CEC0F8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3BE3F-CA67-4ECD-8B82-45820995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7653C-E33B-4B0C-8574-58693076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03A8F-B916-4A2F-AF2B-7DF19191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471F9-0806-4DE0-BAF9-E0166BD3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E917B-7338-44D6-9C76-361A5FFB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63DDC-3977-4005-A0D5-F813683C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D1219-DEF5-4AF1-9B08-85A07BF3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AFA87-E6B5-4007-A52F-70F8DBCA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73DAE-D5AA-4A81-9242-1A0B27E7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B513-FCA2-4BF3-8B76-D2AF6517996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5038-A60D-48EF-94D2-4382CF6447F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DABE-355A-461B-93D8-063AF1CED80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4424-8279-4D71-99D3-A9B33BA3F1D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3A11-97ED-400E-A07D-E3084F4633B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5317-4CB5-4339-8C9D-77218F81B1C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39DD-E8CC-47FE-9174-11B3C099B47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E7BC-BC84-49A3-8DC7-96F773F4DBB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6042-E4E2-429D-9653-3410EDE215B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FC87-459A-40DC-9E0E-F2DED2A8A58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2E1D-019B-49F6-97F9-3C93ED8F6DD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468360" y="1557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предоставяне на безвъзмездна финансова помощ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/1.1-08/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реконструкция, обновяване и оборудване на държавн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и 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ни заведения в градските агломераци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1" descr=""/>
          <p:cNvPicPr/>
          <p:nvPr/>
        </p:nvPicPr>
        <p:blipFill>
          <a:blip r:embed="rId1"/>
          <a:stretch/>
        </p:blipFill>
        <p:spPr>
          <a:xfrm>
            <a:off x="262080" y="1255680"/>
            <a:ext cx="86198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19320" y="1125360"/>
            <a:ext cx="6665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н цикъ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Group 3"/>
          <p:cNvGrpSpPr/>
          <p:nvPr/>
        </p:nvGrpSpPr>
        <p:grpSpPr>
          <a:xfrm>
            <a:off x="1042920" y="1844640"/>
            <a:ext cx="7345440" cy="3730680"/>
            <a:chOff x="1042920" y="1844640"/>
            <a:chExt cx="7345440" cy="3730680"/>
          </a:xfrm>
        </p:grpSpPr>
        <p:sp>
          <p:nvSpPr>
            <p:cNvPr id="627" name="AutoShape 4"/>
            <p:cNvSpPr/>
            <p:nvPr/>
          </p:nvSpPr>
          <p:spPr>
            <a:xfrm>
              <a:off x="1042920" y="1844640"/>
              <a:ext cx="7345440" cy="373068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5"/>
            <p:cNvSpPr/>
            <p:nvPr/>
          </p:nvSpPr>
          <p:spPr>
            <a:xfrm>
              <a:off x="2071080" y="2963880"/>
              <a:ext cx="161568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ен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5303160" y="2963880"/>
              <a:ext cx="190980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нтифициран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"/>
            <p:cNvSpPr/>
            <p:nvPr/>
          </p:nvSpPr>
          <p:spPr>
            <a:xfrm>
              <a:off x="2071080" y="4083120"/>
              <a:ext cx="161568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пъ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8"/>
            <p:cNvSpPr/>
            <p:nvPr/>
          </p:nvSpPr>
          <p:spPr>
            <a:xfrm>
              <a:off x="5303160" y="4083120"/>
              <a:ext cx="176292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иран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9"/>
            <p:cNvSpPr/>
            <p:nvPr/>
          </p:nvSpPr>
          <p:spPr>
            <a:xfrm>
              <a:off x="3687120" y="4953600"/>
              <a:ext cx="161568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нансиран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0"/>
            <p:cNvSpPr/>
            <p:nvPr/>
          </p:nvSpPr>
          <p:spPr>
            <a:xfrm>
              <a:off x="3687120" y="2093040"/>
              <a:ext cx="161568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рамиран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 flipV="1">
              <a:off x="2805840" y="3460680"/>
              <a:ext cx="720" cy="62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diamond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 flipH="1" flipV="1">
              <a:off x="2952720" y="4579920"/>
              <a:ext cx="73440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 flipH="1">
              <a:off x="5303160" y="4580280"/>
              <a:ext cx="88128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6331680" y="3461040"/>
              <a:ext cx="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>
              <a:off x="5303160" y="2341800"/>
              <a:ext cx="102816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6"/>
            <p:cNvSpPr/>
            <p:nvPr/>
          </p:nvSpPr>
          <p:spPr>
            <a:xfrm flipV="1">
              <a:off x="2805840" y="2341440"/>
              <a:ext cx="88128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>
              <a:off x="2511720" y="2217600"/>
              <a:ext cx="5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8"/>
            <p:cNvSpPr/>
            <p:nvPr/>
          </p:nvSpPr>
          <p:spPr>
            <a:xfrm>
              <a:off x="4274640" y="3212280"/>
              <a:ext cx="5875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684000" y="126792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АЗАНИЯ ЗА ПРОЦЕДУРА 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ПЪЛНЕНИЕ НА ПРОВЕРКИ НА МЯС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и на място се извършват за всички проек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ключените договори за предоставяне на безвъзмездна финансова помощ.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сички проекти с по-висока степен на риск се осъществява засилен контро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ите на място се разделят на следните основни групи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ови проверки на мяс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запни провер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и след приключване на проект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94920" y="162864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сключване на договор с изпълнит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ефициентът е длъжен да ползва следната сигнатура на възложените от него договори за строителство/доставки/услуги на изпълнители – (номер на договора за предоставяне на безвъзмездна финансова помощ) - (сигнатура за вида на договора за изпълнение) – </a:t>
            </a:r>
            <a:r>
              <a:rPr b="0" i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(доставки), U (услуги), S (строителство)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реден номер на сключения договор с изпълнител в рамките на договора за безвъзмездна помо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ефициентът е длъжен да предвиди в договорите за възлагане на обществени поръчки следните задължения към изпълнител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спазва изискванията за изпълнение на мерките за информация и публичност, определени в договора за безвъзмездна помо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осигурява достъп за извършване на проверки на място и оди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изпълнява мерките и препоръките, съдържащи се в докладите от проверки на мяс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докладва за възникнали неред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за възстановяване на суми по нередности, заедно с дължимата лихва и други неправомерно получени сред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информира Бенефициента-Възложител за възникнали проблеми при изпълнението на проекта и за предприетите мерки за тяхното разрешава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спазва изискванията за съхранение на документацията за проекта, определени в договора за безвъзмездна помо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cp:lastPrinted>2012-11-21T11:50:06Z</cp:lastPrinted>
  <dcterms:modified xsi:type="dcterms:W3CDTF">2012-11-21T11:51:55Z</dcterms:modified>
  <cp:revision>287</cp:revision>
  <dc:subject/>
  <dc:title>Слайд 1</dc:title>
</cp:coreProperties>
</file>