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7F0E1-D678-4172-B8D6-4A73AD7B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06655-FC7C-40EA-9653-0F65B72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3B2D-3D45-4651-91DE-E6471C61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03EAD-B7F0-4AC9-AC51-C0FCC179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65621-CA5B-49D8-82A1-22749DFF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2136-EF80-4147-B331-47942099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CA179-4E17-43E6-A9E4-A65A44C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7FE7-195A-46A8-815E-47435318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C82E9-B5A4-4086-8D27-A29D5CBD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84FF4-19B6-429B-AE46-4AA26F9D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FE422-8FA9-498F-88CD-CFB7FCCE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C8C86-6219-462B-AA95-3DD0FAC1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D8C98-D1A8-49B1-81DD-33D6A32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5F75F-9B6A-43F3-9F88-996FC1CC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7156B-1728-44E7-9B94-9A847F6F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7CBE-EBD7-401F-A2DC-E324919E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39E99-B726-4804-B292-21F8F1D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8AB83-6368-47C3-9ACA-A1576AC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37B6C-27CD-4103-B3B7-EE34867E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F284-8CA7-48D5-B16C-7D40702C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9C6BB-1F99-4DA7-B39F-7BDAA4D3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2EB8D-8E5B-4F1F-B8F4-3C0920B4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F743E-D2F0-4D66-9065-5FD832E0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5299D-F1A9-468C-8E21-FB86C87C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8C3A-A258-4935-BB2B-B10C5B1E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366B9-DDAC-4E44-AA7E-9D0402CB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38E2-CE26-4479-BD5A-1873DAA3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6E3F-4DE4-4A4E-9D89-6F95AD9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420F6-3999-4B46-AAD4-65DD759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E1DB7-559F-4ECD-8690-CE3DB6B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D07-1249-4C1C-B10E-63838A40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27E4F-743A-4A47-879F-60B3472E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6971C-4252-4F68-BF1D-14EA7758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A0062-9DB6-458D-B3B1-66C3D882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A2CB3-95AF-4FDA-AB23-FBB14732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A09EB-6171-4AD3-8348-09DD58B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9291C-66CC-485D-A297-9E642AD2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A1ED9-6D85-4705-9F4A-785AE3FB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F55E1-B074-4086-92DE-B4A789E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A516-FB72-4075-9DE8-BBD7FA0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F5695-4067-4560-AD06-8916634F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9BD-8D2E-4041-9399-88EF453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7DE1A-FAE9-4456-AAE8-0380D23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CFA8F-3F19-456F-9A73-564E798B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0E533-3E8E-4A24-91F7-4CC14166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FCF95-CE9D-4095-911D-26877C91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544AA-AD44-4619-8BE6-E4E16847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F1A-D0E7-4864-B44D-952E3734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9A9-DD5D-4C31-B728-ED5BC68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6F14-1FA9-4B17-88BF-7C14DF72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D106-97DC-4036-8552-7B5D7694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4B5-539E-477D-AE30-1AE893A3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106-7FE5-40FC-BC97-7C9F815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6CB-6CF4-4626-A8EE-2049346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0EF-8FC0-4001-BBCC-FB6FCCCC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30F-8B19-4D76-ABD0-1425C51F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727-4263-4A90-A863-9F287821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DEDA-706D-498A-90A8-B564A8E8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32E8-6D98-47CE-8209-A9396A1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45C5-11EF-44ED-9157-11A6419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72F8-F91F-47BB-86C2-5F251EB4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CEA3-6C35-4C1A-8F41-8B2B65AE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D28E-83EB-488A-8353-302E33F2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C608-D1AC-4ECD-940A-62BD401F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84FC-543B-4761-A47A-CCC7462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B0E2-C38C-48C1-8F99-75A9994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4535-CE0C-4228-AEE9-14F7452C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58B-2BA6-45D6-8572-AAC77F11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08D9-CD74-452C-8E89-075B4D9C8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C320-4CCD-46A0-BE1D-EE5809D5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69B9-0A79-499C-A344-CEF4E3F7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6A62-A99C-4039-B8D7-D318ED64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7B7BA-27DB-402A-B235-E7010615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7989C-93A3-4A6D-99ED-A7C2C3D9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E631-75FD-48F4-A392-0C791F99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ABF6-7FF6-4B07-A544-63544028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03C1-F062-49E1-9D42-A853286B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BE0C0-7ED8-439F-A4CD-ADB67D97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06C1-F23D-41B9-A788-50E6EE8A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252F7-4EA2-49FD-9300-30BEC773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3439-5A51-4FC8-A12B-AF57FECF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3CEF0-C087-40DE-AAC0-C5A59D38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8D0E-5CD7-4864-B3CD-9F4F140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60454-8435-4B29-B281-4B4C869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C674-B6FE-4240-BD75-A95D1C0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894A-F50C-49B5-8897-5CB56117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5131-EDC2-4697-A87F-633AF569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362A-0260-4315-97DD-A9FC081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D3F0-7BD2-4A6A-9ECC-FD2F00C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62AB-4E23-49CD-B15B-AF9B14F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E33D8-0A48-4B6B-AA6F-4A9B1EE5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6661A-72A4-4099-AB5D-80929B46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93BD-1834-49A9-8C8A-8136DEF3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CEA1-5FEC-4D5E-8BE4-236C15C9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DD4B-4251-4893-AA0A-D74AECC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A7F33-CE54-4E03-8C97-E51BBF18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DBBB-D535-483B-B865-229CF0B3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41167-F4A2-4A72-A6B9-36C7E9D4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2208-DA78-451E-925B-554D8A84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8A28-693C-48BB-A9D2-ACD374E8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FC429-F33A-4C8E-8894-A0837CA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15E1C-01AC-4354-B510-C3E430B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47DA-F872-4425-8269-959B730F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2C643-DD60-428D-A6FE-4F7B24C8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C3D94-F86F-4178-BC16-C58328B1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F80B-1A04-4458-84E6-4CFED00D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68A4-B637-4711-8C9E-D5E4167E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86A1-6FE5-49F0-A4AF-5D7F88C7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5DC6-FA1F-44FE-ADBF-EE7CFCC4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5535-B25F-4A7C-80E5-130ED0C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DCEC-A187-43F7-A16C-B28612D4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65A17-819A-4C1B-9CCF-553AF5A3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57DFC-0047-408A-AAE9-6417A1BE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F61D-BB85-4A9A-B3C3-8E41C16A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D8DC5-D04C-458F-8622-6E643C0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4A21E-1557-4BC4-8A31-F30CE517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7793-D12E-4261-9D0C-916003A5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31C3F-C63E-4B97-8C9C-BCE266B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E29A-BB90-442F-B08F-40B45F1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D13B5-B833-439E-A7E4-7DBFDA48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E47F-426B-41D2-BF3A-E660AFD8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B8BF8-49DA-4EFE-8BF2-8BC7995B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7DD1E-5F5F-4AA3-A3CF-9BAB35F7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73C07-20E9-40BD-BB45-7979E97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B6096-7479-4FDC-8297-860B622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C39BC-3CA9-4DEC-95A6-8C6314C4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2E9BD-5A49-4B4B-AF46-7F19EB92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6C6E4-CAE1-4E31-A107-58097275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1197A-05EC-4CD1-B6C2-CD0303CB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25D42-0D12-423F-A98C-88F58C0D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15F5-75B9-4F2F-A3A7-62797FAF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63653-6021-4C47-A1B0-FD90325D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860-E44D-46C6-A866-A33E9B23E9E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75D3-751A-472A-8DD7-D36ECB01567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12DD-A3B7-4EF4-BD60-2E7E53211E5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D230-51CD-41B8-9714-E19AFCAB98F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F543-8FBE-40DC-BF8E-7AE423F9A99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D5FD-D1A0-4106-8FE5-A979C6699F2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5C0-1717-4478-9CCC-A0A0F9BDA7E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61C3-4326-4D80-AC2F-EFFE371060F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8DE-2BA6-4243-A2B7-282A197CA71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71BC-A5D7-4723-8966-A1341619F2E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FB3-EDE5-4F08-9CBE-4B0BF63CABA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безвъзмездна финансова помощ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/1.1-08/20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 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ни заведения в градските агломераци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Rectangle 1" descr=""/>
          <p:cNvPicPr/>
          <p:nvPr/>
        </p:nvPicPr>
        <p:blipFill>
          <a:blip r:embed="rId1"/>
          <a:stretch/>
        </p:blipFill>
        <p:spPr>
          <a:xfrm>
            <a:off x="262080" y="1255680"/>
            <a:ext cx="8619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19320" y="1125360"/>
            <a:ext cx="6665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ен цикъ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1042920" y="1844640"/>
            <a:ext cx="7345440" cy="3730680"/>
            <a:chOff x="1042920" y="1844640"/>
            <a:chExt cx="7345440" cy="3730680"/>
          </a:xfrm>
        </p:grpSpPr>
        <p:sp>
          <p:nvSpPr>
            <p:cNvPr id="627" name="AutoShape 4"/>
            <p:cNvSpPr/>
            <p:nvPr/>
          </p:nvSpPr>
          <p:spPr>
            <a:xfrm>
              <a:off x="1042920" y="1844640"/>
              <a:ext cx="7345440" cy="37306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5"/>
            <p:cNvSpPr/>
            <p:nvPr/>
          </p:nvSpPr>
          <p:spPr>
            <a:xfrm>
              <a:off x="2071080" y="296388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цен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6"/>
            <p:cNvSpPr/>
            <p:nvPr/>
          </p:nvSpPr>
          <p:spPr>
            <a:xfrm>
              <a:off x="5303160" y="2963880"/>
              <a:ext cx="190980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ентифицира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 Box 7"/>
            <p:cNvSpPr/>
            <p:nvPr/>
          </p:nvSpPr>
          <p:spPr>
            <a:xfrm>
              <a:off x="2071080" y="408312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пъ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5303160" y="4083120"/>
              <a:ext cx="176292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ира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9"/>
            <p:cNvSpPr/>
            <p:nvPr/>
          </p:nvSpPr>
          <p:spPr>
            <a:xfrm>
              <a:off x="3687120" y="495360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Финансиран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3687120" y="2093040"/>
              <a:ext cx="1615680" cy="49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грамиран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 flipV="1">
              <a:off x="2805840" y="3460680"/>
              <a:ext cx="720" cy="62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diamond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 flipH="1" flipV="1">
              <a:off x="2952720" y="4579920"/>
              <a:ext cx="73440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 flipH="1">
              <a:off x="5303160" y="4580280"/>
              <a:ext cx="88128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6331680" y="3461040"/>
              <a:ext cx="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5303160" y="2341800"/>
              <a:ext cx="102816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6"/>
            <p:cNvSpPr/>
            <p:nvPr/>
          </p:nvSpPr>
          <p:spPr>
            <a:xfrm flipV="1">
              <a:off x="2805840" y="2341440"/>
              <a:ext cx="881280" cy="62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>
              <a:off x="2511720" y="221760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8"/>
            <p:cNvSpPr/>
            <p:nvPr/>
          </p:nvSpPr>
          <p:spPr>
            <a:xfrm>
              <a:off x="4274640" y="3212280"/>
              <a:ext cx="5875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684000" y="1267920"/>
            <a:ext cx="7931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ЗАНИЯ ЗА ПРОЦЕДУРА 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ПЪЛНЕНИЕ НА ПРОВЕРКИ НА МЯС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на място се извършват за всички проект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ключените договори за предоставяне на безвъзмездна финансова помощ.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всички проекти с по-висока степен на риск се осъществява засилен контро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те на място се разделят на следните основни груп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ови проверки на мяст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запни провер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след приключване на проек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94920" y="162864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сключване на договор с изпълните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ефициентът е длъжен да ползва следната сигнатура на възложените от него договори за строителство/доставки/услуги на изпълнители – (номер на договора за предоставяне на безвъзмездна финансова помощ) - (сигнатура за вида на договора за изпълнение) – </a:t>
            </a:r>
            <a:r>
              <a:rPr b="0" i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(доставки), U (услуги), S (строителство)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реден номер на сключения договор с изпълнител в рамките на договора за безвъзмездна помо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ефициентът е длъжен да предвиди в договорите за възлагане на обществени поръчки следните задължения към изпълнител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спазва изискванията за изпълнение на мерките за информация и публичност, определени в договора за безвъзмездна помо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осигурява достъп за извършване на проверки на място и оди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изпълнява мерките и препоръките, съдържащи се в докладите от проверки на мяс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докладва за възникнали неред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за възстановяване на суми по нередности, заедно с дължимата лихва и други неправомерно получени сред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информира Бенефициента-Възложител за възникнали проблеми при изпълнението на проекта и за предприетите мерки за тяхното разрешав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ължение да спазва изискванията за съхранение на документацията за проекта, определени в договора за безвъзмездна помо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cp:lastPrinted>2012-11-21T11:50:06Z</cp:lastPrinted>
  <dcterms:modified xsi:type="dcterms:W3CDTF">2012-11-21T11:51:55Z</dcterms:modified>
  <cp:revision>287</cp:revision>
  <dc:subject/>
  <dc:title>Слайд 1</dc:title>
</cp:coreProperties>
</file>