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0A7FF-0226-4E1B-8466-26B5CEF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D738-D661-4CB3-ADF5-A6A6F0B2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407C5-2F90-4E99-A2C1-BFEE307D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9CF03-B64E-4986-95F3-F6C12E17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0B5AD-4AA6-4B94-AF45-90BFCE20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C0B3-F9A9-46FF-A34B-443F954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1BBD-CAF5-4167-BBA3-B6E42F2E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EDFB-995F-48FA-A541-2D139F85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181D-D58D-4371-BC57-CEC3E515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DAF71-8625-4901-8E9E-C5D11C04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CAFE1-FEF1-4C38-8E93-48EF70B6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B6108-6F94-484F-8527-3E78A1A7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CD316-797F-41E2-93D8-E105906D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03C60-9064-4582-93FE-CB79A20B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67130-8971-42FD-9B06-013886E2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EC86A-3AE7-43FB-930C-7CEFE47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79010-6534-47D0-97EC-C473413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CAEF-A63B-41AD-A137-03E797B1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F56DD-DB86-4A96-B671-18471CBA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B096-6981-4937-8EB9-C9285970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0F9F4-0BE6-4784-A642-7E7CAF55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B3A44-DE9B-4DFC-9040-214FECA6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DC578-38A0-4642-A8DF-E240DFCA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D2465-090C-4653-B63B-23BF8E1E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A392E-5063-446E-99CF-7A46F9A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23DB4-A4DF-49F3-A705-3822D80F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E0B35-7CF8-4719-9ECF-2BC743BA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C78BC-FD2A-4E18-9434-FD2CFF19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564B7-E3DA-4461-B7EC-8119E35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588FD-CDE7-4EDC-A95B-39CC8832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A2C-6829-4992-8265-DE196EB0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D872-6C33-49D9-82B0-BF2AB21A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BBC3-22AB-4892-8C89-6A691DE7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70D63-249B-4552-B03F-649D4E4A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5AE06-2CEC-43A5-87DD-B04BB676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A7C62-3036-4018-99B4-AE62E80A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537F-F133-461D-B883-10B0B22F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58E8C-11BB-4629-BA2F-5C693F3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47B10-6331-41A2-A1F3-815AC36E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EE9AC-0F26-4FA2-8B57-2D5ED701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88092-8DDE-421D-8059-A582064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294-EBCA-43CC-93A1-2735A9A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5C43B-6FF9-4E98-890C-E2F692E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3B23C-B4EA-4EEE-9CA2-0B6B82A5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06E8-EE52-49B2-9113-7D28B5B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1914E-2B1E-410A-9190-94553AE6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3BB4-BC7C-4DF4-8A92-7202F01B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771-69F6-46A9-AEBB-A6B5FD1A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579-5E5A-4D23-BFA8-3D9B4127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F07-6344-461E-8885-90575380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C7F-6017-42C8-98C8-11338D5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F85-B351-4DDE-9758-8D18F92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2D6-F0EA-4D87-87B8-36D8ECA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093-3D6D-4AA1-990E-3E922588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592-C2C1-4E38-975C-C543A325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EE5-B3DF-4641-A0BA-D4738C69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D06-A6AF-4BF5-8FDE-C2847669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9A82-44B3-4F61-81CE-BED2A3ED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71F6-D2A0-4747-A368-B31763AD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8E0A-9713-4A49-A9A0-7DC496F9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E11D-B33D-4CF7-9506-08C5A09F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4037-E098-4E31-8069-32242AF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D51F-6BDC-48BF-BC08-EC17F0D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1455-5D70-490F-8D04-6A3BBE1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E35C-CE7C-44F6-A2BF-DE3AEF8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D81C-332A-4B6F-A0FE-AE6878E5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EA51-CA82-4673-A5DC-81502353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4A1F-F170-45EB-B422-FB332874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1C4F-7AC9-4D26-B44E-FB08F7E6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93C6-AA81-4D02-9793-C9BBF612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30D8C-FF4D-4244-9BE8-03EBE81D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6D0F0-945C-4A87-A3AF-03788C87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B661-7AF3-4385-A4C4-F96796E5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736F-9213-4C67-A7DB-D12488A7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585D-11E9-41D1-A211-D2762EA8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75BE-15CF-4103-B3A3-F222020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B5DB-947C-4872-8546-2E7A28F0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1C5E-E614-4DAD-9F90-CB6785C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8563-7BD3-4FC4-8EF4-3F3840D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2162-E792-4DFB-9087-3B21BCB6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A0DD-AF11-43A9-9FFE-087668D1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82A3-26EF-43AC-8A73-01E3FE35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183FA-F027-4C90-B2CC-EEFA6729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935F3-1F66-4E8F-AD88-ADC9E01E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5F46-74FB-43C5-A31E-F1322EE1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B385-7CFE-42EA-8423-56EE315D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81C5-C7B1-426B-B9AB-137070E2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8D686-6B41-43DB-8386-0AED527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76F5E-46A6-4A3B-86D5-C367924D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526A-A090-409F-AD31-38A30E52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5173-F696-4DD6-AB9B-49B666BD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75A1-F3BE-4478-B241-6B653218D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828A-62A4-414C-A633-7265EF37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15FA0-7E45-4D62-9310-E151EC4E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805C0-7332-4C80-8287-2F160A1F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5C359-9863-4201-BAB8-8882EF53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FB1F3-FC95-4383-A1A0-7E1C0F55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518CB-1019-4E45-AEF8-011D8F16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049A-0C7E-4306-AD1D-29C1E86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A8513-9FC5-4CF3-BFC7-D886047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FBE42-7B53-4800-ABDB-AD8A844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CA05-BE8F-4038-9CA9-C5574FA0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4B063-2809-4197-88B6-193028CB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995E6-5AFA-4A29-9921-A2B30954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87C0-2944-478B-A213-C488A228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29F9-A074-4DA7-8032-6FB0B96B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E697E-C896-421D-9134-4B2A9FCC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6BD7-A019-47D9-A579-EC8D6A7C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857C4-544B-4E95-A719-7E0A87D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66A7-44F2-4178-9BE9-CDD443BE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C1509-9B3D-4BF8-ADF0-AF1552E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19E7E-B084-45F5-BE66-1C8D1EF7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4ACFE-05E3-4179-9DB8-71432940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154D-F736-434C-8642-22A0BCC7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2258-01E0-49D9-BE52-E406F1E7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7CCEC-CDBD-4C84-9E8C-7D8EF9D5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3015-9654-4DC4-B703-044C293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89DB6-7762-40DF-B2B5-690CF7FA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4774-3C6B-4658-9DAC-5400389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DAF51-DA3F-4CCB-8237-AE646FBA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9DC6B-579C-403A-BDB5-74598CE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03FB-1162-4485-900E-D9D2503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F6560-5486-4A38-931A-5D8FD46C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1AABA-3DA4-49B2-91A6-1C16A734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CBAC7-1384-41B3-85A7-075B853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0D2B6-20F8-4AA0-88E2-3AB611FA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F8F5-1954-4603-936C-BCFED24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A01CF-5359-4F82-8D3B-93C1AD0D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5E3C-EA0C-4392-A0D4-1D771A4E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C340F-A5B0-487F-9F64-8FE29420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8700-8CF3-49AE-BC14-C85403E7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063F6-8278-4DBE-8190-B1D22E87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8682-7735-480F-9A65-C5775407C29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C72-153D-4CC9-9CEC-4ED61E3ECE6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2365-AA98-40F9-83E9-6505487980C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4036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540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43BF-A64E-4597-BFEB-0B53E7BAB2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F26-8539-4FDE-8A3C-33D32902AE5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49A8-A00C-4016-B5A5-0242F986C90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5AD-4046-475D-80DC-DE781DC5DC4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C392-E661-4F40-AD2F-4EDEE55C843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E73A-7318-49F1-9664-F72820D757B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5A20-55E0-4E45-B385-234CDDEC12D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3637-B912-41E2-8276-6672FB493C3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4126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предоставяне на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ъзмездна финансова помощ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1-08/2010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Подкрепа за реконструкция, обновяване и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ване на държавни лечебни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здравни заведения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дските агломерации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332000" y="13730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елни изиск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м болничната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5"/>
          <p:cNvSpPr/>
          <p:nvPr/>
        </p:nvSpPr>
        <p:spPr>
          <a:xfrm>
            <a:off x="684360" y="2378160"/>
            <a:ext cx="79930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Архитектурно зониране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особяват се функционални зони за предотвратяване на риска от инфекция при пациент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раничават се </a:t>
            </a:r>
            <a:r>
              <a:rPr b="0" lang="ru-RU" sz="2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четири степени на риск при зониране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административни отде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общи отделения за пациен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рискови зон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изолатор, интензивно отдел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ни с извънредно висок рис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. операционни за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"/>
          <p:cNvSpPr/>
          <p:nvPr/>
        </p:nvSpPr>
        <p:spPr>
          <a:xfrm>
            <a:off x="826920" y="1341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но-строителните изисквания къ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ната среда при планира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троеж и преустро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179280" y="2654280"/>
            <a:ext cx="864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ланиране и проектиране на нови сгради, както и при извършване на реконструкции и ремонти на съществуващите сгради лечебните заведения трябва да изискват от изпълнителите да притежават сертификати по качеството (ISO 9000 и ISO 1400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ата по планиране на всеки нов болничен строеж или преустройство на съществуващата база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е включва член от екипа по контрол на инфекциите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 да се гарантира съответствието на проектната документация с изискванията за профилактика на ВБИ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1"/>
          <a:stretch/>
        </p:blipFill>
        <p:spPr>
          <a:xfrm>
            <a:off x="1246320" y="190332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684360" y="134136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енните изисквания за високо качество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климата в болничната среда изиск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179280" y="2274840"/>
            <a:ext cx="8640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и компетентности на лицата, извършващи енергийното обследване и на проектантите на инсталациите за отопление, вентилация и климатизация в т.ч. умения за проектиране по европейските стандарти от групата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1 до 8)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 „чисти помещения“</a:t>
            </a: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БДС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N ISO 14644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ентилацията и климатизация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изолационните помещения и в зоните за специални грижи (операционни зали, трансплантационни отделения, ЦССМ и др. изисква интелигентни технически решения, които едновременно да покриват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хигиенните нор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ормите за енергийна ефективност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работвания прое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"/>
          <p:cNvSpPr/>
          <p:nvPr/>
        </p:nvSpPr>
        <p:spPr>
          <a:xfrm>
            <a:off x="395280" y="2276640"/>
            <a:ext cx="85694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 от функцията си различните видове помещения в лечебните заведения се категоризират в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 групи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то за всяка група се изисква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пределен клас чист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БДС EN ISO 14644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 от тази категоризация се определ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те изисквания към инсталациите за отопление, вентилация и климатизац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атност на въздухообмена, филтриране с определени филтри, контрол върху пада на налягане и др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микроклимата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, влажност,  скорост и организиране на подвижност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"/>
          <p:cNvSpPr/>
          <p:nvPr/>
        </p:nvSpPr>
        <p:spPr>
          <a:xfrm>
            <a:off x="1332000" y="137304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изисквания към въ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ечебните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"/>
          <p:cNvSpPr/>
          <p:nvPr/>
        </p:nvSpPr>
        <p:spPr>
          <a:xfrm>
            <a:off x="142920" y="217800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ектиране на инсталациите за отопление, вентилация и климатизация и чисти помещения в лечебните заведения следва да се вземат под внимание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ъзможностите за ограничаване на капиталните и експлоатационните разход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редством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рки за енергийна ефективност на инсталациите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топление, вентилиране и охлаждане на помещения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395280" y="126828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м набор от специфични изиск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ъм въздуха в лечебните за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"/>
          <p:cNvSpPr/>
          <p:nvPr/>
        </p:nvSpPr>
        <p:spPr>
          <a:xfrm>
            <a:off x="179280" y="36417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ите на въздушните потоци (обем, кратност на въздухообмена) и чистотата на въздуха в помещенията от групи 1, 2 и 3 подлежат на редовен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контрол и валидиране.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те за валидиране и контрол на въздуха в лечебните заведения са дефинирани от БДС EN ISO 14644-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те заведения документират и съхраняват за срок </a:t>
            </a:r>
            <a:r>
              <a:rPr b="1" lang="ru-RU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е по-малко от 5 години резултатите от контрола и валидирането на въздуха в помещенията от групи 1, 2 и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7" descr="Picture 014"/>
          <p:cNvPicPr/>
          <p:nvPr/>
        </p:nvPicPr>
        <p:blipFill>
          <a:blip r:embed="rId1"/>
          <a:stretch/>
        </p:blipFill>
        <p:spPr>
          <a:xfrm>
            <a:off x="287280" y="2638440"/>
            <a:ext cx="3421080" cy="2590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1" name="Picture 10" descr="Picture 006"/>
          <p:cNvPicPr/>
          <p:nvPr/>
        </p:nvPicPr>
        <p:blipFill>
          <a:blip r:embed="rId2"/>
          <a:stretch/>
        </p:blipFill>
        <p:spPr>
          <a:xfrm>
            <a:off x="3851280" y="1211400"/>
            <a:ext cx="2952720" cy="223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62" name="Picture 2" descr="C:\Documents and Settings\Mimi\Desktop\BOLNICI_PODGOTOVKA\DSC01696.JPG"/>
          <p:cNvPicPr/>
          <p:nvPr/>
        </p:nvPicPr>
        <p:blipFill>
          <a:blip r:embed="rId3"/>
          <a:stretch/>
        </p:blipFill>
        <p:spPr>
          <a:xfrm>
            <a:off x="5607000" y="3521160"/>
            <a:ext cx="2916360" cy="2139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63" name="TextBox 3"/>
          <p:cNvSpPr/>
          <p:nvPr/>
        </p:nvSpPr>
        <p:spPr>
          <a:xfrm>
            <a:off x="250920" y="1743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КАКВО ОЩ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4"/>
          <a:stretch/>
        </p:blipFill>
        <p:spPr>
          <a:xfrm>
            <a:off x="3059280" y="1471680"/>
            <a:ext cx="5173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ЗА УСТРОЙСТВО НА ТЕРИТОРИЯТА И ДРУГИТЕ НОРМАТИВНИ АКТОВЕ, В ЧАСТНОСТ КОМПЛЕКТОВАНОСТ, ЦЯЛОСТ И СТЕПЕН НА ГОТОВНОСТ/ЗРЯЛОСТ НА ТЕХНИЧЕСКАТА ДОКУМЕНТАЦИЯ НА ПРОЕКТНИТЕ ПРЕДЛОЖЕНИЯ.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СТРОЙСТВО НА ТЕРИТОРИЯТА И ДРУГИТЕ НОРМАТИВНИ ДОКУМЕНТИ,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 КОМПЛЕКТОВАНОСТ,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ЯЛОСТ И СТЕПЕН НА ГОТОВНОСТ/ЗРЯЛОСТ НА ТЕХНИЧЕСКАТА ДОКУМЕНТАЦИЯ НА ПРОЕКТНИТЕ ПРЕДЛОЖЕНИЯ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2781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пълнение на дейности по намеса в конструкциите и ограждащите елементи на сградата, не е изготвено становище или проект от инженер конструктор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ремонтите и мерките по подобряване енергийната ефективност на сградите се третират като текущ ремонт и не се издават разрешения за строеж. Веднъж това е нарушение на ЗУТ, втори път това ограничава броя на участниците в строително-инвестиционния процес и с това се занижава контрола върху качеството и съответствието на строежа и влаганите материали с изискваният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те проекти са изработени от лица без необходимата квалификация която също води до проблемите от горната точк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АСТНОСТ КОМПЛЕКТОВАНОСТ, ЦЯЛОСТ И СТЕПЕН НА ГОТОВНОСТ/ЗРЯЛОСТ НА ТЕХНИЧЕСКАТА ДОКУМЕНТАЦИЯ НА ПРОЕКТНИТЕ ПРЕДЛОЖЕНИЯ-2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23640" y="2492280"/>
            <a:ext cx="856908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ждат се дейности и материали, които са недопустими по съответната схема, но чието премахване би компрометирало цялостното изпълнение на строеж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ехническите проекти се определят имена и параметри на влаганите материали, оборудване и технологии, които предопределят определени изпълнители и доставчици. Веднъж това противоречи на ЗОП, втори път води до завишаване на стойността на проекта за сметка на други необходими и полезни дей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дложените от проектантите КСС цените са завишени, което предварително намалява обема работа, подходящ за финансиран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ази схема се налага предварително заснемане на съществуващите сгради, ако няма архивни проекти. Често това липсва, което затруднява реалната оценка на съществуващата сграда и компрометира техническите про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 В ЧАСТНОСТ КОМПЛЕКТОВАНОСТ, ЦЯЛОСТ И СТЕПЕН НА ГОТОВНОСТ/ЗРЯЛОСТ НА ТЕХНИЧЕСКАТА ДОКУМЕНТАЦИЯ НА ПРОЕКТНИТЕ ПРЕДЛОЖЕНИЯ-3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50560" y="2492280"/>
            <a:ext cx="87138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те проекти са такива само по име, а не по същество. Това води до пропуски в КСС и проблеми от типа на разглежданите по-гор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оценката за съответствие на проекта или енергийното обследване са направени от лице под възлагането на проектантит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често с техническите проекти не е идентифициран еднозначно обекта /обектите/ за интервенция и това води до заблуда при изпълнение на СМР и често до преразход, което е недопустим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 възможно само върху заснемане да се изготвят коректни КСС – необходима е изработката на проект, който решава особените технически проблеми на сградата. Енергийното обследване и последващия го проект за предприеманите мерки не могат да не се основават най-малкото на архитектурен проек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1339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</a:t>
            </a:r>
            <a:br>
              <a:rPr sz="1800"/>
            </a:b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3708360" y="2205000"/>
            <a:ext cx="5184720" cy="211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 цел на енергийната ефективно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гуряване качество на микроклимата в сградите с минимален разход на е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95280" y="4581360"/>
            <a:ext cx="84247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илена актуалност на задачата в сгра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ферата на здравеопазван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441360" y="2075040"/>
            <a:ext cx="3144960" cy="2361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ЗАКОНА З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НА ТЕРИТОРИЯТА И ДРУГИТЕ НОРМАТИВНИ ДОКУМЕНТИ,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АСТНОСТ КОМПЛЕКТОВАНОСТ, ЦЯЛОСТ И СТЕПЕН НА  ГОТОВНОСТ/ЗРЯЛОСТ НА ТЕХНИЧЕСКАТА ДОКУМЕНТАЦИЯ НА ПРОЕКТНИТЕ ПРЕДЛОЖЕНИЯ-4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ените в проектния фиш разрешения за строеж трябва да отговарят на техническите проек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те са изработени във форма и пълнота за издаване на разрешение за строеж. За направа на подробни КСС, следва подробностите по чертежите и записките да бъдат повеч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ните документи трябва да са четливи коп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ческите проекти се предвиждат дейности, които не с свързани с целите на схемите, а целят определено решаването на финансовите затруднения на бенефициентите по поддръжката и текущите ремонти на сградния фон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24000" y="1484280"/>
            <a:ext cx="8496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СКИ ПО ОТНОШЕНИЕ СПАЗВАНЕТО НА </a:t>
            </a:r>
            <a:br>
              <a:rPr sz="1500"/>
            </a:br>
            <a:r>
              <a:rPr b="1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А ЗА УСТРОЙСТВО НА ТЕРИТОРИЯТА И ДРУГИТЕ НОРМАТИВНИ ДОКУМЕНТИ, В ЧАСТНОСТ КОМПЛЕКТОВАНОСТ, ЦЯЛОСТ И СТЕПЕН НА ГОТОВНОСТ/ЗРЯЛОСТ НА ТЕХНИЧЕСКАТА ДОКУМЕНТАЦИЯ НА ПРОЕКТНИТЕ ПРЕДЛОЖЕНИЯ – 5 .</a:t>
            </a:r>
            <a:br>
              <a:rPr sz="1500"/>
            </a:br>
            <a:r>
              <a:rPr b="1" lang="bg-BG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270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т се за интервенция обекти или под-обекти, които не са собственост на бенефициен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ническите проекти и разрешенията за строеж са включени обекти, които не са предложени за финансиране. При приемане на обекта, трябва да се завършат и те, но финансирани по друга ли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е представят актове за общинска или държавна собственост, които на се актуални. Това ще затрудни определянето на лицата участници в строително-инвестиционния прое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77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ъчваме, преди да се представи техническата документация на екипа, който ще подготвя Проекта за кандидатстване за безвъзмездна финансова помощ, бенефициентите да я предоставят за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 преглед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ценка от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 или инженер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пит в реалния строителен процес и опит в обекти, финансирани по някои от Европейските програми. Това ще отнеме, може би, на бенефициентите не-повече от седмица и не повече от 1000 лв., а ще предотврати бъдещи много по-сериозни финансови загуби при изпълнение на СМР и финансирането им. Разбира се, ако екипа по подготовка на проектното предложение има такъв експерт,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ойто не е изработвал или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че оценявал</a:t>
            </a:r>
            <a:r>
              <a:rPr b="0" i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ите проекти – още по-добр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ВЕТИ ЗА ПОДГОТОВКА И ПРОВЕЖДАНЕ НА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И ПОРЪЧКИ ЗА МЕДИЦИНСКА АПАРАТ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0" y="2060280"/>
            <a:ext cx="446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апаратур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на приложение и предназнач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апарату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роцедури по ЗОП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ита процед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ена процед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цедура на договаря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роцедури по НВМ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ит конку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говаряне с пока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Picture 3" descr="Penguins.jpg"/>
          <p:cNvPicPr/>
          <p:nvPr/>
        </p:nvPicPr>
        <p:blipFill>
          <a:blip r:embed="rId1"/>
          <a:stretch/>
        </p:blipFill>
        <p:spPr>
          <a:xfrm>
            <a:off x="177840" y="2133720"/>
            <a:ext cx="4033800" cy="3240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и с производителите. 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ане на оферти, съдържащи информация 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79280" y="206028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характеристики на предлагания модел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а цен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на достав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ционен срок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 ли фирмата-производител представител в Българ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мативи (в т.ч. софтуер)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ъв комплект консумативи се доставя апаратурат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вързано ли е ползването на изделието с точно определени консумативи и софтуер (производство на същата фирма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къв срок, след доставката на апаратурата, се осигуряват консуматив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чия сметка са консумативите при провеждане на изпитанията за въвеждане в експлоатац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на персонала, експлоатиращ апаратурата – колко човека, къде, как, кога и за чия сметк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помещението, в което ще се инсталира апаратура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395280" y="162828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яване на получените офер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моде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отговаря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изискванията на възложите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техническите специфик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характерист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ти на производителя, съответстващи на предмета на поръчката и предлаганото издели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1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48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1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за съответствие (СЕ марка) на изделие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специфични сертифика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от производителя, че предлаганата апаратура е нова и неизползв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обени позиции (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, определяне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Flowchart: Multidocument 3"/>
          <p:cNvSpPr/>
          <p:nvPr/>
        </p:nvSpPr>
        <p:spPr>
          <a:xfrm>
            <a:off x="6032520" y="4581360"/>
            <a:ext cx="1060560" cy="75888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07640" y="1197000"/>
            <a:ext cx="5759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участник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-181080" y="1701720"/>
            <a:ext cx="874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-223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хнически възмож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ризационно писмо от производителя за доставка, продажба, гаранционно и следгаранционно обслуж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едени системи за управление на качеството, съответстващи на предмета на поръчк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собствена сервизна ба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елства за професионална квалификация на сервизния персон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реакция при повред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отстраняване на повреда от оторизирания сервиз в Българ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 отстраняване на повреда, изискваща доставка на части и намеса от производител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ък на основните договори за подобни доставки, изпълнени през последните три години, включително стойностите, датите и получател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ръки за добро изпълн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76000" y="1413000"/>
            <a:ext cx="633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ия към участника -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24000" y="2060280"/>
            <a:ext cx="8208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омическо и финансово състояни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ен баланс и отчет за приходите и разходите за последните три годи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за общия оборот и оборота на стоките и услугите, обект на поръчката, за последните три години (информацията да съответства на баланса и отчета за приходите и разходит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процедура (според спецификата на апаратурат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0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критерии и показатели за оценк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73512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критерии за оценка на офертит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-ниска це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ономически най-изгодна офер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на показателите за оцен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тежестта на отделните показател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за оценка на оферт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никация между ползвателите на апаратурата и подготвящите документацията за обществените поръч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на състава на комисията за разглеждане и класиране на офер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457200" y="2276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В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НИМАНИЕ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itle 1"/>
          <p:cNvSpPr/>
          <p:nvPr/>
        </p:nvSpPr>
        <p:spPr>
          <a:xfrm>
            <a:off x="1187280" y="1341360"/>
            <a:ext cx="6624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"/>
          <p:cNvSpPr/>
          <p:nvPr/>
        </p:nvSpPr>
        <p:spPr>
          <a:xfrm>
            <a:off x="108000" y="1989000"/>
            <a:ext cx="87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о проектно предложение трябва да включва задължително комбинация о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авка на оборудване и инвестиционен компонент (ремонт/ реконструкция/ мерки за енергийна ефективност и т.н.), взаимосвързани помежду си и опринасящи за трайното подобряване на съответната инфраструк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й на внедряване на мерки за енергийна ефективност в помещенията/сградите, обект на интервенция, проектното предложение следва да включва енергоспестяващи мерки, предписани в обследване за енергий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вност, в т.ч. мерки за оползотворяване на възобновяеми енергийн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ци (където са приложими), които водят до съответствие на сградата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ите изисквания за енергийна ефективност и имат пряк екологичен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ВО ОЗНАЧАВА ТОВ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6146640" y="517680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Za Margi - uchilishte"/>
          <p:cNvPicPr/>
          <p:nvPr/>
        </p:nvPicPr>
        <p:blipFill>
          <a:blip r:embed="rId1"/>
          <a:srcRect l="1770" t="0" r="1770" b="28940"/>
          <a:stretch/>
        </p:blipFill>
        <p:spPr>
          <a:xfrm>
            <a:off x="250920" y="2133720"/>
            <a:ext cx="2592360" cy="1635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32" name="Title 1"/>
          <p:cNvSpPr/>
          <p:nvPr/>
        </p:nvSpPr>
        <p:spPr>
          <a:xfrm>
            <a:off x="1332000" y="1341360"/>
            <a:ext cx="648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ОСТИ НА СХЕМАТА ПРИ ПРИЛАГАНЕ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И ЗА ЕНЕРГИЙНА ЕФЕКТИВ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"/>
          <p:cNvSpPr/>
          <p:nvPr/>
        </p:nvSpPr>
        <p:spPr>
          <a:xfrm>
            <a:off x="108000" y="1996920"/>
            <a:ext cx="89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2843280" y="2106720"/>
            <a:ext cx="59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упречно точна преценка на приоритетните потреб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на количественото отношение на комбинацията от доставка на специфично оборудване в обхвата на приоритетите и необходимите мерки за енергоспестя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50920" y="378936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на оценка на степента на енергийна ефективност в сградата: може да намери в доклад от вече извършено обследване за енергийна ефективност или ако няма такъв е необходимо спешно да се стартира процедура по възлагане на енергийно обследване по реда на ЗЕ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оверим актуалността (валидността) на вече извършено обследване за енергийна ефективност за сградата, обект на интервен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324000" y="126828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 строителните изисквания в сградит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ите заведения за болнична помощ и домовете за медико-социални грижи и прилежащите им тер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85760" y="2565360"/>
            <a:ext cx="87789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ЕДБА № 4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ОКТОМВР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0 Г. ЗА ОСНОВНИТЕ ИЗИСКВАНИЯ, НА КОИТО ТРЯБВА ДА ОТГОВАРЯТ УСТРОЙСТВОТО, ДЕЙНОСТТА И ВЪТРЕШНИЯТ РЕД НА ЛЕЧЕБНИТЕ ЗАВЕДЕНИЯ ЗА БОЛНИЧНА ПОМОЩ И ДОМОВЕТЕ ЗА МЕДИКО-СОЦИАЛНИ ГРИЖИ (Обн. ДВ. бр.83 от 22 Октомври 2010г., изм. ДВ. бр.92 от 23 Ноември 2010 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отменя познатата до сега наредба 29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та се отнасят д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ата светла височина на помещения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те на манипулационните, стерилизационната, помещенията за разливане на храна, санитарните възли, както и зоната за съхранение на санитарните прибо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ите на операционните и родилните зали, отделенията за анестезиология, реанимация и интензивно ле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"/>
          <p:cNvSpPr/>
          <p:nvPr/>
        </p:nvSpPr>
        <p:spPr>
          <a:xfrm>
            <a:off x="182520" y="1341360"/>
            <a:ext cx="877896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НАРЕДБА № 49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18 ОКТОМВРИ 2010 Г. ЗА ОСНОВНИТЕ ИЗИСКВ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ИТО ТРЯБВА ДА ОТГОВАРЯТ УСТРОЙСТВОТО, ДЕЙНОСТ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НИЯТ РЕД НА ЛЕЧЕБНИТЕ ЗАВЕДЕНИЯ ЗА БОЛНИЧНА ПОМОЩ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ОВЕТЕ ЗА МЕДИКО-СОЦИАЛНИ ГРИЖИ (Обн. ДВ. бр.83 от 22 Октомври 2010г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. ДВ. бр.92 от 23 Ноември 2010 г.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отменя познатата до сега наредба 29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ите изискванията се отнасят още д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вите настилки в помещения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йностите на шумовите нива , за показателите за шум в околната среда, отчитащи степента на дискомфорт през различните части на денонощието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алации и системи, необходими за функционирането на лечебните заведения за болнична помощ и домовете за медико-социални грижи (осветителни, водопроводни, отоплителни, вентилационни и климатичните инсталации, електрозахранването и електрическите уредби, водопроводните и канализационните инсталации и други) се проектират и изграждат съгласно разпоредбите на Закона за устройство на територията и нормативните актове по прилагането му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1" descr="Cv"/>
          <p:cNvPicPr/>
          <p:nvPr/>
        </p:nvPicPr>
        <p:blipFill>
          <a:blip r:embed="rId1"/>
          <a:stretch/>
        </p:blipFill>
        <p:spPr>
          <a:xfrm>
            <a:off x="5102280" y="2352600"/>
            <a:ext cx="3224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2"/>
          <p:cNvSpPr/>
          <p:nvPr/>
        </p:nvSpPr>
        <p:spPr>
          <a:xfrm>
            <a:off x="195120" y="1628640"/>
            <a:ext cx="864108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им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ЪЛЖИТЕЛНО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ните </a:t>
            </a:r>
            <a:r>
              <a:rPr b="0" lang="bg-BG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ТЕХНИЧЕСКИ ЗАД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извършване на обследване за енергийна ефективност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работване на технически проекти по реда на ЗУТ само п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исаните енергоспестяващи м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реценим добре възможностите си в горната задача!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ъзможност да се справим да потърсим помощ от компетентен експер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разпишем специфични изисквания към изпълнителите на обследването за енергийна ефективност и към проектанти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1" lang="bg-BG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О Е ТОЛКОВА ВАЖНО ТОВ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382680" y="4640400"/>
            <a:ext cx="517320" cy="5173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2"/>
          <a:stretch/>
        </p:blipFill>
        <p:spPr>
          <a:xfrm>
            <a:off x="6156360" y="3959280"/>
            <a:ext cx="2467080" cy="1557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182520" y="156996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ДБА № 39 ОТ 26 АВГУСТ 2010 Г. ЗА УТВЪРЖДАВАНЕ Н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ИЦИНСКИ СТАНДАР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АКТИКА И КОНТРОЛ НА ВЪТРЕБОЛНИЧНИТЕ ИНФЕКЦИИ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н. ДВ. бр.69 от 3 Септември 2010 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2"/>
          <p:cNvSpPr/>
          <p:nvPr/>
        </p:nvSpPr>
        <p:spPr>
          <a:xfrm>
            <a:off x="182520" y="2521080"/>
            <a:ext cx="863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 специфичния риск за възникване на ВБИ лечебните заведения за болнична помощ се категоризират в три групи, изискващи съответен брой специалисти по контрол на инфекци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А: Висок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Б: Умерен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а В: Нискорискова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ГОТВЯНЕ НА ТЕХНИЧЕСКИТЕ ЗАДАНИЯ Е НЕОБХОДИМО ДА ЗНАЕМ КЪМ КОЯ ГРУПА СЕ КАТЕГОРИЗИРА СГРАДАТА ПО РЕДА НА ТАЗИ НАРЕДБА!!!  </a:t>
            </a:r>
            <a:r>
              <a:rPr b="1" lang="bg-BG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ЩО Е НЕОБХОДИМО ТОВА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5033880" y="3703680"/>
            <a:ext cx="517680" cy="51732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C:\Documents and Settings\Mimi\Desktop\BOLNICI_PODGOTOVKA\IMG_1203.jpg"/>
          <p:cNvPicPr/>
          <p:nvPr/>
        </p:nvPicPr>
        <p:blipFill>
          <a:blip r:embed="rId2"/>
          <a:stretch/>
        </p:blipFill>
        <p:spPr>
          <a:xfrm>
            <a:off x="6372360" y="3213000"/>
            <a:ext cx="1944720" cy="1459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179280" y="1695600"/>
            <a:ext cx="885672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ЗАВИСИМОСТ ОТ КАТЕГОРИЯТА ТОЗИ МЕДИЦИНСКИ СТАНДАРТ ОПРЕДЕЛЯ ТОЧНИ И СТРОГИ ХИГИЕННИ ИЗИСКВАНИЯ КЪ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чната сре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духа в помещенията - степен на чисто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та по отношение физичните, химичните и бактериологичните характеристики – за стерилизация, за питейно-битови нужди, за инжекционни разтвори, за разреждане при хемодиализа и д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21T11:57:42Z</dcterms:modified>
  <cp:revision>116</cp:revision>
  <dc:subject/>
  <dc:title>Слайд 1</dc:title>
</cp:coreProperties>
</file>