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99D6A-3822-42BF-8434-A3596B0D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77E6F-69D8-4C73-9794-5C5CC5B4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66737-E2FB-48AD-B0DE-91BEF92E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8CF3E-4437-4FBF-B171-A9AEF558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9EBAE-77DD-4832-9259-A2E3A2D7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55A22-4E59-4B49-9C19-8D99B1F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CD78-F829-49B7-9541-824C9AA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A34BC-0B20-400C-BDE6-E2AE826D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AA391-9E36-4ADE-8A84-44A36DE0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34513-FF94-4B8C-A1DE-C0341BCA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B76E1-2DDD-4A8E-B0ED-BC7ADD24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768D0-166E-44A1-808B-BBD0C5DF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E9D99-B611-4F3E-82C8-91C29D41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C73CA-520F-4734-B790-28E7889E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626E2-56E5-43E8-898A-0D0209C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4207B-143F-4E8D-BC04-15CF30E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01165-DC81-4D5B-ADA0-F99EBE3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334E1-1C85-42EB-BA67-CEC38E00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82E7A-C267-4615-B44E-7138A556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0B604-5983-4585-AB07-92618113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9F39A-36C8-4CEA-88C4-F4C07594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BBFE6-7AB6-482C-BF00-5B57815F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7923B-DD59-4500-82B8-453B5AF3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72686-0266-4168-B028-82D47263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FE707-CE87-429A-99EE-FB96B581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ECBD6-7657-4A7B-BB15-112E4C75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17667-00C0-4EC4-8F8C-35F926D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B92F6-C24B-4B63-B2CB-86DB3254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C1D66-C5F3-4492-9EB3-F879B4C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9ED00-9B50-47C2-B029-BB194B9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FCE-504A-41A3-9E91-5E3350D2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9EFD1-DC67-4DE3-BC7C-272B7C1A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6B83E-2F1D-4DAA-BFEF-FAFF4924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60506-5E32-4F24-95B1-A9537111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655DA-F203-4FF1-89CD-B89FCAB7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CD560-9DD6-4BB8-A033-40D7FC80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44C2C-CC99-442A-8502-C1DBF6C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89BC9-BE64-4EC3-BA88-7A577031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BF85E-612F-47EC-9723-84DE183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9CBB9-DB63-4D82-B2A5-B62DCAA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BC567-BD68-490A-80D8-B1D467A9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6A2-83EB-4B8F-B1D8-C660DDA6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63A2E-8F49-4752-930C-E628632D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AB6F4-A69E-4CC3-A0F5-A8DEAC4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CF50D-B986-4CDB-B2C3-5C873F14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1C058-6F8A-4460-A292-4F20B5D0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CBF24-4F4A-4806-B46E-80E8E0D0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267-1F3F-443B-AA99-8E020E5A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111-D993-4F90-A7EE-B0E73F6C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70E-BD26-4D83-A293-9D418AC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580-C2AA-44BF-B2BB-60A3D000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1D6-23BC-4491-B80F-4FEAEECA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C5F-628C-4DBE-8586-838262CA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C51-6A9D-41BD-BF86-D0CE3EA3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74A-665B-4E33-95BF-DF0D3DB9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22F-C0AC-4C6A-83D2-D65AE2E5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F2E-287A-488F-BEE3-B3CFD032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1C53-40D5-4F7C-97C5-B6A3DFD8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E6A6-9139-4A9F-98D1-4A9E031A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E497-2CA3-4262-8369-197D8FF2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4C10-7BDB-4AB8-BEE5-5C5ECEA4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5BD-29D8-4301-ADC5-86248BAC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8BFF-830E-4C14-9942-3AA0578E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EB8E-B436-47DB-A52E-CC2256C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6114-6539-4709-A62B-AADA776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26B8-89DA-44B5-A6E9-A834592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A065-9E39-403A-A496-57505D17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8C18-1966-486C-A18F-0904CC43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39EA-49FA-463B-92C7-B0872C80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7E5C-50C5-4EE5-B5BC-DAEEC8A9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F19F-8687-45D7-88A9-68E7FABE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E392-D6AB-4966-92F0-B597014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7F82-A058-4A1A-91EB-0617E9E6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BD75-BA6B-41B8-9D3A-71CD60FB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310F-E252-4EF9-BDF8-38F57964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B700-BCEC-4F00-938E-61E5B9C2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9F5A-932F-432B-9EB9-AAC2109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15BF-F8CA-4244-8F69-759322D4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FA56-801F-4A1F-8E78-8D5D1166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2183-5628-43DC-97B5-63133BC7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205B2-6E1E-4760-A65F-BEED7838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5594D-7871-43F3-9FA8-FF2F3CFD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40FC-CBBF-400E-9CF2-8123C968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C14F1-8041-40E3-BD14-C2AE8B4D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5562D-AB97-4773-9292-FDA8923E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05D2-356F-4CBB-B3B3-5E196DA6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0BFB3-9758-429D-BC02-38971ED2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55B85-558B-4DB8-85A4-FC91F6CF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FE49-68C9-4C5B-8099-80989AA7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4FB24-A0E4-462F-A428-224DEED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0731-A118-434F-93AB-04F7C939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F0C4-8A1B-4CDA-87B1-7B5D4C8D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23FA-81EB-4A24-8449-EC73FF2C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CEFFF-4610-4120-992C-A0BA0A5A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79B11-909C-41DC-96D0-6D79BF88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2899-E237-4294-B762-292D56EF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B399-FFC6-4EC8-B590-3F1F7921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8951-F4E7-4FD9-B6C6-4F030426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7C5D-F7EB-4073-B79B-08A9E765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D961E-B64A-48BF-A5AB-280E966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87823-5872-4637-A651-940BDD96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39AE1-7D4B-48D1-9812-9495B00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DAB79-4CC6-45DD-9F53-8371CC5D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0815-A71B-4510-88F1-96A55F00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69FD2-D953-464F-9C50-12E84ECE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8970-6B66-4908-BCA8-56C9CE0C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D76BC-BA46-4934-B201-826F66D2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80C89-D588-46FD-9F47-25EEB9E5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C78BC-F211-4FCC-9901-41D3268C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DA43-C967-440A-AF13-11B61B79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07CB-AB28-47CD-BEB0-B1EC865A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4FD81-E333-4C05-A2AB-C9BB49FC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F1EE0-96C0-41DC-95A2-91AB89B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DBE20-8556-4CF1-BFE2-B7E31EDF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63A5A-E3B2-4ACB-9F5D-7F2A560D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E7221-9166-4A1F-8D4C-479F5969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7975-0993-4C66-AA1B-66ACC43E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DD781-0E62-431D-906C-9DBE2BD4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111ED-56FF-46F1-9681-544E9304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4884B-58EE-4843-8EEB-B957743B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A1699-4282-4C08-8188-B99F0E9D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2A8E4-7E3E-48F0-B840-459FE57E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CFB00-7EAC-4A55-B787-FCAB5A4E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83210-995C-45D8-A7F2-23FD317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7C970-C2B3-42E0-912E-7EFA7807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80B4F-76A0-4F30-A284-7CF53376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22385-8D30-4993-8AF5-876446A5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D5F0E-DA8E-4CC5-BAD4-019BDC49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6A724-EEAF-46B2-ACD2-8A4840AA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44C6C-24CA-4082-899C-0A403F3F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E0BF2-3038-40E9-9BA0-3E678139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6E15A-C6C2-45FE-BAAD-1E2B3BEF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200E-BDF4-44CF-B700-7590905ED74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A30E-C8F4-4A2C-98B3-F4453D6FB9A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67F5-EA81-4FE6-81ED-3BCCE3E475C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4036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18540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9470-CE6E-4688-83BC-2D0991B42A1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588D-B237-4525-B2CB-CB556F8E7FE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541D-BB57-4F41-8DDB-A964910818F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0095-A2D1-4405-996F-F56C35543F0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EA26-12C6-4C41-AF73-4FD9DAF113B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386A-8ADE-456F-88E7-B3F6D166548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9AFB-F2E6-4FDB-A067-4151C9F6A24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66B2-6844-4D9E-AB62-75B69179A3D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предоставяне на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ъзмездна финансова помощ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1-08/2010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Подкрепа за реконструкция, обновяване и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ване на държавни лечебни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дравни заведения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дските агломерации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332000" y="137304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ни изиск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ъм болничната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684360" y="2378160"/>
            <a:ext cx="79930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рхитектурно зониране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яват се функционални зони за предотвратяване на риска от инфекция при пациенти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раничават се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четири степени на риск при зониране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орискови зо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. административни отде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орискови зо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. общи отделения за пациен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рискови зо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. изолатор, интензивно отдел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и с извънредно висок рис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. операционни за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"/>
          <p:cNvSpPr/>
          <p:nvPr/>
        </p:nvSpPr>
        <p:spPr>
          <a:xfrm>
            <a:off x="826920" y="1341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но-строителните изисквания къ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ната среда при планир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троеж и преустр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79280" y="2654280"/>
            <a:ext cx="864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ане и проектиране на нови сгради, както и при извършване на реконструкции и ремонти на съществуващите сгради лечебните заведения трябва да изискват от изпълнителите да притежават сертификати по качеството (ISO 9000 и ISO 1400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ата по планиране на всеки нов болничен строеж или преустройство на съществуващата база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е включва член от екипа по контрол на инфекциите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 да се гарантира съответствието на проектната документация с изискванията за профилактика на ВБИ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1"/>
          <a:stretch/>
        </p:blipFill>
        <p:spPr>
          <a:xfrm>
            <a:off x="1246320" y="190332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"/>
          <p:cNvSpPr/>
          <p:nvPr/>
        </p:nvSpPr>
        <p:spPr>
          <a:xfrm>
            <a:off x="684360" y="134136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енните изисквания за високо качество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та в болничната среда изиск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179280" y="2274840"/>
            <a:ext cx="864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и компетентности на лицата, извършващи енергийното обследване и на проектантите на инсталациите за отопление, вентилация и климатизация в т.ч. умения за проектиране по европейските стандарти от групата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1 до 8) </a:t>
            </a:r>
            <a:r>
              <a:rPr b="0" lang="bg-BG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 „чисти помещения“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БДС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EN ISO 14644</a:t>
            </a:r>
            <a:r>
              <a:rPr b="0" lang="bg-BG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ентилацията и климатизация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изолационните помещения и в зоните за специални грижи (операционни зали, трансплантационни отделения, ЦССМ и др. изисква интелигентни технически решения, които едновременно да покриват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хигиенните нор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ормите за енергийна ефективност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работвания про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"/>
          <p:cNvSpPr/>
          <p:nvPr/>
        </p:nvSpPr>
        <p:spPr>
          <a:xfrm>
            <a:off x="395280" y="2276640"/>
            <a:ext cx="85694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 от функцията си различните видове помещения в лечебните заведения се категоризират в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5 групи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о за всяка група се изисква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пределен клас чист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БДС EN ISO 14644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 от тази категоризация се определ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те изисквания към инсталациите за отопление, вентилация и климатизац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атност на въздухообмена, филтриране с определени филтри, контрол върху пада на налягане и др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ия към микроклимата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, влажност,  скорост и организиране на подвижност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1332000" y="137304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 изисквания към въ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чебните за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"/>
          <p:cNvSpPr/>
          <p:nvPr/>
        </p:nvSpPr>
        <p:spPr>
          <a:xfrm>
            <a:off x="142920" y="217800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ектиране на инсталациите за отопление, вентилация и климатизация и чисти помещения в лечебните заведения следва да се вземат под внимание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ъзможностите за ограничаване на капиталните и експлоатационните разход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рки за енергийна ефективност на инсталациите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опление, вентилиране и охлаждане на помещения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395280" y="12682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ям набор от специфични изиск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ъм въздуха в лечебните за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"/>
          <p:cNvSpPr/>
          <p:nvPr/>
        </p:nvSpPr>
        <p:spPr>
          <a:xfrm>
            <a:off x="179280" y="36417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ите на въздушните потоци (обем, кратност на въздухообмена) и чистотата на въздуха в помещенията от групи 1, 2 и 3 подлежат на редовен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онтрол и валидиране.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те за валидиране и контрол на въздуха в лечебните заведения са дефинирани от БДС EN ISO 14644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ите заведения документират и съхраняват за срок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е по-малко от 5 години резултатите от контрола и валидирането на въздуха в помещенията от групи 1, 2 и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7" descr="Picture 014"/>
          <p:cNvPicPr/>
          <p:nvPr/>
        </p:nvPicPr>
        <p:blipFill>
          <a:blip r:embed="rId1"/>
          <a:stretch/>
        </p:blipFill>
        <p:spPr>
          <a:xfrm>
            <a:off x="287280" y="2638440"/>
            <a:ext cx="3421080" cy="259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61" name="Picture 10" descr="Picture 006"/>
          <p:cNvPicPr/>
          <p:nvPr/>
        </p:nvPicPr>
        <p:blipFill>
          <a:blip r:embed="rId2"/>
          <a:stretch/>
        </p:blipFill>
        <p:spPr>
          <a:xfrm>
            <a:off x="3851280" y="1211400"/>
            <a:ext cx="2952720" cy="223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62" name="Picture 2" descr="C:\Documents and Settings\Mimi\Desktop\BOLNICI_PODGOTOVKA\DSC01696.JPG"/>
          <p:cNvPicPr/>
          <p:nvPr/>
        </p:nvPicPr>
        <p:blipFill>
          <a:blip r:embed="rId3"/>
          <a:stretch/>
        </p:blipFill>
        <p:spPr>
          <a:xfrm>
            <a:off x="5607000" y="3521160"/>
            <a:ext cx="2916360" cy="2139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63" name="TextBox 3"/>
          <p:cNvSpPr/>
          <p:nvPr/>
        </p:nvSpPr>
        <p:spPr>
          <a:xfrm>
            <a:off x="250920" y="17431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КАКВО ОЩ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4"/>
          <a:stretch/>
        </p:blipFill>
        <p:spPr>
          <a:xfrm>
            <a:off x="3059280" y="1471680"/>
            <a:ext cx="517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ЗАКОНА ЗА УСТРОЙСТВО НА ТЕРИТОРИЯТА И ДРУГИТЕ НОРМАТИВНИ АКТОВЕ, В ЧАСТНОСТ КОМПЛЕКТОВАНОСТ, ЦЯЛОСТ И СТЕПЕН НА ГОТОВНОСТ/ЗРЯЛОСТ НА ТЕХНИЧЕСКАТА ДОКУМЕНТАЦИЯ НА ПРОЕКТНИТЕ ПРЕДЛОЖЕНИЯ.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ЗАКОН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СТРОЙСТВО НА ТЕРИТОРИЯТА И ДРУГИТЕ НОРМАТИВНИ ДОКУМЕНТИ,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НОСТ КОМПЛЕКТОВАНОСТ,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ЯЛОСТ И СТЕПЕН НА ГОТОВНОСТ/ЗРЯЛОСТ НА ТЕХНИЧЕСКАТА ДОКУМЕНТАЦИЯ НА ПРОЕКТНИТЕ ПРЕДЛОЖЕНИЯ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200" y="2781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пълнение на дейности по намеса в конструкциите и ограждащите елементи на сградата, не е изготвено становище или проект от инженер конструктор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ремонтите и мерките по подобряване енергийната ефективност на сградите се третират като текущ ремонт и не се издават разрешения за строеж. Веднъж това е нарушение на ЗУТ, втори път това ограничава броя на участниците в строително-инвестиционния процес и с това се занижава контрола върху качеството и съответствието на строежа и влаганите материали с изискваният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те проекти са изработени от лица без необходимата квалификация която също води до проблемите от горната точк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А ЗА УСТРОЙСТВО НА ТЕРИТОРИЯТА И ДРУГИТЕ НОРМАТИВНИ ДОКУМЕНТИ,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АСТНОСТ КОМПЛЕКТОВАНОСТ, ЦЯЛОСТ И СТЕПЕН НА ГОТОВНОСТ/ЗРЯЛОСТ НА ТЕХНИЧЕСКАТА ДОКУМЕНТАЦИЯ НА ПРОЕКТНИТЕ ПРЕДЛОЖЕНИЯ-2</a:t>
            </a:r>
            <a:br>
              <a:rPr sz="1500"/>
            </a:br>
            <a:r>
              <a:rPr b="1" lang="bg-BG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23640" y="2492280"/>
            <a:ext cx="85690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ждат се дейности и материали, които са недопустими по съответната схема, но чието премахване би компрометирало цялостното изпълнение на строеж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ехническите проекти се определят имена и параметри на влаганите материали, оборудване и технологии, които предопределят определени изпълнители и доставчици. Веднъж това противоречи на ЗОП, втори път води до завишаване на стойността на проекта за сметка на други необходими и полезни дей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ите от проектантите КСС цените са завишени, което предварително намалява обема работа, подходящ за финансиран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ази схема се налага предварително заснемане на съществуващите сгради, ако няма архивни проекти. Често това липсва, което затруднява реалната оценка на съществуващата сграда и компрометира техническите проек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А ЗА УСТРОЙСТВО НА ТЕРИТОРИЯТА И ДРУГИТЕ НОРМАТИВНИ ДОКУМЕНТИ, В ЧАСТНОСТ КОМПЛЕКТОВАНОСТ, ЦЯЛОСТ И СТЕПЕН НА ГОТОВНОСТ/ЗРЯЛОСТ НА ТЕХНИЧЕСКАТА ДОКУМЕНТАЦИЯ НА ПРОЕКТНИТЕ ПРЕДЛОЖЕНИЯ-3</a:t>
            </a:r>
            <a:br>
              <a:rPr sz="1500"/>
            </a:br>
            <a:r>
              <a:rPr b="1" lang="bg-BG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50560" y="2492280"/>
            <a:ext cx="8713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те проекти са такива само по име, а не по същество. Това води до пропуски в КСС и проблеми от типа на разглежданите по-го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оценката за съответствие на проекта или енергийното обследване са направени от лице под възлагането на проектантит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често с техническите проекти не е идентифициран еднозначно обекта /обектите/ за интервенция и това води до заблуда при изпълнение на СМР и често до преразход, което е недопустим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е възможно само върху заснемане да се изготвят коректни КСС – необходима е изработката на проект, който решава особените технически проблеми на сградата. Енергийното обследване и последващия го проект за предприеманите мерки не могат да не се основават най-малкото на архитектурен проек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ОСТИ НА СХЕМАТА ПРИ ПРИЛАГАНЕ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МЕРКИ ЗА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3708360" y="2205000"/>
            <a:ext cx="5184720" cy="211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 цел на енергийната ефективно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яване качество на микроклимата в сградите с минимален разход на е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395280" y="4581360"/>
            <a:ext cx="84247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илена актуалност на задачата в сгра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ата на здравеопазван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"/>
          <p:cNvPicPr/>
          <p:nvPr/>
        </p:nvPicPr>
        <p:blipFill>
          <a:blip r:embed="rId1"/>
          <a:stretch/>
        </p:blipFill>
        <p:spPr>
          <a:xfrm>
            <a:off x="441360" y="2075040"/>
            <a:ext cx="3144960" cy="2361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4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ЗАКОНА З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НА ТЕРИТОРИЯТА И ДРУГИТЕ НОРМАТИВНИ ДОКУМЕНТИ,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НОСТ КОМПЛЕКТОВАНОСТ, ЦЯЛОСТ И СТЕПЕН НА  ГОТОВНОСТ/ЗРЯЛОСТ НА ТЕХНИЧЕСКАТА ДОКУМЕНТАЦИЯ НА ПРОЕКТНИТЕ ПРЕДЛОЖЕНИЯ-4</a:t>
            </a:r>
            <a:br>
              <a:rPr sz="1500"/>
            </a:br>
            <a:r>
              <a:rPr b="1" lang="bg-BG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ените в проектния фиш разрешения за строеж трябва да отговарят на техническите проек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те са изработени във форма и пълнота за издаване на разрешение за строеж. За направа на подробни КСС, следва подробностите по чертежите и записките да бъдат повеч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ните документи трябва да са четливи коп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ическите проекти се предвиждат дейности, които не с свързани с целите на схемите, а целят определено решаването на финансовите затруднения на бенефициентите по поддръжката и текущите ремонти на сградния фо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А ЗА УСТРОЙСТВО НА ТЕРИТОРИЯТА И ДРУГИТЕ НОРМАТИВНИ ДОКУМЕНТИ, В ЧАСТНОСТ КОМПЛЕКТОВАНОСТ, ЦЯЛОСТ И СТЕПЕН НА ГОТОВНОСТ/ЗРЯЛОСТ НА ТЕХНИЧЕСКАТА ДОКУМЕНТАЦИЯ НА ПРОЕКТНИТЕ ПРЕДЛОЖЕНИЯ – 5 .</a:t>
            </a:r>
            <a:br>
              <a:rPr sz="1500"/>
            </a:br>
            <a:r>
              <a:rPr b="1" lang="bg-BG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270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т се за интервенция обекти или под-обекти, които не са собственост на бенефици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ическите проекти и разрешенията за строеж са включени обекти, които не са предложени за финансиране. При приемане на обекта, трябва да се завършат и те, но финансирани по друга ли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е представят актове за общинска или държавна собственост, които на се актуални. Това ще затрудни определянето на лицата участници в строително-инвестиционния прое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773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ъчваме, преди да се представи техническата документация на екипа, който ще подготвя Проекта за кандидатстване за безвъзмездна финансова помощ, бенефициентите да я предоставят за </a:t>
            </a:r>
            <a:r>
              <a:rPr b="1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 преглед</a:t>
            </a:r>
            <a:r>
              <a:rPr b="0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ценка от </a:t>
            </a:r>
            <a:r>
              <a:rPr b="1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 или инженер</a:t>
            </a:r>
            <a:r>
              <a:rPr b="0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пит в реалния строителен процес и опит в обекти, финансирани по някои от Европейските програми. Това ще отнеме, може би, на бенефициентите не-повече от седмица и не повече от 1000 лв., а ще предотврати бъдещи много по-сериозни финансови загуби при изпълнение на СМР и финансирането им. Разбира се, ако екипа по подготовка на проектното предложение има такъв експерт, </a:t>
            </a:r>
            <a:r>
              <a:rPr b="1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който не е изработвал или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 оценявал</a:t>
            </a:r>
            <a:r>
              <a:rPr b="0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ическите проекти – още по-добр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ВЕТИ ЗА ПОДГОТОВКА И ПРОВЕЖДАНЕ НА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И ПОРЪЧКИ ЗА МЕДИЦИНСКА АПАР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0" y="2060280"/>
            <a:ext cx="4464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апаратур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 на приложение и предназнач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апарату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оцедури по ЗОП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ита процед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ена процед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дура на договаря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цедури по НВМ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ит конкур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говаряне с пок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3" descr="Penguins.jpg"/>
          <p:cNvPicPr/>
          <p:nvPr/>
        </p:nvPicPr>
        <p:blipFill>
          <a:blip r:embed="rId1"/>
          <a:stretch/>
        </p:blipFill>
        <p:spPr>
          <a:xfrm>
            <a:off x="177840" y="2133720"/>
            <a:ext cx="4033800" cy="3240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7632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и с производителите.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не на оферти, съдържащи информация з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79280" y="206028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характеристики на предлагания моде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а цен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на доставк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ционен срок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ли фирмата-производител представител в Българ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мативи (в т.ч. софтуер)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ъв комплект консумативи се доставя апаратурат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ързано ли е ползването на изделието с точно определени консумативи и софтуер (производство на същата фирма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къв срок, след доставката на апаратурата, се осигуряват консуматив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ия сметка са консумативите при провеждане на изпитанията за въвеждане в експлоатац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 персонала, експлоатиращ апаратурата – колко човека, къде, как, кога и за чия сметк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ия към помещението, в което ще се инсталира апаратура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95280" y="162828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яване на получените офер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мод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отговаря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изискванията на възложите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 техническите специфик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характерис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и на производителя, съответстващи на предмета на поръчката и предлаганото издели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1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485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01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за съответствие (СЕ марка) на изделиет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специфични сертифика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от производителя, че предлаганата апаратура е нова и неизползва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ени позиции (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, определян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lowchart: Multidocument 3"/>
          <p:cNvSpPr/>
          <p:nvPr/>
        </p:nvSpPr>
        <p:spPr>
          <a:xfrm>
            <a:off x="6032520" y="4581360"/>
            <a:ext cx="1060560" cy="758880"/>
          </a:xfrm>
          <a:prstGeom prst="flowChartMultidocumen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07640" y="1197000"/>
            <a:ext cx="5759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ия към участни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181080" y="1701720"/>
            <a:ext cx="8748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ически възмож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изационно писмо от производителя за доставка, продажба, гаранционно и следгаранционно обслуж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ведени системи за управление на качеството, съответстващи на предмета на поръчк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а собствена сервизна ба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ства за професионална квалификация на сервизния персон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за реакция при повре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за отстраняване на повреда от оторизирания сервиз в Българ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за отстраняване на повреда, изискваща доставка на части и намеса от производител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ък на основните договори за подобни доставки, изпълнени през последните три години, включително стойностите, датите и получател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ъки за добро изпъл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76000" y="1413000"/>
            <a:ext cx="633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ия към участника - 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24000" y="2060280"/>
            <a:ext cx="8208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номическо и финансово състояни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оводен баланс и отчет за приходите и разходите за последните три годи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за общия оборот и оборота на стоките и услугите, обект на поръчката, за последните три години (информацията да съответства на баланса и отчета за приходите и разходит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процедура (според спецификата на апаратурат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0581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критерии и показатели за оц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73512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критерии за оценка на офертит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-ниска це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номически най-изгодна офер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на показателите за оц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тежестта на отделните показател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за оценка на оферт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я между ползвателите на апаратурата и подготвящите документацията за обществените поръ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състава на комисията за разглеждане и класиране на офер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45720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Т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itle 1"/>
          <p:cNvSpPr/>
          <p:nvPr/>
        </p:nvSpPr>
        <p:spPr>
          <a:xfrm>
            <a:off x="1187280" y="1341360"/>
            <a:ext cx="6624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ОСТИ НА СХЕМАТА ПРИ ПРИЛАГАН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И ЗА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"/>
          <p:cNvSpPr/>
          <p:nvPr/>
        </p:nvSpPr>
        <p:spPr>
          <a:xfrm>
            <a:off x="108000" y="1989000"/>
            <a:ext cx="871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о проектно предложение трябва да включва задължително комбинация о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ка на оборудване и инвестиционен компонент (ремонт/ реконструкция/ мерки за енергийна ефективност и т.н.), взаимосвързани помежду си и опринасящи за трайното подобряване на съответната инфраструк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й на внедряване на мерки за енергийна ефективност в помещенията/сградите, обект на интервенция, проектното предложение следва да включва енергоспестяващи мерки, предписани в обследване за енергий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ост, в т.ч. мерки за оползотворяване на възобновяеми енергий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ци (където са приложими), които водят до съответствие на сградата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ите изисквания за енергийна ефективност и имат пряк екологиче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ВО ОЗНАЧАВА ТОВ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6146640" y="517680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5" descr="Za Margi - uchilishte"/>
          <p:cNvPicPr/>
          <p:nvPr/>
        </p:nvPicPr>
        <p:blipFill>
          <a:blip r:embed="rId1"/>
          <a:srcRect l="1770" t="0" r="1770" b="28940"/>
          <a:stretch/>
        </p:blipFill>
        <p:spPr>
          <a:xfrm>
            <a:off x="250920" y="2133720"/>
            <a:ext cx="2592360" cy="1635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32" name="Title 1"/>
          <p:cNvSpPr/>
          <p:nvPr/>
        </p:nvSpPr>
        <p:spPr>
          <a:xfrm>
            <a:off x="1332000" y="1341360"/>
            <a:ext cx="64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ОСТИ НА СХЕМАТА ПРИ ПРИЛАГАНЕ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И ЗА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108000" y="199692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2843280" y="2106720"/>
            <a:ext cx="59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пречно точна преценка на приоритетните потре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на количественото отношение на комбинацията от доставка на специфично оборудване в обхвата на приоритетите и необходимите мерки за енергоспестя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50920" y="3789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на оценка на степента на енергийна ефективност в сградата: може да намери в доклад от вече извършено обследване за енергийна ефективност или ако няма такъв е необходимо спешно да се стартира процедура по възлагане на енергийно обследване по реда на З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оверим актуалността (валидността) на вече извършено обследване за енергийна ефективност за сградата, обект на интерве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"/>
          <p:cNvSpPr/>
          <p:nvPr/>
        </p:nvSpPr>
        <p:spPr>
          <a:xfrm>
            <a:off x="324000" y="12682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 строителните изисквания в сградит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ите заведения за болнична помощ и домовете за медико-социални грижи и прилежащите им тер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85760" y="2565360"/>
            <a:ext cx="8778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АРЕДБА № 49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8 ОКТОМВР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0 Г. ЗА ОСНОВНИТЕ ИЗИСКВАНИЯ, НА КОИТО ТРЯБВА ДА ОТГОВАРЯТ УСТРОЙСТВОТО, ДЕЙНОСТТА И ВЪТРЕШНИЯТ РЕД НА ЛЕЧЕБНИТЕ ЗАВЕДЕНИЯ ЗА БОЛНИЧНА ПОМОЩ И ДОМОВЕТЕ ЗА МЕДИКО-СОЦИАЛНИ ГРИЖИ (Обн. ДВ. бр.83 от 22 Октомври 2010г., изм. ДВ. бр.92 от 23 Ноември 2010 г.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отменя познатата до сега наредба 29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та се отнасят д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ата светла височина на помещения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ите на манипулационните, стерилизационната, помещенията за разливане на храна, санитарните възли, както и зоната за съхранение на санитарните прибо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ите на операционните и родилните зали, отделенията за анестезиология, реанимация и интензивно л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"/>
          <p:cNvSpPr/>
          <p:nvPr/>
        </p:nvSpPr>
        <p:spPr>
          <a:xfrm>
            <a:off x="182520" y="1341360"/>
            <a:ext cx="877896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АРЕДБА № 49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8 ОКТОМВРИ 2010 Г. ЗА ОСНОВНИТЕ ИЗИСКВ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ИТО ТРЯБВА ДА ОТГОВАРЯТ УСТРОЙСТВОТО, ДЕЙНОСТ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ТРЕШНИЯТ РЕД НА ЛЕЧЕБНИТЕ ЗАВЕДЕНИЯ ЗА БОЛНИЧНА ПОМОЩ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ВЕТЕ ЗА МЕДИКО-СОЦИАЛНИ ГРИЖИ (Обн. ДВ. бр.83 от 22 Октомври 2010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. ДВ. бр.92 от 23 Ноември 2010 г.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отменя познатата до сега наредба 29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ите изискванията се отнасят още д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вите настилки в помещения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йностите на шумовите нива , за показателите за шум в околната среда, отчитащи степента на дискомфорт през различните части на денонощието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алации и системи, необходими за функционирането на лечебните заведения за болнична помощ и домовете за медико-социални грижи (осветителни, водопроводни, отоплителни, вентилационни и климатичните инсталации, електрозахранването и електрическите уредби, водопроводните и канализационните инсталации и други) се проектират и изграждат съгласно разпоредбите на Закона за устройство на територията и нормативните актове по прилагането м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1" descr="Cv"/>
          <p:cNvPicPr/>
          <p:nvPr/>
        </p:nvPicPr>
        <p:blipFill>
          <a:blip r:embed="rId1"/>
          <a:stretch/>
        </p:blipFill>
        <p:spPr>
          <a:xfrm>
            <a:off x="5102280" y="2352600"/>
            <a:ext cx="3224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2"/>
          <p:cNvSpPr/>
          <p:nvPr/>
        </p:nvSpPr>
        <p:spPr>
          <a:xfrm>
            <a:off x="195120" y="1628640"/>
            <a:ext cx="864108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зготвим </a:t>
            </a:r>
            <a:r>
              <a:rPr b="0" lang="bg-BG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ЪЛЖИТЕЛНО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ните </a:t>
            </a:r>
            <a:r>
              <a:rPr b="0" lang="bg-BG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ЕХНИЧЕСКИ ЗАД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извършване на обследване за енергийна ефективност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работване на технически проекти по реда на ЗУТ само п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те енергоспестяващи м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еценим добре възможностите си в горната задача! 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ъзможност да се справим да потърсим помощ от компетентен експер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разпишем специфични изисквания към изпълнителите на обследването за енергийна ефективност и към проектан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bg-BG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ЩО Е ТОЛКОВА ВАЖНО ТОВ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382680" y="4640400"/>
            <a:ext cx="517320" cy="517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2"/>
          <a:stretch/>
        </p:blipFill>
        <p:spPr>
          <a:xfrm>
            <a:off x="6156360" y="3959280"/>
            <a:ext cx="2467080" cy="1557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"/>
          <p:cNvSpPr/>
          <p:nvPr/>
        </p:nvSpPr>
        <p:spPr>
          <a:xfrm>
            <a:off x="182520" y="156996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ЕДБА № 39 ОТ 26 АВГУСТ 2010 Г. ЗА УТВЪРЖДАВАНЕ НА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ДИЦИНСКИ СТАНДАР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АКТИКА И КОНТРОЛ НА ВЪТРЕБОЛНИЧНИТЕ ИНФЕКЦИИ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н. ДВ. бр.69 от 3 Септември 2010 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182520" y="2521080"/>
            <a:ext cx="863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 специфичния риск за възникване на ВБИ лечебните заведения за болнична помощ се категоризират в три групи, изискващи съответен брой специалисти по контрол на инфекци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а А: Високорискова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а Б: Умеренорискова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а В: Нискорискова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ОТВЯНЕ НА ТЕХНИЧЕСКИТЕ ЗАДАНИЯ Е НЕОБХОДИМО ДА ЗНАЕМ КЪМ КОЯ ГРУПА СЕ КАТЕГОРИЗИРА СГРАДАТА ПО РЕДА НА ТАЗИ НАРЕДБА!!!  </a:t>
            </a:r>
            <a:r>
              <a:rPr b="1" lang="bg-BG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ЩО Е НЕОБХОДИМО ТОВА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5033880" y="3703680"/>
            <a:ext cx="517680" cy="5173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C:\Documents and Settings\Mimi\Desktop\BOLNICI_PODGOTOVKA\IMG_1203.jpg"/>
          <p:cNvPicPr/>
          <p:nvPr/>
        </p:nvPicPr>
        <p:blipFill>
          <a:blip r:embed="rId2"/>
          <a:stretch/>
        </p:blipFill>
        <p:spPr>
          <a:xfrm>
            <a:off x="6372360" y="3213000"/>
            <a:ext cx="1944720" cy="145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179280" y="1695600"/>
            <a:ext cx="885672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ЗАВИСИМОСТ ОТ КАТЕГОРИЯТА ТОЗИ МЕДИЦИНСКИ СТАНДАРТ ОПРЕДЕЛЯ ТОЧНИ И СТРОГИ ХИГИЕННИ ИЗИСКВАНИЯ КЪ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ната сре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здуха в помещенията - степен на чисто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та по отношение физичните, химичните и бактериологичните характеристики – за стерилизация, за питейно-битови нужди, за инжекционни разтвори, за разреждане при хемодиализ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21T11:57:42Z</dcterms:modified>
  <cp:revision>116</cp:revision>
  <dc:subject/>
  <dc:title>Слайд 1</dc:title>
</cp:coreProperties>
</file>