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75D-9295-47B0-97E0-DC40D760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5A7-4934-43BE-AAA9-61B8136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8C9-EE8E-4C7E-ABBC-EE2C53F0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10C-3598-4DBC-B3ED-74235627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B708-6370-414E-B160-A67543F2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7B54-FE03-48EF-A4CD-F6D7F1D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A5EF-B778-4958-87C8-2058C1C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057D-D082-4642-AD2E-2AC3DD5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5F1F-AB60-4C96-9F57-C58743D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B0E-FA0B-4333-9EE8-04B1B71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1CE-A454-451E-B31B-F72404E0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221-149B-4E57-B635-498F5B98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AC1-F360-42A4-9548-2B1429D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98F8-2311-42E0-B49D-F43B315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88CB-8701-48AA-8120-FC12C2F2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EA85-7C70-4DEC-9C42-1CA50D4C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05BE-556E-4E4A-8001-5ADB4D82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B242-E59E-4166-B943-0A157355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77B1-FD33-4AA8-AA81-B2B6FED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4B40-D9C6-4B36-A82C-B6FB2002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D956-7FC2-4376-B75A-72877F5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06FE-1A63-4C0C-8802-78C455A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A1F-7DF2-483A-B792-F6581E8C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BB1F-1656-435E-9954-84859DE2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0372-B055-424F-B640-C61A3E2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DB57-D8DB-4056-A117-42B562D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F3C6-EBF4-4F7C-99CD-79BCA69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ECA2-CA73-483A-8268-A8A41CF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FAEA-80AE-4584-BBB2-508CF4D8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398D-1780-4B39-96ED-1EF31801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3C79-CE02-433F-B532-CBB062EC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D110-A57A-4D4E-9CAD-AFB2184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B55D-1957-4341-B0A6-0B91E42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585-DBDC-4317-9C73-F5C16C5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10A2-4006-46F6-A060-FC88A62B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71E5-F7A1-47F6-90FF-FF22D1B9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9152-B820-44BB-A6C3-F4262CB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50E9-57EE-492B-9F84-89E4047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876B-9CD8-4396-89F1-0ABBB2B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BB23-DDCD-4686-8184-028366C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E480-CB0C-45CA-81AC-5955A902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B21C-DC26-4898-8E85-FA2A9F75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05C7-4391-4270-8B7F-6C4FDBAE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2F3C-90F7-4402-9F58-3E86BE43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D45-A781-4E4C-A392-63BA8E0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BC9F-30F0-4F03-A01F-EFBC4BF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D9E7-A650-46C7-90F7-C74098B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D8CE-54FE-4AB9-8CAB-74759F7D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81D2-CDC6-4BAE-AB1D-02EA7E94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C612-9422-4568-85A6-49C0E40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C06F-C579-4543-B8E1-A1ECD4F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071B-320F-4184-A752-BD1D2C1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36114-8638-4868-B62D-D226CA3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CDE5-A67C-4BB1-B0C3-5E5D23E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AFD4-2A6F-4D2F-A6E7-4EC03A2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00F-A839-4543-875E-B7D2FACD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AF3A-AC99-4A12-9B90-FCF13DC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A92A-6A60-4AE9-A338-47E8698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2DE2-CFB3-4088-B8EA-A65673BA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D570-1DC0-45B8-A5BE-9DDD61E0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A9CB9-A372-4AC7-9F02-F673525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0355-3CC4-4234-9204-5BD82C48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33419-4BD6-4256-8691-74F640C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C38F-A5CD-4AEB-BC61-5AAA94A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E2FC-DA7F-4E08-A641-29433FF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9952-5688-40B4-A522-4A8A767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140-790C-479D-9ED5-EBF84023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805CE-ABC1-4335-A924-E9592AB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74EF-A3FF-4304-84A9-C2E0C5C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6A9B-C540-4D80-A9B0-7590CC6D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B34A2-9355-4155-A3CF-9B74F277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035E2-6D4A-4EDC-990D-16B3341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A88C-BB8B-4F81-8372-FBB8740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A7CD-ECB3-46EC-A959-09C8C74B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01AFC-723B-4BBE-A3A6-4CDA1D4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0EA6E-9CEA-47A1-A9D0-59FC928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F6E7-3569-4226-A5EF-EFF9D3C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707-0F81-4286-8C11-4C5453D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9CFE2-164A-4D99-BD67-4EB90B1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493E-7AA7-4D64-8A1A-020B512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A904E-1A55-43E7-B0DC-1A2B6A2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A0B28-F739-4BAA-A03D-595EAEF0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F0DD-7842-4286-97FB-03EADCF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53F-5480-4806-9FC3-F72141B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B32-467F-4EFD-B75F-D5CEA060AA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661-4BD4-4815-AE14-CF3EE17FF6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82C3-B433-4D08-A0BC-A2E6DD3368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215A-2712-4F20-9B18-28A563F3D9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E56E-59DC-4889-9277-C29BF05570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692A-68A4-4763-B000-BF13106C29CF}" type="slidenum">
              <a:rPr b="0" lang="bg-BG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114-33C2-4901-9347-874649791324}" type="slidenum">
              <a:rPr b="0" lang="bg-BG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3880" y="3928680"/>
            <a:ext cx="7774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96464"/>
                </a:solidFill>
                <a:latin typeface="Cambria"/>
              </a:rPr>
              <a:t>Оценка на проектни предложения по инвестиционен приоритет „Интегриран градски транспорт“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539280" y="1053720"/>
            <a:ext cx="8209080" cy="2660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r>
              <a:rPr b="0" lang="bg-BG" sz="2900" spc="-1" strike="noStrike">
                <a:solidFill>
                  <a:srgbClr val="ffffff"/>
                </a:solidFill>
                <a:latin typeface="Calibri"/>
              </a:rPr>
              <a:t>ППП, ФИНАНСОВ АНАЛИЗ И АРП</a:t>
            </a:r>
            <a:br>
              <a:rPr sz="2900"/>
            </a:br>
            <a:br>
              <a:rPr sz="2700"/>
            </a:b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61680" y="1300320"/>
            <a:ext cx="780732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Разходи за нерутинна поддръж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Да се разглеждат по компонен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Разходи за замяна на компонентите/активите с по-кратък полезен живо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Изцяло липсват такива разх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E5C3-CFD5-42ED-B6AC-84AEA3DC61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Разходи за ЕиП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0920" y="1197000"/>
            <a:ext cx="78073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Разходи за експлоатация и поддръжк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Преки производствени разходи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 (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материали, резервни части, външни услуги, заплати, социални и здравни осигуровки, други производствени разходи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Административни разходи и разходи за управле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Разходи или съответен дял от разходите на други звена на компанията, които са свързани и са използвани за оперативната дейност по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160-0B50-48DC-9E63-D7F9CAA0C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перативни при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10920" y="1197000"/>
            <a:ext cx="780732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перативни приход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Приходи, генерирани от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Въпрос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Как да третираме компенсациите за преференциални карти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Включват ли се субсидиите и паричните прев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F3C-BD28-47B9-A647-5FB731F6DD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1395000"/>
            <a:ext cx="78073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Финансова възвращаемост на инвестиции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Оценка на ефективността на проекта, независимо от начина на финансиран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оказател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8080"/>
                </a:solidFill>
                <a:latin typeface="Cambria"/>
              </a:rPr>
              <a:t>Нетна настояща стойност на инвестицията</a:t>
            </a:r>
            <a:r>
              <a:rPr b="0" lang="en-GB" sz="19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en-US" sz="1900" spc="-1" strike="noStrike">
                <a:solidFill>
                  <a:srgbClr val="008080"/>
                </a:solidFill>
                <a:latin typeface="Perpetua"/>
              </a:rPr>
              <a:t>NPV/C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8080"/>
                </a:solidFill>
                <a:latin typeface="Cambria"/>
              </a:rPr>
              <a:t>Финансова норма на възвращаемост на инвестицията </a:t>
            </a:r>
            <a:r>
              <a:rPr b="0" lang="en-GB" sz="1900" spc="-1" strike="noStrike">
                <a:solidFill>
                  <a:srgbClr val="008080"/>
                </a:solidFill>
                <a:latin typeface="Perpetua"/>
              </a:rPr>
              <a:t>– FRR/C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исконтовият процент препоръчван от ЕК е 4</a:t>
            </a:r>
            <a:r>
              <a:rPr b="0" lang="en-US" sz="2200" spc="-1" strike="noStrike">
                <a:solidFill>
                  <a:srgbClr val="008080"/>
                </a:solidFill>
                <a:latin typeface="Perpetua"/>
              </a:rPr>
              <a:t>%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в реално изражени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За да се иска финансиране от ЕК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8080"/>
                </a:solidFill>
                <a:latin typeface="Perpetua"/>
              </a:rPr>
              <a:t>NPV/C</a:t>
            </a:r>
            <a:r>
              <a:rPr b="0" lang="en-GB" sz="22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&lt;0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FRR/C</a:t>
            </a:r>
            <a:r>
              <a:rPr b="0" lang="bg-BG" sz="2200" spc="-1" strike="noStrike">
                <a:solidFill>
                  <a:srgbClr val="9b2d1f"/>
                </a:solidFill>
                <a:latin typeface="Cambri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&lt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исконтовия процент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Не се прилага инкременталният подх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C13E-0B1E-48D3-AFDB-62DC9B8B5F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579600"/>
            <a:ext cx="8375760" cy="793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0920" y="1569960"/>
            <a:ext cx="7807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Нетна настояща стойност на инвестицият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- FNPV/C –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сума от годишните дисконтирани парични поточи за целия времеви хоризонт на проек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Годишни нетни парични потоц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сума от годишните общи входящи парични потоци и общите изходящи парични потоци по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1187280" y="4809960"/>
            <a:ext cx="6467760" cy="99540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B762-B729-43F6-BAC6-7BF4AFA9E3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49320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0920" y="1484280"/>
            <a:ext cx="78073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Дисконотов процент</a:t>
            </a: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процент, който привежда стойността на паричните потоци за различните години към стойността им в началната год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	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	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a</a:t>
            </a:r>
            <a:r>
              <a:rPr b="0" lang="en-GB" sz="2600" spc="-1" strike="noStrike" baseline="-25000">
                <a:solidFill>
                  <a:srgbClr val="008080"/>
                </a:solidFill>
                <a:latin typeface="Perpetua"/>
              </a:rPr>
              <a:t>t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= 1 / (1+i)</a:t>
            </a:r>
            <a:r>
              <a:rPr b="0" lang="en-GB" sz="2600" spc="-1" strike="noStrike" baseline="30000">
                <a:solidFill>
                  <a:srgbClr val="008080"/>
                </a:solidFill>
                <a:latin typeface="Perpetu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a –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дисконтов процент в година</a:t>
            </a: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t-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годин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i –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дисконтов процент</a:t>
            </a: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D2B-FF26-4937-ACE7-8B43A82DEB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9644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0920" y="1774800"/>
            <a:ext cx="78073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Финансова вътрешна норма на възвращаемост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е тази норма, която е равна на дисконтов процент, водещ до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NPV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 равна на ну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1908000" y="3214800"/>
            <a:ext cx="5145120" cy="71892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3F1-FC18-4C68-8B91-17D0B18D67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501120"/>
            <a:ext cx="8207280" cy="800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пределяне на безвъзмездната помощ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Content Placeholder 2"/>
          <p:cNvSpPr/>
          <p:nvPr/>
        </p:nvSpPr>
        <p:spPr>
          <a:xfrm>
            <a:off x="468360" y="1638360"/>
            <a:ext cx="67676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 1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Процент на финансов дефицит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(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R = Max EE/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Max EE = DIC-DNR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максимални допустими раз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IC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инвестиционни раз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NR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приходи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оперативни разходи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 +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а остатъчна стой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 2 “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ума по решението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” (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A = EC*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EC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опустими разходи по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 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3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Грант от 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EU Grant = DA*MaxCRpa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Max CRPa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максимален процент на съфинансиране за приоритетната 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2CD-0AD8-4BDD-B507-C888AF55A7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95280"/>
            <a:ext cx="8713800" cy="38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23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2300" spc="-1" strike="noStrike">
                <a:solidFill>
                  <a:srgbClr val="696464"/>
                </a:solidFill>
                <a:latin typeface="Calibri"/>
              </a:rPr>
              <a:t>Източници на финансиране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95280" y="1197000"/>
            <a:ext cx="85694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Основни източници на финансиране</a:t>
            </a:r>
            <a:r>
              <a:rPr b="1" lang="en-US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омощ от Общностт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Грант от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ационален обществен при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Държа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Общински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Частен капи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Други източници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заеми от МФ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530-A28B-43A9-8D2B-9480310CB8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7320" y="189000"/>
            <a:ext cx="83754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устойчивост на проек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68360" y="692280"/>
            <a:ext cx="856944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о устойчив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е проект, когато </a:t>
            </a:r>
            <a:r>
              <a:rPr b="1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акумулираните нетни парични потоци от него са положителни през всяка година о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A vague statement that the Member State will cover any cash needs of the project over its life in some way is not a promising approach to planning the financial sustainability of the project. In cases where project revenues need to be complemented by public funds during project operations to ensure long-term financial sustainability, these appropriations should be established by specific laws, other budgetary provisions, institutional agreements or contracts.</a:t>
            </a:r>
            <a:r>
              <a:rPr b="1" lang="bg-BG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US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зчисленията са </a:t>
            </a:r>
            <a:r>
              <a:rPr b="0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за</a:t>
            </a:r>
            <a:r>
              <a:rPr b="0" lang="en-GB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 </a:t>
            </a:r>
            <a:r>
              <a:rPr b="0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Сценария “С проект”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;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не се прилага инкременталният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Всички входящи и изходящи парични потоци трябва да се вземат предвид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заеми и тяхното обслужване, национално и местно финансиране, субсидии, данъц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статъчната стойност не трябва да се взима под внимание, освен ако активът не се ликвид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FB3-6F57-4D70-89A0-2A07D04606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4120" y="37476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ъдържани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61680" y="1300320"/>
            <a:ext cx="78073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Насоки за изготвяне на АР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сновни принципи на АР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Финансов анализ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Икономически анализ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Анализ на чувствителността и рис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пределяне н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гранта (безвъзмездната помощ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Специфични въпрос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6BF0-60DD-462D-BD5B-5EA6A855AD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221760"/>
            <a:ext cx="837576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25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2500" spc="-1" strike="noStrike">
                <a:solidFill>
                  <a:srgbClr val="696464"/>
                </a:solidFill>
                <a:latin typeface="Calibri"/>
              </a:rPr>
              <a:t>Финансова възвращаемост на капитала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Content Placeholder 2"/>
          <p:cNvSpPr/>
          <p:nvPr/>
        </p:nvSpPr>
        <p:spPr>
          <a:xfrm>
            <a:off x="539640" y="1052640"/>
            <a:ext cx="780732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а възвращаемост на капитал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Оценка на ефективността на проекта от гледна точка на националния капитал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вместо инвестициите, като изходящи парични потоци, се взимат предвид финансовите източници, без гранта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оказатели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етна настояща стойност на капитал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FNPV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Финансова норма на възвращаемост на капитал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FRR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FNPV/K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се увеличава и може да стане положите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е се прилага инкременталният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624-D1D3-4853-B318-6A25B47B6F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Икономически анализ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E76A-08AB-48AA-94F2-2CE46157C6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Content Placeholder 2"/>
          <p:cNvSpPr/>
          <p:nvPr/>
        </p:nvSpPr>
        <p:spPr>
          <a:xfrm>
            <a:off x="539640" y="1197000"/>
            <a:ext cx="78073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ревръщане на финансовите в икономически ц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Монетаризация на извънпазарните влияния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ъншни разходи и пол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кономическа възвращаемост на инвестициите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: ENV, ERR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тношение П/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B0D-72B8-4708-BF63-BF325AC8A6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4633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Превръщане на финансовите в икономически цен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539640" y="1487520"/>
            <a:ext cx="78073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Изваждане на всички фискални парични преводи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 от паричния поток на проекта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от инвестиционните, оперативни разходи и приходите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Липсват конверсионни фактори (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илагат се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само към инвестиционните раз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Грешно изчисление на някои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5811-68FA-4AAC-8AD0-D6F7FA6663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7320" y="410760"/>
            <a:ext cx="837540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Превръщане на финансовите в икономически цен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662040" y="1297080"/>
            <a:ext cx="7807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Нетъргувани стоки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егория стоки, доставени от местния пазар, като вътрешен транспорт, електричество, вода и др.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SCC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се изчислява въз основа на разликата между международните и вътрешни цени в резултат на търговските бариери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Неквалифициран труд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егория разходи, представляващи разходите за труд, които са в излиш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7E80-B324-4DF4-99A7-593F656B02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531720"/>
            <a:ext cx="8375760" cy="119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539640" y="1738440"/>
            <a:ext cx="84250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Спестено време за пътуване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(основната външна полза при транспортните проекти) - разлика в стойността на времето 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(VOT)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между сценария “с проект” и сценария “без проек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 и моделирането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Време за пътуване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което е функция на разстоянието и скорос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Категория на пътуванията</a:t>
            </a:r>
            <a:r>
              <a:rPr b="0" lang="en-GB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за градския обществен транспорт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ежедневните пътувания до/от работа и други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неслужеб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Процент на заетост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по категория превозни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врем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Национално проучване за цената на времето, публикувано на 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bgregio.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31B0-CB64-4166-A387-08B29143D1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75760" cy="1190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39640" y="1619280"/>
            <a:ext cx="8425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амаляване на произшествията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- 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разликата в стойността на произшествията (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VOA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между сценария “с проект” и сценария “без проек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,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ътна полиция и транспортните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Процент на злополуките по категории превозни средства</a:t>
            </a:r>
            <a:r>
              <a:rPr b="0" lang="en-GB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съотношение между броя злополуки и общия брой пътувания по категории превозни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произшеств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ACD-98FE-4A98-A48F-135D3FA328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75760" cy="1190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Content Placeholder 2"/>
          <p:cNvSpPr/>
          <p:nvPr/>
        </p:nvSpPr>
        <p:spPr>
          <a:xfrm>
            <a:off x="539640" y="1827360"/>
            <a:ext cx="84250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омени в замърсяването на въздуха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разликата в стойността на емисиите между сценария “с проект” и сценария “без проек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Еми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арникови газ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Вредни за човешкия организъм газове (прахови частици, серен диоксид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Изчисляване на броя превозни средства и разстоя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емис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06E-FB34-4F7F-BFF9-72493E0C9C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792000"/>
            <a:ext cx="8375760" cy="119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539640" y="2292480"/>
            <a:ext cx="842508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US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епоръчаните стойности трябва да бъдат коригирани по време на периода на оценяване в съответствие с еластичността на нарастване на БВП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/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глава от населението от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0.7 (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.e.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о се използва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70%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от процента на нарастване на БВП/гл. от на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4D53-6E6E-4BC2-BB42-CB641B2F39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7276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468360" y="1711440"/>
            <a:ext cx="8424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възвращаемост на инвестици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ценка на ефективността на проекта от гледна точка на икономиката </a:t>
            </a:r>
            <a:r>
              <a:rPr b="0" lang="bg-BG" sz="18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сновни критерии за приемане на проекта за финансиране от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оказатели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нетна настояща стойност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– E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норма на възвращаемост на инвестициите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– 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репоръчаният от ЕК социален дисконтов процент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е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 5%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в реално из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За да се иска финансиране от ЕК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ENPV&gt;0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ERR&gt;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дисконтовия пр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рилага се инкременталният метод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D33-FB4E-430A-9782-E17D59FC0C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368280"/>
            <a:ext cx="837540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Насок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6A0-0B98-4661-A30B-A87A1DC961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61680" y="980640"/>
            <a:ext cx="78073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Насоките от декември 2014 г. на ЕК за изготвяне на Анализ разходи-ползи на инвестиционни проекти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Делегиран регламент (ЕС) № 480/2014 на ЕК от 3 март 2014 г. -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здел III Метод за изчисляване на дисконтираните нетни приходи от операции, които генерират нетни приходи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За голям проект: Регламент за изпълнение (ЕС) 2015/207 на ЕК от 20 януари 2015 г. (Приложение III)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3784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чувствителност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539640" y="1528920"/>
            <a:ext cx="84250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пределяне на критичните параметр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араметри на проекта, които имат най-голямо влияние върху финансовото и икономическо представяне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бщ критерий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абсолютната вариация от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1%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за определен параметър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оди до повече от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1%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ариация в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FNPV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л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ENPV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Определяне на важните за проекта параметри като инвестиционни разходи, цена на билетите, разходи за ЕиП,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VOT, VOA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 и др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310B-0AC2-4BFD-BB21-E150314CE6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риск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468360" y="981000"/>
            <a:ext cx="8424720" cy="57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Качествен анализ на риска (матрица на р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ероятностно разпределение на всеки критичен параметър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т външни източници и по експертни оценки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бхват от </a:t>
            </a:r>
            <a:r>
              <a:rPr b="1" lang="en-GB" sz="2400" spc="-1" strike="noStrike">
                <a:solidFill>
                  <a:srgbClr val="006666"/>
                </a:solidFill>
                <a:latin typeface="Symbol"/>
                <a:ea typeface="Symbol"/>
              </a:rPr>
              <a:t>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роценти от стойността на параметъра към базовия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Анализ на риска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Анализ на сценариите – оптимистичен, основен и песимист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етод Монте Карло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етодът се състои от неколкократно случайно определяне на стойности за критичните променливи, в рамките на съответните определени интервали, и изчисляване на показателите за ефективност на проекта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а и икономическа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NPV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Повтаряйки тази процедура за достатъчно голям брой извадк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оже да се получи предварително сближаване на изчисленията като вероятностно разпределение на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D430-0063-4A4D-A37B-D51FDAEB81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риск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539640" y="1197000"/>
            <a:ext cx="84250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зчисляване на очакваните стойности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Очаквана 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FNPV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и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 E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 (NPV) = </a:t>
            </a:r>
            <a:r>
              <a:rPr b="0" i="1" lang="el-GR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Σ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P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x NPV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E(NPV) – 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очаквана нетна настояща стой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P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- процент на вероятност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NPV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Arial"/>
              </a:rPr>
              <a:t>i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- нетна настояща стойност във вероятност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435-2A2B-4D86-B6DB-C7AC8CE185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пецифични въпроси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тсъствие на свръх компенсиран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Content Placeholder 2"/>
          <p:cNvSpPr/>
          <p:nvPr/>
        </p:nvSpPr>
        <p:spPr>
          <a:xfrm>
            <a:off x="611280" y="1467000"/>
            <a:ext cx="8424720" cy="50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Чл.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6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от Регламента на ЕК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1370/2007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за услугите в железопътния и пътния обществен пътнически транспорт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ият анализ трябва да включва финансови прогнози за дейността на всеки транспортен оператор, който получава субсидии и компенсации от държавата или общин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  <a:ea typeface="Arial"/>
              </a:rPr>
              <a:t>Разумната печалба по ал. 2 се определя в размер до 5 на сто от общия размер на преките и съответната част от непреките разходи за дейността по предоставяне на субсидирани пътнически превозни услуги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чл.55 от Наредба за условията и реда за предоставяне на средства за компенсиране на намалените приходи от прилагането на цени за обществени пътнически превози по автомобилния транспорт, предвидени в нормативните актове за определени категории пътници, за субсидиране на обществени пътнически превоз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F16-22F5-4ABF-9A0B-C8E0AAE7B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пецифични въпроси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тсъствие на свръх компенсиран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611280" y="1467000"/>
            <a:ext cx="84247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Да се изготви прогноза на Отчета за приходи и разходи на всеки оператор в рамките на времевия хоризонт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Трудности поради липсата на практика в този вид из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Липса на финансова информация за дейността на частните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75A-3D72-45F6-A79D-F7CAE9C262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mz_oprr@mrrb.government.bg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6160" y="621180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4EF-9B9A-4DA5-B8DD-04A078A37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лагодаря за вниманието!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6160" y="621180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025-DFCA-493E-9239-FE23C7FA08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4120" y="37476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сновни принцип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967-A13A-4AF5-AE4A-C56948BE1F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61680" y="1300320"/>
            <a:ext cx="78073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Основни цели на АРП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докаже, че проектът е привлекателен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от икономическа гледна точка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допринася за изпълнение целите на регионалната политика на ЕС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цел на Икономическия анализ на проект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покаже, че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NPV&gt;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докаже, че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помощта от Европейските фондове е необходима,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за да бъде проектът финансово надежден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цел на Финансовия анализ на проект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покаже, че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NPV/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&lt;0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Финансов анализ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146160" y="6211800"/>
            <a:ext cx="46512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8A86-DB53-44B5-BE99-B0F3EF99F4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ремеви хоризон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61680" y="1299960"/>
            <a:ext cx="7807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Времеви хоризонт на проекта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6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 икономически полезен живот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на проекта, който обхваща неговите дългосрочни въздействи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Референтен времеви хоризонт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6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25-30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годин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DF4B-F189-470F-82EC-30829253DA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474840"/>
            <a:ext cx="8375760" cy="793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 метод “с нарастваща стойност” 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(Incremental method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61680" y="1299960"/>
            <a:ext cx="7807320" cy="38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Инкрементален метод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проектът е оценен на база разликата между сценария “с проект” и сценария “без проект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и трудност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Инкременталният метод не се прила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Трудности при определянето на обхвата на сценария “без проект”  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(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сценарий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Business as usual”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или сценар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“Do-nothing”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F0F-ED3C-4745-AC4F-05FF91107E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61680" y="1299960"/>
            <a:ext cx="78073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Инвестиционни разх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Първоначални инвестиции през първите години на проек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Инвестиционни разходи за нерутинна/тежка поддръжка в рамките на годините за експлоатация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Остатъчна стойност на инвестициите -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числяване на нетната настояща стойност на паричните потоци в оставащите години от жизнения цикъл на операция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C25-D8E6-406A-A4AF-F1F9DAD31E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61680" y="1402920"/>
            <a:ext cx="78073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Първоначални инвестици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обра обосновка на инвестиционна стойност на проекта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базирана на резултатите от подобни търгове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КСС и др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ропускане на някои проектни разход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роекти, направени преди годин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разходи за управление на проекта,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недопустими разход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опустим и недопустим ДДС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статут на бенефициен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E439-0722-462C-8EED-A2E3A309C5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11:21Z</dcterms:created>
  <dc:creator>verity morton</dc:creator>
  <dc:description/>
  <dc:language>en-US</dc:language>
  <cp:lastModifiedBy>Bilyana Yachkova</cp:lastModifiedBy>
  <dcterms:modified xsi:type="dcterms:W3CDTF">2016-06-24T13:28:38Z</dcterms:modified>
  <cp:revision>300</cp:revision>
  <dc:subject/>
  <dc:title>Burgas Integrated Urban Transport Study Development</dc:title>
</cp:coreProperties>
</file>