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071-C798-42A6-B383-D3EF8A9B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5AC-5C02-4F5F-B769-DDDED08D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4811-4CD7-4F1E-A83E-01F0ACB7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A6B-F444-4731-A40A-96B5529DA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57BC-58AD-4656-85C9-5F52652A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09D7-9257-4848-A109-032CDF59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67D8-0B8C-4767-BCD5-5452F939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B658-344A-41CF-8C41-7275649E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75B2-7E77-4993-973C-CADF17F3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87B1-D259-4209-B06D-C1827FE1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E204-08BB-47BB-BCDC-47D1AFBA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620-CC71-49C6-AFFD-9758778A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5CD4-0E3C-42E7-87E3-483CC952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6509-5C29-42E8-9B2A-4A5FECCC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E291-9E42-4BFA-8D53-D7294D46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B75F-364A-49CA-BBC3-7216774B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57E4-5F0C-4D2F-A711-852A3481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96A8-5BC5-4D39-898C-7A3541C5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DABB-E12C-4CBD-A266-AA78557B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A30FE-7B0D-4A28-A467-428F8296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7D13-F60C-43D0-95B6-6CA57792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CD9EE-ABEC-4A1B-96C0-A5851433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2E4-CA7E-48EA-B4C4-53903327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45C20-1254-499C-B150-70F0EED4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FABD2-5DEA-4F82-84B5-DB5687F0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C772-79FA-4F53-A25D-3F677FAB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8D105-73FC-42A2-997F-10CFE8FA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3DB7-4DBF-4242-840D-AD02C06A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EE8DA-72AB-4164-B83E-9EA54C39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EACF9-2C97-4114-8FB9-8D929B4D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D0AA-A1A5-4217-BEFC-FBBD007B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D20F7-2635-4389-A389-053A1EEC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54DD2-961D-4005-849F-A7414918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0C8C-99EA-46F1-B67B-A15E6CCB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E25F2-02F6-45C8-8652-EABE21FD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EA695-EC8E-4FCE-87F2-9408BD09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8D9A-B694-40D7-938F-3791D9B6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D7DDE-0C78-46A2-90D1-B098C678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F80C4-31EC-40B9-BA8B-756A8C54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4A748-9FBA-4113-A953-263C9034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71075-C8C9-49BA-A211-8BC56914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54662-BD1A-4E3A-A176-AD17282C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4ACD1-C07B-4AC3-9A8F-91752E45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C269F-EB02-4679-A684-86436E96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E6D-5642-4292-A16F-6ED6B47B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7FEAA-E271-4928-B659-051E5B86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D13C4-F561-4EF8-94D6-E9B8DA3D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458B3-112C-48FA-B9C2-3E9BCB65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E235F-6E39-48D5-95B9-7CCDD4D3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B3996-D134-427F-8134-B6A52F12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C8656-4A9E-4DDD-97BB-DD929F3F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D6653-FB25-42D7-BF47-E2404DDF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B9286-5C67-4A2A-9F7B-0FD2C6E2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7CEFE-70A5-4BE3-A1EB-D338B7BA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411DB-4D83-45D1-A967-14521FAA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369-457C-464D-B99E-84B37093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D39E2-7614-4BE2-8092-9257ED85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77F5C-3446-4D9D-BE11-E54104DD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43230-D4AC-48DF-A13E-4A7B3182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D7E32-C3CA-4DD0-A87B-224DD374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0F131-FC3C-407D-8A75-C9F55C48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E08A0-E607-45D8-B44F-1A200FCD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FF950-72B7-47CE-A018-80CA7DA1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BD1C1-D27D-4398-824F-F7739DA8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347DF-EBF7-4E5B-AC6F-8DF8F2A1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3152B-775E-4318-9E65-0FB88A5B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D923-685D-40C6-88A2-6802DABE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32188-FEAE-4703-9A18-8D4029F9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B7628-4315-432B-8B6B-D5895B74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E3DF8-25DD-4A9B-961B-A19CBF3F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F4F30-F2A3-44A4-ADA7-A9954A80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53BE6-E492-4CB3-86DF-E8AB351B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397CA-5619-4C21-A02E-492A452B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61964-15CE-48D2-B5E5-04C39854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890F1-EE3E-458F-9906-C9C68729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35196-CBE5-4665-A0FB-AB1FB300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761EF-ACE4-4DAA-A9EE-430B12F0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E59-3E60-4307-9397-5FA17B3D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46261-8031-41A9-8796-F6269F48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B2ADE-87F4-4209-AA7E-40DCAAF1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9B4A8-9FDD-451C-812D-DEC99D91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EC60A-6C61-4D32-8AF6-48648E30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E5477-7EB4-43F2-A540-4E024E77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738-CF3F-487A-88C2-E0F1D528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RDPW PMU UIT Training Urban Public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A99D-853F-4DE1-8C63-7F5E6C773BC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RDPW PMU UIT Training Urban Public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96CA-7C58-4D75-9306-F1FF371E5E0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RDPW PMU UIT Training Urban Public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7D1A-F1A5-4CD4-8496-52886499471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RDPW PMU UIT Training Urban Public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18D6-56E9-42CE-9837-27DE40FF0A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MRDPW PMU UIT Training Urban Public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12B0-7FDC-49E7-903A-4A348E5DC9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8B9B-6F94-4811-BE51-FAD3ED231695}" type="slidenum">
              <a:rPr b="0" lang="bg-BG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4DB7-B3C9-4AE0-A118-CF0D911F38B0}" type="slidenum">
              <a:rPr b="0" lang="bg-BG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13880" y="3928680"/>
            <a:ext cx="777420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696464"/>
                </a:solidFill>
                <a:latin typeface="Cambria"/>
              </a:rPr>
              <a:t>Оценка на проектни предложения по инвестиционен приоритет „Интегриран градски транспорт“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539280" y="1053720"/>
            <a:ext cx="8209080" cy="26607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900"/>
            </a:br>
            <a:r>
              <a:rPr b="0" lang="bg-BG" sz="2900" spc="-1" strike="noStrike">
                <a:solidFill>
                  <a:srgbClr val="ffffff"/>
                </a:solidFill>
                <a:latin typeface="Calibri"/>
              </a:rPr>
              <a:t>ППП, ФИНАНСОВ АНАЛИЗ И АРП</a:t>
            </a:r>
            <a:br>
              <a:rPr sz="2900"/>
            </a:br>
            <a:br>
              <a:rPr sz="2700"/>
            </a:b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нвестиционни разход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61680" y="1300320"/>
            <a:ext cx="780732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Разходи за нерутинна поддръж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696464"/>
                </a:solidFill>
                <a:latin typeface="Cambria"/>
              </a:rPr>
              <a:t>Важно</a:t>
            </a:r>
            <a:r>
              <a:rPr b="0" lang="en-GB" sz="26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Да се разглеждат по компонент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Разходи за замяна на компонентите/активите с по-кратък полезен живо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696464"/>
                </a:solidFill>
                <a:latin typeface="Cambria"/>
              </a:rPr>
              <a:t>Често срещани грешки</a:t>
            </a:r>
            <a:r>
              <a:rPr b="0" lang="en-GB" sz="26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 </a:t>
            </a: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Изцяло липсват такива разход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EF02-3485-4464-AC7C-540FA21644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Разходи за ЕиП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10920" y="1197000"/>
            <a:ext cx="780732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Разходи за експлоатация и поддръжка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Преки производствени разходи</a:t>
            </a:r>
            <a:r>
              <a:rPr b="0" lang="en-GB" sz="2400" spc="-1" strike="noStrike">
                <a:solidFill>
                  <a:srgbClr val="008080"/>
                </a:solidFill>
                <a:latin typeface="Perpetua"/>
              </a:rPr>
              <a:t> (</a:t>
            </a: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материали, резервни части, външни услуги, заплати, социални и здравни осигуровки, други производствени разходи</a:t>
            </a:r>
            <a:r>
              <a:rPr b="0" lang="en-GB" sz="2400" spc="-1" strike="noStrike">
                <a:solidFill>
                  <a:srgbClr val="00808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Административни разходи и разходи за управлени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Разходи или съответен дял от разходите на други звена на компанията, които са свързани и са използвани за оперативната дейност по проек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31000" indent="-2214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D0F6-A297-4144-A332-6617F8A052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перативни приход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10920" y="1197000"/>
            <a:ext cx="780732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Оперативни приходи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Приходи, генерирани от проек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696464"/>
                </a:solidFill>
                <a:latin typeface="Cambria"/>
              </a:rPr>
              <a:t>Въпроси</a:t>
            </a:r>
            <a:r>
              <a:rPr b="0" lang="en-GB" sz="26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 </a:t>
            </a: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Как да третираме компенсациите за преференциални карти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 </a:t>
            </a: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Включват ли се субсидиите и паричните превод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C3B8-BB62-452C-A799-FA41028D45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а възвращаемост на инвестици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0920" y="1395000"/>
            <a:ext cx="78073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Финансова възвращаемост на инвестициите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Оценка на ефективността на проекта, независимо от начина на финансиран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Показатели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8080"/>
                </a:solidFill>
                <a:latin typeface="Cambria"/>
              </a:rPr>
              <a:t>Нетна настояща стойност на инвестицията</a:t>
            </a:r>
            <a:r>
              <a:rPr b="0" lang="en-GB" sz="1900" spc="-1" strike="noStrike">
                <a:solidFill>
                  <a:srgbClr val="008080"/>
                </a:solidFill>
                <a:latin typeface="Perpetua"/>
              </a:rPr>
              <a:t> – </a:t>
            </a:r>
            <a:r>
              <a:rPr b="0" lang="en-US" sz="1900" spc="-1" strike="noStrike">
                <a:solidFill>
                  <a:srgbClr val="008080"/>
                </a:solidFill>
                <a:latin typeface="Perpetua"/>
              </a:rPr>
              <a:t>NPV/C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8080"/>
                </a:solidFill>
                <a:latin typeface="Cambria"/>
              </a:rPr>
              <a:t>Финансова норма на възвращаемост на инвестицията </a:t>
            </a:r>
            <a:r>
              <a:rPr b="0" lang="en-GB" sz="1900" spc="-1" strike="noStrike">
                <a:solidFill>
                  <a:srgbClr val="008080"/>
                </a:solidFill>
                <a:latin typeface="Perpetua"/>
              </a:rPr>
              <a:t>– FRR/C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Дисконтовият процент препоръчван от ЕК е 4</a:t>
            </a:r>
            <a:r>
              <a:rPr b="0" lang="en-US" sz="2200" spc="-1" strike="noStrike">
                <a:solidFill>
                  <a:srgbClr val="008080"/>
                </a:solidFill>
                <a:latin typeface="Perpetua"/>
              </a:rPr>
              <a:t>%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в реално изражени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696464"/>
                </a:solidFill>
                <a:latin typeface="Cambria"/>
              </a:rPr>
              <a:t>Важно</a:t>
            </a:r>
            <a:r>
              <a:rPr b="0" lang="en-GB" sz="24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За да се иска финансиране от ЕК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8080"/>
                </a:solidFill>
                <a:latin typeface="Wingdings"/>
                <a:ea typeface="Wingdings"/>
              </a:rPr>
              <a:t>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 </a:t>
            </a:r>
            <a:r>
              <a:rPr b="0" lang="en-US" sz="2200" spc="-1" strike="noStrike">
                <a:solidFill>
                  <a:srgbClr val="008080"/>
                </a:solidFill>
                <a:latin typeface="Perpetua"/>
              </a:rPr>
              <a:t>NPV/C</a:t>
            </a:r>
            <a:r>
              <a:rPr b="0" lang="en-GB" sz="2200" spc="-1" strike="noStrike">
                <a:solidFill>
                  <a:srgbClr val="9b2d1f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&lt;0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и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 FRR/C</a:t>
            </a:r>
            <a:r>
              <a:rPr b="0" lang="bg-BG" sz="2200" spc="-1" strike="noStrike">
                <a:solidFill>
                  <a:srgbClr val="9b2d1f"/>
                </a:solidFill>
                <a:latin typeface="Cambria"/>
              </a:rPr>
              <a:t> 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&lt;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дисконтовия процент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696464"/>
                </a:solidFill>
                <a:latin typeface="Cambria"/>
              </a:rPr>
              <a:t>Често срещани грешки</a:t>
            </a:r>
            <a:r>
              <a:rPr b="0" lang="en-GB" sz="24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Не се прилага инкременталният подход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93A4-B1F2-41B7-A14F-F1DB54D68D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579600"/>
            <a:ext cx="8375760" cy="793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а възвращаемост на инвестици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0920" y="1569960"/>
            <a:ext cx="78073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Нетна настояща стойност на инвестицията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- FNPV/C – </a:t>
            </a: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сума от годишните дисконтирани парични поточи за целия времеви хоризонт на проект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Годишни нетни парични потоци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сума от годишните общи входящи парични потоци и общите изходящи парични потоци по проект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4" name="Picture 6" descr=""/>
          <p:cNvPicPr/>
          <p:nvPr/>
        </p:nvPicPr>
        <p:blipFill>
          <a:blip r:embed="rId1"/>
          <a:stretch/>
        </p:blipFill>
        <p:spPr>
          <a:xfrm>
            <a:off x="1187280" y="4809960"/>
            <a:ext cx="6467760" cy="995400"/>
          </a:xfrm>
          <a:prstGeom prst="rect">
            <a:avLst/>
          </a:prstGeom>
          <a:ln w="0">
            <a:noFill/>
          </a:ln>
        </p:spPr>
      </p:pic>
      <p:sp>
        <p:nvSpPr>
          <p:cNvPr id="355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AFA7-D712-464C-92BB-8E3747A837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49320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а възвращаемост на инвестици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0920" y="1484280"/>
            <a:ext cx="78073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Дисконотов процент</a:t>
            </a:r>
            <a:r>
              <a:rPr b="0" lang="en-GB" sz="2600" spc="-1" strike="noStrike">
                <a:solidFill>
                  <a:srgbClr val="000000"/>
                </a:solidFill>
                <a:latin typeface="Perpetua"/>
              </a:rPr>
              <a:t> – </a:t>
            </a: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процент, който привежда стойността на паричните потоци за различните години към стойността им в началната годин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	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	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a</a:t>
            </a:r>
            <a:r>
              <a:rPr b="0" lang="en-GB" sz="2600" spc="-1" strike="noStrike" baseline="-25000">
                <a:solidFill>
                  <a:srgbClr val="008080"/>
                </a:solidFill>
                <a:latin typeface="Perpetua"/>
              </a:rPr>
              <a:t>t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 = 1 / (1+i)</a:t>
            </a:r>
            <a:r>
              <a:rPr b="0" lang="en-GB" sz="2600" spc="-1" strike="noStrike" baseline="30000">
                <a:solidFill>
                  <a:srgbClr val="008080"/>
                </a:solidFill>
                <a:latin typeface="Perpetua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Perpetua"/>
              </a:rPr>
              <a:t>a – </a:t>
            </a:r>
            <a:r>
              <a:rPr b="0" lang="bg-BG" sz="1800" spc="-1" strike="noStrike">
                <a:solidFill>
                  <a:srgbClr val="008080"/>
                </a:solidFill>
                <a:latin typeface="Cambria"/>
              </a:rPr>
              <a:t>дисконтов процент в година</a:t>
            </a:r>
            <a:r>
              <a:rPr b="0" lang="en-GB" sz="1800" spc="-1" strike="noStrike">
                <a:solidFill>
                  <a:srgbClr val="008080"/>
                </a:solidFill>
                <a:latin typeface="Perpetua"/>
              </a:rPr>
              <a:t> 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Perpetua"/>
              </a:rPr>
              <a:t>t- </a:t>
            </a:r>
            <a:r>
              <a:rPr b="0" lang="bg-BG" sz="1800" spc="-1" strike="noStrike">
                <a:solidFill>
                  <a:srgbClr val="008080"/>
                </a:solidFill>
                <a:latin typeface="Cambria"/>
              </a:rPr>
              <a:t>година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80"/>
                </a:solidFill>
                <a:latin typeface="Perpetua"/>
              </a:rPr>
              <a:t>i – </a:t>
            </a:r>
            <a:r>
              <a:rPr b="0" lang="bg-BG" sz="1800" spc="-1" strike="noStrike">
                <a:solidFill>
                  <a:srgbClr val="008080"/>
                </a:solidFill>
                <a:latin typeface="Cambria"/>
              </a:rPr>
              <a:t>дисконтов процент</a:t>
            </a:r>
            <a:r>
              <a:rPr b="0" lang="en-GB" sz="1800" spc="-1" strike="noStrike">
                <a:solidFill>
                  <a:srgbClr val="00808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417E9-3B3D-4A5A-BF29-E934674727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49644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а възвращаемост на инвестици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0920" y="1774800"/>
            <a:ext cx="78073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Финансова вътрешна норма на възвращаемост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е тази норма, която е равна на дисконтов процент, водещ до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FNPV</a:t>
            </a: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 равна на нул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1" name="Picture 6" descr=""/>
          <p:cNvPicPr/>
          <p:nvPr/>
        </p:nvPicPr>
        <p:blipFill>
          <a:blip r:embed="rId1"/>
          <a:stretch/>
        </p:blipFill>
        <p:spPr>
          <a:xfrm>
            <a:off x="1908000" y="3214800"/>
            <a:ext cx="5145120" cy="71892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5181-3E24-4BA7-AFA5-8A85D7A28E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501120"/>
            <a:ext cx="8207280" cy="800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пределяне на безвъзмездната помощ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Content Placeholder 2"/>
          <p:cNvSpPr/>
          <p:nvPr/>
        </p:nvSpPr>
        <p:spPr>
          <a:xfrm>
            <a:off x="468360" y="1638360"/>
            <a:ext cx="676764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Стъпка 1</a:t>
            </a:r>
            <a:r>
              <a:rPr b="1" lang="en-GB" sz="22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Процент на финансов дефицит</a:t>
            </a:r>
            <a:r>
              <a:rPr b="1" lang="en-GB" sz="2200" spc="-1" strike="noStrike">
                <a:solidFill>
                  <a:srgbClr val="006666"/>
                </a:solidFill>
                <a:latin typeface="Arial"/>
                <a:ea typeface="Arial"/>
              </a:rPr>
              <a:t> (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R = Max EE/D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Max EE = DIC-DNR –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максимални допустими разх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DIC –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дисконтирани инвестиционни разхо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DNR –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дисконтирани приходи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дисконтирани оперативни разходи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 +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дисконтирана остатъчна стой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Стъпка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  <a:ea typeface="Arial"/>
              </a:rPr>
              <a:t> 2 “</a:t>
            </a: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Сума по решението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  <a:ea typeface="Arial"/>
              </a:rPr>
              <a:t>” (D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DA = EC*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EC –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допустими разходи по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Стъпка </a:t>
            </a:r>
            <a:r>
              <a:rPr b="1" lang="en-US" sz="2200" spc="-1" strike="noStrike">
                <a:solidFill>
                  <a:srgbClr val="006666"/>
                </a:solidFill>
                <a:latin typeface="Arial"/>
                <a:ea typeface="Arial"/>
              </a:rPr>
              <a:t>3 </a:t>
            </a: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Грант от Е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EU Grant = DA*MaxCRpa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6666"/>
                </a:solidFill>
                <a:latin typeface="Arial"/>
                <a:ea typeface="Arial"/>
              </a:rPr>
              <a:t>Max CRPa – </a:t>
            </a:r>
            <a:r>
              <a:rPr b="1" lang="bg-BG" sz="1600" spc="-1" strike="noStrike">
                <a:solidFill>
                  <a:srgbClr val="006666"/>
                </a:solidFill>
                <a:latin typeface="Arial"/>
                <a:ea typeface="Arial"/>
              </a:rPr>
              <a:t>максимален процент на съфинансиране за приоритетната 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E2B1-F6D0-4DEF-84AF-1E079A9675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560" y="395280"/>
            <a:ext cx="8713800" cy="380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23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2300" spc="-1" strike="noStrike">
                <a:solidFill>
                  <a:srgbClr val="696464"/>
                </a:solidFill>
                <a:latin typeface="Calibri"/>
              </a:rPr>
              <a:t>Източници на финансиране</a:t>
            </a:r>
            <a:endParaRPr b="0" lang="en-US" sz="2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95280" y="1197000"/>
            <a:ext cx="85694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Основни източници на финансиране</a:t>
            </a:r>
            <a:r>
              <a:rPr b="1" lang="en-US" sz="2400" spc="-1" strike="noStrike">
                <a:solidFill>
                  <a:srgbClr val="696464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Помощ от Общността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Грант от 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Национален обществен прин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Държавен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Общински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Частен капи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Други източници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заеми от МФ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CD0B-FED3-487C-B4B0-17A9C17C568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17320" y="189000"/>
            <a:ext cx="8375400" cy="5032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а устойчивост на проект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468360" y="692280"/>
            <a:ext cx="8569440" cy="54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Финансово устойчив </a:t>
            </a:r>
            <a:r>
              <a:rPr b="1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е проект, когато </a:t>
            </a:r>
            <a:r>
              <a:rPr b="1" lang="bg-BG" sz="18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акумулираните нетни парични потоци от него са положителни през всяка година от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  <a:ea typeface="Arial"/>
              </a:rPr>
              <a:t>A vague statement that the Member State will cover any cash needs of the project over its life in some way is not a promising approach to planning the financial sustainability of the project. In cases where project revenues need to be complemented by public funds during project operations to ensure long-term financial sustainability, these appropriations should be established by specific laws, other budgetary provisions, institutional agreements or contracts.</a:t>
            </a:r>
            <a:r>
              <a:rPr b="1" lang="bg-BG" sz="20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696464"/>
                </a:solidFill>
                <a:latin typeface="Arial"/>
                <a:ea typeface="Arial"/>
              </a:rPr>
              <a:t>Важно</a:t>
            </a:r>
            <a:r>
              <a:rPr b="1" lang="en-US" sz="20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Изчисленията са </a:t>
            </a:r>
            <a:r>
              <a:rPr b="0" lang="bg-BG" sz="18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за</a:t>
            </a:r>
            <a:r>
              <a:rPr b="0" lang="en-GB" sz="18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 </a:t>
            </a:r>
            <a:r>
              <a:rPr b="0" lang="bg-BG" sz="18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Сценария “С проект”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;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не се прилага инкременталният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Всички входящи и изходящи парични потоци трябва да се вземат предвид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заеми и тяхното обслужване, национално и местно финансиране, субсидии, данъц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Остатъчната стойност не трябва да се взима под внимание, освен ако активът не се ликвид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EE48-6139-4AD2-8609-A99F73777A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4120" y="374760"/>
            <a:ext cx="8375760" cy="39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Съдържани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61680" y="1300320"/>
            <a:ext cx="78073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Насоки за изготвяне на АРП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Основни принципи на АРП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Финансов анализ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Икономически анализ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Анализ на чувствителността и риска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Определяне на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гранта (безвъзмездната помощ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0000"/>
                </a:solidFill>
                <a:latin typeface="Cambria"/>
              </a:rPr>
              <a:t>Специфични въпрос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CB43-D146-4A15-B7B7-9C6AB36A1B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221760"/>
            <a:ext cx="8375760" cy="762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5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25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2500" spc="-1" strike="noStrike">
                <a:solidFill>
                  <a:srgbClr val="696464"/>
                </a:solidFill>
                <a:latin typeface="Calibri"/>
              </a:rPr>
              <a:t>Финансова възвращаемост на капитала</a:t>
            </a:r>
            <a:endParaRPr b="0" lang="en-US" sz="25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3" name="Content Placeholder 2"/>
          <p:cNvSpPr/>
          <p:nvPr/>
        </p:nvSpPr>
        <p:spPr>
          <a:xfrm>
            <a:off x="539640" y="1052640"/>
            <a:ext cx="7807320" cy="43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Финансова възвращаемост на капитала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Оценка на ефективността на проекта от гледна точка на националния капитал 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–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вместо инвестициите, като изходящи парични потоци, се взимат предвид финансовите източници, без гранта на 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Показатели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Нетна настояща стойност на капитала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– FNPV/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Финансова норма на възвращаемост на капитала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– FRR/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Важно</a:t>
            </a: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FNPV/K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се увеличава и може да стане положите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Често срещани грешки</a:t>
            </a: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9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Не се прилага инкременталният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073D-5737-4A37-B11E-F9998A56D8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704880" y="3636720"/>
            <a:ext cx="7773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Perpetu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667800" y="2576160"/>
            <a:ext cx="7805880" cy="522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Икономически анализ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FD18-5A73-431B-90A9-AE8565A2E5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Content Placeholder 2"/>
          <p:cNvSpPr/>
          <p:nvPr/>
        </p:nvSpPr>
        <p:spPr>
          <a:xfrm>
            <a:off x="539640" y="1197000"/>
            <a:ext cx="78073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Превръщане на финансовите в икономически ц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Монетаризация на извънпазарните влияния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външни разходи и пол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Икономическа възвращаемост на инвестициите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: ENV, ERR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и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отношение П/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09F0-2116-49A0-A60A-17E3D95A3F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46332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Превръщане на финансовите в икономически цен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2" name="Content Placeholder 2"/>
          <p:cNvSpPr/>
          <p:nvPr/>
        </p:nvSpPr>
        <p:spPr>
          <a:xfrm>
            <a:off x="539640" y="1487520"/>
            <a:ext cx="78073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9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 u="sng">
                <a:solidFill>
                  <a:srgbClr val="008080"/>
                </a:solidFill>
                <a:uFillTx/>
                <a:latin typeface="Arial"/>
                <a:ea typeface="Arial"/>
              </a:rPr>
              <a:t>Изваждане на всички фискални парични преводи</a:t>
            </a: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 от паричния поток на проекта</a:t>
            </a:r>
            <a:r>
              <a:rPr b="1" lang="en-US" sz="22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от инвестиционните, оперативни разходи и приходите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Често срещани гре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Липсват конверсионни фактори (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Прилагат се 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CF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само към инвестиционните разхо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90000"/>
              </a:lnSpc>
              <a:spcBef>
                <a:spcPts val="119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Грешно изчисление на някои 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C8D9-1E02-41E6-9F05-A942CDF734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17320" y="410760"/>
            <a:ext cx="837540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Превръщане на финансовите в икономически цен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5" name="Content Placeholder 2"/>
          <p:cNvSpPr/>
          <p:nvPr/>
        </p:nvSpPr>
        <p:spPr>
          <a:xfrm>
            <a:off x="662040" y="1297080"/>
            <a:ext cx="78073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Нетъргувани стоки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категория стоки, доставени от местния пазар, като вътрешен транспорт, електричество, вода и др. 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SCC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се изчислява въз основа на разликата между международните и вътрешни цени в резултат на търговските бариери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Неквалифициран труд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категория разходи, представляващи разходите за труд, които са в излишъ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01EA-B0B1-41C1-9B34-97D5766D26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531720"/>
            <a:ext cx="8375760" cy="1190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Монетаризация на извънпазарните влияния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външни разходи и полз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8" name="Content Placeholder 2"/>
          <p:cNvSpPr/>
          <p:nvPr/>
        </p:nvSpPr>
        <p:spPr>
          <a:xfrm>
            <a:off x="539640" y="1738440"/>
            <a:ext cx="842508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Спестено време за пътуване</a:t>
            </a:r>
            <a:r>
              <a:rPr b="1" lang="en-US" sz="22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(основната външна полза при транспортните проекти) - разлика в стойността на времето </a:t>
            </a:r>
            <a:r>
              <a:rPr b="1" lang="en-US" sz="2200" spc="-1" strike="noStrike">
                <a:solidFill>
                  <a:srgbClr val="008080"/>
                </a:solidFill>
                <a:latin typeface="Arial"/>
                <a:ea typeface="Arial"/>
              </a:rPr>
              <a:t>(VOT) </a:t>
            </a: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между сценария “с проект” и сценария “без проект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Въз основа на данните от проучванията на трафика и моделирането</a:t>
            </a:r>
            <a:r>
              <a:rPr b="1" lang="en-US" sz="2200" spc="-1" strike="noStrike">
                <a:solidFill>
                  <a:srgbClr val="00808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Време за пътуване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което е функция на разстоянието и скорос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Категория на пътуванията</a:t>
            </a:r>
            <a:r>
              <a:rPr b="0" lang="en-GB" sz="18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  <a:ea typeface="Arial"/>
              </a:rPr>
              <a:t>– </a:t>
            </a:r>
            <a:r>
              <a:rPr b="0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за градския обществен транспорт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0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ежедневните пътувания до/от работа и други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0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неслужеб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Процент на заетост</a:t>
            </a:r>
            <a:r>
              <a:rPr b="0" lang="en-GB" sz="18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по категория превозни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Единична стойност на врем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	</a:t>
            </a: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Национално проучване за цената на времето, публикувано на </a:t>
            </a:r>
            <a:r>
              <a:rPr b="1" lang="en-US" sz="2200" spc="-1" strike="noStrike">
                <a:solidFill>
                  <a:srgbClr val="008080"/>
                </a:solidFill>
                <a:latin typeface="Arial"/>
                <a:ea typeface="Arial"/>
              </a:rPr>
              <a:t>bgregio.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0205-D7BD-427C-8D6A-64487C96CE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375760" cy="1190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Монетаризация на извънпазарните влияния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външни разходи и полз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Content Placeholder 2"/>
          <p:cNvSpPr/>
          <p:nvPr/>
        </p:nvSpPr>
        <p:spPr>
          <a:xfrm>
            <a:off x="539640" y="1619280"/>
            <a:ext cx="842508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Намаляване на произшествията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 -  </a:t>
            </a:r>
            <a:r>
              <a:rPr b="1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разликата в стойността на произшествията (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VOA</a:t>
            </a:r>
            <a:r>
              <a:rPr b="1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)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между сценария “с проект” и сценария “без проек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8080"/>
                </a:solidFill>
                <a:latin typeface="Arial"/>
                <a:ea typeface="Arial"/>
              </a:rPr>
              <a:t>Въз основа на данните от проучванията на трафика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,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пътна полиция и транспортните опер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Процент на злополуките по категории превозни средства</a:t>
            </a:r>
            <a:r>
              <a:rPr b="0" lang="en-GB" sz="20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– 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съотношение между броя злополуки и общия брой пътувания по категории превозни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Единична стойност на произшеств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135E-8F62-43B5-B9B8-BD4130705E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375760" cy="1190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Монетаризация на извънпазарните влияния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външни разходи и полз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Content Placeholder 2"/>
          <p:cNvSpPr/>
          <p:nvPr/>
        </p:nvSpPr>
        <p:spPr>
          <a:xfrm>
            <a:off x="539640" y="1827360"/>
            <a:ext cx="842508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Промени в замърсяването на въздуха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 –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разликата в стойността на емисиите между сценария “с проект” и сценария “без проек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Еми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Парникови газ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Вредни за човешкия организъм газове (прахови частици, серен диоксид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Въз основа на данните от проучванията на т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Изчисляване на броя превозни средства и разстоян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06666"/>
                </a:solidFill>
                <a:uFillTx/>
                <a:latin typeface="Arial"/>
                <a:ea typeface="Arial"/>
              </a:rPr>
              <a:t>Единична стойност на емис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6565-065A-44BE-A074-D270C33A1D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792000"/>
            <a:ext cx="8375760" cy="1190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Монетаризация на извънпазарните влияния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външни разходи и полз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7" name="Content Placeholder 2"/>
          <p:cNvSpPr/>
          <p:nvPr/>
        </p:nvSpPr>
        <p:spPr>
          <a:xfrm>
            <a:off x="539640" y="2292480"/>
            <a:ext cx="8425080" cy="27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Важно</a:t>
            </a:r>
            <a:r>
              <a:rPr b="1" lang="en-US" sz="24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Препоръчаните стойности трябва да бъдат коригирани по време на периода на оценяване в съответствие с еластичността на нарастване на БВП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/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глава от населението от 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0.7 (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т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.e.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като се използва 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  <a:ea typeface="Arial"/>
              </a:rPr>
              <a:t>70%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от процента на нарастване на БВП/гл. от на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2B31-C14E-489F-B134-51A6BD8A77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57276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и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кономическа възвращаемост на инвестициит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0" name="Content Placeholder 2"/>
          <p:cNvSpPr/>
          <p:nvPr/>
        </p:nvSpPr>
        <p:spPr>
          <a:xfrm>
            <a:off x="468360" y="1711440"/>
            <a:ext cx="84247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Икономическа възвращаемост на инвестици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Оценка на ефективността на проекта от гледна точка на икономиката </a:t>
            </a:r>
            <a:r>
              <a:rPr b="0" lang="bg-BG" sz="1800" spc="-1" strike="noStrike">
                <a:solidFill>
                  <a:srgbClr val="00808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основни критерии за приемане на проекта за финансиране от 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Показатели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Икономическа нетна настояща стойност 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– EN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Икономическа норма на възвращаемост на инвестициите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 – E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Препоръчаният от ЕК социален дисконтов процент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е</a:t>
            </a:r>
            <a:r>
              <a:rPr b="0" lang="en-US" sz="1800" spc="-1" strike="noStrike">
                <a:solidFill>
                  <a:srgbClr val="008080"/>
                </a:solidFill>
                <a:latin typeface="Arial"/>
                <a:ea typeface="Arial"/>
              </a:rPr>
              <a:t> 5%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в реално из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Важно</a:t>
            </a: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24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За да се иска финансиране от ЕК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8080"/>
                </a:solidFill>
                <a:latin typeface="Wingdings"/>
                <a:ea typeface="Wingdings"/>
              </a:rPr>
              <a:t>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ENPV&gt;0 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и</a:t>
            </a:r>
            <a:r>
              <a:rPr b="0" lang="en-GB" sz="1800" spc="-1" strike="noStrike">
                <a:solidFill>
                  <a:srgbClr val="008080"/>
                </a:solidFill>
                <a:latin typeface="Arial"/>
                <a:ea typeface="Arial"/>
              </a:rPr>
              <a:t> ERR&gt;</a:t>
            </a: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дисконтовия проц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8080"/>
                </a:solidFill>
                <a:latin typeface="Arial"/>
                <a:ea typeface="Arial"/>
              </a:rPr>
              <a:t>Прилага се инкременталният метод</a:t>
            </a: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6D28-848A-47DF-B578-4D956AD30F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3640" y="368280"/>
            <a:ext cx="8375400" cy="39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Насок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C23D-E6A3-4704-BD1C-6CE2E2E266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61680" y="980640"/>
            <a:ext cx="780732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mbria"/>
              </a:rPr>
              <a:t>Насоките от декември 2014 г. на ЕК за изготвяне на Анализ разходи-ползи на инвестиционни проекти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mbria"/>
              </a:rPr>
              <a:t>Делегиран регламент (ЕС) № 480/2014 на ЕК от 3 март 2014 г. -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аздел III Метод за изчисляване на дисконтираните нетни приходи от операции, които генерират нетни приходи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mbria"/>
              </a:rPr>
              <a:t>За голям проект: Регламент за изпълнение (ЕС) 2015/207 на ЕК от 20 януари 2015 г. (Приложение III)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5280" y="53784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ценка на риска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Анализ на чувствителностт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539640" y="1528920"/>
            <a:ext cx="84250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Определяне на критичните параметри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параметри на проекта, които имат най-голямо влияние върху финансовото и икономическо представяне н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Общ критерий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абсолютната вариация от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1%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за определен параметър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води до повече от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1%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вариация в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FNPV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или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ENPV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н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Ва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Определяне на важните за проекта параметри като инвестиционни разходи, цена на билетите, разходи за ЕиП, 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VOT, VOA</a:t>
            </a:r>
            <a:r>
              <a:rPr b="1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 и др</a:t>
            </a:r>
            <a:r>
              <a:rPr b="1" lang="en-GB" sz="2400" spc="-1" strike="noStrike">
                <a:solidFill>
                  <a:srgbClr val="00808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5CBE-E833-4D7C-9421-D759653E6A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ценка на риска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Анализ на риск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468360" y="981000"/>
            <a:ext cx="8424720" cy="57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Качествен анализ на риска (матрица на ри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Вероятностно разпределение на всеки критичен параметър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–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от външни източници и по експертни оценки 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–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обхват от </a:t>
            </a:r>
            <a:r>
              <a:rPr b="1" lang="en-GB" sz="2400" spc="-1" strike="noStrike">
                <a:solidFill>
                  <a:srgbClr val="006666"/>
                </a:solidFill>
                <a:latin typeface="Symbol"/>
                <a:ea typeface="Symbol"/>
              </a:rPr>
              <a:t>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проценти от стойността на параметъра към базовия случ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Анализ на риска</a:t>
            </a:r>
            <a:r>
              <a:rPr b="1" lang="en-GB" sz="2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Анализ на сценариите – оптимистичен, основен и песимисти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Метод Монте Карло</a:t>
            </a:r>
            <a:r>
              <a:rPr b="0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 – 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методът се състои от неколкократно случайно определяне на стойности за критичните променливи, в рамките на съответните определени интервали, и изчисляване на показателите за ефективност на проекта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– 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финансова и икономическа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 NPV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Повтаряйки тази процедура за достатъчно голям брой извадки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, 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може да се получи предварително сближаване на изчисленията като вероятностно разпределение на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  <a:ea typeface="Arial"/>
              </a:rPr>
              <a:t>NP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8F58-FFE2-4C6F-96F3-88C0C45601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ценка на риска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Анализ на риск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9" name="Content Placeholder 2"/>
          <p:cNvSpPr/>
          <p:nvPr/>
        </p:nvSpPr>
        <p:spPr>
          <a:xfrm>
            <a:off x="539640" y="1197000"/>
            <a:ext cx="842508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6666"/>
                </a:solidFill>
                <a:latin typeface="Arial"/>
                <a:ea typeface="Arial"/>
              </a:rPr>
              <a:t>Изчисляване на очакваните стойности н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Очаквана </a:t>
            </a:r>
            <a:r>
              <a:rPr b="0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FNPV </a:t>
            </a:r>
            <a:r>
              <a:rPr b="0" lang="bg-BG" sz="2000" spc="-1" strike="noStrike">
                <a:solidFill>
                  <a:srgbClr val="006666"/>
                </a:solidFill>
                <a:latin typeface="Arial"/>
                <a:ea typeface="Arial"/>
              </a:rPr>
              <a:t>и</a:t>
            </a:r>
            <a:r>
              <a:rPr b="0" lang="en-GB" sz="2000" spc="-1" strike="noStrike">
                <a:solidFill>
                  <a:srgbClr val="006666"/>
                </a:solidFill>
                <a:latin typeface="Arial"/>
                <a:ea typeface="Arial"/>
              </a:rPr>
              <a:t> ENP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E (NPV) = </a:t>
            </a:r>
            <a:r>
              <a:rPr b="0" i="1" lang="el-GR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Σ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P</a:t>
            </a:r>
            <a:r>
              <a:rPr b="0" i="1" lang="en-US" sz="2000" spc="-1" strike="noStrike" baseline="-25000">
                <a:solidFill>
                  <a:srgbClr val="006666"/>
                </a:solidFill>
                <a:latin typeface="Times New Roman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x NPV</a:t>
            </a:r>
            <a:r>
              <a:rPr b="0" i="1" lang="en-US" sz="2000" spc="-1" strike="noStrike" baseline="-25000">
                <a:solidFill>
                  <a:srgbClr val="006666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E(NPV) – </a:t>
            </a: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очаквана нетна настояща стой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P</a:t>
            </a:r>
            <a:r>
              <a:rPr b="0" i="1" lang="en-US" sz="2000" spc="-1" strike="noStrike" baseline="-25000">
                <a:solidFill>
                  <a:srgbClr val="006666"/>
                </a:solidFill>
                <a:latin typeface="Times New Roman"/>
                <a:ea typeface="Arial"/>
              </a:rPr>
              <a:t>i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 </a:t>
            </a: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	</a:t>
            </a: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- процент на вероятност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NPV</a:t>
            </a:r>
            <a:r>
              <a:rPr b="0" i="1" lang="en-US" sz="2000" spc="-1" strike="noStrike" baseline="-25000">
                <a:solidFill>
                  <a:srgbClr val="006666"/>
                </a:solidFill>
                <a:latin typeface="Times New Roman"/>
                <a:ea typeface="Arial"/>
              </a:rPr>
              <a:t>i</a:t>
            </a: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	</a:t>
            </a:r>
            <a:r>
              <a:rPr b="0" i="1" lang="bg-BG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- нетна настояща стойност във вероятност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  <a:ea typeface="Arial"/>
              </a:rPr>
              <a:t>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1880">
              <a:lnSpc>
                <a:spcPct val="100000"/>
              </a:lnSpc>
              <a:spcBef>
                <a:spcPts val="249"/>
              </a:spcBef>
              <a:buClr>
                <a:srgbClr val="ff9900"/>
              </a:buClr>
              <a:buSzPct val="8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E488-F1D9-4F9B-BD02-1023663B35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6560" y="47592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Специфични въпроси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тсъствие на свръх компенсиран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2" name="Content Placeholder 2"/>
          <p:cNvSpPr/>
          <p:nvPr/>
        </p:nvSpPr>
        <p:spPr>
          <a:xfrm>
            <a:off x="611280" y="1467000"/>
            <a:ext cx="8424720" cy="50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Чл.</a:t>
            </a:r>
            <a:r>
              <a:rPr b="1" lang="en-GB" sz="2200" spc="-1" strike="noStrike">
                <a:solidFill>
                  <a:srgbClr val="006666"/>
                </a:solidFill>
                <a:latin typeface="Arial"/>
                <a:ea typeface="Arial"/>
              </a:rPr>
              <a:t> 6 </a:t>
            </a: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от Регламента на ЕК</a:t>
            </a:r>
            <a:r>
              <a:rPr b="1" lang="en-GB" sz="2200" spc="-1" strike="noStrike">
                <a:solidFill>
                  <a:srgbClr val="006666"/>
                </a:solidFill>
                <a:latin typeface="Arial"/>
                <a:ea typeface="Arial"/>
              </a:rPr>
              <a:t> 1370/2007 </a:t>
            </a: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за услугите в железопътния и пътния обществен пътнически транспорт</a:t>
            </a:r>
            <a:r>
              <a:rPr b="1" lang="en-GB" sz="22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37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6666"/>
                </a:solidFill>
                <a:latin typeface="Arial"/>
                <a:ea typeface="Arial"/>
              </a:rPr>
              <a:t>Финансовият анализ трябва да включва финансови прогнози за дейността на всеки транспортен оператор, който получава субсидии и компенсации от държавата или общин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125"/>
              </a:spcBef>
              <a:buClr>
                <a:srgbClr val="ff99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66"/>
                </a:solidFill>
                <a:latin typeface="Arial"/>
                <a:ea typeface="Arial"/>
              </a:rPr>
              <a:t>Разумната печалба по ал. 2 се определя в размер до 5 на сто от общия размер на преките и съответната част от непреките разходи за дейността по предоставяне на субсидирани пътнически превозни услуги 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  <a:ea typeface="Arial"/>
              </a:rPr>
              <a:t>(</a:t>
            </a:r>
            <a:r>
              <a:rPr b="1" lang="bg-BG" sz="1800" spc="-1" strike="noStrike">
                <a:solidFill>
                  <a:srgbClr val="006666"/>
                </a:solidFill>
                <a:latin typeface="Arial"/>
                <a:ea typeface="Arial"/>
              </a:rPr>
              <a:t>чл.55 от Наредба за условията и реда за предоставяне на средства за компенсиране на намалените приходи от прилагането на цени за обществени пътнически превози по автомобилния транспорт, предвидени в нормативните актове за определени категории пътници, за субсидиране на обществени пътнически превоз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6B89-4579-4A32-8B8F-299984C0F2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6560" y="475920"/>
            <a:ext cx="8375760" cy="793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Специфични въпроси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тсъствие на свръх компенсиране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5" name="Content Placeholder 2"/>
          <p:cNvSpPr/>
          <p:nvPr/>
        </p:nvSpPr>
        <p:spPr>
          <a:xfrm>
            <a:off x="611280" y="1467000"/>
            <a:ext cx="842472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Важно</a:t>
            </a: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Arial"/>
                <a:ea typeface="Arial"/>
              </a:rPr>
              <a:t>Да се изготви прогноза на Отчета за приходи и разходи на всеки оператор в рамките на времевия хоризонт н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696464"/>
                </a:solidFill>
                <a:latin typeface="Arial"/>
                <a:ea typeface="Arial"/>
              </a:rPr>
              <a:t>Често срещани грешки</a:t>
            </a: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96464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Трудности поради липсата на практика в този вид из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lnSpc>
                <a:spcPct val="100000"/>
              </a:lnSpc>
              <a:spcBef>
                <a:spcPts val="1250"/>
              </a:spcBef>
              <a:buClr>
                <a:srgbClr val="ff99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8080"/>
                </a:solidFill>
                <a:latin typeface="Arial"/>
                <a:ea typeface="Arial"/>
              </a:rPr>
              <a:t>Липса на финансова информация за дейността на частните опер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4D7A-FE76-49D2-A3C3-009D0D50AB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704880" y="3636720"/>
            <a:ext cx="7773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Perpetu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667800" y="2576160"/>
            <a:ext cx="7805880" cy="522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mz_oprr@mrrb.government.bg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146160" y="621180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DFDC-AE71-4E96-8E80-D0809424A5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04880" y="3636720"/>
            <a:ext cx="7773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Perpetu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667800" y="2576160"/>
            <a:ext cx="7805880" cy="522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Благодаря за вниманието!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146160" y="621180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A5E2-D6F9-4C4D-9BC3-86A9BDA7F64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4120" y="374760"/>
            <a:ext cx="8375760" cy="39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Основни принцип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CE9E-F616-4764-8C6D-FEF523052D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61680" y="1300320"/>
            <a:ext cx="780732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Основни цели на АРП</a:t>
            </a:r>
            <a:r>
              <a:rPr b="0" lang="en-GB" sz="24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Да докаже, че проектът е привлекателен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Cambria"/>
              </a:rPr>
              <a:t>от икономическа гледна точка 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Cambria"/>
              </a:rPr>
              <a:t>допринася за изпълнение целите на регионалната политика на ЕС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цел на Икономическия анализ на проекта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да покаже, че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ENPV&gt;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Да докаже, че 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 u="sng">
                <a:solidFill>
                  <a:srgbClr val="000000"/>
                </a:solidFill>
                <a:uFillTx/>
                <a:latin typeface="Cambria"/>
              </a:rPr>
              <a:t>помощта от Европейските фондове е необходима,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за да бъде проектът финансово надежден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цел на Финансовия анализ на проекта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да покаже, че </a:t>
            </a:r>
            <a:r>
              <a:rPr b="0" lang="en-US" sz="2200" spc="-1" strike="noStrike">
                <a:solidFill>
                  <a:srgbClr val="000000"/>
                </a:solidFill>
                <a:latin typeface="Perpetua"/>
              </a:rPr>
              <a:t>FNPV/</a:t>
            </a: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en-GB" sz="2200" spc="-1" strike="noStrike">
                <a:solidFill>
                  <a:srgbClr val="000000"/>
                </a:solidFill>
                <a:latin typeface="Perpetua"/>
              </a:rPr>
              <a:t>&lt;0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704880" y="3636720"/>
            <a:ext cx="7773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Perpetu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667800" y="2576160"/>
            <a:ext cx="7805880" cy="522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Финансов анализ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146160" y="6211800"/>
            <a:ext cx="46512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1DEA-2C80-49EB-A280-0A646FC02A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времеви хоризонт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61680" y="1299960"/>
            <a:ext cx="78073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Времеви хоризонт на проекта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 </a:t>
            </a:r>
            <a:r>
              <a:rPr b="0" lang="en-GB" sz="2600" spc="-1" strike="noStrike">
                <a:solidFill>
                  <a:srgbClr val="008080"/>
                </a:solidFill>
                <a:latin typeface="Wingdings"/>
                <a:ea typeface="Wingdings"/>
              </a:rPr>
              <a:t></a:t>
            </a: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 икономически полезен живот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 </a:t>
            </a: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на проекта, който обхваща неговите дългосрочни въздействия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Референтен времеви хоризонт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 </a:t>
            </a:r>
            <a:r>
              <a:rPr b="0" lang="en-GB" sz="2600" spc="-1" strike="noStrike">
                <a:solidFill>
                  <a:srgbClr val="008080"/>
                </a:solidFill>
                <a:latin typeface="Wingdings"/>
                <a:ea typeface="Wingdings"/>
              </a:rPr>
              <a:t>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 25-30 </a:t>
            </a: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годин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4C65-524E-45DE-8674-536AA371D5F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5280" y="474840"/>
            <a:ext cx="8375760" cy="793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 метод “с нарастваща стойност” </a:t>
            </a: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(Incremental method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61680" y="1299960"/>
            <a:ext cx="7807320" cy="38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Инкрементален метод</a:t>
            </a:r>
            <a:r>
              <a:rPr b="0" lang="en-GB" sz="2600" spc="-1" strike="noStrike">
                <a:solidFill>
                  <a:srgbClr val="008080"/>
                </a:solidFill>
                <a:latin typeface="Perpetua"/>
              </a:rPr>
              <a:t> – </a:t>
            </a:r>
            <a:r>
              <a:rPr b="0" lang="bg-BG" sz="2600" spc="-1" strike="noStrike">
                <a:solidFill>
                  <a:srgbClr val="008080"/>
                </a:solidFill>
                <a:latin typeface="Cambria"/>
              </a:rPr>
              <a:t>проектът е оценен на база разликата между сценария “с проект” и сценария “без проект”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696464"/>
                </a:solidFill>
                <a:latin typeface="Cambria"/>
              </a:rPr>
              <a:t>Често срещани грешки</a:t>
            </a:r>
            <a:r>
              <a:rPr b="0" lang="en-GB" sz="2600" spc="-1" strike="noStrike">
                <a:solidFill>
                  <a:srgbClr val="696464"/>
                </a:solidFill>
                <a:latin typeface="Perpetua"/>
              </a:rPr>
              <a:t> </a:t>
            </a:r>
            <a:r>
              <a:rPr b="0" lang="bg-BG" sz="2600" spc="-1" strike="noStrike">
                <a:solidFill>
                  <a:srgbClr val="696464"/>
                </a:solidFill>
                <a:latin typeface="Cambria"/>
              </a:rPr>
              <a:t>и трудност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Инкременталният метод не се прилаг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10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Трудности при определянето на обхвата на сценария “без проект”  </a:t>
            </a:r>
            <a:r>
              <a:rPr b="0" lang="en-GB" sz="2400" spc="-1" strike="noStrike">
                <a:solidFill>
                  <a:srgbClr val="008080"/>
                </a:solidFill>
                <a:latin typeface="Perpetua"/>
              </a:rPr>
              <a:t>(</a:t>
            </a:r>
            <a:r>
              <a:rPr b="0" lang="bg-BG" sz="2400" spc="-1" strike="noStrike">
                <a:solidFill>
                  <a:srgbClr val="008080"/>
                </a:solidFill>
                <a:latin typeface="Cambria"/>
              </a:rPr>
              <a:t>сценарий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“Business as usual” </a:t>
            </a: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или сценар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“Do-nothing”</a:t>
            </a: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8247-BFEA-4680-A666-863ACA6F1E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375760" cy="39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нвестиционни разход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61680" y="1299960"/>
            <a:ext cx="780732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Инвестиционни разход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Първоначални инвестиции през първите години на проект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Инвестиционни разходи за нерутинна/тежка поддръжка в рамките на годините за експлоатация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Cambria"/>
              </a:rPr>
              <a:t>Остатъчна стойност на инвестициите -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зчисляване на нетната настояща стойност на паричните потоци в оставащите години от жизнения цикъл на операцият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7E82-BDBC-4FF4-B8E2-6DB8904BF4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75760" cy="3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Финансов анализ</a:t>
            </a:r>
            <a:r>
              <a:rPr b="0" lang="en-GB" sz="3600" spc="-1" strike="noStrike">
                <a:solidFill>
                  <a:srgbClr val="696464"/>
                </a:solidFill>
                <a:latin typeface="Franklin Gothic Book"/>
              </a:rPr>
              <a:t> – </a:t>
            </a:r>
            <a:r>
              <a:rPr b="0" lang="bg-BG" sz="3600" spc="-1" strike="noStrike">
                <a:solidFill>
                  <a:srgbClr val="696464"/>
                </a:solidFill>
                <a:latin typeface="Calibri"/>
              </a:rPr>
              <a:t>Инвестиционни разходи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61680" y="1402920"/>
            <a:ext cx="780732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Cambria"/>
              </a:rPr>
              <a:t>Първоначални инвестици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696464"/>
                </a:solidFill>
                <a:latin typeface="Cambria"/>
              </a:rPr>
              <a:t>Важно</a:t>
            </a:r>
            <a:r>
              <a:rPr b="0" lang="en-GB" sz="24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Добра обосновка на инвестиционна стойност на проекта 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–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базирана на резултатите от подобни търгове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;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КСС и др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696464"/>
                </a:solidFill>
                <a:latin typeface="Cambria"/>
              </a:rPr>
              <a:t>Често срещани грешки</a:t>
            </a:r>
            <a:r>
              <a:rPr b="0" lang="en-GB" sz="2400" spc="-1" strike="noStrike">
                <a:solidFill>
                  <a:srgbClr val="696464"/>
                </a:solidFill>
                <a:latin typeface="Perpet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Пропускане на някои проектни разходи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 –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проекти, направени преди години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;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разходи за управление на проекта,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недопустими разходи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Допустим и недопустим ДДС</a:t>
            </a:r>
            <a:r>
              <a:rPr b="0" lang="en-GB" sz="2200" spc="-1" strike="noStrike">
                <a:solidFill>
                  <a:srgbClr val="008080"/>
                </a:solidFill>
                <a:latin typeface="Perpetua"/>
              </a:rPr>
              <a:t> – </a:t>
            </a:r>
            <a:r>
              <a:rPr b="0" lang="bg-BG" sz="2200" spc="-1" strike="noStrike">
                <a:solidFill>
                  <a:srgbClr val="008080"/>
                </a:solidFill>
                <a:latin typeface="Cambria"/>
              </a:rPr>
              <a:t>статут на бенефициента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146160" y="6210360"/>
            <a:ext cx="538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ACC7-436F-49B1-A598-A715CAF194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6:11:21Z</dcterms:created>
  <dc:creator>verity morton</dc:creator>
  <dc:description/>
  <dc:language>en-US</dc:language>
  <cp:lastModifiedBy>Bilyana Yachkova</cp:lastModifiedBy>
  <dcterms:modified xsi:type="dcterms:W3CDTF">2016-06-24T13:28:38Z</dcterms:modified>
  <cp:revision>300</cp:revision>
  <dc:subject/>
  <dc:title>Burgas Integrated Urban Transport Study Development</dc:title>
</cp:coreProperties>
</file>