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AF6E-75BF-48F4-8477-103202D8BF0E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AF98-B41A-4EB7-B782-D76CEEEFA34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77D2-DEE7-4384-969F-80BEB5BB1D2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C4A-2644-4651-8896-644699DA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23B-A764-42B8-8A44-1FF56533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95E-AC35-4545-919D-65D571EE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FDC-FCE9-4BBB-BF71-35748AC1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86B0-B9EE-44DC-BC88-95F8D749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FC5C-E243-4348-893D-1B197857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BF88-454F-460A-9918-83318740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CF75-B771-4816-A10F-97B7F1BE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1660-D4CF-4473-8116-5F46B8B2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E785-9CC9-40DA-905D-85BEDD4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6A38-5DFB-469A-9268-D618AE39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251-9F5F-49FC-A988-4D0906B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3E90-F3BA-4041-B88E-C3232D8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6A7-C3D4-49D0-B124-151DFB2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8382-CB81-4743-84FF-A262CAB5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94C-04DA-4F6F-BB34-98C6323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B1F4-66CB-4EA5-B090-790DFBDF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433A-FED2-463E-8DA7-E023C4F2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956D1-CEAD-4C08-B567-C83BDC7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4A9A-34DC-42EA-87E7-E65C5EC2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3036-9FA3-4E50-A1D2-A93C6F7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9A54-A101-48D4-AEA5-1151032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B4F-25A9-493E-A35D-1467F24D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1FA3-CC2D-4DF5-ACC7-6D7FFF37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2FFC-6C31-4CCF-99D5-C251A3B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8F51-F987-4A0A-8353-E9674C4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1C3F-3A6D-43EB-B396-E21A5A8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6019-2F11-4706-B241-15951DF3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A153-4257-463B-BEB8-51D90D0D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E012-241D-4550-AB2D-910BEBBD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EE2-79D5-4012-B5B6-41FC7812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7D6-7723-4BA2-991C-9405251D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4E3-7780-4B8C-9FDE-1B2B87D7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82F-A09D-4FB9-A0C1-0F4D476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AB6-AA17-497C-AF5E-E026FEA2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DE3-AC23-4DAA-AEF4-3FA05D7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ED1D-FB89-4AD5-8F36-1E03442313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DAD7-B716-41E4-A261-E08D6DAAEE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8DC-66E3-478D-814D-6FC74336B2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851280" y="24300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7370640" y="255600"/>
            <a:ext cx="148752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-36360" y="3645000"/>
            <a:ext cx="612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Преглед на напредъка, актуално състояние и изисквания при кандидатстване по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процедура BG16RFOP001-2.001 „</a:t>
            </a: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Енергийна ефективност в периферните райони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79280" y="6021360"/>
            <a:ext cx="676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Информационна среща по процедура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 BG161RFOP001-2.001 12.04.2016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г., гр.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0"/>
          <p:cNvSpPr/>
          <p:nvPr/>
        </p:nvSpPr>
        <p:spPr>
          <a:xfrm>
            <a:off x="331920" y="1989000"/>
            <a:ext cx="851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c1c1c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Sylfaen"/>
              </a:rPr>
              <a:t>ГЛАВНА ДИРЕКЦИЯ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инансиране на дейностите чрез БФП или собствен при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-12600" y="1303200"/>
            <a:ext cx="907236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ички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дължителни енергоспестяващи мерк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писани в обследването за ЕЕ,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оито водят до най-малко клас на енергопотребление „С“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– чрез БФП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ички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ейности по конструктивно възстановяване/усилван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предписани като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дължителни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техническото обследване на сградат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– чрез БФП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рките за подобряване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остъпа за лица с увреждан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 сградит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– чрез БФП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МР, които обхващат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ремонт/реконструкция на различни части на сградата (покрив, стени, стълбищни клетки и площадки, коридори, асансьори и др.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могат да бъдат финансирани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чрез БФП само ак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предложените мерки по проекта по ОПРР 2014-2020 сградата постигн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й-малко клас на енергопотребление „С“ и повече от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60% енергийни спестявани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 липса на 60% енергийни спестявания - </a:t>
            </a:r>
            <a:r>
              <a:rPr b="1" lang="bg-BG" sz="1700" spc="-1" strike="noStrike" u="sng">
                <a:solidFill>
                  <a:srgbClr val="000000"/>
                </a:solidFill>
                <a:uFillTx/>
                <a:latin typeface="Arial"/>
              </a:rPr>
              <a:t>задължителните мерки от техническото обследване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, които не са пряко свързани с изпълнението на мерките за ЕЕ или с конструктивното възстановяване/усилван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чрез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собствен принос на кандидата (недопустими разходи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Aft>
                <a:spcPts val="60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60" y="4797360"/>
            <a:ext cx="558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, свързани с достъпна архитектурна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0" y="1557360"/>
            <a:ext cx="88930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45396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ейностите за осигуряване на достъпна среда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а задължите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45396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сград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с съществуващ асансьо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допустими СМ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които обхващат ремонт и реконструкция на различни части на сградата (покрив, стени, стълбищни клетки и площадки, коридори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сансьор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др.), </a:t>
            </a:r>
            <a:r>
              <a:rPr b="1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само ако</a:t>
            </a:r>
            <a:r>
              <a:rPr b="0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 предложените мерки по проекта по ОПРР 2014-2020 сградата постигне най-малко клас на енергопотребление „С“ и </a:t>
            </a:r>
            <a:r>
              <a:rPr b="1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повече от 60% енергийни спестя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45396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на сграда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без асансьо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нефициентът следва да предвиди дейности з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одобряване на достъпа само до входа на сграда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връзка с изискването за подобряване на достъпа на хора с увреждания до сградите. В тази връзка изграждането на нов асансьор в сградите е недопусти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публични сград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0" y="1413000"/>
            <a:ext cx="907272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74"/>
              </a:spcBef>
              <a:buClr>
                <a:srgbClr val="0000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Допустими са общински публични сгради на културната, социалната и образователната инфраструктур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 u="sng">
                <a:solidFill>
                  <a:srgbClr val="000000"/>
                </a:solidFill>
                <a:uFillTx/>
                <a:latin typeface="Arial"/>
              </a:rPr>
              <a:t>Социалн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социални услуги съгласно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социалното подпомагане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 Правилника за прилагането му.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Не са допустими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за финансиране сгради на социални институции за деца и възрастни хор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в противоречие с националната политика за деинституционализация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на този вид услуги (т.е. специализирани институции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н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училища, детски градини и детски ясли,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както и останалите институции в системата на предучилищното и училищното образование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съгласно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народната просвета/Закона за предучилищното и училищното образование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центрове за подкрепа за личностно развитие и специализирани обслужващи зв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 u="sng">
                <a:solidFill>
                  <a:srgbClr val="000000"/>
                </a:solidFill>
                <a:uFillTx/>
                <a:latin typeface="Arial"/>
              </a:rPr>
              <a:t>Културн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обекти, регистрирани съгласно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културното наследство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(регионални музеи, финансирани от общината или общински музеи), културни организации или културни институти по смисъла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закрила и развитие на културат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ли читалища по смисъла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народните читалищ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74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Не са допустими обекти на здравната инфраструктура, пенсионерски клубове, домове за стари хора и д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9360" y="5192640"/>
            <a:ext cx="558720" cy="793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http://const.solinepro.ru/pushkinsky/upload/images/27f58e58238a3a7d2c2bb854baadb2b2.jpg"/>
          <p:cNvPicPr/>
          <p:nvPr/>
        </p:nvPicPr>
        <p:blipFill>
          <a:blip r:embed="rId6"/>
          <a:stretch/>
        </p:blipFill>
        <p:spPr>
          <a:xfrm>
            <a:off x="0" y="2276640"/>
            <a:ext cx="558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публични сград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79280" y="1413000"/>
            <a:ext cx="87854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проекти трябва да включват изпълнение на енергоспестяващи мерки в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целите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В случай на собственост в сградата, различна от тази на бенефициента/ партньора, бенефициентът следва да поем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ангажимент за внедряване на мерки за енергийна ефективност на цялата сград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частта от сградата – частна собственост или собственост на друга публична организация ил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лзвана за цели извън общинска образователна, социална и култур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ледва да се финансира със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редства извън БФП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10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ходите за внедряване на мерки за ЕЕ, свързани с помещенията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ито не се използват от съответната институция или не са собственост на бенефициента/партньора или се отдават под наем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обствен принос (недопустими разход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жилищни сгради – еднофамилни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0" y="1484280"/>
            <a:ext cx="89647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устими за изпълнение са мерки за ЕЕ в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еднофамилни жилищ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–   - трябва да принадлежат на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социално слаби собственици, получаващи социални помощ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топление за текущия/последния отоплителен сезон, и да са масивни сгради, проектирани преди 26 април 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 н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ъсобственос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при еднофамилна жилищна сграда изискването собственикът да получава социални помощи за отопление за последния/текущия отоплителен сезон следва да бъде спазено з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всеки от съсобственицит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независимо от това кой от тях обитава сградата към момента на кандидатств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О не е предоставил отделен образец на договор между собственика и общината в случай на еднофамилни жилищни сгради. За целта общината може да използва образеца на договор със сдруженията на собственици в многофамилни жилищни сгради, като определи аналогични условия за предоставяне на услуги за енергийно обновяване, правата и задълженията на стра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4572000" y="1501920"/>
            <a:ext cx="350028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еднофамилни жилищни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жилищни сгради – многофамилни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0" y="1413000"/>
            <a:ext cx="89647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ногофамилна жилищна сграда -    - включв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минимум 2 самостоятелни жилищни обек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оито принадлежат на повече от един собственик (собственикът не трябва да бъде един и същ за самостоятелните жилищни обекти).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ен обек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обособена част от сграда в режим на етажна собственост със самостоятелно функционално предназначе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ми са многофамилн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асив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град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ирани преди 26 април 199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ми са многофамилни сгради с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вече от 35 самостоятелни жилищни об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троени по индустриален способ (независимо от годината на проектира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гласно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Указанията за изпълнение на проекти за ЕЕ на жилищни сград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 Приоритетна ос 2 на ОПРР 2014-2020 (Приложение Н към Насоките)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и наличие на свързано строителство, а именно няколко блок-секции или сгради (блокове), които са свързани помежду с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е са отдалечени една от друга и образуват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общ архитектурен ансамбъл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 следва групата от блок-секции/сгради да кандидатства зае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искването за не повече от 35 самостоятелни обекта с жилищно предназначение следва да се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пазва за всяка отделна сграда, а не за целия архитектурен ансамбъ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324000" y="1417680"/>
            <a:ext cx="349884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ногофамилна жилищна с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жилищни сгради – многофамилни сград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33480" y="1401840"/>
            <a:ext cx="907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колкото обаче монолитните (тухлени) сгради имат самостоятелен архитектурен облик, както и с оглед максимално разширяване на обхвата от потенциални сгради, които може да бъдат енергийно обновени по ОПРР 2014-2020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онолитните (тухлени) сгради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може да кандидатстват и самостоятелно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 случай на свързано застрояване, при което сградите не образуват общ архитектурен ансамбъл (строени са по различно време и способ и/или са с различна етажност), както и в случаите, при които едната сграда е допустима, а другата не 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В последния случай е възможно само сградата, която отговаря на критериите за допустимост, да бъде включена в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„къщи-близнак“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обичайно става въпрос за свързано застрояване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ве самостоятелни еднофамилни жилищни сгради (със самостоятелни адресни регистрации в общината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В този случай на свързано застрояване сградит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следва да кандидатстват заед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всяка от тях да отговаря на критериите за допустимост на съответния вид сграда – да принадлежи на социално слаби собственици, получаващи социални помощи за отопление за текущия/последния отоплителен сезон и да е масивна сграда, проектирана преди 26 април 199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 ч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едната сграда е допустима, а другата не 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допустимата сграда може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да кандидатства и самостоятелн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предвид допуснатото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за масивни сград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клю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ъпроси при сдружаване на многофамилни жилищни сгради сг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"/>
          <p:cNvSpPr/>
          <p:nvPr/>
        </p:nvSpPr>
        <p:spPr>
          <a:xfrm>
            <a:off x="395280" y="1413000"/>
            <a:ext cx="8677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интервенции върху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ногофамилни жилищ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конкретният бенефициент следва да сключи договор със съответното сдружение на собствениците, създадено по реда на чл. 25, ал. 1 от ЗУЕ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преки че съгласно чл. 3 от ЗУЕС за управлението на общите части на сгради в режим на етажна собственост, в които самостоятелните обекти са до три и принадлежат на повече от един собственик, се прилагат разпоредбите на Закона за собствеността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 целите на кандидатстване за енергийно обновяване на многофамилни жилищни сгради по ОПРР 2014-2020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ключително такива с до три самостоятелни обекта, задължително следва да се създаде сдружение на собственицит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 което общината–конкретен бенефициент сключва 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искването за създаване на СС и при двуфамилни жилищни сгради служи изрично за целите на ОПРР 2014-2020 - за унифициране на процеса на кандидатстване от страна на собствениците за енергийно обновяване на многофамилни жилищни сгради и ясно двустранно регламентиране на отношенията между собствениците на самостоятелни обекти и общината бенефициент по ОПР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4" descr="http://const.solinepro.ru/pushkinsky/upload/images/27f58e58238a3a7d2c2bb854baadb2b2.jpg"/>
          <p:cNvPicPr/>
          <p:nvPr/>
        </p:nvPicPr>
        <p:blipFill>
          <a:blip r:embed="rId4"/>
          <a:stretch/>
        </p:blipFill>
        <p:spPr>
          <a:xfrm>
            <a:off x="-9360" y="2781360"/>
            <a:ext cx="558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еферентни стойности при проекти за ЕЕ на жилищни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0" y="1413000"/>
            <a:ext cx="90727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ните следва да се съобразяват с одобрените и публикувани п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ционалната програма за енергийна ефективност на многофамилни жилищни сград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ерентни стойности на допустимите дей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 по отношение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тервенции в жилищни сгради за изпълнение на предписаните като задължителни мерки за енергийна ефективност, с които ще бъдат постигна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60% енергийни спестявания за сгра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й че в процеса на верификация на разходите по проекта се установи неспазване на референтните стойности, разходите за отделните дейности ще се считат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пустими за финансиране по процедурата до размера на публикуваните референтни сто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отношение на 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проекти за ЕЕ в публични сград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ферентните стойности трябва да служат като 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база за оценка на бюдже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отношение на ефикасност на разходите и спазване на принципа на доброто финансово управление - икономичност, ефикасност и ефективност при разходването на средствата на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ъпроси, свързани с допустимост на разход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0" y="1628640"/>
            <a:ext cx="8748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допустими разходи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консултантски услуги за попълване на ФК и подготовка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проектното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ходи за разработване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кументация за провеждане на обществени поръ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веститорски контрол (извън Екипа за управление на проек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ходи за информационна кампания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опустими са само при проекти за ЕЕ на жилищни сгр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на ос 2 „Подкрепа за енергийна ефективност в опорни центрове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49" name="Diagram 4" descr=""/>
          <p:cNvPicPr/>
          <p:nvPr/>
        </p:nvPicPr>
        <p:blipFill>
          <a:blip r:embed="rId4"/>
          <a:stretch/>
        </p:blipFill>
        <p:spPr>
          <a:xfrm>
            <a:off x="-12600" y="1341360"/>
            <a:ext cx="909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к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20" name="Diagram 3" descr=""/>
          <p:cNvPicPr/>
          <p:nvPr/>
        </p:nvPicPr>
        <p:blipFill>
          <a:blip r:embed="rId4"/>
          <a:stretch/>
        </p:blipFill>
        <p:spPr>
          <a:xfrm>
            <a:off x="-6480" y="1414440"/>
            <a:ext cx="907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исквания при попълване на индикато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29" name="Diagram 3" descr=""/>
          <p:cNvPicPr/>
          <p:nvPr/>
        </p:nvPicPr>
        <p:blipFill>
          <a:blip r:embed="rId4"/>
          <a:stretch/>
        </p:blipFill>
        <p:spPr>
          <a:xfrm>
            <a:off x="-85680" y="1407960"/>
            <a:ext cx="9302760" cy="505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4" descr="http://const.solinepro.ru/pushkinsky/upload/images/27f58e58238a3a7d2c2bb854baadb2b2.jpg"/>
          <p:cNvPicPr/>
          <p:nvPr/>
        </p:nvPicPr>
        <p:blipFill>
          <a:blip r:embed="rId5"/>
          <a:stretch/>
        </p:blipFill>
        <p:spPr>
          <a:xfrm>
            <a:off x="684360" y="1989000"/>
            <a:ext cx="73332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, свързани с държавн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0" y="1268280"/>
            <a:ext cx="90727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Бенефициентите са длъжни да спазват законодателството в областта на държавните помощи и да не допуснат средствата, получени по проекта, да бъдат предоставени на трети лица в нарушение на режима на държавни помощ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верката за съответствие с приложимия режим се извършва съгласно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риложение О2 „Указания за оценка на съответствието на проектните предложения с приложимия режим по държавни помощи по ПО 2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Указанията са разписани подробно хипотезите за липса на помощ и за прилагане на съответния режим на помощ за различните видове обекти на интервенция, като проверката се извършва за всеки отделен случай със самостоятелен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Хипотезата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минимална помощ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о процедурата е приложим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само по отношение на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допустимите за финансиране обект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ако те или части от тях се използват за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изпълнение на стопанска дейнос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 В случаите, в които части от административните сгради/културните обекти не се използват за административни функции/културна дейност и/или се отдават под наем за извършване на търговски дейности, въпросните части от сградит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не са допустими за финансиране с БФП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и разходите, свързани с тези помещения, следва да бъдат поети като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собствен принос (недопустими разходи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 при представяне на докум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48" name="Diagram 3" descr=""/>
          <p:cNvPicPr/>
          <p:nvPr/>
        </p:nvPicPr>
        <p:blipFill>
          <a:blip r:embed="rId4"/>
          <a:stretch/>
        </p:blipFill>
        <p:spPr>
          <a:xfrm>
            <a:off x="92160" y="1414440"/>
            <a:ext cx="90327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1042920" y="1844640"/>
            <a:ext cx="72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местник-министър на РРБ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 на процедура „Енергийна ефективност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285840" y="1484280"/>
            <a:ext cx="8550360" cy="30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Да се повиши енергийната ефективност на публичната инфраструктура и на жилищния сектор в опорните центрове от 4-то ниво на националната </a:t>
            </a:r>
            <a:r>
              <a:rPr b="1" i="1" lang="bg-BG" sz="1600" spc="-1" strike="noStrike">
                <a:solidFill>
                  <a:srgbClr val="ff0000"/>
                </a:solidFill>
                <a:latin typeface="Arial"/>
              </a:rPr>
              <a:t>полицентрична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специфични цел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 на енергийната ефективност в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жилищния сек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енергийната ефективност на </a:t>
            </a:r>
            <a:r>
              <a:rPr b="0" i="1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ествените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сг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ксимални прагов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ид проектни предложения за всеки бенефици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1120" y="4221000"/>
          <a:ext cx="8425080" cy="1684440"/>
        </p:xfrm>
        <a:graphic>
          <a:graphicData uri="http://schemas.openxmlformats.org/drawingml/2006/table">
            <a:tbl>
              <a:tblPr/>
              <a:tblGrid>
                <a:gridCol w="4681440"/>
                <a:gridCol w="374364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проектни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г на БФП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гийна ефективност в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илищния с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 5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ийна ефективност на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ествени сг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тати към 15 март 2016 г.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316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277200" indent="-27720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ич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нкретни бенефициен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 подали проектни предлож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ИСУН 2020 по процеду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яма установени проблеми, свързани с електронното кандидатс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адени с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101 проектни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1 оттегле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но предло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ПП са включени в оценителни сесии по процеду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688000" cy="44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5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9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385128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85840" indent="-285840"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а стойност на БФП на подадените проектни предложения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2 917 656 лв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9,8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 общия размер на БФП по процеду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just">
              <a:spcBef>
                <a:spcPts val="24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йност на БФП з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лищни сгра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24 531 254 лв.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4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 общата стойност на подадените 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just">
              <a:spcBef>
                <a:spcPts val="24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йност на БФП з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блични сгра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78 386 401,16 лв.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76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 общата стойност на подадените 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ontent Placeholder 4" descr=""/>
          <p:cNvPicPr/>
          <p:nvPr/>
        </p:nvPicPr>
        <p:blipFill>
          <a:blip r:embed="rId1"/>
          <a:stretch/>
        </p:blipFill>
        <p:spPr>
          <a:xfrm>
            <a:off x="3800520" y="1444680"/>
            <a:ext cx="5322960" cy="4833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" descr=""/>
          <p:cNvPicPr/>
          <p:nvPr/>
        </p:nvPicPr>
        <p:blipFill>
          <a:blip r:embed="rId4"/>
          <a:stretch/>
        </p:blipFill>
        <p:spPr>
          <a:xfrm>
            <a:off x="-3636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тати към 15 март 2016 г.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езултати към 31 март 2016 г.- всички бенефици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359000"/>
          <a:ext cx="8209080" cy="4724280"/>
        </p:xfrm>
        <a:graphic>
          <a:graphicData uri="http://schemas.openxmlformats.org/drawingml/2006/table">
            <a:tbl>
              <a:tblPr/>
              <a:tblGrid>
                <a:gridCol w="2016360"/>
                <a:gridCol w="1873080"/>
                <a:gridCol w="1871640"/>
                <a:gridCol w="1635120"/>
                <a:gridCol w="812880"/>
              </a:tblGrid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ивен бюджет в л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от 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ФП подадени 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оп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86 427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93 213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 862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Троя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70 201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5 100,6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1 71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ещ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707 054,4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53 527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5 157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арноб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87 513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43 756,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40 428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Нова Заг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92 788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96 39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70 76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отев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44 720,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72 360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80 977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андан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425 526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12 763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22 541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евлие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1 691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845,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429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амо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76 152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8 076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5 903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Червен бря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93 967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6 98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02 557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вилен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81 360,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0 68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0 680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рова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64 704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352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172,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Мез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69 628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34 814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19 905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омор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55 840,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27 920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27 920,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Нови паз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42 142,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1 071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1 071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Раз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01 393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50 696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54 755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озлоду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71 105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85 552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4 588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ерков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23 925,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962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663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Тутрак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27 846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3 923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4 934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Елх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33 290,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6 645,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2 983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Злато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 643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15 321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110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Дев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3 224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1 612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4 811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Генерал Тоше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8 550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9 275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3 510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румов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7 671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8 835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1 032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елоградч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0 538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5 269,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5 269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Никоп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8 848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4 42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4 42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Малко Търн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8 336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4 168,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1 938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Ивайлов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5 299,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 649,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 55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 БФ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 740 39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370 196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917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езултати към 31 март 2016 – общини под прага от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480" y="1413000"/>
          <a:ext cx="8958240" cy="4410000"/>
        </p:xfrm>
        <a:graphic>
          <a:graphicData uri="http://schemas.openxmlformats.org/drawingml/2006/table">
            <a:tbl>
              <a:tblPr/>
              <a:tblGrid>
                <a:gridCol w="357120"/>
                <a:gridCol w="1544400"/>
                <a:gridCol w="1108080"/>
                <a:gridCol w="1322640"/>
                <a:gridCol w="1174680"/>
                <a:gridCol w="1174680"/>
                <a:gridCol w="1174680"/>
                <a:gridCol w="1101960"/>
              </a:tblGrid>
              <a:tr h="550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ивен бюджет в л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ни сг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и сг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 БФП подадени 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ка с 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оп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86 42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93 213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9 72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7 14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 862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76 351,25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Троя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70 201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5 100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1 71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1 71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743 389,9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евли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1 691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845,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429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429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16,1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амо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76 152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8 076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5 90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5 90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73,09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рова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64 704,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352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172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172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79,5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озлоду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71 105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85 552,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4 58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4 58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570 964,29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ерков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23 925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962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6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6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99,9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Елх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33 290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6 645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2 98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2 98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33 661,62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Злато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 643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15 321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11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11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2 019 210,8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Де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3 224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1 612,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4 811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4 811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136 801,10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Ивайлов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5 299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 649,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 554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 554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30 095,04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решки при начина на 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0" y="1332000"/>
            <a:ext cx="907272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градите, обекти на интервенция, следва да са обединени в проектни предложения, според </a:t>
            </a: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вида инфраструктур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ински административ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 1 отделно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ържавни административни сград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всеки отделен партньор-държавна институ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бщинск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разовате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ложение за общинск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ултур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бщинск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еограничен брой проектни предложе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жилищ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всяко следва да включва най-малко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три обекта на интервенц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сград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 изключение - само в случай че конкретният бенефициент предвижда интервенции в по-малко от три жилищни сгради, то следва да подаде 1 проектно предложение за избраните сгр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Няко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общини са подали само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1 ПП, което включва различни видове обществени сград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нска и държавна администрация, културна и образователна инфраструктура. Това затруднява както оценката, така и ефективното изпълнение и управление на проекта и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е риск, който се носи от бенефициен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, свързани с допустимост на дейнос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1413000"/>
            <a:ext cx="90727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ъв формуляра за кандидатставане кандидатът трябва да предвиди изпълнението 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ичк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дължителни енергоспестяващи мер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исани в обследването за енергийна ефективнос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ито водят до най-малко клас на енергопотребление „С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пътстващи СМР, свързани с изпълнението на Е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ичк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ейности по конструктивно възстановяване/усил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едписани като задължителни в техническото обследване на сград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всички задължителни мерк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писани в техническото обслед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бряван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стъпа за лица с уврежда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сград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твърждение кандидатът представя 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еклар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поред степента на проектна готовност), че в инвестиционния проект за сградата е включил/ще включи посочените по-горе дей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е необходимо подробно описание на предвидените дейности предвид наличието на енергийното и техническото обследване за всеки обект, приложени към 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iktoriya Nenkova</cp:lastModifiedBy>
  <cp:lastPrinted>2016-02-01T08:13:39Z</cp:lastPrinted>
  <dcterms:modified xsi:type="dcterms:W3CDTF">2016-04-13T08:10:07Z</dcterms:modified>
  <cp:revision>1486</cp:revision>
  <dc:subject/>
  <dc:title>Diapositiva 1</dc:title>
</cp:coreProperties>
</file>