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106-FFE8-4DFF-9A83-A42D09182A7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7FF6-48DE-47D0-8AE5-8FFF8D39797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9DE0-E023-4B79-9EB9-FD62365C2DF9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D0E7-2346-4C90-B4CE-99D7AA2E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47E-671E-4D14-804F-0A3065D9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BDF-DD0D-4F6C-BD81-EED288C3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79F-9EE9-4A18-86D5-03425819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43A-1E97-421E-9FBF-42766FB0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DCA9-F2B8-48CD-B0B8-B4DA4CC9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3DAF-A469-4A17-BFA9-58600B4C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D33B-9F82-4E1E-B38E-F7C1773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383-44A7-4CEB-9166-97CA84BA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7216-ACAB-4A18-A689-186DF08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E957-898D-4139-8253-793C8ADE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CF1-130C-4EBA-B771-AA4ACFE6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D851-6D6F-44FB-BAED-A06ED7D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0254-7011-4FE6-84F6-2336BB60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8A73-5425-40CF-9ECE-4C0FDE91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54FD-AC9E-4AC0-A080-0CFCB89C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4A5D-2282-45E7-BE8D-6433A8DC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2BEC-0C76-491B-85BC-179C71A3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22443-2725-49A4-95E8-0E0B80EA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DE0F2-0D2D-4961-9187-EB89251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A4FD-E9DC-4923-B54B-265B6402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98F3B-B615-4C49-92E1-D2333BD1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15E-6E4F-47E3-88C1-FA2407B7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B8CC8-6B33-4883-A9C6-43CD59E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AE9B-FB26-48A1-A14F-D4338E67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D62AA-6854-4704-AE45-FEFAFACD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CD8B-1E5D-4FDF-B8F0-4156146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20F0-6DF4-4958-851A-9412235E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A80E9-62F7-4C0B-B375-8D7A96F9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9971-02C0-4689-8188-F0167BA8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0DF-CBA3-4080-A46A-F43006E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5798-96B1-47FD-BB9E-CECA2726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7DA-0A32-43C9-87A7-5DC6D20E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A21-7CC5-4D72-9294-3F21D559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328-B2C6-4699-8ECE-F8C25BF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D91-111E-4AF8-8456-07D8D48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30E8-C9A4-4C0B-89DD-5A07C34E6ED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E569-6A5A-438D-A86F-526279E8EC2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E18C-B9B6-4A04-9D9D-9BF5A4C062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hyperlink" Target="http://www.google.bg/url?sa=i&amp;rct=j&amp;q=&amp;esrc=s&amp;source=images&amp;cd=&amp;ved=0ahUKEwib85TY8ezLAhXK8RQKHTXwAdMQjRwIBw&amp;url=http://www.pushkinsky.net/novosti/i/konstruktivniy-reznoy-rukovoditel-iz-hrustalya/&amp;psig=AFQjCNGmJaxNBoP4ilVPyuxP7kmmSe9TeA&amp;ust=1459581145938728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851280" y="24300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146160" y="4005360"/>
            <a:ext cx="622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70640" y="255600"/>
            <a:ext cx="1487520" cy="1198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0"/>
          <p:cNvSpPr/>
          <p:nvPr/>
        </p:nvSpPr>
        <p:spPr>
          <a:xfrm>
            <a:off x="-36360" y="3645000"/>
            <a:ext cx="612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Преглед на напредъка, актуално състояние и изисквания при кандидатстване по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процедура BG16RFOP001-2.001 „</a:t>
            </a:r>
            <a:r>
              <a:rPr b="1" lang="bg-BG" sz="2600" spc="-1" strike="noStrike">
                <a:solidFill>
                  <a:srgbClr val="ff0000"/>
                </a:solidFill>
                <a:latin typeface="Arial"/>
              </a:rPr>
              <a:t>Енергийна ефективност в периферните райони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6021360"/>
            <a:ext cx="6769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Информационна среща по процедура </a:t>
            </a:r>
            <a:r>
              <a:rPr b="0" i="1" lang="en-US" sz="1800" spc="-1" strike="noStrike">
                <a:solidFill>
                  <a:srgbClr val="000066"/>
                </a:solidFill>
                <a:latin typeface="Sylfaen"/>
              </a:rPr>
              <a:t> BG161RFOP001-2.001 12.04.2016</a:t>
            </a:r>
            <a:r>
              <a:rPr b="0" i="1" lang="bg-BG" sz="1800" spc="-1" strike="noStrike">
                <a:solidFill>
                  <a:srgbClr val="000066"/>
                </a:solidFill>
                <a:latin typeface="Sylfaen"/>
              </a:rPr>
              <a:t> г., 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70"/>
          <p:cNvSpPr/>
          <p:nvPr/>
        </p:nvSpPr>
        <p:spPr>
          <a:xfrm>
            <a:off x="331920" y="1989000"/>
            <a:ext cx="8513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c1c1c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99"/>
                </a:solidFill>
                <a:latin typeface="Sylfaen"/>
              </a:rPr>
              <a:t>ГЛАВНА ДИРЕКЦИЯ „ПРОГРАМИРАНЕ НА РЕГИОНАЛНОТ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Финансиране на дейностите чрез БФП или собствен прин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-12600" y="1303200"/>
            <a:ext cx="907236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ички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дължителни енергоспестяващи мерки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едписани в обследването за ЕЕ,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оито водят до най-малко клас на енергопотребление „С“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сички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ейности по конструктивно възстановяване/усилван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предписани като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задължителни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техническото обследване на сградат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рките за подобряване 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достъпа за лица с увреждан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 сградит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– чрез БФП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МР, които обхващат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ремонт/реконструкция на различни части на сградата (покрив, стени, стълбищни клетки и площадки, коридори, асансьори и др.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, могат да бъдат финансирани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чрез БФП само ако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предложените мерки по проекта по ОПРР 2014-2020 сградата постигне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й-малко клас на енергопотребление „С“ и повече от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60% енергийни спестявания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 липса на 60% енергийни спестявания - </a:t>
            </a:r>
            <a:r>
              <a:rPr b="1" lang="bg-BG" sz="1700" spc="-1" strike="noStrike" u="sng">
                <a:solidFill>
                  <a:srgbClr val="000000"/>
                </a:solidFill>
                <a:uFillTx/>
                <a:latin typeface="Arial"/>
              </a:rPr>
              <a:t>задължителните мерки от техническото обследване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, които не са пряко свързани с изпълнението на мерките за ЕЕ или с конструктивното възстановяване/усилване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чрез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</a:rPr>
              <a:t>собствен принос на кандидата (недопустими разходи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Aft>
                <a:spcPts val="601"/>
              </a:spcAft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4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60" y="4797360"/>
            <a:ext cx="55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остъпна архитектурна ср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0" y="1557360"/>
            <a:ext cx="8893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ейностите за осигуряване на достъпна среда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са задължите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сград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с съществуващ асансьо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допустими СМ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които обхващат ремонт и реконструкция на различни части на сградата (покрив, стени, стълбищни клетки и площадки, коридори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асансьор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и др.), </a:t>
            </a: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само ако</a:t>
            </a:r>
            <a:r>
              <a:rPr b="0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0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с предложените мерки по проекта по ОПРР 2014-2020 сградата постигне най-малко клас на енергопотребление „С“ и </a:t>
            </a:r>
            <a:r>
              <a:rPr b="1" lang="bg-BG" sz="1800" spc="-1" strike="noStrike" u="sng">
                <a:solidFill>
                  <a:srgbClr val="000099"/>
                </a:solidFill>
                <a:uFillTx/>
                <a:latin typeface="Arial"/>
              </a:rPr>
              <a:t>повече от 60% енергийни спестя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45396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учай на сграда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без асансьор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бенефициентът следва да предвиди дейности за 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подобряване на достъпа само до входа на сград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връзка с изискването за подобряване на достъпа на хора с увреждания до сградите. В тази връзка изграждането на нов асансьор в сградите е недопустим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публични сгради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"/>
          <p:cNvSpPr/>
          <p:nvPr/>
        </p:nvSpPr>
        <p:spPr>
          <a:xfrm>
            <a:off x="0" y="1413000"/>
            <a:ext cx="907272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374"/>
              </a:spcBef>
              <a:buClr>
                <a:srgbClr val="0000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Допустими са общински публични сгради на културната, социалната и образователната инфраструктур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Социал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социални услуги 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социалното подпомаган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 Правилника за прилагането му.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Не са допустим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за финансиране сгради на социални институции за деца и възрастни хора </a:t>
            </a: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в противоречие с националната политика за деинституционализация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на този вид услуги (т.е. специализирани институции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училища, детски градини и детски ясли, </a:t>
            </a:r>
            <a:r>
              <a:rPr b="0" lang="bg-BG" sz="1500" spc="-1" strike="noStrike">
                <a:solidFill>
                  <a:srgbClr val="000099"/>
                </a:solidFill>
                <a:latin typeface="Arial"/>
              </a:rPr>
              <a:t>както и останалите институции в системата на предучилищното и училищното образование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народната просвета/Закона за предучилищното и училищното образование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центрове за подкрепа за личностно развитие и специализирани обслужващи зве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 u="sng">
                <a:solidFill>
                  <a:srgbClr val="000000"/>
                </a:solidFill>
                <a:uFillTx/>
                <a:latin typeface="Arial"/>
              </a:rPr>
              <a:t>Културна инфраструктура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- обекти, регистрирани съгласно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културното наследство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 (регионални музеи, финансирани от общината или общински музеи), културни организации или културни институти по смисъла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закрила и развитие на културат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или читалища по смисъла на </a:t>
            </a:r>
            <a:r>
              <a:rPr b="1" lang="bg-BG" sz="1500" spc="-1" strike="noStrike">
                <a:solidFill>
                  <a:srgbClr val="000000"/>
                </a:solidFill>
                <a:latin typeface="Arial"/>
              </a:rPr>
              <a:t>Закона за народните читалищ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374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ff0000"/>
                </a:solidFill>
                <a:latin typeface="Arial"/>
              </a:rPr>
              <a:t>Не са допустими обекти на здравната инфраструктура, пенсионерски клубове, домове за стари хора и д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http://const.solinepro.ru/pushkinsky/upload/images/27f58e58238a3a7d2c2bb854baadb2b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-9360" y="5192640"/>
            <a:ext cx="558720" cy="793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4" descr="http://const.solinepro.ru/pushkinsky/upload/images/27f58e58238a3a7d2c2bb854baadb2b2.jpg"/>
          <p:cNvPicPr/>
          <p:nvPr/>
        </p:nvPicPr>
        <p:blipFill>
          <a:blip r:embed="rId6"/>
          <a:stretch/>
        </p:blipFill>
        <p:spPr>
          <a:xfrm>
            <a:off x="0" y="2276640"/>
            <a:ext cx="558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публични сгра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179280" y="1413000"/>
            <a:ext cx="878544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проекти трябва да включват изпълнение на енергоспестяващи мерки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целите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случай на собственост в сградата, различна от тази на бенефициента/ партньора, бенефициентът следва да поем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ангажимент за внедряване на мерки за енергийна ефективност на цялата сград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частта от сградата – частна собственост или собственост на друга публична организация или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лзвана за цели извън общинска образователна, социална и култур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ледва да се финансира със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редства извън БФП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10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ходите за внедряване на мерки за ЕЕ, свързани с помещенията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ито не се използват от съответната институция или не са собственост на бенефициента/партньора или се отдават под наем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обствен принос (недопустими разход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еднофамил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"/>
          <p:cNvSpPr/>
          <p:nvPr/>
        </p:nvSpPr>
        <p:spPr>
          <a:xfrm>
            <a:off x="0" y="1484280"/>
            <a:ext cx="8964720" cy="38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устими за изпълнение са мерки за ЕЕ в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днофамилни 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–   - трябва да принадлежат на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социално слаби собственици, получаващи социални помощ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топление за текущия/последния отоплителен сезон, и да са масивни сгради, проектирани преди 26 април 199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н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съсобственос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при еднофамилна жилищна сграда изискването собственикът да получава социални помощи за отопление за последния/текущия отоплителен сезон следва да бъде спазено з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всеки от съсобственицит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независимо от това кой от тях обитава сградата към момента на кандидатств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О не е предоставил отделен образец на договор между собственика и общината в случай на еднофамилни жилищни сгради. За целта общината може да използва образеца на договор със сдруженията на собственици в многофамилни жилищни сгради, като определи аналогични условия за предоставяне на услуги за енергийно обновяване, правата и задълженията на стра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4572000" y="1501920"/>
            <a:ext cx="35002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днофамилни жилищни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многофамил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0" y="1413000"/>
            <a:ext cx="896472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ногофамилна жилищна сграда -    - включв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минимум 2 самостоятелни жилищни обек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оито принадлежат на повече от един собственик (собственикът не трябва да бъде един и същ за самостоятелните жилищни обекти).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Самостоятелен обект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- обособена част от сграда в режим на етажна собственост със самостоятелно функционално предназначен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и са многофамилни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масив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град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ирани преди 26 април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тими са многофамилни сгради с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е повече от 35 самостоятелни жилищни об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строени по индустриален способ (независимо от годината на проектира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гласно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Указанията за изпълнение на проекти за ЕЕ на жилищ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 Приоритетна ос 2 на ОПРР 2014-2020 (Приложение Н към Насоките) </a:t>
            </a:r>
            <a:r>
              <a:rPr b="0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при наличие на свързано строителство, а именно няколко блок-секции или сгради (блокове), които са свързани помежду с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е са отдалечени една от друга и образуват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общ архитектурен ансамбъл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следва групата от блок-секции/сгради да кандидатства заед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искването за не повече от 35 самостоятелни обекта с жилищно предназначение следва да се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пазва за всяка отделна сграда, а не за целия архитектурен ансамбъ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324000" y="1417680"/>
            <a:ext cx="349884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ногофамилна жилищна сг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опустимост на жилищни сгради – многофамилни сгради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33480" y="1401840"/>
            <a:ext cx="907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колкото обаче монолитните (тухлени) сгради имат самостоятелен архитектурен облик, както и с оглед максимално разширяване на обхвата от потенциални сгради, които може да бъдат енергийно обновени по ОПРР 2014-2020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онолитните (тухлени) сгради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може да кандидатстват и самостоятелно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 случай на свързано застрояване, при което сградите не образуват общ архитектурен ансамбъл (строени са по различно време и способ и/или са с различна етажност), както и в случаите, при които едната сграда е допустима, а другата не 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последния случай е възможно само сградата, която отговаря на критериите за допустимост, да бъде включена в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„къщи-близнак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обичайно става въпрос за свързано застрояване н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ве самостоятелни еднофамилни жилищни сгради (със самостоятелни адресни регистрации в общината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 В този случай на свързано застрояване сградит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следва да кандидатстват заед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 всяка от тях да отговаря на критериите за допустимост на съответния вид сграда – да принадлежи на социално слаби собственици, получаващи социални помощи за отопление за текущия/последния отоплителен сезон и да е масивна сграда, проектирана преди 26 април 199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случай че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едната сграда е допустима, а другата не 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допустимата сграда може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да кандидатства и самостоятелн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предвид допуснатото </a:t>
            </a:r>
            <a:r>
              <a:rPr b="1" lang="bg-BG" sz="1600" spc="-1" strike="noStrike" u="sng">
                <a:solidFill>
                  <a:srgbClr val="000000"/>
                </a:solidFill>
                <a:uFillTx/>
                <a:latin typeface="Arial"/>
              </a:rPr>
              <a:t>за масив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клю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ъпроси при сдружаване на многофамилни жилищни сгради сгра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3"/>
          <p:cNvSpPr/>
          <p:nvPr/>
        </p:nvSpPr>
        <p:spPr>
          <a:xfrm>
            <a:off x="395280" y="1413000"/>
            <a:ext cx="8677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и интервенции върху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ногофамилни 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конкретният бенефициент следва да сключи договор със съответното сдружение на собствениците, създадено по реда на чл. 25, ал. 1 от ЗУЕ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преки че съгласно чл. 3 от ЗУЕС за управлението на общите части на сгради в режим на етажна собственост, в които самостоятелните обекти са до три и принадлежат на повече от един собственик, се прилагат разпоредбите на Закона за собствеността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за целите на кандидатстване за енергийно обновяване на многофамилни жилищни сгради по ОПРР 2014-2020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включително такива с до три самостоятелни обекта, задължително следва да се създаде сдружение на собствениците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с което общината–конкретен бенефициент сключва 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зискването за създаване на СС и при двуфамилни жилищни сгради служи изрично за целите на ОПРР 2014-2020 - за унифициране на процеса на кандидатстване от страна на собствениците за енергийно обновяване на многофамилни жилищни сгради и ясно двустранно регламентиране на отношенията между собствениците на самостоятелни обекти и общината бенефициент по ОПР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4" descr="http://const.solinepro.ru/pushkinsky/upload/images/27f58e58238a3a7d2c2bb854baadb2b2.jpg"/>
          <p:cNvPicPr/>
          <p:nvPr/>
        </p:nvPicPr>
        <p:blipFill>
          <a:blip r:embed="rId4"/>
          <a:stretch/>
        </p:blipFill>
        <p:spPr>
          <a:xfrm>
            <a:off x="-9360" y="2781360"/>
            <a:ext cx="558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еферентни стойности при проекти за ЕЕ на жилищни сг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3"/>
          <p:cNvSpPr/>
          <p:nvPr/>
        </p:nvSpPr>
        <p:spPr>
          <a:xfrm>
            <a:off x="0" y="1413000"/>
            <a:ext cx="90727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ните следва да се съобразяват с одобрените и публикувани п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ционалната програма за енергийна ефективност на многофамилни жилищни сград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ерентни стойности на допустимите дей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 по отношение н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тервенции в жилищни сгради за изпълнение на предписаните като задължителни мерки за енергийна ефективност, с които ще бъдат постигна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 60% енергийни спестявания з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й че в процеса на верификация на разходите по проекта се установи неспазване на референтните стойности, разходите за отделните дейности ще се считат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допустими за финансиране по процедурата до размера на публикуваните референтни стой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отношение на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проекти за ЕЕ в публичн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ферентните стойности трябва да служат като </a:t>
            </a:r>
            <a:r>
              <a:rPr b="0" lang="bg-BG" sz="1800" spc="-1" strike="noStrike">
                <a:solidFill>
                  <a:srgbClr val="000099"/>
                </a:solidFill>
                <a:latin typeface="Arial"/>
              </a:rPr>
              <a:t>база за оценка на бюдже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 отношение на ефикасност на разходите и спазване на принципа на доброто финансово управление - икономичност, ефикасност и ефективност при разходването на средствата на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ъпроси, свързани с допустимост на разход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0" y="1628640"/>
            <a:ext cx="87487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допустими разходи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консултантски услуги за попълване на ФК и подготовк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проектнот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разработване н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кументация за провеждане на обществени поръ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ходи з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веститорски контрол (извън Екипа за управление на проек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568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азходи за информационна кампания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допустими са само при проекти за ЕЕ на жилищни сгра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оритетна ос 2 „Подкрепа за енергийна ефективност в опорни центрове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 4" descr=""/>
          <p:cNvPicPr/>
          <p:nvPr/>
        </p:nvPicPr>
        <p:blipFill>
          <a:blip r:embed="rId4"/>
          <a:stretch/>
        </p:blipFill>
        <p:spPr>
          <a:xfrm>
            <a:off x="-12600" y="1341360"/>
            <a:ext cx="9090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к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0" name="Diagram 3" descr=""/>
          <p:cNvPicPr/>
          <p:nvPr/>
        </p:nvPicPr>
        <p:blipFill>
          <a:blip r:embed="rId4"/>
          <a:stretch/>
        </p:blipFill>
        <p:spPr>
          <a:xfrm>
            <a:off x="-6480" y="1414440"/>
            <a:ext cx="907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исквания при попълване на индикато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29" name="Diagram 3" descr=""/>
          <p:cNvPicPr/>
          <p:nvPr/>
        </p:nvPicPr>
        <p:blipFill>
          <a:blip r:embed="rId4"/>
          <a:stretch/>
        </p:blipFill>
        <p:spPr>
          <a:xfrm>
            <a:off x="-85680" y="1407960"/>
            <a:ext cx="9302760" cy="505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4" descr="http://const.solinepro.ru/pushkinsky/upload/images/27f58e58238a3a7d2c2bb854baadb2b2.jpg"/>
          <p:cNvPicPr/>
          <p:nvPr/>
        </p:nvPicPr>
        <p:blipFill>
          <a:blip r:embed="rId5"/>
          <a:stretch/>
        </p:blipFill>
        <p:spPr>
          <a:xfrm>
            <a:off x="684360" y="1989000"/>
            <a:ext cx="73332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ържавн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0" y="1268280"/>
            <a:ext cx="90727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Бенефициентите са длъжни да спазват законодателството в областта на държавните помощи и да не допуснат средствата, получени по проекта, да бъдат предоставени на трети лица в нарушение на режима на държавни помощ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верката за съответствие с приложимия режим се извършва съгласно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риложение О2 „Указания за оценка на съответствието на проектните предложения с приложимия режим по държавни помощи по ПО 2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Указанията са разписани подробно хипотезите за липса на помощ и за прилагане на съответния режим на помощ за различните видове обекти на интервенция, като проверката се извършва за всеки отделен случай със самостоятелен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Хипотезата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минимална помощ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 процедурата е приложим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само по отношение н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допустимите за финансиране обек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ако те или части от тях се използват за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изпълнение на стопанска дейнос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 В случаите, в които части от административните сгради/културните обекти не се използват за административни функции/културна дейност и/или се отдават под наем за извършване на търговски дейности, въпросните части от сградит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не са допустими за финансиране с БФП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и разходите, свързани с тези помещения, следва да бъдат поети като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собствен принос (недопустими разходи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 при представяне на докум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48" name="Diagram 3" descr=""/>
          <p:cNvPicPr/>
          <p:nvPr/>
        </p:nvPicPr>
        <p:blipFill>
          <a:blip r:embed="rId4"/>
          <a:stretch/>
        </p:blipFill>
        <p:spPr>
          <a:xfrm>
            <a:off x="92160" y="1414440"/>
            <a:ext cx="90327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1042920" y="1844640"/>
            <a:ext cx="72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Заместник-министър на РРБ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 на процедура „Енергийна ефективност в периферните район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285840" y="1484280"/>
            <a:ext cx="8550360" cy="30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Да се повиши енергийната ефективност на публичната инфраструктура и на жилищния сектор в опорните центрове от 4-то ниво на националната </a:t>
            </a:r>
            <a:r>
              <a:rPr b="1" i="1" lang="bg-BG" sz="1600" spc="-1" strike="noStrike">
                <a:solidFill>
                  <a:srgbClr val="ff0000"/>
                </a:solidFill>
                <a:latin typeface="Arial"/>
              </a:rPr>
              <a:t>полицентрична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специфични цел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 на енергийната ефективност в 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я сект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ишаван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енергийната ефективност на </a:t>
            </a:r>
            <a:r>
              <a:rPr b="0" i="1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ествените</a:t>
            </a:r>
            <a:r>
              <a:rPr b="0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сгр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аксимални прагов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вид проектни предложения за всеки бенефициен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35244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11120" y="4221000"/>
          <a:ext cx="8425080" cy="1684440"/>
        </p:xfrm>
        <a:graphic>
          <a:graphicData uri="http://schemas.openxmlformats.org/drawingml/2006/table">
            <a:tbl>
              <a:tblPr/>
              <a:tblGrid>
                <a:gridCol w="4681440"/>
                <a:gridCol w="374364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проектни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г на БФП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гийна ефективност в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жилищния сект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5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нергийна ефективност на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ществени сг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.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тати към 15 март 2016 г.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316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277200" indent="-27720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нкретни бенефициен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 подали проектни предложе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ИСУН 2020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яма установени проблеми, свързани с електронното кандидатст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адени са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101 проектни пред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1 оттегле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оектно предлож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ички ПП са включени в оценителни сесии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88000" cy="4464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5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4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9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3851280" cy="42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85840" indent="-285840"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ща стойност на БФП на подадените проектни предложения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2 917 656 лв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9,8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ия размер на БФП по процеду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spcBef>
                <a:spcPts val="24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ност на БФП з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жилищни сгра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24 531 254 лв.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4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ата стойност на подадените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5840" algn="just">
              <a:spcBef>
                <a:spcPts val="24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йност на БФП за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ублични сгра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78 386 401,16 лв. –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6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 общата стойност на подадените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ontent Placeholder 4" descr=""/>
          <p:cNvPicPr/>
          <p:nvPr/>
        </p:nvPicPr>
        <p:blipFill>
          <a:blip r:embed="rId1"/>
          <a:stretch/>
        </p:blipFill>
        <p:spPr>
          <a:xfrm>
            <a:off x="3800520" y="1444680"/>
            <a:ext cx="5322960" cy="4833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" descr=""/>
          <p:cNvPicPr/>
          <p:nvPr/>
        </p:nvPicPr>
        <p:blipFill>
          <a:blip r:embed="rId4"/>
          <a:stretch/>
        </p:blipFill>
        <p:spPr>
          <a:xfrm>
            <a:off x="-3636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332000" y="260280"/>
            <a:ext cx="5904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ултати към 15 март 2016 г.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езултати към 31 март 2016 г.- всички бенефици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539640" y="1359000"/>
          <a:ext cx="8209080" cy="4724280"/>
        </p:xfrm>
        <a:graphic>
          <a:graphicData uri="http://schemas.openxmlformats.org/drawingml/2006/table">
            <a:tbl>
              <a:tblPr/>
              <a:tblGrid>
                <a:gridCol w="2016360"/>
                <a:gridCol w="1873080"/>
                <a:gridCol w="1871640"/>
                <a:gridCol w="1635120"/>
                <a:gridCol w="812880"/>
              </a:tblGrid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ивен бюджет в л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 от бюдж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ФП подадени 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й 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п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93 213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 862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роя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70 201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5 100,6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еще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707 054,4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53 527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05 157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арноб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87 513,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43 756,8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640 428,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ова Заго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92 78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96 39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70 761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оте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44 720,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72 360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0 977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ндан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425 526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12 763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22 541,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евлие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1 691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845,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мо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76 152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8 076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Червен бря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93 967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6 98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02 557,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вилен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81 360,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680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0 680,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рова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64 704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352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Мез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69 628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34 814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19 905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мор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655 840,3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27 920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27 920,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ови паз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442 142,4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1 071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21 071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Раз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01 393,0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0 696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54 755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озлоду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71 105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5 552,8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рков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3 925,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962,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утрак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27 846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3 923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94 934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Елх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33 290,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6 645,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Злато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 643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5 321,5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Дев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3 224,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1 612,1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Генерал Тоше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8 550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9 275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3 510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румо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7 671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8 835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1 032,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лоградч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50 538,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5 269,0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25 269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Никопо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8 848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4 42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54 42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Малко Търно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68 336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4 168,4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1 938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Ивайловгр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5 299,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 649,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БФ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 740 39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370 196,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 917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езултати към 31 март 2016 – общини под прага от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480" y="1413000"/>
          <a:ext cx="8958240" cy="4410000"/>
        </p:xfrm>
        <a:graphic>
          <a:graphicData uri="http://schemas.openxmlformats.org/drawingml/2006/table">
            <a:tbl>
              <a:tblPr/>
              <a:tblGrid>
                <a:gridCol w="357120"/>
                <a:gridCol w="1544400"/>
                <a:gridCol w="1108080"/>
                <a:gridCol w="1322640"/>
                <a:gridCol w="1174680"/>
                <a:gridCol w="1174680"/>
                <a:gridCol w="1174680"/>
                <a:gridCol w="1101960"/>
              </a:tblGrid>
              <a:tr h="550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ивен бюджет в л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лищ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блични сгр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О БФП подадени 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ка с 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оп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386 42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93 213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9 722,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7 140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16 862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76 351,25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Троя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70 201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35 100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91 71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743 389,9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евлие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321 691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845,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60 429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16,1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Само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476 152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8 076,2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35 903,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 173,09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Провад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64 704,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352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82 172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79,5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Козлоду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71 105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85 552,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14 588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 570 964,29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Берков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23 925,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962,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61 663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99,9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Елхо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33 290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6 645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2 98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33 661,62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Злато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30 643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15 321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 11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2 019 210,88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43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Де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3 224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1 612,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4 811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136 801,10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на Ивайловгра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25 299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 649,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32 554,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>
                        <a:alpha val="68000"/>
                      </a:srgbClr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30 095,04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>
                        <a:alpha val="52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Грешки при начина на 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0" y="1332000"/>
            <a:ext cx="907272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градите, обекти на интервенция, следва да са обединени в проектни предложения, според </a:t>
            </a:r>
            <a:r>
              <a:rPr b="0" lang="bg-BG" sz="1700" spc="-1" strike="noStrike">
                <a:solidFill>
                  <a:srgbClr val="000099"/>
                </a:solidFill>
                <a:latin typeface="Arial"/>
              </a:rPr>
              <a:t>вида инфраструктур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щински административ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по 1 отделно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държавни административни сгради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всеки отделен партньор-държавна институц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бразовате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ложение 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ултур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1 проектно предлож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общинск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Arial"/>
              </a:rPr>
              <a:t>неограничен брой проектни предложен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жилищни сград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, като всяко следва да включва най-малко </a:t>
            </a: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три обекта на интервенция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(сград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 изключение - само в случай че конкретният бенефициент предвижда интервенции в по-малко от три жилищни сгради, то следва да подаде 1 проектно предложение за избраните сгр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Няко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общини са подали само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1 ПП, което включва различни видове обществени сград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бщинска и държавна администрация, културна и образователна инфраструктура. Това затруднява както оценката, така и ефективното изпълнение и управление на проекта и </a:t>
            </a:r>
            <a:r>
              <a:rPr b="1" lang="bg-BG" sz="1600" spc="-1" strike="noStrike">
                <a:solidFill>
                  <a:srgbClr val="ff0000"/>
                </a:solidFill>
                <a:latin typeface="Arial"/>
              </a:rPr>
              <a:t>е риск, който се носи от бенефициент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Изисквания, свързани с допустимост на дейност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"/>
          <p:cNvSpPr/>
          <p:nvPr/>
        </p:nvSpPr>
        <p:spPr>
          <a:xfrm>
            <a:off x="0" y="1413000"/>
            <a:ext cx="907272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ъв формуляра за кандидатставане кандидатът трябва да предвиди изпълнението 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задължителни енергоспестяващи мерки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исани в обследването за енергийна ефективност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оито водят до най-малко клас на енергопотребление „С“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пътстващи СМР, свързани с изпълнението на Е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сичк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ейности по конструктивно възстановяване/усилва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предписани като задължителни в техническото обследване на сград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99"/>
                </a:solidFill>
                <a:latin typeface="Arial"/>
              </a:rPr>
              <a:t>всички задължителни мерк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редписани в техническото обслед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обряване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остъпа за лица с уврежд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сград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твърждение кандидатът представя и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еклара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според степента на проектна готовност), че в инвестиционния проект за сградата е включил/ще включи посочените по-горе дей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е необходимо подробно описание на предвидените дейности предвид наличието на енергийното и техническото обследване за всеки обект, приложени към П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iktoriya Nenkova</cp:lastModifiedBy>
  <cp:lastPrinted>2016-02-01T08:13:39Z</cp:lastPrinted>
  <dcterms:modified xsi:type="dcterms:W3CDTF">2016-04-13T08:10:07Z</dcterms:modified>
  <cp:revision>1486</cp:revision>
  <dc:subject/>
  <dc:title>Diapositiva 1</dc:title>
</cp:coreProperties>
</file>