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15B-688E-4378-A073-79173F2B69A4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E2FF-87C4-4F33-9EFE-FAABA204D5D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D7D-1BC4-464C-ACE3-71FF998D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FD8-051A-43A9-AD2B-B85F050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EA7-B3D9-4575-8A58-309EC80B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CFA-60BD-4CE0-AF71-81645014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1EC-6C5E-44F9-8E0D-1CF5B2FC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F809-D130-44B9-88B0-3783706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3675-CE20-474F-9E59-E901E127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F4C4-ECB8-4910-B441-05A0F71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E3B-31A3-4A28-940D-9A08893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2A9-30BC-4BB0-B06F-D8A12DA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ED44-E092-48C4-A5C6-E77D2BA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21A-2DFD-4780-B3D4-D0890F3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C722-8F91-447D-B187-5EBB660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E1EB-491E-46E1-B7F0-E29DCB9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01BE-3E8B-4408-BC19-65C9E22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D7D4-5377-44DD-97A3-3E061166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EF0B-67A3-4E8F-A159-E8F8D627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6405-3C9B-4740-AED7-257779D2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2676-871B-421C-B25A-D51FEA8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8C56-DA74-474B-A7C4-0E93D7F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F651-7515-475F-9C16-60C9ECF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65E1-8DCD-4CD1-B41F-F1B6D99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25B-FB93-439C-8E0F-BCF7B341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A01D-C1B1-46D2-A0EB-4348572D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3212-1532-49BF-9875-5D2167F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2274-4D58-47BC-851E-534C832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1347-0A02-4554-9FAB-4459997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C266-08F5-4E3E-82BD-A13B9BE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7674-59F0-4FC1-AB33-0F287BDC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47C5-4D1A-43A8-B39D-9CDA0C7D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0ED5-B5A6-45C9-B214-449E9261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F54A-6D01-4DEB-87E7-66B0F94B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EF51-DD3D-450F-A257-283B9107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0B9-0832-4B55-9875-EA27BD2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708C-A251-4D8E-93CF-FB5655C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2E18-D0E9-4BC4-929B-8A8EDA5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854E-0C1B-4008-A39A-6B6E963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7BFA-E2CA-4DCF-A665-604286A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0CCF-771F-4FDD-82D9-0D716D3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DC5D-68B7-4ADB-873C-934A427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1615-FC3C-4B62-BE1E-A7C7D08D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A79C-5969-4C3D-8863-EA0343EC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B5AB-CC82-4935-81B4-9D9B78CF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056A-1F85-433D-BD56-AFC59B14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136-C6CB-43AB-9CD0-CE6D13C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CD69-0F13-4A8A-BA39-798134E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D70C-17F1-4E9E-83D7-F8A18A28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01AA-4DC4-4829-A87A-F4A236F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5522-AFD2-4274-81E1-EC27A8EA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31A4-5EAE-40AF-A16B-F6DFAD6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644C-0C3C-4B7E-A141-CF4BF0E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4446-7B52-465E-A5DF-DD4E6EA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C8DB-CD11-4682-9A5A-A460CF9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7F9C-EEFE-41AE-9F7D-70F396C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16FF-DB52-4AAF-B340-AEAF5FC5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D07-7D51-4008-BFF4-6D9E8A2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5A2A-494E-47CB-ABC3-F347C939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C0FD-24BA-4FC7-9BBE-74E0578B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F029F-F420-49D1-BF39-BB4EC66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92D6-0652-47DE-B030-63D8A98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1A2A-A4D0-4F91-B142-0EC9AC4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D60E-74E4-4826-8265-AD57A8CD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E5FD-84DE-44EA-BA47-453A9F02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84D0-75CC-49EA-B869-E0DAD8F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DEDA-F299-4E6A-9504-8BC76E7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E8CA-9AE6-46EC-9CF6-035E2C8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7C6-6824-4CA9-83C4-455C194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2C67-87A7-449C-AAF8-9CF2FE0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E4A7-8A78-4D02-894C-E3603B17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9191-021E-4DE4-A327-8C3268BB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DD9-4CDC-4697-8ABB-325C2E3F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866-2F77-4973-B626-8272CCF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8FAA-048F-4C46-830B-145A726942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AFF-6EBE-40B7-8DF2-83F77EF403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2BBD-4FC7-44D2-942F-3E103BA49C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EAB3-4B9B-432E-A844-6784D722B6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457-784E-4BBC-939C-1C493EB7A0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09A-29B6-4A6D-85EF-12B23E68D9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5435640" y="609300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79280" y="3905280"/>
            <a:ext cx="55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.00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  „ПОДКРЕПА ЗА ПРОФЕСИОНАЛН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06.04.2016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70"/>
          <p:cNvSpPr/>
          <p:nvPr/>
        </p:nvSpPr>
        <p:spPr>
          <a:xfrm>
            <a:off x="331920" y="1989000"/>
            <a:ext cx="851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c1c1c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Sylfaen"/>
              </a:rPr>
              <a:t>ГЛАВНА ДИРЕКЦИЯ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0" y="1317600"/>
            <a:ext cx="907272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2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ностите по проектите следв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 са физически завършени или изцяло осъществен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ди подаване на съответното проектно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сяка образователна институция трябва да бъде прилож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ларация от Министъра на образованието и науката или Решение на Общинския съв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общинска собственост)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да се декларира, ч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назначението на сградите, обект на интервенция по проекта, няма да бъде променяно за период не по-малък о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години след приключване на дейностите по проекта, както и че с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ъответната образователна институция няма да бъде закрита за период не по-малък от 5 години след приключване на дейностите по проек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ларация от ръководството на образователната институция,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че е съгласно с предложения проект, вкл. и с конкретното проектно решение, както и че ще съдейства за реализиране на проекта в съответствие със своите задължения и компетенции, вкл. и по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 на гарантиране на устойчивостта на инвестициите и опазване на обек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44000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tent Placeholder 2"/>
          <p:cNvSpPr/>
          <p:nvPr/>
        </p:nvSpPr>
        <p:spPr>
          <a:xfrm>
            <a:off x="0" y="1413000"/>
            <a:ext cx="905832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ценка на конкретния бенефициент в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рамките на 1 проектно предложение могат да бъдат включени няколко образователни институции по съответния компонен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които отговаря конкретния бенефициент. В този случай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аксималният размер на БФП по проекта се определя в зависимост от броя образователни институции, включени в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1 проектно предложение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не могат да се включват професионални училища, които попадат в различни компон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отделните компонент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 да се подават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отделн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601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2" descr="http://const.solinepro.ru/pushkinsky/upload/images/27f58e58238a3a7d2c2bb854baadb2b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80" y="2743200"/>
            <a:ext cx="640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ntent Placeholder 2"/>
          <p:cNvSpPr/>
          <p:nvPr/>
        </p:nvSpPr>
        <p:spPr>
          <a:xfrm>
            <a:off x="684360" y="1378080"/>
            <a:ext cx="838836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ят/работният проект няма да бъде предмет на оценка и в тази връзка не се представя на етапа на кандидатстван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, че на етапа на кандидатстване няма инвестици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 проект в пълна проектна готовност (вкл. разрешение за строеж), предвидените дейности следва да се основават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хема/архитектурен план, заверен от главния архитект на общинат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(не се представя на етапа на кандидатстване).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ълж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бенефициен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е д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храня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вестиционния проек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целия му наличен обем и свързаната с него налична документация (съгласувания, одобрения и разрешения и др., вкл. обследване за енергийна ефективност, валиден сертификат за енергийни характеристики, обследване за установяване на техническите характеристики),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/партньо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кто и недопустими разходи съгласно Насоките за кандидатстване, тези разходи няма да се финансират чрез БФП и ще се поемат като собствен принос на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83" name="Right Arrow 2"/>
          <p:cNvSpPr/>
          <p:nvPr/>
        </p:nvSpPr>
        <p:spPr>
          <a:xfrm>
            <a:off x="0" y="141300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ight Arrow 11"/>
          <p:cNvSpPr/>
          <p:nvPr/>
        </p:nvSpPr>
        <p:spPr>
          <a:xfrm>
            <a:off x="0" y="2276640"/>
            <a:ext cx="758880" cy="4856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Arrow 12"/>
          <p:cNvSpPr/>
          <p:nvPr/>
        </p:nvSpPr>
        <p:spPr>
          <a:xfrm>
            <a:off x="0" y="342900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13"/>
          <p:cNvSpPr/>
          <p:nvPr/>
        </p:nvSpPr>
        <p:spPr>
          <a:xfrm>
            <a:off x="0" y="501336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0" y="1298520"/>
            <a:ext cx="9072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, одобрена на етапа на кандидатст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.надзор+СМ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0" y="1436760"/>
            <a:ext cx="907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кто 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на оборудване/обзавежд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за предпроектни проучвания, ОВОС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безвъзмездната финансова помощ по проекта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нсултантски услуги за попълване на формуляра за кандидатстване и приложенията към него, както и за подготовка на документация за възлагане на обществени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е са допустими за финанси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179280" y="414972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рок з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ontent Placeholder 2"/>
          <p:cNvSpPr/>
          <p:nvPr/>
        </p:nvSpPr>
        <p:spPr>
          <a:xfrm>
            <a:off x="0" y="1413000"/>
            <a:ext cx="9072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Проектни предложения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гат да бъдат подавани текущо до </a:t>
            </a:r>
            <a:r>
              <a:rPr b="1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30 септември 2016 г., 19:00 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ндидатстване 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зцяло по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електронен път чрез Модула за електронни услуги на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„ИСУН 2020“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https://eumis2020.government.b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/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яснения по Насоките за кандидатстване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</a:rPr>
              <a:t>могат да се искат до 21 дни преди крайния срок за подаване на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проектни предложения. УО отговаря на въпросите в срок до 7 работни дни от получаването им, но не по-късно от 11 дни преди крайния срок за подаване на проектни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Отговори на въпрос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- публикуват се на сайта на ОПРР и в ИСУН 202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Публикуваните отговори на въпроси представляват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фициално становище на Управляващия орган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рябва да бъдат взимани под внимание от кандидата при изготвяне на документацията за кандидатст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ценка на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ото предложение се оценява в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критериите, одобрени от Комитета за наблюдение на ОПРР 2014-2020 г.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зцяло по електронен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ните предложения се оценява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без сформиране на оценителна комис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Веднага след получаването на проектно предложение, УО ще стартира процедура по неговата оценка. Оценката на проектното предложение се документира чрез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опълване на контролен лист и включва оценка на административното съответствие, допустимостта и техническо и финансово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тановя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ълноти и/или несъответствия на докумен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УО изпраща на бенефициента уведомление за установените несъответствия 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я срок за тяхното отстран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ontent Placeholder 2"/>
          <p:cNvSpPr/>
          <p:nvPr/>
        </p:nvSpPr>
        <p:spPr>
          <a:xfrm>
            <a:off x="611280" y="1322280"/>
            <a:ext cx="846144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ро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3 месе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атата на влизане в сила на договора за БФП след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са обявени всички процедури за избор на изпълните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оекта. Неспазването на срока дава право на УО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едностранно и без предизвестие да прекрати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ро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12 месе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лизане в сила на договора за БФП след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бъдат сключени всички договори за обществени поръч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изпълнители за дейности по проекта. Неспазването на срока дава право на УО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едностранно и без предизвестие да прекрати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15.04.2016 г. влиза в сила новия З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Резервните обек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ат да бъдат подадени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при наличие на финансов ресур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ъответния компон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лед финансиране на основните об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 равен брой точки на една част от резервните обекти, същите могат да бъдат включени в проектни предложения само след наличие/освобождаване на средства по компонента, достатъчни за финансиране на съответната група училища с равен бр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44280" y="2781360"/>
            <a:ext cx="640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BG16RFOP001-3.002 „Подкрепа за професионалните училища в Р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Diagram 2" descr=""/>
          <p:cNvPicPr/>
          <p:nvPr/>
        </p:nvPicPr>
        <p:blipFill>
          <a:blip r:embed="rId2"/>
          <a:stretch/>
        </p:blipFill>
        <p:spPr>
          <a:xfrm>
            <a:off x="19080" y="1414440"/>
            <a:ext cx="9015480" cy="3693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1"/>
          <p:cNvSpPr/>
          <p:nvPr/>
        </p:nvSpPr>
        <p:spPr>
          <a:xfrm>
            <a:off x="270000" y="5695920"/>
            <a:ext cx="8753400" cy="223920"/>
          </a:xfrm>
          <a:prstGeom prst="rect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430200" y="5106960"/>
            <a:ext cx="8462880" cy="681120"/>
            <a:chOff x="430200" y="5106960"/>
            <a:chExt cx="8462880" cy="681120"/>
          </a:xfrm>
        </p:grpSpPr>
        <p:sp>
          <p:nvSpPr>
            <p:cNvPr id="274" name="Rounded Rectangle 13"/>
            <p:cNvSpPr/>
            <p:nvPr/>
          </p:nvSpPr>
          <p:spPr>
            <a:xfrm>
              <a:off x="430200" y="5106960"/>
              <a:ext cx="8462880" cy="68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ounded Rectangle 5"/>
            <p:cNvSpPr/>
            <p:nvPr/>
          </p:nvSpPr>
          <p:spPr>
            <a:xfrm>
              <a:off x="495000" y="5140080"/>
              <a:ext cx="83329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8320" rIns="23832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3"/>
          <p:cNvSpPr/>
          <p:nvPr/>
        </p:nvSpPr>
        <p:spPr>
          <a:xfrm>
            <a:off x="682560" y="5164200"/>
            <a:ext cx="828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30.09.2016 г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b2e9d"/>
                </a:solidFill>
                <a:latin typeface="Arial"/>
              </a:rPr>
              <a:t>- Краен срок за кандидатства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633276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ология за приоритизиране на обектите на образователната инфраструктура на територията на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"/>
          <p:cNvPicPr/>
          <p:nvPr/>
        </p:nvPicPr>
        <p:blipFill>
          <a:blip r:embed="rId4"/>
          <a:stretch/>
        </p:blipFill>
        <p:spPr>
          <a:xfrm>
            <a:off x="0" y="1407960"/>
            <a:ext cx="91440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кретни бенефициенти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ъгласно приоритизиран списък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34920" y="1413000"/>
            <a:ext cx="90741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гласно Закона за предучилищното и училищното образование, обн. в ДВ бр.79 от 13.10.2015г., заварените до влизането в сила на закона професионални гимназ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ла от 01.08.2016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ансирани от Министерството на земеделието и храните, стават общин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3" name="Diagram 13" descr=""/>
          <p:cNvPicPr/>
          <p:nvPr/>
        </p:nvPicPr>
        <p:blipFill>
          <a:blip r:embed="rId4"/>
          <a:stretch/>
        </p:blipFill>
        <p:spPr>
          <a:xfrm>
            <a:off x="12600" y="1268280"/>
            <a:ext cx="9052200" cy="341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http://const.solinepro.ru/pushkinsky/upload/images/27f58e58238a3a7d2c2bb854baadb2b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60" y="4797360"/>
            <a:ext cx="55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партньори и резервни проек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108000" y="1413000"/>
            <a:ext cx="8856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тими партньори по Компонент 1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тими партньори по Компонент 2</a:t>
            </a:r>
            <a:r>
              <a:rPr b="1" lang="bg-BG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 за проекти с бенефициент МОН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: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, н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ият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ритор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а разположени държавни професионални училища в управление на МО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, ч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град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ни, които ползват държавните училища са собственост на съответната община (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на, Столична, Перник, Силистра и Сливен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 университет – гр.Соф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Професионалната гимназия по компютърни технологии и системи – гр. Правец“ и „Технологично училище Електронни системи“- гр. София, в чието управление са двете уч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Резервни проек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1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4 б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щин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2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3 б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 общинско и 12 към М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: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34920" y="1413000"/>
            <a:ext cx="90741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34920" y="1413000"/>
          <a:ext cx="9037800" cy="2736720"/>
        </p:xfrm>
        <a:graphic>
          <a:graphicData uri="http://schemas.openxmlformats.org/drawingml/2006/table">
            <a:tbl>
              <a:tblPr/>
              <a:tblGrid>
                <a:gridCol w="6481800"/>
                <a:gridCol w="2556000"/>
              </a:tblGrid>
              <a:tr h="77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д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 размер на финансовит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0% БФП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омпонент 1: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ионални училища, с направления „Ветеринарна медицина, Горско стопанство и Растениевъдство и животновъдство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249 110,00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омпонент 2: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ионални училища </a:t>
                      </a:r>
                      <a:r>
                        <a:rPr b="0" lang="bg-BG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 изключение на доминиращите направления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Ветеринарна медицина, Горско стопанство и Растениевъдство и животновъдство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 229 770,52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3"/>
          <p:cNvSpPr/>
          <p:nvPr/>
        </p:nvSpPr>
        <p:spPr>
          <a:xfrm>
            <a:off x="23760" y="4267080"/>
            <a:ext cx="90392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e9d"/>
                </a:solidFill>
                <a:latin typeface="Arial"/>
              </a:rPr>
              <a:t>Максимален размер на БФП (100%) за проектно предложение, включващо един обект на интервен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1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300 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2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ъгласно максималната прогнозна стойност н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сяка професионална гимназия, посочена в Насоките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34136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-17640" y="1413000"/>
            <a:ext cx="910908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28% от размера на БФП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определе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бенефициент, въз основа на процента на етапната цел на ниво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сертифицирани средства към края на 2018 г.) към бюджета на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179280" y="2924280"/>
          <a:ext cx="8812440" cy="1296720"/>
        </p:xfrm>
        <a:graphic>
          <a:graphicData uri="http://schemas.openxmlformats.org/drawingml/2006/table">
            <a:tbl>
              <a:tblPr/>
              <a:tblGrid>
                <a:gridCol w="3506760"/>
                <a:gridCol w="4059360"/>
                <a:gridCol w="12463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община Благоевград (БФП)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92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 2</a:t>
                      </a: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34920" y="1413000"/>
            <a:ext cx="90741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542880" indent="-361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троителство, реконструкция и ремо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държавни и общински професионални училища от национално и регионално значение, </a:t>
            </a:r>
            <a:r>
              <a:rPr b="0" lang="bg-BG" sz="1800" spc="-1" strike="noStrike">
                <a:solidFill>
                  <a:srgbClr val="0b2e9d"/>
                </a:solidFill>
                <a:latin typeface="Arial"/>
              </a:rPr>
              <a:t>включително прилежащото дворно пространство, както и прилежащите общежитията към тях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конструктивни обследвания на съответните сгради, подобряване на достъпа за хора с увреждания до образователните сгради като част от строително-монтажните работи, свързани с т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361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оставка и монтаж на оборудван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обзавеждане за горепосочените сгради/помещения, като част от цялостното им обновяв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венциите следва д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ключват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цялостно обновяване на съответните образователни институци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ключително прилежащите дворни пространства и доставка и монтаж на оборудване и обзавеждане, ако е приложимо).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 дейност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, които целят частични интервенции и/или самостоятелно внедряване на мерки за енергийна ефективн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0280" y="436572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108000" y="1446120"/>
            <a:ext cx="8856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, съответно инвестиционните проекти за обектите на интервенция, следва да включ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енергоспестяващи мерки, предписани в обследването за енергийна ефектив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. мерки за оползотворяване на възобновяеми енергийни източници (при доказана техническа осъществимост и икономическа целесъобразност)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сградата с нормативните изисквания за енергийна ефективност -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й-малко клас на енергопотребление „С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мерки, предписани в техническото обслед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55736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Dimitrova</cp:lastModifiedBy>
  <cp:lastPrinted>2015-05-05T13:25:48Z</cp:lastPrinted>
  <dcterms:modified xsi:type="dcterms:W3CDTF">2016-04-04T11:51:02Z</dcterms:modified>
  <cp:revision>1502</cp:revision>
  <dc:subject/>
  <dc:title>Diapositiva 1</dc:title>
</cp:coreProperties>
</file>