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FE87-D06D-4A35-852D-D8537D132514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4DCE-394A-4985-A8E7-13B25648118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венции върху административни сгради на общинската и държавната администрация са допустими за финансиране в рамките на зоните за въздействие на ИПГВР, на 39-те града, одобрен от УО на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и върху многофамилни жилищни сгради и студентски общежития са допустими извън зоните за въздействие, но в рамките на строителните граници на 39-те гра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ите предложения следва да включват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енергоспестяващи мерк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едписани в обследването за енергийна ефективност, в т.ч. мерки за оползотворяване на възобновяеми енергийни източници (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а техническа осъществимост и икономическа целесъобразно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ито водят до съответствие на сградат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нормативните изисквания за енергийна ефективност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й-малко клас на енергопотребление „С“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имат пряк екологичен е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 отношение студентски общежития, интервенции са допустими само върху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удентски общежития, обслужващи държавни висши учебни заведения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 интервенции върху студентски общежития, конкретният бенефициент следва да кандидатства в партньорство със съответното държавно висше учебно заведение или юридическото лице, което управлява студентското общежитие, като се представ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артньорско споразумени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в свободен текст между стра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върху студенски общежития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 чрез комбинирано финансиране чрез БФП и финансови инструменти, създадени по линия на ОПРР 2014-2020 г.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Финансирането ще се осъществява с водещата роля на организацията, изпълняваща финансови инструменти (фонд), избрани от Фонд на фондовете, създаден към министъра на финансите, и по ред и при условия, различни от тези за финансиране на проекти с БФП. Фондът ще има ангажимент да определи както подкрепата по линия на финансовия инструмент, така и необходимия размер на 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и интервенции върху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нкретният бенефициент следва да подаде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дно общо проектно предложен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ключени всички предвидени сгради. Допустими са интервенции      върху следните видове многофамилни жилищни сг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(масивни сгради), проектирани преди 26 април 1999 г. в 39-те града от 1-во до 3-то йерархично ниво, които са извън обхвата на Националната програма за енергийна ефективност на многофамилни жилищни сгра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до 36 самостоятелни обекта с жилищно предназначение, строени по индустриален способ: ЕПЖС (едропанелно жилищно строителство); ППП (пакетно-повдигани плочи); ЕПК (едроплощен кофраж); пълзящ кофраж и разновидностите им в 39-те града от 1-во до 3-то йерархично ниво, които са извън обхвата на Националната програма за енергийна ефективност на многофамилни жилищни сг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07BE-6682-40CD-8F69-8DD6F3CC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CDD-B2AF-4978-8CC2-4AD30E96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B0D-DC35-4B1D-8810-0DE0E544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1A72-5A61-4EDE-830A-B45AA9FE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AB39-E71A-4FFD-857E-3E543D6D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082E-5A1C-48E8-A857-734E715D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FC63-4648-4580-A9F5-7B57664F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840E-0D24-4C57-A2D7-BD3D31C5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7C0F-FD95-4CB5-AC02-20FB6D45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EC7F-2EB1-4797-AB01-86A09B0D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3046-6EE2-4A3B-9BD3-BA0E6EFA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F66-7DC9-4E7C-8E10-883E166E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8E69-A259-434B-871C-D30F881E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E61C-FFF5-4BB8-99D2-D9DA0F7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11B7-4CA3-4E7A-A159-60B94E50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6178-A6FD-4546-B37F-74CA121A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975E-4D57-42E9-A5DE-A343F647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2ACA7-4AEA-4461-BFCB-7A9B263BE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84644-E5DF-46C1-A852-5C4C9EA9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FDD14-9413-44F0-B21C-EAE21EC8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78A53-90C8-461B-AFDE-606F0615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A0CD-8B8B-48A7-8133-EC08784F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A20-DAEF-412B-AE2E-81BC2EDE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1E445-6179-439D-87CB-4845A60A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B5B19-7631-4700-8CF6-A678FD92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F033-C39D-4DC9-B4FA-913644D1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AB811-87B9-4A08-A90F-B52AB670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74192-FF08-4C82-BD9B-D50E7A7F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18560-8B0A-4D89-BFC7-6E7235E3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D310D-52CF-4015-A402-CEF66427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B9AF1-BC27-4FE4-B4B5-F225F8DF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A489C-DCFC-4EFC-B2E9-9A6010B5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155B8-66B7-4189-AEBF-EE417A9B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C1C1-DB91-4254-B847-85CD904F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51C88-7280-4FA9-918D-09150DEE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A0E1F-BFBF-4230-AC10-A124CE67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8E82D-DCA3-4F7C-B7ED-486585D2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97E48-F524-4820-8141-7F23C5FC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D8851-6939-426D-B5D4-07C8A254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C2B36-E49A-4B70-9DE5-C20F7067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101A2-544A-4214-B8FB-F3156FF2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50CBE-58F2-4F44-AB0A-7D48F532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BE60E-4840-42EE-89B0-27F4EBB3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D619A-042F-4583-9439-18BCBF3B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B6B-82F9-4D0D-AD31-6E0C7DFA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F031A-919E-4EBA-9EF4-B22C4D29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49A03-4C5F-4D40-94D3-38B0A578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777D7-C120-4283-8FE1-6C13436B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0554-BE7F-4009-81BE-9DE89A89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06009-CAAC-412D-94EB-2B732525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45EB6-357E-41BA-A77B-2ECF61A9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8AD5E-0978-4C6A-B22F-DCFB1CF1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CAEF4-BA4E-4C00-9168-8B16EC2A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46405-1A1C-4763-8567-DD67022A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6DBF0-60FE-47E1-8FE4-E5865B7C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702-2F1E-4A2A-97E8-8E14EDC9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94114-6730-499E-AD93-852E9A53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59A50-0B05-42B3-BF1C-00DCD342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8B324-139E-4F47-BD72-D1E9D5A1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010EF-6705-4A8E-8C1B-45C31A58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0D083-9C6A-4630-B776-3B7CED22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E1F30-FBE3-485E-B847-5A666B21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1DA13-0240-4DDE-A840-58144F3A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BD2C7-8298-4512-92D9-0617A254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0F43C-ECAC-4CCD-8912-11693637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6C6D7-483F-4BAD-9B50-A7ABBD38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794-82FC-4162-984B-34B2176C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CEBDD-8ADA-4FFC-9714-47B37AAA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8B5D4-9F1F-438F-B988-8DB981E1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89DFF-1ED9-4D94-B8F9-15444C7E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0E9-9770-4FC7-B225-7DD05253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B7F6-F81F-4FC5-ACBD-E3C39E0B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0DD4-F971-4470-A355-011CDEA2F38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CE8C-3019-46E7-9B28-BC15DA56A6B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867E-3EE4-4A11-B1B9-493FC17CD84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F2B7-D244-48E2-8061-98022CE88BA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D752-3BB6-4956-9051-8C0EC2DB067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D937-A3DB-4C48-A789-43CA5F3D201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hyperlink" Target="http://www.google.bg/url?sa=i&amp;rct=j&amp;q=&amp;esrc=s&amp;source=images&amp;cd=&amp;ved=0ahUKEwib85TY8ezLAhXK8RQKHTXwAdMQjRwIBw&amp;url=http://www.pushkinsky.net/novosti/i/konstruktivniy-reznoy-rukovoditel-iz-hrustalya/&amp;psig=AFQjCNGmJaxNBoP4ilVPyuxP7kmmSe9TeA&amp;ust=1459581145938728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hyperlink" Target="http://www.google.bg/url?sa=i&amp;rct=j&amp;q=&amp;esrc=s&amp;source=images&amp;cd=&amp;ved=0ahUKEwib85TY8ezLAhXK8RQKHTXwAdMQjRwIBw&amp;url=http://www.pushkinsky.net/novosti/i/konstruktivniy-reznoy-rukovoditel-iz-hrustalya/&amp;psig=AFQjCNGmJaxNBoP4ilVPyuxP7kmmSe9TeA&amp;ust=1459581145938728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hyperlink" Target="http://www.google.bg/url?sa=i&amp;rct=j&amp;q=&amp;esrc=s&amp;source=images&amp;cd=&amp;ved=0ahUKEwib85TY8ezLAhXK8RQKHTXwAdMQjRwIBw&amp;url=http://www.pushkinsky.net/novosti/i/konstruktivniy-reznoy-rukovoditel-iz-hrustalya/&amp;psig=AFQjCNGmJaxNBoP4ilVPyuxP7kmmSe9TeA&amp;ust=1459581145938728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hyperlink" Target="http://www.google.bg/url?sa=i&amp;rct=j&amp;q=&amp;esrc=s&amp;source=images&amp;cd=&amp;ved=0ahUKEwib85TY8ezLAhXK8RQKHTXwAdMQjRwIBw&amp;url=http://www.pushkinsky.net/novosti/i/konstruktivniy-reznoy-rukovoditel-iz-hrustalya/&amp;psig=AFQjCNGmJaxNBoP4ilVPyuxP7kmmSe9TeA&amp;ust=1459581145938728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hyperlink" Target="http://www.google.bg/url?sa=i&amp;rct=j&amp;q=&amp;esrc=s&amp;source=images&amp;cd=&amp;ved=0ahUKEwib85TY8ezLAhXK8RQKHTXwAdMQjRwIBw&amp;url=http://www.pushkinsky.net/novosti/i/konstruktivniy-reznoy-rukovoditel-iz-hrustalya/&amp;psig=AFQjCNGmJaxNBoP4ilVPyuxP7kmmSe9TeA&amp;ust=1459581145938728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8"/>
          <p:cNvSpPr/>
          <p:nvPr/>
        </p:nvSpPr>
        <p:spPr>
          <a:xfrm>
            <a:off x="5435640" y="609300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179280" y="3905280"/>
            <a:ext cx="554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Процедура BG16RFOP001-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.00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  „ПОДКРЕПА ЗА ПРОФЕСИОНАЛНИТЕ УЧИЛИЩА В РЕПУБЛИКА БЪЛГАРИЯ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Информационен ден – гр. Соф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06.04.2016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70"/>
          <p:cNvSpPr/>
          <p:nvPr/>
        </p:nvSpPr>
        <p:spPr>
          <a:xfrm>
            <a:off x="331920" y="1989000"/>
            <a:ext cx="8513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1c1c1c"/>
                </a:solidFill>
                <a:latin typeface="Sylfaen"/>
              </a:rPr>
              <a:t>МИНИСТЕРСТВО НА РЕГИОНАЛНОТО РАЗВИТИЕ И БЛАГОУСТРОЙСТВО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Sylfaen"/>
              </a:rPr>
              <a:t>ГЛАВНА ДИРЕКЦИЯ „ПРОГРАМИРАНЕ НА РЕГИОНАЛНОТО РАЗВИТ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Специфични изисквания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ontent Placeholder 2"/>
          <p:cNvSpPr/>
          <p:nvPr/>
        </p:nvSpPr>
        <p:spPr>
          <a:xfrm>
            <a:off x="0" y="1317600"/>
            <a:ext cx="907272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22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йностите по проектите следв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д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не са физически завършени или изцяло осъществени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еди подаване на съответното проектно пред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всяка образователна институция трябва да бъде приложе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Декларация от Министъра на образованието и науката или Решение на Общинския съвет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й на общинска собственост)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чрез което да се декларира, че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редназначението на сградите, обект на интервенция по проекта, няма да бъде променяно за период не по-малък от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5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 години след приключване на дейностите по проекта, както и че с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ъответната образователна институция няма да бъде закрита за период не по-малък от 5 години след приключване на дейностите по проек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Декларация от ръководството на образователната институция,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че е съгласно с предложения проект, вкл. и с конкретното проектно решение, както и че ще съдейства за реализиране на проекта в съответствие със своите задължения и компетенции, вкл. и по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отношение на гарантиране на устойчивостта на инвестициите и опазване на обек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2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1" descr="http://const.solinepro.ru/pushkinsky/upload/images/27f58e58238a3a7d2c2bb854baadb2b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1440000"/>
            <a:ext cx="639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ontent Placeholder 2"/>
          <p:cNvSpPr/>
          <p:nvPr/>
        </p:nvSpPr>
        <p:spPr>
          <a:xfrm>
            <a:off x="0" y="1413000"/>
            <a:ext cx="905832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09640" indent="-181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ценка на конкретния бенефициент в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рамките на 1 проектно предложение могат да бъдат включени няколко образователни институции по съответния компонент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за които отговаря конкретния бенефициент. В този случай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аксималният размер на БФП по проекта се определя в зависимост от броя образователни институции, включени в н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9640" indent="-181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1 проектно предложение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не могат да се включват професионални училища, които попадат в различни компонен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9640" indent="-181080" algn="just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отделните компонент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ва да се подават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отделни проектн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9640" indent="-181080" algn="just">
              <a:spcBef>
                <a:spcPts val="601"/>
              </a:spcBef>
              <a:spcAft>
                <a:spcPts val="6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9640" indent="-181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"/>
          <p:cNvPicPr/>
          <p:nvPr/>
        </p:nvPicPr>
        <p:blipFill>
          <a:blip r:embed="rId4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8"/>
          <p:cNvSpPr/>
          <p:nvPr/>
        </p:nvSpPr>
        <p:spPr>
          <a:xfrm>
            <a:off x="1332000" y="33336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Специфични изисквания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2" descr="http://const.solinepro.ru/pushkinsky/upload/images/27f58e58238a3a7d2c2bb854baadb2b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280" y="2743200"/>
            <a:ext cx="640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ontent Placeholder 2"/>
          <p:cNvSpPr/>
          <p:nvPr/>
        </p:nvSpPr>
        <p:spPr>
          <a:xfrm>
            <a:off x="-14400" y="129384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 всеки обект на интервенция задължително се представ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бследване за енергийна ефективнос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валиден сертифика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енергийни характеристики на сграда в експлоа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бследване за установяване на техническите характеристик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свързани с удовлетворяване на изискванията по чл.169, ал.1, т.1–5 и ал.2 от ЗУТ и технически па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еклара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 зависимост от степента на проектна готовност на всеки обект (сграда)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че в инвестиционния проект са/ще бъдат включе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ички задължителни ЕСМ, включени в енергийното обследв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ички задължителни мерки, включени в техническото обследв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-ефективният пакет от ЕСМ, с който се постига най-малко клас на енергопотребление «С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ички необходими мерки за осигуряване на достъпна архитектурна ср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1332000" y="33336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 и проектна гото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ектна гото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Content Placeholder 2"/>
          <p:cNvSpPr/>
          <p:nvPr/>
        </p:nvSpPr>
        <p:spPr>
          <a:xfrm>
            <a:off x="684360" y="1378080"/>
            <a:ext cx="8388360" cy="45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Техническият/работният проект няма да бъде предмет на оценка и в тази връзка не се представя на етапа на кандидатстване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случай, че на етапа на кандидатстване няма инвестици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 проект в пълна проектна готовност (вкл. разрешение за строеж), предвидените дейности следва да се основават н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хема/архитектурен план, заверен от главния архитект на общината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(не се представя на етапа на кандидатстване).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дълж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бенефициент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е д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ъхраня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нвестиционния проект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целия му наличен обем и свързаната с него налична документация (съгласувания, одобрения и разрешения и др., вкл. обследване за енергийна ефективност, валиден сертификат за енергийни характеристики, обследване за установяване на техническите характеристики),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която се представя на етапа на верификация на разход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случай че на етапа на верификация бъдат установен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азходи за СМР върху собственост, различна от тази на бенефициента/партньор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както и недопустими разходи съгласно Насоките за кандидатстване, тези разходи няма да се финансират чрез БФП и ще се поемат като собствен принос на бенефициен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83" name="Right Arrow 2"/>
          <p:cNvSpPr/>
          <p:nvPr/>
        </p:nvSpPr>
        <p:spPr>
          <a:xfrm>
            <a:off x="0" y="1413000"/>
            <a:ext cx="758880" cy="484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ight Arrow 11"/>
          <p:cNvSpPr/>
          <p:nvPr/>
        </p:nvSpPr>
        <p:spPr>
          <a:xfrm>
            <a:off x="0" y="2276640"/>
            <a:ext cx="758880" cy="48564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ight Arrow 12"/>
          <p:cNvSpPr/>
          <p:nvPr/>
        </p:nvSpPr>
        <p:spPr>
          <a:xfrm>
            <a:off x="0" y="3429000"/>
            <a:ext cx="758880" cy="484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ight Arrow 13"/>
          <p:cNvSpPr/>
          <p:nvPr/>
        </p:nvSpPr>
        <p:spPr>
          <a:xfrm>
            <a:off x="0" y="5013360"/>
            <a:ext cx="758880" cy="484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Content Placeholder 2"/>
          <p:cNvSpPr/>
          <p:nvPr/>
        </p:nvSpPr>
        <p:spPr>
          <a:xfrm>
            <a:off x="0" y="1298520"/>
            <a:ext cx="907272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ране и авторски надзор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– до 5% от стойността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МР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финансиран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от БФП, одобрена на етапа на кандидатстван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прилага при инженеринг (проектиране+авт.надзор+СМ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М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рамките на общата стойност на СМР могат да се включат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епредвидени разходи до 10% от общата стойност на СМР, финансирани от БФП по проект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ри инженеринг –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са допустим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предвидени разходи за СМ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ителен надз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 5% от разходите за СМР, финансирани от БФП, одобрена на етапа на кандидат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на съответствие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инвестиционните проекти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 5% от стойността на разходите за проектиране и авторски надзор, финансирани от БФП, одобрени на етапа на кандидатстван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!!!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инженеринг – разходите за строителен надзор и оценка на съответствието са общо до 5% от стойността на инженерин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(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ntent Placeholder 2"/>
          <p:cNvSpPr/>
          <p:nvPr/>
        </p:nvSpPr>
        <p:spPr>
          <a:xfrm>
            <a:off x="0" y="1436760"/>
            <a:ext cx="90727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, свързани с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авяне на необходими разрешителни документи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свързаните с тях такси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, както и з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въвеждането на обекта в експлоатация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извършване н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ледване за енергийна ефективност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сертификат за актуално състояние,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бследване за установяване на техническите характеристики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сград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доставка на оборудване/обзавеждане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уги, пряко свързани с проекта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и които са необходими за неговата подготовка и изпълнение, като инженерни, технически изследвания, геоложки/геодезически проучвания, за предпроектни проучвания, ОВОС и д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Допустими разходи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Content Placeholder 2"/>
          <p:cNvSpPr/>
          <p:nvPr/>
        </p:nvSpPr>
        <p:spPr>
          <a:xfrm>
            <a:off x="0" y="141300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азходи за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публичност и визуализация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0000"/>
                </a:solidFill>
                <a:latin typeface="Arial"/>
              </a:rPr>
              <a:t>до 1% от общите преки допустими разходи, финансирани от безвъзмездната финансова помощ по проекта</a:t>
            </a:r>
            <a:r>
              <a:rPr b="0" lang="bg-BG" sz="19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и управление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за </a:t>
            </a:r>
            <a:r>
              <a:rPr b="0" i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възнаграждения за екипите за управление и изпълнение на проектните предложения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  <a:ea typeface="Times New Roman"/>
              </a:rPr>
              <a:t>до 2% общите преки допустими разходи, финансирани от БФП по проек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АЖНО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ходи за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онсултантски услуги за попълване на формуляра за кандидатстване и приложенията към него, както и за подготовка на документация за възлагане на обществени поръчк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не са допустими за финанси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http://const.solinepro.ru/pushkinsky/upload/images/27f58e58238a3a7d2c2bb854baadb2b2.jpg"/>
          <p:cNvPicPr/>
          <p:nvPr/>
        </p:nvPicPr>
        <p:blipFill>
          <a:blip r:embed="rId4"/>
          <a:stretch/>
        </p:blipFill>
        <p:spPr>
          <a:xfrm>
            <a:off x="179280" y="4149720"/>
            <a:ext cx="639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рок за кандидатст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ontent Placeholder 2"/>
          <p:cNvSpPr/>
          <p:nvPr/>
        </p:nvSpPr>
        <p:spPr>
          <a:xfrm>
            <a:off x="0" y="1413000"/>
            <a:ext cx="9072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3880" indent="-2638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0000"/>
                </a:solidFill>
                <a:latin typeface="Arial"/>
              </a:rPr>
              <a:t>Проектни предложения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могат да бъдат подавани текущо до </a:t>
            </a:r>
            <a:r>
              <a:rPr b="1" lang="bg-BG" sz="19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30 септември 2016 г., 19:00 ч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андидатстване -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зцяло по </a:t>
            </a:r>
            <a:r>
              <a:rPr b="0" lang="ru-RU" sz="1900" spc="-1" strike="noStrike">
                <a:solidFill>
                  <a:srgbClr val="ff0000"/>
                </a:solidFill>
                <a:latin typeface="Arial"/>
              </a:rPr>
              <a:t>електронен път чрез Модула за електронни услуги на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„ИСУН 2020“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(https://eumis2020.government.bg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/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Разяснения по Насоките за кандидатстване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</a:rPr>
              <a:t>могат да се искат до 21 дни преди крайния срок за подаване на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проектни предложения. УО отговаря на въпросите в срок до 7 работни дни от получаването им, но не по-късно от 11 дни преди крайния срок за подаване на проектни предложения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ff0000"/>
                </a:solidFill>
                <a:latin typeface="Arial"/>
              </a:rPr>
              <a:t>Отговори на въпроси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- публикуват се на сайта на ОПРР и в ИСУН 2020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Публикуваните отговори на въпроси представляват </a:t>
            </a:r>
            <a:r>
              <a:rPr b="1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официално становище на Управляващия орган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и трябва да бъдат взимани под внимание от кандидата при изготвяне на документацията за кандидатстван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Оценка на проектн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Content Placeholder 2"/>
          <p:cNvSpPr/>
          <p:nvPr/>
        </p:nvSpPr>
        <p:spPr>
          <a:xfrm>
            <a:off x="0" y="141300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ото предложение се оценява в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ъответствие с критериите, одобрени от Комитета за наблюдение на ОПРР 2014-2020 г.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зцяло по електронен пъ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ектните предложения се оценяват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без сформиране на оценителна комис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Веднага след получаването на проектно предложение, УО ще стартира процедура по неговата оценка. Оценката на проектното предложение се документира чрез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попълване на контролен лист и включва оценка на административното съответствие, допустимостта и техническо и финансово ка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установяване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епълноти и/или несъответствия на документит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УО изпраща на бенефициента уведомление за установените несъответствия 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пределя срок за тяхното отстраня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ВАЖНО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Content Placeholder 2"/>
          <p:cNvSpPr/>
          <p:nvPr/>
        </p:nvSpPr>
        <p:spPr>
          <a:xfrm>
            <a:off x="611280" y="1322280"/>
            <a:ext cx="8461440" cy="47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ро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 3 месец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датата на влизане в сила на договора за БФП след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а са обявени всички процедури за избор на изпълнител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проекта. Неспазването на срока дава право на УО </a:t>
            </a:r>
            <a:r>
              <a:rPr b="1" lang="ru-RU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едностранно и без предизвестие да прекрати догово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БФ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ро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о 12 месец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 влизане в сила на договора за БФП след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а бъдат сключени всички договори за обществени поръч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 изпълнители за дейности по проекта. Неспазването на срока дава право на УО </a:t>
            </a:r>
            <a:r>
              <a:rPr b="1" lang="ru-RU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едностранно и без предизвестие да прекрати догово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БФ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15.04.2016 г. влиза в сила новия ЗО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0b2e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Резервните обек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гат да бъдат подадени </a:t>
            </a:r>
            <a:r>
              <a:rPr b="1" lang="ru-RU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при наличие на финансов ресур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съответния компон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лед финансиране на основните обек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При равен брой точки на една част от резервните обекти, същите могат да бъдат включени в проектни предложения само след наличие/освобождаване на средства по компонента, достатъчни за финансиране на съответната група училища с равен брой т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1" descr="http://const.solinepro.ru/pushkinsky/upload/images/27f58e58238a3a7d2c2bb854baadb2b2.jpg"/>
          <p:cNvPicPr/>
          <p:nvPr/>
        </p:nvPicPr>
        <p:blipFill>
          <a:blip r:embed="rId4"/>
          <a:stretch/>
        </p:blipFill>
        <p:spPr>
          <a:xfrm>
            <a:off x="44280" y="2781360"/>
            <a:ext cx="640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цедура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BG16RFOP001-3.002 „Подкрепа за професионалните училища в РБългария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Diagram 2" descr=""/>
          <p:cNvPicPr/>
          <p:nvPr/>
        </p:nvPicPr>
        <p:blipFill>
          <a:blip r:embed="rId2"/>
          <a:stretch/>
        </p:blipFill>
        <p:spPr>
          <a:xfrm>
            <a:off x="19080" y="1414440"/>
            <a:ext cx="9015480" cy="36939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"/>
          <p:cNvPicPr/>
          <p:nvPr/>
        </p:nvPicPr>
        <p:blipFill>
          <a:blip r:embed="rId4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1"/>
          <p:cNvSpPr/>
          <p:nvPr/>
        </p:nvSpPr>
        <p:spPr>
          <a:xfrm>
            <a:off x="270000" y="5695920"/>
            <a:ext cx="8753400" cy="223920"/>
          </a:xfrm>
          <a:prstGeom prst="rect">
            <a:avLst/>
          </a:prstGeom>
          <a:solidFill>
            <a:srgbClr val="ffffff">
              <a:alpha val="90000"/>
            </a:srgbClr>
          </a:solidFill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2"/>
          <p:cNvGrpSpPr/>
          <p:nvPr/>
        </p:nvGrpSpPr>
        <p:grpSpPr>
          <a:xfrm>
            <a:off x="430200" y="5106960"/>
            <a:ext cx="8462880" cy="681120"/>
            <a:chOff x="430200" y="5106960"/>
            <a:chExt cx="8462880" cy="681120"/>
          </a:xfrm>
        </p:grpSpPr>
        <p:sp>
          <p:nvSpPr>
            <p:cNvPr id="274" name="Rounded Rectangle 13"/>
            <p:cNvSpPr/>
            <p:nvPr/>
          </p:nvSpPr>
          <p:spPr>
            <a:xfrm>
              <a:off x="430200" y="5106960"/>
              <a:ext cx="8462880" cy="68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ounded Rectangle 5"/>
            <p:cNvSpPr/>
            <p:nvPr/>
          </p:nvSpPr>
          <p:spPr>
            <a:xfrm>
              <a:off x="495000" y="5140080"/>
              <a:ext cx="833292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8320" rIns="238320" tIns="0" bIns="0" anchor="ctr">
              <a:noAutofit/>
            </a:bodyPr>
            <a:p>
              <a:pPr>
                <a:lnSpc>
                  <a:spcPct val="90000"/>
                </a:lnSpc>
                <a:spcAft>
                  <a:spcPts val="1488"/>
                </a:spcAft>
                <a:tabLst>
                  <a:tab algn="l" pos="0"/>
                  <a:tab algn="l" pos="1511280"/>
                  <a:tab algn="l" pos="3022560"/>
                  <a:tab algn="l" pos="4533840"/>
                  <a:tab algn="l" pos="6045120"/>
                  <a:tab algn="l" pos="7556400"/>
                  <a:tab algn="l" pos="9067680"/>
                  <a:tab algn="l" pos="10578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Rectangle 3"/>
          <p:cNvSpPr/>
          <p:nvPr/>
        </p:nvSpPr>
        <p:spPr>
          <a:xfrm>
            <a:off x="682560" y="5164200"/>
            <a:ext cx="8280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Arial"/>
              </a:rPr>
              <a:t>30.09.2016 г.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b2e9d"/>
                </a:solidFill>
                <a:latin typeface="Arial"/>
              </a:rPr>
              <a:t>- Краен срок за кандидатстван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1042920" y="1844640"/>
            <a:ext cx="727416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еница Ник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местник-министър на регионалното развитие и благоустройството и Ръководител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633276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етодология за приоритизиране на обектите на образователната инфраструктура на територията на Република Бълга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83" name="Content Placeholder 7" descr=""/>
          <p:cNvPicPr/>
          <p:nvPr/>
        </p:nvPicPr>
        <p:blipFill>
          <a:blip r:embed="rId4"/>
          <a:stretch/>
        </p:blipFill>
        <p:spPr>
          <a:xfrm>
            <a:off x="0" y="1407960"/>
            <a:ext cx="914400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онкретни бенефициенти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ъгласно приоритизиран списък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ontent Placeholder 2"/>
          <p:cNvSpPr/>
          <p:nvPr/>
        </p:nvSpPr>
        <p:spPr>
          <a:xfrm>
            <a:off x="34920" y="1413000"/>
            <a:ext cx="907416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ажно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гласно Закона за предучилищното и училищното образование, обн. в ДВ бр.79 от 13.10.2015г., заварените до влизането в сила на закона професионални гимнази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ила от 01.08.2016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нансирани от Министерството на земеделието и храните, стават общин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93" name="Diagram 13" descr=""/>
          <p:cNvPicPr/>
          <p:nvPr/>
        </p:nvPicPr>
        <p:blipFill>
          <a:blip r:embed="rId4"/>
          <a:stretch/>
        </p:blipFill>
        <p:spPr>
          <a:xfrm>
            <a:off x="12600" y="1268280"/>
            <a:ext cx="9052200" cy="3419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http://const.solinepro.ru/pushkinsky/upload/images/27f58e58238a3a7d2c2bb854baadb2b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60" y="4797360"/>
            <a:ext cx="5587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опустими партньори и резервни проек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2"/>
          <p:cNvSpPr/>
          <p:nvPr/>
        </p:nvSpPr>
        <p:spPr>
          <a:xfrm>
            <a:off x="108000" y="1413000"/>
            <a:ext cx="8856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 algn="just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Допустими партньори по Компонент 1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я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Допустими партньори по Компонент 2</a:t>
            </a:r>
            <a:r>
              <a:rPr b="1" lang="bg-BG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 за проекти с бенефициент МОН</a:t>
            </a:r>
            <a:r>
              <a:rPr b="1" lang="ru-RU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: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ин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, н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чият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територ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са разположени държавни професионални училища в управление на МО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й, ч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гради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ени, които ползват държавните училища са собственост на съответната община (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на, Столична, Перник, Силистра и Сливен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Технически университет – гр.Соф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Професионалната гимназия по компютърни технологии и системи – гр. Правец“ и „Технологично училище Електронни системи“- гр. София, в чието управление са двете учил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2e9d"/>
                </a:solidFill>
                <a:latin typeface="Arial"/>
                <a:ea typeface="Times New Roman"/>
              </a:rPr>
              <a:t>Резервни проек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1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4 б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бщинс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2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3 б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 общинско и 12 към М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оритетна ос 3: „Регионална образователна инфраструктура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34920" y="1413000"/>
            <a:ext cx="90741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"/>
          <p:cNvGraphicFramePr/>
          <p:nvPr/>
        </p:nvGraphicFramePr>
        <p:xfrm>
          <a:off x="34920" y="1413000"/>
          <a:ext cx="9037800" cy="2736720"/>
        </p:xfrm>
        <a:graphic>
          <a:graphicData uri="http://schemas.openxmlformats.org/drawingml/2006/table">
            <a:tbl>
              <a:tblPr/>
              <a:tblGrid>
                <a:gridCol w="6481800"/>
                <a:gridCol w="2556000"/>
              </a:tblGrid>
              <a:tr h="776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цед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 размер на финансовите 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00% БФП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омпонент 1: </a:t>
                      </a: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есионални училища, с направления „Ветеринарна медицина, Горско стопанство и Растениевъдство и животновъдство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 249 110,00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компонент 2:</a:t>
                      </a: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фесионални училища </a:t>
                      </a:r>
                      <a:r>
                        <a:rPr b="0" lang="bg-BG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с изключение на доминиращите направления </a:t>
                      </a: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„Ветеринарна медицина, Горско стопанство и Растениевъдство и животновъдство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3 229 770,52 л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Rectangle 3"/>
          <p:cNvSpPr/>
          <p:nvPr/>
        </p:nvSpPr>
        <p:spPr>
          <a:xfrm>
            <a:off x="23760" y="4267080"/>
            <a:ext cx="903924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2e9d"/>
                </a:solidFill>
                <a:latin typeface="Arial"/>
              </a:rPr>
              <a:t>Максимален размер на БФП (100%) за проектно предложение, включващо един обект на интервен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1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 300 000 л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онент 2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ъгласно максималната прогнозна стойност на БФ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сяка професионална гимназия, посочена в Насоките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1341360" y="333360"/>
            <a:ext cx="5977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дивидуални цели към юни 2018 г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ontent Placeholder 2"/>
          <p:cNvSpPr/>
          <p:nvPr/>
        </p:nvSpPr>
        <p:spPr>
          <a:xfrm>
            <a:off x="-17640" y="1413000"/>
            <a:ext cx="9109080" cy="50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Индивидуална етапна цел за всеки бенефициен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верифицирани средства от УО на ОПРР до края на юни 2018 г.)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,28% от размера на БФП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определен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всеки бенефициент, въз основа на процента на етапната цел на ниво приоритетна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(сертифицирани средства към края на 2018 г.) към бюджета на приоритетна о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bg-BG" sz="18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 че бенефициент не е постигнал индивидуалната си етапна цел на верифицираните от УО на ОПРР средства до 30 юни 2018 г.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УО си запазва правото да ревизира определения общ ресурс на БФП (100%) за съответния бенефициен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размера на предоставената до момента БФП по сключените договори с размера на средствата, които не са постигнати като верифици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179280" y="2924280"/>
          <a:ext cx="8812440" cy="1296720"/>
        </p:xfrm>
        <a:graphic>
          <a:graphicData uri="http://schemas.openxmlformats.org/drawingml/2006/table">
            <a:tbl>
              <a:tblPr/>
              <a:tblGrid>
                <a:gridCol w="3506760"/>
                <a:gridCol w="4059360"/>
                <a:gridCol w="12463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община Благоевград (БФП), л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на цел - верифицирани до 30 юни 2018 г., л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4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 92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 2</a:t>
                      </a:r>
                      <a:r>
                        <a:rPr b="0" lang="bg-BG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опустими дей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Content Placeholder 2"/>
          <p:cNvSpPr/>
          <p:nvPr/>
        </p:nvSpPr>
        <p:spPr>
          <a:xfrm>
            <a:off x="34920" y="1413000"/>
            <a:ext cx="907416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542880" indent="-36180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троителство, реконструкция и ремонт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държавни и общински професионални училища от национално и регионално значение, </a:t>
            </a:r>
            <a:r>
              <a:rPr b="0" lang="bg-BG" sz="1800" spc="-1" strike="noStrike">
                <a:solidFill>
                  <a:srgbClr val="0b2e9d"/>
                </a:solidFill>
                <a:latin typeface="Arial"/>
              </a:rPr>
              <a:t>включително прилежащото дворно пространство, както и прилежащите общежитията към тях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конструктивни обследвания на съответните сгради, подобряване на достъпа за хора с увреждания до образователните сгради като част от строително-монтажните работи, свързани с т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36180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Доставка и монтаж на оборудван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обзавеждане за горепосочените сгради/помещения, като част от цялостното им обновява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Bef>
                <a:spcPts val="29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ВАЖНО: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венциите следва д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ключват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цялостно обновяване на съответните образователни институци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(включително прилежащите дворни пространства и доставка и монтаж на оборудване и обзавеждане, ако е приложимо). </a:t>
            </a: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Не са допустими  дейности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, които целят частични интервенции и/или самостоятелно внедряване на мерки за енергийна ефективно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53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http://const.solinepro.ru/pushkinsky/upload/images/27f58e58238a3a7d2c2bb854baadb2b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0280" y="4365720"/>
            <a:ext cx="639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Специфични изисквания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tent Placeholder 2"/>
          <p:cNvSpPr/>
          <p:nvPr/>
        </p:nvSpPr>
        <p:spPr>
          <a:xfrm>
            <a:off x="108000" y="1446120"/>
            <a:ext cx="88567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95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ВАЖНО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ите предложения, съответно инвестиционните проекти за обектите на интервенция, следва да включв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задължителни енергоспестяващи мерки, предписани в обследването за енергийна ефективност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в т.ч. мерки за оползотворяване на възобновяеми енергийни източници (при доказана техническа осъществимост и икономическа целесъобразност),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ито водят д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ъответствие на сградата с нормативните изисквания за енергийна ефективност -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ай-малко клас на енергопотребление „С“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задължителни мерки, предписани в техническото обслед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9532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1" descr="http://const.solinepro.ru/pushkinsky/upload/images/27f58e58238a3a7d2c2bb854baadb2b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1557360"/>
            <a:ext cx="639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svetelina Dimitrova</cp:lastModifiedBy>
  <cp:lastPrinted>2015-05-05T13:25:48Z</cp:lastPrinted>
  <dcterms:modified xsi:type="dcterms:W3CDTF">2016-04-04T11:51:02Z</dcterms:modified>
  <cp:revision>1502</cp:revision>
  <dc:subject/>
  <dc:title>Diapositiva 1</dc:title>
</cp:coreProperties>
</file>