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E48-2F50-4210-B542-244E68611C1D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AA92-D8BD-40B8-BEA1-4223CC31A13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0C9-EAFB-4374-8DA8-59F68FBC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9C7-7790-4309-AD69-271A8882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696-3246-4A9A-9F03-56D479AD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628-6762-44D2-88E8-D44F2470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2F4E-BB91-4A14-A9AD-B9F3B924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8A0C-94C7-4EDB-B324-275DB156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51E1-2B8F-4B08-A3F1-1E67934D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35B7-5ABD-45D0-A8D4-FEE39A4D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3F7F-77C9-4C8E-ABFE-04A1F28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D2AA-7D14-43DB-9B02-EAF11CEF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B8F2-D5EF-4D54-9895-F4A0179F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899-79D8-4B24-B7EC-293A833E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9710-3B1B-47A1-8BC2-6B2FFC8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952D-0D02-4FF5-B5A0-13E14E81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86D6-F9F3-4C79-9C16-4701FAE9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22EA-AE4F-45FA-9B36-2A7A295B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23F3-93E1-4396-9AC4-5B8331ED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9A28-665E-43B4-A44A-1BA5F8C6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5949-C234-45AF-90DD-11EDFF5E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BA59-804E-483D-A66A-EA0C6B98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8705-EEC8-4F90-99D3-D7CB5F86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5C99-620F-439C-B216-71F005E5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061-664D-4289-A995-9FAD5B5F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D4C9-1CF8-42B5-A560-2FAFA490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0D5B-8EA4-4F75-92C8-0B7E68FA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2E6D-F356-4AFB-A6C0-E449803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D9CE-CC72-4CFF-8BEC-1CC9C69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BDFF-C7AF-46DD-B944-A7808404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2C8D-B899-4C15-B8C2-E4C2C229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8FBB-6FB2-4AD0-95E6-C9CC5CEC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6C6-9EF4-4726-B91D-91B2F3E0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0D2-C0C0-4AC1-A245-A2EA25B6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1B6-8AFD-4713-955E-82E5065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C83-1545-449B-9112-56F8AC37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975-9EF0-4A39-9F89-4C48E198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724-B991-4CD9-9DFC-70557F3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B8E-54B6-4F53-8FFA-DA41B838663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604E-CF12-41A1-BEB0-4B4D86B3265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ADF6-9AEB-44CE-8E2F-A0FBCB01FAE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BG16RFOP001-4.002 „Регионална здравна инфраструктура - 2 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8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4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съгласно представеното КСС към 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представеното КСС, като в индикативните КСС бъдат добавени и разходите за проектиране и авторски надзор на об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8760" y="1528560"/>
            <a:ext cx="8569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ONIKA VALENTINOVA STOYANOVA</cp:lastModifiedBy>
  <cp:lastPrinted>2018-09-28T12:57:03Z</cp:lastPrinted>
  <dcterms:modified xsi:type="dcterms:W3CDTF">2020-04-24T10:06:11Z</dcterms:modified>
  <cp:revision>1575</cp:revision>
  <dc:subject/>
  <dc:title>Diapositiva 1</dc:title>
</cp:coreProperties>
</file>