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1CB9-605B-436F-AA81-9E1A175F0F68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7303-5EEC-4253-BA1D-778675F4C07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22BF-6989-4850-A3F6-00A1B0F5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B30-5696-469D-AC2A-8C582D0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905-B12D-4EF1-A3A3-84B825FF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162-DBAD-4C7A-8941-CCEDEA31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C093-A6C8-479F-9139-18ACD42E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842-A2FF-48AA-B5B4-0630094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9BDE-15D4-4260-81BF-D0DB0588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BBBF-D790-44D7-A37D-B32ED6AA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A4E5-A3AE-4CE0-8450-BFFB2AD1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5DAD-6335-4A60-B6BB-67173DF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542-EE5C-4003-AACB-1D8F7930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2C2-9275-444B-98C5-0576E9B5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3595-52C4-4F85-BB7B-600A99B0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0C7-1618-4F0E-B364-A74E3560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EE6B-876D-4601-9E39-DB9301A3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11FF-3D6B-44BD-8422-E7C70DC0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3E95-761A-43BB-9BC3-EF9F5069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1883-88CF-4C29-AA53-E1171F31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C9E1-885C-4814-A7CD-B792B87F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C2F7A-B4E2-4470-AF0D-15ED69AC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420F9-4470-4B68-A980-95B2E107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B58B9-B5F1-4961-BA7B-97BDC0D3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32F1-B297-4176-929B-50FA026F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6898-8E6F-4CA2-A377-BFE27256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E2760-D9C5-4711-8BEB-2B3595E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C630-4E5A-43B6-8792-D629E6C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A1A7-B6CC-4DDE-8C0A-90801195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8106-F583-4A38-95DD-A5E97513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F0FC6-B46F-4AFE-BBB8-4BCEB8E3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3AE4-C215-49B1-844D-94B2B21E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075-1149-4EA0-8FE8-AB612226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E88B-5F78-41D8-A465-7F577EEC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887-CCD8-4656-BBB7-ABAC0083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BA8-E6FF-4F71-B1E6-220AB49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B19-2C00-4486-A6AC-D9C00CB3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600-A02D-4DF2-A2D8-5C8AB7E9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ED53-48E4-406E-B966-641E2B40FDD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D917-1490-4784-88EB-6DC6174503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0B88-8946-4640-9976-3839D544835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4.002 „Регионална здравна инфраструктура - 2 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8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4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представеното КСС към 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представеното КСС, като в индикативните КСС бъдат добавени и разходите за проектиране и авторски надзор на об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8760" y="1528560"/>
            <a:ext cx="8569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ONIKA VALENTINOVA STOYANOVA</cp:lastModifiedBy>
  <cp:lastPrinted>2018-09-28T12:57:03Z</cp:lastPrinted>
  <dcterms:modified xsi:type="dcterms:W3CDTF">2020-04-24T10:06:11Z</dcterms:modified>
  <cp:revision>1575</cp:revision>
  <dc:subject/>
  <dc:title>Diapositiva 1</dc:title>
</cp:coreProperties>
</file>