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723-4756-4267-9BD5-E21D54016E75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8A4D-9D3F-4A3D-AA40-6FCB8386280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F3A-5148-4B7B-87AA-54726860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76C-67D6-40B2-9FA5-1558FB58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3B3-A5A7-4AA9-A8E2-037E962F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E10-BEB4-4C0F-B3A9-BDA67F87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902-FED8-4FFC-B4BE-8F200939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B0A1-E11C-4F5A-A2F3-F0FB1ACE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1B2-16D9-4C44-8E14-F66BA8B8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BDA-C52D-405E-8795-4520D3B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5CE7-944D-4F2D-91DA-FDDE64BB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F30-D651-43C1-A3FA-7B50F50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85A9-19FF-4E70-8300-3AF6FEA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E4D-D9C3-4CA3-B211-95924D2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DCD-2172-4A83-8FBE-F22770D4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075A-16B3-4AF2-B08C-A9E1A15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B4AA-58D0-478C-AB8B-15FD1CA1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24BA-1E46-43D7-A93D-976FDB6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67B-0B16-45DA-BEE1-DC99E440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CB78-E8C2-4864-8400-DF87D148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F52F-92A5-4706-857C-F59AC38A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E797-C5FF-4940-898D-D9C68443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B782-4B37-48D5-834A-A3FAE86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6BA4-3A36-4E32-AFC6-8794C50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586-055F-4D67-8814-97792D98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0DF5-E41B-408C-88F4-8E511A8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E7C9-F4BB-4BC5-82EB-16E33A6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4F2A-8275-473E-AC36-E37ADC3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D86B-7E34-4C95-AA28-0E8DADD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8713-0338-4F22-911F-DFE4107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09C2-A552-4148-A7E2-5043F723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139F-F117-4ADE-92A5-914C0FE0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99F-6BFE-4641-9045-743AF04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1DD-0112-41E1-923C-E75251A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0A5-1402-4B60-BDC0-94DF41F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0CF-FBFB-4137-A8D8-CDF38B7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B2D-0E01-46BD-94A5-7776CC3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864-E766-4CE2-92B3-7F112FC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0867-E9B4-42AF-8BB4-61BCAD599D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3CF2-D0F0-4C1E-9DB2-B8D4F4EF1A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0BA-17FF-425E-B778-3169A1487A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3.003 ”ПОДКРЕПА 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ИСШ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7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9T07:40:15Z</dcterms:modified>
  <cp:revision>1576</cp:revision>
  <dc:subject/>
  <dc:title>Diapositiva 1</dc:title>
</cp:coreProperties>
</file>