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C355D-AAFC-49BD-B60C-614AC13231CF}" type="slidenum"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7D5C7-43BE-4C32-AD96-704DF3FC9DE4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34E1-B8EF-47DB-BFE5-9F5A3B780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21E4-B445-4EEC-A566-F64902FA0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6262-3368-4AF6-9D2F-D9F7D8176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6199-D14B-4672-9FE8-47EFBBCD2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8741D-6FFF-4BD4-98E3-C86CEC882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DD5C6-DC0D-4740-9E06-E4B1902BF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2F40A-3F35-46A7-A351-B1D527CF9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D42F4-49F0-4174-9A0B-6D95E0C2A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399A7-1A3C-4CF0-9432-250A60F17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D1133-259E-47BD-98B2-23DA7CD1A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0D383-095D-45C7-86B1-9832AE05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3BF2-21F8-4CDC-8884-D9B043816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762B9-AAC2-4C8B-8AC8-B53BC30ED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FF6C2-2903-4606-B144-8E9E0BD0D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25085-FA84-491E-8585-9BD39B1AE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B42B2-FC10-4E23-9CBD-14701F61D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E162B-8CF6-442A-9CA8-38EA6A6CD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DFBAA-8A3F-4302-AAF5-FF659FDA8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E2DF4-9123-4652-B499-6E6F9F37C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7C557-57DA-4BB3-B21A-CC6ADB993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1C31A-9468-4518-8489-3E69A3095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C9E7C-4C4F-4CA6-8CA3-A6294D684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2C6B-050C-4FB9-BBDA-5BD67A835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CBECA-EEFA-448C-89C1-953FA1292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5AFEB-9B04-4111-80F4-1947681B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B0F5B-4005-4A56-A9EA-4E848BCF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CA319-67D2-48D2-890F-324A3C36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572EA-B2BC-4EA7-A981-AF74DECE7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E0D12-54F8-440E-8FD6-D3115F2C0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3C641-B76E-4959-BC26-DB17AC4E3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7876-4648-438C-BB6F-40F710ADC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3D9F-B56D-4045-B098-44BEA7CD8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B765-A1D9-4B91-A387-415890E58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0F7D-A9FB-47D2-B2C6-9C414BB0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9AE4-E826-4593-96B7-24AF91866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78F2-CF1B-4FCB-BCD5-1EB7F2788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678B4-754D-4B46-9E77-0A480EC6785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15320-5263-47DF-A8A6-6C670AC358B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20184-85A1-476F-8DD3-D9D753FD072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" descr=""/>
          <p:cNvPicPr/>
          <p:nvPr/>
        </p:nvPicPr>
        <p:blipFill>
          <a:blip r:embed="rId2"/>
          <a:stretch/>
        </p:blipFill>
        <p:spPr>
          <a:xfrm>
            <a:off x="270000" y="225360"/>
            <a:ext cx="1152360" cy="12240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3"/>
          <a:stretch/>
        </p:blipFill>
        <p:spPr>
          <a:xfrm>
            <a:off x="3693960" y="225360"/>
            <a:ext cx="1177920" cy="12160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8"/>
          <p:cNvSpPr/>
          <p:nvPr/>
        </p:nvSpPr>
        <p:spPr>
          <a:xfrm>
            <a:off x="5435640" y="6175440"/>
            <a:ext cx="372096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428292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179280" y="3905280"/>
            <a:ext cx="6193080" cy="24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Arial"/>
              </a:rPr>
              <a:t>ИНФОРМАЦИОННА СРЕЩА ПО ПРОЦЕДУР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Arial"/>
              </a:rPr>
              <a:t>BG16RFOP001-3.003 ”ПОДКРЕПА З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Arial"/>
              </a:rPr>
              <a:t>ВИСШИТЕ УЧИЛИЩА В РЕПУБЛИКА БЪЛГАРИЯ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bg-BG" sz="2200" spc="-1" strike="noStrike">
                <a:solidFill>
                  <a:srgbClr val="0070c0"/>
                </a:solidFill>
                <a:latin typeface="Arial"/>
              </a:rPr>
              <a:t>гр. София, </a:t>
            </a:r>
            <a:r>
              <a:rPr b="1" i="1" lang="en-US" sz="2200" spc="-1" strike="noStrike">
                <a:solidFill>
                  <a:srgbClr val="0070c0"/>
                </a:solidFill>
                <a:latin typeface="Arial"/>
              </a:rPr>
              <a:t>27</a:t>
            </a:r>
            <a:r>
              <a:rPr b="1" i="1" lang="bg-BG" sz="2200" spc="-1" strike="noStrike">
                <a:solidFill>
                  <a:srgbClr val="0070c0"/>
                </a:solidFill>
                <a:latin typeface="Arial"/>
              </a:rPr>
              <a:t>.</a:t>
            </a:r>
            <a:r>
              <a:rPr b="1" i="1" lang="en-US" sz="2200" spc="-1" strike="noStrike">
                <a:solidFill>
                  <a:srgbClr val="0070c0"/>
                </a:solidFill>
                <a:latin typeface="Arial"/>
              </a:rPr>
              <a:t>04</a:t>
            </a:r>
            <a:r>
              <a:rPr b="1" i="1" lang="bg-BG" sz="2200" spc="-1" strike="noStrike">
                <a:solidFill>
                  <a:srgbClr val="0070c0"/>
                </a:solidFill>
                <a:latin typeface="Arial"/>
              </a:rPr>
              <a:t>.20</a:t>
            </a:r>
            <a:r>
              <a:rPr b="1" i="1" lang="en-US" sz="2200" spc="-1" strike="noStrike">
                <a:solidFill>
                  <a:srgbClr val="0070c0"/>
                </a:solidFill>
                <a:latin typeface="Arial"/>
              </a:rPr>
              <a:t>20</a:t>
            </a:r>
            <a:r>
              <a:rPr b="1" i="1" lang="bg-BG" sz="2200" spc="-1" strike="noStrike">
                <a:solidFill>
                  <a:srgbClr val="0070c0"/>
                </a:solidFill>
                <a:latin typeface="Arial"/>
              </a:rPr>
              <a:t> 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70"/>
          <p:cNvSpPr/>
          <p:nvPr/>
        </p:nvSpPr>
        <p:spPr>
          <a:xfrm>
            <a:off x="395280" y="5229360"/>
            <a:ext cx="5977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17928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0" descr=""/>
          <p:cNvPicPr/>
          <p:nvPr/>
        </p:nvPicPr>
        <p:blipFill>
          <a:blip r:embed="rId4"/>
          <a:stretch/>
        </p:blipFill>
        <p:spPr>
          <a:xfrm>
            <a:off x="7367760" y="222120"/>
            <a:ext cx="1487160" cy="1198800"/>
          </a:xfrm>
          <a:prstGeom prst="rect">
            <a:avLst/>
          </a:prstGeom>
          <a:ln w="0">
            <a:noFill/>
          </a:ln>
        </p:spPr>
      </p:pic>
      <p:sp>
        <p:nvSpPr>
          <p:cNvPr id="139" name="5-Point Star 3"/>
          <p:cNvSpPr/>
          <p:nvPr/>
        </p:nvSpPr>
        <p:spPr>
          <a:xfrm>
            <a:off x="6568920" y="36450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8"/>
                </a:lnTo>
                <a:lnTo>
                  <a:pt x="739765" y="914398"/>
                </a:lnTo>
                <a:lnTo>
                  <a:pt x="457200" y="698535"/>
                </a:lnTo>
                <a:lnTo>
                  <a:pt x="174635" y="914398"/>
                </a:lnTo>
                <a:lnTo>
                  <a:pt x="282568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1042920" y="1844640"/>
            <a:ext cx="7274160" cy="31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МИНИСТЕРСТВО НА РЕГИОНАЛНОТО РАЗВИТИЕ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БЛАГОУСТРОЙ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2060"/>
                </a:solidFill>
                <a:latin typeface="Arial"/>
              </a:rPr>
              <a:t>БЛАГОДАРЯ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002060"/>
                </a:solidFill>
                <a:latin typeface="Arial"/>
              </a:rPr>
              <a:t>ЗА ВНИМАНИЕТ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450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1332000" y="333360"/>
            <a:ext cx="6335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Често допускани пропуски и грешки при подготовката на проектни предложения по приоритетна ос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3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на ОПРР 2014-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Content Placeholder 2"/>
          <p:cNvSpPr/>
          <p:nvPr/>
        </p:nvSpPr>
        <p:spPr>
          <a:xfrm>
            <a:off x="324000" y="1628640"/>
            <a:ext cx="854712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Bef>
                <a:spcPts val="6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Слабостите и неточности, които водят до връщане за корекции на подадените проек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75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   </a:t>
            </a:r>
            <a:r>
              <a:rPr b="1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Грешки по отношение на попълване на формуляр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а </a:t>
            </a:r>
            <a:r>
              <a:rPr b="1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за кандидатства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lnSpc>
                <a:spcPct val="150000"/>
              </a:lnSpc>
              <a:spcBef>
                <a:spcPts val="11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Грешки при определяне на допустимост на разходите/инвестиции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lnSpc>
                <a:spcPct val="150000"/>
              </a:lnSpc>
              <a:spcBef>
                <a:spcPts val="11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Грешки в документи към проектните предлож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450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1332000" y="333360"/>
            <a:ext cx="611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4572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Грешки по отношение на попълване на формуляр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а </a:t>
            </a: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за кандидатства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Content Placeholder 2"/>
          <p:cNvSpPr/>
          <p:nvPr/>
        </p:nvSpPr>
        <p:spPr>
          <a:xfrm>
            <a:off x="179280" y="1628640"/>
            <a:ext cx="8691840" cy="43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здел 1 „Основни данни“ на формуляра за кандидатстване (ФК) се отбелязва, че данъка върху добавената стойност (ДДС) е недопустим разход по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Препоръка: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Когато проектът включва както допустим, така и недопустим разход за ДДС в раздел 1 „Основни данни“ на ФК следва да се отбележи, че ДДС е допустим разх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0"/>
          <p:cNvSpPr/>
          <p:nvPr/>
        </p:nvSpPr>
        <p:spPr>
          <a:xfrm>
            <a:off x="450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1332000" y="333360"/>
            <a:ext cx="611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4572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Грешки по отношение на попълване на формуляр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а </a:t>
            </a: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за кандидатства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Content Placeholder 2"/>
          <p:cNvSpPr/>
          <p:nvPr/>
        </p:nvSpPr>
        <p:spPr>
          <a:xfrm>
            <a:off x="179280" y="1413000"/>
            <a:ext cx="86918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бщата стойност на разходите за СМР от Раздел 5 „Бюджет“,  на ФК не съответства на общата стойност на разходите съгласно КСС към П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Препоръка: </a:t>
            </a:r>
            <a:r>
              <a:rPr b="0" i="1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Стойността</a:t>
            </a:r>
            <a:r>
              <a:rPr b="0" i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 на </a:t>
            </a:r>
            <a:r>
              <a:rPr b="0" i="1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разходите</a:t>
            </a:r>
            <a:r>
              <a:rPr b="0" i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 за СМР следва да съответства на стойността на КСС, като в индикативните КСС бъдат добавени и разходите за проектиране и авторски надзор на об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е се спазва изискването в раздел 5 „Бюджет“, разходите за отделните дейности и отделните обекти на интервенция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а се представят като обща су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Препоръка: </a:t>
            </a:r>
            <a:r>
              <a:rPr b="0" i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В раздел 5, разходите се представят като обща сума. Подробното описание и обосновката на видовете разходи следва да бъдат посочени в раздел 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450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1332000" y="333360"/>
            <a:ext cx="611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4572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Грешки по отношение на попълване на формуляр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а </a:t>
            </a: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за кандидатства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Content Placeholder 2"/>
          <p:cNvSpPr/>
          <p:nvPr/>
        </p:nvSpPr>
        <p:spPr>
          <a:xfrm>
            <a:off x="150840" y="1343160"/>
            <a:ext cx="8690040" cy="45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здел 5 „Бюджет“ от ФК разходите за дейности, които са допустими, но са собствено финансиране са отразени в бюджетен ред VI. Недопустими разход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Препоръка:</a:t>
            </a:r>
            <a:r>
              <a:rPr b="0" i="1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 Допустимите разходи по НК, следва да бъдат отразени в съответстващите бюджетни редове в колона „Собствен принос“, а не в бюджетен ред VI. Недопустими разход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здел 7. „План за изпълнение/Дейности по проекта“ на ФК стойността на разходите не съответства на заложения разход в 5 „Бюджет“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Препоръка:</a:t>
            </a:r>
            <a:r>
              <a:rPr b="0" i="1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Разходите към съответните дейности, така да бъдат представени, че информацията да съответства на заложения разход в бюджета на проекта в раздел 5 „Бюджет“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0"/>
          <p:cNvSpPr/>
          <p:nvPr/>
        </p:nvSpPr>
        <p:spPr>
          <a:xfrm>
            <a:off x="450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1332000" y="333360"/>
            <a:ext cx="611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4572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Грешки по отношение на попълване на формуляр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а </a:t>
            </a: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за кандидатства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Content Placeholder 2"/>
          <p:cNvSpPr/>
          <p:nvPr/>
        </p:nvSpPr>
        <p:spPr>
          <a:xfrm>
            <a:off x="34920" y="1541520"/>
            <a:ext cx="9109080" cy="44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здел 8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“Индикатори”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екоректно се въвеждат “Базова стойност общо:“, “Целева стойност общо:” и „Източник на информация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!!! З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сички индикатори като базова стойност винаги се въвежда „0“.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450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1332000" y="333360"/>
            <a:ext cx="611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4572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Грешки по отношение на попълване на формуляр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а </a:t>
            </a: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за кандидатства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Content Placeholder 2"/>
          <p:cNvSpPr/>
          <p:nvPr/>
        </p:nvSpPr>
        <p:spPr>
          <a:xfrm>
            <a:off x="272880" y="1541520"/>
            <a:ext cx="8691840" cy="41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здел 9 „Екип“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липсват разписани изискванията за професионална компетентност и опит в дейности по управлението и/или изпълнението на проек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Препоръка: </a:t>
            </a:r>
            <a:r>
              <a:rPr b="0" i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следва да бъдат описани изискванията за квалификация и опит на всеки член от екипа и да се представят автобиографии, подкрепени с доказателствени докумен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здел 10 „План за външно възлагане“ се описват вече проведени процедури, със сключени договори с изпълнители преди подаване на П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Препоръка: </a:t>
            </a:r>
            <a:r>
              <a:rPr b="0" i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Когато процедурата за избор на изпълнител е проведена и кандидатът има сключен договор с изпълнител, то това следва да се опише в раздел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0"/>
          <p:cNvSpPr/>
          <p:nvPr/>
        </p:nvSpPr>
        <p:spPr>
          <a:xfrm>
            <a:off x="450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1332000" y="333360"/>
            <a:ext cx="6335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Грешки свързани с достъпна архитектурна сред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Content Placeholder 2"/>
          <p:cNvSpPr/>
          <p:nvPr/>
        </p:nvSpPr>
        <p:spPr>
          <a:xfrm>
            <a:off x="179280" y="1455840"/>
            <a:ext cx="8785440" cy="44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етапа на кандидатстване се декларира изпълнение на мерки за достъпна среда, но впоследствие при проектирането не се предвиждат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2060"/>
                </a:solidFill>
                <a:latin typeface="Arial"/>
                <a:ea typeface="Times New Roman"/>
              </a:rPr>
              <a:t>Препоръка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2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2060"/>
                </a:solidFill>
                <a:latin typeface="Arial"/>
              </a:rPr>
              <a:t>Мерките за осигуряване на достъпна архитектурна среда следва да се осигурят съгласно действащата нормативна уредба: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В административна/обществена сграда, в зависимост от техническите възможности и проектантското решение, </a:t>
            </a:r>
            <a:r>
              <a:rPr b="1" i="1" lang="ru-RU" sz="1700" spc="-1" strike="noStrike">
                <a:solidFill>
                  <a:srgbClr val="002060"/>
                </a:solidFill>
                <a:latin typeface="Arial"/>
                <a:ea typeface="Times New Roman"/>
              </a:rPr>
              <a:t>в цялата сграда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86920" y="404280"/>
            <a:ext cx="6332760" cy="93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Грешки в </a:t>
            </a: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документите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 </a:t>
            </a: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към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 формуляра за </a:t>
            </a: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кандидатстване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0" descr=""/>
          <p:cNvPicPr/>
          <p:nvPr/>
        </p:nvPicPr>
        <p:blipFill>
          <a:blip r:embed="rId2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8"/>
          <p:cNvSpPr/>
          <p:nvPr/>
        </p:nvSpPr>
        <p:spPr>
          <a:xfrm>
            <a:off x="4500720" y="626904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3" descr=""/>
          <p:cNvPicPr/>
          <p:nvPr/>
        </p:nvPicPr>
        <p:blipFill>
          <a:blip r:embed="rId3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 txBox="1"/>
          <p:nvPr/>
        </p:nvSpPr>
        <p:spPr>
          <a:xfrm>
            <a:off x="158760" y="1528560"/>
            <a:ext cx="856944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се прилага обосновка за реалистичност и икономичност на предвидените разходи и липсват доказателствени документи за съответствие на цените с пазарни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Препоръка: </a:t>
            </a:r>
            <a:r>
              <a:rPr b="0" i="1" lang="bg-BG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да се представи подробна обосновка и разбивка на разходите от отделните пера в бюджетите на ПП, както и доказателствени документи за това как са формирани стойностите на дейности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ONIKA VALENTINOVA STOYANOVA</cp:lastModifiedBy>
  <cp:lastPrinted>2018-09-28T12:57:03Z</cp:lastPrinted>
  <dcterms:modified xsi:type="dcterms:W3CDTF">2020-04-29T07:40:15Z</dcterms:modified>
  <cp:revision>1576</cp:revision>
  <dc:subject/>
  <dc:title>Diapositiva 1</dc:title>
</cp:coreProperties>
</file>