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BEB-E175-4D8C-9170-315AE637D6A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AA95-DDDF-4B54-B9AC-BF34BAAE27A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C67-40AB-4859-BDFF-4474FB1A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367-7416-4DB5-978D-CD6E21B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9D8-5C94-467B-BC89-3A55AABD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810-1823-4213-967C-CEA4A871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D9DE-001D-4E6D-A6EA-C2E7D363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606-D14F-4E9C-BBE0-CCE99215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C4C8-B0FE-41B1-A2DC-09559931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1F5-3EDD-47A8-A8F1-D81C1D2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5D62-895B-41EE-8EA3-6B1922B9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0121-6840-4E1D-BBE7-C450D154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3A26-F2FD-46FF-A8C4-389B6FE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905-CEC4-416F-8030-280FD04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CA8-4B39-4306-8937-E959880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B6D5-3B36-4DF4-B98B-D67D9A0F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5DE-8043-4628-9ED7-5C3CCCA2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BA61-60EF-4301-9670-216D030E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D9E5-425B-4E31-9E8E-AF86F171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7A73-EF97-4B96-A230-D1A60C25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CD15-C1AD-4DA0-830A-E6AC17D3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FA20-BD2E-4DA2-9CC5-F05A65D1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FEF9-641B-4D11-BB35-693435EB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D529-9D7D-4D93-9A37-C58CFC8B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199-E5ED-42EC-8483-82B7807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EE26-00F6-466F-96A1-8195D26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F803-6590-4D51-9E6C-E6EE7E1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8D49-EB2A-4524-85BE-6D59718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4CF3-91C6-44AB-B57F-BB519A5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C679-5637-4682-88BF-EE4D2F8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C403-5794-4DB3-9374-A5005F1D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997B-53A1-4E78-9EA9-3D72C42F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20B-D5C6-482B-A8B2-DDF6D23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DBD-CEBE-418D-9213-F06DBCD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CF3-B214-402B-8691-9D3309C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5CF-65BC-4BCA-B53C-D5209ED8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EE2-38E6-4153-A9D3-E394937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443-1123-4303-9D23-73EBDB42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F22-8EB1-44BD-87DA-0C2B102745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7EFB-D238-4BA3-BCDF-2C401FED64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4E3-9D05-44B5-9E23-F9BB80343F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Arial"/>
              </a:rPr>
              <a:t>BG16RFOP001-3.002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  „ПОДКРЕПА ЗА ПРОФЕСИОНАЛНИТЕ УЧИЛИЩА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7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4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в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8760" y="1528560"/>
            <a:ext cx="8569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ONIKA VALENTINOVA STOYANOVA</cp:lastModifiedBy>
  <cp:lastPrinted>2018-09-28T12:57:03Z</cp:lastPrinted>
  <dcterms:modified xsi:type="dcterms:W3CDTF">2020-04-29T07:39:39Z</dcterms:modified>
  <cp:revision>1575</cp:revision>
  <dc:subject/>
  <dc:title>Diapositiva 1</dc:title>
</cp:coreProperties>
</file>