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82D9-C44D-41B0-AA7F-8B8195EA95BD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DCF4-EA1D-4593-B1D8-5F272270D7BE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0A33-9558-44A7-A4C3-2129332E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463-15C1-4B6F-B220-B456BE85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F7B-531C-4D14-9229-0322F23A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01FE-D17C-4883-8E03-F63D7532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1313-8B83-45EC-8A2E-EDDBF2C8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D1B2-B862-4E65-85B9-E1705ABC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081D-99D6-43AB-B9D3-530B6A3B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28EB-EC81-44DC-A143-BD97FF64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A607-7551-4846-A1E0-A43E69A5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294C-A6D1-41A1-ADC0-FA6A83CF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9230-3FF3-4332-96F2-2145DB1C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E55-F297-4501-BFF1-CC84043C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5E13-99DE-496D-9777-5AFED2A0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008E-33BE-4EFF-A84D-9F45737A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0471-2B3D-4240-B3E0-03CA0349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C09F-D55A-49B7-B423-0CB8293B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CD37-74D2-4428-9C3A-163A830C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AAFAE-C07D-48E4-A062-4BC9C566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5E5AE-3966-4B70-A2D5-F7CCAD13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43F12-A424-4319-98BC-9DB84CAD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5F814-E335-49F8-9C29-F37AAFF8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80CCE-A877-45DA-85AE-88098334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E3B-C583-4F44-AF0A-30183875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F5101-0DFA-4E14-9076-F80442F5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E42CD-4081-4889-B1B4-97B68D27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C6F1B-9EC2-456F-8B65-1E7F9FED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60FCC-E5A2-4C3D-A7ED-DA78D43C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CA4AF-3F9F-4437-B7FB-6940EBB9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A0A63-7B98-4474-8AFD-3272C1EC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04974-BDBD-42FB-A36F-7DAD45AA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9EF-0B19-43A1-9014-6B86964B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15F7-FD29-436C-AD59-E5451E69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5B9-A6F7-44EA-BABB-A7E959C3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9C1A-7480-4A30-968A-70E3CAF2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682-9B2B-434E-8279-3E13DF93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359-850C-4CC3-9F9A-029856A6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5D01-97D2-426D-B49A-EB85EF9F864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F519-1D68-4EEC-AFAE-24F96E2EFB6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A2AE-CB10-4B44-8BF2-D2976C5E506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69396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79280" y="3905280"/>
            <a:ext cx="619308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ИНФОРМАЦИОННА СРЕЩА ПО ПРОЦЕДУ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2060"/>
                </a:solidFill>
                <a:latin typeface="Arial"/>
              </a:rPr>
              <a:t>BG16RFOP001-3.002</a:t>
            </a: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  „ПОДКРЕПА ЗА ПРОФЕСИОНАЛНИТЕ УЧИЛИЩА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РЕПУБЛИКА БЪЛГАРИЯ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гр. София, 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27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04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.20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20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7367760" y="222120"/>
            <a:ext cx="1487160" cy="1198800"/>
          </a:xfrm>
          <a:prstGeom prst="rect">
            <a:avLst/>
          </a:prstGeom>
          <a:ln w="0">
            <a:noFill/>
          </a:ln>
        </p:spPr>
      </p:pic>
      <p:sp>
        <p:nvSpPr>
          <p:cNvPr id="139" name="5-Point Star 3"/>
          <p:cNvSpPr/>
          <p:nvPr/>
        </p:nvSpPr>
        <p:spPr>
          <a:xfrm>
            <a:off x="6568920" y="364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042920" y="1844640"/>
            <a:ext cx="727416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Често допускани пропуски и грешки при подготовката на проектни предложения по приоритетна ос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324000" y="1628640"/>
            <a:ext cx="85471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лабостите и неточности, които водят до връщане за корекции на подадените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 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при определяне на допустимост на разходите/инвестици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в документи към проектните пред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179280" y="1628640"/>
            <a:ext cx="869184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 „Основни данни“ на формуляра за кандидатстване (ФК) се отбелязва, че данъка върху добавената стойност (ДДС) е недопустим разход п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проектът включва както допустим, така и недопустим разход за ДДС в раздел 1 „Основни данни“ на ФК следва да се отбележи, че ДДС е допустим разх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179280" y="1413000"/>
            <a:ext cx="86918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ата стойност на разходите за СМР от Раздел 5 „Бюджет“,  на ФК не съответства на общата стойност на разходите в КСС към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тойността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на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ходите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за СМР следва да съответства на стойността на КСС, като в индикативните КСС бъдат добавени и разходите за проектиране и авторски надзор на об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е спазва изискването в раздел 5 „Бюджет“, разходите за отделните дейности и отделните обекти на интервен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а се представят като обща с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В раздел 5, разходите се представят като обща сума. Подробното описание и обосновката на видовете разходи следва да бъдат посочени в раздел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150840" y="1343160"/>
            <a:ext cx="869004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5 „Бюджет“ от ФК разходите за дейности, които са допустими, но са собствено финансиране са отразени в бюджетен ред VI. Недопустими разхо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Допустимите разходи по НК, следва да бъдат отразени в съответстващите бюджетни редове в колона „Собствен принос“, а не в бюджетен ред VI. Недопустими разхо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7. „План за изпълнение/Дейности по проекта“ на ФК стойността на разходите не съответства на заложения разход в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ходите към съответните дейности, така да бъдат представени, че информацията да съответства на заложения разход в бюджета на проекта в раздел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 Placeholder 2"/>
          <p:cNvSpPr/>
          <p:nvPr/>
        </p:nvSpPr>
        <p:spPr>
          <a:xfrm>
            <a:off x="34920" y="1541520"/>
            <a:ext cx="91090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8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“Индикатори”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ректно се въвеждат “Базова стойност общо:“, “Целева стойност общо:” и „Източник на информация“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!!! За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индикатори като базова стойност винаги се въвежда „0“.</a:t>
            </a:r>
            <a:r>
              <a:rPr b="0" lang="bg-BG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ntent Placeholder 2"/>
          <p:cNvSpPr/>
          <p:nvPr/>
        </p:nvSpPr>
        <p:spPr>
          <a:xfrm>
            <a:off x="272880" y="1541520"/>
            <a:ext cx="869184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9 „Екип“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ипсват разписани изискванията за професионална компетентност и опит в дейности по управлението и/или изпълнението на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ледва да бъдат описани изискванията за квалификация и опит на всеки член от екипа и да се представят автобиографии, подкрепени с доказателствени док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0 „План за външно възлагане“ се описват вече проведени процедури, със сключени договори с изпълнители преди подаване на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процедурата за избор на изпълнител е проведена и кандидатът има сключен договор с изпълнител, то това следва да се опише в раздел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свързани с достъпна архитектурна сре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ontent Placeholder 2"/>
          <p:cNvSpPr/>
          <p:nvPr/>
        </p:nvSpPr>
        <p:spPr>
          <a:xfrm>
            <a:off x="179280" y="1455840"/>
            <a:ext cx="878544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етапа на кандидатстване се декларира изпълнение на мерки за достъпна среда, но впоследствие при проектирането не се предвижд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060"/>
                </a:solidFill>
                <a:latin typeface="Arial"/>
              </a:rPr>
              <a:t>Мерките за осигуряване на достъпна архитектурна среда следва да се осигурят съгласно действащата нормативна уредб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административна/обществена сграда, в зависимост от техническите възможности и проектантското решение,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в цялата сгра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633276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документит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ъм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формуляра з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158760" y="1528560"/>
            <a:ext cx="8569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е прилага обосновка за реалистичност и икономичност на предвидените разходи и липсват доказателствени документи за съответствие на цените с пазарн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да се представи подробна обосновка и разбивка на разходите от отделните пера в бюджетите на ПП, както и доказателствени документи за това как са формирани стойностите на дейност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ONIKA VALENTINOVA STOYANOVA</cp:lastModifiedBy>
  <cp:lastPrinted>2018-09-28T12:57:03Z</cp:lastPrinted>
  <dcterms:modified xsi:type="dcterms:W3CDTF">2020-04-29T07:39:39Z</dcterms:modified>
  <cp:revision>1575</cp:revision>
  <dc:subject/>
  <dc:title>Diapositiva 1</dc:title>
</cp:coreProperties>
</file>