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35F-0CCF-4AE3-8017-D7996E26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4C9-3043-403E-BE8F-F669E5D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133-A84D-422E-9C6A-2E97412B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E8B-D6D7-4379-A33A-D1BB3A33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734D-9886-44A6-B8F6-C5404019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40C0-870B-4DF9-B335-98C14EC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E9A0-AEB7-4A07-8009-F2A27AFA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62CF-0097-4103-BD09-52632EF3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44C9-6371-4BD7-B231-75B73FA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29F8-DDD6-441F-A782-CE6EEABF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CA5C-1A6F-4D6B-9A8C-5DCE5E0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65F-03E1-4C77-8AEA-06F0345D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962-77BC-43F1-A4AF-C7A077C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B37-D7B6-4452-80B4-6AAFC8D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B73E-1FA0-4FFE-AE8F-8D789CE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AFEB-D73A-464F-ADED-82FD1712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1C4-0CF3-4728-90BA-08869BDE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FE15-AD04-4230-8B0E-4822874E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2134-0346-4AB3-8A23-F3DC9E4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D0DF-BD38-46BD-9FFB-6E6C420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A78A-C911-4119-A0D8-791E294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62FF-37CF-47DD-BCD6-1BF2A77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7C6-E63A-4D36-9206-D5AD4FF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6A04-8B8D-4E10-8A6D-8741A4A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F01B-93AB-4094-B561-85C1867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4931-7132-4FE5-B2FF-364C8D3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A813-B7AE-48E0-8B23-122CE44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509B-5C59-4591-8AD5-A2A1BBF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4DAF-CFB4-4F82-976F-83887249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D877-3BCE-428B-BD90-5CEB7997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C76-DCD7-497A-80E8-C9D68CB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232-66ED-4535-8FEB-09EFC99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7D8-F6E2-481E-886B-2419E83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B1D-A06E-4273-A45F-0C287B2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4D2-0B82-4E69-95E0-15F2B84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5DD-A1B6-4679-9D8C-4B9F364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01D-06B5-4BB3-9491-FA2B20F4F3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9BF6-0462-4A6C-BD07-F63CBBFA88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0F9-2FED-4A80-B010-CCF92DDD75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627372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24000" y="518940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ГОДИШЕН ПЛАН ЗА ДЕЙСТВИЕ ЗА ИНФОРМАЦИЯ И КОМУНИКАЦИЯ НА ОПРР 2014 – 2020 г. за 2015 г. и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ИРАНИ ДЕЙНОСТИ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270000" y="2637000"/>
          <a:ext cx="8785080" cy="2657160"/>
        </p:xfrm>
        <a:graphic>
          <a:graphicData uri="http://schemas.openxmlformats.org/drawingml/2006/table">
            <a:tbl>
              <a:tblPr/>
              <a:tblGrid>
                <a:gridCol w="2646360"/>
                <a:gridCol w="2519280"/>
                <a:gridCol w="1728720"/>
                <a:gridCol w="189072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ждане на обществено обсъждане по насоките на  Приоритетна ос 4 "Регионална здравна инфраструктура",  Приоритетна ос 5 "Регионална социална инфраструктура", Приоритетна ос 6 "Регионален туризъм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броя обществени обсъж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уари-септ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6"/>
          <p:cNvSpPr/>
          <p:nvPr/>
        </p:nvSpPr>
        <p:spPr>
          <a:xfrm>
            <a:off x="179280" y="177336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5 на НК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ърчаване на активното участие  на всички заинтересовани страни в процеса на изпълнение на СП и програм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84360" y="1844640"/>
            <a:ext cx="799128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70000" y="1413000"/>
            <a:ext cx="85500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работва се на основание ч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.2 от Националната комуникационна стратег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дишният план за действие (ГПД) на ОПРР 2014-2020 г. е разработен от работна група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3.08.2015 г. - съгласуван от Дирекция „Програмиране на средствата от ЕС“, Министерски съ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0.08.2015 г. - одобрен от Ръководителя на УО на ОПРР 2014 -202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готвена е промяна във връзка с актуализацията на ИГПР на ОПРР 2014 – 2020 г. за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ЪЩНОСТ, ЦЕЛИ 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270000" y="1989000"/>
            <a:ext cx="855000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ане на потенциалните бенефициенти и заинтересованите страни за планираното изпълнение на ОПРР 2014 -2020 г. през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не на дейностите за информация и комуникация на ОПРР 2014 – 2020 г. през 2015 г., съгласно Индикативната годишна работна програма за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иране на ОПРР 2014 – 2020 г. и обявените процедури и схеми за подкрепа през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ПЪЛНЕНИЕ НА ПЛАНИРАНИТЕ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C:\Users\DimovaP\AppData\Local\Microsoft\Windows\Temporary Internet Files\Content.Outlook\Y88YMYSK\20150814_104136_LLS.jpg"/>
          <p:cNvPicPr/>
          <p:nvPr/>
        </p:nvPicPr>
        <p:blipFill>
          <a:blip r:embed="rId4"/>
          <a:stretch/>
        </p:blipFill>
        <p:spPr>
          <a:xfrm>
            <a:off x="6033960" y="3357720"/>
            <a:ext cx="2971800" cy="2509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C:\Users\DimovaP\Desktop\photo.JPG"/>
          <p:cNvPicPr/>
          <p:nvPr/>
        </p:nvPicPr>
        <p:blipFill>
          <a:blip r:embed="rId5"/>
          <a:stretch/>
        </p:blipFill>
        <p:spPr>
          <a:xfrm>
            <a:off x="5495760" y="145908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6"/>
          <a:stretch/>
        </p:blipFill>
        <p:spPr>
          <a:xfrm>
            <a:off x="3419640" y="3213000"/>
            <a:ext cx="3035160" cy="2335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79280" y="1628640"/>
            <a:ext cx="53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май 2015 г. – общо информационно събитие «Една посока, много възможности» с представяне на всички оперативни прог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79280" y="311292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юни 2015 г.  - информационен ден за представя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гиони в растеж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 -2020 г. в град 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1"/>
          <a:stretch/>
        </p:blipFill>
        <p:spPr>
          <a:xfrm>
            <a:off x="5124600" y="3433680"/>
            <a:ext cx="3598560" cy="269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ПЪЛНЕНИЕ НА ПЛАНИРАНИТЕ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304920" y="26114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2.06.2015 г. - подписване на Споразумения с 39-те общини междинни звена по ОПРР 2014 - 2020 г. по Приоритетна ос 1 "Устойчиво и интегрирано градско развитие„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76120" y="4419720"/>
            <a:ext cx="43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7.09.2015 г. – Информационен ден по Приоритетна ос 2 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91960" y="15811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юли 2015 г.  - информационен ден  по Приоритетна ос 1 "Устойчиво и интегрирано градско развити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\\oprd-nfs\DG_PRD 2\-=Public=-\-= Photos =-\Снимки Споразумение\DSC_0339.JPG"/>
          <p:cNvPicPr/>
          <p:nvPr/>
        </p:nvPicPr>
        <p:blipFill>
          <a:blip r:embed="rId5"/>
          <a:stretch/>
        </p:blipFill>
        <p:spPr>
          <a:xfrm>
            <a:off x="4829040" y="1581120"/>
            <a:ext cx="4050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ДЕЙНОСТИ ДО КРАЯ НА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5" name="Oval Callout 7"/>
          <p:cNvSpPr/>
          <p:nvPr/>
        </p:nvSpPr>
        <p:spPr>
          <a:xfrm>
            <a:off x="5003640" y="1557360"/>
            <a:ext cx="3961080" cy="226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Месец декември 2015 г.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</a:rPr>
              <a:t>- Изработване и поддръжка на интернет страницата на ОПРР 2014 -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Callout 14"/>
          <p:cNvSpPr/>
          <p:nvPr/>
        </p:nvSpPr>
        <p:spPr>
          <a:xfrm>
            <a:off x="3708360" y="3487680"/>
            <a:ext cx="3960720" cy="2268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есец декември 2015 г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рганизиране и провеждане на Годишна конференция за напредъка по ОПРР 2014 –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Callout 15"/>
          <p:cNvSpPr/>
          <p:nvPr/>
        </p:nvSpPr>
        <p:spPr>
          <a:xfrm>
            <a:off x="270000" y="1700280"/>
            <a:ext cx="3960720" cy="338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рганизиране на информационна кампания за съвременни и модерни образователни услуги по Приоритетна ос 3 „Регионална образователна инфраструктура» -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ноемвр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179280" y="1557360"/>
            <a:ext cx="86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1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пуляризиране на отделните програми като финансов инструмент за подобряване на развитието на България и качеството на жив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0000" y="2144880"/>
          <a:ext cx="8623080" cy="1742760"/>
        </p:xfrm>
        <a:graphic>
          <a:graphicData uri="http://schemas.openxmlformats.org/drawingml/2006/table">
            <a:tbl>
              <a:tblPr/>
              <a:tblGrid>
                <a:gridCol w="1931760"/>
                <a:gridCol w="2602080"/>
                <a:gridCol w="1933560"/>
                <a:gridCol w="215568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иране и провеждане на Комитет за наблюдение на ОПРР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, медиатор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, ангажирана с управлението на фондовете на ЕС в Бълга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р. К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р. пресконференции 140 участника общо и за дв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- юни / октомври - ноемв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4"/>
          <p:cNvSpPr/>
          <p:nvPr/>
        </p:nvSpPr>
        <p:spPr>
          <a:xfrm>
            <a:off x="395280" y="4653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28680" y="3933720"/>
            <a:ext cx="842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2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максимална публичност и прозрачност на процеса на управление и изпълнение на програмите, техните резултати и добри прак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0280" y="4689360"/>
          <a:ext cx="8623440" cy="1387440"/>
        </p:xfrm>
        <a:graphic>
          <a:graphicData uri="http://schemas.openxmlformats.org/drawingml/2006/table">
            <a:tbl>
              <a:tblPr/>
              <a:tblGrid>
                <a:gridCol w="2060640"/>
                <a:gridCol w="2517840"/>
                <a:gridCol w="2441520"/>
                <a:gridCol w="1603440"/>
              </a:tblGrid>
              <a:tr h="13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Организиране и провеждане на Годишна конференция за напредък по ОПРР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,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, ангажирана с управлението на фондовете на ЕС в България, ме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конференция /информационно събитие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235080" y="1628640"/>
          <a:ext cx="8712000" cy="1371600"/>
        </p:xfrm>
        <a:graphic>
          <a:graphicData uri="http://schemas.openxmlformats.org/drawingml/2006/table">
            <a:tbl>
              <a:tblPr/>
              <a:tblGrid>
                <a:gridCol w="2192040"/>
                <a:gridCol w="2502000"/>
                <a:gridCol w="2425680"/>
                <a:gridCol w="1592280"/>
              </a:tblGrid>
              <a:tr h="1372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Поддръжка на интернет страница на Оперативна програма „Региони в растеж“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уникални посещения на интернет страницата  на УО на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уари – дек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9280" y="3645000"/>
          <a:ext cx="8785440" cy="2103480"/>
        </p:xfrm>
        <a:graphic>
          <a:graphicData uri="http://schemas.openxmlformats.org/drawingml/2006/table">
            <a:tbl>
              <a:tblPr/>
              <a:tblGrid>
                <a:gridCol w="2202120"/>
                <a:gridCol w="2462040"/>
                <a:gridCol w="2489400"/>
                <a:gridCol w="1631880"/>
              </a:tblGrid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Провеждане на информационни кампании за процеса на изпълнение и управление на Оперативна програма „Региони в растеж“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т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,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бр. прессъ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уари-дек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6"/>
          <p:cNvSpPr/>
          <p:nvPr/>
        </p:nvSpPr>
        <p:spPr>
          <a:xfrm>
            <a:off x="179280" y="307512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3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ормиране на потенциалните бенефициенти за възможностите за финансиране, предоставяно от програ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ИРАНИ ДЕЙНОСТИ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62000" y="1413000"/>
          <a:ext cx="8802720" cy="4697280"/>
        </p:xfrm>
        <a:graphic>
          <a:graphicData uri="http://schemas.openxmlformats.org/drawingml/2006/table">
            <a:tbl>
              <a:tblPr/>
              <a:tblGrid>
                <a:gridCol w="3833640"/>
                <a:gridCol w="2521080"/>
                <a:gridCol w="1655640"/>
                <a:gridCol w="792360"/>
              </a:tblGrid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конференция за съвременна и подобрена спешна медицинска помощ , по Приоритетна ос 4 „Регионална здрав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 в Соф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пт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иране и провеждане на информационна кампания, включваща „Инфо ден“ и обучения по Приоритетна ос 5 - "Регионална социална инфраструктура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иране и провеждане на информационна кампания, включваща „Инфо ден“ и обучения по Приоритетна ос 6 - "Регионален туризъ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Petya Dimova</cp:lastModifiedBy>
  <dcterms:modified xsi:type="dcterms:W3CDTF">2015-10-02T08:01:48Z</dcterms:modified>
  <cp:revision>982</cp:revision>
  <dc:subject/>
  <dc:title>Diapositiva 1</dc:title>
</cp:coreProperties>
</file>