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CE9A-2425-4556-B812-ECDC9639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3096-1EF2-4120-9717-D32CDAEE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351B-A481-4117-AD8A-39184BED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2086-F841-4D0D-8265-37B15E75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76F7-6B32-4924-878A-52E652AB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0BAF-F6EB-47D6-87DA-51D7EF2B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8637-9080-4827-942F-6645B06C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6EC9-0A40-4F9D-A3FE-A0026A0F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0140-3AEC-4FED-B140-0D8AF81A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9B6B-8B49-455B-AF62-5B9A8FE7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D88E-88E4-46D5-ADF7-4E33F7FE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216D-504A-46BA-98D8-A3884654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F934-98B5-40DF-B72C-422FE125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919C-6EA8-4CBD-984A-E976666D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1730-910F-4339-84B9-F6468956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7ABF-7138-490F-A073-499D5BA78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C210-7B00-46DF-8512-C1D41680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02436-E818-43C5-907E-AFD3B3A4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0C289-1463-426F-B207-087F795F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DCA44-4D96-4A47-9440-96C835E0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1F7D5-77FF-45FC-A370-F091C153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68AFC-04AE-4F16-BE8D-776C4A70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FB47-AE82-4B66-A172-A5E8EC01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B6143-DD26-4C8C-9D4A-E6452DFE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16CBF-3747-40E3-96B8-381CADAD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D39E7-A134-4012-9EC3-711850F4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F98E2-5CC0-4C7E-A1F9-290817BB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C9EF0-3A21-4881-BC55-A70116FA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1C001-1B69-4136-816A-D7CA5BE1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DADB6-CFCA-4B38-B188-D2C80CE5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EB1A-42FD-4041-BA03-8217D787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B35-E328-4AD8-BCEA-E970C05A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18C2-4940-4BE0-AD14-11816A36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28C6-C88E-472D-9A5F-059357FA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3D39-CA19-4E70-900F-FC16301B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AA8B-EA96-4A37-99DD-AD40B0D7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2ECE-3BCB-4C3E-A65F-D6A94AF7F46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2ED9-AED2-48B4-8039-6F734AE357F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9B3A-314C-48B4-9F4E-D27DFA3A5E8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270000" y="3860640"/>
            <a:ext cx="559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Arial"/>
              </a:rPr>
              <a:t>Оперативна програма „Региони в растеж“ 2014-20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6273720"/>
            <a:ext cx="457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6 окто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"/>
          <p:cNvPicPr/>
          <p:nvPr/>
        </p:nvPicPr>
        <p:blipFill>
          <a:blip r:embed="rId4"/>
          <a:stretch/>
        </p:blipFill>
        <p:spPr>
          <a:xfrm>
            <a:off x="3780000" y="243000"/>
            <a:ext cx="1487160" cy="11984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324000" y="5189400"/>
            <a:ext cx="611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3cc"/>
                </a:solidFill>
                <a:latin typeface="Arial"/>
              </a:rPr>
              <a:t>ГОДИШЕН ПЛАН ЗА ДЕЙСТВИЕ ЗА ИНФОРМАЦИЯ И КОМУНИКАЦИЯ НА ОПРР 2014 – 2020 г. за 2015 г. и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1187280" y="260280"/>
            <a:ext cx="6332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ЛАНИРАНИ ДЕЙНОСТИ ЗА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2"/>
          <a:stretch/>
        </p:blipFill>
        <p:spPr>
          <a:xfrm>
            <a:off x="4162320" y="6110280"/>
            <a:ext cx="758880" cy="684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" name=""/>
          <p:cNvGraphicFramePr/>
          <p:nvPr/>
        </p:nvGraphicFramePr>
        <p:xfrm>
          <a:off x="270000" y="2637000"/>
          <a:ext cx="8785080" cy="2657160"/>
        </p:xfrm>
        <a:graphic>
          <a:graphicData uri="http://schemas.openxmlformats.org/drawingml/2006/table">
            <a:tbl>
              <a:tblPr/>
              <a:tblGrid>
                <a:gridCol w="2646360"/>
                <a:gridCol w="2519280"/>
                <a:gridCol w="1728720"/>
                <a:gridCol w="1890720"/>
              </a:tblGrid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ности  по ОПР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а гру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к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ви обхв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2255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ждане на обществено обсъждане по насоките на  Приоритетна ос 4 "Регионална здравна инфраструктура",  Приоритетна ос 5 "Регионална социална инфраструктура", Приоритетна ос 6 "Регионален туризъм"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ока обществе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иато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ни бенефици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броя обществени обсъж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уари-септемв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8f9"/>
                    </a:solidFill>
                  </a:tcPr>
                </a:tc>
              </a:tr>
            </a:tbl>
          </a:graphicData>
        </a:graphic>
      </p:graphicFrame>
      <p:sp>
        <p:nvSpPr>
          <p:cNvPr id="230" name="Rectangle 6"/>
          <p:cNvSpPr/>
          <p:nvPr/>
        </p:nvSpPr>
        <p:spPr>
          <a:xfrm>
            <a:off x="179280" y="1773360"/>
            <a:ext cx="878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пецифична цел 5 на НКС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сърчаване на активното участие  на всички заинтересовани страни в процеса на изпълнение на СП и програми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84360" y="1844640"/>
            <a:ext cx="7991280" cy="37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ИВАН ПОПОВ</a:t>
            </a:r>
            <a:r>
              <a:rPr b="1" lang="bg-BG" sz="17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99"/>
                </a:solidFill>
                <a:latin typeface="Arial"/>
              </a:rPr>
              <a:t>НАЧАЛНИК НА ОТДЕЛ „ПРОГРАМИРАНЕ, ОЦЕНКА, ИНФОРМАЦИЯ И ПУБЛИЧНОСТ“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99"/>
                </a:solidFill>
                <a:latin typeface="Arial"/>
              </a:rPr>
              <a:t>ГД „ПРОГРАМИРАНЕ НА РЕГИОНАЛНОТО РАЗВИТИЕ“, МРРБ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187280" y="260280"/>
            <a:ext cx="6332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ГОДИШЕН ПЛАН ЗА ДЕЙСТВИЕ ЗА ИНФОРМАЦИЯ И КОМУНИКАЦИЯ ЗА 2015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270000" y="1413000"/>
            <a:ext cx="855000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зработва се на основание чл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,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.2 от Националната комуникационна стратег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Годишният план за действие (ГПД) на ОПРР 2014-2020 г. е разработен от работна група от УО на ОПР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03.08.2015 г. - съгласуван от Дирекция „Програмиране на средствата от ЕС“, Министерски съв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20.08.2015 г. - одобрен от Ръководителя на УО на ОПРР 2014 -2020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дготвена е промяна във връзка с актуализацията на ИГПР на ОПРР 2014 – 2020 г. за 201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1187280" y="260280"/>
            <a:ext cx="6332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СЪЩНОСТ, ЦЕЛИ И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2"/>
          <p:cNvSpPr/>
          <p:nvPr/>
        </p:nvSpPr>
        <p:spPr>
          <a:xfrm>
            <a:off x="270000" y="1989000"/>
            <a:ext cx="8550000" cy="32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иране на потенциалните бенефициенти и заинтересованите страни за планираното изпълнение на ОПРР 2014 -2020 г. през 20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яне на дейностите за информация и комуникация на ОПРР 2014 – 2020 г. през 2015 г., съгласно Индикативната годишна работна програма за 20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уляризиране на ОПРР 2014 – 2020 г. и обявените процедури и схеми за подкрепа през 20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187280" y="260280"/>
            <a:ext cx="6332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ЗПЪЛНЕНИЕ НА ПЛАНИРАНИТЕ ДЕЙ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C:\Users\DimovaP\AppData\Local\Microsoft\Windows\Temporary Internet Files\Content.Outlook\Y88YMYSK\20150814_104136_LLS.jpg"/>
          <p:cNvPicPr/>
          <p:nvPr/>
        </p:nvPicPr>
        <p:blipFill>
          <a:blip r:embed="rId4"/>
          <a:stretch/>
        </p:blipFill>
        <p:spPr>
          <a:xfrm>
            <a:off x="6033960" y="3357720"/>
            <a:ext cx="2971800" cy="2509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C:\Users\DimovaP\Desktop\photo.JPG"/>
          <p:cNvPicPr/>
          <p:nvPr/>
        </p:nvPicPr>
        <p:blipFill>
          <a:blip r:embed="rId5"/>
          <a:stretch/>
        </p:blipFill>
        <p:spPr>
          <a:xfrm>
            <a:off x="5495760" y="1459080"/>
            <a:ext cx="3457800" cy="2592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"/>
          <p:cNvPicPr/>
          <p:nvPr/>
        </p:nvPicPr>
        <p:blipFill>
          <a:blip r:embed="rId6"/>
          <a:stretch/>
        </p:blipFill>
        <p:spPr>
          <a:xfrm>
            <a:off x="3419640" y="3213000"/>
            <a:ext cx="3035160" cy="23353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"/>
          <p:cNvSpPr/>
          <p:nvPr/>
        </p:nvSpPr>
        <p:spPr>
          <a:xfrm>
            <a:off x="179280" y="1628640"/>
            <a:ext cx="531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8 май 2015 г. – общо информационно събитие «Една посока, много възможности» с представяне на всички оперативни прогр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79280" y="3112920"/>
            <a:ext cx="35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 юни 2015 г.  - информационен ден за представян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ивна програ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Региони в растеж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4 -2020 г. в град Бург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5" descr=""/>
          <p:cNvPicPr/>
          <p:nvPr/>
        </p:nvPicPr>
        <p:blipFill>
          <a:blip r:embed="rId1"/>
          <a:stretch/>
        </p:blipFill>
        <p:spPr>
          <a:xfrm>
            <a:off x="5124600" y="3433680"/>
            <a:ext cx="3598560" cy="2695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1187280" y="260280"/>
            <a:ext cx="6332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ЗПЪЛНЕНИЕ НА ПЛАНИРАНИТЕ ДЕЙ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4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304920" y="2611440"/>
            <a:ext cx="43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22.06.2015 г. - подписване на Споразумения с 39-те общини междинни звена по ОПРР 2014 - 2020 г. по Приоритетна ос 1 "Устойчиво и интегрирано градско развитие„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276120" y="4419720"/>
            <a:ext cx="43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17.09.2015 г. – Информационен ден по Приоритетна ос 2 „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крепа за енергийна ефективност в опорни центрове в периферните райони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91960" y="158112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8 юли 2015 г.  - информационен ден  по Приоритетна ос 1 "Устойчиво и интегрирано градско развитие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4" descr="\\oprd-nfs\DG_PRD 2\-=Public=-\-= Photos =-\Снимки Споразумение\DSC_0339.JPG"/>
          <p:cNvPicPr/>
          <p:nvPr/>
        </p:nvPicPr>
        <p:blipFill>
          <a:blip r:embed="rId5"/>
          <a:stretch/>
        </p:blipFill>
        <p:spPr>
          <a:xfrm>
            <a:off x="4829040" y="1581120"/>
            <a:ext cx="40500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187280" y="260280"/>
            <a:ext cx="6332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ЕДСТОЯЩИ ДЕЙНОСТИ ДО КРАЯ НА 2015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85" name="Oval Callout 7"/>
          <p:cNvSpPr/>
          <p:nvPr/>
        </p:nvSpPr>
        <p:spPr>
          <a:xfrm>
            <a:off x="5003640" y="1557360"/>
            <a:ext cx="3961080" cy="2268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Месец декември 2015 г.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</a:rPr>
              <a:t>- Изработване и поддръжка на интернет страницата на ОПРР 2014 -2020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Callout 14"/>
          <p:cNvSpPr/>
          <p:nvPr/>
        </p:nvSpPr>
        <p:spPr>
          <a:xfrm>
            <a:off x="3708360" y="3487680"/>
            <a:ext cx="3960720" cy="22687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Месец декември 2015 г.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Организиране и провеждане на Годишна конференция за напредъка по ОПРР 2014 – 202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Callout 15"/>
          <p:cNvSpPr/>
          <p:nvPr/>
        </p:nvSpPr>
        <p:spPr>
          <a:xfrm>
            <a:off x="270000" y="1700280"/>
            <a:ext cx="3960720" cy="33843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Организиране на информационна кампания за съвременни и модерни образователни услуги по Приоритетна ос 3 „Регионална образователна инфраструктура» -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ноември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20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1187280" y="260280"/>
            <a:ext cx="6332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ГОДИШЕН ПЛАН ЗА ДЕЙСТВИЕ ЗА ИНФОРМАЦИЯ И КОМУНИКАЦИЯ ЗА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4162320" y="6110280"/>
            <a:ext cx="758880" cy="684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"/>
          <p:cNvSpPr/>
          <p:nvPr/>
        </p:nvSpPr>
        <p:spPr>
          <a:xfrm>
            <a:off x="179280" y="1557360"/>
            <a:ext cx="864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пецифична цел 1 на НКС: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пуляризиране на отделните програми като финансов инструмент за подобряване на развитието на България и качеството на жив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70000" y="2144880"/>
          <a:ext cx="8623080" cy="1742760"/>
        </p:xfrm>
        <a:graphic>
          <a:graphicData uri="http://schemas.openxmlformats.org/drawingml/2006/table">
            <a:tbl>
              <a:tblPr/>
              <a:tblGrid>
                <a:gridCol w="1931760"/>
                <a:gridCol w="2602080"/>
                <a:gridCol w="1933560"/>
                <a:gridCol w="215568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ности  по ОПР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а гру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к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ви обхв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рганизиране и провеждане на Комитет за наблюдение на ОПРР 2014-2020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ни бенефициенти, медиатор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министрация, ангажирана с управлението на фондовете на ЕС в Българ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бр. К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бр. пресконференции 140 участника общо и за две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- юни / октомври - ноемв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8f9"/>
                    </a:solidFill>
                  </a:tcPr>
                </a:tc>
              </a:tr>
            </a:tbl>
          </a:graphicData>
        </a:graphic>
      </p:graphicFrame>
      <p:sp>
        <p:nvSpPr>
          <p:cNvPr id="198" name="Rectangle 4"/>
          <p:cNvSpPr/>
          <p:nvPr/>
        </p:nvSpPr>
        <p:spPr>
          <a:xfrm>
            <a:off x="395280" y="465300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328680" y="3933720"/>
            <a:ext cx="842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пецифична цел 2 на НКС: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сигуряване на максимална публичност и прозрачност на процеса на управление и изпълнение на програмите, техните резултати и добри прак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60280" y="4689360"/>
          <a:ext cx="8623440" cy="1387440"/>
        </p:xfrm>
        <a:graphic>
          <a:graphicData uri="http://schemas.openxmlformats.org/drawingml/2006/table">
            <a:tbl>
              <a:tblPr/>
              <a:tblGrid>
                <a:gridCol w="2060640"/>
                <a:gridCol w="2517840"/>
                <a:gridCol w="2441520"/>
                <a:gridCol w="1603440"/>
              </a:tblGrid>
              <a:tr h="138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 Организиране и провеждане на Годишна конференция за напредък по ОПРР 2014-2020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ока общественост, бенефициенти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министрация, ангажирана с управлението на фондовете на ЕС в България, ме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р. конференция /информационно събитие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участ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187280" y="260280"/>
            <a:ext cx="6332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ГОДИШЕН ПЛАН ЗА ДЕЙСТВИЕ ЗА ИНФОРМАЦИЯ И КОМУНИКАЦИЯ ЗА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4162320" y="6110280"/>
            <a:ext cx="758880" cy="684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9" name=""/>
          <p:cNvGraphicFramePr/>
          <p:nvPr/>
        </p:nvGraphicFramePr>
        <p:xfrm>
          <a:off x="235080" y="1628640"/>
          <a:ext cx="8712000" cy="1371600"/>
        </p:xfrm>
        <a:graphic>
          <a:graphicData uri="http://schemas.openxmlformats.org/drawingml/2006/table">
            <a:tbl>
              <a:tblPr/>
              <a:tblGrid>
                <a:gridCol w="2192040"/>
                <a:gridCol w="2502000"/>
                <a:gridCol w="2425680"/>
                <a:gridCol w="1592280"/>
              </a:tblGrid>
              <a:tr h="1372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 Поддръжка на интернет страница на Оперативна програма „Региони в растеж“ 2014-2020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ока обществе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ни бенефици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нефици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иато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 уникални посещения на интернет страницата  на УО на ОПР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уари – декемв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79280" y="3645000"/>
          <a:ext cx="8785440" cy="2103480"/>
        </p:xfrm>
        <a:graphic>
          <a:graphicData uri="http://schemas.openxmlformats.org/drawingml/2006/table">
            <a:tbl>
              <a:tblPr/>
              <a:tblGrid>
                <a:gridCol w="2202120"/>
                <a:gridCol w="2462040"/>
                <a:gridCol w="2489400"/>
                <a:gridCol w="1631880"/>
              </a:tblGrid>
              <a:tr h="304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ности  по ОПР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а гру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к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ви обхв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7989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 Провеждане на информационни кампании за процеса на изпълнение и управление на Оперативна програма „Региони в растеж“ 2014-2020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оката обществе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ни бенефициенти, бенефици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бр. прессъоб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уари-декемв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8f9"/>
                    </a:solidFill>
                  </a:tcPr>
                </a:tc>
              </a:tr>
            </a:tbl>
          </a:graphicData>
        </a:graphic>
      </p:graphicFrame>
      <p:sp>
        <p:nvSpPr>
          <p:cNvPr id="211" name="Rectangle 6"/>
          <p:cNvSpPr/>
          <p:nvPr/>
        </p:nvSpPr>
        <p:spPr>
          <a:xfrm>
            <a:off x="179280" y="3075120"/>
            <a:ext cx="878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пецифична цел 3 на НКС: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нформиране на потенциалните бенефициенти за възможностите за финансиране, предоставяно от програм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187280" y="260280"/>
            <a:ext cx="6332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ЛАНИРАНИ ДЕЙНОСТИ ЗА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4162320" y="6110280"/>
            <a:ext cx="758880" cy="684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162000" y="1413000"/>
          <a:ext cx="8802720" cy="4697280"/>
        </p:xfrm>
        <a:graphic>
          <a:graphicData uri="http://schemas.openxmlformats.org/drawingml/2006/table">
            <a:tbl>
              <a:tblPr/>
              <a:tblGrid>
                <a:gridCol w="3833640"/>
                <a:gridCol w="2521080"/>
                <a:gridCol w="1655640"/>
                <a:gridCol w="792360"/>
              </a:tblGrid>
              <a:tr h="15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.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сконференция за съвременна и подобрена спешна медицинска помощ , по Приоритетна ос 4 „Регионална здравна инфраструктура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ретни бенефициенти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ока обществе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иато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ни бенефициен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р. Информационно събитие в Соф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р. публик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птемв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6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иране и провеждане на информационна кампания, включваща „Инфо ден“ и обучения по Приоритетна ос 5 - "Регионална социална инфраструктура"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ретни бенефициенти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ока обществе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иато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ни бенефици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р. информационно съб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р. публик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иране и провеждане на информационна кампания, включваща „Инфо ден“ и обучения по Приоритетна ос 6 - "Регионален туризъм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ретни бенефициенти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ока обществе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иато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ни бенефици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р. информационно съб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р. публик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Petya Dimova</cp:lastModifiedBy>
  <dcterms:modified xsi:type="dcterms:W3CDTF">2015-10-02T08:01:48Z</dcterms:modified>
  <cp:revision>982</cp:revision>
  <dc:subject/>
  <dc:title>Diapositiva 1</dc:title>
</cp:coreProperties>
</file>