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9AB-AC34-476D-A3BC-123ED548298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E1B3-C06A-4906-A56C-7438F76CFF0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 комуникационна стратегия (НКС) за програмен период 2014-2020 г. определя рамката за стратегическа комуникация като част от междуинституционалния процес на взаимодействие и основавайки се на насоките, залегнали в тази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е разработена в съответствие с чл. 116 от Регламент 1303 на Европейския парламент и на Съвета от 17 декември 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ботата по Националната комуникационна стратегия (НКС) започна още през м. февруари 2013 г., когато със Заповед № Р-56 от 22.02.2013 г. на министъра по управление на средствата от Европейския съюз беше създадена междуведомствена работна гр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ървият проект на Националната комуникационна стратегия беше подложен на публично обсъждане през м. август 2013 г., чрез публикуването му на Единния информационен пор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тоящият документ подлежи на одобрение от Комитета за наблюдение на Споразумението за партньорство, съгласувано с Комитетите за наблюдение на всички програми, включени в Националната комуникационна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ългария, като държава-членка на Европейския съюз (ЕС), информира своите граждани по най-подходящия начин за помощта, предоставена от фондовете на ЕС, както и за ефекта, който ще има върху страната, даден регион, общност или отделна личност, осъществяването на отделни приоритети, мерки или проек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бщите цели на комуникационната стратегия 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. Популяризиране на ролята на Европейския съюз и информиране за възможностите за финансиране по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Осигуряване на максимална прозрачност в процеса на изпълнение и управление на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. Изграждане  и  поддържане  на  високо  обществено  доверие  към процесите по изпълнение и управление на СП и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Чрез Националната комуникационна стратегия трябва да се повиши информираността на целевите групи за визията и приоритетите на Споразумението за партньорство, на бенефициентите относно възможностите, предоставяни от Общността, както и общественото признание за ролята на ЕС за развитието на регионит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пецифичните цели на Националната комуникационна стратегия 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. Популяризиране  на  оперативните  програми  като  финансов  инструмент  за подобряване на развитието на България и качеството на жив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Осигуряване  на  максимална  публичност  и  прозрачност  на  процеса  на управление и изпълнение на програмите, техните резултати и добри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. Информиране   на   потенциалните   бенефициенти   за   възможностите   за финансиране, предоставяни от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4. Повишаване информираността и компетентността на бенефициентите при изпълнение на проек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5. Насърчаване  на  активното  участие  на  всички  заинтересовани  страни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цеса на изпълнение на СП и програм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 могат да бъдат постигнати чрез достигането до различни аудитории с широка гама от активни мерки. Изпълнението им има за цел да доведе до повишаване прозрачността и публичността при управлението на програмите и Споразумението за партньорство, което да рефлектира върху нарастващо обществено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079-343E-4BB3-A4C3-3B07E934B8F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определя рамката за стратегическа комуникация за програмния период 2014-2020 г. на програмите, финансирани от Европейските структурни и инвестиционни фондове (ЕСИ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изпълнение на стратегията, УО на ОПРР ще отговарят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ълнението на мерките по информация и комуникация на ниво програма, в съответствие с Регламент 1303/2013 г. и НК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зработването  и  изпълнението  на  Годишен  план  за  действие  за осъществяването на конкретни информационни и комуникационни дейности. В него ще бъдат застъпени и използвани комуникационни дейности и канали, съобразени с подходящите начини за достигане до съответната целева или под- група, както и спрямо целите на комуникация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оддържането на препратка от уебсайта на програмата към публичния модул на ИС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опуляризиране на възможностите за финансиране по новооткрити процедури за предоставяне на БФП (съгласно т. 3 от Приложение XII на Регламент 1303/2013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ато част от междуинституционалния процес на взаимодействие, преди започването на всяка календарната година, УО изготвя Годишен план за действие (ГПД) в изпълнение на програмата. ГПД подлежи на одобрение от Ръководителя на УО и на докладване пред Комитета за наблюдение на програмата. За целта, след като бъде одобрен, Годишният план за действие на ОПРР, ще бъде изпратен на членовете на КН за информ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ложените в НКС и изпълнявани от ЦИО и отделните УО комуникационни мерки трябва да отговарят на принципите за добро финансово управление, да бъдат ефективни, ефикасни и релевантни спрямо нуждите на целевата гр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Централният информационен офис отговаря и координира всички дейности, свързани с мониторинга и оценката на Националната комуникационна стратегия, съгласно Глава VI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кладите се подготвят от ЦИО на основата на получена информация от съответните УО, както и на база допълнителни проучвания/изследвания и др. Те ще бъдат представяни пред Комитета за наблюдение на С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4BF-0FB6-425E-8D21-777B5FB4D8B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ще подлежи на актуализация п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мяна в някои от целевите групи или под-груп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мяна в обсега, акцентите, дейностите по съответната програ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къснение в изпълнението на информационните и комуникационните дей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казана неефективност (установена чрез мониторинга и оценката) на прилагани информационни и комуникационни подхо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еочаквани и непрогнозируеми социални събития, които биха оказали съществено влияние върху реализацията на програмите и биха изисквали „пренастройване“ на Комуникационната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ктуализацията на НКС може да се инициира от ЦИО, включително след консултации и в диалог с професионалните организации в областта на комуникацията, проучванията, медиите и други или мнозинство на членовете на Националната мрежа на служителите по информация и публичност на програмите (НМСИ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цесът на комуникация и публичност при управление на средствата от Европейския съюз се явява ключова политика, която трябва да допринесе както за по-широката познаваемост на Европейския съюз в България, така и за популяризирането на предоставяните конкретни възможности за развитие на  всеки един граждан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гарантира на участниците в процеса ефективна комуникация към всички целеви групи и очертава рамката, в която ще бъдат разгърнати конкретните усилия на цялата администрация, изпълняваща и управляваща средствата от ЕС в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ндикативния бюджет  за изпълнението на мерките по информация и комуникация на ОП „РЕГИОНИ В РАСТЕЖ“  за програмен период 2014-2020 г. е близо 10 млн.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0F4-64CF-4F46-AC1B-F5063B4288E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704-44DF-4E13-A88A-4DFD449A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CA5-FDFA-4107-81ED-E8FCC31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CCC-CF59-4E3D-A67D-EE4B2D0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A00-2F06-4213-B27C-F46ADE6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AEC-927F-41F2-912F-43D7E26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BD1-0719-4C21-B8D1-4A517F3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797-2E0F-488A-B7BF-6010EC5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FFC-ABC0-4DC3-A6E3-FBD33EA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D86-DACE-407D-AEDD-8AA0A0E9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427-27D9-495A-9F21-AE6A977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D37-83E8-4270-96CA-7A49F1C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FE4-4526-4191-80B1-D9F3854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58B-6202-4745-9FB5-6C5D69A7BC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4797360"/>
            <a:ext cx="6588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Националн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комуникационн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 стратегия за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програмен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период 2014 – 20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50920" y="3645000"/>
            <a:ext cx="5473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ОПЕРАТИВНА ПРОГР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„</a:t>
            </a: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РЕГИОНИ В РАСТЕЖ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6"/>
          <p:cNvSpPr/>
          <p:nvPr/>
        </p:nvSpPr>
        <p:spPr>
          <a:xfrm>
            <a:off x="270000" y="6291360"/>
            <a:ext cx="6754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cc"/>
                </a:solidFill>
                <a:latin typeface="바탕"/>
                <a:ea typeface="바탕"/>
              </a:rPr>
              <a:t>Гр. Пловдив,</a:t>
            </a:r>
            <a:r>
              <a:rPr b="1" i="1" lang="en-US" sz="1800" spc="-1" strike="noStrike">
                <a:solidFill>
                  <a:srgbClr val="0000cc"/>
                </a:solidFill>
                <a:latin typeface="바탕"/>
                <a:ea typeface="바탕"/>
              </a:rPr>
              <a:t>  09</a:t>
            </a:r>
            <a:r>
              <a:rPr b="1" i="1" lang="bg-BG" sz="1800" spc="-1" strike="noStrike">
                <a:solidFill>
                  <a:srgbClr val="0000cc"/>
                </a:solidFill>
                <a:latin typeface="바탕"/>
                <a:ea typeface="바탕"/>
              </a:rPr>
              <a:t>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9360" y="1508040"/>
            <a:ext cx="9144000" cy="453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70000" y="1508040"/>
            <a:ext cx="86230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Националната комуникационна стратегия е разработена в съответствие с чл. 116 от Регламент 1303 на Европейския парламент и на Съвета от 17.12.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Общ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Популяризиране на ролята на Европейския съюз и информиране за възможностите за финансиране по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Осигуряване на максимална прозрачност в процеса на изпълнение и управление на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Изграждане  и  поддържане  на  високо  обществено  доверие  към процесите по изпълнение и управление на Споразумението за партньорство и програм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Специфични цели на НК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Популяризиране  на  оперативните прог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убличност  и  прозрачност  на  процеса  на управление и изпълнение на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Информиране   на   бенефициенти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те за кандидатстване по програмите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Повишаване 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на 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компетентността на бенефициент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Насърчаване  на  активното  участие  на  заинтересовани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те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  стр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70000" y="1359000"/>
            <a:ext cx="847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22268"/>
                </a:solidFill>
                <a:latin typeface="Arial"/>
              </a:rPr>
              <a:t>В изпълнение на стратегията, УО на ОПРР ще отговарят 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Изпълнението на мерките по информация и комуникация на ниво програма, в съответствие с Регламент 1303/2013 г. и Н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Разработването  и  изпълнението  на  Годишен  план  за  действие  за осъществяването на конкретни информационни и комуникационни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Поддържането на препратка от уебсайта на програмата към публичния модул на ИСУ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Популяризиране на възможностите за финансиране по новооткрити процедури за предоставяне на БФП (съгласно т. 3 от Приложение XII на Регламент 1303/2013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908000" y="189000"/>
            <a:ext cx="53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70000" y="1380960"/>
            <a:ext cx="8478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ационалната комуникационна стратегия ще подлежи на актуализация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омяна в някои от целевите групи или под-груп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омяна в обсега, акцентите, дейностите по съответ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Закъснение в изпълнението на информационните и комуникационните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Доказана неефективност (установена чрез мониторинга и оценката) на прилагани информационни и комуникационни подхо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очаквани и непрогнозируеми социални събития, които биха оказали съществено влияние върху реализацията на програмите и биха изисквали „пренастройване“ на Комуникационната страте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908000" y="189000"/>
            <a:ext cx="53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8920" y="393336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00000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0"/>
          <p:cNvSpPr/>
          <p:nvPr/>
        </p:nvSpPr>
        <p:spPr>
          <a:xfrm>
            <a:off x="324000" y="609300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c1c1c"/>
                </a:solidFill>
                <a:latin typeface="바탕"/>
                <a:ea typeface="바탕"/>
              </a:rPr>
              <a:t>Гр. Пловди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c1c1c"/>
                </a:solidFill>
                <a:latin typeface="바탕"/>
                <a:ea typeface="바탕"/>
              </a:rPr>
              <a:t>09.12.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70000" y="4533840"/>
            <a:ext cx="603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пов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местник-главен директор на ГД „Програмиране на регионалното развитие“, МР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10T08:03:07Z</dcterms:modified>
  <cp:revision>772</cp:revision>
  <dc:subject/>
  <dc:title>Diapositiva 1</dc:title>
</cp:coreProperties>
</file>