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BEC-43AD-4D19-9787-B13E30FB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8E1-477D-4D25-A66A-46978674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2A1-E62C-4053-8B07-07E8F4E1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E10-AFF1-4FE4-800B-0FD55733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B4A5-661E-43FB-AF30-B9FCBCA5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A01C-6A2D-4709-89AA-E6FE79B5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1CB-4CF7-4046-BD73-E1747C4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799-A000-4ED7-AFFA-77959CE8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104-984F-440C-B6C1-E17DBF3E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639-1645-425B-A495-B958B50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BAE-E0FE-44E9-81A2-F2374E0B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46D-996E-49E5-A7A4-92023827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4D24-6FB7-4E2B-9194-6DE5671687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0000" y="4436640"/>
            <a:ext cx="5184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Индикативна годишна работна програма за 2015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280" y="57340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24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24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70000" y="1484280"/>
            <a:ext cx="84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Устойчиво и интегрирано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5240" y="1871640"/>
          <a:ext cx="8870760" cy="3808440"/>
        </p:xfrm>
        <a:graphic>
          <a:graphicData uri="http://schemas.openxmlformats.org/drawingml/2006/table">
            <a:tbl>
              <a:tblPr/>
              <a:tblGrid>
                <a:gridCol w="1022040"/>
                <a:gridCol w="1081080"/>
                <a:gridCol w="1008360"/>
                <a:gridCol w="1224000"/>
                <a:gridCol w="2447640"/>
                <a:gridCol w="1008360"/>
                <a:gridCol w="107928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не на процеду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068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грирани планове за градско възстановяване и развитие  2014-2020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пълнение на проекти в рамките на интегрираните планове за градско възстановяване и развитие (ИПГВР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57 272 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общини за градовете от 1-во до 3-то ниво, съгласно НКП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новяване на общинска образователна и култур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дернизация на социална инфраструктура, включително създаване на съвременни социални жилища за маргинализираните групи, в това число роми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новяване, енергийна ефективност и ВЕИ в административните сгради на държавната и общинската администр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обряване на градската 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они с потенциал за икономическо разви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ърчаване на устойчива мултимодална градска мобилност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 от проектната готовност на конкретните бенефициен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70000" y="14209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егионална образовате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7920" y="1790640"/>
          <a:ext cx="8723160" cy="4145040"/>
        </p:xfrm>
        <a:graphic>
          <a:graphicData uri="http://schemas.openxmlformats.org/drawingml/2006/table">
            <a:tbl>
              <a:tblPr/>
              <a:tblGrid>
                <a:gridCol w="909360"/>
                <a:gridCol w="863640"/>
                <a:gridCol w="936720"/>
                <a:gridCol w="1368360"/>
                <a:gridCol w="2952720"/>
                <a:gridCol w="719280"/>
                <a:gridCol w="973080"/>
              </a:tblGrid>
              <a:tr h="854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на процед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90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-на образо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на инф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ъздаване на условия за модерни образо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ни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34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1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есионални училища – МОН, МЗХ общи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2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ни училища и обслужващи звена – МОН, общи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3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ни училища – ММС, общи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4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лища по изкуствата и училища по културата – М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ителство, реконструкция и ремонт на държавни и общински училища от национално и регионално значение,  включително прилежащото дворно място и общежитията към т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ъществяване на мерки за енергийна ефективност и въвеждане в експлоатация на инсталации за производство на енергия от възобновяеми източниц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обряване достъпа за хора с увреждания до образователните сгради, като част от останалите строително монтажни дейности по обект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готвяне на обследвания за енергийна ефективност и конструктивни обследвания на сградния фонд на държавните училищ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авка и монтаж на оборудване и обзавеждане за горепосочените сгради/помещения,като част от цялостното им обновява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 от проектната готовност на конкретните бенефициен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0000" y="14209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егионална пътна инфраструк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7920" y="1790640"/>
          <a:ext cx="8723160" cy="3973680"/>
        </p:xfrm>
        <a:graphic>
          <a:graphicData uri="http://schemas.openxmlformats.org/drawingml/2006/table">
            <a:tbl>
              <a:tblPr/>
              <a:tblGrid>
                <a:gridCol w="909360"/>
                <a:gridCol w="1584360"/>
                <a:gridCol w="936720"/>
                <a:gridCol w="1368360"/>
                <a:gridCol w="2232000"/>
                <a:gridCol w="719280"/>
                <a:gridCol w="973080"/>
              </a:tblGrid>
              <a:tr h="854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на процед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194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-ни пътища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обряване на мобилността на регионално равнище посредством свързването на второстепен-ни и третостепен-ни възли с инфраструк-турата на транс-европейската транспортна мреж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 461 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ция „Пътна инфраструктура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оителство, реконструкция и рехабилитация на първокласни и второкласни (извън Трансевропейската транспортна мрежа) и третокласни пътища, които обслужват вътрешнорегионални връзки и осигуряват възможности за развитие на специфичния икономически потенциал, чрез връзка и достъп до TEN-T мреж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 от проектната готовност на конкретни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нефици-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70000" y="1420920"/>
            <a:ext cx="862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иоритетна ос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Техническ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77920" y="1790640"/>
          <a:ext cx="8723160" cy="4168800"/>
        </p:xfrm>
        <a:graphic>
          <a:graphicData uri="http://schemas.openxmlformats.org/drawingml/2006/table">
            <a:tbl>
              <a:tblPr/>
              <a:tblGrid>
                <a:gridCol w="909360"/>
                <a:gridCol w="1584360"/>
                <a:gridCol w="936720"/>
                <a:gridCol w="1368360"/>
                <a:gridCol w="2232000"/>
                <a:gridCol w="863640"/>
                <a:gridCol w="828720"/>
              </a:tblGrid>
              <a:tr h="1158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дур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 на процедур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 размер на БФП /лв.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и кандид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и допустими дей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на обявя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на процеду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ен срок за подаване на проектни предлож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09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а линия за УО на ОПРР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омагане на УО на ОПРР 2014-2020 г. за осъществяване на функции по управление и изпълнение на Оперативна програма „Региони в растеж“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О на ОПРР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, свързани с програмиране, управление, изпълнение, наблюдение, контрол и оценка на ОПР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 за осигуряване на информация и публичност на ОПР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 за укрепване на административния капацитет на УО на ОПРР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Times New Roman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февруа-р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9640" y="1366920"/>
            <a:ext cx="82090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svetelina Dimitrova</cp:lastModifiedBy>
  <dcterms:modified xsi:type="dcterms:W3CDTF">2014-11-29T17:09:29Z</dcterms:modified>
  <cp:revision>764</cp:revision>
  <dc:subject/>
  <dc:title>Diapositiva 1</dc:title>
</cp:coreProperties>
</file>