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403-041C-4D3A-9403-35857237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892-5B28-42B4-A069-60A184CD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731-5BCC-4710-B637-B805EBAA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7BC-D65E-46DB-AB14-6F01E8EB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C8A-02D5-4576-8A27-A39DED8F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C0C-F145-47E0-B925-32D4F893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6CB9-2359-4176-895E-29ADE479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0B9-2339-4AA6-960F-703AA6C3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494-568B-45E3-A7E2-8E8F89FD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9AF-79F2-4BEF-8CA4-AC273A27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E595-F61D-418C-B80E-EBAC3602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A38-26B0-4F7C-83DA-CB482ED7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FB81-DCE1-4A3C-86B2-4B512C1191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5280" y="4508280"/>
            <a:ext cx="5689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Етичен кодекс за поведение на Комитета за наблюдение на Оперативна програма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Региони в растеж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 2014-202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Първо засе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2060"/>
                </a:solidFill>
                <a:latin typeface="Arial"/>
              </a:rPr>
              <a:t>09 декември 2014г., гр. Пловд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395280" y="5734080"/>
            <a:ext cx="51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4"/>
          <a:stretch/>
        </p:blipFill>
        <p:spPr>
          <a:xfrm>
            <a:off x="3851280" y="21420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Етичен кодекс за по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Чл.1.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Този кодекс определя задължителни етични норми за поведение на председателя, членовете и наблюдаването на Комитета за наблюдение при изпълнение на техните функции, наричан по-долу „Комитета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Чл.2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. Поведението на председателя, членовете и наблюдателите на Комитета се основава на следните принципи – законност, безкористност, безпристрастност, независимост, обективност, публичност, отговорност, професионално поведение, политическа неутралност, личен приме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Чл.3. Закон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1). Председателят, членовете и наблюдателите на Комитета с дейността си пазят интересите на обществото и се ръководят единствено от закона. Те изпълняват своевременно, добросъвестно, точно и професионално възложените им за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2). Председателят, членовете и наблюдателите на Комитета противодействат на корупционни и други незаконни дей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Етичен кодекс за по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Чл. 4. Безкорист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1). Председателят и членовете на Комитета са длъжни да вземат решения единствено в името на обществения интерес. Решенията не могат да бъдат вземани с оглед получаване на финансова или материална облага за тях самите, техни близки, техни роднини и други свързани 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2). Председателят и членовете на Комитета са задължени да декларират всякакви лични/частни интереси, свързани с дейността им в рамките на Комитета в съответствие с Вътрешните правила за работа на Комитета. В този смисъл, всеки член на Комитета подписва деклар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3). Председателят, членовете и наблюдателите на Комитета не позволяват да бъдат въвличани във финансова зависимост или друго обвързване от трети страни и организации и трябва да откажат да приемат облаги, които могат да повлияят на изпълнението на техните отговор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т ОПР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tretch/>
        </p:blipFill>
        <p:spPr>
          <a:xfrm>
            <a:off x="4140360" y="616572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Етичен кодекс за по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Чл.5. Безпристрастност и независим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1). Председателят, членовете и наблюдателите на Комитета не трябва да поемат финансови или други задължения към лица или организации, които могат да им оказват влияние върху добросъвестното и безпристрастното изпълнение на техните функции, свързани с дейността на Комит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2). Председателят, членовете и наблюдателите на Комитета не могат да поемат финансови или други задължения към индивиди или организации, които могат да им оказват влияние върху добросъвестното и безпристрастното изпълнение на техните функции като членове на Комит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Чл.6. Обектив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и осъществяване на своята работа председателят и членовете на Комитета могат да отсъждат и вземат решения единствено по същество на разглежданите въпро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Етичен кодекс за по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Чл.7. Публич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1). Председателят, членовете и наблюдателите на Комитета са отговорни пред обществото за своите решения и действия. Те трябва да обосновават причините за своите решения, като се задължават да не разгласяват информацията, преди същата да е станала публична. В съответствие с вътрешните правила на Комитета за наблюдение на оперативна програма „Региони в растеж“, протоколите от заседанията на Комитета се публикуват на страницата на управляващия орган и на Единния информационен портал за фондовете от Европейския съю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2). Официалното становище на Комитета по разглежданите въпроси се изразява пред средствата за масово осведомяване от Председателя и/или упълномощено от него лице, член на Комит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3). Председателят, членовете и наблюдателите на Комитета не могат да изказват своето лично мнение като официална позиция на Комит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Етичен кодекс за по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Чл.8. Отговорност и професионално пове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1). При изпълнение на своите задължения председателят, членовете и наблюдателите на Комитета носят отговорност, съгласно законите на Република Бълга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2). Членовете и наблюдателите на Комитета не са длъжни да спазват указанията на председателя, в случай, че същите съдържат установени явни правонару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3). Информацията и документите, засягащи дейността на Комитета трябва да бъдат използвани от председателя, членовете и наблюдателите само при осъществяване на техните професионални за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4). Бивши членове, упълномощени заместници или наблюдатели не могат да злоупотребяват с информация, с която са разполагали по време на изпълнение на техните задачи в Комит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5). Председателят, всеки от членовете и наблюдателите взима активно участие при осъществяването на функциите на Комитета с висок професионализъм, гарантиращ взаимно доверие и отговор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Етичен кодекс за по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Чл.9. Политическа неутрал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едседателят, всеки от членовете и наблюдателите на Комитета осъществяват задълженията и отговорностите в рамките на Комитета без никаква политическа предубеденост и личен интер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Чл.10. Личен приме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едседателят, всеки от членовете и наблюдателите на Комитета трябва да насърчават и подкрепят тези принципи чрез своя личен принци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680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4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Иван Попов</a:t>
            </a: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Заместник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главен директор на ГД „Програмиране на регионалното развитие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МРР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Dariya Shamonina</cp:lastModifiedBy>
  <dcterms:modified xsi:type="dcterms:W3CDTF">2014-12-08T07:06:47Z</dcterms:modified>
  <cp:revision>758</cp:revision>
  <dc:subject/>
  <dc:title>Diapositiva 1</dc:title>
</cp:coreProperties>
</file>