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665-4B11-428C-84A9-6469C8BB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D59-5D02-41CC-8911-83747D54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6FB-0150-4B9E-A224-1879402E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C35-12FA-4D94-BADD-6AB6BCA8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A93A-1928-415C-A106-299F39F1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74D-EC20-4D34-AEEE-4B2A183C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C311-391B-4B68-8E3D-45DD0D60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419-8F10-4A7E-9FF7-FC09DA91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B3A-F8F7-4482-84E4-AB683270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3D6-B33D-4C73-962A-8C34619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D8BD-40E1-41FE-B9B4-2BFF5BEF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95D-7D32-47F0-B163-3418A9E3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ABD8-0840-4FAC-AAD1-FE4471E7BC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5280" y="4508280"/>
            <a:ext cx="5689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Етичен кодекс за поведение на Комитета за наблюдение на Оперативна програма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егиони в растеж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Първ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2060"/>
                </a:solidFill>
                <a:latin typeface="Arial"/>
              </a:rPr>
              <a:t>09 декември 2014г., гр. Пловд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395280" y="573408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851280" y="21420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1.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Този кодекс определя задължителни етични норми за поведение на председателя, членовете и наблюдаването на Комитета за наблюдение при изпълнение на техните функции, наричан по-долу „Комитета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2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 Поведението на председателя, членовете и наблюдателите на Комитета се основава на следните принципи – законност, безкористност, безпристрастност, независимост, обективност, публичност, отговорност, професионално поведение, политическа неутралност, личен приме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3. Закон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, членовете и наблюдателите на Комитета с дейността си пазят интересите на обществото и се ръководят единствено от закона. Те изпълняват своевременно, добросъвестно, точно и професионално възложените им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Председателят, членовете и наблюдателите на Комитета противодействат на корупционни и други незаконни дей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 4. Безкорист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 и членовете на Комитета са длъжни да вземат решения единствено в името на обществения интерес. Решенията не могат да бъдат вземани с оглед получаване на финансова или материална облага за тях самите, техни близки, техни роднини и други свързани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Председателят и членовете на Комитета са задължени да декларират всякакви лични/частни интереси, свързани с дейността им в рамките на Комитета в съответствие с Вътрешните правила за работа на Комитета. В този смисъл, всеки член на Комитета подписва декла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3). Председателят, членовете и наблюдателите на Комитета не позволяват да бъдат въвличани във финансова зависимост или друго обвързване от трети страни и организации и трябва да откажат да приемат облаги, които могат да повлияят на изпълнението на техните отговор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т ОП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4140360" y="616572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5. Безпристрастност и независим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, членовете и наблюдателите на Комитета не трябва да поемат финансови или други задължения към лица или организации, които могат да им оказват влияние върху добросъвестното и безпристрастното изпълнение на техните функции, свързани с дейността на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Председателят, членовете и наблюдателите на Комитета не могат да поемат финансови или други задължения към индивиди или организации, които могат да им оказват влияние върху добросъвестното и безпристрастното изпълнение на техните функции като членове на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6. Обектив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и осъществяване на своята работа председателят и членовете на Комитета могат да отсъждат и вземат решения единствено по същество на разглежданите въпро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7. Публич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едседателят, членовете и наблюдателите на Комитета са отговорни пред обществото за своите решения и действия. Те трябва да обосновават причините за своите решения, като се задължават да не разгласяват информацията, преди същата да е станала публична. В съответствие с вътрешните правила на Комитета за наблюдение на оперативна програма „Региони в растеж“, протоколите от заседанията на Комитета се публикуват на страницата на управляващия орган и на Единния информационен портал за фондовете от Европейския съю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Официалното становище на Комитета по разглежданите въпроси се изразява пред средствата за масово осведомяване от Председателя и/или упълномощено от него лице, член на Комит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3). Председателят, членовете и наблюдателите на Комитета не могат да изказват своето лично мнение като официална позиция на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8. Отговорност и професионално пове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1). При изпълнение на своите задължения председателят, членовете и наблюдателите на Комитета носят отговорност, съгласно законите на Република Бълг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2). Членовете и наблюдателите на Комитета не са длъжни да спазват указанията на председателя, в случай, че същите съдържат установени явни правонару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3). Информацията и документите, засягащи дейността на Комитета трябва да бъдат използвани от председателя, членовете и наблюдателите само при осъществяване на техните професионални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4). Бивши членове, упълномощени заместници или наблюдатели не могат да злоупотребяват с информация, с която са разполагали по време на изпълнение на техните задачи в Комит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(5). Председателят, всеки от членовете и наблюдателите взима активно участие при осъществяването на функциите на Комитета с висок професионализъм, гарантиращ взаимно доверие и отговор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Етичен кодекс за по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9. Политическа неутр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седателят, всеки от членовете и наблюдателите на Комитета осъществяват задълженията и отговорностите в рамките на Комитета без никаква политическа предубеденост и личен интер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Чл.10. Личен приме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седателят, всеки от членовете и наблюдателите на Комитета трябва да насърчават и подкрепят тези принципи чрез своя личен принци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680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4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местник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главен директор на ГД „Програмиране на регионалното развитие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МР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08T07:06:47Z</dcterms:modified>
  <cp:revision>758</cp:revision>
  <dc:subject/>
  <dc:title>Diapositiva 1</dc:title>
</cp:coreProperties>
</file>