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751-E713-4DE4-B468-C07C410A551C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Слайд 10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_</a:t>
            </a: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Предварителна оценка за подкрепа с финансови инструменти в рамките на ОПРР 2014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арителната оценка за подкрепа с финансови инструменти е задължителен елемент при прилагане на финансовите инструменти в програмен период 2014-2020, заложен в чл.37 на Регламент 1303/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я оценява стратегията за ефективно прилагане на финансови инструменти за Оперативна програма „Региони в растеж" 2014­-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 целите на изготвяне на оценката бе сключен договор с изпълнителя Прайс Уотърхаус Купърс и Министерство на финансите на Република Бълг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Calibri"/>
              </a:rPr>
              <a:t>Структурата на доклад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се основава на методологията за предварителна оценка на финансови инструменти в програмния период 2014-202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слайда виждате основните дейности, извършени от консултанта при изготвяне на оценката, както и основните изводи от извършения анализ на търсенето в трите направления: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градско развитие, енергийна ефективност и туризъм и културно наследство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Слайд 11 Предварителната оценка за прилагане на финансовите инструменти в рамките на ОПРР 2014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арителната оценка за прилагане на финансовите инструменти в рамките на ОПРР 2014-2020 потвърди и основните направления, в които програмата предвижда използването на Ф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следващия програмен период средствата, разпределени за финансови инструменти, ще бъдат използвани в три направления: 1. енергийна ефективност; 2. градско развитие, онхващащо градска среда и зони с потенциал за икономическо развитие, интегриран градски транспорт, спортна инфраструктура, културна инфраструктура и 3. Регионален туризъ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ият размер на средствата за финансови инструменти възлиза на 472 млн.лв., които представляват около 16% от общия ресурс по Оперативната програ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Слайд 12 – Варианти за структура на финансовите инструмен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нализът разглежда всички възможни варианти за прилагане на финансови инструменти, включително пряк избор на финансов инструмент от УО и пряко изпълнение от У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следвайки опита от предходния програмен период, предварителната оценка препоръчва използването на Фонд на Фондовете, който да притежава необходимата експертиза за ефективна координация на проце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поръчва се създаването на отделни финансови инструменти за инвестиране в отделните направления идентифицирани в ОПРР 2014-2020 – ЕЕ, градско развитие и регионален туризъ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поръчва се да се надгради опитът по инициати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SSICA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който въпреки трудностите срещани в началото се определя като добра пра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лага се използването на гаранционен фонд, който да катализира привличането на допълнителен частен ресурс и участие на повече финансови институции в проц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Финансовите инструменти ще имат съществена роля за комбинирането на финансови продукти като заеми и гаранации с БФП на ниво проект. На база оценка на бизнес плана на съответния проект ще бъде определян необходимият размер на БФП за осигуряване на финансова устойчивост на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2 –  Напредък в процеса на програмиране на ОПРР 2014-202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 са 10 заседание на ТРГ за разработване на ОПРР 2014-2020. Програмата е приета на заседание на СКУСЕС – 13.05.2014 г. и Министерски съвет на 21.05.14 г. и е изпрате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фициално одобрение до ЕК през системат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C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0 май 2014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ото на м. август 2014 г. бяха получени официални коментари от страна на ЕК по отношение текста на ОПРР 2014-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а м.август-ноември ОПРР 2014-2020 беше актуализирана, въз основа на проведени двустранни срещи между представители на МРРБ и други ведомства и заинтересовани страни, с цел адекватно отразяване на коментарите на 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 м. септември 2014 г. беше проведена официална среща с ЕК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която бяха обсъдени основните отворени въпроси по отношение на ОПРР 2014-2020. В тази връзка, в края на м.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тември 2014 г. УО на ОПРР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рати актуализираният вариант на ОПРР 2014-202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ормалн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реглед на 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ая на м. октомври бяха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 неформалните коментари от ЕК по проекта на програма. УО на ОПРР пристъпи към финална актуализация на ОПРР 2014-2020 в началото на м. ноемв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 като програмата преми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по неприсъствено съгласуване в рамките на тематичната работна група, беше приета на заседание на Съвета за координация и управление на средствата от ЕС и на Министерски съвет с Решение на №768 от 17.11.14 г., окончателния вариант беше официално изпратен за одобрение от Европейската коми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: </a:t>
            </a: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в официално изпратената ОПРР 2014-2020 на Е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ова промяна в ОПРР 2014-2020 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ването на нова Приоритетна ос 2, насочена към подкрепа за малки градове от ниво 4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ериферни географски райони, най-силно засегнати от бедн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ени са допълнителни обосновки за подкрепата на сектор „Здравеопазване”.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З представи критерии за избор и списък с приоритетните обект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одкрепа на системата на спешната помощ и продължителното 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е на продължителното лечение, в обхвата на подкрепа по Приоритетната ос 4 „Регионална здравна инфраструктура“ на ОПРР 2014-20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включват само инвестиции в  държавните болниц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бхвата на подкреп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т инвестициите в превенция на риска от свлачищ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 ще бъдат подкрепяни п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 програма „Околна среда“ в рамките на цялостната политика по превенция на риск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ите на новата версия на ОПРР 2014-202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дентифицирани два големи проекта по смисъла на Общия Регламент 1303/2013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нергийна ефективнос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жилищни сгради и студентски общежития (с бенефициент Дирекция „Обновяване на жилищни сгради” в МРРБ) 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нвестиции в здравната инфраструктур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 бенефициент М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илени са аргументите за подкрепа по секторните приоритетни о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ключени са допълнителни обосновки и анализи и е отразен напредъкът по изпълнение на предварителните условия и по разработване на секторните документи, които определят предефинираните обекти и проек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оритетна ос „Регионална пътна инфраструктура” –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ана е Методиката за приоритизиране на пътни отсеч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АПИ, в съответствие с коментарите на ЕК.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ят достъп до TEN-T мрежата е критерий за допустимос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ътните отс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ени са допълнителни обосновки и за подкрепата на сектор „Образование”, насочени към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аркацията и допълняемостта с ОПНОИР, както и критерии и списък за приоритизиране на висшите училищ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финансиране по ОПРР 2014-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4 – Териториален обхват на подкрепа по ОПРР 2014-20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те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Р 2014-2020 ще бъд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ъществявани на цялата територ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траната, като щ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ят и допринесат за устойчиво и балансираното социално-икономическ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риториално развитие на българските регио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Р 2014-2020 е интегрирана оперативна програма, насочена към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гане на целите на градската политика в България и допринасяща за регионалните измерения на секторните полити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ени в Споразумението за партнь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та съдърж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интегрирани приоритетни о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сочени към постигане на целите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ентричния модел за развитие на страната, които представлява взаимосвързана система основаваща се на 10 града-центрове за растеж, подкрепени от мрежа от балансиращи на регионално ниво средни градове в „централните райони” на страна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ито са подкрепени от мрежа от малки градове със съществена роля за предоставяне на основни услуги за населението, за привличане на инвеститори и създаване на възможности за работа в „периферните райони“ на страната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сочената политика за устойчиво градско развитие противодейства на негативните териториални проце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оди до развиване, укрепване и разширяване на функциите и ролята на градовете за балансирано и устойчиво социално-икономическо и териториално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ените функционални характеристи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те и по-малките градов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ъздават условия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 нови икономически дейност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ит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сифицират местната икономика и намаляват рисковете по отношение на безработицата и доходите, включително и се подобряват базовите условия за бизнес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те цели на полицентричен модел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звитие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ързани с намаляване на емиграция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иран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те демографски проце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ръщане на пълния потенциал на територия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яване на достъп до услуги и работни места за периферните райони на страна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игуряван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тенциал за растеж и условия за устойчив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сички региони в Бълг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Р 2014-2020 отчита 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иториалните измерен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няко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ни полити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ито са от ключово значение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гане целите на регионалната политик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крепата ще се осъществява чрез секторни приоритетни оси на територията на цялата страна и ще се базира на </a:t>
            </a: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ефинирани проекти – ограничен брой предварително определени проекти, приоритизирани в съответствие с национални секторни стратегически документи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т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бъдат насочени към подкрепа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на инфраструктура от национално и регионално знач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институционализация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циалните услуги за деца и възрастни хора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шна медицинска помощ и болници за продължително леч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но наследство от световно и национално значение и регионална пътна инфра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5 -  Подкрепа за устойчиво градско развитие – Приоритетна ос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1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Устойчиво и интегрирано градско развитие” – подкрепа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и действия за устойчиво градско развитие в 10 града-центрове на растеж и мрежа от балансиращи средни градове от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ната полицентрична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цел на Приоритетна ос 1 e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яване на качеството на живо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редните и големите градове. Целта ще допринесе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аляване на нивото на вътрешна миграция в страна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то по този начин ще се подкрепи полицентричният модел за развитие на стран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те в рамките на тази приоритетна ос ще бъдат изпълнявани на базата на местните градски стратегии, разработени на най-ниско териториално ниво с участието на гражданите и бизнеса -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и планове за градско възстановяване и развитие (ИПГВР)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ъгласно чл.7 от Регламента за ЕФРР 1301/2013 и определените в тях зони за въздействие. ИПГВР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инструменти за постигане на градско развитие и за интелигентно управление на градовет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ГВР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в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ящи инструменти за привличане на инвеститор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ъй като определя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и градски зон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ито ще бъд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средоточени публичните инвестиции за периода до 2020 г.,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ето позволяв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планиране на частните бизнес и инвестиционни намерен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 програма „Региони в растеж“ 2014-2020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вижда възможност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сърчителни мерки по линия на Закона за насърчаване на инвестициите в рамките на зоните с потенциал за икономическо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 ресурс по Приоритетна ос 1 за интегрирано градско развитие – над 54% от общия бюджет на ОПРР (1,64 млрд. лв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ще се осъществяват в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йна ефективнос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жилищни и административни сгради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яване на градска среда, зони с потенциал за икономическо развитие, общинска образователна 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на инфраструктура, културна и спортна инфраструктура, както и градски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радовете от 1-во до 3-то ниво по ОПРР 2014-20202 се допуска финансиране в размер до 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от проектното портфолио за всеки един град, за реализиране на проекти за общинска образователн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на, културна и спортна инфраструктура и зони с потенциал за икономическо развитие, извън зоните за въздействие на ИПГВР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рамките на общинската територ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 възприетия подход се цели осъществяване на ефективни функционални връзки на зоните за въздействие със съседните те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те в подкрепа за интегрираното градско развитие на големите и средните градове ще се изпълняв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ата на одобрените ИПГВР в рамките на една схема по Приоритетна ос 1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ПРР 2014-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ждам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О на ОПРР д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ючи рамков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нит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големите и среднит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ове от 1-во до 3-то нив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националната полицентрична система. Рамковот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в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в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фичн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пределение между допустимите инвестиционни приоритет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а че д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оваря в максимална степен на индивидуалните нужди и потенциал на съответния град, идентифицирани в съответния ИПГВ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ковит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азумения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включв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поредби за управление и мониторинг на изпълнениет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интегрирания план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 основа на установения в ИПГВР механизъм на изпълн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а на сключване на споразумения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на ОПРР ще проверява тяхното съответствие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обрения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ГВР за спазване на реалистичност за изпълнение, капацитет, идентифицирани нужди, интегриран подход, участие на гражданското обществ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щините ще бъд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гирано правото да изберат приоритетни проекти от своя ИПГВР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извършв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на допустимостта на проектите и ще следи дали се спазва общият финансов ресурс, разпределен по тематични цели на ниво Приоритетна 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спешното изпълнение и управление на плановете е необходим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ен административен капацитет, адекватна организационна структур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управление на плана, ясна координация, прозрачни процедури за управление и широко обществено участие при реализа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та и към края на програмния период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бъдат извършен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ни оценки на изпълнението на устойчивото град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ите на Приоритетна ос 1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. по отношение на ИПГВР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ето ще е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за вземане на своевременни решения от УО да преразпредели средствата по оста и между градските стратеги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6 -  Подкрепа за периферни райони, най-силно засегнати от бедност – Приоритетна ос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2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Подкрепа за периферни географски райони, най-силно засегнати от бедност”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асочена към адекватно адресиране на проблемите, свързани с бедност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циално включване, по-добро качество на живот и на предлаганите услуги и модернизация на публична инфраструктура в периферните райони на страната, както и стимулиране на градско-селските връ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та цел на Приоритетната ос 2 е подобряване на качеството на живот в периферните район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гледна точка на намаляване на неравенствата между периферните и централните райони на страната. Цели с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яване на неконкурентноспособната сред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постигане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 за преодоляване на негативните миграционни проце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тигане на заложената цел е прецизиран обхватът на допустимите дейности за градовете от Ниво 4 по Приоритетна ос 2 – от допустимите дейности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ключени културна и спортна инфраструктура, градски транспорт и градска среда, с изключение на базовата техническа инфраструктура (улична мрежа, тротоари и пешеходни зон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ът за приоритетна ос 2 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6 млн. лв. – 6,85%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общия бюджет на ОПРР и е насочен за изпълнение на проекти в 4 инвестиционни приоритета – енергийна ефективност в многофамилни жилищни сгради и административни сгради, градска среда и икономическо развитие, социална и образователна инфра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7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3: Регионална образователна инфраструктура – 115 млн.евр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очена към подкрепа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ържавни и общински училища от национално и регионално знач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т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ите, специалните, помощните и спортните училища и училищата по изкуство и култура, както и висшите училищ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образователна инфраструктура</a:t>
            </a:r>
            <a:r>
              <a:rPr b="0" lang="bg-BG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 по тази приоритетна ос на ОПРР 2014-2020 ще се подкрепя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иторията на цялата страна</a:t>
            </a:r>
            <a:r>
              <a:rPr b="0" lang="bg-BG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, в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ответствие с Методологията за приоритизация на образователната инфраструктура в Република България, одобрена от Министерството на образованието и науката и Стратегията за развитие на висшето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ни институци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я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и умения на учащит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ързани с нуждите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зара на труд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същевременно 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учащи в неравностойно полож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изирани на национално нив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тази връзка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н фокус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 поставен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ите училищ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ите допустими дейности включв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ство, реконструкция и ремонт на образователните институц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ключителн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жащото околно пространств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житията към тях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ка и монтаж на оборудване и обзавеждане на образователните обекти, като част от цялостното им обновя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4: „Регионална здравна инфраструктура – 84 млн.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та на сектор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Здравеопазване”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бъде насочена към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на спешната помощ и продължителното леч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ъответствие с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ната здравна стратегия 2014-2020,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та за развитие на системата за спешна медицинска помощ в Р. България 2014-2020 и Концепцията за преструктуриране на системата на болничната помощ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в връзка с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ени коментари от ЕК по проекта на ОПРР 2014-2020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ъответствие с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руктурирането на болничната помощ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инистерство на здравеопазванет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 отпадане в обхвата на на интервенциите з продължително лечение да останат само държавните болниц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зи връзка по програмата е предвидено реализиране н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лям проект по смисъла на Общия Регламент 1303/2013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нвестициите в здравната инфраструктур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йто ще включва всички дейности свързан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дкрепа на спешната помощ, болниците за продължително лечение от 1-ви и 2-ри тип и техническата помощ за инфраструктурните инвестици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зработване на план за действие и мониторинг на инвестициите в здравната инфраструктура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 Министерство на здравеопазването остава единствен бенефициент по приоритетна ос 4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8 - Приоритетни оси: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5: „Регионална социална инфраструктура“ – 51 млн.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социалната инфраструктура за подкрепа на процеса по деинституционализация – модернизация на дневни центрове за деца с увреждания, Центрове за настаняване от семеен тип, защитени жилища, центрове за социална рехабилит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се реализират на територията на цялата страна, в съответствие с Националната стратегия „Визия за деинституционализация на децата в Република България“ с хоризонт 2025 и Плана за действие за изпълнението й и съответно „Националната стратегия за дългосрочна грижа” и Плана за действие за изпълнението й - за действия, насочени към възрастните х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 бенефициенти са общините и Министерство на здравеопазването за медико-социалнит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6: „Регионален туризъм“ – 101 млн.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та по приоритетната ос е насочена към повишаване на туристическото предлагане на паметници на културата от национално и световно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бъдат финансирани ограничен брой, предварително определени културни и исторически атракции от национално и световно значение и религиозни обекти с потенциал за развитие като комплексен туристически продукт и за привличане на туристически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пределяне на културните обекти на интервенция е сформирана междуведомствена работна група с основна задача да изработи методология и да приоритизира обекти на културното наследство с национално и световно значение, които са допустими за финансиране по Оперативна програма „Региони в растеж” 2014-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ктите, които ще се финансират по приоритетната ос, се класират по приоритетност съгласно Методологията за приоритизиране на обектите на културното наследство от национално и световно значение по система от критерии и съответна тежест, одобрена от Министъра на регионалното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9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7: „Регионалната пътна инфраструктура“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,5 млн.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та по приоритетната ос е насочена към подобряване на свързаността и достъпността до TEN-T мреж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ите допустими дейности включват строителство, реконструкция и рехабилитация на първокласни и второкласни (извън Трансевропейската транспортна мрежа) и третокласни пътища, които обслужват вътрешнорегионални връзки и осигуряват възможности за развитие на специфичния икономически потенциал, чрез връзка и достъп до TEN-T мреж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те ще бъдат финансирани в съответствие със стратегическите документи за развитие на сектор Транспорт и Mетодика и критерии за приоритизиране на пътни участъци, разработени от Агенция „Пътна инфраструктура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ъответствие с коментарите на ЕК е 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уализирана Методиката за приоритизиране на пътни отсеч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АПИ, като д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ктният достъп до TEN-T мрежата е критерий за допустимос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ътните отс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зи връзка, Агенцията „Пътна инфраструктура” представи проект на актуализиран индикативен списък с пътни отсечки, които да бъдат финансирани по програм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8: „Техническа помощ“ – 52 млн.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на дейности за укрепване и повишаване на административния капацитет на Управляващия орган и бенефициентите по програмата, включително за и</a:t>
            </a:r>
            <a:r>
              <a:rPr b="0" lang="bg-BG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зпъление на плановете з укрепване на капацитета на бенефицие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Изпълнение на мерки за информация и публично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4E9-6B6D-4E1F-8A4C-7D590083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1DC-213B-46A6-806F-6B76A01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AA1-E2F8-40AE-92F2-FF294F10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793-B592-4707-8F83-A8922D65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1EBC-985F-410D-8C12-885FF78A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416A-D525-4F35-8A4F-53089E9E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1A8-C10E-4265-87E3-FA2F6411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D15B-A286-4E7B-9617-81D38DE2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9A42-45E3-4E29-BE45-2756E3F7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04BD-0F8E-495D-9440-D0F537BD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2E3F-5DEA-4AF0-A8E1-5CA9808B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C2A-1661-4CD5-AA26-FCA748D4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62F-5779-4BBF-AC22-3553A5C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C094-0902-4BD9-8F65-E4BDDA79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97C1-78FE-447A-AF9D-8F266661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8D6B-A2E6-48C5-91F6-4593EF16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83AF-B78F-4B13-9DA0-445958D4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F6B4-C739-4ABF-9E27-F5BADD21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444F-0D16-4296-B19F-1753C628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B2F4-E4E0-4E32-8D1D-29B595FC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F140-5328-48FB-9F7B-74BE16BA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CA93-DDBA-4651-BA3C-DC9795BC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291-28DD-4DE0-812B-26DEB777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D6A1-5CA7-46E5-937E-6A928275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6B09-527F-4D30-8673-DDD63B1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0EDA-37F1-4338-BFE7-958EC4F2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99B4-38AA-47A7-B672-DB6023C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47B0-D93D-47F6-86A8-28FA4BEE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A865-8180-4A5C-AC0A-1C838D30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12C5-C920-4671-AFF3-2CC231B6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FD5-DA42-44D9-BA0A-8285D07A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B7C-BE97-4059-9F4C-02B26030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D07-DE01-4C7D-B5EB-512F4125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931-9C2E-477B-BB72-10CC626D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4BE-3C0C-4C64-9504-C9012CCE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3FA-CB4D-4657-AC8B-BD2CDBD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CA39-694F-4120-BB02-D321FB6B6C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2559-A2FA-4452-BE54-ABD9B2320C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C173-0878-413E-A59D-4253B20091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70000" y="3860640"/>
            <a:ext cx="55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1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КОМИТЕТ</a:t>
            </a:r>
            <a:r>
              <a:rPr b="1" lang="en-US" sz="2400" spc="-1" strike="noStrike">
                <a:solidFill>
                  <a:srgbClr val="800000"/>
                </a:solidFill>
                <a:latin typeface="Sylfaen"/>
              </a:rPr>
              <a:t>  </a:t>
            </a: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 ЗА </a:t>
            </a:r>
            <a:r>
              <a:rPr b="1" lang="en-US" sz="2400" spc="-1" strike="noStrike">
                <a:solidFill>
                  <a:srgbClr val="800000"/>
                </a:solidFill>
                <a:latin typeface="Sylfaen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9640" y="597708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10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332000" y="26028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дварителна оценка за подкрепа с финансови инструменти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158760" y="1413000"/>
            <a:ext cx="87217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сновни дей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нализ на случаите на пазарна неефективност, неоптимални инвестиционни ситуации и инвестиционни нужди за областите на политиката и тематичните цели или инвестици­онните приорите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едварителна оценка на допълнителните публични и частни ресурси, които потенциално ще бъдат събрани от финансовия инструмент до равнището на крайния получате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ценка на изводите, извлечени от подобни инструменти, както и начините за прилагане на тези изводи в бъдещ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едлаганата инвестиционна стратег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чаквани резултати и как съответният финансов инструмент се очаква да допринесе за постигането на специфичните цели, определени в рамките на съответния приоритет, включително показателите за този прин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зпълнител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Прайс Уотърхаус Купърс ЕО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татус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инализирана в края на ноември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сновни извод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ърсенето на финансиране за проекти за градско развитие от общини възлиза н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901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посредствените нужди, идентифицирани в ИПГВР, за енергийна ефективност възлизат н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46 млн. евр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иран значителен потенциа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 проекти за туризъм и културно наслед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6235560" y="2467080"/>
            <a:ext cx="2629080" cy="277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Общо средства за финансови инструм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средствата от ОПРР за ФИ: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472 млн.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16% от бюджета на ОПР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ube 9"/>
          <p:cNvSpPr/>
          <p:nvPr/>
        </p:nvSpPr>
        <p:spPr>
          <a:xfrm>
            <a:off x="250920" y="1341360"/>
            <a:ext cx="5083200" cy="782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ube 13"/>
          <p:cNvSpPr/>
          <p:nvPr/>
        </p:nvSpPr>
        <p:spPr>
          <a:xfrm>
            <a:off x="290520" y="3017880"/>
            <a:ext cx="5032440" cy="679320"/>
          </a:xfrm>
          <a:prstGeom prst="cube">
            <a:avLst>
              <a:gd name="adj" fmla="val 25000"/>
            </a:avLst>
          </a:prstGeom>
          <a:solidFill>
            <a:srgbClr val="bbe0e3">
              <a:alpha val="56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ube 14"/>
          <p:cNvSpPr/>
          <p:nvPr/>
        </p:nvSpPr>
        <p:spPr>
          <a:xfrm>
            <a:off x="301680" y="3762360"/>
            <a:ext cx="5032440" cy="762120"/>
          </a:xfrm>
          <a:prstGeom prst="cube">
            <a:avLst>
              <a:gd name="adj" fmla="val 25000"/>
            </a:avLst>
          </a:prstGeom>
          <a:solidFill>
            <a:srgbClr val="bbe0e3">
              <a:alpha val="56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ube 15"/>
          <p:cNvSpPr/>
          <p:nvPr/>
        </p:nvSpPr>
        <p:spPr>
          <a:xfrm>
            <a:off x="285840" y="4605480"/>
            <a:ext cx="5032440" cy="709560"/>
          </a:xfrm>
          <a:prstGeom prst="cube">
            <a:avLst>
              <a:gd name="adj" fmla="val 25000"/>
            </a:avLst>
          </a:prstGeom>
          <a:solidFill>
            <a:srgbClr val="bbe0e3">
              <a:alpha val="56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ube 16"/>
          <p:cNvSpPr/>
          <p:nvPr/>
        </p:nvSpPr>
        <p:spPr>
          <a:xfrm>
            <a:off x="301680" y="5373720"/>
            <a:ext cx="5000400" cy="668160"/>
          </a:xfrm>
          <a:prstGeom prst="cube">
            <a:avLst>
              <a:gd name="adj" fmla="val 25000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ube 17"/>
          <p:cNvSpPr/>
          <p:nvPr/>
        </p:nvSpPr>
        <p:spPr>
          <a:xfrm>
            <a:off x="282600" y="2178000"/>
            <a:ext cx="5051520" cy="782640"/>
          </a:xfrm>
          <a:prstGeom prst="cube">
            <a:avLst>
              <a:gd name="adj" fmla="val 25000"/>
            </a:avLst>
          </a:prstGeom>
          <a:solidFill>
            <a:srgbClr val="bbe0e3">
              <a:alpha val="56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620640" y="155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620640" y="2325600"/>
            <a:ext cx="43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радска среда и зони с потенциал за икономиче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620640" y="32180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тегриран градски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644400" y="5543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уризъ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620640" y="40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орт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644400" y="4797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ултур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6173640" y="1484280"/>
            <a:ext cx="291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вестиции за устойчиво и интегрира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градск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5"/>
          <p:cNvSpPr/>
          <p:nvPr/>
        </p:nvSpPr>
        <p:spPr>
          <a:xfrm>
            <a:off x="5689440" y="5373720"/>
            <a:ext cx="33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иоритетна ос “Регионален туризъм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n Arrow 36"/>
          <p:cNvSpPr/>
          <p:nvPr/>
        </p:nvSpPr>
        <p:spPr>
          <a:xfrm>
            <a:off x="5467320" y="1341360"/>
            <a:ext cx="696960" cy="39340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eft Arrow 37"/>
          <p:cNvSpPr/>
          <p:nvPr/>
        </p:nvSpPr>
        <p:spPr>
          <a:xfrm>
            <a:off x="5334120" y="5391000"/>
            <a:ext cx="355320" cy="48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3"/>
          <p:cNvCxnSpPr/>
          <p:nvPr/>
        </p:nvCxnSpPr>
        <p:spPr>
          <a:xfrm flipH="1">
            <a:off x="5333400" y="1699920"/>
            <a:ext cx="3560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6"/>
          <p:cNvCxnSpPr/>
          <p:nvPr/>
        </p:nvCxnSpPr>
        <p:spPr>
          <a:xfrm flipH="1">
            <a:off x="5333400" y="2565000"/>
            <a:ext cx="3560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8"/>
          <p:cNvCxnSpPr>
            <a:endCxn id="263" idx="5"/>
          </p:cNvCxnSpPr>
          <p:nvPr/>
        </p:nvCxnSpPr>
        <p:spPr>
          <a:xfrm flipH="1">
            <a:off x="5334840" y="3273120"/>
            <a:ext cx="3675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Straight Arrow Connector 11"/>
          <p:cNvCxnSpPr/>
          <p:nvPr/>
        </p:nvCxnSpPr>
        <p:spPr>
          <a:xfrm flipH="1">
            <a:off x="5317560" y="4076280"/>
            <a:ext cx="37188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8"/>
          <p:cNvCxnSpPr/>
          <p:nvPr/>
        </p:nvCxnSpPr>
        <p:spPr>
          <a:xfrm flipH="1">
            <a:off x="5333400" y="4797360"/>
            <a:ext cx="356040" cy="15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Rectangle 8"/>
          <p:cNvSpPr/>
          <p:nvPr/>
        </p:nvSpPr>
        <p:spPr>
          <a:xfrm>
            <a:off x="1332000" y="26028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дварителна оценка за подкрепа с финансови инструменти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332000" y="26028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арианти за структура на финансовите инструм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4"/>
          <a:stretch/>
        </p:blipFill>
        <p:spPr>
          <a:xfrm>
            <a:off x="270000" y="1390680"/>
            <a:ext cx="8694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826920" y="1413000"/>
          <a:ext cx="7490160" cy="4597200"/>
        </p:xfrm>
        <a:graphic>
          <a:graphicData uri="http://schemas.openxmlformats.org/drawingml/2006/table">
            <a:tbl>
              <a:tblPr/>
              <a:tblGrid>
                <a:gridCol w="3240360"/>
                <a:gridCol w="1009440"/>
                <a:gridCol w="574920"/>
                <a:gridCol w="936360"/>
                <a:gridCol w="432000"/>
                <a:gridCol w="720720"/>
                <a:gridCol w="576360"/>
              </a:tblGrid>
              <a:tr h="39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и оси и инвестиционни приоритети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пейски средства + национално съфинансира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възмездна финансова помо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и инструмен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национално съфинансиране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1 "Устойчиво и интегрирано градско развитие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4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 039 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 409 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Енерг. eф-ст в админ. и жилищни сград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 930 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108 5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3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821 7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Градска сред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 991 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 323 4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8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667 5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а сре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 697 6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127 8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569 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и с потенциал за икономическо разви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293 3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195 5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97 7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Образовате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694 3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694 3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Социа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800 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335 7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1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465 1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8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549 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549 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679 0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679 0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572 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786 0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786 0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Интегриран градски транспор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 032 5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577 6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454 8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ритетна ос 2 «Подкрепа за периферни географски райони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най-силно засегнати от бедност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04 6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771 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4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33 4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Енерг. eф-ст в админ. и жилищни сград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296 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854 6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41 3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Градска сред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184 0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691 9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8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92 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а сре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582 3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624 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58 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и с потенциал за икономическо разви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1 7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67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33 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Образовате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645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645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Социа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579 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579 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3 "Регионална образователна инфраструктура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896 4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896 4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4 "Регионална здравна инфраструктура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597 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597 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5 "Регионална социална инфраструктура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857 6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857 6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6 "Регионален туризъм"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755 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377 9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377 9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7 "Регионална пътна инфраструктура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526 9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526 9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8 "Техническа помощ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394 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394 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43 182 1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1 461 4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3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 720 6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 БЮДЖЕТ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43 182 109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8"/>
          <p:cNvSpPr/>
          <p:nvPr/>
        </p:nvSpPr>
        <p:spPr>
          <a:xfrm>
            <a:off x="1332000" y="331920"/>
            <a:ext cx="59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кативен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042920" y="1844640"/>
            <a:ext cx="72741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Заместник-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главен директор на ГД „Програмиране на регионалното развитие“, МР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260280"/>
            <a:ext cx="646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предък в процеса на програмиране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Diagram 11" descr=""/>
          <p:cNvPicPr/>
          <p:nvPr/>
        </p:nvPicPr>
        <p:blipFill>
          <a:blip r:embed="rId2"/>
          <a:stretch/>
        </p:blipFill>
        <p:spPr>
          <a:xfrm>
            <a:off x="176040" y="1414440"/>
            <a:ext cx="8828280" cy="4668840"/>
          </a:xfrm>
          <a:prstGeom prst="rect">
            <a:avLst/>
          </a:prstGeom>
          <a:ln w="0">
            <a:noFill/>
          </a:ln>
        </p:spPr>
      </p:pic>
      <p:sp>
        <p:nvSpPr>
          <p:cNvPr id="147" name="Right Arrow 12"/>
          <p:cNvSpPr/>
          <p:nvPr/>
        </p:nvSpPr>
        <p:spPr>
          <a:xfrm rot="5400000">
            <a:off x="6463440" y="3172320"/>
            <a:ext cx="647640" cy="439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ight Arrow 13"/>
          <p:cNvSpPr/>
          <p:nvPr/>
        </p:nvSpPr>
        <p:spPr>
          <a:xfrm rot="5400000">
            <a:off x="6514920" y="4589280"/>
            <a:ext cx="646200" cy="4399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ight Arrow 14"/>
          <p:cNvSpPr/>
          <p:nvPr/>
        </p:nvSpPr>
        <p:spPr>
          <a:xfrm rot="1800000">
            <a:off x="5290920" y="1963440"/>
            <a:ext cx="869760" cy="458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Arrow 15"/>
          <p:cNvSpPr/>
          <p:nvPr/>
        </p:nvSpPr>
        <p:spPr>
          <a:xfrm rot="10800000">
            <a:off x="5416560" y="5181120"/>
            <a:ext cx="620640" cy="459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Arrow 16"/>
          <p:cNvSpPr/>
          <p:nvPr/>
        </p:nvSpPr>
        <p:spPr>
          <a:xfrm rot="12060000">
            <a:off x="2438280" y="5150880"/>
            <a:ext cx="711360" cy="50940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18"/>
          <p:cNvSpPr/>
          <p:nvPr/>
        </p:nvSpPr>
        <p:spPr>
          <a:xfrm rot="16260000">
            <a:off x="1542600" y="3800160"/>
            <a:ext cx="648000" cy="4888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2835360" y="2908440"/>
            <a:ext cx="3201840" cy="213192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обрена оперативна програма „Региони в растеж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-20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rved Down Arrow 20"/>
          <p:cNvSpPr/>
          <p:nvPr/>
        </p:nvSpPr>
        <p:spPr>
          <a:xfrm>
            <a:off x="1617840" y="1655640"/>
            <a:ext cx="2666880" cy="1076400"/>
          </a:xfrm>
          <a:custGeom>
            <a:avLst/>
            <a:gdLst>
              <a:gd name="textAreaLeft" fmla="*/ 567000 w 2666880"/>
              <a:gd name="textAreaRight" fmla="*/ 1970280 w 2666880"/>
              <a:gd name="textAreaTop" fmla="*/ 144000 h 1076400"/>
              <a:gd name="textAreaBottom" fmla="*/ 932400 h 107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5" hR="21600" stAng="10800000" swAng="5400000"/>
                <a:lnTo>
                  <a:pt x="11365" y="0"/>
                </a:lnTo>
                <a:arcTo wR="9185" hR="21600" stAng="-5400000" swAng="3524042"/>
                <a:lnTo>
                  <a:pt x="21308" y="16200"/>
                </a:lnTo>
                <a:lnTo>
                  <a:pt x="19460" y="21600"/>
                </a:lnTo>
                <a:lnTo>
                  <a:pt x="17028" y="16200"/>
                </a:lnTo>
                <a:lnTo>
                  <a:pt x="18078" y="16200"/>
                </a:lnTo>
                <a:arcTo wR="9185" hR="21600" stAng="-1875958" swAng="-3349479"/>
                <a:lnTo>
                  <a:pt x="10275" y="153"/>
                </a:lnTo>
                <a:arcTo wR="9185" hR="21600" stAng="-5574563" swAng="-5225437"/>
                <a:close/>
              </a:path>
              <a:path fill="darkenLess" w="21600" h="21600">
                <a:moveTo>
                  <a:pt x="0" y="21600"/>
                </a:moveTo>
                <a:arcTo wR="9185" hR="21600" stAng="10800000" swAng="5400000"/>
                <a:lnTo>
                  <a:pt x="9185" y="0"/>
                </a:lnTo>
                <a:arcTo wR="9185" hR="21600" stAng="-5400000" swAng="174563"/>
                <a:lnTo>
                  <a:pt x="10275" y="153"/>
                </a:lnTo>
                <a:arcTo wR="9185" hR="21600" stAng="-5574563" swAng="-5225437"/>
                <a:close/>
              </a:path>
            </a:pathLst>
          </a:cu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2-ри кръ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фициал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гово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17.11.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2951280" y="3922560"/>
            <a:ext cx="1947600" cy="919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Calibri"/>
              </a:rPr>
              <a:t>Оптимистичен вариант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Calibri"/>
              </a:rPr>
              <a:t>2014 г.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1" descr="C:\Users\DimovD\AppData\Local\Microsoft\Windows\Temporary Internet Files\Content.IE5\KBIYNC14\MM900041090[1].gif"/>
          <p:cNvPicPr/>
          <p:nvPr/>
        </p:nvPicPr>
        <p:blipFill>
          <a:blip r:embed="rId3"/>
          <a:stretch/>
        </p:blipFill>
        <p:spPr>
          <a:xfrm>
            <a:off x="5170320" y="4005360"/>
            <a:ext cx="586080" cy="753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ight Arrow Callout 27" descr=""/>
          <p:cNvPicPr/>
          <p:nvPr/>
        </p:nvPicPr>
        <p:blipFill>
          <a:blip r:embed="rId2"/>
          <a:stretch/>
        </p:blipFill>
        <p:spPr>
          <a:xfrm>
            <a:off x="7162920" y="1212840"/>
            <a:ext cx="841320" cy="47973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395280" y="1413000"/>
            <a:ext cx="676908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а Приоритетна ос, насочена към подкрепа з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фе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ски райони и малки градов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 ниво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395280" y="2205000"/>
            <a:ext cx="676908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адане о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хвата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репа по програмат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нските болн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превенция на риска от свлач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395280" y="2997360"/>
            <a:ext cx="676908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олеми проекти за Енергийна ефективност (ПО 1 и 2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вестиции в здравна инфраструктура (ПО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95280" y="3789360"/>
            <a:ext cx="676908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туализирана Методология за приоритизиране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ътни отсечки – директен достъп 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-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р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6"/>
          <p:cNvSpPr/>
          <p:nvPr/>
        </p:nvSpPr>
        <p:spPr>
          <a:xfrm>
            <a:off x="395280" y="4581360"/>
            <a:ext cx="676908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ълнителни обосновки, критерии за приоритизиран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ък с предефинирани обекти от МЗ и 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7"/>
          <p:cNvSpPr/>
          <p:nvPr/>
        </p:nvSpPr>
        <p:spPr>
          <a:xfrm>
            <a:off x="395280" y="5373720"/>
            <a:ext cx="676908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цизирани индикатори и специфични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8101080" y="1341360"/>
            <a:ext cx="431640" cy="4608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0000"/>
                </a:solidFill>
                <a:latin typeface="Arial"/>
              </a:rPr>
              <a:t>Изпратена чрез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FC </a:t>
            </a:r>
            <a:r>
              <a:rPr b="1" lang="bg-BG" sz="1800" spc="-1" strike="noStrike">
                <a:solidFill>
                  <a:srgbClr val="cc0000"/>
                </a:solidFill>
                <a:latin typeface="Arial"/>
              </a:rPr>
              <a:t> н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bg-BG" sz="1800" spc="-1" strike="noStrike">
                <a:solidFill>
                  <a:srgbClr val="cc0000"/>
                </a:solidFill>
                <a:latin typeface="Arial"/>
              </a:rPr>
              <a:t>7.11.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403280" y="26028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мени в официално изпратенат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619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Териториален обхват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GISuser\Desktop\centralni i periferni rajoni.jpg"/>
          <p:cNvPicPr/>
          <p:nvPr/>
        </p:nvPicPr>
        <p:blipFill>
          <a:blip r:embed="rId2"/>
          <a:stretch/>
        </p:blipFill>
        <p:spPr>
          <a:xfrm>
            <a:off x="539640" y="1413000"/>
            <a:ext cx="6696360" cy="4609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6696000" y="4581360"/>
            <a:ext cx="2305080" cy="93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4"/>
          <a:srcRect l="0" t="0" r="22708" b="-26221"/>
          <a:stretch/>
        </p:blipFill>
        <p:spPr>
          <a:xfrm>
            <a:off x="6696000" y="5452920"/>
            <a:ext cx="2160720" cy="557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5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6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дкрепа за устойчиво градско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2"/>
          <a:srcRect l="5119" t="12680" r="43503" b="18997"/>
          <a:stretch/>
        </p:blipFill>
        <p:spPr>
          <a:xfrm>
            <a:off x="250920" y="1557360"/>
            <a:ext cx="4060800" cy="4319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"/>
          <p:cNvPicPr/>
          <p:nvPr/>
        </p:nvPicPr>
        <p:blipFill>
          <a:blip r:embed="rId3"/>
          <a:srcRect l="65277" t="64960" r="11015" b="17568"/>
          <a:stretch/>
        </p:blipFill>
        <p:spPr>
          <a:xfrm>
            <a:off x="2557440" y="4943520"/>
            <a:ext cx="1582920" cy="93348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335480" y="1290600"/>
            <a:ext cx="468936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ИПГВР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новен инструмент за интегрирани градски инвестиции, съгласно чл. 7 от Регламента за ЕФРР 1301/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Мерки в подкрепа 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енергийнат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дска среда и икономически з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нска образователна, социална, културна и спортна 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дск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Финансов ресурс за градско развитие: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1,64 млрд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54,46% от бюджета на ОПР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Конкретни бенефициен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: общини на големите и средните градове от 1-во до 3-то йерархично ниво та националната полицентричната мрежа, МРРБ и финансови инструмен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периферни райони, най-силно засегнати от бед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361800" y="1413000"/>
            <a:ext cx="81946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вестиционен приоритет 1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нергийна ефективност в административни и жилищни сгради -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29 млн. евр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ни бенефициенти: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рекция „ОЖС” в МРР,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Инвестиционен приоритет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2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добряване на градска среда и инвестиционната икономическата активност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30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бряване на градска сред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9,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(10%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финансови инструменти)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бряване на инвестиционната икономическата активност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– 10,5 млн. евро (33% финансови инструмен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Инвестиционен приоритет 3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на инфраструктура (общинска)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23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Инвестиционен приоритет 4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24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отенциални бенефициентти за ПО 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бщини на малки градове от 4-то йерархично ниво на националната полицентрична мре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стоят допълнителни преговори с ЕК относно предвидената подкрепа по приоритетната 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и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87480" y="1703520"/>
            <a:ext cx="54990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модернизация на образователни институции, в съответвие 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Методология за приоритизация на образователни обект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Стратегия за висшето образование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1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, МЗХ, МК, ММС, Висши училища, общини за общинска образователна инфраструктура от национално и регионално зна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81000" y="1413000"/>
            <a:ext cx="7574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3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на образователна инфраструктура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61920" y="4214880"/>
            <a:ext cx="557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системата на спешната помощ и продължителното л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84</a:t>
            </a:r>
            <a:r>
              <a:rPr b="1" lang="ru-RU" sz="12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на здравеопазването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87480" y="3645000"/>
            <a:ext cx="782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4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здравна инфраструктура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http://www.bgregio.eu/media/Dobri%20praktiki/DSC_0520.JPG"/>
          <p:cNvPicPr/>
          <p:nvPr/>
        </p:nvPicPr>
        <p:blipFill>
          <a:blip r:embed="rId2"/>
          <a:stretch/>
        </p:blipFill>
        <p:spPr>
          <a:xfrm>
            <a:off x="6122880" y="1703520"/>
            <a:ext cx="2525760" cy="1941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kavarna.bg/pictures/5f01593d78910e5f223e76ea200ba454.jpg"/>
          <p:cNvPicPr/>
          <p:nvPr/>
        </p:nvPicPr>
        <p:blipFill>
          <a:blip r:embed="rId3"/>
          <a:stretch/>
        </p:blipFill>
        <p:spPr>
          <a:xfrm>
            <a:off x="6062760" y="3875040"/>
            <a:ext cx="2646360" cy="1979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87480" y="1711440"/>
            <a:ext cx="54212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процеса по деинституционализиация на социални услуги, в съответствие 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80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Визия за деинституционализация на децат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0680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Националната стратегия за дългосрочна гриж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5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Бенефициенти:</a:t>
            </a: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ни; Министерство на здравеопазването за медико-социални домове за гри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7480" y="1413000"/>
            <a:ext cx="6422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5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на социална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инфраструктура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tent Placeholder 2"/>
          <p:cNvSpPr/>
          <p:nvPr/>
        </p:nvSpPr>
        <p:spPr>
          <a:xfrm>
            <a:off x="87480" y="3860640"/>
            <a:ext cx="52765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паметници на културата от национално и световно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5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– 10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ни бенефициен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, религиозни институции,   общини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ключително в партньорство с НПО, организации изпълняващ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и инсрумен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87480" y="3554280"/>
            <a:ext cx="5776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6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ен туризъм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5" descr="C:\Users\DimitrovaTs\Pictures\за презентация 15КН\CNST_Petrich_0011.JPG"/>
          <p:cNvPicPr/>
          <p:nvPr/>
        </p:nvPicPr>
        <p:blipFill>
          <a:blip r:embed="rId2"/>
          <a:stretch/>
        </p:blipFill>
        <p:spPr>
          <a:xfrm>
            <a:off x="5724360" y="1770120"/>
            <a:ext cx="3090960" cy="1843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3"/>
          <a:stretch/>
        </p:blipFill>
        <p:spPr>
          <a:xfrm>
            <a:off x="5724360" y="3705120"/>
            <a:ext cx="3090960" cy="225432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pic>
        <p:nvPicPr>
          <p:cNvPr id="231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и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ontent Placeholder 2"/>
          <p:cNvSpPr/>
          <p:nvPr/>
        </p:nvSpPr>
        <p:spPr>
          <a:xfrm>
            <a:off x="131760" y="1833480"/>
            <a:ext cx="56642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подобряване на свързаността и достъпността до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EN-T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мреж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194,5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енция «Пътна инфраструкту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31760" y="1438200"/>
            <a:ext cx="7656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7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ътна инфраструктура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31760" y="3716280"/>
            <a:ext cx="57625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8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Техническа помощ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повишаване на капацитета на бенефициентите и УО на ОПР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52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УО на ОПРР и бенефициенти по програма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"/>
          <p:cNvPicPr/>
          <p:nvPr/>
        </p:nvPicPr>
        <p:blipFill>
          <a:blip r:embed="rId2"/>
          <a:stretch/>
        </p:blipFill>
        <p:spPr>
          <a:xfrm>
            <a:off x="6000840" y="1668600"/>
            <a:ext cx="3000240" cy="191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6000840" y="3860640"/>
            <a:ext cx="3047760" cy="19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и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RD</cp:lastModifiedBy>
  <dcterms:modified xsi:type="dcterms:W3CDTF">2014-12-02T08:07:59Z</dcterms:modified>
  <cp:revision>888</cp:revision>
  <dc:subject/>
  <dc:title>Diapositiva 1</dc:title>
</cp:coreProperties>
</file>