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gif" ContentType="image/gif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8.png" ContentType="image/pn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90FA-69DE-4769-9D05-4B7F79BCFDB1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Слайд 10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_</a:t>
            </a: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Предварителна оценка за подкрепа с финансови инструменти в рамките на ОПРР 2014-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варителната оценка за подкрепа с финансови инструменти е задължителен елемент при прилагане на финансовите инструменти в програмен период 2014-2020, заложен в чл.37 на Регламент 1303/20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Тя оценява стратегията за ефективно прилагане на финансови инструменти за Оперативна програма „Региони в растеж" 2014­-202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а целите на изготвяне на оценката бе сключен договор с изпълнителя Прайс Уотърхаус Купърс и Министерство на финансите на Република Бълг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00"/>
                </a:solidFill>
                <a:latin typeface="Calibri"/>
              </a:rPr>
              <a:t>Структурата на доклада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се основава на методологията за предварителна оценка на финансови инструменти в програмния период 2014-202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слайда виждате основните дейности, извършени от консултанта при изготвяне на оценката, както и основните изводи от извършения анализ на търсенето в трите направления: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градско развитие, енергийна ефективност и туризъм и културно наследство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Слайд 11 Предварителната оценка за прилагане на финансовите инструменти в рамките на ОПРР 2014-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варителната оценка за прилагане на финансовите инструменти в рамките на ОПРР 2014-2020 потвърди и основните направления, в които програмата предвижда използването на Ф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следващия програмен период средствата, разпределени за финансови инструменти, ще бъдат използвани в три направления: 1. енергийна ефективност; 2. градско развитие, онхващащо градска среда и зони с потенциал за икономическо развитие, интегриран градски транспорт, спортна инфраструктура, културна инфраструктура и 3. Регионален туризъ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ият размер на средствата за финансови инструменти възлиза на 472 млн.лв., които представляват около 16% от общия ресурс по Оперативната програ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Слайд 12 – Варианти за структура на финансовите инструмен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Анализът разглежда всички възможни варианти за прилагане на финансови инструменти, включително пряк избор на финансов инструмент от УО и пряко изпълнение от У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следвайки опита от предходния програмен период, предварителната оценка препоръчва използването на Фонд на Фондовете, който да притежава необходимата експертиза за ефективна координация на проце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поръчва се създаването на отделни финансови инструменти за инвестиране в отделните направления идентифицирани в ОПРР 2014-2020 – ЕЕ, градско развитие и регионален туризъ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поръчва се да се надгради опитът по инициати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SSICA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, който въпреки трудностите срещани в началото се определя като добра прак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лага се използването на гаранционен фонд, който да катализира привличането на допълнителен частен ресурс и участие на повече финансови институции в проц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Финансовите инструменти ще имат съществена роля за комбинирането на финансови продукти като заеми и гаранации с БФП на ниво проект. На база оценка на бизнес плана на съответния проект ще бъде определян необходимият размер на БФП за осигуряване на финансова устойчивост на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2 –  Напредък в процеса на програмиране на ОПРР 2014-2020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 са 10 заседание на ТРГ за разработване на ОПРР 2014-2020. Програмата е приета на заседание на СКУСЕС – 13.05.2014 г. и Министерски съвет на 21.05.14 г. и е изпрате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фициално одобрение до ЕК през системата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C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30 май 2014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ото на м. август 2014 г. бяха получени официални коментари от страна на ЕК по отношение текста на ОПРР 2014-20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а м.август-ноември ОПРР 2014-2020 беше актуализирана, въз основа на проведени двустранни срещи между представители на МРРБ и други ведомства и заинтересовани страни, с цел адекватно отразяване на коментарите на 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 м. септември 2014 г. беше проведена официална среща с ЕК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 която бяха обсъдени основните отворени въпроси по отношение на ОПРР 2014-2020. В тази връзка, в края на м.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птември 2014 г. УО на ОПРР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рати актуализираният вариант на ОПРР 2014-2020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ормално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преглед на 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ая на м. октомври бяха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 неформалните коментари от ЕК по проекта на програма. УО на ОПРР пристъпи към финална актуализация на ОПРР 2014-2020 в началото на м. ноемв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 като програмата преми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по неприсъствено съгласуване в рамките на тематичната работна група, беше приета на заседание на Съвета за координация и управление на средствата от ЕС и на Министерски съвет с Решение на №768 от 17.11.14 г., окончателния вариант беше официално изпратен за одобрение от Европейската коми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: </a:t>
            </a: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в официално изпратената ОПРР 2014-2020 на Е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ова промяна в ОПРР 2014-2020 е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ването на нова Приоритетна ос 2, насочена към подкрепа за малки градове от ниво 4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ериферни географски райони, най-силно засегнати от бедно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ени са допълнителни обосновки за подкрепата на сектор „Здравеопазване”.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З представи критерии за избор и списък с приоритетните обект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подкрепа на системата на спешната помощ и продължителното 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ношение на продължителното лечение, в обхвата на подкрепа по Приоритетната ос 4 „Регионална здравна инфраструктура“ на ОПРР 2014-202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включват само инвестиции в  държавните болниц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обхвата на подкреп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адат инвестициите в превенция на риска от свлачищ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е ще бъдат подкрепяни по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 програма „Околна среда“ в рамките на цялостната политика по превенция на риск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ите на новата версия на ОПРР 2014-2020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идентифицирани два големи проекта по смисъла на Общия Регламент 1303/2013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енергийна ефективност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жилищни сгради и студентски общежития (с бенефициент Дирекция „Обновяване на жилищни сгради” в МРРБ) 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нвестиции в здравната инфраструктур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 бенефициент М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илени са аргументите за подкрепа по секторните приоритетни ос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ключени са допълнителни обосновки и анализи и е отразен напредъкът по изпълнение на предварителните условия и по разработване на секторните документи, които определят предефинираните обекти и проек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оритетна ос „Регионална пътна инфраструктура” –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изирана е Методиката за приоритизиране на пътни отсечк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АПИ, в съответствие с коментарите на ЕК.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ият достъп до TEN-T мрежата е критерий за допустимост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ътните отсе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ени са допълнителни обосновки и за подкрепата на сектор „Образование”, насочени към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аркацията и допълняемостта с ОПНОИР, както и критерии и списък за приоритизиране на висшите училищ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финансиране по ОПРР 2014-20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4 – Териториален обхват на подкрепа по ОПРР 2014-20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те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ПРР 2014-2020 ще бъда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ъществявани на цялата територия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страната, като ще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ят и допринесат за устойчиво и балансираното социално-икономическо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ериториално развитие на българските регио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Р 2014-2020 е интегрирана оперативна програма, насочена към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гане на целите на градската политика в България и допринасяща за регионалните измерения на секторните политик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ени в Споразумението за партньо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та съдърж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интегрирани приоритетни ос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сочени към постигане на целите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центричния модел за развитие на страната, които представлява взаимосвързана система основаваща се на 10 града-центрове за растеж, подкрепени от мрежа от балансиращи на регионално ниво средни градове в „централните райони” на странат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ито са подкрепени от мрежа от малки градове със съществена роля за предоставяне на основни услуги за населението, за привличане на инвеститори и създаване на възможности за работа в „периферните райони“ на страната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насочената политика за устойчиво градско развитие противодейства на негативните териториални процес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оди до развиване, укрепване и разширяване на функциите и ролята на градовете за балансирано и устойчиво социално-икономическо и териториално разви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ените функционални характеристик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те и по-малките градов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ъздават условия з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на нови икономически дейност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ито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версифицират местната икономика и намаляват рисковете по отношение на безработицата и доходите, включително и се подобряват базовите условия за бизнес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те цели на полицентричен модел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развитие с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ързани с намаляване на емиграцият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иран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ите демографски процес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ръщане на пълния потенциал на територият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гуряване на достъп до услуги и работни места за периферните райони на странат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игуряване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тенциал за растеж и условия за устойчив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сички региони в Бълг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Р 2014-2020 отчита 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иториалните измерения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няко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торни политик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ито са от ключово значение з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гане целите на регионалната политик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крепата ще се осъществява чрез секторни приоритетни оси на територията на цялата страна и ще се базира на </a:t>
            </a: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ефинирани проекти – ограничен брой предварително определени проекти, приоритизирани в съответствие с национални секторни стратегически документи</a:t>
            </a:r>
            <a:r>
              <a:rPr b="0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35000"/>
                <a:tab algn="ctr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т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е бъдат насочени към подкрепа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на инфраструктура от национално и регионално значен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институционализация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циалните услуги за деца и възрастни хора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шна медицинска помощ и болници за продължително лечен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турно наследство от световно и национално значение и регионална пътна инфра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5 -  Подкрепа за устойчиво градско развитие – Приоритетна ос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а ос 1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Устойчиво и интегрирано градско развитие” – подкрепа з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ани действия за устойчиво градско развитие в 10 града-центрове на растеж и мрежа от балансиращи средни градове от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ната полицентрична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 цел на Приоритетна ос 1 e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яване на качеството на живот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редните и големите градове. Целта ще допринесе з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аляване на нивото на вътрешна миграция в странат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то по този начин ще се подкрепи полицентричният модел за развитие на стран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те в рамките на тази приоритетна ос ще бъдат изпълнявани на базата на местните градски стратегии, разработени на най-ниско териториално ниво с участието на гражданите и бизнеса -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ани планове за градско възстановяване и развитие (ИПГВР)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ъгласно чл.7 от Регламента за ЕФРР 1301/2013 и определените в тях зони за въздействие. ИПГВР с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инструменти за постигане на градско развитие и за интелигентно управление на градовет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ГВР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ва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ящи инструменти за привличане на инвеститор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ъй като определя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и градски зон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ито ще бъда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средоточени публичните инвестиции за периода до 2020 г.,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ето позволяв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планиране на частните бизнес и инвестиционни намерения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 програма „Региони в растеж“ 2014-2020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вижда възможност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насърчителни мерки по линия на Закона за насърчаване на инвестициите в рамките на зоните с потенциал за икономическо разви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 ресурс по Приоритетна ос 1 за интегрирано градско развитие – над 54% от общия бюджет на ОПРР (1,64 млрд. лв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ще се осъществяват в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йна ефективност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жилищни и административни сгради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яване на градска среда, зони с потенциал за икономическо развитие, общинска образователна 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на инфраструктура, културна и спортна инфраструктура, както и градски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градовете от 1-во до 3-то ниво по ОПРР 2014-20202 се допуска финансиране в размер до 20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от проектното портфолио за всеки един град, за реализиране на проекти за общинска образователн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на, културна и спортна инфраструктура и зони с потенциал за икономическо развитие, извън зоните за въздействие на ИПГВР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рамките на общинската територия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 възприетия подход се цели осъществяване на ефективни функционални връзки на зоните за въздействие със съседните тери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те в подкрепа за интегрираното градско развитие на големите и средните градове ще се изпълнява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азата на одобрените ИПГВР в рамките на една схема по Приоритетна ос 1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ПРР 2014-202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ждам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О на ОПРР д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ючи рамково споразумен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нит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големите и средните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дове от 1-во до 3-то ниво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националната полицентрична система. Рамковото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азумен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е в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в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ецифично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пределение между допустимите инвестиционни приоритет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а че д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оваря в максимална степен на индивидуалните нужди и потенциал на съответния град, идентифицирани в съответния ИПГВ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мковите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азумения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 включва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поредби за управление и мониторинг на изпълнението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интегрирания план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з основа на установения в ИПГВР механизъм на изпълнен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па на сключване на споразуменият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 на ОПРР ще проверява тяхното съответствие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добрения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ГВР за спазване на реалистичност за изпълнение, капацитет, идентифицирани нужди, интегриран подход, участие на гражданското общество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бщините ще бъде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гирано правото да изберат приоритетни проекти от своя ИПГВР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е извършв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на допустимостта на проектите и ще следи дали се спазва общият финансов ресурс, разпределен по тематични цели на ниво Приоритетна 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спешното изпълнение и управление на плановете е необходим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ен административен капацитет, адекватна организационна структур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управление на плана, ясна координация, прозрачни процедури за управление и широко обществено участие при реализация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та и към края на програмния период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е бъдат извършен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ни оценки на изпълнението на устойчивото град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амките на Приоритетна ос 1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. по отношение на ИПГВР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ето ще е з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за вземане на своевременни решения от УО да преразпредели средствата по оста и между градските стратеги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6 -  Подкрепа за периферни райони, най-силно засегнати от бедност – Приоритетна ос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а ос 2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Подкрепа за периферни географски райони, най-силно засегнати от бедност”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насочена към адекватно адресиране на проблемите, свързани с бедностт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циално включване, по-добро качество на живот и на предлаганите услуги и модернизация на публична инфраструктура в периферните райони на страната, както и стимулиране на градско-селските връ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та цел на Приоритетната ос 2 е подобряване на качеството на живот в периферните район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гледна точка на намаляване на неравенствата между периферните и централните райони на страната. Цели се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доляване на неконкурентноспособната сред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постигане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 за преодоляване на негативните миграционни процес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стигане на заложената цел е прецизиран обхватът на допустимите дейности за градовете от Ниво 4 по Приоритетна ос 2 – от допустимите дейности с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ключени културна и спортна инфраструктура, градски транспорт и градска среда, с изключение на базовата техническа инфраструктура (улична мрежа, тротоари и пешеходни зон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ът за приоритетна ос 2 е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6 млн. лв. – 6,85%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общия бюджет на ОПРР и е насочен за изпълнение на проекти в 4 инвестиционни приоритета – енергийна ефективност в многофамилни жилищни сгради и административни сгради, градска среда и икономическо развитие, социална и образователна инфра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7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а ос 3: Регионална образователна инфраструктура – 115 млн.евр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очена към подкрепа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ържавни и общински училища от национално и регионално значен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то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ите, специалните, помощните и спортните училища и училищата по изкуство и култура, както и висшите училищ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в образователна инфраструктура</a:t>
            </a:r>
            <a:r>
              <a:rPr b="0" lang="bg-BG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 по тази приоритетна ос на ОПРР 2014-2020 ще се подкрепя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иторията на цялата страна</a:t>
            </a:r>
            <a:r>
              <a:rPr b="0" lang="bg-BG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, в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ответствие с Методологията за приоритизация на образователната инфраструктура в Република България, одобрена от Министерството на образованието и науката и Стратегията за развитие на висшето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з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ни институци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я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я и умения на учащит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вързани с нуждите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зара на труд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същевременно 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 за учащи в неравностойно положен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изирани на национално ниво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тази връзка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ен фокус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 поставен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ите училищ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ите допустими дейности включва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ство, реконструкция и ремонт на образователните институц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включително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ежащото околно пространство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житията към тях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ка и монтаж на оборудване и обзавеждане на образователните обекти, като част от цялостното им обновя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 4: „Регионална здравна инфраструктура – 84 млн. 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та на сектор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Здравеопазване”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е бъде насочена към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а на спешната помощ и продължителното лечение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съответствие с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ната здравна стратегия 2014-2020,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та за развитие на системата за спешна медицинска помощ в Р. България 2014-2020 и Концепцията за преструктуриране на системата на болничната помощ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в връзка с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ени коментари от ЕК по проекта на ОПРР 2014-2020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ъответствие с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руктурирането на болничната помощ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инистерство на здравеопазването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 отпадане в обхвата на на интервенциите з продължително лечение да останат само държавните болниц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зи връзка по програмата е предвидено реализиране на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лям проект по смисъла на Общия Регламент 1303/2013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нвестициите в здравната инфраструктура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йто ще включва всички дейности свързан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дкрепа на спешната помощ, болниците за продължително лечение от 1-ви и 2-ри тип и техническата помощ за инфраструктурните инвестици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зработване на план за действие и мониторинг на инвестициите в здравната инфраструктура,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 Министерство на здравеопазването остава единствен бенефициент по приоритетна ос 4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8 - Приоритетни оси: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а ос 5: „Регионална социална инфраструктура“ – 51 млн.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в социалната инфраструктура за подкрепа на процеса по деинституционализация – модернизация на дневни центрове за деца с увреждания, Центрове за настаняване от семеен тип, защитени жилища, центрове за социална рехабилитация и инте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 се реализират на територията на цялата страна, в съответствие с Националната стратегия „Визия за деинституционализация на децата в Република България“ с хоризонт 2025 и Плана за действие за изпълнението й и съответно „Националната стратегия за дългосрочна грижа” и Плана за действие за изпълнението й - за действия, насочени към възрастните х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и бенефициенти са общините и Министерство на здравеопазването за медико-социалните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а ос 6: „Регионален туризъм“ – 101 млн.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та по приоритетната ос е насочена към повишаване на туристическото предлагане на паметници на културата от национално и световно 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 бъдат финансирани ограничен брой, предварително определени културни и исторически атракции от национално и световно значение и религиозни обекти с потенциал за развитие като комплексен туристически продукт и за привличане на туристически интер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пределяне на културните обекти на интервенция е сформирана междуведомствена работна група с основна задача да изработи методология и да приоритизира обекти на културното наследство с национално и световно значение, които са допустими за финансиране по Оперативна програма „Региони в растеж” 2014-202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ктите, които ще се финансират по приоритетната ос, се класират по приоритетност съгласно Методологията за приоритизиране на обектите на културното наследство от национално и световно значение по система от критерии и съответна тежест, одобрена от Министъра на регионалното разви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9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а ос 7: „Регионалната пътна инфраструктура“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,5 млн.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та по приоритетната ос е насочена към подобряване на свързаността и достъпността до TEN-T мреж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ите допустими дейности включват строителство, реконструкция и рехабилитация на първокласни и второкласни (извън Трансевропейската транспортна мрежа) и третокласни пътища, които обслужват вътрешнорегионални връзки и осигуряват възможности за развитие на специфичния икономически потенциал, чрез връзка и достъп до TEN-T мреж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те ще бъдат финансирани в съответствие със стратегическите документи за развитие на сектор Транспорт и Mетодика и критерии за приоритизиране на пътни участъци, разработени от Агенция „Пътна инфраструктура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ъответствие с коментарите на ЕК е а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уализирана Методиката за приоритизиране на пътни отсечк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АПИ, като д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ектният достъп до TEN-T мрежата е критерий за допустимост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ътните отсе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зи връзка, Агенцията „Пътна инфраструктура” представи проект на актуализиран индикативен списък с пътни отсечки, които да бъдат финансирани по програм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а ос 8: „Техническа помощ“ – 52 млн.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ение на дейности за укрепване и повишаване на административния капацитет на Управляващия орган и бенефициентите по програмата, включително за и</a:t>
            </a:r>
            <a:r>
              <a:rPr b="0" lang="bg-BG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зпъление на плановете з укрепване на капацитета на бенефициен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NewRomanPSMT"/>
                <a:ea typeface="Times New Roman"/>
              </a:rPr>
              <a:t>Изпълнение на мерки за информация и публично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6D6D-B45E-4E11-B1BE-A3BB021E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54D-B8F2-420F-B26B-EBB58929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DEE-1623-4E02-9C8B-D415C50A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6DE-40A9-499D-B8BF-480DE540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4DE4-D331-4CA1-82BC-B41C0268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4C07-76D1-413C-8BCB-06B0C017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7C6F-2D6F-4921-93DE-6798ECE8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9592-5573-460B-AA71-1B026388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3764-2775-4A75-A9AC-B586146B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29BC-C36F-4B64-BA5B-1AD393A5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F6F7-01D1-4F6E-93D3-5615474D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B10-F8BF-4350-A60F-37C9DD6D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7C1D-EFC6-428A-83EA-5B1131DC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A9EF-8D15-4AEB-94DE-82B1E342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9718-83E5-416F-BBC6-AF018025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4533-FD71-4B0D-A539-6719F122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6413-257F-4C7C-892C-A4348455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0B3A7-6457-434A-9720-662D2000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E4480-ADE9-467A-A571-39CAAC3E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F8BE0-5713-476F-8E5A-A4F58ABB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6CF72-D5A2-4464-9B6F-F62F6449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52BF8-C6E7-4124-BB91-EFE2E08F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BD0-325C-4F56-B6E9-66EB5D20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63FEE-196B-48C2-BBC3-EAE0AB47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A2DA0-6C11-44EA-9D9F-EFD9BF61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0A265-61F7-49E7-BB9C-36921E9C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42527-4627-4F4F-9843-FA58B10B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AE4CA-F7A3-4C07-A7AC-1347903B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09779-1229-465C-AA33-66F0EC40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9FA4-F415-44E5-9207-A93F553F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9FC-0453-40B2-B7C3-2DD7C7A2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6B79-68A5-4657-8E2D-9AD6DE72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B2D-61DA-4058-99D1-B274E28A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4C49-F196-4AD5-809F-2567A70E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3CA-0C87-4DBE-8F54-9B0942CC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BD4-9D5A-4D7B-AD22-CF60CCB9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EB8D-00ED-4886-B4D4-BCE7F2DA45E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100A-5AC2-4101-BF85-77235453AE1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ED70-67DA-4532-9A2F-2B6AA5E26A0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8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270000" y="3860640"/>
            <a:ext cx="55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Arial"/>
              </a:rPr>
              <a:t>Оперативна програма „Региони в растеж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395280" y="5229360"/>
            <a:ext cx="518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Sylfaen"/>
              </a:rPr>
              <a:t>КОМИТЕТ</a:t>
            </a:r>
            <a:r>
              <a:rPr b="1" lang="en-US" sz="2400" spc="-1" strike="noStrike">
                <a:solidFill>
                  <a:srgbClr val="800000"/>
                </a:solidFill>
                <a:latin typeface="Sylfaen"/>
              </a:rPr>
              <a:t>  </a:t>
            </a:r>
            <a:r>
              <a:rPr b="1" lang="bg-BG" sz="2400" spc="-1" strike="noStrike">
                <a:solidFill>
                  <a:srgbClr val="800000"/>
                </a:solidFill>
                <a:latin typeface="Sylfaen"/>
              </a:rPr>
              <a:t> ЗА </a:t>
            </a:r>
            <a:r>
              <a:rPr b="1" lang="en-US" sz="2400" spc="-1" strike="noStrike">
                <a:solidFill>
                  <a:srgbClr val="800000"/>
                </a:solidFill>
                <a:latin typeface="Sylfaen"/>
              </a:rPr>
              <a:t> </a:t>
            </a:r>
            <a:r>
              <a:rPr b="1" lang="bg-BG" sz="2400" spc="-1" strike="noStrike">
                <a:solidFill>
                  <a:srgbClr val="800000"/>
                </a:solidFill>
                <a:latin typeface="Sylfaen"/>
              </a:rPr>
              <a:t>НАБЛЮ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539640" y="5977080"/>
            <a:ext cx="4572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Първо засе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10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4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Пловд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332000" y="26028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дварителна оценка за подкрепа с финансови инструменти по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158760" y="1413000"/>
            <a:ext cx="87217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Основни дей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анализ на случаите на пазарна неефективност, неоптимални инвестиционни ситуации и инвестиционни нужди за областите на политиката и тематичните цели или инвестици­онните приорите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едварителна оценка на допълнителните публични и частни ресурси, които потенциално ще бъдат събрани от финансовия инструмент до равнището на крайния получате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ценка на изводите, извлечени от подобни инструменти, както и начините за прилагане на тези изводи в бъдещ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едлаганата инвестиционна стратег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чаквани резултати и как съответният финансов инструмент се очаква да допринесе за постигането на специфичните цели, определени в рамките на съответния приоритет, включително показателите за този прин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Изпълнител: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Прайс Уотърхаус Купърс ЕО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татус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финализирана в края на ноември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Основни извод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ърсенето на финансиране за проекти за градско развитие от общини възлиза н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901 млн. евр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посредствените нужди, идентифицирани в ИПГВР, за енергийна ефективност възлизат н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46 млн. евр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стриран значителен потенциа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а проекти за туризъм и културно наследст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6235560" y="2467080"/>
            <a:ext cx="2629080" cy="2770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Общо средства за финансови инструмен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мер на средствата от ОПРР за ФИ: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472 млн.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16% от бюджета на ОПР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ube 9"/>
          <p:cNvSpPr/>
          <p:nvPr/>
        </p:nvSpPr>
        <p:spPr>
          <a:xfrm>
            <a:off x="250920" y="1341360"/>
            <a:ext cx="5083200" cy="7826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ube 13"/>
          <p:cNvSpPr/>
          <p:nvPr/>
        </p:nvSpPr>
        <p:spPr>
          <a:xfrm>
            <a:off x="290520" y="3017880"/>
            <a:ext cx="5032440" cy="679320"/>
          </a:xfrm>
          <a:prstGeom prst="cube">
            <a:avLst>
              <a:gd name="adj" fmla="val 25000"/>
            </a:avLst>
          </a:prstGeom>
          <a:solidFill>
            <a:srgbClr val="bbe0e3">
              <a:alpha val="56000"/>
            </a:srgbClr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ube 14"/>
          <p:cNvSpPr/>
          <p:nvPr/>
        </p:nvSpPr>
        <p:spPr>
          <a:xfrm>
            <a:off x="301680" y="3762360"/>
            <a:ext cx="5032440" cy="762120"/>
          </a:xfrm>
          <a:prstGeom prst="cube">
            <a:avLst>
              <a:gd name="adj" fmla="val 25000"/>
            </a:avLst>
          </a:prstGeom>
          <a:solidFill>
            <a:srgbClr val="bbe0e3">
              <a:alpha val="56000"/>
            </a:srgbClr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ube 15"/>
          <p:cNvSpPr/>
          <p:nvPr/>
        </p:nvSpPr>
        <p:spPr>
          <a:xfrm>
            <a:off x="285840" y="4605480"/>
            <a:ext cx="5032440" cy="709560"/>
          </a:xfrm>
          <a:prstGeom prst="cube">
            <a:avLst>
              <a:gd name="adj" fmla="val 25000"/>
            </a:avLst>
          </a:prstGeom>
          <a:solidFill>
            <a:srgbClr val="bbe0e3">
              <a:alpha val="56000"/>
            </a:srgbClr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ube 16"/>
          <p:cNvSpPr/>
          <p:nvPr/>
        </p:nvSpPr>
        <p:spPr>
          <a:xfrm>
            <a:off x="301680" y="5373720"/>
            <a:ext cx="5000400" cy="668160"/>
          </a:xfrm>
          <a:prstGeom prst="cube">
            <a:avLst>
              <a:gd name="adj" fmla="val 25000"/>
            </a:avLst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ube 17"/>
          <p:cNvSpPr/>
          <p:nvPr/>
        </p:nvSpPr>
        <p:spPr>
          <a:xfrm>
            <a:off x="282600" y="2178000"/>
            <a:ext cx="5051520" cy="782640"/>
          </a:xfrm>
          <a:prstGeom prst="cube">
            <a:avLst>
              <a:gd name="adj" fmla="val 25000"/>
            </a:avLst>
          </a:prstGeom>
          <a:solidFill>
            <a:srgbClr val="bbe0e3">
              <a:alpha val="56000"/>
            </a:srgbClr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620640" y="155736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нергийна ефек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1"/>
          <p:cNvSpPr/>
          <p:nvPr/>
        </p:nvSpPr>
        <p:spPr>
          <a:xfrm>
            <a:off x="620640" y="2325600"/>
            <a:ext cx="43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радска среда и зони с потенциал за икономическ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2"/>
          <p:cNvSpPr/>
          <p:nvPr/>
        </p:nvSpPr>
        <p:spPr>
          <a:xfrm>
            <a:off x="620640" y="32180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нтегриран градски 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3"/>
          <p:cNvSpPr/>
          <p:nvPr/>
        </p:nvSpPr>
        <p:spPr>
          <a:xfrm>
            <a:off x="644400" y="55436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уризъ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4"/>
          <p:cNvSpPr/>
          <p:nvPr/>
        </p:nvSpPr>
        <p:spPr>
          <a:xfrm>
            <a:off x="620640" y="4005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порт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5"/>
          <p:cNvSpPr/>
          <p:nvPr/>
        </p:nvSpPr>
        <p:spPr>
          <a:xfrm>
            <a:off x="644400" y="479736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ултур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2"/>
          <p:cNvSpPr/>
          <p:nvPr/>
        </p:nvSpPr>
        <p:spPr>
          <a:xfrm>
            <a:off x="6173640" y="1484280"/>
            <a:ext cx="291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вестиции за устойчиво и интегрира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градско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5"/>
          <p:cNvSpPr/>
          <p:nvPr/>
        </p:nvSpPr>
        <p:spPr>
          <a:xfrm>
            <a:off x="5689440" y="5373720"/>
            <a:ext cx="339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иоритетна ос “Регионален туризъм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own Arrow 36"/>
          <p:cNvSpPr/>
          <p:nvPr/>
        </p:nvSpPr>
        <p:spPr>
          <a:xfrm>
            <a:off x="5467320" y="1341360"/>
            <a:ext cx="696960" cy="393408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eft Arrow 37"/>
          <p:cNvSpPr/>
          <p:nvPr/>
        </p:nvSpPr>
        <p:spPr>
          <a:xfrm>
            <a:off x="5334120" y="5391000"/>
            <a:ext cx="355320" cy="48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9c9cd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3"/>
          <p:cNvCxnSpPr/>
          <p:nvPr/>
        </p:nvCxnSpPr>
        <p:spPr>
          <a:xfrm flipH="1">
            <a:off x="5333400" y="1699920"/>
            <a:ext cx="35604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9" name="Straight Arrow Connector 6"/>
          <p:cNvCxnSpPr/>
          <p:nvPr/>
        </p:nvCxnSpPr>
        <p:spPr>
          <a:xfrm flipH="1">
            <a:off x="5333400" y="2565000"/>
            <a:ext cx="35604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Straight Arrow Connector 8"/>
          <p:cNvCxnSpPr>
            <a:endCxn id="263" idx="5"/>
          </p:cNvCxnSpPr>
          <p:nvPr/>
        </p:nvCxnSpPr>
        <p:spPr>
          <a:xfrm flipH="1">
            <a:off x="5334840" y="3273120"/>
            <a:ext cx="36756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1" name="Straight Arrow Connector 11"/>
          <p:cNvCxnSpPr/>
          <p:nvPr/>
        </p:nvCxnSpPr>
        <p:spPr>
          <a:xfrm flipH="1">
            <a:off x="5317560" y="4076280"/>
            <a:ext cx="37188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8"/>
          <p:cNvCxnSpPr/>
          <p:nvPr/>
        </p:nvCxnSpPr>
        <p:spPr>
          <a:xfrm flipH="1">
            <a:off x="5333400" y="4797360"/>
            <a:ext cx="356040" cy="151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Rectangle 8"/>
          <p:cNvSpPr/>
          <p:nvPr/>
        </p:nvSpPr>
        <p:spPr>
          <a:xfrm>
            <a:off x="1332000" y="26028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едварителна оценка за подкрепа с финансови инструменти по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1332000" y="26028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арианти за структура на финансовите инструме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"/>
          <p:cNvPicPr/>
          <p:nvPr/>
        </p:nvPicPr>
        <p:blipFill>
          <a:blip r:embed="rId4"/>
          <a:stretch/>
        </p:blipFill>
        <p:spPr>
          <a:xfrm>
            <a:off x="270000" y="1390680"/>
            <a:ext cx="8694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826920" y="1413000"/>
          <a:ext cx="7490160" cy="4597200"/>
        </p:xfrm>
        <a:graphic>
          <a:graphicData uri="http://schemas.openxmlformats.org/drawingml/2006/table">
            <a:tbl>
              <a:tblPr/>
              <a:tblGrid>
                <a:gridCol w="3240360"/>
                <a:gridCol w="1009440"/>
                <a:gridCol w="574920"/>
                <a:gridCol w="936360"/>
                <a:gridCol w="432000"/>
                <a:gridCol w="720720"/>
                <a:gridCol w="576360"/>
              </a:tblGrid>
              <a:tr h="39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оритетни оси и инвестиционни приоритети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пейски средства + национално съфинансира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звъзмездна финансова помощ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нансови инструмен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с национално съфинансиране)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147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ос 1 "Устойчиво и интегрирано градско развитие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 449 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4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 039 7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1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 409 2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 Енерг. eф-ст в админ. и жилищни сград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 930 2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108 5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3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821 7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 Градска сред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 991 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 323 4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8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667 5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2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2581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ска сре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8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 697 6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127 8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569 7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2581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и с потенциал за икономическо развит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8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293 3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195 5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6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097 7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 Образователна инфраструкту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694 3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694 3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 Социална инфраструкту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800 8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335 7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1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465 1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8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2581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на инфраструкту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8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549 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549 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2581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тна инфраструкту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8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679 0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679 0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2581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турна инфраструкту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8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572 1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786 0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786 0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Интегриран градски транспор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 032 5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577 6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454 8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ритетна ос 2 «Подкрепа за периферни географски райони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най-силно засегнати от бедност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704 6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8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771 2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4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33 4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 Енерг. eф-ст в админ. и жилищни сград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296 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 854 6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6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41 3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 Градска сред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184 0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691 9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8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92 1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2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2581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дска сре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8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582 3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624 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58 2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2581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и с потенциал за икономическо развит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58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1 7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67 8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6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33 9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 Образователна инфраструкту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645 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645 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 Социална инфраструкту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579 4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579 4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ос 3 "Регионална образователна инфраструктура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896 4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896 4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ос 4 "Регионална здравна инфраструктура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597 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597 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ос 5 "Регионална социална инфраструктура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857 6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857 6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ос 6 "Регионален туризъм"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755 8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377 9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377 9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ос 7 "Регионална пътна инфраструктура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526 9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6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526 9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 ос 8 "Техническа помощ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394 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394 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О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43 182 1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01 461 4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3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 720 6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 БЮДЖЕТ: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543 182 109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В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Rectangle 8"/>
          <p:cNvSpPr/>
          <p:nvPr/>
        </p:nvSpPr>
        <p:spPr>
          <a:xfrm>
            <a:off x="1332000" y="331920"/>
            <a:ext cx="597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дикативен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1042920" y="1844640"/>
            <a:ext cx="72741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Иван Попов</a:t>
            </a: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Заместник-</a:t>
            </a: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главен директор на ГД „Програмиране на регионалното развитие“, МРР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042920" y="260280"/>
            <a:ext cx="6467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апредък в процеса на програмиране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Diagram 11" descr=""/>
          <p:cNvPicPr/>
          <p:nvPr/>
        </p:nvPicPr>
        <p:blipFill>
          <a:blip r:embed="rId2"/>
          <a:stretch/>
        </p:blipFill>
        <p:spPr>
          <a:xfrm>
            <a:off x="176040" y="1414440"/>
            <a:ext cx="8828280" cy="4668840"/>
          </a:xfrm>
          <a:prstGeom prst="rect">
            <a:avLst/>
          </a:prstGeom>
          <a:ln w="0">
            <a:noFill/>
          </a:ln>
        </p:spPr>
      </p:pic>
      <p:sp>
        <p:nvSpPr>
          <p:cNvPr id="147" name="Right Arrow 12"/>
          <p:cNvSpPr/>
          <p:nvPr/>
        </p:nvSpPr>
        <p:spPr>
          <a:xfrm rot="5400000">
            <a:off x="6463440" y="3172320"/>
            <a:ext cx="647640" cy="43992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ight Arrow 13"/>
          <p:cNvSpPr/>
          <p:nvPr/>
        </p:nvSpPr>
        <p:spPr>
          <a:xfrm rot="5400000">
            <a:off x="6514920" y="4589280"/>
            <a:ext cx="646200" cy="43992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ight Arrow 14"/>
          <p:cNvSpPr/>
          <p:nvPr/>
        </p:nvSpPr>
        <p:spPr>
          <a:xfrm rot="1800000">
            <a:off x="5290920" y="1963440"/>
            <a:ext cx="869760" cy="4586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ight Arrow 15"/>
          <p:cNvSpPr/>
          <p:nvPr/>
        </p:nvSpPr>
        <p:spPr>
          <a:xfrm rot="10800000">
            <a:off x="5416560" y="5181120"/>
            <a:ext cx="620640" cy="459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Arrow 16"/>
          <p:cNvSpPr/>
          <p:nvPr/>
        </p:nvSpPr>
        <p:spPr>
          <a:xfrm rot="12060000">
            <a:off x="2438280" y="5150880"/>
            <a:ext cx="711360" cy="50940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ight Arrow 18"/>
          <p:cNvSpPr/>
          <p:nvPr/>
        </p:nvSpPr>
        <p:spPr>
          <a:xfrm rot="16260000">
            <a:off x="1542600" y="3800160"/>
            <a:ext cx="648000" cy="48888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2835360" y="2908440"/>
            <a:ext cx="3201840" cy="2131920"/>
          </a:xfrm>
          <a:prstGeom prst="rect">
            <a:avLst/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добрена оперативна програма „Региони в растеж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014-202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urved Down Arrow 20"/>
          <p:cNvSpPr/>
          <p:nvPr/>
        </p:nvSpPr>
        <p:spPr>
          <a:xfrm>
            <a:off x="1617840" y="1655640"/>
            <a:ext cx="2666880" cy="1076400"/>
          </a:xfrm>
          <a:custGeom>
            <a:avLst/>
            <a:gdLst>
              <a:gd name="textAreaLeft" fmla="*/ 567000 w 2666880"/>
              <a:gd name="textAreaRight" fmla="*/ 1970280 w 2666880"/>
              <a:gd name="textAreaTop" fmla="*/ 144000 h 1076400"/>
              <a:gd name="textAreaBottom" fmla="*/ 932400 h 1076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85" hR="21600" stAng="10800000" swAng="5400000"/>
                <a:lnTo>
                  <a:pt x="11365" y="0"/>
                </a:lnTo>
                <a:arcTo wR="9185" hR="21600" stAng="-5400000" swAng="3524042"/>
                <a:lnTo>
                  <a:pt x="21308" y="16200"/>
                </a:lnTo>
                <a:lnTo>
                  <a:pt x="19460" y="21600"/>
                </a:lnTo>
                <a:lnTo>
                  <a:pt x="17028" y="16200"/>
                </a:lnTo>
                <a:lnTo>
                  <a:pt x="18078" y="16200"/>
                </a:lnTo>
                <a:arcTo wR="9185" hR="21600" stAng="-1875958" swAng="-3349479"/>
                <a:lnTo>
                  <a:pt x="10275" y="153"/>
                </a:lnTo>
                <a:arcTo wR="9185" hR="21600" stAng="-5574563" swAng="-5225437"/>
                <a:close/>
              </a:path>
              <a:path fill="darkenLess" w="21600" h="21600">
                <a:moveTo>
                  <a:pt x="0" y="21600"/>
                </a:moveTo>
                <a:arcTo wR="9185" hR="21600" stAng="10800000" swAng="5400000"/>
                <a:lnTo>
                  <a:pt x="9185" y="0"/>
                </a:lnTo>
                <a:arcTo wR="9185" hR="21600" stAng="-5400000" swAng="174563"/>
                <a:lnTo>
                  <a:pt x="10275" y="153"/>
                </a:lnTo>
                <a:arcTo wR="9185" hR="21600" stAng="-5574563" swAng="-5225437"/>
                <a:close/>
              </a:path>
            </a:pathLst>
          </a:cu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2-ри кръ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фициал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говор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17.11.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2951280" y="3922560"/>
            <a:ext cx="1947600" cy="91944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Calibri"/>
              </a:rPr>
              <a:t>Оптимистичен вариант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00"/>
                </a:solidFill>
                <a:latin typeface="Calibri"/>
              </a:rPr>
              <a:t>2014 г.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1" descr="C:\Users\DimovD\AppData\Local\Microsoft\Windows\Temporary Internet Files\Content.IE5\KBIYNC14\MM900041090[1].gif"/>
          <p:cNvPicPr/>
          <p:nvPr/>
        </p:nvPicPr>
        <p:blipFill>
          <a:blip r:embed="rId3"/>
          <a:stretch/>
        </p:blipFill>
        <p:spPr>
          <a:xfrm>
            <a:off x="5170320" y="4005360"/>
            <a:ext cx="586080" cy="753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4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"/>
          <p:cNvPicPr/>
          <p:nvPr/>
        </p:nvPicPr>
        <p:blipFill>
          <a:blip r:embed="rId5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Right Arrow Callout 27" descr=""/>
          <p:cNvPicPr/>
          <p:nvPr/>
        </p:nvPicPr>
        <p:blipFill>
          <a:blip r:embed="rId2"/>
          <a:stretch/>
        </p:blipFill>
        <p:spPr>
          <a:xfrm>
            <a:off x="7162920" y="1212840"/>
            <a:ext cx="841320" cy="479736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1"/>
          <p:cNvSpPr/>
          <p:nvPr/>
        </p:nvSpPr>
        <p:spPr>
          <a:xfrm>
            <a:off x="395280" y="1413000"/>
            <a:ext cx="6769080" cy="57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ва Приоритетна ос, насочена към подкрепа з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фе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ски райони и малки градов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т ниво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395280" y="2205000"/>
            <a:ext cx="676908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адане о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хвата 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репа по програмат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нските болн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превенция на риска от свлач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4"/>
          <p:cNvSpPr/>
          <p:nvPr/>
        </p:nvSpPr>
        <p:spPr>
          <a:xfrm>
            <a:off x="395280" y="2997360"/>
            <a:ext cx="6769080" cy="57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олеми проекти за Енергийна ефективност (ПО 1 и 2)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нвестиции в здравна инфраструктура (ПО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95280" y="3789360"/>
            <a:ext cx="676908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туализирана Методология за приоритизиране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ътни отсечки – директен достъп д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-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ре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6"/>
          <p:cNvSpPr/>
          <p:nvPr/>
        </p:nvSpPr>
        <p:spPr>
          <a:xfrm>
            <a:off x="395280" y="4581360"/>
            <a:ext cx="676908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ълнителни обосновки, критерии за приоритизиран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сък с предефинирани обекти от МЗ и 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7"/>
          <p:cNvSpPr/>
          <p:nvPr/>
        </p:nvSpPr>
        <p:spPr>
          <a:xfrm>
            <a:off x="395280" y="5373720"/>
            <a:ext cx="676908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цизирани индикатори и специфични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8101080" y="1341360"/>
            <a:ext cx="431640" cy="4608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c0000"/>
                </a:solidFill>
                <a:latin typeface="Arial"/>
              </a:rPr>
              <a:t>Изпратена чрез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FC </a:t>
            </a:r>
            <a:r>
              <a:rPr b="1" lang="bg-BG" sz="1800" spc="-1" strike="noStrike">
                <a:solidFill>
                  <a:srgbClr val="cc0000"/>
                </a:solidFill>
                <a:latin typeface="Arial"/>
              </a:rPr>
              <a:t> на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bg-BG" sz="1800" spc="-1" strike="noStrike">
                <a:solidFill>
                  <a:srgbClr val="cc0000"/>
                </a:solidFill>
                <a:latin typeface="Arial"/>
              </a:rPr>
              <a:t>7.11.201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403280" y="26028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мени в официално изпратенат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4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619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Териториален обхват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GISuser\Desktop\centralni i periferni rajoni.jpg"/>
          <p:cNvPicPr/>
          <p:nvPr/>
        </p:nvPicPr>
        <p:blipFill>
          <a:blip r:embed="rId2"/>
          <a:stretch/>
        </p:blipFill>
        <p:spPr>
          <a:xfrm>
            <a:off x="539640" y="1413000"/>
            <a:ext cx="6696360" cy="4609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3"/>
          <a:stretch/>
        </p:blipFill>
        <p:spPr>
          <a:xfrm>
            <a:off x="6696000" y="4581360"/>
            <a:ext cx="2305080" cy="935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4"/>
          <a:srcRect l="0" t="0" r="22708" b="-26221"/>
          <a:stretch/>
        </p:blipFill>
        <p:spPr>
          <a:xfrm>
            <a:off x="6696000" y="5452920"/>
            <a:ext cx="2160720" cy="557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5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6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1403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одкрепа за устойчиво градско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2"/>
          <a:srcRect l="5119" t="12680" r="43503" b="18997"/>
          <a:stretch/>
        </p:blipFill>
        <p:spPr>
          <a:xfrm>
            <a:off x="250920" y="1557360"/>
            <a:ext cx="4060800" cy="4319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"/>
          <p:cNvPicPr/>
          <p:nvPr/>
        </p:nvPicPr>
        <p:blipFill>
          <a:blip r:embed="rId3"/>
          <a:srcRect l="65277" t="64960" r="11015" b="17568"/>
          <a:stretch/>
        </p:blipFill>
        <p:spPr>
          <a:xfrm>
            <a:off x="2557440" y="4943520"/>
            <a:ext cx="1582920" cy="93348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2"/>
          <p:cNvSpPr/>
          <p:nvPr/>
        </p:nvSpPr>
        <p:spPr>
          <a:xfrm>
            <a:off x="4335480" y="1290600"/>
            <a:ext cx="468936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ИПГВР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сновен инструмент за интегрирани градски инвестиции, съгласно чл. 7 от Регламента за ЕФРР 1301/201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Мерки в подкрепа 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обряване на енергийната ефе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радска среда и икономически зо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щинска образователна, социална, културна и спортна инфра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радски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Финансов ресурс за градско развитие: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1,64 млрд.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54,46% от бюджета на ОПР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Конкретни бенефициент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: общини на големите и средните градове от 1-во до 3-то йерархично ниво та националната полицентричната мрежа, МРРБ и финансови инструмен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4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0" descr=""/>
          <p:cNvPicPr/>
          <p:nvPr/>
        </p:nvPicPr>
        <p:blipFill>
          <a:blip r:embed="rId5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403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крепа за периферни райони, най-силно засегнати от бед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361800" y="1413000"/>
            <a:ext cx="81946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69920" indent="-1699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Инвестиционен приоритет 1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Енергийна ефективност в административни и жилищни сгради -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29 млн. евр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онкретни бенефициенти: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рекция „ОЖС” в МРР,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финансови инструмен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Инвестиционен приоритет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2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добряване на градска среда и инвестиционната икономическата активност–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30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млн. евр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обряване на градска сред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9,5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млн. Евро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(10%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финансови инструменти)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обряване на инвестиционната икономическата активност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– 10,5 млн. евро (33% финансови инструмент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Инвестиционен приоритет 3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ователна инфраструктура (общинска) –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23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млн. ев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Инвестиционен приоритет 4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циална инфраструктур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24 млн. евр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Потенциални бенефициентти за ПО 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бщини на малки градове от 4-то йерархично ниво на националната полицентрична мреж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spcAft>
                <a:spcPts val="700"/>
              </a:spcAft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редстоят допълнителни преговори с ЕК относно предвидената подкрепа по приоритетната 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и о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tent Placeholder 2"/>
          <p:cNvSpPr/>
          <p:nvPr/>
        </p:nvSpPr>
        <p:spPr>
          <a:xfrm>
            <a:off x="87480" y="1703520"/>
            <a:ext cx="549900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одкрепа за модернизация на образователни институции, в съответвие 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Методология за приоритизация на образователни обекти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Стратегия за висшето образование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редвиден ресурс: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15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онкретни бенефициен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, МЗХ, МК, ММС, Висши училища, общини за общинска образователна инфраструктура от национално и регионално значение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81000" y="1413000"/>
            <a:ext cx="7574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3: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„Регионална образователна инфраструктура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61920" y="4214880"/>
            <a:ext cx="557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одкрепа за системата на спешната помощ и продължителното л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редвиден ресурс: </a:t>
            </a: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84</a:t>
            </a:r>
            <a:r>
              <a:rPr b="1" lang="ru-RU" sz="1200" spc="-1" strike="noStrike">
                <a:solidFill>
                  <a:srgbClr val="003399"/>
                </a:solidFill>
                <a:latin typeface="Arial"/>
              </a:rPr>
              <a:t> млн. ев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онкретен бенефициент: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стерство на здравеопазването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87480" y="3645000"/>
            <a:ext cx="7829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4: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„Регионална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здравна инфраструктура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http://www.bgregio.eu/media/Dobri%20praktiki/DSC_0520.JPG"/>
          <p:cNvPicPr/>
          <p:nvPr/>
        </p:nvPicPr>
        <p:blipFill>
          <a:blip r:embed="rId2"/>
          <a:stretch/>
        </p:blipFill>
        <p:spPr>
          <a:xfrm>
            <a:off x="6122880" y="1703520"/>
            <a:ext cx="2525760" cy="1941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http://kavarna.bg/pictures/5f01593d78910e5f223e76ea200ba454.jpg"/>
          <p:cNvPicPr/>
          <p:nvPr/>
        </p:nvPicPr>
        <p:blipFill>
          <a:blip r:embed="rId3"/>
          <a:stretch/>
        </p:blipFill>
        <p:spPr>
          <a:xfrm>
            <a:off x="6062760" y="3875040"/>
            <a:ext cx="2646360" cy="1979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4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"/>
          <p:cNvPicPr/>
          <p:nvPr/>
        </p:nvPicPr>
        <p:blipFill>
          <a:blip r:embed="rId5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ontent Placeholder 2"/>
          <p:cNvSpPr/>
          <p:nvPr/>
        </p:nvSpPr>
        <p:spPr>
          <a:xfrm>
            <a:off x="87480" y="1711440"/>
            <a:ext cx="54212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одкрепа за процеса по деинституционализиация на социални услуги, в съответствие с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80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Визия за деинституционализация на децат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0680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Националната стратегия за дългосрочна гриж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редвиден ресурс: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51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Бенефициенти:</a:t>
            </a:r>
            <a:r>
              <a:rPr b="0" lang="ru-RU" sz="1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ни; Министерство на здравеопазването за медико-социални домове за гри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87480" y="1413000"/>
            <a:ext cx="6422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5: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„Регионална социална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инфраструктура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ontent Placeholder 2"/>
          <p:cNvSpPr/>
          <p:nvPr/>
        </p:nvSpPr>
        <p:spPr>
          <a:xfrm>
            <a:off x="87480" y="3860640"/>
            <a:ext cx="52765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одкрепа за паметници на културата от национално и световно зна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5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редвиден ресурс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– 101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онкретни бенефициент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, религиозни институции,   общини,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включително в партньорство с НПО, организации изпълняващ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и инсрумен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87480" y="3554280"/>
            <a:ext cx="5776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6: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„Регионален туризъм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5" descr="C:\Users\DimitrovaTs\Pictures\за презентация 15КН\CNST_Petrich_0011.JPG"/>
          <p:cNvPicPr/>
          <p:nvPr/>
        </p:nvPicPr>
        <p:blipFill>
          <a:blip r:embed="rId2"/>
          <a:stretch/>
        </p:blipFill>
        <p:spPr>
          <a:xfrm>
            <a:off x="5724360" y="1770120"/>
            <a:ext cx="3090960" cy="1843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3"/>
          <a:stretch/>
        </p:blipFill>
        <p:spPr>
          <a:xfrm>
            <a:off x="5724360" y="3705120"/>
            <a:ext cx="3090960" cy="225432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pic>
        <p:nvPicPr>
          <p:cNvPr id="231" name="Picture 3" descr=""/>
          <p:cNvPicPr/>
          <p:nvPr/>
        </p:nvPicPr>
        <p:blipFill>
          <a:blip r:embed="rId4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"/>
          <p:cNvPicPr/>
          <p:nvPr/>
        </p:nvPicPr>
        <p:blipFill>
          <a:blip r:embed="rId5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и о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ontent Placeholder 2"/>
          <p:cNvSpPr/>
          <p:nvPr/>
        </p:nvSpPr>
        <p:spPr>
          <a:xfrm>
            <a:off x="131760" y="1833480"/>
            <a:ext cx="566424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одкрепа за подобряване на свързаността и достъпността до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TEN-T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мреж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редвиден ресурс: 194,5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</a:rPr>
              <a:t>Конкретен бенефициент: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енция «Пътна инфраструкту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31760" y="1438200"/>
            <a:ext cx="7656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7: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„Регионална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пътна инфраструктура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131760" y="3716280"/>
            <a:ext cx="57625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8: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„Техническа помощ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одкрепа за повишаване на капацитета на бенефициентите и УО на ОПР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Предвиден ресурс: 52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Бенефициенти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УО на ОПРР и бенефициенти по програма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6" descr=""/>
          <p:cNvPicPr/>
          <p:nvPr/>
        </p:nvPicPr>
        <p:blipFill>
          <a:blip r:embed="rId2"/>
          <a:stretch/>
        </p:blipFill>
        <p:spPr>
          <a:xfrm>
            <a:off x="6000840" y="1668600"/>
            <a:ext cx="3000240" cy="191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3"/>
          <a:stretch/>
        </p:blipFill>
        <p:spPr>
          <a:xfrm>
            <a:off x="6000840" y="3860640"/>
            <a:ext cx="3047760" cy="1971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4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"/>
          <p:cNvPicPr/>
          <p:nvPr/>
        </p:nvPicPr>
        <p:blipFill>
          <a:blip r:embed="rId5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и о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RD</cp:lastModifiedBy>
  <dcterms:modified xsi:type="dcterms:W3CDTF">2014-12-02T08:07:59Z</dcterms:modified>
  <cp:revision>888</cp:revision>
  <dc:subject/>
  <dc:title>Diapositiva 1</dc:title>
</cp:coreProperties>
</file>